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8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1.wmf" ContentType="image/x-wmf"/>
  <Override PartName="/ppt/media/image1.jpeg" ContentType="image/jpeg"/>
  <Override PartName="/ppt/media/image13.jpeg" ContentType="image/jpeg"/>
  <Override PartName="/ppt/media/image20.wmf" ContentType="image/x-wmf"/>
  <Override PartName="/ppt/media/image18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2.wmf" ContentType="image/x-wmf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8E3-81DA-4418-B642-39B164F5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E45-2878-4635-B58E-A80349B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B6A-A9CE-41F1-8146-1A0C590E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E8B-5AD7-4644-9A9D-5CFA96E3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712-F0C9-49C1-A415-0056D008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272-1042-45C9-8BC5-1A6BF7AA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F48-8088-43B1-9EEC-EA9F720B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A86-E92E-49C0-99A5-980A0E1D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188-7F4A-4DBD-8548-C394E3F0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67D-A7DA-430F-8900-1153C860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053-90F5-41CD-88FF-8F9BF44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FF5-2363-42C6-8815-93816F4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76A8-A696-4109-995D-CF21C0789D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21050" r="0" b="1842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6553080" y="685800"/>
              <a:ext cx="1131840" cy="5211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6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6840" y="600120"/>
                <a:ext cx="4754520" cy="5562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228600" y="380880"/>
              <a:ext cx="270684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6835680" y="0"/>
              <a:ext cx="230832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rcRect l="0" t="0" r="0" b="5557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3206880" cy="88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66600"/>
            <a:ext cx="9144000" cy="6791400"/>
            <a:chOff x="0" y="66600"/>
            <a:chExt cx="9144000" cy="6791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948" t="0" r="0" b="4668"/>
            <a:stretch/>
          </p:blipFill>
          <p:spPr>
            <a:xfrm>
              <a:off x="0" y="66600"/>
              <a:ext cx="9144000" cy="67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048120" y="1438200"/>
              <a:ext cx="2993760" cy="24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rcRect l="0" t="0" r="0" b="4449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80880" y="304920"/>
              <a:ext cx="2449800" cy="66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438280" y="2743200"/>
              <a:ext cx="1231920" cy="4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04920" y="3352680"/>
              <a:ext cx="7343640" cy="169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914400" y="380880"/>
            <a:ext cx="7543800" cy="6172200"/>
            <a:chOff x="914400" y="380880"/>
            <a:chExt cx="7543800" cy="61722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914400" y="838080"/>
              <a:ext cx="75438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191120" y="380880"/>
              <a:ext cx="3481200" cy="144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0"/>
            <a:ext cx="8632800" cy="6629400"/>
            <a:chOff x="304920" y="0"/>
            <a:chExt cx="863280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04920" y="304920"/>
              <a:ext cx="8534520" cy="632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6629400" y="1295280"/>
              <a:ext cx="23083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2210040" y="0"/>
              <a:ext cx="3036600" cy="14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2:06:30Z</dcterms:created>
  <dc:creator>Clarity</dc:creator>
  <dc:description/>
  <dc:language>en-US</dc:language>
  <cp:lastModifiedBy>Clarity</cp:lastModifiedBy>
  <dcterms:modified xsi:type="dcterms:W3CDTF">2013-09-29T15:23:2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