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EF9-8FE3-4988-8254-3F69C7C5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064-3412-4275-8646-327DC0C5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CF6-8D39-47BC-9AB9-2B729373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C58-90FE-46FE-847F-7B856787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396-63FF-479E-B053-B78BE515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497-303A-461B-96C2-9CBE9491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7ED-EC88-4F4E-A4A0-F9B70A37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7BD-C357-4400-9E49-BA0506F6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7C5-75AC-4FB6-A40B-AEEDB5C1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F9B-2802-43BA-A5BF-1FE36116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EB2-41C8-46B9-BC81-C540F3A7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AAB-BB43-4F31-BB12-B486CE6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4817-5380-4AE1-8ACD-18F0DACD7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楷体"/>
              </a:rPr>
              <a:t>      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中国风，即在歌曲中加入中国古代一些典故作为创作背景，用现代的音乐唱出古典的味道，唱法多样。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是三古三新（古辞赋、古文化、古旋律、新唱法、新编曲、新概念）结合的中国独特乐种。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曲风偏向传统的东方演奏，加入的是一些东方乐器，通曲音调婉转，回环，有一种传统东方的美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        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中国风词风注重语言的简洁，精炼及语境的应用，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以文言文或古诗词为主要辞藻风格。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用一些诗词文的化用，通过汉语的一些修辞手法，如比喻，借代等来以表现歌曲的意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        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曲多采用“宫调式”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（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五音（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宫、商、角、徵、羽）调式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是我国特有的民族调式。以宫音为主音的调式称为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“宫调式”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。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）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的主旋律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。 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在音乐的编曲上大量运用中国乐器：如二胡、古筝、箫、琵琶…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        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唱腔上运用了中国民歌或戏曲方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        </a:t>
            </a: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题材上运用了中国的古诗或者传说故事。（百度百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9080" y="119700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简介（词、曲、唱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离书" descr="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76360" y="5950080"/>
            <a:ext cx="612000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舒体"/>
              </a:rPr>
              <a:t>你广袖飞扬之处皆我醉处，皆我故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0920" y="974880"/>
            <a:ext cx="201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62360" y="93024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原创古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1628640"/>
            <a:ext cx="520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那一瞬你袖间千花又绽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月下有几朵遥遥沉入我梦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写诗人落笔成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悠悠摇出一晃借来劝酒    的月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袖间千年 敦煌 00_00_00-00_05_31" descr=""/>
          <p:cNvPicPr/>
          <p:nvPr/>
        </p:nvPicPr>
        <p:blipFill>
          <a:blip r:embed="rId2"/>
          <a:stretch/>
        </p:blipFill>
        <p:spPr>
          <a:xfrm>
            <a:off x="252360" y="4076640"/>
            <a:ext cx="309744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轻飘飘纯白木棉袈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拈花笑坐在菩提树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听我为你弹一曲妙法莲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少司命-飞天夜画" descr=""/>
          <p:cNvPicPr/>
          <p:nvPr/>
        </p:nvPicPr>
        <p:blipFill>
          <a:blip r:embed="rId2"/>
          <a:stretch/>
        </p:blipFill>
        <p:spPr>
          <a:xfrm>
            <a:off x="7740720" y="4654440"/>
            <a:ext cx="50472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31475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7474"/>
            </a:gs>
            <a:gs pos="50000">
              <a:srgbClr val="ffffff"/>
            </a:gs>
            <a:gs pos="100000">
              <a:srgbClr val="74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63280" y="2060640"/>
            <a:ext cx="52563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方正舒体"/>
                <a:ea typeface="方正舒体"/>
              </a:rPr>
              <a:t>学院：化学化工学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方正舒体"/>
                <a:ea typeface="方正舒体"/>
              </a:rPr>
              <a:t>专业：化学工程与工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方正舒体"/>
                <a:ea typeface="方正舒体"/>
              </a:rPr>
              <a:t>班级：化工</a:t>
            </a:r>
            <a:r>
              <a:rPr b="1" lang="zh-CN" sz="3200" spc="-1" strike="noStrike">
                <a:solidFill>
                  <a:srgbClr val="6600cc"/>
                </a:solidFill>
                <a:latin typeface="方正舒体"/>
                <a:ea typeface="方正舒体"/>
              </a:rPr>
              <a:t>02</a:t>
            </a:r>
            <a:r>
              <a:rPr b="1" lang="zh-CN" sz="3200" spc="-1" strike="noStrike">
                <a:solidFill>
                  <a:srgbClr val="6600cc"/>
                </a:solidFill>
                <a:latin typeface="方正舒体"/>
                <a:ea typeface="方正舒体"/>
              </a:rPr>
              <a:t>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方正舒体"/>
                <a:ea typeface="方正舒体"/>
              </a:rPr>
              <a:t>姓名：江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方正舒体"/>
                <a:ea typeface="方正舒体"/>
              </a:rPr>
              <a:t>学号：</a:t>
            </a:r>
            <a:r>
              <a:rPr b="1" lang="zh-CN" sz="3200" spc="-1" strike="noStrike">
                <a:solidFill>
                  <a:srgbClr val="6600cc"/>
                </a:solidFill>
                <a:latin typeface="方正舒体"/>
                <a:ea typeface="方正舒体"/>
              </a:rPr>
              <a:t>201166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楷体"/>
              </a:rPr>
              <a:t>      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最先进入听众视野的，是周杰伦的部分古风歌曲，如“东风破 ”、“发如雪”、“千里之外”等  。均给人们带来全新的听觉享受，深受听众喜爱，许多至今仍被广为传唱，也促进了这股流行音乐风潮的兴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      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随着最初一批中国风歌曲的成功，开始有许多音乐人陆续推出此类歌曲，其中许多优秀作品。而随着这一流行音乐类型的发展，许多异国和民族元素逐渐融入进去。如“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R&amp;B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曲风”的融合，歌曲中京剧、灵歌，黑人音乐，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Rock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，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Rap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等元素均被吸纳进去。（部分参考百科内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       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而之后不久，中国风歌曲开始泛滥，歌曲质量亦是良莠不齐。处处跟风的现象很多，许多歌曲仅仅是融合古乐，或者仅仅是用上几个古词的大拼盘，并无真正意义上对内容、内涵的追求。词作仅止于华丽辞藻的堆积，语句晦涩难懂，通篇落花流水吟诗作对，句子结构混乱不堪，所谓的“中国风”不过是浮于表面的一层华丽衣裳，内容空洞而乏味之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8720" y="1123920"/>
            <a:ext cx="13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最初阶段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东风破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是中国风歌曲里最具里程碑意义的一首标准的中国小调歌曲，其仿古小调曲风，辅以二胡与琵琶的融入，旋律似行云流水浑然天成，意境优美引人入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发如雪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以短诗演绎中国传统色彩，曲依然是五音宫调路线，延续了《东风破》中式古典的哀怨婉约，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RAP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儿话音的加入使音乐层次更丰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菊花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电影《满城尽带黄金甲》主题曲，旋律悲凉哀婉，干净的吉他配上大提琴、葫芦丝、古筝等乐器，描绘出电影中皇后死前画面，跟电影结局遥相呼应，相得益彰。整首词如诗如歌，极富韵律美，将故事本身的苍凉唯美体现得淋漓尽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5440" y="105264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主要代表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东风破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发如雪" descr=""/>
          <p:cNvPicPr/>
          <p:nvPr/>
        </p:nvPicPr>
        <p:blipFill>
          <a:blip r:embed="rId3"/>
          <a:stretch/>
        </p:blipFill>
        <p:spPr>
          <a:xfrm>
            <a:off x="2124000" y="3357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菊花台" descr=""/>
          <p:cNvPicPr/>
          <p:nvPr/>
        </p:nvPicPr>
        <p:blipFill>
          <a:blip r:embed="rId4"/>
          <a:stretch/>
        </p:blipFill>
        <p:spPr>
          <a:xfrm>
            <a:off x="212400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514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605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042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9080" y="274680"/>
            <a:ext cx="6913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皮影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歌词时而文言，时而诙谐，将卡西节奏与古典的中国风趣味结合，再加上嘻哈融合中国的五声音阶和京剧唱法，以及类似圣歌的电子琴弹奏，听来极富韵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长相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歌词直接引用了李清照的《声声慢》作为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RAP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词，曲调悠扬，有一种咏叹的感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花田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花田错本是一首京剧中的唱词，而王力宏巧妙的融合了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R&amp;B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与京剧唱腔，以其独特而新颖的手法将这个凄美动人的爱情故事为我们娓娓道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1052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主要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117360"/>
            <a:ext cx="64800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        </a:t>
            </a:r>
            <a:r>
              <a:rPr b="0" lang="zh-CN" sz="2400" spc="-1" strike="noStrike">
                <a:solidFill>
                  <a:srgbClr val="6600cc"/>
                </a:solidFill>
                <a:latin typeface="华文楷体"/>
                <a:ea typeface="华文楷体"/>
              </a:rPr>
              <a:t>最初接触中国风歌曲，是偶然听到周杰伦的“千里之外”，其动人旋律与极富于文采的歌词深深吸引了我。包括之后的“青花瓷”，“烟花易冷”都是我很喜欢的歌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华文楷体"/>
                <a:ea typeface="华文楷体"/>
              </a:rPr>
              <a:t>        </a:t>
            </a:r>
            <a:r>
              <a:rPr b="0" lang="zh-CN" sz="2400" spc="-1" strike="noStrike">
                <a:solidFill>
                  <a:srgbClr val="6600cc"/>
                </a:solidFill>
                <a:latin typeface="华文楷体"/>
                <a:ea typeface="华文楷体"/>
              </a:rPr>
              <a:t>之后开始有意识地搜寻这类歌曲，除周杰伦之外，许多音乐人也纷纷尝试，其间优秀作品无数，下面只列举一些个人十分喜欢的歌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836640"/>
            <a:ext cx="32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个人理解及感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86040" y="100476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21160" y="944640"/>
            <a:ext cx="25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中国风歌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71640" y="2852640"/>
            <a:ext cx="5327640" cy="3889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8720" y="1341360"/>
            <a:ext cx="681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华文楷体"/>
                <a:ea typeface="华文楷体"/>
              </a:rPr>
              <a:t>弹琵琶又见当年镜前你梳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华文楷体"/>
                <a:ea typeface="华文楷体"/>
              </a:rPr>
              <a:t>拨一首满花春秀今日月下再醉孤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华文楷体"/>
                <a:ea typeface="华文楷体"/>
              </a:rPr>
              <a:t>雨落枝头年复一年谁白发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华文楷体"/>
                <a:ea typeface="华文楷体"/>
              </a:rPr>
              <a:t>让爱随相思入梦左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华文楷体"/>
                <a:ea typeface="华文楷体"/>
              </a:rPr>
              <a:t>梦见我们还挽着手</a:t>
            </a:r>
            <a:r>
              <a:rPr b="0" lang="zh-CN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6880" y="1268280"/>
            <a:ext cx="85068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青   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青衣" descr=""/>
          <p:cNvPicPr/>
          <p:nvPr/>
        </p:nvPicPr>
        <p:blipFill>
          <a:blip r:embed="rId3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青衣" descr=""/>
          <p:cNvPicPr/>
          <p:nvPr/>
        </p:nvPicPr>
        <p:blipFill>
          <a:blip r:embed="rId4"/>
          <a:stretch/>
        </p:blipFill>
        <p:spPr>
          <a:xfrm>
            <a:off x="6732720" y="2997360"/>
            <a:ext cx="576000" cy="64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5370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765000"/>
            <a:ext cx="23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中国风歌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7056360" cy="3933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1052640"/>
            <a:ext cx="722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华文楷体"/>
                <a:ea typeface="华文楷体"/>
              </a:rPr>
              <a:t>到不了的都叫做远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华文楷体"/>
                <a:ea typeface="华文楷体"/>
              </a:rPr>
              <a:t>回不去的名字叫家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华文楷体"/>
                <a:ea typeface="华文楷体"/>
              </a:rPr>
              <a:t>谁在门外唱那首牡丹江 我聆听感伤你声音悠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华文楷体"/>
                <a:ea typeface="华文楷体"/>
              </a:rPr>
              <a:t>风铃摇晃清脆响 江边的小村庄午睡般安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华文楷体"/>
                <a:ea typeface="华文楷体"/>
              </a:rPr>
              <a:t>谁在门外唱那首牡丹江 我脚步轻响走向你身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华文楷体"/>
                <a:ea typeface="华文楷体"/>
              </a:rPr>
              <a:t>思念的光透进窗 银白色的温暖洒在儿时的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56800" y="2060640"/>
            <a:ext cx="16426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ff"/>
                </a:solidFill>
                <a:latin typeface="华文行楷"/>
                <a:ea typeface="华文行楷"/>
              </a:rPr>
              <a:t>牡  丹  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牡丹江" descr=""/>
          <p:cNvPicPr/>
          <p:nvPr/>
        </p:nvPicPr>
        <p:blipFill>
          <a:blip r:embed="rId3"/>
          <a:stretch/>
        </p:blipFill>
        <p:spPr>
          <a:xfrm>
            <a:off x="8172360" y="4654440"/>
            <a:ext cx="50508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5602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5760"/>
            <a:ext cx="6697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偶然于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5sing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接触原创歌曲，因为是纯音乐性质的网站，无过强  的商业性，其歌曲内容、形式及题材的多样让人惊喜。虽然由于对音乐人专业方面无过硬要求导致作品良莠不齐，但许多歌曲选材新颖，唱作俱佳，让听惯了如今看似花样翻新实则      套路老旧的流行乐    的自己耳目一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        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中国风发展到今天，由于其作品繁多，在造成听众一定程度上审美疲劳。而对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5sing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这样的原创网站来说，亦有许多标榜“中国风”的歌曲浮于表面，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华文楷体"/>
              </a:rPr>
              <a:t>仅仅是融合古乐，华丽辞藻的堆积或者生搬硬套古诗词，并无真正意义上对内容、内涵的追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        </a:t>
            </a:r>
            <a:r>
              <a:rPr b="1" lang="zh-CN" sz="2000" spc="-1" strike="noStrike">
                <a:solidFill>
                  <a:srgbClr val="6600cc"/>
                </a:solidFill>
                <a:latin typeface="华文楷体"/>
                <a:ea typeface="华文楷体"/>
              </a:rPr>
              <a:t>现已少有新的中国风歌曲能再如往日博得大众喜爱，是作品太多听众审美疲劳了呢，还是中国风已日渐衰落，终不过是过眼繁华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83664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原创古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音乐鉴赏之中国风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6360" y="1701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当时拭剑扬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曾约知己征战付吴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当时临岸当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亦曾祭奠英杰洒烈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当时登临高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更将栏杆拍遍望神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清秋 恰若当时少年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1052640"/>
            <a:ext cx="22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原创古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北风行 00_00_00-00_04_17" descr=""/>
          <p:cNvPicPr/>
          <p:nvPr/>
        </p:nvPicPr>
        <p:blipFill>
          <a:blip r:embed="rId2"/>
          <a:stretch/>
        </p:blipFill>
        <p:spPr>
          <a:xfrm>
            <a:off x="5365800" y="4726080"/>
            <a:ext cx="2959200" cy="19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/>
  <dcterms:modified xsi:type="dcterms:W3CDTF">2013-05-07T11:59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656</vt:lpwstr>
  </property>
</Properties>
</file>