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5.jpeg" ContentType="image/jpeg"/>
  <Override PartName="/ppt/media/image32.png" ContentType="image/png"/>
  <Override PartName="/ppt/media/image22.gif" ContentType="image/gif"/>
  <Override PartName="/ppt/media/image18.jpeg" ContentType="image/jpeg"/>
  <Override PartName="/ppt/media/image15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9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applause.wav" ContentType="audio/x-wav"/>
  <Override PartName="/ppt/media/image4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9B9-CC2B-41D7-B67F-0912C53A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8C5-6BCC-491B-B3E0-D061EB25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7995A-700A-46EE-9ADC-649C7617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7FE6D-C4CD-4511-9DAF-90930414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60FB5-C83E-4019-BD63-C73CD1BA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B3764-7CF4-4DAB-8C3B-2047E5CC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5C0D2-B403-4621-99C2-0A3F1AF1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C8FD9-8629-469B-876A-3CD26240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C85B5-B03F-4039-97A4-130A795F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C8B3A-3609-4756-8758-70681F88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532FD-1613-4590-B5CD-AAA285DC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44FFF-800D-4B4F-A969-E804339A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1D7-A7F4-4273-87EC-D8137644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1B8D5-4B8F-4127-ACD0-A69968F5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58D93-2CBE-4A24-B555-D9DC5304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729B1-CF9D-4ABD-ACD8-81C6B0EB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1CA19-19F7-4EFA-8A0E-36CCB57A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5F3FE-6B04-4C08-850F-2F66A44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4B63D-7C53-4CEF-A714-F08B211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F9CFF-6205-4599-A022-34233A31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7AC30-DE32-4C3D-BA2F-F9AF669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E56CA-ECA7-4B02-9CE0-14AC9FF7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2D53D-B445-4E93-AA87-13418155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825-735D-4B31-9497-9F85F0CD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661D1-4CA5-41E0-BFDD-327CC0E3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8A9D1-21AE-4E99-B962-FADF8D49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D1BBD-D86C-4EFC-BECA-2B24F2E1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B88CC-DE77-4F62-BEAF-D9CDA962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20862-4C8F-4143-B4E4-1FB27F86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D843D-F44D-4798-A979-BF056504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BB0D1-83B9-40F1-B884-2246A920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A33D-A8B7-4A4E-A0F7-4676D144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BAE62-F6D2-46E4-AD08-2F30C2A2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A8BFA-9654-425D-BCFD-BD04C451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FF09-E643-49F5-AD09-E75698CD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99D97-0BDE-454A-9CF1-865A24D2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B4466-C5F9-4053-8A45-3227175E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62428-CB6C-447C-A052-0096DCEA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1BC5-14C6-4A72-91BD-A47C8804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DE57-3559-4C66-8EC6-3021D710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5418-3054-476A-9697-1EFA222D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9473-2FF5-4A34-B513-D6B39F24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9BC5-427B-4486-9BD6-2114F917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1641-2C74-4E83-83A7-109EFD80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1A3-EE3B-4EEC-B436-A9EA3073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4DAD-E8E3-40D2-8355-AC10D98F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0DC7-F5BF-44F5-9A8F-9D043B1F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C6B7-4EDB-43F7-A019-87721581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D8A4-240C-40F3-89D2-78242CA3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0B9C-821E-4D90-8EED-B49112BD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BD8E-7C42-4018-9855-9A8FC9EA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6D94-C4C1-4C6A-B74D-44084547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5E4C-9176-4107-B42E-AF5745E0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E2DD-B842-428D-83C2-D5F912AD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BAEF-B36B-45C1-AB68-69C54B8B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7FF-F2ED-4F08-A572-ABFE970A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6599-5F90-4B50-ADF4-BB7E65F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0FC6-7589-4689-82B1-9AAE4FC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F4FD-7C21-4EED-BF03-766A8EB9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8AED-8A00-401E-AB58-EE180F1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2B276-98C3-429C-B4E5-73047137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351B-FF61-4A11-BF62-F92A1414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425A-BB1F-4640-9B7E-310C96FB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7D7E0-443B-45C4-80FD-67FDB1E8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80B6-216E-43C7-A26B-C8F71E4E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940C-7DAE-46E1-9FEC-BD5C8C34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700-80CC-44FB-B6FB-57949052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4C68-818D-4884-A314-4E4EE2BC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1C9F-58DE-46C7-AE66-D29F4FA9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74CA-2F5D-4E2E-9773-CBFC7352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A667-1C4D-424C-8080-0FA2929A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A421A-1608-4740-8215-247E4E1B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F9E5-5324-45F7-8553-FB72450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A857-C6A0-49C1-A863-A103FD70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24DD-65E7-440A-9EE0-78B8881E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DB0E4-0610-44F1-8730-4ACBFD94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E5495-623A-4A71-8381-BF06F45C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FF8-3710-41FD-B01B-7245F4CA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A4730-0409-4F99-9FB3-FC93254C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EB341-B71A-412E-9FF6-75CB02F1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93ABF-CA4B-4F5D-B618-CA189BA0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1414-5C89-4A49-99A1-3CAD98C8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954B-08D2-427F-A00A-0D51E4F8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54F99-8DD5-4EEE-ABF9-7A8E319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D0A17-F234-4600-BA89-42FECBF3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0FC6D-FF6A-4906-A8D5-DE9FE18C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4B8FC-0836-43D1-8BBB-E4343C38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FD4E-1CFF-4454-8691-2D23D1B9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7C2-42B0-4FED-8873-350E86DA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4DA4-1DF7-42E9-9E68-F9ACCBCF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C5301-91F2-460C-9319-072643CC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50A54-A186-451F-BD7F-15A66E47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4E07A-5079-40AE-89BD-E7E1F41F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298D6-51A1-410D-8B58-6E692F72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AEBFB-044B-4B92-90A9-6E30B835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E6895-C5C3-4E81-B6F6-EA46EEE5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078CB-07BD-4A92-9E92-1B6BD1E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4FF20-6552-44BB-9FEE-5F2EC73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F244A-17E9-4712-B891-33E8DD2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3F0-3CC0-4672-B78F-6368860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03ED-208D-476C-8BC7-8B9CF1FB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84AF-3A87-476B-B9BC-70025561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45762-BD37-4511-BA26-80BC0ED2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ADA6E-A75B-4414-B942-091821B8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5F29B-66D8-4D37-9281-F4DD38DF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FEEF9-A0AE-4760-A676-FC42E705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7D356-B2C0-4426-AE2A-23A70E9E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E3BBD-4C76-4715-B70A-50151728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4679E-2487-4FC9-92B1-9FAFD685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EBB33-10C8-48CA-9B66-2C32DB6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7DD-A010-49DD-B51F-8952D09F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AB525-24AB-40D5-BF56-A608AB86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13885-69AD-48DE-8BD8-831C002F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03C87-EB9D-4AF4-A202-64954B00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F8F8A-29AC-4382-A06A-96C22577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1433-2F02-4232-A995-AC515477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25516-6027-44D3-9B02-10075367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1DE48-2B08-4286-8FC8-1FA5865D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9B69E-F6F2-4397-BA54-39E008C3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184CB-B077-4D53-9268-57F1F5B5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F804A-6093-4277-A130-1B00DA41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E5E-ADE9-4059-B767-0CB85D4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42D03-F9F4-45F7-B321-7170E0A6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03115-3040-437F-9DEE-EE4C1E27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E176B-4394-45F9-83AD-8D778417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B9CB-0E3D-4BD4-8AF6-8DFFA07F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FDDF8-DA54-49F4-9084-2BF9FDF8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A653-9BFD-47AA-9614-07812934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718CB-8030-44A7-9547-6136EA7C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86B15-9C2C-4DE8-8136-00E91D46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D7216-19E9-4D46-9A33-0C9EF050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A67F6-1060-4671-9399-8672E700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8B95-4CEF-41D4-8553-06AB4A7968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CF2-52F7-41F0-9231-90ED30116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193-A36F-4F01-879B-31A3D6F262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F660-9550-4D91-87C8-963F3D663B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14EE-CDD5-4B55-8EE5-321668D33E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2C38-03F8-4DC3-93EF-24C848D6DE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5A91-3327-410B-B137-7EA680B293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6576-BD38-48AA-92E9-C39B7A4F8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AA5A-8BFA-43F7-9BE8-B6CDF1D9F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3EAA-B5AC-4C7F-8EB9-5275FB3E5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8910-D1BF-430D-BD43-C318D52CB4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7.xml"/><Relationship Id="rId3" Type="http://schemas.openxmlformats.org/officeDocument/2006/relationships/slide" Target="slide24.xml"/><Relationship Id="rId4" Type="http://schemas.openxmlformats.org/officeDocument/2006/relationships/slide" Target="slide26.xml"/><Relationship Id="rId5" Type="http://schemas.openxmlformats.org/officeDocument/2006/relationships/slide" Target="slide30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WIN7_Themepack_Choobies/choobies_05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1639222_144622091_2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454" name="页脚占位符 4"/>
          <p:cNvSpPr/>
          <p:nvPr/>
        </p:nvSpPr>
        <p:spPr>
          <a:xfrm flipV="1">
            <a:off x="3124080" y="8001000"/>
            <a:ext cx="28958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5e377135h64bd8275840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5e377135h64bd8de6577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5e377135h64bd84c8835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6521458584566220080129041401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WordArt 2"/>
          <p:cNvSpPr txBox="1"/>
          <p:nvPr/>
        </p:nvSpPr>
        <p:spPr>
          <a:xfrm>
            <a:off x="1258920" y="836640"/>
            <a:ext cx="280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很多同学都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5508720" y="1989000"/>
            <a:ext cx="2644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痛苦  煎熬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4" name="WordArt 4"/>
          <p:cNvSpPr txBox="1"/>
          <p:nvPr/>
        </p:nvSpPr>
        <p:spPr>
          <a:xfrm>
            <a:off x="1763640" y="3716280"/>
            <a:ext cx="5600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什么叫痛苦？什么叫幸福？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1313640" y="25160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改改样式，背景图片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c8cfe9b34ab2677b092302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3"/>
          <p:cNvSpPr txBox="1"/>
          <p:nvPr/>
        </p:nvSpPr>
        <p:spPr>
          <a:xfrm>
            <a:off x="395280" y="3645000"/>
            <a:ext cx="83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欢乐比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成功后带来的幸福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又算得了什么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324000" y="765000"/>
            <a:ext cx="849600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痛苦比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失败后的痛苦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那又算得了什么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468360" y="1268280"/>
            <a:ext cx="396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年轻的韶华里，我告诉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己将有属于自己的生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离开这没有明媚阳光的角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的生命没有时光的蹉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看见升起的太阳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告诉我，必须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锲而不舍到明天，没有理由回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穿越云层的黑影，那是天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坚持到发现彩虹终点的一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5561280" y="1268280"/>
            <a:ext cx="255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飘浮在自由的羽翅上，离开那些失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驰骋于明朝那金色的田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沉重的旅行结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将休息我疲惫的思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是为了融合世界的光明和它的丽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的生命没有时光的蹉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看见落山的太阳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告诉我，必须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锲而不舍到明天，没有理由回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锲而不舍，锲而不舍，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5"/>
          <p:cNvSpPr txBox="1"/>
          <p:nvPr/>
        </p:nvSpPr>
        <p:spPr>
          <a:xfrm>
            <a:off x="2627280" y="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锲而不舍到明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15998d7b216501e10ad187eb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0" y="2676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了第一个馒头，没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了第二个馒头，还没有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了第三个馒头，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此下结论，只要吃第三个馒头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，没有第一、第二两个馒头的基础，哪有第三个馒头的效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476360" y="105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馒头理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5" descr="11_3_8-2"/>
          <p:cNvPicPr/>
          <p:nvPr/>
        </p:nvPicPr>
        <p:blipFill>
          <a:blip r:embed="rId2"/>
          <a:stretch/>
        </p:blipFill>
        <p:spPr>
          <a:xfrm>
            <a:off x="5940360" y="692280"/>
            <a:ext cx="2627280" cy="2360520"/>
          </a:xfrm>
          <a:prstGeom prst="rect">
            <a:avLst/>
          </a:prstGeom>
          <a:ln w="0">
            <a:noFill/>
          </a:ln>
        </p:spPr>
      </p:pic>
      <p:sp>
        <p:nvSpPr>
          <p:cNvPr id="52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个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游泳教练与“聪明的学员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一次一个游泳教练在教导一群初学游泳的学员，为了克服学员不敢下水的心理，他拿了一个洋娃娃丢进游泳池，然后大声喊：“有小孩落到水了，大家赶快跳下去救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同学们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如果你是其中的一位学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你会怎么样做呢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09480" y="2590920"/>
            <a:ext cx="828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立刻跳进游泳池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继续站在游泳池的边上无动于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468360" y="620640"/>
            <a:ext cx="8675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心在云上，路在脚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雄鹰再生，敢于超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然后学员们听到了都争先恐后地跳到水里面去了。只有一位学员站在游泳池边不动，冷笑道：“想用这一招骗我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914400" y="3962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他是全队学员中最最聪明的一位，可是很不幸也是全队学员中唯一没有学会游泳的一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2059200" y="1538280"/>
            <a:ext cx="4752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在适当的时候自动管制自己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就是聪明人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雨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是自己的一点点克制，也后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变得强而有力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尔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685800" y="533520"/>
            <a:ext cx="2666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记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7" name="Picture 5" descr="A1019237511_13576"/>
          <p:cNvPicPr/>
          <p:nvPr/>
        </p:nvPicPr>
        <p:blipFill>
          <a:blip r:embed="rId2"/>
          <a:stretch/>
        </p:blipFill>
        <p:spPr>
          <a:xfrm>
            <a:off x="7238880" y="4419720"/>
            <a:ext cx="1295640" cy="1307880"/>
          </a:xfrm>
          <a:prstGeom prst="rect">
            <a:avLst/>
          </a:prstGeom>
          <a:ln w="0">
            <a:noFill/>
          </a:ln>
        </p:spPr>
      </p:pic>
      <p:sp>
        <p:nvSpPr>
          <p:cNvPr id="53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395280" y="333360"/>
            <a:ext cx="806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真回顾课本知识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轮复习阶段过程主要是对全部课程的回顾。高考试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基础知识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稍难点的综合题。弄懂课本不是光记住结论，而是要通读。即理科全部的原理要弄清、语文课文内标注的字词句摘抄、英语课文至少要达到念的通顺。注意，第一轮复习十分重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家千万不要埋头做题，而是先看课本，再“精”做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p200892111162981258[1]"/>
          <p:cNvPicPr/>
          <p:nvPr/>
        </p:nvPicPr>
        <p:blipFill>
          <a:blip r:embed="rId1"/>
          <a:stretch/>
        </p:blipFill>
        <p:spPr>
          <a:xfrm>
            <a:off x="36360" y="-239760"/>
            <a:ext cx="9288720" cy="75312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66348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612720" y="62064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握好自己的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学生因为在复习过程中跟不上老师的节奏，导致前面部分没弄懂，后面部分更是拉下，学校在教学节奏控制上又不能根据学生本身制定。如果实在跟不上节奏，就将遗漏的课本部分做好画线标记，以利于及时的回顾。在学的过程中，建议在弄不懂的问题上多问同学，多问老师。最好能够找到水平相当的同学，互相给对方做考察，互相研究题目。同学之间相互沟通时所掌握的内容比问老师的效果更好，可以很容易的将思维的漏洞补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047f9257a7e637eab645ae1b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1735560" y="260280"/>
            <a:ext cx="5598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处理作业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处理作业上，千万不要死磕题目，和自己过不去。第一遍做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来或做错就直接先放弃，但是要保留这道题，每天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下这类不会做的题，直到一眼看出这题怎么做时，再动手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将这类题型留好。本进行互动。做完作业不要看对答案，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第二天把有困难的和同学交流，或第二天看别人怎么做，然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他怎么想的。如果不善于问同学，至少等到第二天再看课本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答案。无论对错，看答案或对答案的过程中尽量回顾当时我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怎么想的，与别人差别点在哪里。这样，尽管你当时没有“获取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案，但是留下了疑问，又多一些时间来探讨自己做题时的思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1992960" y="1268280"/>
            <a:ext cx="5118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何利用每一次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理考试上，要认同自己。分数很重要，重要的是你得到的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些分数和你得不到的分数，毕竟不是高考，当前阶段分数的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没有任何意义。你只需做三件事：一、根据你所获取分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分，整理你当前会的知识，会做的题型。二、根据你所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数，立即回归课本，看完课本后再做一遍。三、拿着卷子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己，当时做对的题自己是怎么想的，不会的题当时是怎么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，现在会的题和当时不会做时差距在哪里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8eb2b782b280b88a0cf4d282"/>
          <p:cNvPicPr/>
          <p:nvPr/>
        </p:nvPicPr>
        <p:blipFill>
          <a:blip r:embed="rId1"/>
          <a:stretch/>
        </p:blipFill>
        <p:spPr>
          <a:xfrm>
            <a:off x="0" y="-19080"/>
            <a:ext cx="9477360" cy="6877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1658880" y="692280"/>
            <a:ext cx="599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考试化，考试高考化，将平时考试当高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考考试当平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：贵在坚持、难在坚持、成在坚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太阳每天都是新的，你是否每天都在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苦再难，也要坚强，只为那些期待的眼神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回避哪怕是一个简单得不好意思的问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它对你很重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它对别人也是一个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起的难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56" name="WordArt 3"/>
          <p:cNvSpPr txBox="1"/>
          <p:nvPr/>
        </p:nvSpPr>
        <p:spPr>
          <a:xfrm>
            <a:off x="914400" y="333360"/>
            <a:ext cx="3586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问题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152280" y="1386000"/>
            <a:ext cx="9296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“懒筋”没拔出，不够刻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对待练习不够认真，不刻苦钻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有严重偏科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时间安排欠合理、科学，易受情绪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前没有认真复习，不懂的问题没有及时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时，太过粗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基础不够扎实，做练习太少，没能巩固好所学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复习不全面，只是粗略地看了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3"/>
          <p:cNvSpPr/>
          <p:nvPr/>
        </p:nvSpPr>
        <p:spPr>
          <a:xfrm>
            <a:off x="1763640" y="19162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带着一脸的兴奋和茫然，我们已经度过了高三的上个学期，时间在我们面前匆匆划过，留下一道道优美的弧线，或许也留下了挥之不去的遗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B~)TQVDQ{O)Z3U77S2I7}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55964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</a:rPr>
              <a:t>冲刺高三</a:t>
            </a:r>
            <a:br>
              <a:rPr sz="9600"/>
            </a:br>
            <a:r>
              <a:rPr b="0" lang="zh-CN" sz="9600" spc="-1" strike="noStrike">
                <a:solidFill>
                  <a:srgbClr val="ff3300"/>
                </a:solidFill>
                <a:latin typeface="Arial"/>
              </a:rPr>
              <a:t>青春无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我的未来不是梦.mp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页脚占位符 4"/>
          <p:cNvSpPr/>
          <p:nvPr/>
        </p:nvSpPr>
        <p:spPr>
          <a:xfrm>
            <a:off x="3124080" y="7286760"/>
            <a:ext cx="2895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08992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卡通形象--海豚 - 卡通海豚图片6"/>
          <p:cNvPicPr/>
          <p:nvPr/>
        </p:nvPicPr>
        <p:blipFill>
          <a:blip r:embed="rId1"/>
          <a:stretch/>
        </p:blipFill>
        <p:spPr>
          <a:xfrm>
            <a:off x="1763640" y="260280"/>
            <a:ext cx="5629320" cy="3629160"/>
          </a:xfrm>
          <a:prstGeom prst="rect">
            <a:avLst/>
          </a:prstGeom>
          <a:ln w="0">
            <a:noFill/>
          </a:ln>
        </p:spPr>
      </p:pic>
      <p:sp>
        <p:nvSpPr>
          <p:cNvPr id="565" name="WordArt 3"/>
          <p:cNvSpPr txBox="1"/>
          <p:nvPr/>
        </p:nvSpPr>
        <p:spPr>
          <a:xfrm>
            <a:off x="1835280" y="4076640"/>
            <a:ext cx="568944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c2749b"/>
                    </a:gs>
                    <a:gs pos="50000">
                      <a:srgbClr val="ff99cc"/>
                    </a:gs>
                    <a:gs pos="100000">
                      <a:srgbClr val="c2749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听老师的话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c2749b"/>
                  </a:gs>
                  <a:gs pos="50000">
                    <a:srgbClr val="ff99cc"/>
                  </a:gs>
                  <a:gs pos="100000">
                    <a:srgbClr val="c2749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396720" y="0"/>
            <a:ext cx="9540720" cy="69325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的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决定一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智力无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规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理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耐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生的砥砺和坚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就未来的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 action="ppaction://hlinksldjump"/>
              </a:rPr>
              <a:t>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开通往大学之门的钥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yiluanhou]"/>
          <p:cNvPicPr/>
          <p:nvPr/>
        </p:nvPicPr>
        <p:blipFill>
          <a:blip r:embed="rId1"/>
          <a:stretch/>
        </p:blipFill>
        <p:spPr>
          <a:xfrm>
            <a:off x="0" y="-1681200"/>
            <a:ext cx="9144000" cy="109126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3"/>
          <p:cNvSpPr/>
          <p:nvPr/>
        </p:nvSpPr>
        <p:spPr>
          <a:xfrm>
            <a:off x="2481120" y="1700280"/>
            <a:ext cx="40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努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造就实力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态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决定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张国政"/>
          <p:cNvPicPr/>
          <p:nvPr/>
        </p:nvPicPr>
        <p:blipFill>
          <a:blip r:embed="rId1"/>
          <a:stretch/>
        </p:blipFill>
        <p:spPr>
          <a:xfrm>
            <a:off x="-8287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-1545480" y="0"/>
            <a:ext cx="29235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咬牙坚持，为了心中的梦想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m_1247047463590"/>
          <p:cNvPicPr/>
          <p:nvPr/>
        </p:nvPicPr>
        <p:blipFill>
          <a:blip r:embed="rId1"/>
          <a:stretch/>
        </p:blipFill>
        <p:spPr>
          <a:xfrm>
            <a:off x="2700360" y="907920"/>
            <a:ext cx="3676680" cy="4592880"/>
          </a:xfrm>
          <a:prstGeom prst="rect">
            <a:avLst/>
          </a:prstGeom>
          <a:ln w="0">
            <a:noFill/>
          </a:ln>
        </p:spPr>
      </p:pic>
      <p:pic>
        <p:nvPicPr>
          <p:cNvPr id="578" name="我相信(8人和声编排版)-哈理工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615960" y="1413000"/>
            <a:ext cx="1185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隶书"/>
              </a:rPr>
              <a:t>我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6229440" y="1052640"/>
            <a:ext cx="2374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隶书"/>
              </a:rPr>
              <a:t>我们坚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85663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Peking%20Uni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6325153949929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260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138455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5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575111430352"/>
          <p:cNvPicPr/>
          <p:nvPr/>
        </p:nvPicPr>
        <p:blipFill>
          <a:blip r:embed="rId1"/>
          <a:stretch/>
        </p:blipFill>
        <p:spPr>
          <a:xfrm>
            <a:off x="0" y="0"/>
            <a:ext cx="9144000" cy="6289560"/>
          </a:xfrm>
          <a:prstGeom prst="rect">
            <a:avLst/>
          </a:prstGeom>
          <a:ln w="0">
            <a:noFill/>
          </a:ln>
        </p:spPr>
      </p:pic>
      <p:sp>
        <p:nvSpPr>
          <p:cNvPr id="5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１１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3"/>
          <p:cNvSpPr/>
          <p:nvPr/>
        </p:nvSpPr>
        <p:spPr>
          <a:xfrm>
            <a:off x="1752480" y="936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有一家银行每天早上都在你的帐户里存入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6,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是每天的帐户余额都不能结转到明天，一到结算时间，银行就会把你当日未用尽的款项全数删除。 </a:t>
            </a:r>
            <a:br>
              <a:rPr sz="3600"/>
            </a:b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这种情况下你会怎么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0" y="365760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， 每天不留分文地全数提领是最佳选择。  你可能不晓得， 其实我们每个人都有这样的一个银行， 她的名字是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「时间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(TIME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」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2005112815238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20070111142717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xinsrc_172080221111559315548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xinsrc_15208022111155152279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wxj081311629615696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F20050711090725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200504031703276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20070307145224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200745211940247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469" name="页脚占位符 2"/>
          <p:cNvSpPr/>
          <p:nvPr/>
        </p:nvSpPr>
        <p:spPr>
          <a:xfrm>
            <a:off x="3124080" y="7643880"/>
            <a:ext cx="2895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2007124161542250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3"/>
          <p:cNvSpPr/>
          <p:nvPr/>
        </p:nvSpPr>
        <p:spPr>
          <a:xfrm>
            <a:off x="1127520" y="403920"/>
            <a:ext cx="693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如果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字母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別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编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上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6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分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=1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B=2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…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=26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2411280" y="2205000"/>
            <a:ext cx="576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d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titu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它们分别是多少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WordArt 5"/>
          <p:cNvSpPr txBox="1"/>
          <p:nvPr/>
        </p:nvSpPr>
        <p:spPr>
          <a:xfrm>
            <a:off x="611280" y="2205000"/>
            <a:ext cx="12240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算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20080527034545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324000" y="76500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KNOWLEDG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1+14+15+23+12+5+4+7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努力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HARDWORK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也只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+1+18+4+23+15+18+11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态度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TTITUD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才是左右你生命的全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20+20+9+20+21+4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台湾酷分仔多媒体3D动画壁纸：Choobies 超毛星 - Choobies 超毛星动画图片壁纸4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4"/>
          <p:cNvSpPr txBox="1"/>
          <p:nvPr/>
        </p:nvSpPr>
        <p:spPr>
          <a:xfrm>
            <a:off x="395280" y="3645000"/>
            <a:ext cx="83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欢乐比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成功后带来的幸福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又算得了什么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1" name="WordArt 5"/>
          <p:cNvSpPr txBox="1"/>
          <p:nvPr/>
        </p:nvSpPr>
        <p:spPr>
          <a:xfrm>
            <a:off x="324000" y="765000"/>
            <a:ext cx="849600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痛苦比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失败后的痛苦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那又算得了什么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图片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大家觉得高三生活会是什么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谈谈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让我们来欣赏一下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6:17:29Z</dcterms:created>
  <dc:creator>未知用户</dc:creator>
  <dc:description/>
  <dc:language>en-US</dc:language>
  <cp:lastModifiedBy>clf2015</cp:lastModifiedBy>
  <cp:lastPrinted>1899-12-30T00:00:00Z</cp:lastPrinted>
  <dcterms:modified xsi:type="dcterms:W3CDTF">2015-10-09T08:13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