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3.wmf" ContentType="image/x-wmf"/>
  <Override PartName="/ppt/media/image12.jpeg" ContentType="image/jpeg"/>
  <Override PartName="/ppt/media/image34.wmf" ContentType="image/x-wmf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43.png" ContentType="image/png"/>
  <Override PartName="/ppt/media/image36.wmf" ContentType="image/x-wm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785-8FDF-41FA-AFE5-E611AFF9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86A-C2AA-4326-926D-0AFEC3A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F75-C975-4D9F-9748-68CC0350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ABB-9827-4121-8DED-FD4AF89A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4D5-E73B-4BFA-A3FC-70C76A80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21E-49D7-4E3E-A103-7F124DC5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E90-D849-4881-82AF-A90BDA0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179-6E15-46A4-AF9E-35019353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A37-247E-496E-A54C-FF06471F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4CB-98C5-4BB1-A027-29E3924E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2E2-4E96-487B-BC50-2CEF7B7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011-16F8-4324-B129-787ADC6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89C-5883-4F75-A1F1-AEEA0AF2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609f980198cb495bd3e1ee8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209680" y="212868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健康成长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33520" y="7621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珍爱生命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76520" y="4952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北京师范大学株洲附属学校小学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4c"/>
          <p:cNvPicPr/>
          <p:nvPr/>
        </p:nvPicPr>
        <p:blipFill>
          <a:blip r:embed="rId1"/>
          <a:srcRect l="0" t="0" r="0" b="908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3c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车祸仅仅是威胁我们生命安全的一个方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时候，人类在重大自然灾害面前是那样的不堪一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四川地震导致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人死亡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千余人失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129528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命是如此脆弱，我们要善待自己的生命，保护好生命，让生命绽放出绚烂的光彩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3"/>
          <p:cNvPicPr/>
          <p:nvPr/>
        </p:nvPicPr>
        <p:blipFill>
          <a:blip r:embed="rId1"/>
          <a:stretch/>
        </p:blipFill>
        <p:spPr>
          <a:xfrm>
            <a:off x="6516720" y="333360"/>
            <a:ext cx="2286000" cy="2908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50920" y="33336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早晨，一个伐木工人照常去森林里伐木。他用电锯将一棵粗大的松树锯倒时，树干反弹重重地压在他的右腿上。剧烈的疼痛使他觉得眼前一片漆黑。此时，他知道，自己首先要做的是保持清醒。他试图把腿抽回来，可办不到。于是他拿起手边的斧子狠命地朝树干砍去，砍了三四下后，斧柄断了。他又拿起电锯开始锯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9"/>
          <p:cNvPicPr/>
          <p:nvPr/>
        </p:nvPicPr>
        <p:blipFill>
          <a:blip r:embed="rId1"/>
          <a:stretch/>
        </p:blipFill>
        <p:spPr>
          <a:xfrm>
            <a:off x="5508720" y="1052640"/>
            <a:ext cx="3352680" cy="3276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28600" y="76212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很快发现：倒下的松树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度角，巨大的压力随时会把锯条卡住，如果电锯出了故障，这里又人迹罕至，时间一长，就只能束手待毙了。左思右想，别无他路。他狠狠心，拿起电锯，对准自己的右腿，自行截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16"/>
          <p:cNvPicPr/>
          <p:nvPr/>
        </p:nvPicPr>
        <p:blipFill>
          <a:blip r:embed="rId1"/>
          <a:stretch/>
        </p:blipFill>
        <p:spPr>
          <a:xfrm>
            <a:off x="5651640" y="3068640"/>
            <a:ext cx="3276360" cy="3581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152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伐木工人把腿简单包扎了一下，决定爬回去。一路上，他忍着巨痛，一寸一寸地爬，一次一次地昏迷过去，又一次一次地苏醒过来，心中只有一个念头：一定要活着回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609480" y="3581280"/>
            <a:ext cx="1905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8600" y="49528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当遇到如此艰难的抉择时，你能果断地选择求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1371600"/>
            <a:ext cx="830556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现实中许多人自怨自艾 ，把自己说得一无是处，仿佛自己是天底下最可怜的人。其实，我们是很幸运的，因为至少我们当中绝大多数人是四肢健全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871720" y="650880"/>
            <a:ext cx="3838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人的生命只有一次，生命是多么珍贵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现在的生活是多么的美好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可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世界上有很多不幸的人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大家看看他们是怎样生活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380880" y="1600200"/>
            <a:ext cx="34527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892520" y="5335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他们，身残志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mg722784_2"/>
          <p:cNvPicPr/>
          <p:nvPr/>
        </p:nvPicPr>
        <p:blipFill>
          <a:blip r:embed="rId2"/>
          <a:stretch/>
        </p:blipFill>
        <p:spPr>
          <a:xfrm>
            <a:off x="4038480" y="1981080"/>
            <a:ext cx="48006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多彩的生命构成了缤纷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xiao hai"/>
          <p:cNvPicPr/>
          <p:nvPr/>
        </p:nvPicPr>
        <p:blipFill>
          <a:blip r:embed="rId1"/>
          <a:stretch/>
        </p:blipFill>
        <p:spPr>
          <a:xfrm>
            <a:off x="380880" y="1411200"/>
            <a:ext cx="2743200" cy="209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xiao hai2"/>
          <p:cNvPicPr/>
          <p:nvPr/>
        </p:nvPicPr>
        <p:blipFill>
          <a:blip r:embed="rId2"/>
          <a:stretch/>
        </p:blipFill>
        <p:spPr>
          <a:xfrm>
            <a:off x="3276720" y="1393920"/>
            <a:ext cx="2743200" cy="211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xiao hai3"/>
          <p:cNvPicPr/>
          <p:nvPr/>
        </p:nvPicPr>
        <p:blipFill>
          <a:blip r:embed="rId3"/>
          <a:stretch/>
        </p:blipFill>
        <p:spPr>
          <a:xfrm>
            <a:off x="6172200" y="1393920"/>
            <a:ext cx="2614680" cy="371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xiao hai4"/>
          <p:cNvPicPr/>
          <p:nvPr/>
        </p:nvPicPr>
        <p:blipFill>
          <a:blip r:embed="rId4"/>
          <a:stretch/>
        </p:blipFill>
        <p:spPr>
          <a:xfrm>
            <a:off x="38088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11160889d45776dc8901"/>
          <p:cNvPicPr/>
          <p:nvPr/>
        </p:nvPicPr>
        <p:blipFill>
          <a:blip r:embed="rId1"/>
          <a:stretch/>
        </p:blipFill>
        <p:spPr>
          <a:xfrm>
            <a:off x="228600" y="304920"/>
            <a:ext cx="37926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alt6608977"/>
          <p:cNvPicPr/>
          <p:nvPr/>
        </p:nvPicPr>
        <p:blipFill>
          <a:blip r:embed="rId2"/>
          <a:stretch/>
        </p:blipFill>
        <p:spPr>
          <a:xfrm>
            <a:off x="4800600" y="609480"/>
            <a:ext cx="420228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他们，永不放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1020110295f0bb6f2060c43c1"/>
          <p:cNvPicPr/>
          <p:nvPr/>
        </p:nvPicPr>
        <p:blipFill>
          <a:blip r:embed="rId1"/>
          <a:stretch/>
        </p:blipFill>
        <p:spPr>
          <a:xfrm>
            <a:off x="228600" y="6094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943600" y="1447920"/>
            <a:ext cx="364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没有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照样能写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60814162422262"/>
          <p:cNvPicPr/>
          <p:nvPr/>
        </p:nvPicPr>
        <p:blipFill>
          <a:blip r:embed="rId1"/>
          <a:stretch/>
        </p:blipFill>
        <p:spPr>
          <a:xfrm>
            <a:off x="304920" y="457200"/>
            <a:ext cx="430848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183280" y="1628640"/>
            <a:ext cx="3960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世上除了用眼睛看世界，还有一种内在的视觉</a:t>
            </a:r>
            <a:r>
              <a:rPr b="0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可能是更真实的，那就是 用心去看这个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030640" y="692280"/>
            <a:ext cx="39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海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凯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637880" y="1447920"/>
            <a:ext cx="32108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不屈服于命运的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张 海 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图片1"/>
          <p:cNvPicPr/>
          <p:nvPr/>
        </p:nvPicPr>
        <p:blipFill>
          <a:blip r:embed="rId1"/>
          <a:stretch/>
        </p:blipFill>
        <p:spPr>
          <a:xfrm>
            <a:off x="1332000" y="1066680"/>
            <a:ext cx="3678120" cy="49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2005-17"/>
          <p:cNvPicPr/>
          <p:nvPr/>
        </p:nvPicPr>
        <p:blipFill>
          <a:blip r:embed="rId1"/>
          <a:stretch/>
        </p:blipFill>
        <p:spPr>
          <a:xfrm>
            <a:off x="1195560" y="990720"/>
            <a:ext cx="3376440" cy="519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029200" y="914400"/>
            <a:ext cx="366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年春节联欢晚会上中国残疾人艺术团的节目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千手观音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感动了全中国。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个平均年龄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岁的聋哑演员将舞蹈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千手观音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演绎得天衣无缝、美轮美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352680" y="259920"/>
            <a:ext cx="500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08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年北京残奥会上，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日，在男子三级跳远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F11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级决赛中，李端以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米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71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的成绩夺冠，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日上午，他又以６米６１的成绩成功卫冕跳远冠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李端说过这样一句名言：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失去了光明，灵魂不能坠入黑暗；看不见道路，脚步不能停滞不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71640" y="5300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303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18"/>
          <p:cNvPicPr/>
          <p:nvPr/>
        </p:nvPicPr>
        <p:blipFill>
          <a:blip r:embed="rId1"/>
          <a:stretch/>
        </p:blipFill>
        <p:spPr>
          <a:xfrm>
            <a:off x="5334120" y="2743200"/>
            <a:ext cx="358128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28600" y="533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世界因生命而精彩。珍爱生命的人，无论何时何地，无论遇到多大挫折，都不会轻易放弃生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14"/>
          <p:cNvPicPr/>
          <p:nvPr/>
        </p:nvPicPr>
        <p:blipFill>
          <a:blip r:embed="rId2"/>
          <a:stretch/>
        </p:blipFill>
        <p:spPr>
          <a:xfrm>
            <a:off x="609480" y="281952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残疾人较我们常人而言，在生活中会遇到许多困难。他们尚且能顽强地活着，而且活得很精彩，我们不应该活得更潇洒、更快乐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在生活中，也有一些人置亲人的痛苦而不顾，做出一些愚蠢的“傻事”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86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某中学初中部初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班学生王侃在下自习课前走出教室，翻出走廊前沿，从教学楼五楼跳下。最近他家第二个孩子过生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王凯与他母亲发生口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因通过宿舍阳台向另一宿舍攀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保安人员及时发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拦了下来并通知了班主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5720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生命是地球上最珍贵的财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当我们看见小草翠绿，树影婆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pó suō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听到虫鸣鸟叫，人群喧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闻到清新空气，百花芳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能感受到万物的欣欣向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世界充满生命力和无限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整个世界因生命的存在而变得生动和精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这样做的结果怎样呢？这样做得对吗？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想父母、老师、同学等等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孩子的离去会让他的家人非常难过，家家就这样一个孩子，与父母朝夕相处，如今忽然之间就无影无踪了，任谁也受不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为一个人，都要珍爱自己的生命，生命，对于人来说只有一次。来到这个世界上走一遭，不能给世界留点什么，至少应该给自己的生命留下点精彩，这样在生命即将逝去的时候，才不会感觉空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珍爱生命，在生命中有那么多爱你的人和你爱的人，为了他们保重你自己。在你的生命中，有那么多你喜欢的事要做，怎么能就轻言放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2057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什么有些人轻视自己的生命，做出一些让亲人朋友伤心惋惜的蠢事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国外研究表明，与自杀有关的精神病以抑郁症和精神分裂症居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抑郁症又叫忧郁症，被认为是导致自杀的主要原因。自杀者中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人患有抑郁症，因此它被称为“第一号心理杀手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精神病患者的普遍表现为：饮食、睡眠差，妄想，生活在幻觉之中，不是说个不停就是沉默寡言，不是极端自信就极端自卑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何调整不良心态，形成健康的心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人受挫能力弱，稍微大一点的压力就超越了他的承受范围，导致精神崩溃，产生心理疾病。因此我们要学会通过多种途径（向别人诉说、运动等）合理释放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重要的是培养自己的受挫能力，勇于面对失败和挫折，处于逆境不灰心，培养自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多角度考虑问题，积极面对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遇到多大困难，都不放弃自己的生命。在这世界上总有比你更惨的人和物。（你连一根草、一只蚂蚁也不如吗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1523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的生命仅仅属于你自己一个人吗？你可以私自随意地虐待自己的生命吗？我们应该怎样去做，才能发挥生命的真正价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努力</a:t>
            </a: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读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e03254_"/>
          <p:cNvPicPr/>
          <p:nvPr/>
        </p:nvPicPr>
        <p:blipFill>
          <a:blip r:embed="rId1"/>
          <a:stretch/>
        </p:blipFill>
        <p:spPr>
          <a:xfrm>
            <a:off x="4876920" y="380880"/>
            <a:ext cx="3429000" cy="309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pe03166_"/>
          <p:cNvPicPr/>
          <p:nvPr/>
        </p:nvPicPr>
        <p:blipFill>
          <a:blip r:embed="rId2"/>
          <a:stretch/>
        </p:blipFill>
        <p:spPr>
          <a:xfrm>
            <a:off x="6248520" y="4191120"/>
            <a:ext cx="216684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d07218_"/>
          <p:cNvPicPr/>
          <p:nvPr/>
        </p:nvPicPr>
        <p:blipFill>
          <a:blip r:embed="rId3"/>
          <a:stretch/>
        </p:blipFill>
        <p:spPr>
          <a:xfrm>
            <a:off x="609480" y="1676520"/>
            <a:ext cx="2025720" cy="259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e03668_"/>
          <p:cNvPicPr/>
          <p:nvPr/>
        </p:nvPicPr>
        <p:blipFill>
          <a:blip r:embed="rId4"/>
          <a:stretch/>
        </p:blipFill>
        <p:spPr>
          <a:xfrm>
            <a:off x="2743200" y="3886200"/>
            <a:ext cx="19209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帮忙做家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pe02104_"/>
          <p:cNvPicPr/>
          <p:nvPr/>
        </p:nvPicPr>
        <p:blipFill>
          <a:blip r:embed="rId1"/>
          <a:stretch/>
        </p:blipFill>
        <p:spPr>
          <a:xfrm>
            <a:off x="533520" y="3429000"/>
            <a:ext cx="243180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pe02000_"/>
          <p:cNvPicPr/>
          <p:nvPr/>
        </p:nvPicPr>
        <p:blipFill>
          <a:blip r:embed="rId2"/>
          <a:stretch/>
        </p:blipFill>
        <p:spPr>
          <a:xfrm>
            <a:off x="5943600" y="2286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n00308_"/>
          <p:cNvPicPr/>
          <p:nvPr/>
        </p:nvPicPr>
        <p:blipFill>
          <a:blip r:embed="rId3"/>
          <a:stretch/>
        </p:blipFill>
        <p:spPr>
          <a:xfrm>
            <a:off x="2819520" y="1905120"/>
            <a:ext cx="2590560" cy="241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n00295_"/>
          <p:cNvPicPr/>
          <p:nvPr/>
        </p:nvPicPr>
        <p:blipFill>
          <a:blip r:embed="rId4"/>
          <a:stretch/>
        </p:blipFill>
        <p:spPr>
          <a:xfrm>
            <a:off x="4572000" y="3505320"/>
            <a:ext cx="411480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乐于助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80060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多做善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d06872_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253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d06608_"/>
          <p:cNvPicPr/>
          <p:nvPr/>
        </p:nvPicPr>
        <p:blipFill>
          <a:blip r:embed="rId2"/>
          <a:stretch/>
        </p:blipFill>
        <p:spPr>
          <a:xfrm>
            <a:off x="5105520" y="1295280"/>
            <a:ext cx="373356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bd07116_"/>
          <p:cNvPicPr/>
          <p:nvPr/>
        </p:nvPicPr>
        <p:blipFill>
          <a:blip r:embed="rId3"/>
          <a:stretch/>
        </p:blipFill>
        <p:spPr>
          <a:xfrm>
            <a:off x="1447920" y="385776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35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安全知识抢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50920" y="1981080"/>
            <a:ext cx="577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未满几周岁的儿童，不准在道路上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学自行车？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(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周岁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周岁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周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276720" y="24382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" y="396252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遇到火灾时，拨打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A.   110         B.  119          C. 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49760" y="3886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螳螂是一种昆虫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由于雌螳螂要孕育后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所以必须吸取大量养分以备产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因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雌螳螂在完成交配之后，就会杀死雄螳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于雄螳螂来说，繁衍也就意味着死亡，小螳螂的出生总是伴随着父亲的死亡。也可以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小螳螂的出生是用爸爸的性命换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4572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螳螂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163600" y="1298520"/>
            <a:ext cx="35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下课了，不能干什么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? 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、看书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、追赶打闹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、下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37200" y="3352680"/>
            <a:ext cx="38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哪些东西不准带进学校？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乒乓球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三角尺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利器、易燃物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031360" y="1295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59960" y="33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817720" y="1371600"/>
            <a:ext cx="35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哪些行为不对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?   (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跳高、跳远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攀越围墙、滑楼梯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玩火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16240" y="13716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746720" y="3429000"/>
            <a:ext cx="442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上下楼梯怎样走？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(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靠右走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靠左走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左右都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03136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414520" y="581040"/>
            <a:ext cx="292392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是小法官（判断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使用刀具时，互相比划、打闹。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在人多的地方或马路上踢球。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集体上下楼时，讲秩序，靠右走。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下雨天，在湿的地面上奔跑。        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集会时动来动去，老是去碰别人。    （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下课了，不追赶打闹。      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在楼道里追逐打闹。        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乘车时将头、手伸出窗外。  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868720" y="12193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8672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79276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716440" y="3048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021360" y="3657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35560" y="4876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640120" y="5486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983560" y="2438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50040" y="41911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24440" y="1447920"/>
            <a:ext cx="77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幼圆"/>
              </a:rPr>
              <a:t>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幼圆"/>
              </a:rPr>
              <a:t>下面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幼圆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幼圆"/>
              </a:rPr>
              <a:t>我们来学习一首安全童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60020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小朋友，我问你，自我保护可知道？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随你问，随你考，安全保护有六条。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第一条，最关键，不碰插座不玩电，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过马路，两边看，红灯亮走斑马线。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坐汽车，坐火车，头手不伸窗外边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你的家，住高楼，不爬阳台翻筋斗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水果刀，大人用，等我长大才能动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家里人，都不在，谁叫我都不离开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是妈妈的乖宝宝，自我保护最安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33520" y="2133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父母给了我们宝贵的生命，四肢健全的我们，生活在一个无忧无虑的幸福世界里。我们一定要珍惜自己的生命，爱护自己的生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272960" y="457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歌曲：明天会更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33520" y="1219320"/>
            <a:ext cx="441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轻轻敲醒沉睡的心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慢慢张开你的眼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看看忙碌的世界是否依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孤独地转个不停 春风不解风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吹动少年的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昨日脸上的泪痕随记忆风干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抬头寻找天空的翅膀 候鸟出现它的影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带来远处的饥荒 无情的战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依然存在的消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玉山白雪飘零 燃烧少年的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使真情溶化成音符 倾诉遥远的祝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唱出你的热情 伸出你双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拥抱着你的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952880" y="533520"/>
            <a:ext cx="3730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拥有你真心的面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们的笑容充满着青春的骄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为明天献出虔诚的祈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谁能不顾自己的家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抛开记忆中的童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谁能忍心看他昨日的忧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带走我们的笑容 青春不解红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胭脂沾染了灰 让久违不见的泪水 滋润了你的面容唱出你的热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伸出你双手 让我拥抱着你的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拥有 你真心的面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们的笑容充满着青春的骄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们期待明天会更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轻轻敲醒沉睡的心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慢慢张开你的眼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看看忙碌的世界是否依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孤独地转个不停  日出唤醒清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大地光彩重生  让和风拂出的音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谱成生命的乐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儿童歌曲 - 明天会更好.mp3" descr=""/>
          <p:cNvPicPr/>
          <p:nvPr/>
        </p:nvPicPr>
        <p:blipFill>
          <a:blip r:embed="rId2"/>
          <a:stretch/>
        </p:blipFill>
        <p:spPr>
          <a:xfrm>
            <a:off x="42670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28099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621880" y="21337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班会结束，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770640" y="34275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napshot20061113221547"/>
          <p:cNvPicPr/>
          <p:nvPr/>
        </p:nvPicPr>
        <p:blipFill>
          <a:blip r:embed="rId1"/>
          <a:srcRect l="0" t="6029" r="0" b="0"/>
          <a:stretch/>
        </p:blipFill>
        <p:spPr>
          <a:xfrm>
            <a:off x="2590920" y="150840"/>
            <a:ext cx="6400800" cy="3278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3403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雌企鹅会产下一枚蛋，但此时它们身体储存的能量就会消耗殆尽，必须立即返回大海进行捕食。雌企鹅把蛋交给雄企鹅。雄企鹅把蛋放在脚掌上，用育儿袋包裹起来，孵化时间大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。这期间，雄企鹅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吃任何食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多数时间将在睡眠中度过，依靠燃烧身体中储存下的脂肪度日。为了在寒冷和大风中幸存下来，雄企鹅们会挤成一圈，然后轮流换到中间。如果在小企鹅出生后，妈妈仍没有回来，爸爸就会将小企鹅坐在身下，拿育儿袋将小企鹅全身覆盖，再从食道中分泌出乳白色的乳状物质来喂食小企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31640" y="304920"/>
            <a:ext cx="152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企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320" y="27432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人类孕育的艰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胎儿期，就是指受孕到出生这一时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，即通常说的十月怀胎。胎儿的发育阶段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肚子一天天地大起来了，每个月例行去医院检查身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知是什么原因，睡觉到半夜总会有想吐的感觉，但又什么也吐不出来，很难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翻身这个简单的动作也不是很利索就能做到了，搞不好腿还会抽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休息的时候去街上为宝宝选一些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敢生病，即使生病也不敢吃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敢做剧烈运动，不敢提重物，不敢爬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生命的诞生是艰辛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60962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生命不仅属于自己，也属于家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母含辛茹苦地孕育我们，我们承载着家庭、父母的希望。我们一出生，家人就开始为我们付出辛勤的劳动。所以，我们更应该珍惜自己的生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E02043_"/>
          <p:cNvPicPr/>
          <p:nvPr/>
        </p:nvPicPr>
        <p:blipFill>
          <a:blip r:embed="rId1"/>
          <a:stretch/>
        </p:blipFill>
        <p:spPr>
          <a:xfrm>
            <a:off x="6173640" y="2209680"/>
            <a:ext cx="281808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6760" y="16488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滴水之恩，当涌泉相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不仅属于家庭，也属于社会。每个人的成长都离不开生活的集体和社会，我们每个人都和社会紧密联系着，我们的生命不仅仅是父母生命的延续，也是人类社会的延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，我们不仅仅为自己，为家庭而活着，还应该为祖国的发展和社会的进步努力；每一个人都应该感谢为他健康成长而不断付出的父母家人，更应该感谢社会中各行各业的人们，那么就用有限的生命，为国家和社会增彩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838080" y="380880"/>
            <a:ext cx="681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学会珍惜生命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2666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iloveyoucha.go.nease.net/jpg/y1-3.jpg"/>
          <p:cNvPicPr/>
          <p:nvPr/>
        </p:nvPicPr>
        <p:blipFill>
          <a:blip r:embed="rId3"/>
          <a:stretch/>
        </p:blipFill>
        <p:spPr>
          <a:xfrm>
            <a:off x="5257800" y="3733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85800" y="2286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有多脆弱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20T02:58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