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8.jpeg" ContentType="image/jpeg"/>
  <Override PartName="/ppt/media/image27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45.wmf" ContentType="image/x-wmf"/>
  <Override PartName="/ppt/media/image16.jpeg" ContentType="image/jpeg"/>
  <Override PartName="/ppt/media/image35.wmf" ContentType="image/x-wmf"/>
  <Override PartName="/ppt/media/image15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25.jpeg" ContentType="image/jpeg"/>
  <Override PartName="/ppt/media/image32.png" ContentType="image/png"/>
  <Override PartName="/ppt/media/image39.wmf" ContentType="image/x-wmf"/>
  <Override PartName="/ppt/media/image11.jpeg" ContentType="image/jpeg"/>
  <Override PartName="/ppt/media/image9.jpeg" ContentType="image/jpeg"/>
  <Override PartName="/ppt/media/image12.jpeg" ContentType="image/jpeg"/>
  <Override PartName="/ppt/media/image30.jpeg" ContentType="image/jpeg"/>
  <Override PartName="/ppt/media/image37.wmf" ContentType="image/x-wmf"/>
  <Override PartName="/ppt/media/image46.jpeg" ContentType="image/jpeg"/>
  <Override PartName="/ppt/media/image31.jpeg" ContentType="image/jpeg"/>
  <Override PartName="/ppt/media/image43.wmf" ContentType="image/x-wmf"/>
  <Override PartName="/ppt/media/image13.jpeg" ContentType="image/jpeg"/>
  <Override PartName="/ppt/media/image33.png" ContentType="image/png"/>
  <Override PartName="/ppt/media/image44.wmf" ContentType="image/x-wmf"/>
  <Override PartName="/ppt/media/image41.wmf" ContentType="image/x-wmf"/>
  <Override PartName="/ppt/media/image8.jpeg" ContentType="image/jpeg"/>
  <Override PartName="/ppt/media/image10.jpeg" ContentType="image/jpeg"/>
  <Override PartName="/ppt/media/image4.jpeg" ContentType="image/jpeg"/>
  <Override PartName="/ppt/media/image38.wmf" ContentType="image/x-wmf"/>
  <Override PartName="/ppt/media/image40.wmf" ContentType="image/x-wmf"/>
  <Override PartName="/ppt/media/image34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42.wmf" ContentType="image/x-wmf"/>
  <Override PartName="/ppt/media/image47.jpeg" ContentType="image/jpeg"/>
  <Override PartName="/ppt/media/image36.wmf" ContentType="image/x-wmf"/>
  <Override PartName="/ppt/media/image6.wmf" ContentType="image/x-wmf"/>
  <Override PartName="/ppt/media/image19.jpeg" ContentType="image/jpeg"/>
  <Override PartName="/ppt/media/image5.jpeg" ContentType="image/jpeg"/>
  <Override PartName="/ppt/media/image26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2C1A-DDA7-48FC-A4E4-C32F98C13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01EC-5DF6-4159-A4E3-3B5683240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BC3A3-0442-43EC-83F4-7FBBEEDD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E100-A731-4FDF-B780-CDE015937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BDF16-7C00-4E91-9082-B2C9EC7F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C7AEE-52A0-462D-9650-63ABB9833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B812E-A247-4797-8D65-324C6D7DB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93C34-4254-4A5D-B924-2250FDE1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F156-0B8B-4867-ABD5-46184CB6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53FC-590B-4CEC-9F4F-532ACAD08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FACB0-5FAA-4A5C-8BE0-6CC5D8AC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1B97-B521-48D4-95E4-F9F0EBA4F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16F3-4474-4ED4-883A-AFB3CB864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B635B-90C6-498B-BEFF-71A1D75CE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49B9A-74A6-48CF-99EC-6EC13796A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8EEF-337C-498E-BF78-DC76753C7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D1D93-B04D-4252-BEE8-C2CD2BFB3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69B3-AFCB-4914-8CCD-2E09E9FD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9EE-493B-44B8-B190-99B2ACE79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E07C-DF83-4B31-B6BF-D991CE976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2C446-4441-4841-A6A6-F37C777E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1E2-EAF3-4DA2-B590-7637C6BD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2E831-8A4E-4461-95BC-DBC77AF8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90821-F2FA-440E-9EB8-522F7305B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44F5D-56EF-4C6A-A7B4-49A756E8A2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4B632-852C-428F-AC44-3EE9B233BBC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ffcc"/>
              </a:buClr>
              <a:buSzPct val="90000"/>
              <a:buFont typeface="Wingdings 2" charset="2"/>
              <a:buChar char="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cc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40.wmf"/><Relationship Id="rId3" Type="http://schemas.openxmlformats.org/officeDocument/2006/relationships/image" Target="../media/image41.wmf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image" Target="../media/image45.wmf"/><Relationship Id="rId4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8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228600" y="2209680"/>
            <a:ext cx="8915400" cy="2044440"/>
            <a:chOff x="228600" y="2209680"/>
            <a:chExt cx="8915400" cy="2044440"/>
          </a:xfrm>
        </p:grpSpPr>
        <p:sp>
          <p:nvSpPr>
            <p:cNvPr id="83" name=""/>
            <p:cNvSpPr/>
            <p:nvPr/>
          </p:nvSpPr>
          <p:spPr>
            <a:xfrm>
              <a:off x="228600" y="2209680"/>
              <a:ext cx="89154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ff66"/>
                  </a:solidFill>
                  <a:latin typeface="隶书"/>
                  <a:ea typeface="隶书"/>
                </a:rPr>
                <a:t>珍爱生命 健康成长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638680" y="3733560"/>
              <a:ext cx="32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高一</a:t>
              </a:r>
              <a:r>
                <a:rPr b="1" lang="zh-CN" sz="28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13</a:t>
              </a:r>
              <a:r>
                <a:rPr b="1" lang="zh-CN" sz="28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班主题班会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4920" y="228240"/>
            <a:ext cx="861048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滴水之恩，当涌泉相报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生命不仅属于家庭，也属于社会。每个人的成长都离不开生活的集体和社会，我们每个人都和社会紧密联系着，我们的生命不仅仅是父母生命的延续，也是人类社会的延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所以，我们不仅仅为自己，为家庭而活着，还应该为祖国的发展和社会的进步努力；每一个人都应该感谢为他健康成长而不断付出的父母家人，更应该感谢社会中各行各业的人们，那么就用有限的生命，为国家和社会增彩吧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609480" y="762120"/>
            <a:ext cx="68137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75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二、学会珍惜生命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266688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4876920" y="36576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685800" y="228600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生命有多脆弱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280" y="152280"/>
            <a:ext cx="4562640" cy="254340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3657600"/>
            <a:ext cx="4324320" cy="28796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4648320" y="1447920"/>
            <a:ext cx="4495680" cy="31240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4419720" y="4800600"/>
            <a:ext cx="465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日，马来西亚至北京航班失事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载客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230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人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191120" cy="31417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724280" y="0"/>
            <a:ext cx="3810240" cy="28479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4495680" y="3276720"/>
            <a:ext cx="3200400" cy="21780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5"/>
          <a:stretch/>
        </p:blipFill>
        <p:spPr>
          <a:xfrm>
            <a:off x="457200" y="3505320"/>
            <a:ext cx="3657600" cy="28573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866360" y="304920"/>
            <a:ext cx="1277640" cy="37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云南昆明火车站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rcRect l="0" t="0" r="0" b="908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车祸仅仅是威胁我们生命安全的一个方面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有时候，人类在重大自然灾害面前是那样的不堪一击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008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日四川地震导致近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人死亡，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万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千余人失踪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533520" y="1295280"/>
            <a:ext cx="8076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</a:rPr>
              <a:t>生命是如此脆弱，我们要善待自己的生命，保护好生命，让生命绽放出绚烂的光彩！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6516720" y="333360"/>
            <a:ext cx="2286000" cy="290844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50920" y="33336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黑体"/>
              </a:rPr>
              <a:t>早晨，一个伐木工人照常去森林里伐木。他用电锯将一棵粗大的松树锯倒时，树干反弹重重地压在他的右腿上。剧烈的疼痛使他觉得眼前一片漆黑。此时，他知道，自己首先要做的是保持清醒。他试图把腿抽回来，可办不到。于是他拿起手边的斧子狠命地朝树干砍去，砍了三四下后，斧柄断了。他又拿起电锯开始锯树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08720" y="1052640"/>
            <a:ext cx="3352680" cy="3276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228600" y="762120"/>
            <a:ext cx="51055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但很快发现：倒下的松树呈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45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度角，巨大的压力随时会把锯条卡住，如果电锯出了故障，这里又人迹罕至，时间一长，就只能束手待毙了。左思右想，别无他路。他狠狠心，拿起电锯，对准自己的右腿，自行截肢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-227520"/>
            <a:ext cx="822960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Arial"/>
                <a:ea typeface="黑体"/>
              </a:rPr>
              <a:t>本次活动目标</a:t>
            </a: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4560" y="692280"/>
            <a:ext cx="9180360" cy="63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、认知目标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体会生命的来之不易，并认识生命对于每个人来说都只有一次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懂得生命的意义在于让它充实，焕发光彩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二、情感目标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会珍爱自己的生命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立志做一个有志向的人，做一个对别人、对社会、对祖国有用的人，让自己有限的生命体现出无限的价值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三、行为目标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增强应对挫折的勇气，学会笑对困难、挑战挫折的乐观精神。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形成良好的学习习惯，积极的处世态度，不断充实自己的生命，不断增加生命的分量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5651640" y="3068640"/>
            <a:ext cx="3276360" cy="3581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28600" y="152280"/>
            <a:ext cx="632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伐木工人把腿简单包扎了一下，决定爬回去。一路上，他忍着巨痛，一寸一寸地爬，一次一次地昏迷过去，又一次一次地苏醒过来，心中只有一个念头：一定要活着回去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581280"/>
            <a:ext cx="190512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想想</a:t>
            </a:r>
            <a:endParaRPr b="0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4952880"/>
            <a:ext cx="5715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Verdana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</a:rPr>
              <a:t>当遇到如此艰难的抉择时，你能果断地选择求生吗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67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-360" y="549000"/>
            <a:ext cx="8893080" cy="55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每个人的生命只有一次，生命是宝贵的，也是脆弱的，人生短暂，生命弥足珍贵。一个真正的珍爱生命的人，无论何时何地，无论遇到多大的挫折，都是不会放弃生的希望的。因为，人的生命是宝贵的，它属于我们只能有一次，我们应该珍惜，决不能放弃生的希望和抉择。这就是我们要学习的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永不放弃生的希望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160" y="1371600"/>
            <a:ext cx="8305560" cy="368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66"/>
                </a:solidFill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ff66"/>
                </a:solidFill>
                <a:latin typeface="黑体"/>
                <a:ea typeface="黑体"/>
              </a:rPr>
              <a:t>现实中许多人自怨自艾 ，把自己说得一无是处，仿佛自己是天底下最可怜的人。其实，我们是很幸运的，因为至少我们当中绝大多数人是四肢健全的。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4308480" cy="59436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183280" y="1628640"/>
            <a:ext cx="396072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66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世上除了用眼睛看世界，还有一种内在的视觉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那可能是更真实的，那就是 用心去看这个世界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30640" y="692280"/>
            <a:ext cx="3961080" cy="7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海伦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黑体"/>
              </a:rPr>
              <a:t>·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凯勒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4637880" y="1447920"/>
            <a:ext cx="321084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66"/>
                </a:solidFill>
                <a:latin typeface="Tahoma"/>
                <a:ea typeface="楷体_GB2312"/>
              </a:rPr>
              <a:t>不屈服于命运的    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  <a:ea typeface="楷体_GB2312"/>
              </a:rPr>
              <a:t>      </a:t>
            </a:r>
            <a:r>
              <a:rPr b="1" lang="zh-CN" sz="4400" spc="-1" strike="noStrike">
                <a:solidFill>
                  <a:srgbClr val="ffff66"/>
                </a:solidFill>
                <a:latin typeface="Tahoma"/>
                <a:ea typeface="楷体_GB2312"/>
              </a:rPr>
              <a:t>张 海 迪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332000" y="1066680"/>
            <a:ext cx="3678120" cy="495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9" descr="2005-17"/>
          <p:cNvPicPr/>
          <p:nvPr/>
        </p:nvPicPr>
        <p:blipFill>
          <a:blip r:embed="rId1"/>
          <a:stretch/>
        </p:blipFill>
        <p:spPr>
          <a:xfrm>
            <a:off x="1195560" y="990720"/>
            <a:ext cx="3376440" cy="519912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5029200" y="914400"/>
            <a:ext cx="3666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2005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年春节联欢晚会上中国残疾人艺术团的节目《千手观音》感动了全中国。 </a:t>
            </a: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21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个平均年龄</a:t>
            </a:r>
            <a:r>
              <a:rPr b="1" lang="en-US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21</a:t>
            </a:r>
            <a:r>
              <a:rPr b="1" lang="zh-CN" sz="3200" spc="-1" strike="noStrike">
                <a:solidFill>
                  <a:srgbClr val="ffffff"/>
                </a:solidFill>
                <a:latin typeface="新宋体"/>
                <a:ea typeface="新宋体"/>
              </a:rPr>
              <a:t>岁的聋哑演员将舞蹈《千手观音》演绎得天衣无缝、美轮美奂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3352680" y="259920"/>
            <a:ext cx="500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08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年北京残奥会上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，在男子三级跳远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F1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级决赛中，李端以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米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7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的成绩夺冠，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日上午，他又以６米６１的成绩成功卫冕跳远冠军。李端说过这样一句名言：</a:t>
            </a:r>
            <a:r>
              <a:rPr b="1" lang="en-US" sz="3600" spc="-1" strike="noStrike">
                <a:solidFill>
                  <a:srgbClr val="cc0000"/>
                </a:solidFill>
                <a:latin typeface="黑体"/>
                <a:ea typeface="黑体"/>
              </a:rPr>
              <a:t>“失去了光明，灵魂不能坠入黑暗；看不见道路，脚步不能停滞不前”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971640" y="5300640"/>
            <a:ext cx="777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0384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3581280" cy="373392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228600" y="533520"/>
            <a:ext cx="891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      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</a:rPr>
              <a:t>世界因生命而精彩。珍爱生命的人，无论何时何地，无论遇到多大挫折，都不会轻易放弃生的希望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9480" y="2819520"/>
            <a:ext cx="3429000" cy="365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380520" y="990360"/>
            <a:ext cx="86108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Arial"/>
              </a:rPr>
              <a:t>残疾人较我们常人而言，在生活中会遇到许多困难。他们尚且能顽强地活着，而且活得很精彩，我们不应该活得更潇洒、更快乐吗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304920" y="1142640"/>
            <a:ext cx="85406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65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在生活中，也有一些人置亲人的痛苦而不顾，做出一些“傻事”。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2286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隶书"/>
                <a:ea typeface="隶书"/>
              </a:rPr>
              <a:t>多彩的生命构成了缤纷的世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80880" y="1411200"/>
            <a:ext cx="2743200" cy="20941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3276720" y="1393920"/>
            <a:ext cx="2743200" cy="21114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6172200" y="1393920"/>
            <a:ext cx="2614680" cy="37116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4"/>
          <a:stretch/>
        </p:blipFill>
        <p:spPr>
          <a:xfrm>
            <a:off x="380880" y="380988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826920" y="3500280"/>
            <a:ext cx="3848400" cy="28861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826920" y="549360"/>
            <a:ext cx="8066160" cy="25192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863640" y="1052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ffff00"/>
                </a:solidFill>
                <a:latin typeface="Arial"/>
              </a:rPr>
              <a:t>那间教室，放飞的是希望，守巢的是自己；那块黑板，写下的是真理，擦去的是功利；那根粉笔，画出的是彩虹，流下的是汗滴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……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4751280" y="3284640"/>
            <a:ext cx="4392720" cy="31431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6156360" y="4869000"/>
            <a:ext cx="17622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9000"/>
                    </a:srgbClr>
                  </a:outerShdw>
                </a:effectLst>
                <a:latin typeface="华文行楷"/>
              </a:rPr>
              <a:t>幸福</a:t>
            </a:r>
            <a:endParaRPr b="1" lang="en-US" sz="18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9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ransition spd="med">
    <p:push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48639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009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下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时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分，某中学初中部初三（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）班学生王侃在下自习课前走出教室，翻出走廊前沿，从教学楼五楼跳下。最近他家第二个孩子过生日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而王凯与他母亲发生口角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又于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3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因通过宿舍阳台向另一宿舍攀爬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被保安人员及时发现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拦了下来并通知了班主任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47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讨论：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他们这样做的结果怎样呢？这样做得对吗？值吗？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80880" y="53316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一个孩子的离去会让他的家人非常难过，家家就这样一个孩子，与父母朝夕相处，如今忽然之间就无影无踪了，任谁也受不了的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作为一个人，都要珍爱自己的生命，生命，对于人来说只有一次。来到这个世界上走一遭，不能给世界留点什么，至少应该给自己的生命留下点精彩，这样在生命即将逝去的时候，才不会感觉空虚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  <a:ea typeface="黑体"/>
              </a:rPr>
              <a:t>珍爱生命，在生命中有那么多爱你的人和你爱的人，为了他们保重你自己。在你的生命中，有那么多你喜欢的事要做，怎么能就轻言放弃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295280" y="380880"/>
            <a:ext cx="708660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肯定自己 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作为生命的个体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你的存在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还会给别人（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班）带来哪些快乐和幸福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380880" y="3429000"/>
            <a:ext cx="1143000" cy="7621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1752480" y="4343400"/>
            <a:ext cx="698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因为有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XX...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676520" y="3429000"/>
            <a:ext cx="698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因为有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XX……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207280" cy="56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每个人的生命都是有价值的。我们能够做许许多多有益的事。我们能够为他人带来欢乐，能够为他人减轻痛苦，能够为国家和社会做贡献。这就是我们生命的价值所在。所以，我们要肯定生命，尊重生命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12720" y="76320"/>
            <a:ext cx="8074080" cy="13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如何调整不良心态，形成健康的心理</a:t>
            </a:r>
            <a:endParaRPr b="0" lang="en-US" sz="36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10920" y="1294920"/>
            <a:ext cx="8380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有些人受挫能力弱，稍微大一点的压力就超越了他的承受范围，导致精神崩溃，产生心理疾病。因此我们要学会通过多种途径（向别人诉说、运动等）合理释放压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更重要的是培养自己的受挫能力，勇于面对失败和挫折，处于逆境不灰心，培养自信心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学会多角度考虑问题，积极面对困难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无论遇到多大困难，都不放弃自己的生命。在这世界上总有比你更惨的人和物。（你连一根草、一只蚂蚁也不如么？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762120" y="152388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</a:rPr>
              <a:t>你的生命仅仅属于你自己一个人吗？你可以私自随意地虐待自己的生命吗？我们应该怎样去做，才能发挥生命的真正价值？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努力</a:t>
            </a:r>
            <a:r>
              <a:rPr b="0" i="1" lang="zh-CN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读书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4648320" y="609480"/>
            <a:ext cx="3429000" cy="309420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248520" y="4191120"/>
            <a:ext cx="2166840" cy="228600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762120" y="4114800"/>
            <a:ext cx="1726920" cy="2209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4"/>
          <a:stretch/>
        </p:blipFill>
        <p:spPr>
          <a:xfrm>
            <a:off x="3581280" y="4114800"/>
            <a:ext cx="1687680" cy="220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5486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帮忙做家务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e02104_" descr=""/>
          <p:cNvPicPr/>
          <p:nvPr/>
        </p:nvPicPr>
        <p:blipFill>
          <a:blip r:embed="rId1"/>
          <a:stretch/>
        </p:blipFill>
        <p:spPr>
          <a:xfrm>
            <a:off x="533520" y="3429000"/>
            <a:ext cx="2431800" cy="2819520"/>
          </a:xfrm>
          <a:prstGeom prst="rect">
            <a:avLst/>
          </a:prstGeom>
          <a:ln w="0">
            <a:noFill/>
          </a:ln>
        </p:spPr>
      </p:pic>
      <p:pic>
        <p:nvPicPr>
          <p:cNvPr id="175" name="pe02000_" descr=""/>
          <p:cNvPicPr/>
          <p:nvPr/>
        </p:nvPicPr>
        <p:blipFill>
          <a:blip r:embed="rId2"/>
          <a:stretch/>
        </p:blipFill>
        <p:spPr>
          <a:xfrm>
            <a:off x="5943600" y="228600"/>
            <a:ext cx="2427120" cy="2743200"/>
          </a:xfrm>
          <a:prstGeom prst="rect">
            <a:avLst/>
          </a:prstGeom>
          <a:ln w="0">
            <a:noFill/>
          </a:ln>
        </p:spPr>
      </p:pic>
      <p:pic>
        <p:nvPicPr>
          <p:cNvPr id="176" name="in00308_" descr=""/>
          <p:cNvPicPr/>
          <p:nvPr/>
        </p:nvPicPr>
        <p:blipFill>
          <a:blip r:embed="rId3"/>
          <a:stretch/>
        </p:blipFill>
        <p:spPr>
          <a:xfrm>
            <a:off x="2971800" y="1600200"/>
            <a:ext cx="2590920" cy="2416320"/>
          </a:xfrm>
          <a:prstGeom prst="rect">
            <a:avLst/>
          </a:prstGeom>
          <a:ln w="0">
            <a:noFill/>
          </a:ln>
        </p:spPr>
      </p:pic>
      <p:pic>
        <p:nvPicPr>
          <p:cNvPr id="177" name="in00295_" descr=""/>
          <p:cNvPicPr/>
          <p:nvPr/>
        </p:nvPicPr>
        <p:blipFill>
          <a:blip r:embed="rId4"/>
          <a:stretch/>
        </p:blipFill>
        <p:spPr>
          <a:xfrm>
            <a:off x="4572000" y="3505320"/>
            <a:ext cx="4114800" cy="30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457200"/>
            <a:ext cx="9144000" cy="58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66"/>
                </a:solidFill>
                <a:latin typeface="Times New Roman"/>
                <a:ea typeface="隶书"/>
              </a:rPr>
              <a:t>生命是地球上最珍贵的财富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66"/>
                </a:solidFill>
                <a:latin typeface="Times New Roman"/>
                <a:ea typeface="隶书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当我们看见小草翠绿，树影婆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pó suō)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听到虫鸣鸟叫，人群喧闹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闻到清新空气，百花芳香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都能感受到万物的欣欣向荣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世界充满生命力和无限希望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整个世界因生命的存在而变得生动和精彩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4419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乐于助人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800600" y="0"/>
            <a:ext cx="434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TW" sz="8000" spc="-1" strike="noStrike">
                <a:solidFill>
                  <a:srgbClr val="009900"/>
                </a:solidFill>
                <a:latin typeface="華康少女文字W3(P)"/>
                <a:ea typeface="華康少女文字W3(P)"/>
              </a:rPr>
              <a:t>多做善事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bd06872_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4190760" cy="2533680"/>
          </a:xfrm>
          <a:prstGeom prst="rect">
            <a:avLst/>
          </a:prstGeom>
          <a:ln w="0">
            <a:noFill/>
          </a:ln>
        </p:spPr>
      </p:pic>
      <p:pic>
        <p:nvPicPr>
          <p:cNvPr id="181" name="bd06608_" descr=""/>
          <p:cNvPicPr/>
          <p:nvPr/>
        </p:nvPicPr>
        <p:blipFill>
          <a:blip r:embed="rId2"/>
          <a:stretch/>
        </p:blipFill>
        <p:spPr>
          <a:xfrm>
            <a:off x="5105520" y="1295280"/>
            <a:ext cx="3733560" cy="3657600"/>
          </a:xfrm>
          <a:prstGeom prst="rect">
            <a:avLst/>
          </a:prstGeom>
          <a:ln w="0">
            <a:noFill/>
          </a:ln>
        </p:spPr>
      </p:pic>
      <p:pic>
        <p:nvPicPr>
          <p:cNvPr id="182" name="bd07116_" descr=""/>
          <p:cNvPicPr/>
          <p:nvPr/>
        </p:nvPicPr>
        <p:blipFill>
          <a:blip r:embed="rId3"/>
          <a:stretch/>
        </p:blipFill>
        <p:spPr>
          <a:xfrm>
            <a:off x="1447920" y="3857760"/>
            <a:ext cx="4800600" cy="30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生命的意义</a:t>
            </a:r>
            <a:endParaRPr b="0" lang="en-US" sz="4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珍爱生命，注意安全——身体是革命的本钱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珍爱生命，认真学习——学好本领，回报关爱你的人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珍爱生命，乐于奉献——造福人类，体现人生最大价值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7200" y="304920"/>
            <a:ext cx="799776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命是何等的可贵，它就像那喷泉一样，是那样的多姿多彩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它就像傍晚的晚霞一样，是那么的美好；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它就像二月的鲜花一样，是那么的美丽却短暂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人的生命只有一次，所以我们必须珍惜它，必须珍惜你所拥有的美好时光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我们要学会生存，珍爱生命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让我们在灿烂的阳光下沐浴一方平安，健康成长，愉快生活，让生命的一泓清泉，永流一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同时要以积极、乐观的心态对待困难和挫折，做个珍惜生命、热爱生活、努力实现自身价值的人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 rot="300000">
            <a:off x="2514240" y="2590560"/>
            <a:ext cx="4876920" cy="1390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谢谢大家</a:t>
            </a:r>
            <a:endParaRPr b="0" lang="en-US" sz="96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>
    <p:cover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04920" y="2133720"/>
            <a:ext cx="80769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黑体"/>
              </a:rPr>
              <a:t>（一）生命来之不易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6840" y="1904760"/>
            <a:ext cx="79246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螳螂是一种昆虫，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Arial"/>
              </a:rPr>
              <a:t>由于雌螳螂要孕育后代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Arial"/>
              </a:rPr>
              <a:t>所以必须吸取大量养分以备产卵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  <a:ea typeface="Arial"/>
              </a:rPr>
              <a:t>,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Arial"/>
              </a:rPr>
              <a:t>因此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雌螳螂在完成交配之后，就会杀死雄螳螂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对于雄螳螂来说，繁衍也就意味着死亡，小螳螂的出生总是伴随着父亲的死亡。也可以说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  <a:ea typeface="Arial"/>
              </a:rPr>
              <a:t>小螳螂的出生是用爸爸的性命换来的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838080"/>
            <a:ext cx="5029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螳螂的故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rcRect l="0" t="6029" r="0" b="0"/>
          <a:stretch/>
        </p:blipFill>
        <p:spPr>
          <a:xfrm>
            <a:off x="2590920" y="150840"/>
            <a:ext cx="6400800" cy="32781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34034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在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月至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月，雌企鹅会产下一枚蛋，但此时它们身体储存的能量就会消耗殆尽，必须立即返回大海进行捕食。雌企鹅把蛋交给雄企鹅。雄企鹅把蛋放在脚掌上，用育儿袋包裹起来，孵化时间大约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5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天。这期间，雄企鹅将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吃任何食物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，多数时间将在睡眠中度过，依靠燃烧身体中储存下的脂肪度日。为了在寒冷和大风中幸存下来，雄企鹅们会挤成一圈，然后轮流换到中间。如果在小企鹅出生后，妈妈仍没有回来，爸爸就会将小企鹅坐在身下，拿育儿袋将小企鹅全身覆盖，再从食道中分泌出乳白色的乳状物质来喂食小企鹅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31640" y="304920"/>
            <a:ext cx="152100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企鹅的故事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人类孕育的艰辛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523880"/>
            <a:ext cx="906768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胎儿期，就是指受孕到出生这一时期，约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周，即通常说的十月怀胎。胎儿的发育阶段为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80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天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肚子一天天地大起来了，每个月例行去医院检查身体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不知是什么原因，睡觉到半夜总会有想吐的感觉，但又什么也吐不出来，很难受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翻身这个简单的动作也不是很利索就能做到了，搞不好腿还会抽筋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休息的时候去街上为宝宝选一些物品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不敢生病，即使生病也不敢吃药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不敢做剧烈运动，不敢提重物，不敢爬高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生命的诞生是艰辛的</a:t>
            </a:r>
            <a:endParaRPr b="0" lang="en-US" sz="60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0080" y="1903320"/>
            <a:ext cx="632628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生命不仅属于自己，也属于家庭。父母含辛茹苦地孕育我们，我们承载着家庭、父母的希望。我们一出生，家人就开始为我们付出辛勤的劳动。所以，我们更应该珍惜自己的生命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ccffcc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视频</a:t>
            </a:r>
            <a:r>
              <a:rPr b="0" lang="zh-CN" sz="3600" spc="-1" strike="noStrike" u="sng">
                <a:solidFill>
                  <a:srgbClr val="66ffff"/>
                </a:solidFill>
                <a:uFillTx/>
                <a:latin typeface="Arial"/>
                <a:ea typeface="黑体"/>
              </a:rPr>
              <a:t>《时间去哪儿了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173640" y="2209680"/>
            <a:ext cx="2818080" cy="41148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7T06:23:58Z</dcterms:created>
  <dc:creator>www.dearedu.com</dc:creator>
  <dc:description>www.dearedu.com</dc:description>
  <cp:keywords>www.dearedu.com</cp:keywords>
  <dc:language>en-US</dc:language>
  <cp:lastModifiedBy>微软用户</cp:lastModifiedBy>
  <dcterms:modified xsi:type="dcterms:W3CDTF">2014-03-10T07:03:10Z</dcterms:modified>
  <cp:revision>5</cp:revision>
  <dc:subject>www.dearedu.com</dc:subject>
  <dc:title>www.dearedu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29</vt:lpwstr>
  </property>
  <property fmtid="{D5CDD505-2E9C-101B-9397-08002B2CF9AE}" pid="3" name="Version">
    <vt:r8>1</vt:r8>
  </property>
</Properties>
</file>