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chimes.wav" ContentType="audio/x-wav"/>
  <Override PartName="/ppt/media/image16.jpeg" ContentType="image/jpeg"/>
  <Override PartName="/ppt/media/image5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3508-1335-41D9-8B5B-E1EDD833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A689-4034-4DA6-907D-9A14FCF4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C39E-F09F-41F7-B2F1-464FD9FAC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D631-0FF4-4208-A5BE-29464D52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7BF8-F061-43EA-88F9-CFA7689F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10D9-054A-4A37-9E73-B3BF9768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3F58-1381-408A-885F-4D36E836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3E9E-284D-416F-B7C6-18265111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CCB9-EECC-4560-BFD7-4A81B144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55C8-AAFC-49A0-994B-4DB6510B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8E55-B209-436F-B354-AB51734C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34A6-DEF2-40F3-9C4C-7E695A81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DC8B-50A7-4CD2-862F-4F2967A279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267000">
            <a:off x="323640" y="1611360"/>
            <a:ext cx="75247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音乐巨人贝多芬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6154560" y="3573360"/>
            <a:ext cx="122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e9fe22"/>
                </a:solidFill>
                <a:latin typeface="Times New Roman"/>
                <a:ea typeface="华文行楷"/>
              </a:rPr>
              <a:t>何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4479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32004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49528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260280"/>
            <a:ext cx="86756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c0b"/>
                </a:solidFill>
                <a:latin typeface="Times New Roman"/>
              </a:rPr>
              <a:t>作者简介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c0b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d0c0b"/>
                </a:solidFill>
                <a:latin typeface="Times New Roman"/>
              </a:rPr>
              <a:t>何为，原名何敬业，</a:t>
            </a:r>
            <a:r>
              <a:rPr b="1" lang="zh-CN" sz="4000" spc="-1" strike="noStrike">
                <a:solidFill>
                  <a:srgbClr val="0d0c0b"/>
                </a:solidFill>
                <a:latin typeface="Times New Roman"/>
              </a:rPr>
              <a:t>1922</a:t>
            </a:r>
            <a:r>
              <a:rPr b="1" lang="zh-CN" sz="4000" spc="-1" strike="noStrike">
                <a:solidFill>
                  <a:srgbClr val="0d0c0b"/>
                </a:solidFill>
                <a:latin typeface="Times New Roman"/>
              </a:rPr>
              <a:t>年生于浙江定海，历任报纸记者、报刊和电影文学编辑，写过诗歌、小说和散文，著有《第二次考试》《织锦集》等散文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c0b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d0c0b"/>
                </a:solidFill>
                <a:latin typeface="Times New Roman"/>
              </a:rPr>
              <a:t>何为的散文，善于抓住生活中的典型事件进行深入的开掘，同时，又注意人物和故事的生动性，有较精巧的构思和深远的意境，语言简洁优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38080" y="2133720"/>
            <a:ext cx="83059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c0b"/>
                </a:solidFill>
                <a:latin typeface="Times New Roman"/>
              </a:rPr>
              <a:t>心扉    门槛    徒劳    流氓    清晰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c0b"/>
                </a:solidFill>
                <a:latin typeface="Times New Roman"/>
              </a:rPr>
              <a:t>重荷    零乱不堪     蓬勃     踌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c0b"/>
                </a:solidFill>
                <a:latin typeface="Times New Roman"/>
              </a:rPr>
              <a:t>沉郁    感染     磐石    嚣张    深邃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4479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fēi      kǎn   tú          máng     xī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320040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hè              kān   péng      chóu  chú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49528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yù      rǎn    pán    xiāo          su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00000" y="260280"/>
            <a:ext cx="4800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仿宋_GB2312"/>
              </a:rPr>
              <a:t>请读准字音——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仿宋_GB2312"/>
              <a:ea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63280" y="0"/>
            <a:ext cx="158436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重</a:t>
            </a:r>
            <a:r>
              <a:rPr b="1" lang="zh-CN" sz="4800" spc="-1" strike="noStrike">
                <a:solidFill>
                  <a:srgbClr val="660066"/>
                </a:solidFill>
                <a:latin typeface="Arial"/>
              </a:rPr>
              <a:t>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愁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深</a:t>
            </a:r>
            <a:r>
              <a:rPr b="1" lang="zh-CN" sz="4800" spc="-1" strike="noStrike">
                <a:solidFill>
                  <a:srgbClr val="660066"/>
                </a:solidFill>
                <a:latin typeface="Arial"/>
              </a:rPr>
              <a:t>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Arial"/>
              </a:rPr>
              <a:t>踌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巴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Arial"/>
              </a:rPr>
              <a:t>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Arial"/>
              </a:rPr>
              <a:t>磐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35480" y="393840"/>
            <a:ext cx="113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92360" y="1890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hè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35280" y="2060640"/>
            <a:ext cx="10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19640" y="191628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suì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27082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chóu)(ch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48000" y="4508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suǒ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445000"/>
            <a:ext cx="136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pá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80000" y="2602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重的负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11480" y="1915200"/>
            <a:ext cx="152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深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幽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51640" y="27082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犹豫不决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51640" y="112536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忧愁痛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51640" y="3645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盼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51640" y="458136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严密地封起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5516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而厚的石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042920" y="83664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105264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惹人注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03280" y="234936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杂乱无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68360" y="400536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见天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3640" y="112536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吸引人们注意。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46160" y="242100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乱七八糟，没有条理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400536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比喻社会黑暗，见不到一点光明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2602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思考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99072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33cc"/>
                </a:solidFill>
                <a:latin typeface="华文琥珀"/>
                <a:ea typeface="华文琥珀"/>
              </a:rPr>
              <a:t>客人是怎样访问贝多芬的？期间写了几件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20968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客人来访——女佣开门——女佣介绍贝多芬的情况——参观贝多芬的工作室——贝多芬下楼并和客人谈话——贝多芬和客人共进晚餐——贝多芬回忆往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4343400"/>
            <a:ext cx="763272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华文琥珀"/>
              </a:rPr>
              <a:t>主要事件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琥珀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参观贝多芬的工作室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贝多芬和客人谈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贝多芬回忆往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752480" y="213372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文中贝多芬的哪些话深深触动了你，你对这些话是怎样理解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497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华文新魏"/>
                <a:ea typeface="华文新魏"/>
              </a:rPr>
              <a:t>、“你们竟敢到兽穴里来抓老狮子的毛”是什么意思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220500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一般人都以为他很可怕，很难接近，而“客人”竟然来拜访他，女佣也未经他的允许就让“客人”进门，他对他们的做法很惊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75708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、 为什么 贝多芬说“一株树也比一个人好……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77336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方面耳聋给贝多芬造成了交流的障碍，常被人误解，他的社会交往受到极大的约束，耳聋的他比不上一棵树，因为一棵树尚且可以谛听大自然的声音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4581360"/>
            <a:ext cx="583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另一方面，耳聋后的贝多芬远离入世的喧嚣和纷争，获得心灵的净化和安宁，就此而言，社会中的人不如树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5352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476280"/>
            <a:ext cx="770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、对“你可能想到我——一座已倒落了的火山……挣扎出来。”这句话应如何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2133720"/>
            <a:ext cx="828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贝多芬把自己耳聋比做是“倒落了的火山”，“熔岩”比做他的创作激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意思是说，正当他对音乐的理解更进了一步，创作欲望旺盛之时，遭到耳聋的打击，他不甘心就此放弃他的音乐事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280" y="764640"/>
            <a:ext cx="807588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、对“请看一看罗曼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罗兰的《约翰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克利斯朵夫》……并且加以引申开的”一句应如何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2565360"/>
            <a:ext cx="712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书中的克利斯朵夫的经历和性格与贝多芬相似，《约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克利斯朵夫》最初就是受贝多芬精神的感召而创作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 rot="21109800">
            <a:off x="761760" y="1447560"/>
            <a:ext cx="75438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文鼎火柴体"/>
              </a:rPr>
              <a:t>音乐欣赏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文鼎火柴体"/>
              <a:ea typeface="文鼎火柴体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524664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259920"/>
            <a:ext cx="5435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、“他诚然孤独，可是有‘永恒’为伴”。这里的“永恒”指什么？如何理解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2135160"/>
            <a:ext cx="496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贝多芬虽因耳聋与人的交流与沟通有困难，但他直接感知人的心灵世界，进而领悟音乐的真谛。朋友会离去，会误解他，但音乐不会，音乐永远陪伴他，音乐成了他忠实的朋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691920"/>
            <a:ext cx="6948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、你理解文末贝多芬说的那几句话的意思吗</a:t>
            </a:r>
            <a:r>
              <a:rPr b="0" lang="zh-CN" sz="2800" spc="-1" strike="noStrike">
                <a:solidFill>
                  <a:srgbClr val="008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42100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贝多芬以他整个生命和热情从事音乐创作，音乐在贝多芬的笔下和心里，已经成为生命的象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音乐只能奏出有声的音符，却不能完美传达心灵的律动和生命的节奏，即贝多芬“心里的音乐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11280" y="54936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6fb25"/>
                </a:solidFill>
                <a:latin typeface="华文新魏"/>
                <a:ea typeface="华文新魏"/>
              </a:rPr>
              <a:t>二、研 读 探 究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651640" y="1557360"/>
            <a:ext cx="3492360" cy="5300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68360" y="4149720"/>
            <a:ext cx="80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6fb25"/>
                </a:solidFill>
                <a:latin typeface="Times New Roman"/>
                <a:ea typeface="黑体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2276640"/>
            <a:ext cx="540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9fe22"/>
                </a:solidFill>
                <a:latin typeface="Times New Roman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勾画关于贝多芬的外貌描写的句子，并说说这些外表的描写反映了贝多芬怎样的内心世界。</a:t>
            </a:r>
            <a:br>
              <a:rPr sz="3600"/>
            </a:b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4000" y="762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1c01"/>
                </a:solidFill>
                <a:latin typeface="Times New Roman"/>
              </a:rPr>
              <a:t>两肩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749160"/>
            <a:ext cx="100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极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3716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1c01"/>
                </a:solidFill>
                <a:latin typeface="Times New Roman"/>
              </a:rPr>
              <a:t>衣服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79720" y="189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65240" y="14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1676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17524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35280" y="13413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陈旧不整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71400" y="22050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1c01"/>
                </a:solidFill>
                <a:latin typeface="Times New Roman"/>
              </a:rPr>
              <a:t>手</a:t>
            </a:r>
            <a:r>
              <a:rPr b="0" lang="en-US" sz="2800" spc="-1" strike="noStrike">
                <a:solidFill>
                  <a:srgbClr val="7f1c01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79640" y="2205000"/>
            <a:ext cx="18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大而有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37339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5040" y="2708280"/>
            <a:ext cx="15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1c01"/>
                </a:solidFill>
                <a:latin typeface="Times New Roman"/>
              </a:rPr>
              <a:t>脸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27082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愁苦和力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3357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1c01"/>
                </a:solidFill>
                <a:latin typeface="Times New Roman"/>
              </a:rPr>
              <a:t>头发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3357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火一样蓬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4221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1c01"/>
                </a:solidFill>
                <a:latin typeface="Times New Roman"/>
              </a:rPr>
              <a:t>眼睛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8000" y="42051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深邃凝重不可逼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49417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1c01"/>
                </a:solidFill>
                <a:latin typeface="Times New Roman"/>
              </a:rPr>
              <a:t>鼻子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8000" y="4941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长而笨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9320" y="55166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1c01"/>
                </a:solidFill>
                <a:latin typeface="Times New Roman"/>
              </a:rPr>
              <a:t>嘴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8000" y="5516640"/>
            <a:ext cx="9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紧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60930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1c01"/>
                </a:solidFill>
                <a:latin typeface="Times New Roman"/>
              </a:rPr>
              <a:t>下颌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8000" y="6078600"/>
            <a:ext cx="9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方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7398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ab0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3ab0f"/>
                </a:solidFill>
                <a:latin typeface="Times New Roman"/>
              </a:rPr>
              <a:t>能挑起整个生命的重荷及命运的担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134136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ab0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3ab0f"/>
                </a:solidFill>
                <a:latin typeface="Times New Roman"/>
              </a:rPr>
              <a:t>浪漫不拘小节，典型  艺术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ab0f"/>
                </a:solidFill>
                <a:latin typeface="Times New Roman"/>
              </a:rPr>
              <a:t>性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2205000"/>
            <a:ext cx="4753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ab0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3ab0f"/>
                </a:solidFill>
                <a:latin typeface="Times New Roman"/>
              </a:rPr>
              <a:t>弹奏出世界最美妙、最动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ab0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3ab0f"/>
                </a:solidFill>
                <a:latin typeface="Times New Roman"/>
              </a:rPr>
              <a:t>的音乐不朽之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ab0f"/>
                </a:solidFill>
                <a:latin typeface="Times New Roman"/>
              </a:rPr>
              <a:t>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32767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7223040" y="3276720"/>
            <a:ext cx="549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3276720"/>
            <a:ext cx="549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36576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08720" y="3068640"/>
            <a:ext cx="2101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ab0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3ab0f"/>
                </a:solidFill>
                <a:latin typeface="Times New Roman"/>
              </a:rPr>
              <a:t>是一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ab0f"/>
                </a:solidFill>
                <a:latin typeface="Times New Roman"/>
              </a:rPr>
              <a:t>刚毅、顽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ab0f"/>
                </a:solidFill>
                <a:latin typeface="Times New Roman"/>
              </a:rPr>
              <a:t>善良、执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ab0f"/>
                </a:solidFill>
                <a:latin typeface="Times New Roman"/>
              </a:rPr>
              <a:t>的人，透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ab0f"/>
                </a:solidFill>
                <a:latin typeface="Times New Roman"/>
              </a:rPr>
              <a:t>坚韧无比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ab0f"/>
                </a:solidFill>
                <a:latin typeface="Times New Roman"/>
              </a:rPr>
              <a:t>生的意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17080" y="1050840"/>
            <a:ext cx="10666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50f28"/>
                </a:solidFill>
                <a:latin typeface="Times New Roman"/>
              </a:rPr>
              <a:t>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50f28"/>
                </a:solidFill>
                <a:latin typeface="Times New Roman"/>
              </a:rPr>
              <a:t>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50f28"/>
                </a:solidFill>
                <a:latin typeface="Times New Roman"/>
              </a:rPr>
              <a:t>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50f28"/>
                </a:solidFill>
                <a:latin typeface="Times New Roman"/>
              </a:rPr>
              <a:t>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3068640"/>
            <a:ext cx="368640" cy="3384720"/>
          </a:xfrm>
          <a:custGeom>
            <a:avLst/>
            <a:gdLst>
              <a:gd name="textAreaLeft" fmla="*/ 0 w 368640"/>
              <a:gd name="textAreaRight" fmla="*/ 133200 w 36864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17080" y="1054080"/>
            <a:ext cx="80640" cy="5111640"/>
          </a:xfrm>
          <a:custGeom>
            <a:avLst/>
            <a:gdLst>
              <a:gd name="textAreaLeft" fmla="*/ 0 w 80640"/>
              <a:gd name="textAreaRight" fmla="*/ 29160 w 80640"/>
              <a:gd name="textAreaTop" fmla="*/ 133200 h 5111640"/>
              <a:gd name="textAreaBottom" fmla="*/ 4978440 h 511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1143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f0532"/>
                </a:solidFill>
                <a:latin typeface="Times New Roman"/>
              </a:rPr>
              <a:t>贝多芬形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360" y="2276640"/>
            <a:ext cx="4859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2284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独立而骄傲，沉郁而坚强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严肃而善良，热爱自然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追求自由，献身音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了本文对贝多芬的形象描写后，你能说说描写人物外貌的要旨是什么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63640" y="1700280"/>
            <a:ext cx="432000" cy="431640"/>
          </a:xfrm>
          <a:custGeom>
            <a:avLst/>
            <a:gdLst>
              <a:gd name="textAreaLeft" fmla="*/ 177840 w 432000"/>
              <a:gd name="textAreaRight" fmla="*/ 254160 w 43200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87640" y="2997360"/>
            <a:ext cx="547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写人物外貌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以形传神   不能面面俱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不能脸谱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469240" y="1752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方正楷体简体"/>
              </a:rPr>
              <a:t>悲惨的命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69240" y="4191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方正楷体简体"/>
              </a:rPr>
              <a:t>经典的音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69240" y="2971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方正楷体简体"/>
              </a:rPr>
              <a:t>坚韧的心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48320" y="2057400"/>
            <a:ext cx="304560" cy="2438280"/>
          </a:xfrm>
          <a:custGeom>
            <a:avLst/>
            <a:gdLst>
              <a:gd name="textAreaLeft" fmla="*/ 0 w 304560"/>
              <a:gd name="textAreaRight" fmla="*/ 109800 w 30456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34800" y="292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音乐巨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295280" y="45720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2286000"/>
            <a:ext cx="6781680" cy="35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耳聋，对平常人是一部分世界的死灭，对音乐家是整个世界的死灭。整个世界死灭了而贝多芬不曾死！并且他重造那已经死灭的世界，重造音响的王国，不但为他自己，而且为着人类。这样一种超生和创造的力，只有自然界里那种无名的、原始的力可以相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                          ——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傅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4114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68360" y="1708200"/>
            <a:ext cx="335268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195640" y="54936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f0532"/>
                </a:solidFill>
                <a:latin typeface="黑体"/>
                <a:ea typeface="黑体"/>
              </a:rPr>
              <a:t>三、拓 展 延 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35280" y="2276640"/>
            <a:ext cx="5264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23fd"/>
                </a:solidFill>
                <a:latin typeface="Times New Roman"/>
                <a:ea typeface="华文行楷"/>
              </a:rPr>
              <a:t>　</a:t>
            </a:r>
            <a:r>
              <a:rPr b="1" lang="zh-CN" sz="3200" spc="-1" strike="noStrike">
                <a:solidFill>
                  <a:srgbClr val="ef0532"/>
                </a:solidFill>
                <a:latin typeface="黑体"/>
                <a:ea typeface="黑体"/>
              </a:rPr>
              <a:t>五分钟人物速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f0532"/>
                </a:solidFill>
                <a:latin typeface="黑体"/>
                <a:ea typeface="黑体"/>
              </a:rPr>
              <a:t>　　选取同班同学，描写外貌，三五十字即可，不提及姓名，文成朗读大家一起猜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710880" y="907920"/>
            <a:ext cx="70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四、走向自我，体悟反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0000" y="2565360"/>
            <a:ext cx="73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ef0532"/>
                </a:solidFill>
                <a:latin typeface="Times New Roman"/>
              </a:rPr>
              <a:t>贝多芬历尽坎坷而又成就斐然的一生给了你怎样的启发，现实生活中你还知道哪些这样的人？当你面对困难时，你会怎样做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627280" y="5949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琥珀"/>
              </a:rPr>
              <a:t>贝多芬画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75800" y="439920"/>
            <a:ext cx="2375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界音乐发展史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一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巨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欧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典乐派的重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人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集大成者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创欧洲浪漫主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乐派先河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著名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曲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以他出众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音乐才华，崇高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格和顽强的毅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世界人民留下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美好的极为深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印象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28600" y="83808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《世界开始对你明亮了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            —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献给风华正茂、斗志昂扬的同学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2286000"/>
            <a:ext cx="7315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980c1d"/>
                </a:solidFill>
                <a:latin typeface="Times New Roman"/>
              </a:rPr>
              <a:t>当你进入生命的春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80c1d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980c1d"/>
                </a:solidFill>
                <a:latin typeface="Times New Roman"/>
              </a:rPr>
              <a:t>世界开始对你明亮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80c1d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980c1d"/>
                </a:solidFill>
                <a:latin typeface="Times New Roman"/>
              </a:rPr>
              <a:t>像一条铺着卵石的小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80c1d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980c1d"/>
                </a:solidFill>
                <a:latin typeface="Times New Roman"/>
              </a:rPr>
              <a:t>吹着叶笛，摇着野花的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80c1d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980c1d"/>
                </a:solidFill>
                <a:latin typeface="Times New Roman"/>
              </a:rPr>
              <a:t>去追逐奔腾的江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80c1d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980c1d"/>
                </a:solidFill>
                <a:latin typeface="Times New Roman"/>
              </a:rPr>
              <a:t>童年的迷惑，天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80c1d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980c1d"/>
                </a:solidFill>
                <a:latin typeface="Times New Roman"/>
              </a:rPr>
              <a:t>让位给勇敢的求知和探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835280" y="1125360"/>
            <a:ext cx="62481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a0a22"/>
                </a:solidFill>
                <a:latin typeface="Times New Roman"/>
              </a:rPr>
              <a:t>人生不再是一部童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a0a22"/>
                </a:solidFill>
                <a:latin typeface="Times New Roman"/>
              </a:rPr>
              <a:t>而是充满现实的酸甜苦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a0a22"/>
                </a:solidFill>
                <a:latin typeface="Times New Roman"/>
              </a:rPr>
              <a:t>你会昂然地迎接这一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a0a22"/>
                </a:solidFill>
                <a:latin typeface="Times New Roman"/>
              </a:rPr>
              <a:t>正如你身上的全部光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a0a22"/>
                </a:solidFill>
                <a:latin typeface="Times New Roman"/>
              </a:rPr>
              <a:t>来自青春的勇气和力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a0a22"/>
                </a:solidFill>
                <a:latin typeface="Times New Roman"/>
              </a:rPr>
              <a:t>啊，没有人去怀疑春天的美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a0a22"/>
                </a:solidFill>
                <a:latin typeface="Times New Roman"/>
              </a:rPr>
              <a:t>只会为春天的虚度而惋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61040" y="1125360"/>
            <a:ext cx="70146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6666"/>
                </a:solidFill>
                <a:latin typeface="Times New Roman"/>
              </a:rPr>
              <a:t>我将扼住命运的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Times New Roman"/>
              </a:rPr>
              <a:t>喉，而不会被命运所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Times New Roman"/>
              </a:rPr>
              <a:t>服。         ——贝多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800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377120" cy="6924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821720" y="259560"/>
            <a:ext cx="6379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第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交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0720" y="3102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075600" y="722304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4479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命运》交响乐是贝多芬的九部交响乐中的最具有代表性、最著名的一部，又称《第五交响乐》，这是一部内容集中、主题鲜明、形象生动、结构严谨的作品，又是一部深受多个层次的欣赏者欢迎的作品。作品各个乐章连贯统一，有密切的内在联系：通过四个乐章一脉相承，表达了“人，只有自觉的团结起来，通过斗争，才能获取胜利”的主题思想。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11:33:52Z</dcterms:created>
  <dc:creator>www.dearedu.com</dc:creator>
  <dc:description>www.dearedu.com</dc:description>
  <cp:keywords>www.dearedu.com</cp:keywords>
  <dc:language>en-US</dc:language>
  <cp:lastModifiedBy>*</cp:lastModifiedBy>
  <dcterms:modified xsi:type="dcterms:W3CDTF">2006-01-01T17:53:08Z</dcterms:modified>
  <cp:revision>8</cp:revision>
  <dc:subject>www.dearedu.com</dc:subject>
  <dc:title>www.dearedu.com</dc:title>
</cp:coreProperties>
</file>