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F4E-17C7-45F0-8075-B356D53F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E18-7772-47B7-AD7D-0C9C64AB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3C4-B621-4FF1-8BF9-46C9F65D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1E5-6AF2-4E96-BF8D-C0979357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51E-0749-4E75-BFA9-DFA6B19A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15C-7BA7-4FF9-96C8-11F79AB7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469-1380-44FE-980D-F6349497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249-EA08-4870-8067-83977904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DD8-0B98-4814-A533-1D6688B1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67D-5A95-4A1B-A110-CCCF330C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606-B721-4AC8-8D02-5BFB1BAC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A0B-1D24-43D0-807F-73DD89C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8BC1-5E40-4AB9-B958-471B46B4B8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vOC4U1l9C5U3x09s_66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Hg8peI1kO7qIx7r_660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yb7W5z2bFXLAoS0u_660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b7K3nc0uXAocGuY7_660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ouY65pSuYN54e0k8_660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EW4mbF8X53RF8iLz_660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0XAoc0viBpTH0k8B_660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53x0aD6g31QEsg5z_6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ctX6A3Svg75pd19Z_66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39thLznR8iM4ocGu_66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l7rV4ma8sWKy1b9X_66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96gJx0Q9g531b9tX_66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a7hKyQ97hLzn08XM_660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CeIw76fJ1P7sVKy_66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Xzb0tXLzo0ugMB3S_66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28440" y="291960"/>
            <a:ext cx="93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r eyes will be filled with a joy so deep that they shine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的眼眸会被深刻的喜悦充满而闪闪发光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89000"/>
            <a:ext cx="95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run so fast and so far your heart will feel like fire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飞快地奔跑，感受心的悦动如同火焰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260280"/>
            <a:ext cx="89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swing high so high, higher than you ever dared to swing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荡起秋千，越来越高，前所未有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89000"/>
            <a:ext cx="88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hear something so sad that you will fold up with sorrow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因为那些忧伤的事，而被苦痛包围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160920"/>
            <a:ext cx="86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call a song to the wind,and the wind will carry your song away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在风中大声歌唱，让歌声随风而逝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97560"/>
            <a:ext cx="849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I will stand on this porch and watch your arms waving to me until I no longer see you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我会站在门廊，眺望你向我挥动的手臂，渐行渐远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307080"/>
            <a:ext cx="849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look at this house and wonder how something that feels so big can look so small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望着我们的家，诧异记忆中它的巨大，和此刻看起来的渺小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40640" y="290520"/>
            <a:ext cx="73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feel a small weight against your strong back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感受到坚强的脊背上所担负着的小小重量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0200" y="290520"/>
            <a:ext cx="627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I will watch you brushing your child's hair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我会看到你给你的孩子梳头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4000" y="16668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,a long time from now,your own hair will glow silver in the sun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在很久很久的以后，你的头发也会在阳光下闪烁银光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02720" y="219240"/>
            <a:ext cx="651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And when that day comes,love,you will remember me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当那天到来的时候，我的爱，你会记起我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2960" y="290520"/>
            <a:ext cx="62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One day I counted your fingers and kissed each one.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那一天，我数算你的手指，轻轻把它们亲遍。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818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One day the first snowflakes fell,and I held you up and watched them melt on your baby skin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那一天，初雪飘落，我把你高高举起，看雪花在你柔软的肌肤上融化。 （安妮宝贝）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355680"/>
            <a:ext cx="87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One day,we crossed  the street,and your held my hand tight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那一天，我们一起穿过街道，你紧紧抓住我的手。 （安妮宝贝）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290520"/>
            <a:ext cx="80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Then ,you were my baby,and now you are my child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曾经，你是我的婴孩；现在，你是我的女童。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8000" y="2905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times,When you sleep, I watch your dream,and I dream too....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时，当你睡着，看着你入梦，我也开始畅想……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9280" y="290520"/>
            <a:ext cx="878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That someday you will dive into the cool,clear water of a lake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跃入一面冰凉清澈的湖水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219240"/>
            <a:ext cx="66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walk into a deep wood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独自走进一座幽密的森林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8:59:55Z</dcterms:created>
  <dc:creator>雨林木风</dc:creator>
  <dc:description/>
  <dc:language>en-US</dc:language>
  <cp:lastModifiedBy>雨林木风</cp:lastModifiedBy>
  <dcterms:modified xsi:type="dcterms:W3CDTF">2012-02-08T09:11:41Z</dcterms:modified>
  <cp:revision>2</cp:revision>
  <dc:subject/>
  <dc:title>幻灯片 1</dc:title>
</cp:coreProperties>
</file>