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97C-1D6A-4AB4-B13D-A0BC68D6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F8B-9DCD-4A4C-96BB-2AA9990E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D7E-E583-4868-8DE6-691D47E7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7CD-B884-482D-B26C-45CF2EB6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AA9D-477E-4A02-B866-ED8052E3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E17F-35F8-4EC3-A542-6FEED896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2154-B420-4149-9734-42A8445A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DB01-41FE-455A-9F40-2CDE8FA3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1BC0-0C44-4B80-B6AD-E0E60656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0CDA-5604-4BFD-A7B2-6E2D2EA9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F64F-1A3D-4183-AE9E-58DE9A8C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D6D-C6D8-4DF3-B6F6-E2F28522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8089-7D95-4288-83D4-59F96DE7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8687-E6D5-4668-8020-F724340B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6BB5-802B-434D-BA4A-8C50FF49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CBF7-D7F4-4218-A0CF-F110958D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483D-767D-4DF0-BD52-35B288FB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9FF7-C0A8-465F-BA21-A2F75DD2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667C-B136-4F2B-A547-C641713B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3329-6499-4726-AB4A-50F9F3B3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884E-EFC5-40F2-B7BA-A2315CA0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D4C0A-F8A0-46C5-94C1-1DF3ED12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847-91D0-40BE-ADF0-0C312498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398F1-7F23-4CED-9AC7-4F73EE3B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BC65-1CCF-411A-8096-6427BE6B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01D1-0BC2-4166-9BC2-7310E408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865CE-6F06-4E35-B97A-54D3DA17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E2A9D-E0DA-4358-8134-F6E15B7E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2999D-D903-4D6E-AB0B-4C705612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C798A-D034-480B-B5DE-E4513277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0CD-3D3A-4E23-A68E-F2E81ED5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B12-B5E1-4DC7-BEE8-23730106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820-AEC1-4E27-B827-2BD6CE5F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07D-49F5-4359-9B07-A80D558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C2D-A1F9-47A8-8D0B-8442DDD4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95A-A3F5-4F51-84BD-8E7C9977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组2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文本框2"/>
            <p:cNvSpPr/>
            <p:nvPr/>
          </p:nvSpPr>
          <p:spPr>
            <a:xfrm>
              <a:off x="0" y="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4" name="组1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4280"/>
              <a:ext cx="4572000" cy="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文本框1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600200" indent="-228600">
              <a:buClr>
                <a:srgbClr val="8b7396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2057400" indent="-228600"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1B27-3ADD-4534-A009-D81EB0329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600200" indent="-228600">
              <a:buClr>
                <a:srgbClr val="8b7396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2057400" indent="-228600"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BDA-3DFD-4E38-AC6E-47B7EAD05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600200" indent="-228600">
              <a:buClr>
                <a:srgbClr val="8b7396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2057400" indent="-228600"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53D0-1751-473F-9194-A9783ABFA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72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1b36"/>
                </a:solidFill>
                <a:latin typeface="Maiandra GD"/>
              </a:rPr>
              <a:t>幼儿园消防安全知识课件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7240" y="2637000"/>
            <a:ext cx="667080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mbria"/>
            </a:endParaRPr>
          </a:p>
        </p:txBody>
      </p:sp>
      <p:sp>
        <p:nvSpPr>
          <p:cNvPr id="133" name="文本框1"/>
          <p:cNvSpPr/>
          <p:nvPr/>
        </p:nvSpPr>
        <p:spPr>
          <a:xfrm>
            <a:off x="4606920" y="5238720"/>
            <a:ext cx="4537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东坡小编编辑整理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d2ffff"/>
                </a:solidFill>
                <a:uFillTx/>
                <a:latin typeface="Arial"/>
              </a:rPr>
              <a:t>                                        </a:t>
            </a: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讨论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sngStrike" u="sng">
                <a:solidFill>
                  <a:srgbClr val="d2ffff"/>
                </a:solidFill>
                <a:uFillTx/>
                <a:latin typeface="Arial"/>
              </a:rPr>
              <a:t>4</a:t>
            </a:r>
            <a:r>
              <a:rPr b="1" i="1" lang="zh-CN" sz="2700" spc="-1" strike="sngStrike" u="sng">
                <a:solidFill>
                  <a:srgbClr val="d2ffff"/>
                </a:solidFill>
                <a:uFillTx/>
                <a:latin typeface="Arial"/>
              </a:rPr>
              <a:t>、遇火灾不可乘坐电梯，要向安全出口方向逃生；</a:t>
            </a:r>
            <a:endParaRPr b="1" i="1" lang="en-US" sz="27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sngStrike" u="sng">
                <a:solidFill>
                  <a:srgbClr val="d2ffff"/>
                </a:solidFill>
                <a:uFillTx/>
                <a:latin typeface="Arial"/>
              </a:rPr>
              <a:t>5</a:t>
            </a:r>
            <a:r>
              <a:rPr b="1" i="1" lang="zh-CN" sz="2700" spc="-1" strike="sngStrike" u="sng">
                <a:solidFill>
                  <a:srgbClr val="d2ffff"/>
                </a:solidFill>
                <a:uFillTx/>
                <a:latin typeface="Arial"/>
              </a:rPr>
              <a:t>、千万不要盲目跳楼，可利用疏散楼梯、阳台、排水管等逃生，或把床单、被套撕成条状连成绳索，紧栓在窗框、铁栏杆等固定物上，顺绳滑下，或下到未着火的楼层脱离险境；</a:t>
            </a:r>
            <a:endParaRPr b="1" i="1" lang="en-US" sz="27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sngStrike" u="sng">
                <a:solidFill>
                  <a:srgbClr val="d2ffff"/>
                </a:solidFill>
                <a:uFillTx/>
                <a:latin typeface="Arial"/>
              </a:rPr>
              <a:t>6</a:t>
            </a:r>
            <a:r>
              <a:rPr b="1" i="1" lang="zh-CN" sz="2700" spc="-1" strike="sngStrike" u="sng">
                <a:solidFill>
                  <a:srgbClr val="d2ffff"/>
                </a:solidFill>
                <a:uFillTx/>
                <a:latin typeface="Arial"/>
              </a:rPr>
              <a:t>、若逃生之路被火封锁，在无奈的情况下，退回室内，最好在卫生间关闭门窗，不断向门窗浇水；</a:t>
            </a:r>
            <a:endParaRPr b="1" i="1" lang="en-US" sz="27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sngStrike" u="sng">
                <a:solidFill>
                  <a:srgbClr val="d2ffff"/>
                </a:solidFill>
                <a:uFillTx/>
                <a:latin typeface="Arial"/>
              </a:rPr>
              <a:t>7</a:t>
            </a:r>
            <a:r>
              <a:rPr b="1" i="1" lang="zh-CN" sz="2700" spc="-1" strike="sngStrike" u="sng">
                <a:solidFill>
                  <a:srgbClr val="d2ffff"/>
                </a:solidFill>
                <a:uFillTx/>
                <a:latin typeface="Arial"/>
              </a:rPr>
              <a:t>、充分利用阳台、天窗等进行自救；</a:t>
            </a:r>
            <a:endParaRPr b="1" i="1" lang="en-US" sz="27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sngStrike" u="sng">
                <a:solidFill>
                  <a:srgbClr val="d2ffff"/>
                </a:solidFill>
                <a:uFillTx/>
                <a:latin typeface="Arial"/>
              </a:rPr>
              <a:t>8</a:t>
            </a:r>
            <a:r>
              <a:rPr b="1" i="1" lang="zh-CN" sz="2700" spc="-1" strike="sngStrike" u="sng">
                <a:solidFill>
                  <a:srgbClr val="d2ffff"/>
                </a:solidFill>
                <a:uFillTx/>
                <a:latin typeface="Arial"/>
              </a:rPr>
              <a:t>、处在高层建筑被火围困时，要赶快向室外抛沙发垫、枕头等小物品，夜间则打手电，发出求救信号。</a:t>
            </a:r>
            <a:endParaRPr b="1" i="1" lang="en-US" sz="27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7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d2ffff"/>
                </a:solidFill>
                <a:uFillTx/>
                <a:latin typeface="Arial"/>
              </a:rPr>
              <a:t>                                        </a:t>
            </a: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游戏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d2ffff"/>
                </a:solidFill>
                <a:uFillTx/>
                <a:latin typeface="Arial"/>
              </a:rPr>
              <a:t>1</a:t>
            </a: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、可将幼儿分为男女两方，提问问题，幼儿迅速且较完整的说出想法，答对的一方可奖一份小礼物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小朋友，打火机能玩吗？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肯定不能玩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20728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这是什么？对！灭火器。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5364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灭火器用来做什么？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691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认识安全标示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6000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认识安全标示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290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消防安全图片教育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9640" y="163440"/>
            <a:ext cx="73422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28036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39560" y="692280"/>
            <a:ext cx="7517160" cy="49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人类的生存和发展离不开火，它给人类带来了文明和幸福，但同时火也给人类带来巨大的灾难。火一旦失去控制，就会烧毁人类的财富，夺去人们的健康乃至生命，造成难以挽回和弥补的损失。例如：在我们的身边就有火灾发生，因此我们要了解、学习和掌握防火知识，协助学校做好防火工作，减少和杜绝火灾的发生是非常必要的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143080" y="1614600"/>
            <a:ext cx="48578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409680" y="333360"/>
            <a:ext cx="74754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49360" y="620640"/>
            <a:ext cx="649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611280" y="133200"/>
            <a:ext cx="676908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39640" y="414360"/>
            <a:ext cx="650412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539640" y="236520"/>
            <a:ext cx="698508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68976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611280" y="371520"/>
            <a:ext cx="623736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30040" y="476280"/>
            <a:ext cx="6723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20760" y="476280"/>
            <a:ext cx="67611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d2ffff"/>
                </a:solidFill>
                <a:uFillTx/>
                <a:latin typeface="Arial"/>
              </a:rPr>
              <a:t>                                        </a:t>
            </a: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教学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［活动目标］ </a:t>
            </a:r>
            <a:br>
              <a:rPr sz="3200"/>
            </a:b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　　</a:t>
            </a:r>
            <a:r>
              <a:rPr b="1" i="1" lang="en-US" sz="3200" spc="-1" strike="sngStrike" u="sng">
                <a:solidFill>
                  <a:srgbClr val="d2ffff"/>
                </a:solidFill>
                <a:uFillTx/>
                <a:latin typeface="Arial"/>
              </a:rPr>
              <a:t>1</a:t>
            </a: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、解简单的防火知识，增强自我保护意识，学习火灾自救的方法。 </a:t>
            </a:r>
            <a:br>
              <a:rPr sz="3200"/>
            </a:b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　　</a:t>
            </a:r>
            <a:r>
              <a:rPr b="1" i="1" lang="en-US" sz="3200" spc="-1" strike="sngStrike" u="sng">
                <a:solidFill>
                  <a:srgbClr val="d2ffff"/>
                </a:solidFill>
                <a:uFillTx/>
                <a:latin typeface="Arial"/>
              </a:rPr>
              <a:t>2</a:t>
            </a: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、培养幼儿思考问题、解决问题的能力及快速应答能力。 </a:t>
            </a:r>
            <a:br>
              <a:rPr sz="3200"/>
            </a:b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　　</a:t>
            </a:r>
            <a:r>
              <a:rPr b="1" i="1" lang="en-US" sz="3200" spc="-1" strike="sngStrike" u="sng">
                <a:solidFill>
                  <a:srgbClr val="d2ffff"/>
                </a:solidFill>
                <a:uFillTx/>
                <a:latin typeface="Arial"/>
              </a:rPr>
              <a:t>3</a:t>
            </a: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、锻炼幼儿遇事不慌、不怕危险困难的勇敢精神，能够保护自身安全。 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6904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69960" y="404640"/>
            <a:ext cx="71420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90520" y="333360"/>
            <a:ext cx="716112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68360" y="519120"/>
            <a:ext cx="77389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d2ffff"/>
                </a:solidFill>
                <a:uFillTx/>
                <a:latin typeface="Arial"/>
              </a:rPr>
              <a:t>                                          </a:t>
            </a: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讨论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除了以上的情况外，最主要还要干什么？（引导幼儿说出火警号码，并记忆。）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d2ffff"/>
                </a:solidFill>
                <a:uFillTx/>
                <a:latin typeface="Arial"/>
              </a:rPr>
              <a:t>  </a:t>
            </a: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还有那个小朋友知道别的特殊号码？例如：匪警  </a:t>
            </a:r>
            <a:r>
              <a:rPr b="1" i="1" lang="en-US" sz="3200" spc="-1" strike="sngStrike" u="sng">
                <a:solidFill>
                  <a:srgbClr val="d2ffff"/>
                </a:solidFill>
                <a:uFillTx/>
                <a:latin typeface="Arial"/>
              </a:rPr>
              <a:t>110    </a:t>
            </a: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急救   </a:t>
            </a:r>
            <a:r>
              <a:rPr b="1" i="1" lang="en-US" sz="3200" spc="-1" strike="sngStrike" u="sng">
                <a:solidFill>
                  <a:srgbClr val="d2ffff"/>
                </a:solidFill>
                <a:uFillTx/>
                <a:latin typeface="Arial"/>
              </a:rPr>
              <a:t>120 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sngStrike" u="sng">
                <a:solidFill>
                  <a:srgbClr val="d2ffff"/>
                </a:solidFill>
                <a:uFillTx/>
                <a:latin typeface="Arial"/>
              </a:rPr>
              <a:t>110   </a:t>
            </a:r>
            <a:r>
              <a:rPr b="1" i="1" lang="zh-CN" sz="7200" spc="-1" strike="sngStrike" u="sng">
                <a:solidFill>
                  <a:srgbClr val="d2ffff"/>
                </a:solidFill>
                <a:uFillTx/>
                <a:latin typeface="Arial"/>
              </a:rPr>
              <a:t>报警</a:t>
            </a:r>
            <a:endParaRPr b="1" i="1" lang="en-US" sz="7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sngStrike" u="sng">
                <a:solidFill>
                  <a:srgbClr val="d2ffff"/>
                </a:solidFill>
                <a:uFillTx/>
                <a:latin typeface="Arial"/>
              </a:rPr>
              <a:t>119   </a:t>
            </a:r>
            <a:r>
              <a:rPr b="1" i="1" lang="zh-CN" sz="7200" spc="-1" strike="sngStrike" u="sng">
                <a:solidFill>
                  <a:srgbClr val="d2ffff"/>
                </a:solidFill>
                <a:uFillTx/>
                <a:latin typeface="Arial"/>
              </a:rPr>
              <a:t>火警</a:t>
            </a:r>
            <a:endParaRPr b="1" i="1" lang="en-US" sz="7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sngStrike" u="sng">
                <a:solidFill>
                  <a:srgbClr val="d2ffff"/>
                </a:solidFill>
                <a:uFillTx/>
                <a:latin typeface="Arial"/>
              </a:rPr>
              <a:t>120   </a:t>
            </a:r>
            <a:r>
              <a:rPr b="1" i="1" lang="zh-CN" sz="7200" spc="-1" strike="sngStrike" u="sng">
                <a:solidFill>
                  <a:srgbClr val="d2ffff"/>
                </a:solidFill>
                <a:uFillTx/>
                <a:latin typeface="Arial"/>
              </a:rPr>
              <a:t>急救</a:t>
            </a:r>
            <a:endParaRPr b="1" i="1" lang="en-US" sz="7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684360" y="444600"/>
            <a:ext cx="6708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d2ffff"/>
                </a:solidFill>
                <a:uFillTx/>
                <a:latin typeface="Arial"/>
              </a:rPr>
              <a:t>                                        </a:t>
            </a: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游戏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d2ffff"/>
                </a:solidFill>
                <a:uFillTx/>
                <a:latin typeface="Arial"/>
              </a:rPr>
              <a:t>2</a:t>
            </a: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、进行火灾演练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规则：中一班小朋友按小饭桌区域分成</a:t>
            </a:r>
            <a:r>
              <a:rPr b="1" i="1" lang="en-US" sz="3200" spc="-1" strike="sngStrike" u="sng">
                <a:solidFill>
                  <a:srgbClr val="d2ffff"/>
                </a:solidFill>
                <a:uFillTx/>
                <a:latin typeface="Arial"/>
              </a:rPr>
              <a:t>6</a:t>
            </a: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组，假设突发火灾，火灾现场烟雾很重，教师发出着火的警示，要求小朋友们按组排序到卫生间迅速找自己的小毛巾打湿后捂嘴，在老师指引下，按安全指示牌的指引沿中一班教室墙角匍匐前进，进行逃生训练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55640" y="496800"/>
            <a:ext cx="684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121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sngStrike" u="sng">
                <a:solidFill>
                  <a:srgbClr val="d2ffff"/>
                </a:solidFill>
                <a:uFillTx/>
                <a:latin typeface="Arial"/>
              </a:rPr>
              <a:t>火</a:t>
            </a:r>
            <a:endParaRPr b="1" i="1" lang="en-US" sz="7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39" name="Picture 2" descr="C:\Documents and Settings\Administrator\桌面\近期主要安全工作\u=4276914326,2988282585&amp;fm=0&amp;gp=0.jpg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d2ffff"/>
                </a:solidFill>
                <a:uFillTx/>
                <a:latin typeface="Arial"/>
              </a:rPr>
              <a:t>                                         </a:t>
            </a: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小结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通过这堂课，小朋友学会了什么？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生命成可贵，安全价更高。火灾防患于未然，只有懂得如何去防范才能使我们的生存环境更加安全。希望通过这次的防火安全教育班会使小朋友们提高安全警惕，增强防火意识，掌握防火自救技能，消防意识永留心间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到此结束！谢谢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71360" y="1499760"/>
            <a:ext cx="70722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0" spc="-1" strike="sngStrike" u="sng">
                <a:solidFill>
                  <a:srgbClr val="d2ffff"/>
                </a:solidFill>
                <a:uFillTx/>
                <a:latin typeface="黑体"/>
              </a:rPr>
              <a:t>安全消防</a:t>
            </a:r>
            <a:r>
              <a:rPr b="1" i="1" lang="en-US" sz="12000" spc="-1" strike="sngStrike" u="sng">
                <a:solidFill>
                  <a:srgbClr val="d2ffff"/>
                </a:solidFill>
                <a:uFillTx/>
                <a:latin typeface="黑体"/>
              </a:rPr>
              <a:t>!</a:t>
            </a:r>
            <a:endParaRPr b="1" i="1" lang="en-US" sz="1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0" spc="-1" strike="sngStrike" u="sng">
                <a:solidFill>
                  <a:srgbClr val="d2ffff"/>
                </a:solidFill>
                <a:uFillTx/>
                <a:latin typeface="黑体"/>
              </a:rPr>
              <a:t>人人有责</a:t>
            </a:r>
            <a:r>
              <a:rPr b="1" i="1" lang="en-US" sz="12000" spc="-1" strike="sngStrike" u="sng">
                <a:solidFill>
                  <a:srgbClr val="d2ffff"/>
                </a:solidFill>
                <a:uFillTx/>
                <a:latin typeface="黑体"/>
              </a:rPr>
              <a:t>!</a:t>
            </a:r>
            <a:endParaRPr b="1" i="1" lang="en-US" sz="1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d2ffff"/>
                </a:solidFill>
                <a:uFillTx/>
                <a:latin typeface="Arial"/>
              </a:rPr>
              <a:t>                                        </a:t>
            </a: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教学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d2ffff"/>
                </a:solidFill>
                <a:uFillTx/>
                <a:latin typeface="Arial"/>
              </a:rPr>
              <a:t>2</a:t>
            </a: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、知道了火能发光发热，组织幼儿讨论火的用途和危害。 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（</a:t>
            </a:r>
            <a:r>
              <a:rPr b="1" i="1" lang="en-US" sz="3200" spc="-1" strike="sngStrike" u="sng">
                <a:solidFill>
                  <a:srgbClr val="d2ffff"/>
                </a:solidFill>
                <a:uFillTx/>
                <a:latin typeface="Arial"/>
              </a:rPr>
              <a:t>1</a:t>
            </a: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） 我们的生活中离不开火，请幼儿说出火的用途。（烧饭、取暖、照明等） 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（</a:t>
            </a:r>
            <a:r>
              <a:rPr b="1" i="1" lang="en-US" sz="3200" spc="-1" strike="sngStrike" u="sng">
                <a:solidFill>
                  <a:srgbClr val="d2ffff"/>
                </a:solidFill>
                <a:uFillTx/>
                <a:latin typeface="Arial"/>
              </a:rPr>
              <a:t>2</a:t>
            </a:r>
            <a:r>
              <a:rPr b="1" i="1" lang="zh-CN" sz="3200" spc="-1" strike="sngStrike" u="sng">
                <a:solidFill>
                  <a:srgbClr val="d2ffff"/>
                </a:solidFill>
                <a:uFillTx/>
                <a:latin typeface="Arial"/>
              </a:rPr>
              <a:t>） 火对人类有什么危害？（烧伤皮肤、烧毁财物、房屋、森林等） 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火灾后的图片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913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火灾现场照片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755640" y="1611360"/>
            <a:ext cx="6696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玩火烧伤的图片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755640" y="1217520"/>
            <a:ext cx="604836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d2ffff"/>
                </a:solidFill>
                <a:uFillTx/>
                <a:latin typeface="Arial"/>
              </a:rPr>
              <a:t>                                      </a:t>
            </a:r>
            <a:r>
              <a:rPr b="1" i="1" lang="zh-CN" sz="4400" spc="-1" strike="sngStrike" u="sng">
                <a:solidFill>
                  <a:srgbClr val="d2ffff"/>
                </a:solidFill>
                <a:uFillTx/>
                <a:latin typeface="Arial"/>
              </a:rPr>
              <a:t>讨论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sngStrike" u="sng">
                <a:solidFill>
                  <a:srgbClr val="d2ffff"/>
                </a:solidFill>
                <a:uFillTx/>
                <a:latin typeface="Arial"/>
              </a:rPr>
              <a:t>小朋友们，你们遇到火灾发生时会怎么办？如何进行逃生？（幼儿自由讨论，发挥幼儿的想象。）</a:t>
            </a:r>
            <a:endParaRPr b="1" i="1" lang="en-US" sz="3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sngStrike" u="sng">
                <a:solidFill>
                  <a:srgbClr val="d2ffff"/>
                </a:solidFill>
                <a:uFillTx/>
                <a:latin typeface="Arial"/>
              </a:rPr>
              <a:t>1</a:t>
            </a:r>
            <a:r>
              <a:rPr b="1" i="1" lang="zh-CN" sz="3000" spc="-1" strike="sngStrike" u="sng">
                <a:solidFill>
                  <a:srgbClr val="d2ffff"/>
                </a:solidFill>
                <a:uFillTx/>
                <a:latin typeface="Arial"/>
              </a:rPr>
              <a:t>、火灾时不能钻到阁楼、床底、大橱柜内。火势不大时，要披上浸湿的衣服向外冲；</a:t>
            </a:r>
            <a:endParaRPr b="1" i="1" lang="en-US" sz="3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sngStrike" u="sng">
                <a:solidFill>
                  <a:srgbClr val="d2ffff"/>
                </a:solidFill>
                <a:uFillTx/>
                <a:latin typeface="Arial"/>
              </a:rPr>
              <a:t>2</a:t>
            </a:r>
            <a:r>
              <a:rPr b="1" i="1" lang="zh-CN" sz="3000" spc="-1" strike="sngStrike" u="sng">
                <a:solidFill>
                  <a:srgbClr val="d2ffff"/>
                </a:solidFill>
                <a:uFillTx/>
                <a:latin typeface="Arial"/>
              </a:rPr>
              <a:t>、浓烟弥漫时，用湿毛巾捂住嘴巴和鼻子，压低身子，手、肘、膝盖要紧靠地面，沿墙壁边缘爬行逃生；</a:t>
            </a:r>
            <a:endParaRPr b="1" i="1" lang="en-US" sz="3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sngStrike" u="sng">
                <a:solidFill>
                  <a:srgbClr val="d2ffff"/>
                </a:solidFill>
                <a:uFillTx/>
                <a:latin typeface="Arial"/>
              </a:rPr>
              <a:t>3</a:t>
            </a:r>
            <a:r>
              <a:rPr b="1" i="1" lang="zh-CN" sz="3000" spc="-1" strike="sngStrike" u="sng">
                <a:solidFill>
                  <a:srgbClr val="d2ffff"/>
                </a:solidFill>
                <a:uFillTx/>
                <a:latin typeface="Arial"/>
              </a:rPr>
              <a:t>、若身上已着火不可乱跑，要就地打滚使火熄灭；</a:t>
            </a:r>
            <a:endParaRPr b="1" i="1" lang="en-US" sz="3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09:18:29Z</dcterms:created>
  <dc:creator>吴腾飞</dc:creator>
  <dc:description/>
  <dc:language>en-US</dc:language>
  <cp:lastModifiedBy/>
  <dcterms:modified xsi:type="dcterms:W3CDTF">2015-09-17T07:25:31Z</dcterms:modified>
  <cp:revision>0</cp:revision>
  <dc:subject/>
  <dc:title>幼儿园消防安全课件</dc:title>
</cp:coreProperties>
</file>