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chimes.wav" ContentType="audio/x-wav"/>
  <Override PartName="/ppt/media/image14.jpeg" ContentType="image/jpeg"/>
  <Override PartName="/ppt/media/image8.png" ContentType="image/png"/>
  <Override PartName="/ppt/media/image5.gif" ContentType="image/gif"/>
  <Override PartName="/ppt/media/image28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11.jpeg" ContentType="image/jpeg"/>
  <Override PartName="/ppt/media/image29.jpeg" ContentType="image/jpeg"/>
  <Override PartName="/ppt/media/type.wav" ContentType="audio/x-wav"/>
  <Override PartName="/ppt/media/image31.jpeg" ContentType="image/jpeg"/>
  <Override PartName="/ppt/media/image2.png" ContentType="image/png"/>
  <Override PartName="/ppt/media/image25.jpeg" ContentType="image/jpeg"/>
  <Override PartName="/ppt/media/image16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.gif" ContentType="image/gif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9DB-BB93-4B5F-ABB6-2FA3560C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A0F-EA4E-48CC-A62E-2E4B275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A67-A192-4D25-97B6-F8B36B3C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B96-DF2A-44F9-AABF-EDA8D12C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04E-45A7-45AB-8AA6-39A26268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7C8-B36E-49C3-8AA4-C8DBE3C2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AE1-9727-4074-AE62-C94825C5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B78-7B8E-4996-A07A-2A2C9F47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F7C-2660-4EAF-9D1A-9950253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BD6-16CC-4889-95F7-49EE84A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8E9-9ABD-4EDA-BCF4-9627CA8A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082-12E8-4262-AF21-358C92F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3A78-D3A2-4967-AAD6-4CF312ABB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10926143455988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背景"/>
          <p:cNvPicPr/>
          <p:nvPr/>
        </p:nvPicPr>
        <p:blipFill>
          <a:blip r:embed="rId2"/>
          <a:srcRect l="65001" t="52222" r="12499" b="15556"/>
          <a:stretch/>
        </p:blipFill>
        <p:spPr>
          <a:xfrm>
            <a:off x="0" y="2276640"/>
            <a:ext cx="2195640" cy="458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ZNZS"/>
          <p:cNvPicPr/>
          <p:nvPr/>
        </p:nvPicPr>
        <p:blipFill>
          <a:blip r:embed="rId3"/>
          <a:stretch/>
        </p:blipFill>
        <p:spPr>
          <a:xfrm>
            <a:off x="8172360" y="-316080"/>
            <a:ext cx="1189080" cy="13417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1835280" y="765000"/>
            <a:ext cx="6264000" cy="865440"/>
          </a:xfrm>
          <a:prstGeom prst="wedgeRoundRectCallout">
            <a:avLst>
              <a:gd name="adj1" fmla="val 42902"/>
              <a:gd name="adj2" fmla="val 226148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一年级的小学生了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举手"/>
          <p:cNvPicPr/>
          <p:nvPr/>
        </p:nvPicPr>
        <p:blipFill>
          <a:blip r:embed="rId1"/>
          <a:stretch/>
        </p:blipFill>
        <p:spPr>
          <a:xfrm>
            <a:off x="0" y="0"/>
            <a:ext cx="5651640" cy="4054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859280" y="3908520"/>
            <a:ext cx="4284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专心听讲纪律好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积极发言勤思考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懂难题举手问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堂知识我掌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25840" y="4365720"/>
            <a:ext cx="79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95280" y="443700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发言，先举手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起立站直再开口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入学教育4"/>
          <p:cNvPicPr/>
          <p:nvPr/>
        </p:nvPicPr>
        <p:blipFill>
          <a:blip r:embed="rId1"/>
          <a:stretch/>
        </p:blipFill>
        <p:spPr>
          <a:xfrm>
            <a:off x="0" y="0"/>
            <a:ext cx="529272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入学教育5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5580000" y="0"/>
            <a:ext cx="309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儿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字、读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姿势要端正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眼离书本一尺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手离笔尖一寸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胸离桌子一拳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脚放平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脚踏实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508720" y="3645000"/>
            <a:ext cx="363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写字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拿出铅笔，垫好垫板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放正桌椅，摆正书本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挺身坐直，胸口一拳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左手按纸，右手拿笔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一捏二靠，三查一寸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头正肩平，眼离一尺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准备完成，认真写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课上做作业"/>
          <p:cNvPicPr/>
          <p:nvPr/>
        </p:nvPicPr>
        <p:blipFill>
          <a:blip r:embed="rId1"/>
          <a:stretch/>
        </p:blipFill>
        <p:spPr>
          <a:xfrm>
            <a:off x="0" y="1268280"/>
            <a:ext cx="5508720" cy="5589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867280" y="1844640"/>
            <a:ext cx="3095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朋友，做作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室里面静悄悄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朋友，懂礼貌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吵不闹也不叫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走起路来轻又轻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进屋谁也不知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写字1"/>
          <p:cNvPicPr/>
          <p:nvPr/>
        </p:nvPicPr>
        <p:blipFill>
          <a:blip r:embed="rId2"/>
          <a:stretch/>
        </p:blipFill>
        <p:spPr>
          <a:xfrm>
            <a:off x="0" y="0"/>
            <a:ext cx="5508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上下楼梯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826920" y="5013360"/>
            <a:ext cx="78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上下楼梯靠右走，不拥挤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入学教育3"/>
          <p:cNvPicPr/>
          <p:nvPr/>
        </p:nvPicPr>
        <p:blipFill>
          <a:blip r:embed="rId1"/>
          <a:stretch/>
        </p:blipFill>
        <p:spPr>
          <a:xfrm>
            <a:off x="0" y="0"/>
            <a:ext cx="4427640" cy="3789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课间活动"/>
          <p:cNvPicPr/>
          <p:nvPr/>
        </p:nvPicPr>
        <p:blipFill>
          <a:blip r:embed="rId2"/>
          <a:stretch/>
        </p:blipFill>
        <p:spPr>
          <a:xfrm>
            <a:off x="4427640" y="0"/>
            <a:ext cx="4608360" cy="3789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0" y="38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课后先去厕所。课间活动不追不打不闹，不踩草地、不攀树等，不玩危险的游戏。玩正当的游戏。如：排皮球、跳绳、踢毽球、下象棋、捉捉迷藏、丢手绢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入学教育3"/>
          <p:cNvPicPr/>
          <p:nvPr/>
        </p:nvPicPr>
        <p:blipFill>
          <a:blip r:embed="rId1"/>
          <a:stretch/>
        </p:blipFill>
        <p:spPr>
          <a:xfrm>
            <a:off x="0" y="0"/>
            <a:ext cx="4427640" cy="450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课间活动"/>
          <p:cNvPicPr/>
          <p:nvPr/>
        </p:nvPicPr>
        <p:blipFill>
          <a:blip r:embed="rId2"/>
          <a:stretch/>
        </p:blipFill>
        <p:spPr>
          <a:xfrm>
            <a:off x="4427640" y="0"/>
            <a:ext cx="4608360" cy="4508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362560" y="4365720"/>
            <a:ext cx="79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0920" y="4581360"/>
            <a:ext cx="8208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间玩耍要当心，文明休息不喊叫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教学楼内不奔跑，互助友爱不争吵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排队3_new"/>
          <p:cNvPicPr/>
          <p:nvPr/>
        </p:nvPicPr>
        <p:blipFill>
          <a:blip r:embed="rId1"/>
          <a:stretch/>
        </p:blipFill>
        <p:spPr>
          <a:xfrm>
            <a:off x="0" y="0"/>
            <a:ext cx="4932360" cy="335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"/>
          <p:cNvPicPr/>
          <p:nvPr/>
        </p:nvPicPr>
        <p:blipFill>
          <a:blip r:embed="rId2"/>
          <a:stretch/>
        </p:blipFill>
        <p:spPr>
          <a:xfrm>
            <a:off x="0" y="3429000"/>
            <a:ext cx="493236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5292720" y="189000"/>
            <a:ext cx="38512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排队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快静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个动作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条直线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声不响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做操排队"/>
          <p:cNvPicPr/>
          <p:nvPr/>
        </p:nvPicPr>
        <p:blipFill>
          <a:blip r:embed="rId1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做操1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做操"/>
          <p:cNvPicPr/>
          <p:nvPr/>
        </p:nvPicPr>
        <p:blipFill>
          <a:blip r:embed="rId3"/>
          <a:stretch/>
        </p:blipFill>
        <p:spPr>
          <a:xfrm>
            <a:off x="0" y="3141720"/>
            <a:ext cx="5754600" cy="3716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940360" y="3357720"/>
            <a:ext cx="295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做操时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排好队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队列整齐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听指挥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做眼保健操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900000" y="5805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眼保操，认真做，保护视力我最棒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611280" y="4724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放学排队中间不打闹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673870_399492"/>
          <p:cNvPicPr/>
          <p:nvPr/>
        </p:nvPicPr>
        <p:blipFill>
          <a:blip r:embed="rId1"/>
          <a:stretch/>
        </p:blipFill>
        <p:spPr>
          <a:xfrm>
            <a:off x="611280" y="0"/>
            <a:ext cx="8281800" cy="443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395280" y="1773360"/>
            <a:ext cx="8748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年级主题班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养成良好的行为习惯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过马路"/>
          <p:cNvPicPr/>
          <p:nvPr/>
        </p:nvPicPr>
        <p:blipFill>
          <a:blip r:embed="rId1"/>
          <a:stretch/>
        </p:blipFill>
        <p:spPr>
          <a:xfrm>
            <a:off x="0" y="0"/>
            <a:ext cx="8964720" cy="4724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4797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马路行走看车辆、过马路，走横道，横穿马路要不得、安安全全回到家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好习惯"/>
          <p:cNvPicPr/>
          <p:nvPr/>
        </p:nvPicPr>
        <p:blipFill>
          <a:blip r:embed="rId1"/>
          <a:stretch/>
        </p:blipFill>
        <p:spPr>
          <a:xfrm>
            <a:off x="1332000" y="189000"/>
            <a:ext cx="6408720" cy="4365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95640" y="4653000"/>
            <a:ext cx="532908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习知识有恒心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完成作业要细心 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7"/>
          <p:cNvSpPr/>
          <p:nvPr/>
        </p:nvSpPr>
        <p:spPr>
          <a:xfrm>
            <a:off x="1835280" y="189000"/>
            <a:ext cx="6227640" cy="60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读一读：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学生，爱学习，养成习惯终受益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早晨起，不懒睡，背着书包上学去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见同学，问声好，团结友爱讲礼貌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见老师，行个 礼， 尊师重教讲礼仪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堂上，专心听，基础打牢成绩好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勤思考，善动脑，积极发言才聪明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作业，用心记，练就本领比高低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堂外，多阅读，博览群书知识广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习惯，早养成，自强奋进有活力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学生，爱学习，天天向上争第一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468360" y="1197000"/>
            <a:ext cx="84978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好习惯。早养成。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学知识，长本领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真有趣，我最棒。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 学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太阳当空照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花儿对我笑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鸟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早早早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为什么背上小书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?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去上学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天不迟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爱学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爱劳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大要为人民立功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75.gif (12573 字节)"/>
          <p:cNvPicPr/>
          <p:nvPr/>
        </p:nvPicPr>
        <p:blipFill>
          <a:blip r:embed="rId1"/>
          <a:stretch/>
        </p:blipFill>
        <p:spPr>
          <a:xfrm>
            <a:off x="169236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背景"/>
          <p:cNvPicPr/>
          <p:nvPr/>
        </p:nvPicPr>
        <p:blipFill>
          <a:blip r:embed="rId2"/>
          <a:srcRect l="65001" t="52222" r="12499" b="15556"/>
          <a:stretch/>
        </p:blipFill>
        <p:spPr>
          <a:xfrm>
            <a:off x="7086600" y="464832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mile24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2521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A00864_"/>
          <p:cNvPicPr/>
          <p:nvPr/>
        </p:nvPicPr>
        <p:blipFill>
          <a:blip r:embed="rId4"/>
          <a:stretch/>
        </p:blipFill>
        <p:spPr>
          <a:xfrm>
            <a:off x="2843280" y="6170760"/>
            <a:ext cx="1171440" cy="68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0864_"/>
          <p:cNvPicPr/>
          <p:nvPr/>
        </p:nvPicPr>
        <p:blipFill>
          <a:blip r:embed="rId5"/>
          <a:stretch/>
        </p:blipFill>
        <p:spPr>
          <a:xfrm>
            <a:off x="324000" y="6170760"/>
            <a:ext cx="1171440" cy="687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A00864_"/>
          <p:cNvPicPr/>
          <p:nvPr/>
        </p:nvPicPr>
        <p:blipFill>
          <a:blip r:embed="rId6"/>
          <a:stretch/>
        </p:blipFill>
        <p:spPr>
          <a:xfrm>
            <a:off x="4932360" y="6170760"/>
            <a:ext cx="1171440" cy="687240"/>
          </a:xfrm>
          <a:prstGeom prst="rect">
            <a:avLst/>
          </a:prstGeom>
          <a:ln w="0">
            <a:noFill/>
          </a:ln>
        </p:spPr>
      </p:pic>
      <p:pic>
        <p:nvPicPr>
          <p:cNvPr id="54" name="群星 - 上学歌.mp3" descr=""/>
          <p:cNvPicPr/>
          <p:nvPr/>
        </p:nvPicPr>
        <p:blipFill>
          <a:blip r:embed="rId7"/>
          <a:stretch/>
        </p:blipFill>
        <p:spPr>
          <a:xfrm>
            <a:off x="7956720" y="148428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9849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3313080" cy="2492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7"/>
          <p:cNvSpPr/>
          <p:nvPr/>
        </p:nvSpPr>
        <p:spPr>
          <a:xfrm>
            <a:off x="3564000" y="981000"/>
            <a:ext cx="3816360" cy="792360"/>
          </a:xfrm>
          <a:prstGeom prst="wedgeEllipseCallout">
            <a:avLst>
              <a:gd name="adj1" fmla="val -41930"/>
              <a:gd name="adj2" fmla="val 14499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老师，您好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5580000" y="1989000"/>
            <a:ext cx="3816360" cy="792360"/>
          </a:xfrm>
          <a:prstGeom prst="wedgeEllipseCallout">
            <a:avLst>
              <a:gd name="adj1" fmla="val -41930"/>
              <a:gd name="adj2" fmla="val 14499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爸爸，再见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0" y="2637000"/>
            <a:ext cx="2484360" cy="1366560"/>
          </a:xfrm>
          <a:prstGeom prst="cloudCallout">
            <a:avLst>
              <a:gd name="adj1" fmla="val 39712"/>
              <a:gd name="adj2" fmla="val 9227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学， 你好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进教室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4581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539640" y="4941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上学进门放慢腿，出门也要放慢腿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轻声慢步过走廊"/>
          <p:cNvPicPr/>
          <p:nvPr/>
        </p:nvPicPr>
        <p:blipFill>
          <a:blip r:embed="rId1"/>
          <a:stretch/>
        </p:blipFill>
        <p:spPr>
          <a:xfrm>
            <a:off x="1476360" y="0"/>
            <a:ext cx="6156360" cy="4365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55640" y="4724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楼道不打闹，校园不疯跑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1_JPG春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0"/>
            <a:ext cx="8748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前准备好 </a:t>
            </a: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铃声响，轻声快步进课堂，进教室，小嘴快闭上，拿出书、拿出笔，安静等老师，纪律我最好</a:t>
            </a:r>
            <a:r>
              <a:rPr b="1" lang="en-US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506920" y="333360"/>
            <a:ext cx="363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专心听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眼睛，看老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耳朵，仔细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嘴巴，不说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小手，放桌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安静，我安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棒棒棒，我真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上课"/>
          <p:cNvPicPr/>
          <p:nvPr/>
        </p:nvPicPr>
        <p:blipFill>
          <a:blip r:embed="rId1"/>
          <a:stretch/>
        </p:blipFill>
        <p:spPr>
          <a:xfrm>
            <a:off x="0" y="404640"/>
            <a:ext cx="536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早午读情景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5697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71640" y="580536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书时，抬头挺胸坐得正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20120902253"/>
          <p:cNvPicPr/>
          <p:nvPr/>
        </p:nvPicPr>
        <p:blipFill>
          <a:blip r:embed="rId2"/>
          <a:stretch/>
        </p:blipFill>
        <p:spPr>
          <a:xfrm>
            <a:off x="1547640" y="0"/>
            <a:ext cx="668664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3:59:51Z</dcterms:created>
  <dc:creator>user</dc:creator>
  <dc:description/>
  <dc:language>en-US</dc:language>
  <cp:lastModifiedBy>hdqxx</cp:lastModifiedBy>
  <dcterms:modified xsi:type="dcterms:W3CDTF">2012-12-12T00:28:45Z</dcterms:modified>
  <cp:revision>45</cp:revision>
  <dc:subject/>
  <dc:title>幻灯片 1</dc:title>
</cp:coreProperties>
</file>