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A03A-68C0-459B-BB0B-A5153F78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39C2-5E87-41E3-B5F5-2DC3D173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9CC0-B974-414A-9C8D-18A9E953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FBEE-B9F2-416D-94B0-C0B2F977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539-B92A-482C-9518-650757B6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CF7-4369-4D26-896C-78F69CA0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5AD-7C2D-46E3-AB25-61EAD43C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CE9-56A2-4FFC-A6CE-74486740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4F6-5ACB-42CC-B700-47C3ABE0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0B4-EE0D-40AB-BE31-29A9AB27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9BF-89A3-4CFF-9131-D7E6F3BF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1F5-EA30-47CA-A8D4-D42F0C05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6519-8227-45B8-9A41-CA5B97F811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18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6.jpeg"/><Relationship Id="rId3" Type="http://schemas.openxmlformats.org/officeDocument/2006/relationships/slide" Target="slide21.xm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61600" y="5699160"/>
            <a:ext cx="1826640" cy="825480"/>
          </a:xfrm>
          <a:prstGeom prst="rect">
            <a:avLst/>
          </a:prstGeom>
          <a:solidFill>
            <a:srgbClr val="fef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莲藕斗得劲头儿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胡萝卜急得搬救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960280" y="5256720"/>
            <a:ext cx="31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歪嘴葫芦放大炮，轰隆轰隆炮三声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4495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4572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17680" y="5561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得大蒜裂了瓣，打得黄瓜上下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4343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449604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245120" y="5334120"/>
            <a:ext cx="74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得辣椒满身红，打得茄子一身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打得豆腐尿黄水，打得凉粉战兢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572000" cy="4419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572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118400" y="53330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藕王一看抵不过，一头钻进烂泥坑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572000" cy="4357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419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275360" y="533304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了城门往正东，一园青菜绿葱葱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4070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95680" y="762120"/>
            <a:ext cx="4648320" cy="4038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77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5029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666880" y="550800"/>
            <a:ext cx="51674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园青菜成了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了城门往正东，一园青菜绿葱葱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近几天没人问，他们个个成了精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头萝卜称大王，红头萝卜当娘娘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隔壁莲藕急了眼，一封战书打进园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豆芽儿跪倒来报信，胡萝卜挂帅去出征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边兄弟来叫阵，大呼小叫争输赢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葱端起银杆枪，一个劲儿向前冲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茄子一挺大肚皮，小葱撞了个倒栽葱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韭菜使出两刃锋，呼啦呼拉上了阵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瓜甩起扫堂腿，踢得韭菜往回奔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莲藕斗得劲头儿足，胡萝卜急得搬救兵。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歪嘴葫芦放大炮，轰隆轰隆炮三声，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得大蒜裂了瓣，打得黄瓜上下青，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得辣椒满身红，打得茄子一身紫，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打得豆腐尿黄水，打得凉粉战兢兢，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藕王一看抵不过，一头钻进烂泥坑！ 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了城门往正东，一园青菜绿葱葱。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22096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22096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057400" y="518040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出了城门往正东，一园青菜绿葱葱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572000" cy="4113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45720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0" y="1905120"/>
            <a:ext cx="380880" cy="30456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 action="ppaction://hlinksldjump"/>
          </p:cNvPr>
          <p:cNvSpPr/>
          <p:nvPr/>
        </p:nvSpPr>
        <p:spPr>
          <a:xfrm>
            <a:off x="8610480" y="19051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29600" y="57150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82440"/>
            <a:ext cx="9144000" cy="6775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029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5257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4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54864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5562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133720" y="510444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近几天没人问，他们个个成了精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419720" cy="3962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609480"/>
            <a:ext cx="454320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7400" y="5028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绿头萝卜称大王 红头萝卜当娘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09480"/>
            <a:ext cx="4572000" cy="3957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572000" y="609480"/>
            <a:ext cx="4572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046040" y="49518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隔壁莲藕急了眼，一封战书打进园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4419720" cy="3838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47242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119840" y="54853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豆芽儿跪倒来报信，胡萝卜挂帅去出征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4905360" cy="4183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449568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72120" y="53330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边兄弟来叫阵，大呼小叫争输赢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572000" cy="4038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4572000" cy="40118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0" y="4114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19112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122360" y="5713560"/>
            <a:ext cx="84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葱端起银杆枪，一个劲儿向前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茄子一挺大肚皮，小葱撞了个倒栽葱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10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24760" y="5637240"/>
            <a:ext cx="38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韭菜使出两刃锋，呼啦呼啦上了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黄瓜甩起扫堂腿，踢得韭菜往回奔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0-09T02:47:0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