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0E3-8AC1-4625-84D4-5418CC50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01F-E8B8-4933-B00E-AB644FA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140-19CA-44A2-96CE-E8880E01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44C-5463-4D6C-8427-F3A847E1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97E4-8AC5-4BA1-B789-79552DAE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C54-F96D-45DB-BAA0-9D9E8FA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1C7-DA80-4ED1-9227-C649A07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CDB-4998-4DF9-AAF8-A882A56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72B1-F4B6-4CFC-98A2-D72D37BF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4A48-92A8-4EB5-9057-E9D41FA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E99-F580-4B90-AB02-8D29BF7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552-CE95-48F1-AD24-6C43860D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EC0-6DB0-4528-B98F-31787CE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DAC6-6FE9-4BC3-9FC9-969C42F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A52-DCA0-4B7A-8694-00614BC4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DF37-268D-4CB5-BA30-33E8BBEE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21D-F16A-4E08-9B48-843F2BA5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C55-E1B6-4027-9182-4AE4E499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D08-A0E6-436E-B246-B75BF68C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A1D-09B1-4864-92B5-B2E04E70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AE-A12D-4CAC-ACC8-9A62C25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162-4329-487F-B31F-C7C6C38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C0A-834A-455E-8FC8-937FCEC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35E-FE15-4C55-B2B4-84108412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0EF-ABF5-4F0B-BA15-DAEAB40F180F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DC9-9600-4CCD-9980-C82360E0AD0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7FDD-1176-4B12-9BAB-F39E56ED3A72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358-8A0A-4FD8-AE08-C7D3E6C4B0D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jz42.com/Article_Print.asp?ArticleID=28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ws.tom.com/Archive/2002/4/18-80333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m.gov.cn/gb/employment/2006-12/08/content_152503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  <a:ea typeface="方正北魏楷书简体"/>
              </a:rPr>
              <a:t>员工职业心态训练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改变不了事情，就改变对待事情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35812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活就是一面镜子，你笑，它也笑；你哭，它也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国作家萨克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48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77C-F345-4C22-A145-5F2F416A7F9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84DC2-1981-4EE2-BE2B-A0F9EB61D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6560"/>
            <a:ext cx="822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一个人因为发生的事情所受到的伤害，不如他对这个事情的看法更严重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事情本身不重要，重要的是人对这个事情的态度。所以，如果改变不了事情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就改变对这个事情的态度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05240" y="914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度变了，事情就变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48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FEE-F842-41EA-8C4F-A725A07375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53C34-589D-4817-80B7-8CB7CBF00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6389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环境，但可以改变自己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事实，但可以改变态度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过去，但可以改变现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不能控制他人，但可以掌握自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616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3CD-1A46-48B7-91C2-2A7B33648D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5A6DA-1EC0-41A3-AA50-8558FAFBF3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7480" y="13190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知足常乐，正确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6668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盖茨比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布什比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兔子比赛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5960" y="441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上肯定不足，比下肯定有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880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64F-7046-4D47-8DEA-B24265B04FB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F6EA6-EE49-471A-89A5-BCB0197FE5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60440" y="22334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酸甜苦辣才是真正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C5E-390F-4E58-B9DD-BF00546988E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76B2A-5984-4AD1-9BB5-8740FD7CAA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第二种  积极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54C-2D8F-431E-A998-ACCAB6BCBE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2F0D-5551-4DF3-A510-5176DD3E6E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8040" y="277920"/>
            <a:ext cx="7927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成就你人生的十大积极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执著：对个人、企业和团队目标、价值观坚定不移的信念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挑战：勇敢地挺身而出，积极地迎接变化和新的任务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热情：对自己的工作以及公司的产品、服务、品牌和形象具有强烈的感情和浓厚的兴趣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奉献：全心全意完成工作或处理事务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激情：始终对未来充满憧憬和希望，对现在全力以赴地投入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愉快：乐于接受微笑、乐趣，并分享成功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爱心：助人为乐，感恩心态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自豪：因为自身价值或团队成绩而深感荣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渴望：强烈的成功欲望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信赖：相信他人和集体的素质、价值和可靠性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631-6C88-4248-B36E-4EEF49F656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09C5B-764D-4565-A70A-FE177B63DD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毁坏你人生的十大消极心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畏惧：面对困难缩头缩脚，没有目标或对自己、公司的目标缺乏信心，不敢接受任务和挑战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愤怒：因假想的对立或莫名的原因而产生极大的痛苦与敌意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冷漠：事不关己，高高挂起，脸色整天阴云密布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紧张：头脑、身体和情绪处于焦虑和不安的状态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忧虑：对可能出现的困难、任务或问题感到寝食难安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敌意：对立或反抗的行为，过于强烈的厌恶感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嫉妒：对团队、他人的成就或优秀素质心生不满甚至感到气愤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贪婪：无休止、无节制地追求享受、金钱、地位、名誉或权力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自私：从自身利益出发，全然不顾他人的感受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麻木：得过且过，没有兴趣和热情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073-C409-4D5E-9631-CA8E801F98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DF94B-3BEE-4446-8ABC-FF9C51D97C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3760" y="838080"/>
            <a:ext cx="51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说“我办不到”——积极与消极语态对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9051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试试看其他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可以控制自己的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可以选择不同的作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能选择恰当的回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能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8288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已无能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就是这样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把我快给气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板肯定不会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被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因为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931-DC10-4639-9075-4086C37ABB2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28CE9-DA04-4E75-8A45-4F13FFD1DD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01720" y="990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、正确处理好三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2860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上只有三件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的事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人的事”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天爷的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7D0-8A74-4C04-9659-6F419E5D365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458AA-6504-4E55-B519-FA8EB267ED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5715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Garamond"/>
              </a:rPr>
              <a:t>心态决定人生成败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心态就是决定我们心理活动和左右我们思维的一种心理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E21-BD32-4247-9066-26841E87C0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25A0-18D9-463A-BB94-1A3DDF3BA4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37360" y="1295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极的人与消极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83356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积极的人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理好“自己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去管“别人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操心“老天爷的事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819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消极的人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不好“自己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管“别人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心“老天爷的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1E7-2588-45CE-B6A8-290BF88B627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B94D5-43D0-45FE-9C82-21ABE1C20C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8040" y="732960"/>
            <a:ext cx="79279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执著追求，死皮赖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362320"/>
            <a:ext cx="2971800" cy="3152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2286000"/>
            <a:ext cx="2303640" cy="3200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2362320"/>
            <a:ext cx="222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疯狂”就是表扬我时我清醒，批评我时我感激，把失望变为动力，把打击变为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A69-7FE8-4B07-A77E-F300B7CABD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E6498-8798-444F-8D80-FAB3B53D18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、当自己面对困难和挫折时，这样提问自己：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这件事有什么好的、积极的方面？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我要如何来利用？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我应该如何化不利为有利，化困难为机遇，化悲痛为力量？化被动为主动？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7E6-A98C-4806-8BA9-DC2F50D233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3995B-1305-4AFD-B2CC-22096FD7FE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、</a:t>
            </a: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每天早晨提问自己三个问题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1689120"/>
            <a:ext cx="792972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让我感到快乐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让我感到振奋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值得我去追求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88F-EBAE-4D3D-8719-8EE0A81992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AFC8E-AA81-46F6-83F0-420BDF243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、每天晚上提问自己三个问题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我今天为自己或别人作出了什么贡献和努力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我今天最高兴、最自豪的一件事是什么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明天有什么事情值得我去追求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370-F09A-49A0-8F4E-55882F6A4A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C7F60-1D08-48CB-A5E7-0E039674E5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6520" y="10666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有什么样的想法，就有什么样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1981080"/>
            <a:ext cx="4800600" cy="1371600"/>
          </a:xfrm>
          <a:prstGeom prst="wedgeRectCallout">
            <a:avLst>
              <a:gd name="adj1" fmla="val -42592"/>
              <a:gd name="adj2" fmla="val 976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只有提出好的问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才能得到好的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C97-C4E6-4C8A-9D57-144848E6D41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214F9-6384-409F-B86E-C6DCFDA5A4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第四种  老板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76D-AF2E-4EEA-80D0-BF1AD8E38AB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81578-5FC8-4EC1-AE4A-7284C75FA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讨论：假如你是老板——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关心的五个方面是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喜欢下属怎么做（什么样的下属）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讨厌或反对下属怎么做（什么样的下属）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576-1CEB-4397-99A3-FCAEB4892B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56D88-8948-4646-A7CE-EBD6B31A2D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33"/>
                </a:solidFill>
                <a:latin typeface="Garamond"/>
              </a:rPr>
              <a:t>像老板那样思考和行动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个字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四个字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447920"/>
            <a:ext cx="3456000" cy="1726920"/>
          </a:xfrm>
          <a:prstGeom prst="cloudCallout">
            <a:avLst>
              <a:gd name="adj1" fmla="val -118856"/>
              <a:gd name="adj2" fmla="val 19759"/>
            </a:avLst>
          </a:prstGeom>
          <a:solidFill>
            <a:srgbClr val="ffff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钱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3483000"/>
            <a:ext cx="3311280" cy="2232000"/>
          </a:xfrm>
          <a:prstGeom prst="wedgeRectCallout">
            <a:avLst>
              <a:gd name="adj1" fmla="val -138208"/>
              <a:gd name="adj2" fmla="val -686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多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好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7E1-1A55-473A-9618-AC48E377D5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519FB-CE5E-405B-94C2-B805B1E904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68240" y="1317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贯彻始终的四个大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2209680"/>
            <a:ext cx="7848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多快好省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273-6EBE-487A-988E-666FED993F8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F0B12-C1BC-449B-8E86-7B8353A87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62.28%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职场人的快乐指数令人担忧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3716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44720" y="3506760"/>
          <a:ext cx="1557360" cy="21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720" y="3506760"/>
                    <a:ext cx="1557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4000" y="3068640"/>
          <a:ext cx="1355400" cy="25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068640"/>
                    <a:ext cx="1355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9640" y="1125360"/>
            <a:ext cx="3097440" cy="1511640"/>
          </a:xfrm>
          <a:prstGeom prst="cloudCallout">
            <a:avLst>
              <a:gd name="adj1" fmla="val -30212"/>
              <a:gd name="adj2" fmla="val 734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.72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选择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的来说是快乐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1125360"/>
            <a:ext cx="2484360" cy="180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2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1.64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快乐的时候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1752480"/>
            <a:ext cx="2376360" cy="1871640"/>
          </a:xfrm>
          <a:prstGeom prst="cloudCallout">
            <a:avLst>
              <a:gd name="adj1" fmla="val -35907"/>
              <a:gd name="adj2" fmla="val 835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.64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痛苦，想换工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C07-2542-450C-AAA1-50C313039D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3B51E-67A9-44F7-BB36-DCB4986C09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做企业和老板最放心的那种人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206064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人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350028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人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50028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人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060640"/>
            <a:ext cx="2232000" cy="1297080"/>
          </a:xfrm>
          <a:prstGeom prst="wedgeRectCallout">
            <a:avLst>
              <a:gd name="adj1" fmla="val 2916"/>
              <a:gd name="adj2" fmla="val -2629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人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084640"/>
            <a:ext cx="511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68360" y="1773360"/>
            <a:ext cx="0" cy="33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5157720"/>
            <a:ext cx="1152360" cy="6476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1916280"/>
            <a:ext cx="647640" cy="10080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D3D-B1CF-4BEC-8C72-1F3DBE92144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53969-3BA5-46A8-9431-79DC36316F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9810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3b0b"/>
                </a:solidFill>
                <a:latin typeface="Arial"/>
              </a:rPr>
              <a:t>第五种  共赢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9E5-E5B2-43B7-AFE0-611EF624C95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42A9B-840F-4E02-AF6E-E3E27C4498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、情商比智商重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9960" y="2139840"/>
            <a:ext cx="750708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智商决定录用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情商决定提升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992-1D80-4267-9087-E13F0C54F97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838F9-2405-47E8-AC1E-38A2F83AF5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21337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专业知识在一个人成功中的作用只占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，而其余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则取决于人际关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D2B-618A-4DB2-AB2F-D511CBB5EA87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FA96-4EB5-4BDD-BD60-3710AB43C3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4720" y="213372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风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64500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怀才不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64500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淘汰出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2133720"/>
            <a:ext cx="2232000" cy="1439640"/>
          </a:xfrm>
          <a:prstGeom prst="wedgeRectCallout">
            <a:avLst>
              <a:gd name="adj1" fmla="val 30226"/>
              <a:gd name="adj2" fmla="val 10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左右逢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522936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35280" y="191592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5300640"/>
            <a:ext cx="1513080" cy="504720"/>
          </a:xfrm>
          <a:prstGeom prst="wedgeRectCallout">
            <a:avLst>
              <a:gd name="adj1" fmla="val -8027"/>
              <a:gd name="adj2" fmla="val 701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844640"/>
            <a:ext cx="720720" cy="10796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990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实中的四种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6E3-8FE2-494C-8C46-F714BF32E1A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B7588-BE6B-4937-A1E7-CEC5AB42F7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人际关系的六种模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033800" cy="3890880"/>
          </a:xfrm>
          <a:prstGeom prst="rect">
            <a:avLst/>
          </a:prstGeom>
          <a:noFill/>
          <a:ln w="381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送人玫瑰手留余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自私自利零和游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压抑自我委曲求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2057400"/>
            <a:ext cx="3816360" cy="3886200"/>
          </a:xfrm>
          <a:prstGeom prst="rect">
            <a:avLst/>
          </a:pr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杀敌一千自伤八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自扫门前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买卖不成仁义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2133720"/>
            <a:ext cx="1224000" cy="647640"/>
          </a:xfrm>
          <a:prstGeom prst="wedgeRoundRectCallout">
            <a:avLst>
              <a:gd name="adj1" fmla="val -23412"/>
              <a:gd name="adj2" fmla="val 29166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利人利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133720"/>
            <a:ext cx="1511280" cy="720720"/>
          </a:xfrm>
          <a:prstGeom prst="wedgeEllipseCallout">
            <a:avLst>
              <a:gd name="adj1" fmla="val -28361"/>
              <a:gd name="adj2" fmla="val 378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3429000"/>
            <a:ext cx="1224000" cy="647640"/>
          </a:xfrm>
          <a:prstGeom prst="wedgeRoundRectCallout">
            <a:avLst>
              <a:gd name="adj1" fmla="val -31324"/>
              <a:gd name="adj2" fmla="val 50736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人利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429000"/>
            <a:ext cx="1440000" cy="647640"/>
          </a:xfrm>
          <a:prstGeom prst="wedgeEllipseCallout">
            <a:avLst>
              <a:gd name="adj1" fmla="val -26958"/>
              <a:gd name="adj2" fmla="val 38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4724280"/>
            <a:ext cx="1224000" cy="648000"/>
          </a:xfrm>
          <a:prstGeom prst="wedgeRoundRectCallout">
            <a:avLst>
              <a:gd name="adj1" fmla="val -34435"/>
              <a:gd name="adj2" fmla="val 48527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己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4724280"/>
            <a:ext cx="1441440" cy="648000"/>
          </a:xfrm>
          <a:prstGeom prst="wedgeEllipseCallout">
            <a:avLst>
              <a:gd name="adj1" fmla="val -27865"/>
              <a:gd name="adj2" fmla="val 38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2349360"/>
            <a:ext cx="792360" cy="2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3645000"/>
            <a:ext cx="863640" cy="217440"/>
          </a:xfrm>
          <a:custGeom>
            <a:avLst/>
            <a:gdLst>
              <a:gd name="textAreaLeft" fmla="*/ 0 w 863640"/>
              <a:gd name="textAreaRight" fmla="*/ 864000 w 8636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4941720"/>
            <a:ext cx="863640" cy="216000"/>
          </a:xfrm>
          <a:custGeom>
            <a:avLst/>
            <a:gdLst>
              <a:gd name="textAreaLeft" fmla="*/ 0 w 863640"/>
              <a:gd name="textAreaRight" fmla="*/ 864000 w 863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4000" y="2060640"/>
            <a:ext cx="1224000" cy="647640"/>
          </a:xfrm>
          <a:prstGeom prst="wedgeRoundRectCallout">
            <a:avLst>
              <a:gd name="adj1" fmla="val -15500"/>
              <a:gd name="adj2" fmla="val 12990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两败俱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1989000"/>
            <a:ext cx="1297080" cy="648000"/>
          </a:xfrm>
          <a:prstGeom prst="wedgeEllipseCallout">
            <a:avLst>
              <a:gd name="adj1" fmla="val -22217"/>
              <a:gd name="adj2" fmla="val 46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3284640"/>
            <a:ext cx="1224000" cy="647640"/>
          </a:xfrm>
          <a:prstGeom prst="wedgeRoundRectCallout">
            <a:avLst>
              <a:gd name="adj1" fmla="val -14722"/>
              <a:gd name="adj2" fmla="val 14217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独善其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4724280"/>
            <a:ext cx="1224000" cy="648000"/>
          </a:xfrm>
          <a:prstGeom prst="wedgeRoundRectCallout">
            <a:avLst>
              <a:gd name="adj1" fmla="val -28208"/>
              <a:gd name="adj2" fmla="val 52449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好聚好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429000"/>
            <a:ext cx="1223640" cy="576360"/>
          </a:xfrm>
          <a:prstGeom prst="wedgeEllipseCallout">
            <a:avLst>
              <a:gd name="adj1" fmla="val -34435"/>
              <a:gd name="adj2" fmla="val 34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单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96360" y="4724280"/>
            <a:ext cx="1295280" cy="648000"/>
          </a:xfrm>
          <a:prstGeom prst="wedgeEllipseCallout">
            <a:avLst>
              <a:gd name="adj1" fmla="val -29046"/>
              <a:gd name="adj2" fmla="val 36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无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76640"/>
            <a:ext cx="936720" cy="215640"/>
          </a:xfrm>
          <a:custGeom>
            <a:avLst/>
            <a:gdLst>
              <a:gd name="textAreaLeft" fmla="*/ 0 w 936720"/>
              <a:gd name="textAreaRight" fmla="*/ 937080 w 936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573360"/>
            <a:ext cx="863640" cy="216000"/>
          </a:xfrm>
          <a:custGeom>
            <a:avLst/>
            <a:gdLst>
              <a:gd name="textAreaLeft" fmla="*/ 0 w 863640"/>
              <a:gd name="textAreaRight" fmla="*/ 864000 w 863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5013360"/>
            <a:ext cx="936720" cy="216000"/>
          </a:xfrm>
          <a:custGeom>
            <a:avLst/>
            <a:gdLst>
              <a:gd name="textAreaLeft" fmla="*/ 0 w 936720"/>
              <a:gd name="textAreaRight" fmla="*/ 937080 w 936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B50-6D28-4458-8E68-64B5A1423E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247D-39F2-41F4-A24D-227AC29D19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483360" y="1112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际关系的最高境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590920"/>
            <a:ext cx="731520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利人就是利己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3E8-836E-49D5-BEB1-B41C244470F6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09EE6-0950-4C72-8768-4B007D935C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0" y="10936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学会宽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09680"/>
            <a:ext cx="8353440" cy="207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世界上最宽阔的是海洋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海洋宽阔的是天空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天空宽阔的是人的胸怀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A11-20EC-4EC8-84A2-D55A69AAD8F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A2C06-42B7-4D9E-937A-4C3D84271B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27960" y="20048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控制愤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87A-5D8E-4428-8C19-97F4E57FEE2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177F6-2CEB-4802-A4E3-BD83AC38A6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职场情绪的三大原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一，先处理心情，再处理工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二，不要把工作中的不良情绪带回家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三，不要把家庭中的不良情绪带到办公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800-3A46-4AFB-93F9-BB6229197E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76CC1-33AD-402F-9898-5D0BA028BB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800280"/>
            <a:ext cx="4200480" cy="47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778-B56E-4E77-BF2B-D177C341A91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61AE-C4C4-4C5D-ABE7-02FEC00F44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、修炼自己的同理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396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同理心是在人际交往过程中，能够体会他人的情绪和想法、理解他人的立场和感受并站在他人的角度思考和处理问题的能力。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951-F6DB-4CBF-A042-0B22C685F3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90399-7449-4FA3-9C8C-DE245C298C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95280" y="1905120"/>
            <a:ext cx="6782040" cy="28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己所不欲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勿施於人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665-3C5C-461F-97E1-5BA283D43B4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D64BA-A83A-41EE-94CC-EC349F49ED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93000" y="26938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五种  感恩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182-39B3-4540-8DB5-C475261F70F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53DA-530D-493B-B802-2D59ADF451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一、感恩是一种幸福生活的方式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二、感恩国家和社会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三、感恩家人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四、感恩公司和老板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方正彩云简体"/>
              </a:rPr>
              <a:t>五、感恩所有的人们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EA6-FFC2-475F-9BF8-48CF443A79E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E8BD0-D195-4877-8746-7002AD8B5D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15238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激养育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给予了你的生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命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教育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丰富了你的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心灵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关爱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教会了你的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付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启迪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提升了你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的智慧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伤害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磨练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你的意志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欺骗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唤醒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了你的良知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折磨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锻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炼了你的毅力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放弃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磨砺了你的独立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打击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他强化了你的能力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批评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为他拓宽了你的心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64B-3441-483D-BB31-19AAB9C07E33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590AE-F278-4B18-9F28-ECA4E93F48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的人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待同一个事物会有不同的心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F40-A3DE-44EA-B0C9-B3565A8840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B6931-F0FB-4704-8220-3D39699B2F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914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样的遭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态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人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2333520"/>
            <a:ext cx="259092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535-D0CB-4A0A-817B-ACBAEF99C1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71706-AE16-469C-BFF2-159174C55C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功学大师拿波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尔的忠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9810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与人之间只有很小的差异，但这种很小的差异却往往造成了巨大的差异！很小的差异就是所具备的心态是积极的还是消极的，巨大的差异就是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成功与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2EB-3DFB-4CED-B722-740C675805F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8DF49-A6C3-4225-A7E9-5C68D1E3A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1430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心态是人生最根本的竞争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态比知识重要，心态比能力重要。从根本上决定我们生命质量的不是金钱，不是权力，甚至不是知识，也不是能力，而是心态！态度是人与人竞争制胜的最核心、最根本的竞争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个人而言，职业竞争表面上看是知识、能力、职位、权力、业绩、关系的竞争，实质上却是职业心态和人生态度的竞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01A-5845-4FC9-9734-5999B17B91D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6E9ED-B924-44FC-A73E-4E756C61EA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第一：阳光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8AB-0209-4475-BFF6-BAB0821874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FAF77-663B-45DC-B2C1-8364058D1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5T12:13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