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76C-C167-48E0-99B3-553763FC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2B3-069C-4A45-A19D-B71DE198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9A3-377A-4DA7-AB47-5D2B4637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DA8-794C-4FFF-80C5-A976182C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676-98D5-4581-8C5C-F0B3C8FF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104-EF38-4062-97C2-BB28FAED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163-489D-43B0-983F-15A29261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56D-852D-4652-BC05-0C11E742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D12-A00F-472D-B4EA-F6C4695F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388-54D0-4FD9-A1E7-48A171BA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00F-AE7E-4E42-84F3-BE5AD494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8E1-785A-4EC7-9F36-DA1E42E0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474B-8347-40F6-98CA-509F438216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24344;&#25196;&#20013;&#21326;&#20256;&#32479;&#32654;&#24503;&#65292;&#22521;&#20859;&#23401;&#23376;&#33391;&#22909;&#34892;&#20026;&#20064;&#24815;/&#38548;&#20195;&#25945;&#32946;&#30340;&#30410;&#22788;.ppt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827360"/>
            <a:ext cx="9144000" cy="882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8000" y="2133720"/>
            <a:ext cx="8497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光临指导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203640" y="4292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580000" y="3141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932360" y="501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02000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547640" y="350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2195640" y="2421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3924360" y="278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3132000" y="602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3924360" y="26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>
            <a:off x="248436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5580000" y="6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>
            <a:off x="826920" y="115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>
            <a:off x="179280" y="191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7451640" y="24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9"/>
          <a:stretch/>
        </p:blipFill>
        <p:spPr>
          <a:xfrm>
            <a:off x="7596360" y="3333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0"/>
          <a:stretch/>
        </p:blipFill>
        <p:spPr>
          <a:xfrm>
            <a:off x="7451640" y="3716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7440" y="3245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睡的习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49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236960"/>
            <a:ext cx="878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睡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睡前入厕解便，保证睡眠质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脱衣服的顺序：鞋—裤子—衣服。衣物鞋袜要放在固定的地方，不要到处乱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姿势：右侧卧、仰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起床，不耐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自己穿衣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穿衣的顺序：衣服—裤子—袜子—鞋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穿脱衣服的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衣服、裤子、鞋子、袜子的反顺和倒顺；穿衣时要用手拉住里面的衣服，穿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裤子要用袜子把里面的裤子扎起来，穿裤子  要一层一层的穿，里面的理清楚，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在里外面的，不要一起往上拉，裤子中缝对准肚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衣物的选择：孩子的衣物要选择舒适，有益孩子身心健康的，不要一味的追求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，太复杂的服饰孩子穿起来很麻烦，而且上厕所很不方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常常检查一下孩子衣物的情况，有的孩子衣物坏了都不知道，照样让孩子穿，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虽然可以培养孩子艰苦朴素的美德，但是如果不能保暖了，就会让孩子生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得不偿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孩子衣物的清洁卫生，不要很脏了还在穿，对孩子的身心健康很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81080" y="-1108080"/>
            <a:ext cx="9525240" cy="813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69960"/>
            <a:ext cx="81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学习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看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写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画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上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    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9025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听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首先要学会保持听的方向性，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短时间内看着说话者；包括讲课的老师、发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伙伴。其次，要明白听到了什么；就是要带思考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听。最后，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提出听不明白，或自己要补充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明听得很有质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一开始得想清楚自己要说什么，甚至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心里可以练一练；接着，要尽力把自己想表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意思，慢慢地、吐词清晰地说出来；最好，可以学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用别人说的好的话，再说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看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看书讲故事、看图、看黑板；观察周围的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物、植物、天气等事物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动手操作：画画、操作、运动、为自己和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服务等。有的孩子很懒惰，什么都不想动手，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手能力就比其他小朋友差，家长一定要注意让孩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一些力所能及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4360" y="12682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尊敬长辈、爱同伴、互相谦让、待人接物、与人交往、社会公德、遵法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042920" y="3716280"/>
            <a:ext cx="764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禅解做孩子的基本要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《禅师眼里的儿子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7532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教育宝贝尊敬长辈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84360" y="1628640"/>
            <a:ext cx="752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坚定地拒绝宝贝对长辈的不适宜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把尊敬长辈的礼貌用语融入日常生活中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跟宝贝议论其他人尊敬长辈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孩子体谅和关心长辈的状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日常生活照顾中减少包办代替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给孩子提供一些优秀的文艺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不在宝贝面前说其他家长的坏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81080" y="-603360"/>
            <a:ext cx="9577440" cy="8136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劳动习惯：为自己为他人做力所能及的事情，爱惜劳动成果，尊重劳动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的劳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自我服务型劳动：比如穿鞋、穿衣服、洗手、洗脸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刷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力所能及的一些家务活：擦桌子、拿碗筷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锻炼和提高技能型的劳动：帮父母买点简单的东西、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晒简单的小衣物、学习叠放衣物、整理图书、玩具、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、修补图书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他人服务助人型的：帮父母端水、取拖鞋、捶背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爱惜劳动成果：内容很多，不浪费食物、节约用水，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惜所有的物品（包括桌椅板凳、装饰品、玩具、用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让孩子知道这些东西都是来之不易的，是通过很多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努力才会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325080" cy="8425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80080" y="582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三、孩子良好行为习惯形成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843200"/>
            <a:ext cx="57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留守儿童：父母不在身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爷爷奶奶外公外婆照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2835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父母缺乏育儿的知识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000" y="378828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对孩子教育认识有所偏差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69640" y="4364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家长爱进行横向比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9640" y="4940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宝宝的方法简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2708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三代人：意见不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692360" y="-1684440"/>
            <a:ext cx="11377800" cy="10082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5688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四、良好习惯养成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252720" y="148428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在环境： 《孟母三迁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文环境：成年人说话、待人接物、社会公德的遵守、亲人的关爱、家庭和睦等等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长该做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父母要发挥好榜样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了解孩子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灌输正确的行为规范要从小开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与孩子一起制定家庭行为规范（立规矩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坚持不懈，严格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教者要求一致（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隔代教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培养孩子在幼儿园独立处理事情的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成人的帮助和放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允许孩子犯错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684360" y="-674640"/>
            <a:ext cx="10441080" cy="777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、我们老师的希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建议，少点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理解，少点埋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沟通，少点牢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配合，少点推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肯定，少点指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zh-CN" sz="9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谢 谢 大 家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弘扬中华传统美德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4437000"/>
            <a:ext cx="29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重庆滨江实验幼儿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中班家长培训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4581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吕正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621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一、弘扬中华传统美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的重要意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563920"/>
            <a:ext cx="74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故事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《一个连简历都保管不好的人是管理不好一个部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787920"/>
            <a:ext cx="36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故事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《地毯上的纸团》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1057320" cy="88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08356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科学奖获奖感言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0"/>
            <a:ext cx="699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二、良好行为习惯养成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的主要内容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01204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（一）主要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生活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学习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卫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907920"/>
            <a:ext cx="712944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08000" y="-343080"/>
            <a:ext cx="9252000" cy="720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912960"/>
            <a:ext cx="5143320" cy="5945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92376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幼儿一天膳食组成为例（以生食计算）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食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包括大米、面粉、小米、玉米面等）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—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牛奶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半斤，也可用豆浆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与鸡蛋半个代替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鸡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瘦肉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包括禽类、鱼、肉、肝、动物血、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0-7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——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豆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及其制品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蔬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-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，其中有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/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是绿叶菜或橙黄色蔬菜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糖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油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吃什么？吃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6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、怎么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2022480"/>
            <a:ext cx="6337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不挑食，是营养全面、身体健康起码的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时吃，形成规律，可以让胃肠规律性地完成消化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饭保持安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鼓励孩子主动给老人让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18200" y="585000"/>
            <a:ext cx="7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、进餐不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8151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暴食暴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边吃边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强迫孩子吃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教养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桌之前就问孩子要吃什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孩子为中心，不顾及他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餐桌上吵吵嚷嚷，指责这个、埋怨那个，有时甚至将气出在孩子头上，使举桌不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吃不下饭，追着孩子一定要吃，其实是滥用父母的权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是孩子喜欢的，就一味满足他，而不知节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044720" y="-458640"/>
            <a:ext cx="11088720" cy="864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26828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987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5795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不宜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汽水、果汁、乳酸菌饮料、太空水、矿泉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56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白开水、自制果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4275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4:56:31Z</dcterms:created>
  <dc:creator>lcmzx</dc:creator>
  <dc:description/>
  <dc:language>en-US</dc:language>
  <cp:lastModifiedBy>lcmzx</cp:lastModifiedBy>
  <dcterms:modified xsi:type="dcterms:W3CDTF">2010-11-20T12:14:19Z</dcterms:modified>
  <cp:revision>10</cp:revision>
  <dc:subject/>
  <dc:title>幻灯片 1</dc:title>
</cp:coreProperties>
</file>