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1332000" y="2997360"/>
            <a:ext cx="6408720" cy="601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3963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00"/>
                </a:solidFill>
                <a:latin typeface="隶书"/>
              </a:rPr>
              <a:t>真诚．和谐．希望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8000"/>
              </a:solidFill>
              <a:latin typeface="隶书"/>
              <a:ea typeface="隶书"/>
            </a:endParaRPr>
          </a:p>
        </p:txBody>
      </p:sp>
      <p:sp>
        <p:nvSpPr>
          <p:cNvPr id="1" name=""/>
          <p:cNvSpPr/>
          <p:nvPr/>
        </p:nvSpPr>
        <p:spPr>
          <a:xfrm>
            <a:off x="3132000" y="4581360"/>
            <a:ext cx="53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－－２０１０－２０１１托班新学期家长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476360" y="2133720"/>
            <a:ext cx="61912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latin typeface="隶书"/>
              </a:rPr>
              <a:t>真诚 和谐 希望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latin typeface="隶书"/>
              <a:ea typeface="隶书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1403280" y="4653000"/>
            <a:ext cx="7380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--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井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5-1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学年第二学期小小班新生家长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26920" y="1598760"/>
            <a:ext cx="6031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自理能力的培养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①从培养孩子卫生习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培养孩子良好的饮食习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幼儿合适服饰的穿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建议家长给幼儿穿着的衣裤尽量选用柔软、透气的棉质材料，不穿化纤或装饰物过多的服饰。衣裤略宽松些，便于幼儿活动或运动，女孩不穿紧身裤、男孩不穿拉链裤。同时为方便幼儿的上肢活动，上衣袖口的样式尽量能便于孩子挽起或上拉，避免洗手时弄湿袖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三、家园配合事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请家长继续为我们的教学活动收集一些材料，带一些需要家长配合的东西，需要家长协助帮助孩子准备一些材料，到时间请家长及时配合学校一起准备。比如：我们的社会课就有分享情感的培养，要求小朋友带自己最爱的玩具，自己最喜欢的好吃的东西入园，与同伴分享。你不要小看一节课或一件小事的作用，因为任何知识都是一点点的积累，任何大事都是一桩桩小事累积而成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家长助教事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自制教玩具和植物种植事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亲子运动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692360" y="1052640"/>
            <a:ext cx="2590560" cy="3456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4500720" y="1052640"/>
            <a:ext cx="2500200" cy="3240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3851280" y="4292640"/>
            <a:ext cx="3421080" cy="2565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627280" y="189000"/>
            <a:ext cx="33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种    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43280" cy="34815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716360" y="404640"/>
            <a:ext cx="3672000" cy="27561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1476360" y="3346560"/>
            <a:ext cx="46814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95280" y="1700280"/>
            <a:ext cx="3240000" cy="2430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4067280" y="1628640"/>
            <a:ext cx="3166920" cy="23749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395280" y="4365720"/>
            <a:ext cx="3095640" cy="23162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3995640" y="4365720"/>
            <a:ext cx="3024360" cy="226836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晨间教玩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4"/>
          <p:cNvSpPr txBox="1"/>
          <p:nvPr/>
        </p:nvSpPr>
        <p:spPr>
          <a:xfrm>
            <a:off x="971640" y="1341360"/>
            <a:ext cx="396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81562b"/>
                </a:solidFill>
                <a:latin typeface="隶书"/>
              </a:rPr>
              <a:t>四、</a:t>
            </a:r>
            <a:r>
              <a:rPr b="0" lang="en-US" sz="1800" spc="1" strike="noStrike">
                <a:ln w="0">
                  <a:noFill/>
                </a:ln>
                <a:solidFill>
                  <a:srgbClr val="81562b"/>
                </a:solidFill>
                <a:latin typeface="隶书"/>
              </a:rPr>
              <a:t>80</a:t>
            </a:r>
            <a:r>
              <a:rPr b="0" lang="zh-CN" sz="1800" spc="1" strike="noStrike">
                <a:ln w="0">
                  <a:noFill/>
                </a:ln>
                <a:solidFill>
                  <a:srgbClr val="81562b"/>
                </a:solidFill>
                <a:latin typeface="隶书"/>
              </a:rPr>
              <a:t>后的我们</a:t>
            </a:r>
            <a:endParaRPr b="0" lang="en-US" sz="1800" spc="1" strike="noStrike">
              <a:ln w="0">
                <a:noFill/>
              </a:ln>
              <a:solidFill>
                <a:srgbClr val="81562b"/>
              </a:solidFill>
              <a:latin typeface="隶书"/>
              <a:ea typeface="隶书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3395880" y="2351160"/>
            <a:ext cx="16437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00"/>
                </a:solidFill>
                <a:latin typeface="Arial"/>
                <a:ea typeface="黑体"/>
              </a:rPr>
              <a:t>育儿与工作的平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3578760" y="3141720"/>
            <a:ext cx="2192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00"/>
                </a:solidFill>
                <a:latin typeface="Arial"/>
                <a:ea typeface="黑体"/>
              </a:rPr>
              <a:t>良好的心态与自身的学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8"/>
          <p:cNvSpPr/>
          <p:nvPr/>
        </p:nvSpPr>
        <p:spPr>
          <a:xfrm>
            <a:off x="2627280" y="2565360"/>
            <a:ext cx="144360" cy="1443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9"/>
          <p:cNvSpPr/>
          <p:nvPr/>
        </p:nvSpPr>
        <p:spPr>
          <a:xfrm>
            <a:off x="2627280" y="3336840"/>
            <a:ext cx="144360" cy="1447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203640" y="2708280"/>
            <a:ext cx="237636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81562b"/>
                </a:solidFill>
                <a:latin typeface="隶书"/>
              </a:rPr>
              <a:t>谢谢！</a:t>
            </a:r>
            <a:endParaRPr b="0" lang="en-US" sz="1800" spc="1" strike="noStrike">
              <a:ln w="0">
                <a:noFill/>
              </a:ln>
              <a:solidFill>
                <a:srgbClr val="81562b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4"/>
          <p:cNvSpPr txBox="1"/>
          <p:nvPr/>
        </p:nvSpPr>
        <p:spPr>
          <a:xfrm>
            <a:off x="684360" y="260280"/>
            <a:ext cx="4105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81562b"/>
                </a:solidFill>
                <a:latin typeface="隶书"/>
              </a:rPr>
              <a:t>班级老师联系方式</a:t>
            </a:r>
            <a:endParaRPr b="0" lang="en-US" sz="1800" spc="1" strike="noStrike">
              <a:ln w="0">
                <a:noFill/>
              </a:ln>
              <a:solidFill>
                <a:srgbClr val="81562b"/>
              </a:solidFill>
              <a:latin typeface="隶书"/>
              <a:ea typeface="隶书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2643840" y="2349360"/>
            <a:ext cx="4953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Arial"/>
                <a:ea typeface="黑体"/>
              </a:rPr>
              <a:t>朱婕       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  <a:ea typeface="黑体"/>
              </a:rPr>
              <a:t>1386125167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2840760" y="3141720"/>
            <a:ext cx="44658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Arial"/>
                <a:ea typeface="黑体"/>
              </a:rPr>
              <a:t>沈丽玉    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  <a:ea typeface="黑体"/>
              </a:rPr>
              <a:t>136852374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2840760" y="3933720"/>
            <a:ext cx="44658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Arial"/>
                <a:ea typeface="黑体"/>
              </a:rPr>
              <a:t>袁阿婕    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  <a:ea typeface="黑体"/>
              </a:rPr>
              <a:t>139614911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8"/>
          <p:cNvSpPr/>
          <p:nvPr/>
        </p:nvSpPr>
        <p:spPr>
          <a:xfrm>
            <a:off x="2627280" y="2565360"/>
            <a:ext cx="144360" cy="1443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9"/>
          <p:cNvSpPr/>
          <p:nvPr/>
        </p:nvSpPr>
        <p:spPr>
          <a:xfrm>
            <a:off x="2627280" y="3336840"/>
            <a:ext cx="144360" cy="1447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0"/>
          <p:cNvSpPr/>
          <p:nvPr/>
        </p:nvSpPr>
        <p:spPr>
          <a:xfrm>
            <a:off x="2627280" y="4110120"/>
            <a:ext cx="144360" cy="1443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4"/>
          <p:cNvSpPr txBox="1"/>
          <p:nvPr/>
        </p:nvSpPr>
        <p:spPr>
          <a:xfrm>
            <a:off x="2050920" y="1413000"/>
            <a:ext cx="4464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81562b"/>
                </a:solidFill>
                <a:latin typeface="隶书"/>
              </a:rPr>
              <a:t>一、上学期测评概况</a:t>
            </a:r>
            <a:endParaRPr b="0" lang="en-US" sz="1800" spc="1" strike="noStrike">
              <a:ln w="0">
                <a:noFill/>
              </a:ln>
              <a:solidFill>
                <a:srgbClr val="81562b"/>
              </a:solidFill>
              <a:latin typeface="隶书"/>
              <a:ea typeface="隶书"/>
            </a:endParaRPr>
          </a:p>
        </p:txBody>
      </p:sp>
      <p:sp>
        <p:nvSpPr>
          <p:cNvPr id="122" name=""/>
          <p:cNvSpPr/>
          <p:nvPr/>
        </p:nvSpPr>
        <p:spPr>
          <a:xfrm>
            <a:off x="971640" y="2492280"/>
            <a:ext cx="69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班孩子通过上学期末的测查及平时的观察，发现幼儿在身体、认知、社会性三方面有了一定的了解。幼儿经过一学期的幼儿园生活，大多数幼儿都喜欢上幼儿园，并逐步能够适应幼儿园的集体生活。初步建立了在园的一日生活和学习常规，会独立进餐，生活自理能力有了一定的提高，喜欢参加各项游戏活动。班内大部分孩子都比较活泼好动，对于新事物表现出极高的兴趣。口语表达能力也有了提高，喜欢说，喜欢做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8240" y="920160"/>
            <a:ext cx="6738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三井幼儿园托班幼儿能力发展测试方法及标准（上学期）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397160"/>
          <a:ext cx="8820000" cy="4292280"/>
        </p:xfrm>
        <a:graphic>
          <a:graphicData uri="http://schemas.openxmlformats.org/drawingml/2006/table">
            <a:tbl>
              <a:tblPr/>
              <a:tblGrid>
                <a:gridCol w="522360"/>
                <a:gridCol w="682560"/>
                <a:gridCol w="7615080"/>
              </a:tblGrid>
              <a:tr h="72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指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项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测试方法及标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应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应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会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数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按要求拿出一定数量的积木”，在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8 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块的范围内，让孩子按要求能从桌上拿出相应数量的积木，看最多能拿对的数量及成功的次数。（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~7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次指令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评价：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幼儿拿对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次以上指标为优，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—3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次为良，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2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次为合格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音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歌唱：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能根据韵律变化，唱相对应的歌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韵律活动：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能合着乐曲做简单的动作，能感受性质鲜明单纯、结构短小的歌曲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绘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将卡纸剪出各种图形，如：三角形、心形、圆形和方形，幼儿将这张卡纸在另一张纸上画出各个形状的边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评价：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图形轮廓清晰，线条连贯的为优；图形轮廓较清晰，线条较连贯的为良；图形轮廓与线条都不清晰为一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美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能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拿剪刀将纸剪开或剪成纸条。（剪面条游戏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评价：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纸条的边缘较光滑、宽窄较均匀为优；纸条的边缘较光滑、宽窄不太均匀为良；纸条的边缘不太光滑、宽窄也不太均匀为一般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语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讲述：初步理解简单的故事和儿歌内容，经提示说出故事中主人公的名字。选择托班讲述图片，完整连贯回答相关问题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评价：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发音正确，讲述连贯，语言丰富，有一定的想象为优；发音较正确，讲述较连贯，用词一般的为良；发音不够正确，讲述不够完整、连贯的为一般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771640" y="863280"/>
            <a:ext cx="38764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三井幼儿园托班幼儿动作发展测试方法及标准（上学期）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38240" y="1413000"/>
          <a:ext cx="8869320" cy="4583160"/>
        </p:xfrm>
        <a:graphic>
          <a:graphicData uri="http://schemas.openxmlformats.org/drawingml/2006/table">
            <a:tbl>
              <a:tblPr/>
              <a:tblGrid>
                <a:gridCol w="868320"/>
                <a:gridCol w="785880"/>
                <a:gridCol w="721512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指 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项 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测 试 方 法 及 标 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 row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姿势正确，动作协调，能听口令或音乐节拍走成圆形或变换队形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姿势正确，跑时前脚掌着地。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自然跳起，落地较轻，双脚向前连续跳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7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米远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评价：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双脚行进跳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米以上为优；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~4.9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米为良；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9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米以下为一般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平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上身正直，双手侧平举，两脚交替在宽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公分，高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公分，长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 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米的平衡木上行走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动作敏捷、灵活（圈直径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公分）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8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跨过障碍物：能跨过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-35 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公分高的横竿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评价：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能跨过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公分高的横竿为优；跨过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公分高的为良；跨过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公分的为一般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细动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钟能用线穿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~9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个珠子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评价：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在规定时间内穿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个以上，并将珠子移到绳子的另一端，为优秀；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规定时间内穿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~8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个为良；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规定时间内穿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~5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个为一般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4"/>
          <p:cNvSpPr txBox="1"/>
          <p:nvPr/>
        </p:nvSpPr>
        <p:spPr>
          <a:xfrm>
            <a:off x="2124000" y="1700280"/>
            <a:ext cx="4392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81562b"/>
                </a:solidFill>
                <a:latin typeface="隶书"/>
              </a:rPr>
              <a:t>二、家长问卷反馈</a:t>
            </a:r>
            <a:endParaRPr b="0" lang="en-US" sz="1800" spc="1" strike="noStrike">
              <a:ln w="0">
                <a:noFill/>
              </a:ln>
              <a:solidFill>
                <a:srgbClr val="81562b"/>
              </a:solidFill>
              <a:latin typeface="隶书"/>
              <a:ea typeface="隶书"/>
            </a:endParaRPr>
          </a:p>
        </p:txBody>
      </p:sp>
      <p:sp>
        <p:nvSpPr>
          <p:cNvPr id="128" name=""/>
          <p:cNvSpPr/>
          <p:nvPr/>
        </p:nvSpPr>
        <p:spPr>
          <a:xfrm>
            <a:off x="1187280" y="285264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从上学期的家长问卷反馈上看，很多家长对我们的工作给予了很大的肯定与支持。今年我们也会再接再厉，在人数增加的同时，仍能把自己的工作做好。举例说明家长反馈的几个代表性的问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WordArt 4"/>
          <p:cNvSpPr txBox="1"/>
          <p:nvPr/>
        </p:nvSpPr>
        <p:spPr>
          <a:xfrm>
            <a:off x="1332000" y="907920"/>
            <a:ext cx="65530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81562b"/>
                </a:solidFill>
                <a:latin typeface="隶书"/>
              </a:rPr>
              <a:t>三、教育教学和常规培养（自理能力）</a:t>
            </a:r>
            <a:endParaRPr b="0" lang="en-US" sz="1800" spc="1" strike="noStrike">
              <a:ln w="0">
                <a:noFill/>
              </a:ln>
              <a:solidFill>
                <a:srgbClr val="81562b"/>
              </a:solidFill>
              <a:latin typeface="隶书"/>
              <a:ea typeface="隶书"/>
            </a:endParaRPr>
          </a:p>
        </p:txBody>
      </p:sp>
      <p:sp>
        <p:nvSpPr>
          <p:cNvPr id="130" name=""/>
          <p:cNvSpPr/>
          <p:nvPr/>
        </p:nvSpPr>
        <p:spPr>
          <a:xfrm>
            <a:off x="971640" y="1700280"/>
            <a:ext cx="6769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教育教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每月安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39640" y="1341360"/>
            <a:ext cx="7920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二月份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做好新生接待工作，稳定新生幼儿的情绪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认识幼儿园环境，加强安全教育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召开新学期家长会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与幼儿一起欢度元宵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制定各项计划，布置教室环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进行一日常规教育，培养幼儿良好的行为习惯。（侧重在生活习惯培养方面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开展主题活动之：我爱我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三月份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丰富自然角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做好“三八”节庆祝活动，开展母子同乐活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进一步加强游戏体育锻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开展主题活动之：美丽的春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84360" y="1049400"/>
            <a:ext cx="6767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四月份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做好半日开放活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做好长假安全、卫生教育。加强幼儿的自我保护意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亲子运动会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“健康宝贝展活力”系列活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园内区角活动展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开展主题活动之：香喷喷的食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五月份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“我能、我行”幼儿自我服务能力展示活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准备“六一”节活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开展主题活动之：小脚丫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六月份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开展主题活动之：夏天真热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做好学期结束的各项总结工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暑期安全教育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2T08:52:44Z</dcterms:created>
  <dc:creator>雨林木风</dc:creator>
  <dc:description/>
  <dc:language>en-US</dc:language>
  <cp:lastModifiedBy>未知用户</cp:lastModifiedBy>
  <dcterms:modified xsi:type="dcterms:W3CDTF">2015-11-17T08:42:18Z</dcterms:modified>
  <cp:revision>18</cp:revision>
  <dc:subject/>
  <dc:title>幻灯片 1</dc:title>
</cp:coreProperties>
</file>