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gif" ContentType="image/gif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E6F-F268-47EB-9527-230D144C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B19-E047-412A-9C7C-90EBDF18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34E-F209-45D0-BBEC-4801B3C4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FCD-3FCC-4814-8AB7-B8B734F1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75CB-D8FB-468E-A7DF-AEA35EEA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89B2-559F-4E2C-BAFB-3B1A03C9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09DC-7F88-4C16-B424-FBF9DF08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F604-4C24-4B3D-BE20-AEA9CAC1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0FA9-5087-4CB1-B168-65343ED8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152C-BDE4-43E1-A571-40FF37CB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6369-89E9-4CED-99BA-E2631872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345-C273-42E1-84C2-EDC45418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A48C-7DF7-441C-81A3-36F21A6B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5AA9-9B2F-4954-80DF-36E566C0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0AD9-C46B-41C1-BBC0-5D7FEC89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43B7-A4F5-4567-9A8A-6EE16124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6D28-B2FC-4E40-AF03-18F11E5F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D7EE-C9DC-4064-9D41-D471E1E5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1E61-9CF1-4936-9DE8-1D923CED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FC5-A71A-4D69-9F6B-FCE0D10F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5A8-5A63-4499-BF1B-C345C756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3C8-4798-43F0-A212-5DB918A9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862-8782-471D-B9A5-177E8651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5A9-BF46-4B4E-97E7-F41EDCA4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5672-172B-437E-9D8D-E98B0DD471D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1224-F702-463B-A134-462DAAD6B70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hyperlink" Target="260,2,&#24187;&#28783;&#29255; 2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hyperlink" Target="260,8,&#24187;&#28783;&#29255; 8" TargetMode="External"/><Relationship Id="rId5" Type="http://schemas.openxmlformats.org/officeDocument/2006/relationships/hyperlink" Target="260,10,&#24187;&#28783;&#29255; 10" TargetMode="External"/><Relationship Id="rId6" Type="http://schemas.openxmlformats.org/officeDocument/2006/relationships/hyperlink" Target="287,10,&#24187;&#28783;&#29255; 10" TargetMode="External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547640" y="2276640"/>
            <a:ext cx="5113440" cy="16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康海报体W12(P)"/>
              </a:rPr>
              <a:t>食品安全与卫生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康海报体W12(P)"/>
              <a:ea typeface="华康海报体W12(P)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4508640"/>
            <a:ext cx="42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康少女文字W5(P)"/>
              </a:rPr>
              <a:t>www.qulaoshi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0792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76500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0000"/>
                </a:solidFill>
                <a:latin typeface="Arial"/>
                <a:ea typeface="楷体"/>
              </a:rPr>
              <a:t>牙齿健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368360" cy="1728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1844640"/>
            <a:ext cx="774072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康海报体W12(P)"/>
                <a:ea typeface="华康海报体W12(P)"/>
              </a:rPr>
              <a:t>牙齿健康和合理饮食有着密不可分的必然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多吃水果、蔬菜等粗纤维的天然食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多喝牛奶，补钙，坚固牙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不偏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避免频繁进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13683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68360" y="260280"/>
            <a:ext cx="1368360" cy="1728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136836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Verdana"/>
              </a:rPr>
              <a:t>每天刷牙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960560" y="1901880"/>
            <a:ext cx="5213520" cy="3968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" y="1440"/>
            <a:ext cx="9109080" cy="6885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4724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44720" y="1413000"/>
            <a:ext cx="379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Verdana"/>
              </a:rPr>
              <a:t>身 体 健 康 的 两 大 杀 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2720" y="3789360"/>
            <a:ext cx="3238560" cy="2427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flipH="1">
            <a:off x="1115640" y="333360"/>
            <a:ext cx="3073320" cy="218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203640" y="1844640"/>
            <a:ext cx="2809800" cy="210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651640" y="620640"/>
            <a:ext cx="2671560" cy="1779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364000" y="3860640"/>
            <a:ext cx="3191040" cy="2394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40000" y="476280"/>
            <a:ext cx="611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Verdana"/>
              </a:rPr>
              <a:t>生活中的食品安全隐患（一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0" t="0" r="12885" b="0"/>
          <a:stretch/>
        </p:blipFill>
        <p:spPr>
          <a:xfrm>
            <a:off x="5796000" y="476280"/>
            <a:ext cx="3311640" cy="2647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0" t="0" r="19630" b="0"/>
          <a:stretch/>
        </p:blipFill>
        <p:spPr>
          <a:xfrm>
            <a:off x="252360" y="404640"/>
            <a:ext cx="3240000" cy="2617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Verdana"/>
              </a:rPr>
              <a:t>生活中的食品安全隐患（二）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24000" y="3284640"/>
            <a:ext cx="3031920" cy="3357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6012000" y="3284640"/>
            <a:ext cx="2746080" cy="3311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3060720" y="2492280"/>
            <a:ext cx="329076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Verdana"/>
                <a:ea typeface="华康海报体W12(P)"/>
              </a:rPr>
              <a:t>健康饮食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633744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168360" cy="2376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4000" y="2781360"/>
            <a:ext cx="2995560" cy="3817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2035" t="12458" r="3759" b="15672"/>
          <a:stretch/>
        </p:blipFill>
        <p:spPr>
          <a:xfrm>
            <a:off x="4572000" y="3645000"/>
            <a:ext cx="3456000" cy="2894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67280" y="1812960"/>
            <a:ext cx="252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大豆（豆浆、豆奶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十字花科蔬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牛奶（酸奶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海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番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77080" y="1787400"/>
            <a:ext cx="1871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绿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菌菇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胡萝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荞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禽蛋蛋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148360" y="692280"/>
            <a:ext cx="2809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十大健康食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ver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160720" cy="2055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556000" y="692280"/>
            <a:ext cx="1908000" cy="3284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95280" y="4076640"/>
            <a:ext cx="3889440" cy="2478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95280" y="2276640"/>
            <a:ext cx="2376360" cy="178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887240" y="6021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6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1573200"/>
            <a:ext cx="3456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油炸食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罐头类食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腌制食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加工的肉类食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16360" y="3789360"/>
            <a:ext cx="3961080" cy="26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奶油制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方便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烧烤类食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冷冻甜点（冰淇淋、雪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果脯、话梅和蜜饯类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03640" y="549360"/>
            <a:ext cx="316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十大垃圾食品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ver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651280" y="2565360"/>
            <a:ext cx="30351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华康海报体W12(P)"/>
                <a:ea typeface="华康海报体W12(P)"/>
              </a:rPr>
              <a:t>日常生活中怎样注意饮食卫生呢？</a:t>
            </a:r>
            <a:r>
              <a:rPr b="1" lang="en-US" sz="3200" spc="-1" strike="noStrike">
                <a:solidFill>
                  <a:srgbClr val="000000"/>
                </a:solidFill>
                <a:latin typeface="华康海报体W12(P)"/>
                <a:ea typeface="华康海报体W12(P)"/>
              </a:rPr>
              <a:t>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．养成吃东西以前洗手的习惯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．生吃瓜果要洗净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．不随便吃野菜、野果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．不吃腐烂变质的食物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．不随意购买、食用街头小摊贩出售的劣质食品、饮料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．不喝生水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5757840" cy="436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-127080"/>
            <a:ext cx="9325080" cy="6985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26920" y="5300640"/>
            <a:ext cx="10083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4360" y="1773360"/>
            <a:ext cx="3313080" cy="1726920"/>
          </a:xfrm>
          <a:prstGeom prst="cloudCallout">
            <a:avLst>
              <a:gd name="adj1" fmla="val -33564"/>
              <a:gd name="adj2" fmla="val 14816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一是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ea typeface="楷体"/>
                <a:hlinkClick r:id="rId4"/>
              </a:rPr>
              <a:t>看日期痕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二是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ea typeface="楷体"/>
                <a:hlinkClick r:id="rId5"/>
              </a:rPr>
              <a:t>看包装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三是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ea typeface="楷体"/>
                <a:hlinkClick r:id="rId6"/>
              </a:rPr>
              <a:t>看日期是否加贴、补印或篡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9640" y="692280"/>
            <a:ext cx="3959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64000"/>
                    </a:srgbClr>
                  </a:outerShdw>
                </a:effectLst>
                <a:latin typeface="宋体"/>
              </a:rPr>
              <a:t>如何看食品生产日期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64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7"/>
          <a:srcRect l="10810" t="14191" r="2701" b="3327"/>
          <a:stretch/>
        </p:blipFill>
        <p:spPr>
          <a:xfrm>
            <a:off x="4788000" y="3421080"/>
            <a:ext cx="3960720" cy="2887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2195640" y="3716280"/>
            <a:ext cx="2547720" cy="2565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4788000" y="260280"/>
            <a:ext cx="3960720" cy="3063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5:26:29Z</dcterms:created>
  <dc:creator>Ly</dc:creator>
  <dc:description/>
  <dc:language>en-US</dc:language>
  <cp:lastModifiedBy>USER</cp:lastModifiedBy>
  <dcterms:modified xsi:type="dcterms:W3CDTF">2014-11-14T03:45:53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