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3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9BF-07E2-420A-9DB2-BDFBC48E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18D-6765-4A22-B8C1-A3801FA1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547-6646-4C55-AF02-9C138683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0B7-9785-4254-A0B0-87A07ECA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ED0-C864-4591-A391-7AA5DFDE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FA1-398A-4F16-A530-B4875404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A5F-B50C-44ED-AC75-47C5CBE7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42B-73C1-4522-8381-BA0E906A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F76-6579-44E3-ADBE-E1C2C105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A6D-24ED-4091-BF33-0463CD3F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83F-1456-490B-8185-8907250D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939-C3BE-4AB8-9E6C-F0AD9484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148B-82B0-4065-AA90-16D28785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5041-9A67-48A4-BDB1-4B70596F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8E13-E28B-49CA-A09D-F7A75334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909F-B9C1-45B6-8A49-47B649B6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F650-BAC8-428C-AD68-3784F42F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E649-FFCE-4111-BBCE-5554E2AF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E34C-C05A-4C61-9BBA-DFBB8148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98DF-7E6B-447E-B5F6-A1676C64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3E9B-3328-434E-9907-66AD1290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5CEA-CD60-444E-9330-3FC4E33A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7741-76F0-4BA5-AB6D-9A8B0411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1970-214E-4E23-8DF5-8186370F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842BE-4A00-4D03-87C7-A3FF2C12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4C3F3-0C19-43FA-BAA1-3ED4FA06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BC4EF-2F1F-4FAE-86A9-B3357134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5CC68-1D29-4EDC-8494-B27295A1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44D29-3518-4EA1-836C-47E888D1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8F195-6DA3-4290-8687-F87AAAF0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FA8BE-4CFC-422C-A28F-B3F85BB6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4788E-0723-4334-8958-E4988C35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90E7D-A234-4BFF-88CC-A2A7AA0B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574EE-FD8A-4AD4-A776-50B5EA51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1F1F0-16A2-41C1-BD06-58EFAEC0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DA380-253A-4FC9-B01A-52F29F59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9C8D2-198F-44CA-9D07-60A87493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019D2-2A77-4B43-A1AE-C8935E80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0A943-46AA-451D-ADEE-45C12FB4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53B96-9890-426F-828E-FEE709C3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BB737-DBF7-47A8-9794-85ECAC7A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5F550-A5CB-4FE3-A452-965B21CB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DB5A7-2AAE-4320-A307-65A2F4E7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5EEA9-761F-40FB-80B9-CBFC7278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4C531-454E-477E-8FA5-7D0993D3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9B014-D457-4ABC-B4ED-48606395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73090-E19B-48EC-AE66-8F9F236A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9C4B6-00A4-42EB-A731-DCEADD42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-80640" y="-92880"/>
            <a:ext cx="2766240" cy="6949440"/>
            <a:chOff x="-80640" y="-92880"/>
            <a:chExt cx="2766240" cy="6949440"/>
          </a:xfrm>
        </p:grpSpPr>
        <p:sp>
          <p:nvSpPr>
            <p:cNvPr id="77" name="Freeform 3"/>
            <p:cNvSpPr/>
            <p:nvPr/>
          </p:nvSpPr>
          <p:spPr>
            <a:xfrm>
              <a:off x="-1440" y="5178600"/>
              <a:ext cx="7473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73440" y="3922200"/>
              <a:ext cx="887760" cy="720000"/>
              <a:chOff x="73440" y="3922200"/>
              <a:chExt cx="887760" cy="720000"/>
            </a:xfrm>
          </p:grpSpPr>
          <p:sp>
            <p:nvSpPr>
              <p:cNvPr id="79" name="Freeform 5"/>
              <p:cNvSpPr/>
              <p:nvPr/>
            </p:nvSpPr>
            <p:spPr>
              <a:xfrm flipH="1" rot="14965200">
                <a:off x="122400" y="3943440"/>
                <a:ext cx="228240" cy="263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6"/>
              <p:cNvSpPr/>
              <p:nvPr/>
            </p:nvSpPr>
            <p:spPr>
              <a:xfrm flipH="1" rot="14965200">
                <a:off x="281880" y="4311360"/>
                <a:ext cx="389160" cy="219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7"/>
              <p:cNvSpPr/>
              <p:nvPr/>
            </p:nvSpPr>
            <p:spPr>
              <a:xfrm flipH="1" rot="14965200">
                <a:off x="634680" y="4155480"/>
                <a:ext cx="40572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Freeform 8"/>
            <p:cNvSpPr/>
            <p:nvPr/>
          </p:nvSpPr>
          <p:spPr>
            <a:xfrm>
              <a:off x="149040" y="2755800"/>
              <a:ext cx="112428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5040" y="2601720"/>
              <a:ext cx="2680560" cy="3116520"/>
              <a:chOff x="5040" y="2601720"/>
              <a:chExt cx="2680560" cy="3116520"/>
            </a:xfrm>
          </p:grpSpPr>
          <p:sp>
            <p:nvSpPr>
              <p:cNvPr id="84" name="Freeform 10"/>
              <p:cNvSpPr/>
              <p:nvPr/>
            </p:nvSpPr>
            <p:spPr>
              <a:xfrm flipH="1" rot="789600">
                <a:off x="391680" y="2699280"/>
                <a:ext cx="973440" cy="1004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1"/>
              <p:cNvSpPr/>
              <p:nvPr/>
            </p:nvSpPr>
            <p:spPr>
              <a:xfrm flipH="1" rot="789600">
                <a:off x="110520" y="2842560"/>
                <a:ext cx="81396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2"/>
              <p:cNvSpPr/>
              <p:nvPr/>
            </p:nvSpPr>
            <p:spPr>
              <a:xfrm flipH="1" rot="789600">
                <a:off x="363240" y="3052800"/>
                <a:ext cx="28872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3"/>
              <p:cNvSpPr/>
              <p:nvPr/>
            </p:nvSpPr>
            <p:spPr>
              <a:xfrm flipH="1" rot="789600">
                <a:off x="887040" y="3792600"/>
                <a:ext cx="26424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4"/>
              <p:cNvSpPr/>
              <p:nvPr/>
            </p:nvSpPr>
            <p:spPr>
              <a:xfrm flipH="1" rot="789600">
                <a:off x="812520" y="3854880"/>
                <a:ext cx="6480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856080" y="4056120"/>
                <a:ext cx="1829520" cy="1662120"/>
                <a:chOff x="856080" y="4056120"/>
                <a:chExt cx="1829520" cy="1662120"/>
              </a:xfrm>
            </p:grpSpPr>
            <p:sp>
              <p:nvSpPr>
                <p:cNvPr id="90" name="Freeform 16"/>
                <p:cNvSpPr/>
                <p:nvPr/>
              </p:nvSpPr>
              <p:spPr>
                <a:xfrm flipH="1" rot="7102800">
                  <a:off x="1264680" y="3946320"/>
                  <a:ext cx="474120" cy="12124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17"/>
                <p:cNvSpPr/>
                <p:nvPr/>
              </p:nvSpPr>
              <p:spPr>
                <a:xfrm flipH="1" rot="7102800">
                  <a:off x="2329200" y="4973040"/>
                  <a:ext cx="108720" cy="497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18"/>
                <p:cNvSpPr/>
                <p:nvPr/>
              </p:nvSpPr>
              <p:spPr>
                <a:xfrm flipH="1" rot="7102800">
                  <a:off x="2501640" y="556848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"/>
            <p:cNvGrpSpPr/>
            <p:nvPr/>
          </p:nvGrpSpPr>
          <p:grpSpPr>
            <a:xfrm>
              <a:off x="472320" y="6173640"/>
              <a:ext cx="788760" cy="634680"/>
              <a:chOff x="472320" y="6173640"/>
              <a:chExt cx="788760" cy="634680"/>
            </a:xfrm>
          </p:grpSpPr>
          <p:sp>
            <p:nvSpPr>
              <p:cNvPr id="94" name="Freeform 20"/>
              <p:cNvSpPr/>
              <p:nvPr/>
            </p:nvSpPr>
            <p:spPr>
              <a:xfrm rot="6248400">
                <a:off x="1015920" y="6174000"/>
                <a:ext cx="197640" cy="252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1"/>
              <p:cNvSpPr/>
              <p:nvPr/>
            </p:nvSpPr>
            <p:spPr>
              <a:xfrm rot="6248400">
                <a:off x="763920" y="6513480"/>
                <a:ext cx="337320" cy="21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22"/>
              <p:cNvSpPr/>
              <p:nvPr/>
            </p:nvSpPr>
            <p:spPr>
              <a:xfrm rot="6248400">
                <a:off x="390960" y="6410880"/>
                <a:ext cx="35136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22560" y="1775880"/>
              <a:ext cx="783000" cy="693360"/>
              <a:chOff x="322560" y="1775880"/>
              <a:chExt cx="783000" cy="693360"/>
            </a:xfrm>
          </p:grpSpPr>
          <p:sp>
            <p:nvSpPr>
              <p:cNvPr id="98" name="Freeform 24"/>
              <p:cNvSpPr/>
              <p:nvPr/>
            </p:nvSpPr>
            <p:spPr>
              <a:xfrm rot="5002800">
                <a:off x="842400" y="1747440"/>
                <a:ext cx="207360" cy="297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25"/>
              <p:cNvSpPr/>
              <p:nvPr/>
            </p:nvSpPr>
            <p:spPr>
              <a:xfrm rot="5002800">
                <a:off x="696600" y="2154600"/>
                <a:ext cx="354600" cy="2476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6"/>
              <p:cNvSpPr/>
              <p:nvPr/>
            </p:nvSpPr>
            <p:spPr>
              <a:xfrm rot="5002800">
                <a:off x="221400" y="2206080"/>
                <a:ext cx="369360" cy="125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1297080" y="0"/>
              <a:ext cx="545040" cy="581400"/>
              <a:chOff x="1297080" y="0"/>
              <a:chExt cx="545040" cy="581400"/>
            </a:xfrm>
          </p:grpSpPr>
          <p:sp>
            <p:nvSpPr>
              <p:cNvPr id="102" name="Freeform 28"/>
              <p:cNvSpPr/>
              <p:nvPr/>
            </p:nvSpPr>
            <p:spPr>
              <a:xfrm>
                <a:off x="1297080" y="0"/>
                <a:ext cx="17352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29"/>
              <p:cNvSpPr/>
              <p:nvPr/>
            </p:nvSpPr>
            <p:spPr>
              <a:xfrm>
                <a:off x="1546200" y="103320"/>
                <a:ext cx="295920" cy="18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0"/>
              <p:cNvSpPr/>
              <p:nvPr/>
            </p:nvSpPr>
            <p:spPr>
              <a:xfrm>
                <a:off x="1486800" y="489240"/>
                <a:ext cx="30852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Freeform 31"/>
            <p:cNvSpPr/>
            <p:nvPr/>
          </p:nvSpPr>
          <p:spPr>
            <a:xfrm>
              <a:off x="144360" y="149400"/>
              <a:ext cx="110664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2"/>
            <p:cNvSpPr/>
            <p:nvPr/>
          </p:nvSpPr>
          <p:spPr>
            <a:xfrm rot="828600">
              <a:off x="389160" y="5403600"/>
              <a:ext cx="20880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3"/>
            <p:cNvSpPr/>
            <p:nvPr/>
          </p:nvSpPr>
          <p:spPr>
            <a:xfrm rot="828600">
              <a:off x="427680" y="5702040"/>
              <a:ext cx="10440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4"/>
            <p:cNvSpPr/>
            <p:nvPr/>
          </p:nvSpPr>
          <p:spPr>
            <a:xfrm>
              <a:off x="23760" y="6524640"/>
              <a:ext cx="18648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120" y="6299280"/>
              <a:ext cx="20556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120" y="6269040"/>
              <a:ext cx="7416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7"/>
            <p:cNvSpPr/>
            <p:nvPr/>
          </p:nvSpPr>
          <p:spPr>
            <a:xfrm>
              <a:off x="6120" y="5141880"/>
              <a:ext cx="78696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8"/>
            <p:cNvSpPr/>
            <p:nvPr/>
          </p:nvSpPr>
          <p:spPr>
            <a:xfrm rot="1584000">
              <a:off x="37800" y="650880"/>
              <a:ext cx="54468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9"/>
            <p:cNvSpPr/>
            <p:nvPr/>
          </p:nvSpPr>
          <p:spPr>
            <a:xfrm rot="1584000">
              <a:off x="389160" y="1199880"/>
              <a:ext cx="26460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0"/>
            <p:cNvSpPr/>
            <p:nvPr/>
          </p:nvSpPr>
          <p:spPr>
            <a:xfrm rot="1584000">
              <a:off x="915480" y="453600"/>
              <a:ext cx="23256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1"/>
            <p:cNvSpPr/>
            <p:nvPr/>
          </p:nvSpPr>
          <p:spPr>
            <a:xfrm rot="1584000">
              <a:off x="379800" y="1144440"/>
              <a:ext cx="9792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2"/>
            <p:cNvSpPr/>
            <p:nvPr/>
          </p:nvSpPr>
          <p:spPr>
            <a:xfrm rot="1584000">
              <a:off x="932760" y="739440"/>
              <a:ext cx="11376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3"/>
            <p:cNvSpPr/>
            <p:nvPr/>
          </p:nvSpPr>
          <p:spPr>
            <a:xfrm>
              <a:off x="6120" y="1406520"/>
              <a:ext cx="57024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4"/>
            <p:cNvSpPr/>
            <p:nvPr/>
          </p:nvSpPr>
          <p:spPr>
            <a:xfrm rot="1584000">
              <a:off x="95040" y="133200"/>
              <a:ext cx="127296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2107-8134-4AD9-951B-9EA779731E2F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1E22-C8D1-4247-9985-146F9182D26C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20000"/>
                </a:srgbClr>
              </a:gs>
              <a:gs pos="100000">
                <a:srgbClr val="dcd9cc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C342-F9F8-4911-9030-1C8E1DA0FCAA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E97B-C73C-4D8D-856B-205F48E9A1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</a:rPr>
              <a:t>珍爱生命    预防溺水 </a:t>
            </a:r>
            <a:endParaRPr b="1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350532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安全知识宣传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6400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屈老师教案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152280"/>
            <a:ext cx="33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幼儿园安全教育系列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6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有关溺水事件的图片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3033000" y="5715000"/>
            <a:ext cx="353340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溺水身亡，瞬间生命消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5" descr="xin_140703051532484434817"/>
          <p:cNvPicPr/>
          <p:nvPr/>
        </p:nvPicPr>
        <p:blipFill>
          <a:blip r:embed="rId1"/>
          <a:stretch/>
        </p:blipFill>
        <p:spPr>
          <a:xfrm>
            <a:off x="1828800" y="1239840"/>
            <a:ext cx="5715000" cy="4210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有关溺水事件的图片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840120" y="5638680"/>
            <a:ext cx="140004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打捞现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5" descr="xin_530803020658562191805"/>
          <p:cNvPicPr/>
          <p:nvPr/>
        </p:nvPicPr>
        <p:blipFill>
          <a:blip r:embed="rId1"/>
          <a:stretch/>
        </p:blipFill>
        <p:spPr>
          <a:xfrm>
            <a:off x="1905120" y="1452600"/>
            <a:ext cx="5638680" cy="37497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5" descr="200807250047_188140"/>
          <p:cNvPicPr/>
          <p:nvPr/>
        </p:nvPicPr>
        <p:blipFill>
          <a:blip r:embed="rId1"/>
          <a:stretch/>
        </p:blipFill>
        <p:spPr>
          <a:xfrm>
            <a:off x="457200" y="914400"/>
            <a:ext cx="8255160" cy="59436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有关溺水事件的图片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109320" y="6019920"/>
            <a:ext cx="353340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听劝告，又奈何之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有关溺水事件的图片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3790440" y="5943600"/>
            <a:ext cx="170460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永远的遗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5" descr="200807170021_186967"/>
          <p:cNvPicPr/>
          <p:nvPr/>
        </p:nvPicPr>
        <p:blipFill>
          <a:blip r:embed="rId1"/>
          <a:stretch/>
        </p:blipFill>
        <p:spPr>
          <a:xfrm>
            <a:off x="2514600" y="1143000"/>
            <a:ext cx="417528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有关溺水事件的图片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2945520" y="5715000"/>
            <a:ext cx="359280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吞噬生命的池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 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5" descr="W020080623299445486399"/>
          <p:cNvPicPr/>
          <p:nvPr/>
        </p:nvPicPr>
        <p:blipFill>
          <a:blip r:embed="rId1"/>
          <a:stretch/>
        </p:blipFill>
        <p:spPr>
          <a:xfrm>
            <a:off x="1371600" y="1219320"/>
            <a:ext cx="6553080" cy="4371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除了伤心和无奈，还能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--- --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04" name="Picture 4" descr="U43P4T8D945784F116DT20070529134207"/>
          <p:cNvPicPr/>
          <p:nvPr/>
        </p:nvPicPr>
        <p:blipFill>
          <a:blip r:embed="rId1"/>
          <a:stretch/>
        </p:blipFill>
        <p:spPr>
          <a:xfrm>
            <a:off x="1600200" y="15238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如何防止溺水悲剧的产生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0" y="144792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66"/>
                </a:solidFill>
                <a:latin typeface="Calibri"/>
                <a:ea typeface="楷体_GB2312"/>
              </a:rPr>
              <a:t>游泳要严格遵守</a:t>
            </a:r>
            <a:r>
              <a:rPr b="1" i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i="1" lang="zh-CN" sz="4400" spc="-1" strike="noStrike">
                <a:solidFill>
                  <a:srgbClr val="ff0066"/>
                </a:solidFill>
                <a:latin typeface="Calibri"/>
                <a:ea typeface="楷体_GB2312"/>
              </a:rPr>
              <a:t>四不</a:t>
            </a:r>
            <a:r>
              <a:rPr b="1" i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289548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62120" y="2666880"/>
            <a:ext cx="7696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未经家长、老师同意不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没有会游泳的成年人陪同不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深水的地方不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江河沟塘不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47546"/>
                </a:solidFill>
                <a:latin typeface="Franklin Gothic Medium"/>
                <a:ea typeface="黑体"/>
              </a:rPr>
              <a:t>安全标示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5785920"/>
            <a:ext cx="64292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有禁止游泳安全标示的坚决不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4929120" y="928800"/>
            <a:ext cx="3668760" cy="471492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4"/>
          <p:cNvSpPr/>
          <p:nvPr/>
        </p:nvSpPr>
        <p:spPr>
          <a:xfrm>
            <a:off x="395280" y="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图片 6" descr="游泳池.jpg"/>
          <p:cNvPicPr/>
          <p:nvPr/>
        </p:nvPicPr>
        <p:blipFill>
          <a:blip r:embed="rId3"/>
          <a:stretch/>
        </p:blipFill>
        <p:spPr>
          <a:xfrm>
            <a:off x="214200" y="928800"/>
            <a:ext cx="46674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内容占位符 9" descr="沟.jpg"/>
          <p:cNvPicPr/>
          <p:nvPr/>
        </p:nvPicPr>
        <p:blipFill>
          <a:blip r:embed="rId2"/>
          <a:stretch/>
        </p:blipFill>
        <p:spPr>
          <a:xfrm>
            <a:off x="4500720" y="3500280"/>
            <a:ext cx="3929040" cy="2928960"/>
          </a:xfrm>
          <a:prstGeom prst="rect">
            <a:avLst/>
          </a:prstGeom>
          <a:ln w="0">
            <a:noFill/>
          </a:ln>
        </p:spPr>
      </p:pic>
      <p:sp>
        <p:nvSpPr>
          <p:cNvPr id="415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9450-689C-4835-B921-B6B392E9D952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图片 5" descr="鱼塘.jpg"/>
          <p:cNvPicPr/>
          <p:nvPr/>
        </p:nvPicPr>
        <p:blipFill>
          <a:blip r:embed="rId3"/>
          <a:stretch/>
        </p:blipFill>
        <p:spPr>
          <a:xfrm>
            <a:off x="428760" y="35712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417" name="图片 6" descr="河.jpg"/>
          <p:cNvPicPr/>
          <p:nvPr/>
        </p:nvPicPr>
        <p:blipFill>
          <a:blip r:embed="rId4"/>
          <a:stretch/>
        </p:blipFill>
        <p:spPr>
          <a:xfrm>
            <a:off x="4500720" y="357120"/>
            <a:ext cx="3929040" cy="2905200"/>
          </a:xfrm>
          <a:prstGeom prst="rect">
            <a:avLst/>
          </a:prstGeom>
          <a:ln w="0">
            <a:noFill/>
          </a:ln>
        </p:spPr>
      </p:pic>
      <p:pic>
        <p:nvPicPr>
          <p:cNvPr id="418" name="图片 7" descr="江.jpg"/>
          <p:cNvPicPr/>
          <p:nvPr/>
        </p:nvPicPr>
        <p:blipFill>
          <a:blip r:embed="rId5"/>
          <a:stretch/>
        </p:blipFill>
        <p:spPr>
          <a:xfrm>
            <a:off x="428760" y="3500280"/>
            <a:ext cx="3905280" cy="2928960"/>
          </a:xfrm>
          <a:prstGeom prst="rect">
            <a:avLst/>
          </a:prstGeom>
          <a:ln w="0">
            <a:noFill/>
          </a:ln>
        </p:spPr>
      </p:pic>
      <p:sp>
        <p:nvSpPr>
          <p:cNvPr id="419" name="Ink 2"/>
          <p:cNvSpPr/>
          <p:nvPr/>
        </p:nvSpPr>
        <p:spPr>
          <a:xfrm>
            <a:off x="2732040" y="2384280"/>
            <a:ext cx="1260360" cy="795600"/>
          </a:xfrm>
          <a:custGeom>
            <a:avLst/>
            <a:gdLst/>
            <a:ahLst/>
            <a:rect l="l" t="t" r="r" b="b"/>
            <a:pathLst>
              <a:path w="3499" h="2208">
                <a:moveTo>
                  <a:pt x="10716" y="7020"/>
                </a:moveTo>
                <a:cubicBezTo>
                  <a:pt x="10670" y="7054"/>
                  <a:pt x="10662" y="7051"/>
                  <a:pt x="10616" y="7069"/>
                </a:cubicBezTo>
                <a:cubicBezTo>
                  <a:pt x="10556" y="7092"/>
                  <a:pt x="10538" y="7151"/>
                  <a:pt x="10468" y="7193"/>
                </a:cubicBezTo>
                <a:cubicBezTo>
                  <a:pt x="10359" y="7259"/>
                  <a:pt x="10308" y="7332"/>
                  <a:pt x="10244" y="7441"/>
                </a:cubicBezTo>
                <a:cubicBezTo>
                  <a:pt x="10161" y="7581"/>
                  <a:pt x="10051" y="7625"/>
                  <a:pt x="9947" y="7739"/>
                </a:cubicBezTo>
                <a:cubicBezTo>
                  <a:pt x="9917" y="7771"/>
                  <a:pt x="9861" y="7842"/>
                  <a:pt x="9847" y="7863"/>
                </a:cubicBezTo>
                <a:cubicBezTo>
                  <a:pt x="9807" y="7924"/>
                  <a:pt x="9761" y="7952"/>
                  <a:pt x="9699" y="8012"/>
                </a:cubicBezTo>
                <a:cubicBezTo>
                  <a:pt x="9587" y="8119"/>
                  <a:pt x="9482" y="8225"/>
                  <a:pt x="9351" y="8310"/>
                </a:cubicBezTo>
                <a:cubicBezTo>
                  <a:pt x="9308" y="8331"/>
                  <a:pt x="9296" y="8335"/>
                  <a:pt x="9277" y="8359"/>
                </a:cubicBezTo>
              </a:path>
              <a:path w="3499" h="2208">
                <a:moveTo>
                  <a:pt x="9624" y="7218"/>
                </a:moveTo>
                <a:cubicBezTo>
                  <a:pt x="9704" y="7229"/>
                  <a:pt x="9663" y="7242"/>
                  <a:pt x="9723" y="7293"/>
                </a:cubicBezTo>
                <a:cubicBezTo>
                  <a:pt x="9807" y="7365"/>
                  <a:pt x="9755" y="7382"/>
                  <a:pt x="9823" y="7466"/>
                </a:cubicBezTo>
                <a:cubicBezTo>
                  <a:pt x="9859" y="7511"/>
                  <a:pt x="9956" y="7558"/>
                  <a:pt x="9996" y="7590"/>
                </a:cubicBezTo>
                <a:cubicBezTo>
                  <a:pt x="10056" y="7639"/>
                  <a:pt x="10029" y="7649"/>
                  <a:pt x="10046" y="7714"/>
                </a:cubicBezTo>
                <a:cubicBezTo>
                  <a:pt x="10065" y="7786"/>
                  <a:pt x="10117" y="7830"/>
                  <a:pt x="10170" y="7888"/>
                </a:cubicBezTo>
                <a:cubicBezTo>
                  <a:pt x="10235" y="7959"/>
                  <a:pt x="10279" y="8116"/>
                  <a:pt x="10368" y="8161"/>
                </a:cubicBezTo>
                <a:cubicBezTo>
                  <a:pt x="10421" y="8187"/>
                  <a:pt x="10395" y="8163"/>
                  <a:pt x="10443" y="8210"/>
                </a:cubicBezTo>
                <a:cubicBezTo>
                  <a:pt x="10473" y="8240"/>
                  <a:pt x="10450" y="8234"/>
                  <a:pt x="10468" y="8285"/>
                </a:cubicBezTo>
                <a:cubicBezTo>
                  <a:pt x="10468" y="8313"/>
                  <a:pt x="10470" y="8323"/>
                  <a:pt x="10492" y="8334"/>
                </a:cubicBezTo>
              </a:path>
              <a:path w="3499" h="2208">
                <a:moveTo>
                  <a:pt x="11038" y="6772"/>
                </a:moveTo>
                <a:cubicBezTo>
                  <a:pt x="10958" y="6724"/>
                  <a:pt x="10999" y="6707"/>
                  <a:pt x="10889" y="6697"/>
                </a:cubicBezTo>
                <a:cubicBezTo>
                  <a:pt x="10728" y="6682"/>
                  <a:pt x="10599" y="6682"/>
                  <a:pt x="10443" y="6648"/>
                </a:cubicBezTo>
                <a:cubicBezTo>
                  <a:pt x="10340" y="6625"/>
                  <a:pt x="10252" y="6625"/>
                  <a:pt x="10145" y="6623"/>
                </a:cubicBezTo>
                <a:cubicBezTo>
                  <a:pt x="9920" y="6618"/>
                  <a:pt x="9696" y="6617"/>
                  <a:pt x="9475" y="6648"/>
                </a:cubicBezTo>
                <a:cubicBezTo>
                  <a:pt x="9365" y="6663"/>
                  <a:pt x="9124" y="6682"/>
                  <a:pt x="9029" y="6747"/>
                </a:cubicBezTo>
                <a:cubicBezTo>
                  <a:pt x="8945" y="6805"/>
                  <a:pt x="8857" y="6950"/>
                  <a:pt x="8781" y="7020"/>
                </a:cubicBezTo>
                <a:cubicBezTo>
                  <a:pt x="8578" y="7208"/>
                  <a:pt x="8359" y="7370"/>
                  <a:pt x="8161" y="7565"/>
                </a:cubicBezTo>
                <a:cubicBezTo>
                  <a:pt x="7997" y="7726"/>
                  <a:pt x="7859" y="7890"/>
                  <a:pt x="7739" y="8086"/>
                </a:cubicBezTo>
                <a:cubicBezTo>
                  <a:pt x="7686" y="8173"/>
                  <a:pt x="7678" y="8239"/>
                  <a:pt x="7640" y="8334"/>
                </a:cubicBezTo>
                <a:cubicBezTo>
                  <a:pt x="7598" y="8438"/>
                  <a:pt x="7590" y="8441"/>
                  <a:pt x="7615" y="8533"/>
                </a:cubicBezTo>
                <a:cubicBezTo>
                  <a:pt x="7633" y="8600"/>
                  <a:pt x="7668" y="8674"/>
                  <a:pt x="7714" y="8706"/>
                </a:cubicBezTo>
                <a:cubicBezTo>
                  <a:pt x="7774" y="8747"/>
                  <a:pt x="7893" y="8757"/>
                  <a:pt x="7962" y="8781"/>
                </a:cubicBezTo>
                <a:cubicBezTo>
                  <a:pt x="8065" y="8817"/>
                  <a:pt x="8126" y="8825"/>
                  <a:pt x="8235" y="8830"/>
                </a:cubicBezTo>
                <a:cubicBezTo>
                  <a:pt x="8341" y="8835"/>
                  <a:pt x="8441" y="8830"/>
                  <a:pt x="8533" y="8806"/>
                </a:cubicBezTo>
                <a:cubicBezTo>
                  <a:pt x="8536" y="8805"/>
                  <a:pt x="8573" y="8785"/>
                  <a:pt x="8607" y="8781"/>
                </a:cubicBezTo>
                <a:cubicBezTo>
                  <a:pt x="8862" y="8750"/>
                  <a:pt x="9157" y="8777"/>
                  <a:pt x="9401" y="8756"/>
                </a:cubicBezTo>
                <a:cubicBezTo>
                  <a:pt x="9475" y="8750"/>
                  <a:pt x="9536" y="8747"/>
                  <a:pt x="9599" y="8731"/>
                </a:cubicBezTo>
                <a:cubicBezTo>
                  <a:pt x="9646" y="8719"/>
                  <a:pt x="9639" y="8723"/>
                  <a:pt x="9674" y="8706"/>
                </a:cubicBezTo>
                <a:cubicBezTo>
                  <a:pt x="9705" y="8691"/>
                  <a:pt x="9744" y="8643"/>
                  <a:pt x="9798" y="8632"/>
                </a:cubicBezTo>
                <a:cubicBezTo>
                  <a:pt x="9886" y="8614"/>
                  <a:pt x="9981" y="8599"/>
                  <a:pt x="10071" y="8582"/>
                </a:cubicBezTo>
                <a:cubicBezTo>
                  <a:pt x="10176" y="8562"/>
                  <a:pt x="10328" y="8581"/>
                  <a:pt x="10418" y="8533"/>
                </a:cubicBezTo>
                <a:cubicBezTo>
                  <a:pt x="10449" y="8516"/>
                  <a:pt x="10521" y="8453"/>
                  <a:pt x="10542" y="8434"/>
                </a:cubicBezTo>
                <a:cubicBezTo>
                  <a:pt x="10573" y="8407"/>
                  <a:pt x="10617" y="8379"/>
                  <a:pt x="10641" y="8359"/>
                </a:cubicBezTo>
                <a:cubicBezTo>
                  <a:pt x="10671" y="8334"/>
                  <a:pt x="10697" y="8276"/>
                  <a:pt x="10716" y="8260"/>
                </a:cubicBezTo>
                <a:cubicBezTo>
                  <a:pt x="10737" y="8241"/>
                  <a:pt x="10786" y="8210"/>
                  <a:pt x="10815" y="8186"/>
                </a:cubicBezTo>
                <a:cubicBezTo>
                  <a:pt x="10852" y="8155"/>
                  <a:pt x="10863" y="8143"/>
                  <a:pt x="10889" y="8111"/>
                </a:cubicBezTo>
                <a:cubicBezTo>
                  <a:pt x="10906" y="8090"/>
                  <a:pt x="10922" y="8069"/>
                  <a:pt x="10939" y="8037"/>
                </a:cubicBezTo>
                <a:cubicBezTo>
                  <a:pt x="10952" y="8013"/>
                  <a:pt x="10958" y="7972"/>
                  <a:pt x="10964" y="7962"/>
                </a:cubicBezTo>
                <a:cubicBezTo>
                  <a:pt x="10983" y="7927"/>
                  <a:pt x="10993" y="7925"/>
                  <a:pt x="11013" y="7888"/>
                </a:cubicBezTo>
                <a:cubicBezTo>
                  <a:pt x="11035" y="7847"/>
                  <a:pt x="11079" y="7779"/>
                  <a:pt x="11088" y="7739"/>
                </a:cubicBezTo>
                <a:cubicBezTo>
                  <a:pt x="11153" y="7459"/>
                  <a:pt x="11088" y="7085"/>
                  <a:pt x="11088" y="6796"/>
                </a:cubicBezTo>
              </a:path>
            </a:pathLst>
          </a:custGeom>
          <a:solidFill>
            <a:srgbClr val="ffffff"/>
          </a:solidFill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Ink 3"/>
          <p:cNvSpPr/>
          <p:nvPr/>
        </p:nvSpPr>
        <p:spPr>
          <a:xfrm>
            <a:off x="7572240" y="5392800"/>
            <a:ext cx="758880" cy="992160"/>
          </a:xfrm>
          <a:custGeom>
            <a:avLst/>
            <a:gdLst/>
            <a:ahLst/>
            <a:rect l="l" t="t" r="r" b="b"/>
            <a:pathLst>
              <a:path w="2110" h="2754">
                <a:moveTo>
                  <a:pt x="21134" y="16049"/>
                </a:moveTo>
                <a:cubicBezTo>
                  <a:pt x="21165" y="16084"/>
                  <a:pt x="21216" y="16152"/>
                  <a:pt x="21258" y="16197"/>
                </a:cubicBezTo>
                <a:cubicBezTo>
                  <a:pt x="21314" y="16257"/>
                  <a:pt x="21338" y="16338"/>
                  <a:pt x="21382" y="16396"/>
                </a:cubicBezTo>
                <a:cubicBezTo>
                  <a:pt x="21419" y="16444"/>
                  <a:pt x="21406" y="16477"/>
                  <a:pt x="21431" y="16520"/>
                </a:cubicBezTo>
                <a:cubicBezTo>
                  <a:pt x="21451" y="16556"/>
                  <a:pt x="21607" y="16751"/>
                  <a:pt x="21630" y="16768"/>
                </a:cubicBezTo>
                <a:cubicBezTo>
                  <a:pt x="21645" y="16779"/>
                  <a:pt x="21686" y="16761"/>
                  <a:pt x="21704" y="16768"/>
                </a:cubicBezTo>
                <a:cubicBezTo>
                  <a:pt x="21709" y="16817"/>
                  <a:pt x="21703" y="16913"/>
                  <a:pt x="21754" y="16917"/>
                </a:cubicBezTo>
                <a:cubicBezTo>
                  <a:pt x="21800" y="16920"/>
                  <a:pt x="21812" y="16882"/>
                  <a:pt x="21828" y="16867"/>
                </a:cubicBezTo>
                <a:cubicBezTo>
                  <a:pt x="21853" y="16844"/>
                  <a:pt x="21891" y="16801"/>
                  <a:pt x="21903" y="16793"/>
                </a:cubicBezTo>
                <a:cubicBezTo>
                  <a:pt x="21958" y="16756"/>
                  <a:pt x="21931" y="16770"/>
                  <a:pt x="21952" y="16718"/>
                </a:cubicBezTo>
                <a:cubicBezTo>
                  <a:pt x="21972" y="16670"/>
                  <a:pt x="21996" y="16649"/>
                  <a:pt x="22002" y="16594"/>
                </a:cubicBezTo>
                <a:cubicBezTo>
                  <a:pt x="22008" y="16544"/>
                  <a:pt x="22008" y="16538"/>
                  <a:pt x="22027" y="16495"/>
                </a:cubicBezTo>
                <a:cubicBezTo>
                  <a:pt x="22050" y="16444"/>
                  <a:pt x="22067" y="16461"/>
                  <a:pt x="22101" y="16421"/>
                </a:cubicBezTo>
                <a:cubicBezTo>
                  <a:pt x="22122" y="16396"/>
                  <a:pt x="22158" y="16338"/>
                  <a:pt x="22175" y="16321"/>
                </a:cubicBezTo>
                <a:cubicBezTo>
                  <a:pt x="22217" y="16279"/>
                  <a:pt x="22203" y="16263"/>
                  <a:pt x="22225" y="16222"/>
                </a:cubicBezTo>
                <a:cubicBezTo>
                  <a:pt x="22226" y="16219"/>
                  <a:pt x="22241" y="16162"/>
                  <a:pt x="22250" y="16148"/>
                </a:cubicBezTo>
                <a:cubicBezTo>
                  <a:pt x="22282" y="16099"/>
                  <a:pt x="22334" y="16079"/>
                  <a:pt x="22349" y="16024"/>
                </a:cubicBezTo>
                <a:cubicBezTo>
                  <a:pt x="22365" y="15966"/>
                  <a:pt x="22379" y="15999"/>
                  <a:pt x="22399" y="15949"/>
                </a:cubicBezTo>
                <a:cubicBezTo>
                  <a:pt x="22418" y="15903"/>
                  <a:pt x="22408" y="15894"/>
                  <a:pt x="22448" y="15850"/>
                </a:cubicBezTo>
                <a:cubicBezTo>
                  <a:pt x="22486" y="15807"/>
                  <a:pt x="22476" y="15791"/>
                  <a:pt x="22498" y="15751"/>
                </a:cubicBezTo>
                <a:cubicBezTo>
                  <a:pt x="22516" y="15718"/>
                  <a:pt x="22508" y="15720"/>
                  <a:pt x="22523" y="15677"/>
                </a:cubicBezTo>
                <a:cubicBezTo>
                  <a:pt x="22530" y="15656"/>
                  <a:pt x="22560" y="15565"/>
                  <a:pt x="22572" y="15553"/>
                </a:cubicBezTo>
                <a:cubicBezTo>
                  <a:pt x="22600" y="15523"/>
                  <a:pt x="22603" y="15497"/>
                  <a:pt x="22622" y="15478"/>
                </a:cubicBezTo>
                <a:cubicBezTo>
                  <a:pt x="22657" y="15443"/>
                  <a:pt x="22655" y="15461"/>
                  <a:pt x="22671" y="15404"/>
                </a:cubicBezTo>
              </a:path>
              <a:path w="2110" h="2754">
                <a:moveTo>
                  <a:pt x="21754" y="15280"/>
                </a:moveTo>
                <a:cubicBezTo>
                  <a:pt x="21696" y="15285"/>
                  <a:pt x="21658" y="15291"/>
                  <a:pt x="21630" y="15304"/>
                </a:cubicBezTo>
                <a:cubicBezTo>
                  <a:pt x="21585" y="15324"/>
                  <a:pt x="21519" y="15335"/>
                  <a:pt x="21481" y="15354"/>
                </a:cubicBezTo>
                <a:cubicBezTo>
                  <a:pt x="21442" y="15374"/>
                  <a:pt x="21397" y="15415"/>
                  <a:pt x="21357" y="15453"/>
                </a:cubicBezTo>
                <a:cubicBezTo>
                  <a:pt x="21327" y="15482"/>
                  <a:pt x="21276" y="15523"/>
                  <a:pt x="21258" y="15553"/>
                </a:cubicBezTo>
                <a:cubicBezTo>
                  <a:pt x="21240" y="15583"/>
                  <a:pt x="21228" y="15619"/>
                  <a:pt x="21208" y="15652"/>
                </a:cubicBezTo>
                <a:cubicBezTo>
                  <a:pt x="21202" y="15661"/>
                  <a:pt x="21178" y="15705"/>
                  <a:pt x="21158" y="15726"/>
                </a:cubicBezTo>
                <a:cubicBezTo>
                  <a:pt x="21121" y="15765"/>
                  <a:pt x="21107" y="15797"/>
                  <a:pt x="21084" y="15825"/>
                </a:cubicBezTo>
                <a:cubicBezTo>
                  <a:pt x="21058" y="15857"/>
                  <a:pt x="21039" y="15871"/>
                  <a:pt x="21034" y="15900"/>
                </a:cubicBezTo>
                <a:cubicBezTo>
                  <a:pt x="21021" y="15978"/>
                  <a:pt x="21036" y="16060"/>
                  <a:pt x="21059" y="16123"/>
                </a:cubicBezTo>
                <a:cubicBezTo>
                  <a:pt x="21072" y="16159"/>
                  <a:pt x="21080" y="16170"/>
                  <a:pt x="21084" y="16197"/>
                </a:cubicBezTo>
                <a:cubicBezTo>
                  <a:pt x="21092" y="16242"/>
                  <a:pt x="21095" y="16258"/>
                  <a:pt x="21109" y="16297"/>
                </a:cubicBezTo>
                <a:cubicBezTo>
                  <a:pt x="21121" y="16332"/>
                  <a:pt x="21151" y="16385"/>
                  <a:pt x="21158" y="16421"/>
                </a:cubicBezTo>
                <a:cubicBezTo>
                  <a:pt x="21173" y="16499"/>
                  <a:pt x="21163" y="16568"/>
                  <a:pt x="21183" y="16644"/>
                </a:cubicBezTo>
                <a:cubicBezTo>
                  <a:pt x="21192" y="16677"/>
                  <a:pt x="21197" y="16710"/>
                  <a:pt x="21208" y="16743"/>
                </a:cubicBezTo>
                <a:cubicBezTo>
                  <a:pt x="21222" y="16784"/>
                  <a:pt x="21231" y="16793"/>
                  <a:pt x="21233" y="16842"/>
                </a:cubicBezTo>
                <a:cubicBezTo>
                  <a:pt x="21235" y="16894"/>
                  <a:pt x="21237" y="16899"/>
                  <a:pt x="21258" y="16942"/>
                </a:cubicBezTo>
                <a:cubicBezTo>
                  <a:pt x="21295" y="17019"/>
                  <a:pt x="21361" y="17091"/>
                  <a:pt x="21406" y="17165"/>
                </a:cubicBezTo>
                <a:cubicBezTo>
                  <a:pt x="21420" y="17188"/>
                  <a:pt x="21446" y="17215"/>
                  <a:pt x="21456" y="17239"/>
                </a:cubicBezTo>
                <a:cubicBezTo>
                  <a:pt x="21456" y="17256"/>
                  <a:pt x="21456" y="17272"/>
                  <a:pt x="21456" y="17289"/>
                </a:cubicBezTo>
                <a:cubicBezTo>
                  <a:pt x="21495" y="17315"/>
                  <a:pt x="21592" y="17419"/>
                  <a:pt x="21630" y="17438"/>
                </a:cubicBezTo>
                <a:cubicBezTo>
                  <a:pt x="21673" y="17460"/>
                  <a:pt x="21709" y="17431"/>
                  <a:pt x="21754" y="17462"/>
                </a:cubicBezTo>
                <a:cubicBezTo>
                  <a:pt x="21767" y="17471"/>
                  <a:pt x="21802" y="17496"/>
                  <a:pt x="21828" y="17512"/>
                </a:cubicBezTo>
                <a:cubicBezTo>
                  <a:pt x="21957" y="17590"/>
                  <a:pt x="22055" y="17637"/>
                  <a:pt x="22200" y="17686"/>
                </a:cubicBezTo>
                <a:cubicBezTo>
                  <a:pt x="22383" y="17748"/>
                  <a:pt x="22288" y="17734"/>
                  <a:pt x="22399" y="17711"/>
                </a:cubicBezTo>
                <a:cubicBezTo>
                  <a:pt x="22435" y="17704"/>
                  <a:pt x="22467" y="17706"/>
                  <a:pt x="22498" y="17686"/>
                </a:cubicBezTo>
                <a:cubicBezTo>
                  <a:pt x="22527" y="17667"/>
                  <a:pt x="22575" y="17628"/>
                  <a:pt x="22597" y="17611"/>
                </a:cubicBezTo>
                <a:cubicBezTo>
                  <a:pt x="22609" y="17602"/>
                  <a:pt x="22658" y="17577"/>
                  <a:pt x="22671" y="17562"/>
                </a:cubicBezTo>
                <a:cubicBezTo>
                  <a:pt x="22687" y="17544"/>
                  <a:pt x="22732" y="17502"/>
                  <a:pt x="22746" y="17487"/>
                </a:cubicBezTo>
                <a:cubicBezTo>
                  <a:pt x="22754" y="17478"/>
                  <a:pt x="22769" y="17420"/>
                  <a:pt x="22771" y="17413"/>
                </a:cubicBezTo>
                <a:cubicBezTo>
                  <a:pt x="22783" y="17359"/>
                  <a:pt x="22782" y="17311"/>
                  <a:pt x="22796" y="17264"/>
                </a:cubicBezTo>
                <a:cubicBezTo>
                  <a:pt x="22806" y="17231"/>
                  <a:pt x="22809" y="17199"/>
                  <a:pt x="22820" y="17165"/>
                </a:cubicBezTo>
                <a:cubicBezTo>
                  <a:pt x="22834" y="17124"/>
                  <a:pt x="22856" y="17083"/>
                  <a:pt x="22870" y="17041"/>
                </a:cubicBezTo>
                <a:cubicBezTo>
                  <a:pt x="22883" y="17003"/>
                  <a:pt x="22904" y="16978"/>
                  <a:pt x="22920" y="16942"/>
                </a:cubicBezTo>
                <a:cubicBezTo>
                  <a:pt x="22933" y="16913"/>
                  <a:pt x="22934" y="16872"/>
                  <a:pt x="22944" y="16842"/>
                </a:cubicBezTo>
                <a:cubicBezTo>
                  <a:pt x="22957" y="16802"/>
                  <a:pt x="22965" y="16792"/>
                  <a:pt x="22969" y="16743"/>
                </a:cubicBezTo>
                <a:cubicBezTo>
                  <a:pt x="22972" y="16706"/>
                  <a:pt x="22991" y="16669"/>
                  <a:pt x="22994" y="16644"/>
                </a:cubicBezTo>
                <a:cubicBezTo>
                  <a:pt x="23000" y="16587"/>
                  <a:pt x="23014" y="16515"/>
                  <a:pt x="23019" y="16470"/>
                </a:cubicBezTo>
                <a:cubicBezTo>
                  <a:pt x="23025" y="16421"/>
                  <a:pt x="23040" y="16359"/>
                  <a:pt x="23044" y="16321"/>
                </a:cubicBezTo>
                <a:cubicBezTo>
                  <a:pt x="23048" y="16285"/>
                  <a:pt x="23064" y="16249"/>
                  <a:pt x="23068" y="16222"/>
                </a:cubicBezTo>
                <a:cubicBezTo>
                  <a:pt x="23073" y="16189"/>
                  <a:pt x="23088" y="16181"/>
                  <a:pt x="23093" y="16148"/>
                </a:cubicBezTo>
                <a:cubicBezTo>
                  <a:pt x="23103" y="16087"/>
                  <a:pt x="23112" y="15999"/>
                  <a:pt x="23118" y="15949"/>
                </a:cubicBezTo>
                <a:cubicBezTo>
                  <a:pt x="23123" y="15905"/>
                  <a:pt x="23138" y="15859"/>
                  <a:pt x="23143" y="15825"/>
                </a:cubicBezTo>
                <a:cubicBezTo>
                  <a:pt x="23167" y="15661"/>
                  <a:pt x="23197" y="15240"/>
                  <a:pt x="23118" y="15106"/>
                </a:cubicBezTo>
                <a:cubicBezTo>
                  <a:pt x="23098" y="15072"/>
                  <a:pt x="23080" y="15049"/>
                  <a:pt x="23044" y="15032"/>
                </a:cubicBezTo>
                <a:cubicBezTo>
                  <a:pt x="23023" y="15022"/>
                  <a:pt x="22946" y="15008"/>
                  <a:pt x="22944" y="15007"/>
                </a:cubicBezTo>
                <a:cubicBezTo>
                  <a:pt x="22903" y="14991"/>
                  <a:pt x="22895" y="14986"/>
                  <a:pt x="22845" y="14982"/>
                </a:cubicBezTo>
                <a:cubicBezTo>
                  <a:pt x="22769" y="14976"/>
                  <a:pt x="22690" y="14975"/>
                  <a:pt x="22622" y="15007"/>
                </a:cubicBezTo>
                <a:cubicBezTo>
                  <a:pt x="22581" y="15027"/>
                  <a:pt x="22538" y="15040"/>
                  <a:pt x="22498" y="15056"/>
                </a:cubicBezTo>
                <a:cubicBezTo>
                  <a:pt x="22466" y="15069"/>
                  <a:pt x="22447" y="15078"/>
                  <a:pt x="22423" y="15081"/>
                </a:cubicBezTo>
                <a:cubicBezTo>
                  <a:pt x="22357" y="15089"/>
                  <a:pt x="22307" y="15089"/>
                  <a:pt x="22250" y="15106"/>
                </a:cubicBezTo>
                <a:cubicBezTo>
                  <a:pt x="22199" y="15121"/>
                  <a:pt x="22198" y="15127"/>
                  <a:pt x="22151" y="15156"/>
                </a:cubicBezTo>
                <a:cubicBezTo>
                  <a:pt x="22136" y="15165"/>
                  <a:pt x="22038" y="15196"/>
                  <a:pt x="22027" y="15205"/>
                </a:cubicBezTo>
                <a:cubicBezTo>
                  <a:pt x="22007" y="15222"/>
                  <a:pt x="21989" y="15283"/>
                  <a:pt x="21952" y="15304"/>
                </a:cubicBezTo>
                <a:cubicBezTo>
                  <a:pt x="21936" y="15313"/>
                  <a:pt x="21897" y="15319"/>
                  <a:pt x="21878" y="15329"/>
                </a:cubicBezTo>
              </a:path>
            </a:pathLst>
          </a:custGeom>
          <a:solidFill>
            <a:srgbClr val="ffffff"/>
          </a:solidFill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Ink 4"/>
          <p:cNvSpPr/>
          <p:nvPr/>
        </p:nvSpPr>
        <p:spPr>
          <a:xfrm>
            <a:off x="7180200" y="2347920"/>
            <a:ext cx="1123920" cy="831960"/>
          </a:xfrm>
          <a:custGeom>
            <a:avLst/>
            <a:gdLst/>
            <a:ahLst/>
            <a:rect l="l" t="t" r="r" b="b"/>
            <a:pathLst>
              <a:path w="3126" h="2307">
                <a:moveTo>
                  <a:pt x="22299" y="7045"/>
                </a:moveTo>
                <a:cubicBezTo>
                  <a:pt x="22288" y="7096"/>
                  <a:pt x="22287" y="7122"/>
                  <a:pt x="22250" y="7169"/>
                </a:cubicBezTo>
                <a:cubicBezTo>
                  <a:pt x="22212" y="7218"/>
                  <a:pt x="22108" y="7288"/>
                  <a:pt x="22051" y="7342"/>
                </a:cubicBezTo>
                <a:cubicBezTo>
                  <a:pt x="21989" y="7402"/>
                  <a:pt x="21970" y="7483"/>
                  <a:pt x="21927" y="7541"/>
                </a:cubicBezTo>
                <a:cubicBezTo>
                  <a:pt x="21870" y="7618"/>
                  <a:pt x="21804" y="7679"/>
                  <a:pt x="21754" y="7764"/>
                </a:cubicBezTo>
                <a:cubicBezTo>
                  <a:pt x="21676" y="7895"/>
                  <a:pt x="21596" y="8011"/>
                  <a:pt x="21506" y="8136"/>
                </a:cubicBezTo>
                <a:cubicBezTo>
                  <a:pt x="21465" y="8192"/>
                  <a:pt x="21381" y="8275"/>
                  <a:pt x="21357" y="8310"/>
                </a:cubicBezTo>
                <a:cubicBezTo>
                  <a:pt x="21339" y="8336"/>
                  <a:pt x="21323" y="8367"/>
                  <a:pt x="21307" y="8384"/>
                </a:cubicBezTo>
                <a:cubicBezTo>
                  <a:pt x="21273" y="8421"/>
                  <a:pt x="21251" y="8432"/>
                  <a:pt x="21208" y="8458"/>
                </a:cubicBezTo>
              </a:path>
              <a:path w="3126" h="2307">
                <a:moveTo>
                  <a:pt x="21282" y="7169"/>
                </a:moveTo>
                <a:cubicBezTo>
                  <a:pt x="21318" y="7194"/>
                  <a:pt x="21322" y="7213"/>
                  <a:pt x="21357" y="7243"/>
                </a:cubicBezTo>
                <a:cubicBezTo>
                  <a:pt x="21445" y="7319"/>
                  <a:pt x="21541" y="7357"/>
                  <a:pt x="21630" y="7441"/>
                </a:cubicBezTo>
                <a:cubicBezTo>
                  <a:pt x="21726" y="7531"/>
                  <a:pt x="21835" y="7598"/>
                  <a:pt x="21903" y="7714"/>
                </a:cubicBezTo>
                <a:cubicBezTo>
                  <a:pt x="21992" y="7864"/>
                  <a:pt x="22072" y="7943"/>
                  <a:pt x="22200" y="8062"/>
                </a:cubicBezTo>
                <a:cubicBezTo>
                  <a:pt x="22342" y="8194"/>
                  <a:pt x="22519" y="8292"/>
                  <a:pt x="22647" y="8434"/>
                </a:cubicBezTo>
                <a:cubicBezTo>
                  <a:pt x="22717" y="8512"/>
                  <a:pt x="22737" y="8602"/>
                  <a:pt x="22796" y="8682"/>
                </a:cubicBezTo>
                <a:cubicBezTo>
                  <a:pt x="22840" y="8742"/>
                  <a:pt x="22896" y="8770"/>
                  <a:pt x="22944" y="8830"/>
                </a:cubicBezTo>
              </a:path>
              <a:path w="3126" h="2307">
                <a:moveTo>
                  <a:pt x="22101" y="6598"/>
                </a:moveTo>
                <a:cubicBezTo>
                  <a:pt x="22000" y="6588"/>
                  <a:pt x="21928" y="6574"/>
                  <a:pt x="21828" y="6548"/>
                </a:cubicBezTo>
                <a:cubicBezTo>
                  <a:pt x="21704" y="6516"/>
                  <a:pt x="21584" y="6524"/>
                  <a:pt x="21456" y="6524"/>
                </a:cubicBezTo>
                <a:cubicBezTo>
                  <a:pt x="21280" y="6524"/>
                  <a:pt x="21070" y="6501"/>
                  <a:pt x="20910" y="6548"/>
                </a:cubicBezTo>
                <a:cubicBezTo>
                  <a:pt x="20845" y="6567"/>
                  <a:pt x="20754" y="6617"/>
                  <a:pt x="20687" y="6648"/>
                </a:cubicBezTo>
                <a:cubicBezTo>
                  <a:pt x="20591" y="6693"/>
                  <a:pt x="20471" y="6726"/>
                  <a:pt x="20389" y="6796"/>
                </a:cubicBezTo>
                <a:cubicBezTo>
                  <a:pt x="20299" y="6872"/>
                  <a:pt x="20201" y="6950"/>
                  <a:pt x="20117" y="7020"/>
                </a:cubicBezTo>
                <a:cubicBezTo>
                  <a:pt x="20077" y="7053"/>
                  <a:pt x="19991" y="7133"/>
                  <a:pt x="19968" y="7169"/>
                </a:cubicBezTo>
                <a:cubicBezTo>
                  <a:pt x="19942" y="7210"/>
                  <a:pt x="19944" y="7217"/>
                  <a:pt x="19943" y="7268"/>
                </a:cubicBezTo>
                <a:cubicBezTo>
                  <a:pt x="19942" y="7328"/>
                  <a:pt x="19953" y="7385"/>
                  <a:pt x="19968" y="7441"/>
                </a:cubicBezTo>
                <a:cubicBezTo>
                  <a:pt x="19977" y="7474"/>
                  <a:pt x="19980" y="7473"/>
                  <a:pt x="19993" y="7516"/>
                </a:cubicBezTo>
                <a:cubicBezTo>
                  <a:pt x="20005" y="7555"/>
                  <a:pt x="19996" y="7580"/>
                  <a:pt x="20017" y="7615"/>
                </a:cubicBezTo>
                <a:cubicBezTo>
                  <a:pt x="20047" y="7666"/>
                  <a:pt x="20085" y="7720"/>
                  <a:pt x="20117" y="7764"/>
                </a:cubicBezTo>
                <a:cubicBezTo>
                  <a:pt x="20141" y="7797"/>
                  <a:pt x="20164" y="7804"/>
                  <a:pt x="20191" y="7838"/>
                </a:cubicBezTo>
                <a:cubicBezTo>
                  <a:pt x="20207" y="7858"/>
                  <a:pt x="20260" y="7904"/>
                  <a:pt x="20265" y="7913"/>
                </a:cubicBezTo>
                <a:cubicBezTo>
                  <a:pt x="20277" y="7933"/>
                  <a:pt x="20282" y="7989"/>
                  <a:pt x="20290" y="8012"/>
                </a:cubicBezTo>
                <a:cubicBezTo>
                  <a:pt x="20301" y="8045"/>
                  <a:pt x="20305" y="8081"/>
                  <a:pt x="20315" y="8111"/>
                </a:cubicBezTo>
                <a:cubicBezTo>
                  <a:pt x="20327" y="8147"/>
                  <a:pt x="20355" y="8178"/>
                  <a:pt x="20365" y="8210"/>
                </a:cubicBezTo>
                <a:cubicBezTo>
                  <a:pt x="20365" y="8235"/>
                  <a:pt x="20365" y="8243"/>
                  <a:pt x="20365" y="8260"/>
                </a:cubicBezTo>
                <a:cubicBezTo>
                  <a:pt x="20393" y="8269"/>
                  <a:pt x="20442" y="8306"/>
                  <a:pt x="20464" y="8310"/>
                </a:cubicBezTo>
                <a:cubicBezTo>
                  <a:pt x="20527" y="8323"/>
                  <a:pt x="20559" y="8305"/>
                  <a:pt x="20613" y="8334"/>
                </a:cubicBezTo>
                <a:cubicBezTo>
                  <a:pt x="20648" y="8353"/>
                  <a:pt x="20685" y="8413"/>
                  <a:pt x="20712" y="8434"/>
                </a:cubicBezTo>
                <a:cubicBezTo>
                  <a:pt x="20771" y="8480"/>
                  <a:pt x="20758" y="8459"/>
                  <a:pt x="20811" y="8483"/>
                </a:cubicBezTo>
                <a:cubicBezTo>
                  <a:pt x="20844" y="8498"/>
                  <a:pt x="20877" y="8494"/>
                  <a:pt x="20910" y="8508"/>
                </a:cubicBezTo>
                <a:cubicBezTo>
                  <a:pt x="20968" y="8532"/>
                  <a:pt x="20999" y="8575"/>
                  <a:pt x="21059" y="8607"/>
                </a:cubicBezTo>
                <a:cubicBezTo>
                  <a:pt x="21118" y="8639"/>
                  <a:pt x="21170" y="8648"/>
                  <a:pt x="21233" y="8657"/>
                </a:cubicBezTo>
                <a:cubicBezTo>
                  <a:pt x="21354" y="8674"/>
                  <a:pt x="21485" y="8673"/>
                  <a:pt x="21605" y="8682"/>
                </a:cubicBezTo>
                <a:cubicBezTo>
                  <a:pt x="21680" y="8688"/>
                  <a:pt x="21761" y="8692"/>
                  <a:pt x="21803" y="8706"/>
                </a:cubicBezTo>
                <a:cubicBezTo>
                  <a:pt x="21870" y="8728"/>
                  <a:pt x="21933" y="8771"/>
                  <a:pt x="22002" y="8781"/>
                </a:cubicBezTo>
                <a:cubicBezTo>
                  <a:pt x="22197" y="8810"/>
                  <a:pt x="22625" y="8824"/>
                  <a:pt x="22771" y="8756"/>
                </a:cubicBezTo>
                <a:cubicBezTo>
                  <a:pt x="22810" y="8738"/>
                  <a:pt x="22833" y="8708"/>
                  <a:pt x="22870" y="8682"/>
                </a:cubicBezTo>
                <a:cubicBezTo>
                  <a:pt x="22901" y="8660"/>
                  <a:pt x="22935" y="8639"/>
                  <a:pt x="22969" y="8607"/>
                </a:cubicBezTo>
                <a:cubicBezTo>
                  <a:pt x="23005" y="8573"/>
                  <a:pt x="23024" y="8546"/>
                  <a:pt x="23044" y="8508"/>
                </a:cubicBezTo>
                <a:cubicBezTo>
                  <a:pt x="23066" y="8465"/>
                  <a:pt x="23061" y="8458"/>
                  <a:pt x="23068" y="8409"/>
                </a:cubicBezTo>
                <a:cubicBezTo>
                  <a:pt x="23092" y="8240"/>
                  <a:pt x="23087" y="7991"/>
                  <a:pt x="23044" y="7838"/>
                </a:cubicBezTo>
                <a:cubicBezTo>
                  <a:pt x="23032" y="7795"/>
                  <a:pt x="23004" y="7785"/>
                  <a:pt x="22994" y="7764"/>
                </a:cubicBezTo>
                <a:cubicBezTo>
                  <a:pt x="22976" y="7729"/>
                  <a:pt x="22983" y="7718"/>
                  <a:pt x="22969" y="7689"/>
                </a:cubicBezTo>
                <a:cubicBezTo>
                  <a:pt x="22947" y="7644"/>
                  <a:pt x="22945" y="7646"/>
                  <a:pt x="22920" y="7590"/>
                </a:cubicBezTo>
                <a:cubicBezTo>
                  <a:pt x="22910" y="7567"/>
                  <a:pt x="22908" y="7510"/>
                  <a:pt x="22895" y="7491"/>
                </a:cubicBezTo>
                <a:cubicBezTo>
                  <a:pt x="22877" y="7464"/>
                  <a:pt x="22861" y="7435"/>
                  <a:pt x="22845" y="7417"/>
                </a:cubicBezTo>
                <a:cubicBezTo>
                  <a:pt x="22828" y="7397"/>
                  <a:pt x="22804" y="7371"/>
                  <a:pt x="22771" y="7342"/>
                </a:cubicBezTo>
                <a:cubicBezTo>
                  <a:pt x="22758" y="7330"/>
                  <a:pt x="22737" y="7285"/>
                  <a:pt x="22721" y="7268"/>
                </a:cubicBezTo>
                <a:cubicBezTo>
                  <a:pt x="22694" y="7240"/>
                  <a:pt x="22692" y="7203"/>
                  <a:pt x="22671" y="7169"/>
                </a:cubicBezTo>
                <a:cubicBezTo>
                  <a:pt x="22642" y="7122"/>
                  <a:pt x="22627" y="7136"/>
                  <a:pt x="22597" y="7094"/>
                </a:cubicBezTo>
                <a:cubicBezTo>
                  <a:pt x="22579" y="7069"/>
                  <a:pt x="22563" y="7011"/>
                  <a:pt x="22547" y="6995"/>
                </a:cubicBezTo>
                <a:cubicBezTo>
                  <a:pt x="22504" y="6952"/>
                  <a:pt x="22499" y="6926"/>
                  <a:pt x="22473" y="6896"/>
                </a:cubicBezTo>
                <a:cubicBezTo>
                  <a:pt x="22423" y="6837"/>
                  <a:pt x="22370" y="6803"/>
                  <a:pt x="22324" y="6747"/>
                </a:cubicBezTo>
                <a:cubicBezTo>
                  <a:pt x="22296" y="6713"/>
                  <a:pt x="22270" y="6688"/>
                  <a:pt x="22250" y="6672"/>
                </a:cubicBezTo>
                <a:cubicBezTo>
                  <a:pt x="22230" y="6656"/>
                  <a:pt x="22173" y="6638"/>
                  <a:pt x="22151" y="6623"/>
                </a:cubicBezTo>
              </a:path>
            </a:pathLst>
          </a:custGeom>
          <a:solidFill>
            <a:srgbClr val="ffffff"/>
          </a:solidFill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Ink 5"/>
          <p:cNvSpPr/>
          <p:nvPr/>
        </p:nvSpPr>
        <p:spPr>
          <a:xfrm>
            <a:off x="2847960" y="5384880"/>
            <a:ext cx="1108080" cy="731880"/>
          </a:xfrm>
          <a:custGeom>
            <a:avLst/>
            <a:gdLst/>
            <a:ahLst/>
            <a:rect l="l" t="t" r="r" b="b"/>
            <a:pathLst>
              <a:path w="3076" h="2035">
                <a:moveTo>
                  <a:pt x="10393" y="15776"/>
                </a:moveTo>
                <a:cubicBezTo>
                  <a:pt x="10418" y="15776"/>
                  <a:pt x="10426" y="15776"/>
                  <a:pt x="10443" y="15776"/>
                </a:cubicBezTo>
                <a:cubicBezTo>
                  <a:pt x="10412" y="15866"/>
                  <a:pt x="10381" y="15884"/>
                  <a:pt x="10294" y="15949"/>
                </a:cubicBezTo>
                <a:cubicBezTo>
                  <a:pt x="10155" y="16053"/>
                  <a:pt x="9995" y="16195"/>
                  <a:pt x="9847" y="16272"/>
                </a:cubicBezTo>
                <a:cubicBezTo>
                  <a:pt x="9705" y="16346"/>
                  <a:pt x="9506" y="16409"/>
                  <a:pt x="9351" y="16446"/>
                </a:cubicBezTo>
                <a:cubicBezTo>
                  <a:pt x="9293" y="16446"/>
                  <a:pt x="9268" y="16446"/>
                  <a:pt x="9227" y="16446"/>
                </a:cubicBezTo>
                <a:cubicBezTo>
                  <a:pt x="9193" y="16524"/>
                  <a:pt x="9189" y="16518"/>
                  <a:pt x="9103" y="16570"/>
                </a:cubicBezTo>
                <a:cubicBezTo>
                  <a:pt x="9049" y="16603"/>
                  <a:pt x="9047" y="16618"/>
                  <a:pt x="9004" y="16669"/>
                </a:cubicBezTo>
                <a:cubicBezTo>
                  <a:pt x="8992" y="16684"/>
                  <a:pt x="8950" y="16709"/>
                  <a:pt x="8930" y="16743"/>
                </a:cubicBezTo>
                <a:cubicBezTo>
                  <a:pt x="8930" y="16751"/>
                  <a:pt x="8930" y="16760"/>
                  <a:pt x="8930" y="16768"/>
                </a:cubicBezTo>
              </a:path>
              <a:path w="3076" h="2035">
                <a:moveTo>
                  <a:pt x="9451" y="15677"/>
                </a:moveTo>
                <a:cubicBezTo>
                  <a:pt x="9451" y="15763"/>
                  <a:pt x="9449" y="15798"/>
                  <a:pt x="9500" y="15875"/>
                </a:cubicBezTo>
                <a:cubicBezTo>
                  <a:pt x="9562" y="15970"/>
                  <a:pt x="9638" y="16070"/>
                  <a:pt x="9699" y="16148"/>
                </a:cubicBezTo>
                <a:cubicBezTo>
                  <a:pt x="9728" y="16185"/>
                  <a:pt x="9725" y="16170"/>
                  <a:pt x="9748" y="16222"/>
                </a:cubicBezTo>
                <a:cubicBezTo>
                  <a:pt x="9765" y="16261"/>
                  <a:pt x="9817" y="16368"/>
                  <a:pt x="9847" y="16396"/>
                </a:cubicBezTo>
                <a:cubicBezTo>
                  <a:pt x="9888" y="16435"/>
                  <a:pt x="9896" y="16467"/>
                  <a:pt x="9922" y="16495"/>
                </a:cubicBezTo>
                <a:cubicBezTo>
                  <a:pt x="9940" y="16515"/>
                  <a:pt x="9971" y="16543"/>
                  <a:pt x="9996" y="16570"/>
                </a:cubicBezTo>
                <a:cubicBezTo>
                  <a:pt x="10010" y="16585"/>
                  <a:pt x="10048" y="16602"/>
                  <a:pt x="10071" y="16619"/>
                </a:cubicBezTo>
                <a:cubicBezTo>
                  <a:pt x="10100" y="16641"/>
                  <a:pt x="10117" y="16640"/>
                  <a:pt x="10170" y="16644"/>
                </a:cubicBezTo>
                <a:cubicBezTo>
                  <a:pt x="10178" y="16644"/>
                  <a:pt x="10187" y="16644"/>
                  <a:pt x="10195" y="16644"/>
                </a:cubicBezTo>
                <a:cubicBezTo>
                  <a:pt x="10214" y="16720"/>
                  <a:pt x="10252" y="16763"/>
                  <a:pt x="10294" y="16842"/>
                </a:cubicBezTo>
                <a:cubicBezTo>
                  <a:pt x="10323" y="16897"/>
                  <a:pt x="10321" y="16909"/>
                  <a:pt x="10344" y="16966"/>
                </a:cubicBezTo>
              </a:path>
              <a:path w="3076" h="2035">
                <a:moveTo>
                  <a:pt x="9996" y="14957"/>
                </a:moveTo>
                <a:cubicBezTo>
                  <a:pt x="9930" y="14968"/>
                  <a:pt x="9881" y="14956"/>
                  <a:pt x="9823" y="14982"/>
                </a:cubicBezTo>
                <a:cubicBezTo>
                  <a:pt x="9721" y="15028"/>
                  <a:pt x="9597" y="15115"/>
                  <a:pt x="9500" y="15180"/>
                </a:cubicBezTo>
                <a:cubicBezTo>
                  <a:pt x="9312" y="15306"/>
                  <a:pt x="9139" y="15447"/>
                  <a:pt x="8954" y="15577"/>
                </a:cubicBezTo>
                <a:cubicBezTo>
                  <a:pt x="8768" y="15708"/>
                  <a:pt x="8638" y="15839"/>
                  <a:pt x="8483" y="15999"/>
                </a:cubicBezTo>
                <a:cubicBezTo>
                  <a:pt x="8423" y="16061"/>
                  <a:pt x="8361" y="16140"/>
                  <a:pt x="8310" y="16197"/>
                </a:cubicBezTo>
                <a:cubicBezTo>
                  <a:pt x="8282" y="16228"/>
                  <a:pt x="8203" y="16277"/>
                  <a:pt x="8161" y="16321"/>
                </a:cubicBezTo>
                <a:cubicBezTo>
                  <a:pt x="8086" y="16399"/>
                  <a:pt x="8022" y="16503"/>
                  <a:pt x="7962" y="16594"/>
                </a:cubicBezTo>
                <a:cubicBezTo>
                  <a:pt x="7917" y="16662"/>
                  <a:pt x="7909" y="16672"/>
                  <a:pt x="7913" y="16743"/>
                </a:cubicBezTo>
                <a:cubicBezTo>
                  <a:pt x="7914" y="16755"/>
                  <a:pt x="8002" y="16813"/>
                  <a:pt x="8012" y="16818"/>
                </a:cubicBezTo>
                <a:cubicBezTo>
                  <a:pt x="8069" y="16850"/>
                  <a:pt x="8195" y="16904"/>
                  <a:pt x="8260" y="16917"/>
                </a:cubicBezTo>
                <a:cubicBezTo>
                  <a:pt x="8335" y="16932"/>
                  <a:pt x="8433" y="16957"/>
                  <a:pt x="8508" y="16966"/>
                </a:cubicBezTo>
                <a:cubicBezTo>
                  <a:pt x="9159" y="17046"/>
                  <a:pt x="10022" y="17036"/>
                  <a:pt x="10666" y="16991"/>
                </a:cubicBezTo>
                <a:cubicBezTo>
                  <a:pt x="10707" y="16988"/>
                  <a:pt x="10730" y="16961"/>
                  <a:pt x="10765" y="16942"/>
                </a:cubicBezTo>
                <a:cubicBezTo>
                  <a:pt x="10778" y="16935"/>
                  <a:pt x="10831" y="16919"/>
                  <a:pt x="10840" y="16892"/>
                </a:cubicBezTo>
                <a:cubicBezTo>
                  <a:pt x="10850" y="16864"/>
                  <a:pt x="10862" y="16798"/>
                  <a:pt x="10864" y="16793"/>
                </a:cubicBezTo>
                <a:cubicBezTo>
                  <a:pt x="10875" y="16760"/>
                  <a:pt x="10879" y="16724"/>
                  <a:pt x="10889" y="16694"/>
                </a:cubicBezTo>
                <a:cubicBezTo>
                  <a:pt x="10910" y="16631"/>
                  <a:pt x="10918" y="16553"/>
                  <a:pt x="10939" y="16495"/>
                </a:cubicBezTo>
                <a:cubicBezTo>
                  <a:pt x="10962" y="16432"/>
                  <a:pt x="10981" y="16397"/>
                  <a:pt x="10988" y="16321"/>
                </a:cubicBezTo>
                <a:cubicBezTo>
                  <a:pt x="11004" y="16158"/>
                  <a:pt x="11045" y="15680"/>
                  <a:pt x="10964" y="15577"/>
                </a:cubicBezTo>
                <a:cubicBezTo>
                  <a:pt x="10934" y="15539"/>
                  <a:pt x="10900" y="15528"/>
                  <a:pt x="10864" y="15503"/>
                </a:cubicBezTo>
                <a:cubicBezTo>
                  <a:pt x="10829" y="15479"/>
                  <a:pt x="10803" y="15454"/>
                  <a:pt x="10765" y="15429"/>
                </a:cubicBezTo>
                <a:cubicBezTo>
                  <a:pt x="10748" y="15418"/>
                  <a:pt x="10704" y="15362"/>
                  <a:pt x="10691" y="15354"/>
                </a:cubicBezTo>
                <a:cubicBezTo>
                  <a:pt x="10659" y="15336"/>
                  <a:pt x="10639" y="15321"/>
                  <a:pt x="10616" y="15304"/>
                </a:cubicBezTo>
                <a:cubicBezTo>
                  <a:pt x="10580" y="15277"/>
                  <a:pt x="10554" y="15263"/>
                  <a:pt x="10517" y="15230"/>
                </a:cubicBezTo>
                <a:cubicBezTo>
                  <a:pt x="10479" y="15196"/>
                  <a:pt x="10473" y="15204"/>
                  <a:pt x="10443" y="15180"/>
                </a:cubicBezTo>
                <a:cubicBezTo>
                  <a:pt x="10394" y="15140"/>
                  <a:pt x="10421" y="15156"/>
                  <a:pt x="10368" y="15131"/>
                </a:cubicBezTo>
                <a:cubicBezTo>
                  <a:pt x="10338" y="15117"/>
                  <a:pt x="10321" y="15125"/>
                  <a:pt x="10294" y="15106"/>
                </a:cubicBezTo>
                <a:cubicBezTo>
                  <a:pt x="10270" y="15090"/>
                  <a:pt x="10241" y="15060"/>
                  <a:pt x="10220" y="15056"/>
                </a:cubicBezTo>
                <a:cubicBezTo>
                  <a:pt x="10168" y="15046"/>
                  <a:pt x="10142" y="15051"/>
                  <a:pt x="10096" y="15032"/>
                </a:cubicBezTo>
                <a:cubicBezTo>
                  <a:pt x="10073" y="15009"/>
                  <a:pt x="10069" y="15001"/>
                  <a:pt x="10046" y="15007"/>
                </a:cubicBezTo>
              </a:path>
            </a:pathLst>
          </a:custGeom>
          <a:solidFill>
            <a:srgbClr val="ffffff"/>
          </a:solidFill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Ink 6"/>
          <p:cNvSpPr/>
          <p:nvPr/>
        </p:nvSpPr>
        <p:spPr>
          <a:xfrm>
            <a:off x="7750080" y="6010200"/>
            <a:ext cx="314280" cy="285840"/>
          </a:xfrm>
          <a:custGeom>
            <a:avLst/>
            <a:gdLst/>
            <a:ahLst/>
            <a:rect l="l" t="t" r="r" b="b"/>
            <a:pathLst>
              <a:path w="870" h="794">
                <a:moveTo>
                  <a:pt x="21952" y="16793"/>
                </a:moveTo>
                <a:cubicBezTo>
                  <a:pt x="21944" y="16793"/>
                  <a:pt x="21935" y="16793"/>
                  <a:pt x="21927" y="16793"/>
                </a:cubicBezTo>
                <a:cubicBezTo>
                  <a:pt x="21915" y="16841"/>
                  <a:pt x="21872" y="16849"/>
                  <a:pt x="21853" y="16892"/>
                </a:cubicBezTo>
                <a:cubicBezTo>
                  <a:pt x="21837" y="16928"/>
                  <a:pt x="21831" y="16958"/>
                  <a:pt x="21803" y="16991"/>
                </a:cubicBezTo>
                <a:cubicBezTo>
                  <a:pt x="21781" y="17014"/>
                  <a:pt x="21776" y="17022"/>
                  <a:pt x="21754" y="17016"/>
                </a:cubicBezTo>
                <a:cubicBezTo>
                  <a:pt x="21747" y="17045"/>
                  <a:pt x="21737" y="17061"/>
                  <a:pt x="21729" y="17090"/>
                </a:cubicBezTo>
                <a:cubicBezTo>
                  <a:pt x="21688" y="17100"/>
                  <a:pt x="21659" y="17119"/>
                  <a:pt x="21654" y="17165"/>
                </a:cubicBezTo>
                <a:cubicBezTo>
                  <a:pt x="21649" y="17209"/>
                  <a:pt x="21612" y="17232"/>
                  <a:pt x="21580" y="17264"/>
                </a:cubicBezTo>
                <a:cubicBezTo>
                  <a:pt x="21552" y="17292"/>
                  <a:pt x="21554" y="17307"/>
                  <a:pt x="21530" y="17338"/>
                </a:cubicBezTo>
              </a:path>
              <a:path w="870" h="794">
                <a:moveTo>
                  <a:pt x="21605" y="16694"/>
                </a:moveTo>
                <a:cubicBezTo>
                  <a:pt x="21613" y="16694"/>
                  <a:pt x="21622" y="16694"/>
                  <a:pt x="21630" y="16694"/>
                </a:cubicBezTo>
                <a:cubicBezTo>
                  <a:pt x="21630" y="16735"/>
                  <a:pt x="21620" y="16731"/>
                  <a:pt x="21654" y="16743"/>
                </a:cubicBezTo>
                <a:cubicBezTo>
                  <a:pt x="21654" y="16816"/>
                  <a:pt x="21676" y="16763"/>
                  <a:pt x="21704" y="16818"/>
                </a:cubicBezTo>
                <a:cubicBezTo>
                  <a:pt x="21728" y="16864"/>
                  <a:pt x="21740" y="16856"/>
                  <a:pt x="21779" y="16892"/>
                </a:cubicBezTo>
                <a:cubicBezTo>
                  <a:pt x="21801" y="16915"/>
                  <a:pt x="21806" y="16923"/>
                  <a:pt x="21828" y="16917"/>
                </a:cubicBezTo>
                <a:cubicBezTo>
                  <a:pt x="21838" y="16957"/>
                  <a:pt x="21837" y="16956"/>
                  <a:pt x="21878" y="16966"/>
                </a:cubicBezTo>
                <a:cubicBezTo>
                  <a:pt x="21885" y="16993"/>
                  <a:pt x="21925" y="17077"/>
                  <a:pt x="21952" y="17090"/>
                </a:cubicBezTo>
                <a:cubicBezTo>
                  <a:pt x="21960" y="17090"/>
                  <a:pt x="21969" y="17090"/>
                  <a:pt x="21977" y="17090"/>
                </a:cubicBezTo>
                <a:cubicBezTo>
                  <a:pt x="21988" y="17133"/>
                  <a:pt x="22017" y="17157"/>
                  <a:pt x="22051" y="17190"/>
                </a:cubicBezTo>
                <a:cubicBezTo>
                  <a:pt x="22074" y="17212"/>
                  <a:pt x="22082" y="17217"/>
                  <a:pt x="22076" y="17239"/>
                </a:cubicBezTo>
                <a:cubicBezTo>
                  <a:pt x="22149" y="17239"/>
                  <a:pt x="22096" y="17261"/>
                  <a:pt x="22151" y="17289"/>
                </a:cubicBezTo>
                <a:cubicBezTo>
                  <a:pt x="22159" y="17289"/>
                  <a:pt x="22167" y="17289"/>
                  <a:pt x="22175" y="17289"/>
                </a:cubicBezTo>
                <a:cubicBezTo>
                  <a:pt x="22175" y="17341"/>
                  <a:pt x="22173" y="17338"/>
                  <a:pt x="22225" y="17338"/>
                </a:cubicBezTo>
                <a:cubicBezTo>
                  <a:pt x="22235" y="17379"/>
                  <a:pt x="22234" y="17378"/>
                  <a:pt x="22275" y="17388"/>
                </a:cubicBezTo>
                <a:cubicBezTo>
                  <a:pt x="22275" y="17440"/>
                  <a:pt x="22272" y="17438"/>
                  <a:pt x="22324" y="17438"/>
                </a:cubicBezTo>
                <a:cubicBezTo>
                  <a:pt x="22336" y="17472"/>
                  <a:pt x="22332" y="17462"/>
                  <a:pt x="22374" y="17462"/>
                </a:cubicBezTo>
                <a:cubicBezTo>
                  <a:pt x="22374" y="17487"/>
                  <a:pt x="22374" y="17495"/>
                  <a:pt x="22399" y="17487"/>
                </a:cubicBezTo>
              </a:path>
              <a:path w="870" h="794">
                <a:moveTo>
                  <a:pt x="21878" y="16892"/>
                </a:moveTo>
                <a:cubicBezTo>
                  <a:pt x="21849" y="16930"/>
                  <a:pt x="21857" y="16992"/>
                  <a:pt x="21803" y="17016"/>
                </a:cubicBezTo>
                <a:cubicBezTo>
                  <a:pt x="21772" y="17030"/>
                  <a:pt x="21782" y="17029"/>
                  <a:pt x="21754" y="17066"/>
                </a:cubicBezTo>
              </a:path>
              <a:path w="870" h="794">
                <a:moveTo>
                  <a:pt x="21803" y="16917"/>
                </a:moveTo>
                <a:cubicBezTo>
                  <a:pt x="21803" y="16942"/>
                  <a:pt x="21803" y="16950"/>
                  <a:pt x="21803" y="16966"/>
                </a:cubicBezTo>
              </a:path>
            </a:pathLst>
          </a:custGeom>
          <a:solidFill>
            <a:srgbClr val="ffffff"/>
          </a:solidFill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85600" y="1642680"/>
            <a:ext cx="53578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6600"/>
                </a:solidFill>
                <a:latin typeface="华文宋体"/>
                <a:ea typeface="华文宋体"/>
              </a:rPr>
              <a:t>方法一：可将救生圈、竹竿、木板等物抛给溺水者，再将其拖至岸边。</a:t>
            </a:r>
            <a:endParaRPr b="0" lang="en-US" sz="25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425" name="Picture 4" descr="W020060720804732198074"/>
          <p:cNvPicPr/>
          <p:nvPr/>
        </p:nvPicPr>
        <p:blipFill>
          <a:blip r:embed="rId2"/>
          <a:stretch/>
        </p:blipFill>
        <p:spPr>
          <a:xfrm>
            <a:off x="214200" y="2714760"/>
            <a:ext cx="4095720" cy="3500280"/>
          </a:xfrm>
          <a:prstGeom prst="rect">
            <a:avLst/>
          </a:prstGeom>
          <a:ln w="0">
            <a:noFill/>
          </a:ln>
        </p:spPr>
      </p:pic>
      <p:sp>
        <p:nvSpPr>
          <p:cNvPr id="426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67B2-5D1E-4895-B126-C9F8C304AF69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标题 1"/>
          <p:cNvSpPr/>
          <p:nvPr/>
        </p:nvSpPr>
        <p:spPr>
          <a:xfrm>
            <a:off x="571680" y="357120"/>
            <a:ext cx="8003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当发现有人溺水，该怎么办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1W_0630013X5[1]"/>
          <p:cNvPicPr/>
          <p:nvPr/>
        </p:nvPicPr>
        <p:blipFill>
          <a:blip r:embed="rId3"/>
          <a:stretch/>
        </p:blipFill>
        <p:spPr>
          <a:xfrm>
            <a:off x="4286160" y="2714760"/>
            <a:ext cx="4465800" cy="34812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2"/>
          <p:cNvSpPr/>
          <p:nvPr/>
        </p:nvSpPr>
        <p:spPr>
          <a:xfrm>
            <a:off x="1285920" y="928800"/>
            <a:ext cx="6786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华文宋体"/>
                <a:ea typeface="华文宋体"/>
              </a:rPr>
              <a:t>首先立即报警，再采用急救措施。急救方法如下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4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76320" y="1143000"/>
            <a:ext cx="82296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溺水在所有意外伤害死因中所占的比重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来持续保持在一半以上的水平，趋势有增无减。（柱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371600" y="2590920"/>
            <a:ext cx="7162920" cy="42656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背景资料：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321400" cy="15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华文宋体"/>
                <a:ea typeface="华文宋体"/>
              </a:rPr>
              <a:t>方法二：若没有救护器材，会游泳者可以入水直接救护。接近溺水者时要转动他的髋部，使其背向自己然后拖运。拖运时通常采用侧泳或仰泳拖运法。</a:t>
            </a:r>
            <a:endParaRPr b="0" lang="en-US" sz="28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431" name="Picture 6" descr="s_45b19ff9e2394e7e101d514f867a8a9111414[1]"/>
          <p:cNvPicPr/>
          <p:nvPr/>
        </p:nvPicPr>
        <p:blipFill>
          <a:blip r:embed="rId2"/>
          <a:stretch/>
        </p:blipFill>
        <p:spPr>
          <a:xfrm>
            <a:off x="1143000" y="2000160"/>
            <a:ext cx="6643800" cy="4418280"/>
          </a:xfrm>
          <a:prstGeom prst="rect">
            <a:avLst/>
          </a:prstGeom>
          <a:ln w="0">
            <a:noFill/>
          </a:ln>
        </p:spPr>
      </p:pic>
      <p:sp>
        <p:nvSpPr>
          <p:cNvPr id="432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D384-E18E-4E3C-8456-B961D61597AC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内容占位符 3" descr="急救姿势.jpg"/>
          <p:cNvPicPr/>
          <p:nvPr/>
        </p:nvPicPr>
        <p:blipFill>
          <a:blip r:embed="rId2"/>
          <a:stretch/>
        </p:blipFill>
        <p:spPr>
          <a:xfrm>
            <a:off x="357120" y="928800"/>
            <a:ext cx="3429000" cy="557820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4" descr="伏膝倒水法.jpg"/>
          <p:cNvPicPr/>
          <p:nvPr/>
        </p:nvPicPr>
        <p:blipFill>
          <a:blip r:embed="rId3"/>
          <a:stretch/>
        </p:blipFill>
        <p:spPr>
          <a:xfrm>
            <a:off x="3857760" y="1214280"/>
            <a:ext cx="5019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214440" y="5928840"/>
            <a:ext cx="28573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2f2f"/>
                </a:solidFill>
                <a:latin typeface="Franklin Gothic Medium"/>
              </a:rPr>
              <a:t>图</a:t>
            </a:r>
            <a:r>
              <a:rPr b="0" lang="en-US" sz="2800" spc="-1" strike="noStrike">
                <a:solidFill>
                  <a:srgbClr val="2f2f2f"/>
                </a:solidFill>
                <a:latin typeface="Franklin Gothic Medium"/>
              </a:rPr>
              <a:t>3    </a:t>
            </a:r>
            <a:r>
              <a:rPr b="0" lang="zh-CN" sz="2800" spc="-1" strike="noStrike">
                <a:solidFill>
                  <a:srgbClr val="2f2f2f"/>
                </a:solidFill>
                <a:latin typeface="Franklin Gothic Medium"/>
              </a:rPr>
              <a:t>人工呼吸</a:t>
            </a:r>
            <a:endParaRPr b="0" lang="en-US" sz="28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835812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2"/>
          <a:stretch/>
        </p:blipFill>
        <p:spPr>
          <a:xfrm>
            <a:off x="642960" y="285840"/>
            <a:ext cx="7786800" cy="5500440"/>
          </a:xfrm>
          <a:prstGeom prst="rect">
            <a:avLst/>
          </a:prstGeom>
          <a:ln w="0">
            <a:noFill/>
          </a:ln>
        </p:spPr>
      </p:pic>
      <p:sp>
        <p:nvSpPr>
          <p:cNvPr id="439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9222-B5CA-4FFD-91D9-0CAB59D1B850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标题 1"/>
          <p:cNvSpPr/>
          <p:nvPr/>
        </p:nvSpPr>
        <p:spPr>
          <a:xfrm>
            <a:off x="3000240" y="5786280"/>
            <a:ext cx="3500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图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    </a:t>
            </a: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胸外心脏挤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看到有人溺水时我们该怎么办？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原地大声呼救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跑去找大人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拨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10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急救电话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、没有绝对把握，不要冒险救人，以免造成更大恶果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背景资料：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7213680" cy="541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-303120" y="-655560"/>
            <a:ext cx="9752040" cy="81709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19320" y="228600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谢  谢  观  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64008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教案： 屈老师教案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有关溺水事件的图片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73" name="Picture 4" descr="20080726072955351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033000" y="5715000"/>
            <a:ext cx="353340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亲人悲痛欲绝，欲哭无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Franklin Gothic Medium"/>
              </a:rPr>
              <a:t>因溺水悲剧后造成的亲人悲痛欲绝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376" name="Picture 3" descr="1946283[1]"/>
          <p:cNvPicPr/>
          <p:nvPr/>
        </p:nvPicPr>
        <p:blipFill>
          <a:blip r:embed="rId2"/>
          <a:stretch/>
        </p:blipFill>
        <p:spPr>
          <a:xfrm>
            <a:off x="285840" y="928800"/>
            <a:ext cx="84866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7546"/>
                                      </p:to>
                                    </p:animClr>
                                    <p:animClr clrSpc="rgb">
                                      <p:cBhvr>
                                        <p:cTn id="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47546"/>
                                      </p:to>
                                    </p:animClr>
                                    <p:set>
                                      <p:cBhvr>
                                        <p:cTn id="32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8572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_1185413853_r2007-7-cj2168"/>
          <p:cNvPicPr/>
          <p:nvPr/>
        </p:nvPicPr>
        <p:blipFill>
          <a:blip r:embed="rId1"/>
          <a:stretch/>
        </p:blipFill>
        <p:spPr>
          <a:xfrm>
            <a:off x="990720" y="1066680"/>
            <a:ext cx="7238880" cy="51674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有关溺水事件的图片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3335400" y="5943600"/>
            <a:ext cx="261900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拉网打捞失水儿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10015443_067211"/>
          <p:cNvPicPr/>
          <p:nvPr/>
        </p:nvPicPr>
        <p:blipFill>
          <a:blip r:embed="rId1"/>
          <a:stretch/>
        </p:blipFill>
        <p:spPr>
          <a:xfrm>
            <a:off x="1219320" y="1447920"/>
            <a:ext cx="7086600" cy="484668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有关溺水事件的图片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2906640" y="5943600"/>
            <a:ext cx="383832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打捞现场，谁最揪心？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有关溺水事件的图片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3992400" y="5715000"/>
            <a:ext cx="140004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现场急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qjnszx"/>
          <p:cNvPicPr/>
          <p:nvPr/>
        </p:nvPicPr>
        <p:blipFill>
          <a:blip r:embed="rId1"/>
          <a:stretch/>
        </p:blipFill>
        <p:spPr>
          <a:xfrm>
            <a:off x="1981080" y="1600200"/>
            <a:ext cx="5639040" cy="3660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14:01:00Z</dcterms:created>
  <dc:creator>屈老师</dc:creator>
  <dc:description/>
  <dc:language>en-US</dc:language>
  <cp:lastModifiedBy>微软用户</cp:lastModifiedBy>
  <dcterms:modified xsi:type="dcterms:W3CDTF">2014-11-13T07:57:58Z</dcterms:modified>
  <cp:revision>29</cp:revision>
  <dc:subject/>
  <dc:title>幼儿园防溺水教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