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6CC-04B2-4B88-B124-9AB39885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EE06-A5D9-4ED6-BAC7-0BAB50AC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C5E-D68B-49BE-8EA6-898D8D53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3D52-630B-4F1D-950F-1FEA815F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B2BD-E320-4160-89FE-9DC145EC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CE6F-3AAC-4608-B8F9-35F69CE1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F679-4FAE-48EE-A92F-5FDDA3D4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4251-5708-4543-8B91-DDCF3535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E84B-D391-43AC-8E4E-D10A339A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ADBC-4AC6-4B55-96D2-FC058F02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C2BAF-C1D7-4C91-A781-0C34ED93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5065-6E46-44FA-B9CA-61DA8272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C3A0-99E9-4311-882B-6BC27732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10F9-0E72-4961-AA5A-7F98ABE2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217A-97C5-4906-B4FC-549390A3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B438-2B41-4648-A0D2-D405CEEC7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943E-36E4-42F7-8CF8-1C746A8E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20B65-1F36-42E1-9F66-47FDD17C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51DA4-62C9-49E1-9DD3-3942F9FC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81F5E-CC78-4468-B20A-9602205A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0F07C-6300-40FE-84A4-3874C1AE1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B2A14-5081-4342-85E1-8B23A54C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420-B1C6-4C64-A01A-0716163E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210EE-39B9-4C9B-B946-51A549FB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A678D-4EA9-46CA-8EA5-CCBEA5A8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058C1-A416-4727-B24E-BF025FA9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D2E23-324F-49B0-9C13-6B81CF0D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A25D1-C18E-40C0-8BDB-CFE772F7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069D-277C-410D-A02D-1C421D7F2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85E8-2E9B-4128-9930-DE7EB6699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FD0A7-D7E9-44B7-837F-EA68264BB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CCCBD-0B82-4178-BBB3-543FD0C0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58CB4-23FB-4507-A500-9EC8BC4E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BD1-DF15-4C77-958A-A4E031A5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E1AD5-4650-4410-97AA-CD769A521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F2203-C4F7-480E-BDCE-06A285F0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FBDF4-F205-46FA-AFC1-1139AF25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309FE-3AC6-4618-909A-0C37F718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FC8F1-4F01-4FEA-9799-1A3CCBC3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9C7D0-A4E8-48A6-A388-778C9AD0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63B16-F656-49DE-AA60-B28DF3AA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8D403-176D-4EE1-8872-0CA46C16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9571A-462A-40E3-80C5-3AC61D33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79CA2C-5867-46D1-91F6-3F723CE2C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CA6-240B-42D3-962F-0C4CDBF24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7874D8-57E2-4564-9CCA-9B7F385D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36A954-13F1-4751-BB79-579D87863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42B996-23E7-4294-B602-36AAABE9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821EDA-827F-4E77-AE50-BCDBFD82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FF5465-8512-4B38-A1E2-EEA894AB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DCEDCD-6A21-456F-BD04-F4F66798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C53421-D783-42A9-9FE5-110F6C27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62C436-5559-4D18-B20F-47435FF4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602CFF-8EFC-4CB2-AEAB-607509A6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6F195-EAB9-4895-AAAC-807B651B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76A-AF05-46E4-9F5A-92E2F577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FE3C9A-BF10-4E1F-A8C9-74D24728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8E38F-6715-4F0B-8853-B0D8CCFD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8842F-2E51-46D4-92D7-84EA0023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812E5-48D8-4FEA-AE34-75112C93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01A38-98AC-47BD-9611-08B21C6C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8A8EE-8CC4-4D77-B29B-3C819083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9D750-FD16-49AD-911C-F4496CD6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4AE7C-BCE8-4A42-8032-492AECFA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38222-3667-44AE-ADAC-50040524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9666F-2927-4E9A-8389-D30A1305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7F0-2C0B-43F8-8959-B6D43C9F3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A7654-97B1-4810-91FA-EA2489D8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3BA41-14D2-4624-BC27-238E13D8D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7F15C-85E0-4005-ACB8-073237A8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41BC8-A5CF-4963-9C16-149EAF8E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4B264-9E4A-4516-89EB-F3A1EAFB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E27AD-13DF-44E4-818F-10FC3ABE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9D197-5CDA-42A3-A8F7-2A575C06D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A3F6E-BA76-4D0B-A1B9-F5B46CCE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6E84D-8584-42F9-B530-884D434B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828D0-0736-44ED-86B9-A9976C7F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2F63-8069-4D71-BB9D-9B43D031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246F1-3A24-4BF5-96AB-4E2B8B79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AE644-A6E3-486C-BE6A-4E436E5D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C0FD8E-DE3A-4DD9-93FF-30579635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D7C9E-2B08-40DD-ABC3-5AF6F327C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F48BE-CB8D-4E23-9FFA-5A6878A8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279-FADC-4FF0-BA38-6C670334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2B64-5235-40F7-A559-87E6C8715A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2A81-A20B-44F2-BC78-E2C867048C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3E0A-A445-4FAE-8263-7F5704B20A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4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28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30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3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08B0-5543-41C9-9624-FA76237C3E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8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89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1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8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7643-66DD-46CC-9B8A-BF4E4ACF22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45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6F68-703E-4564-8D8A-7B6BDD666CC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92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791B-5E05-460D-A44B-4C9A943532B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908000" y="1268280"/>
            <a:ext cx="575964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63"/>
                <a:gd name="adj2" fmla="val 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"/>
              </a:rPr>
              <a:t>养成良好的行为习惯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"/>
              <a:ea typeface="Gulim"/>
            </a:endParaRPr>
          </a:p>
        </p:txBody>
      </p:sp>
      <p:sp>
        <p:nvSpPr>
          <p:cNvPr id="339" name=""/>
          <p:cNvSpPr/>
          <p:nvPr/>
        </p:nvSpPr>
        <p:spPr>
          <a:xfrm>
            <a:off x="971640" y="5084640"/>
            <a:ext cx="7777080" cy="398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4787a"/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00"/>
                </a:solidFill>
                <a:latin typeface="Arial"/>
                <a:ea typeface="黑体"/>
              </a:rPr>
              <a:t>什么是教育，行为习惯的培养就是教育 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68360" y="3429000"/>
            <a:ext cx="867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Arial"/>
              </a:rPr>
              <a:t>          </a:t>
            </a:r>
            <a:r>
              <a:rPr b="1" lang="zh-CN" sz="5400" spc="-1" strike="noStrike">
                <a:solidFill>
                  <a:srgbClr val="bbe0e3"/>
                </a:solidFill>
                <a:latin typeface="Arial"/>
              </a:rPr>
              <a:t>Time for game</a:t>
            </a:r>
            <a:r>
              <a:rPr b="1" lang="zh-CN" sz="5400" spc="-1" strike="noStrike">
                <a:solidFill>
                  <a:srgbClr val="bbe0e3"/>
                </a:solidFill>
                <a:latin typeface="Arial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c0c0c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你我他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游戏规则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以小组为单位，每次派一个参赛者参加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参赛者可自选题目编号，然后根据编号的内容做出相应的回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游戏过程中，不得出现“你、我、他（她、它）”这三个字，别想钻空……中文英文法文德文日文韩文等等等等的这三个字都不行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一旦出现这三个字其中之一一次，便要接受惩罚，每完成一项就给相应的组加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请在以下编号中任选一项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4000" y="2565000"/>
            <a:ext cx="73450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Arial"/>
                <a:hlinkClick r:id="rId2" action="ppaction://hlinksldjump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Arial"/>
                <a:hlinkClick r:id="rId5" action="ppaction://hlinksldjump"/>
              </a:rPr>
              <a:t>4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Arial"/>
                <a:hlinkClick r:id="rId6" action="ppaction://hlinksldjump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4000" spc="-1" strike="noStrike" u="sng">
                <a:solidFill>
                  <a:srgbClr val="dc5900"/>
                </a:solidFill>
                <a:uFillTx/>
                <a:latin typeface="Arial"/>
                <a:hlinkClick r:id="rId7" action="ppaction://hlinksldjump"/>
              </a:rPr>
              <a:t>6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    7     8       9     10     11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6804000" y="450864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920" y="2565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1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说出你一次有趣的旅游经历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28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2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请说出你自己的学习方法，例如学习实践和科目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920" y="2997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3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请你说说如果你中了彩票你会怎么做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24000" y="2707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4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请用中文对着主持人翻译出以下两句话    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I  see  and  I  can  help  you    I  know you but I love you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请唱出以下歌曲 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00000" y="2349360"/>
            <a:ext cx="755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送你离开  千里之外  你无声黑白  沉默年代  或许不该  太遥远的相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送你离开  天涯之外  你是否还在   琴声何来  生死难猜  用一生  去等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周杰伦《千里之外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请唱出以下歌曲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2421000"/>
            <a:ext cx="734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曾经的我想唱就唱我最闪亮   这一年夏天有最感动的阳光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给我梦想   我勇敢往前闯   风吹雨打拍拍肩膀   现在的我想唱就唱我最闪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一年夏天有最温暖的目光   记忆的远方   我披戴的荣光   照进天窗擦亮梦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快男《我最闪亮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11280" y="193680"/>
            <a:ext cx="799308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人将海里最凶猛的鲨鱼和他最喜欢吃的热带鱼放在一个大水池里，但是中间用一块透明的强化玻璃隔开。在最开始，鲨鱼看到另外一边自己喜欢的食物的时候会毫不犹豫的冲过去，但是很快就被玻璃给拦下来了，于是鲨鱼开始一次又一次的撞击玻璃，很快鲨鱼就被撞的头破血流，但是刚刚被撞出裂纹的玻璃马上被人换上更加结实的。一段时间之后，鲨鱼不再冲向近在咫尺的热带鱼，不再去碰中间的玻璃，甚至是远远的离开曾经撞的头破血流的地方，好像害怕再受到伤害一样，只是远远的看着在隔壁自由自在游着的热带鱼。最后，人们把中间的透明玻璃抽掉，可是这个时候，鲨鱼依然不敢跨越中间的那个地块，偶尔有热带鱼不小心游到鲨鱼这边，鲨鱼很快就会扑过去，可是一旦这些鱼逃到水池的另外一边，鲨鱼马上就会停下来，眼睁睁的看着这些鱼离去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54064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请谈谈你对环保的理解，比如我应该为学校和家庭做些什么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请向大家介绍你的家人，包括自己和爸爸妈妈还有兄弟姐妹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9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请在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25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秒朗读完以下两段文字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68360" y="1628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些事情已过去，望着老师的心情，我有时都会哭，还有三个月，我们就要和她说再见，我不舍得她，她教的我们这个班，很严格，我很喜欢，但我希望见到这个班有团结的风气，不再让她老师担心，因为我觉得这个班非常友爱，我希望永远都不会散。我想念这个班，想念他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 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  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蹑手蹑脚地打开门，没想到灯是亮着的，我进到客厅，发现妈妈坐在沙发上睡着了，她披在身上的外套已经滑落，电视开着，却被她调成了静音，桌子上还摆着我最爱吃的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有些难过，小心地把妈妈的外套捡起来，想再次给她盖上，不料却惊醒了妈妈。“妈。”我怯怯地叫着，“对不起，这么晚了你还在这等我。”“没事，你不是给我留条了吗，不要紧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10 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请为下周我们班上场的拔河队员打打气，说一番鼓励的话激励他们</a:t>
            </a:r>
            <a:br>
              <a:rPr sz="4000"/>
            </a:b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11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请在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10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秒之内读出一段文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有一个黑人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他找到了一个神灯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神答应实现他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个愿望。 他的第一个愿望是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希望他天天有水喝。 第二个愿望：希望他能变白。 第三个愿望：希望天天能看到女生的屁股。 “砰”的一声他变成了马桶！！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特别回合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请就喜欢吃的食物、喜欢的运动等方面和对方组员讨论、诱使对方说出你我他三个字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游戏到此结束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你们体会到习惯的力量了吗？怎么养成良好的行为习惯，什么是良好的行为习惯我们听得太多了，已经是老掉牙的东西了。所以，这次游戏的目的是为了让大家体会一下习惯的力量，让大家明白一个好的行为习惯具有怎样的力量，希望大家能养成良好的行为习惯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同学们，好的学习效果、好的学习成绩从培养良好行为习惯开始，这几乎是一个人人皆知的道理，希望同学们尽快养成好的学习、生活习惯。诺贝尔奖获得者、智利诗人米斯特拉尔说：“许多需要的东西我们可以等待／但是学生不能等／他的骨骼正在形成／血液正在生成／心智正在发育／对学生我们不能说明天／他的名字是今天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那么，让我们从今天做起，从现在做起，从小事情做起，在生活和学习中培养自己一个又一个好习惯，让好习惯伴随我们终身，成为我们走向成功、走向辉煌的一个又一个五彩的阶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6600"/>
                </a:solidFill>
                <a:latin typeface="Arial"/>
              </a:rPr>
              <a:t>养成哪些良好的学习习惯？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尊重与欣赏老师的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亲其师，信其道。学生要学习好，除了我们老师努力提高能力水平，适应学生外，学生更要尊重老师，适应老师，并学会欣赏自己的老师。不同层次的老师，学生用不同的方式，眼睛向内、提高自我的方式去适应，与老师共同进步。从现在适应老师，长大了适应社会。不会稍不如意就埋怨环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826920" y="1052640"/>
            <a:ext cx="7560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自学预习的习惯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专心上课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认真观察，积极思考的习惯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善于提问的习惯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仔细审题的习惯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整理错题集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6600"/>
                </a:solidFill>
                <a:latin typeface="Arial"/>
              </a:rPr>
              <a:t>你们知道以下的东西吗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303800" y="0"/>
            <a:ext cx="48402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50920" y="0"/>
            <a:ext cx="4248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播下一个行动 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收获一种习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播下一种习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收获一种性格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播下一种性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收获一种命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3" dur="3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14200" y="1413000"/>
            <a:ext cx="89298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我的一言一行是自我形象的标志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是学校荣誉的标志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是良好品德的标志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4360" y="33336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树立一种信念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以下基本的习惯你做到了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按时到校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迟到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不早退，不旷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专心听讲，勤于思考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真完成作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坚持锻炼身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，积极参加有益的文娱活动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活节俭，不摆阔气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乱花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活有规律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时作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a1a1a1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3024000" cy="30243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4356000" y="2133720"/>
            <a:ext cx="453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知道你们很多人都没做到呢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例如你们的历史和数学交了没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数代和历代很生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果其实也不怎么严重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09:16:52Z</dcterms:created>
  <dc:creator>雨林木风</dc:creator>
  <dc:description/>
  <dc:language>en-US</dc:language>
  <cp:lastModifiedBy>User</cp:lastModifiedBy>
  <dcterms:modified xsi:type="dcterms:W3CDTF">2013-10-15T02:39:51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f000000000001024120</vt:lpwstr>
  </property>
</Properties>
</file>