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B6C7C-9E8E-4831-B990-935A0F277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A70FC-AF75-42B9-9CF8-32A3F4420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C6525-6A39-4709-80D0-CDA6C0BED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FDF8-9C6C-422F-B837-BB2CBC6E1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A260-4EA8-4122-AF75-924580BF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13A1-D0A3-417D-9CB0-682A0DDC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6D94-B8D4-4244-B808-79F8E056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11FBC-76FA-45B4-9FF3-A415BC6D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6237-B609-4949-9BD1-D02E637F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37D1-BF51-4BA4-BBC5-AC6DF914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01E4-1F3F-4611-8184-FE69EA5E9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698B5-4D20-46C8-B8BD-B49D7CD8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6F421-4E8A-4688-80C9-E7063F10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47EF-C7AC-4E93-9825-61733F80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8319-FB7B-41C0-B563-23AAD6525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1E7C3-1F2F-4476-B924-1F24FD37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E736-4C95-429C-B43C-15C418933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C7C7-9A29-4555-8543-F7BCFD97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6F883-AF05-4E00-8463-7C042E50D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A5919-E713-4B6C-A7C9-7AF05854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00A04A-A8A6-4875-86EF-7EC815A25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34B84-195A-454F-84FD-4D413E41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DB2B-3B36-409E-A2CB-6AD012EE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F7A96C-21B8-4B80-8F4A-9008EA65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F6555-FBEB-4A4C-9828-9CD8851AB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33B4-0499-4665-B496-751558B035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图片1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6312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4"/>
          <p:cNvSpPr/>
          <p:nvPr/>
        </p:nvSpPr>
        <p:spPr>
          <a:xfrm>
            <a:off x="1619280" y="1916280"/>
            <a:ext cx="576108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Arial"/>
              </a:rPr>
              <a:t>戚矶小学学生法制教育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Arial"/>
              </a:rPr>
              <a:t>宣传讲座</a:t>
            </a:r>
            <a:r>
              <a:rPr b="0" lang="zh-CN" sz="1800" spc="-1" strike="noStrike">
                <a:solidFill>
                  <a:srgbClr val="0099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42920" y="4292640"/>
            <a:ext cx="381816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cc"/>
                </a:solidFill>
                <a:latin typeface="Arial"/>
              </a:rPr>
              <a:t>主讲：陈国祁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cc"/>
                </a:solidFill>
                <a:latin typeface="Arial"/>
              </a:rPr>
              <a:t>时间：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2013</a:t>
            </a:r>
            <a:r>
              <a:rPr b="1" lang="zh-CN" sz="2400" spc="-1" strike="noStrike">
                <a:solidFill>
                  <a:srgbClr val="0099cc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12</a:t>
            </a:r>
            <a:r>
              <a:rPr b="1" lang="zh-CN" sz="2400" spc="-1" strike="noStrike">
                <a:solidFill>
                  <a:srgbClr val="0099cc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99cc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99cc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cc"/>
                </a:solidFill>
                <a:latin typeface="Arial"/>
              </a:rPr>
              <a:t>地点：学校六年级教室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cc"/>
                </a:solidFill>
                <a:latin typeface="Arial"/>
              </a:rPr>
              <a:t>形式：法制教育宣传讲座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4"/>
          <p:cNvSpPr/>
          <p:nvPr/>
        </p:nvSpPr>
        <p:spPr>
          <a:xfrm>
            <a:off x="1116000" y="981000"/>
            <a:ext cx="741672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三）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以上的未成年人是限制民事行为能力人。由于他们正处于成长发育的过程中，是不成熟和不稳定的，也是最容易给他人造成伤害的群体，应由本人及其监护人共同承担相应的民事责任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四）、不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的未成年人是无民事行为能力人，造成他人伤害的，应由其监护人承担民事赔偿责任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五）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道路交通管理条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规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以上方能骑自行车上路，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允许驾驶机动车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〈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小客可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〉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468360" y="404640"/>
            <a:ext cx="842472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通路交通安全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日，第十届全国人民代表大会常务委员会等五次会议通过，第六条第四次规定：教育行政部门、学校应当将道路交通安全教育纳入法制教育的内容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学生乘车时应该注意的安全：①头部、手不要伸出车窗外；②上、下车不要拥挤；③不要强行搭乘机动车；④乘车时不要向车外乱扔东西。⑥坐在前排的人不要与司机聊天，影响司机安全驾驶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学生行走时应该注意的安全：①靠右侧靠边行走；②在公路上不要追跑、玩游戏、打球等；③横穿公路时，要前后观看清楚后，确保安全通行，有横行斑马线或天桥的地方，要走斑观线或天桥，不要闯红灯！④不要向过往车辆抛杂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684360" y="40464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三、个别学生容易发生的不良现象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26920" y="1413000"/>
            <a:ext cx="7056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未成年人保护法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列举了九种不良现象，希望在坐的每个学生都要牢记在心，作为自己的一条警戒线！这九种不良现象最容易引发违法行为，甚至诱化走上犯罪的深渊！我们要时刻警惕它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611280" y="404640"/>
            <a:ext cx="7848360" cy="53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未成年人保护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条规定：未成年人的父母或才者其他监护人和学校，应当教育未成年人不得有下列不良行为：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旷课，夜不归宿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携带管制刀具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打架斗殴、辱骂他人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强行向他人索要财物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 偷窃、故意毁坏财物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 参与赌博或者变相赌博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 观看、 收听色情、淫秽的音像制品、读物等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 进入法律、法规规定未成年人不适宜进入的营业性  歌舞厅等场所；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、 其他严重违背社会公德的不良行为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826920" y="1052640"/>
            <a:ext cx="777744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同学们！让我们利用班、队活动时间，来开展各种形式的法律学习，提高自己的“法商”，让法律陪伴我们一起健康成长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4"/>
          <p:cNvSpPr/>
          <p:nvPr/>
        </p:nvSpPr>
        <p:spPr>
          <a:xfrm>
            <a:off x="826920" y="549360"/>
            <a:ext cx="705672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547640" y="1413000"/>
            <a:ext cx="669636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遵守法律  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从我做起   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从现在做起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826920" y="476280"/>
            <a:ext cx="7417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7"/>
          <p:cNvSpPr/>
          <p:nvPr/>
        </p:nvSpPr>
        <p:spPr>
          <a:xfrm>
            <a:off x="1042920" y="907920"/>
            <a:ext cx="7056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小学生应当了解法律常识，应当具备自我防范能力及心理素质，应当自觉抵制不良行为，今天利用这次年级活动来和大家了解一些法律常识，树立正确的人生观和学会自我保护；树立自觉遵守法纪的法律观念，培养自己的“法商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相对学生“智商”和“情商”来讲的， “法商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就是指法律意识和法制观念。“智商”、“情商”和“法商”，“三商”都很重要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755640" y="549360"/>
            <a:ext cx="59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一、 学生为什么要学习法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755640" y="1268280"/>
            <a:ext cx="7777080" cy="12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我们的国家领导人邓小平同志曾经指出：法制教育要从娃娃开始，小学、中学都要进行这个教育。学生学习法律知识是当今法治社会的需要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首先，学好法律才能做到知法、守法，增强自己的法律意识和法制观念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就是我们刚才提到的“法商”），知道什么是合法，什么是违法，什么是犯罪，自觉地履行法律规定的各项义务，用法律来约束自己的行为，正确适用法律对待和处理自己周边的纠纷，从而保护自己的合法权益，防止违法犯罪，真正做到知法、懂法、守法、护法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468360" y="476280"/>
            <a:ext cx="82803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其次，学好法律才能正确地运用法律手段，保护自己的合法权益。学生享有法律赋予的生命权、受教育权、继承权健康权、名誉权、人身自由权等权利受法律保护，用法律来维护自己的权利。例如：有的个别学生父母让自己正在接受义务教育的子女辍学，学生：你遇到这种事情怎么办？你学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义务教育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就知道你的父母违反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义务教育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：父母必须使适龄子女接受九年义务教育的规定，可以向学校或有关单位报告，求得解决。再如：某家养的狗咬伤了行路的学生怎么办？你学习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民法通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条后，就知道：饲养的动物造成他人损害的，动物的饲养人或管理人应当承担民事赔偿责任。总之，只有学法，才能知法、懂法，才能运用法律武器来保护自己，维护自己的合法权益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4"/>
          <p:cNvSpPr/>
          <p:nvPr/>
        </p:nvSpPr>
        <p:spPr>
          <a:xfrm>
            <a:off x="539640" y="620640"/>
            <a:ext cx="8064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第三、学好了法律才能自觉地维护法律的权威与尊严，同一切违法犯罪行为作斗争。法律体现人民利益，违法就是违背人民利益，损害了人民利益，国家的法律靠全体人民来维护，同违法犯罪行为作斗争，不仅是每个公民的权利，也是每个公民的义务。学习了法律，就知道那些是违法犯罪的行为，从而自觉遵守法律，正确地运用法律武器来积极同违法犯罪行为作斗争，维护国家和人民的利益，保卫社会主义现代建设顺利进。因此，中、小学生学习法律非常必要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755640" y="404640"/>
            <a:ext cx="59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二、学生应当学习哪些法律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95280" y="1268280"/>
            <a:ext cx="813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作为在校学生，你们的年龄基本都介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周岁之间，这个年龄是心理成长，变化最大、也是逆反心理最重要的阶段，用一颗平衡的、正直的心态沿着正确的人生方向走下去，便是“条条大路通罗马”！每个人都会在不同的事业中取得辉煌的成绩。相反“一失足便成千古恨”！走错了路也许会贻误终身。我们应当了解一下，在哪些法律中的什么样的年龄段应当负责什么法律责任，从而来了解我们中小学生应当掌握的哪几种法律常识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324000" y="2060640"/>
            <a:ext cx="842472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一）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周岁以下均为未成年人，作为未成年人，我们首先应当学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未成年人保护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从而知道当我们受到伤害时应当寻求哪些保护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611280" y="549360"/>
            <a:ext cx="792000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二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，为限制行为能力人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：完全行为能力人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刑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规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为刑事责任年龄；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治安管理罚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修改前为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治安管理处罚条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）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条规定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为治安处罚年龄，也就是年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未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的人对自己的违法具有一定的认识能力，但认知能力较弱，因此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刑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第十七条规定，已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的人犯罪，应当负刑事责任。已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不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的人，犯故意杀人、故意伤害致人重伤或者死亡、强奸、抢劫、贩卖毒品、放火、爆炸、投毒罪的，名当负刑事责任。已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的不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的人犯罪，应当以轻或者减轻处罚。因不满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周岁不予刑事处罚的，责令他的家长或者监护人严加管教；在必要的时候，也可以由政府收容教养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684360" y="692280"/>
            <a:ext cx="80643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们学习了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刑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治安管理处罚法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就知道自己如果违了法犯了罪，将会得到什么样的处罚或刑罚，从而做到自觉守法、护法，请同学们注意的是：法律不因为你不知道法律的规定，而实行违法犯罪的行为而不追究责任，形象的说：“法盲”触犯了国家法律同样要追究其法律责任！这就是“法网恢恢，疏而不漏”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06:38:45Z</dcterms:created>
  <dc:creator>SkyUN.Org</dc:creator>
  <dc:description/>
  <dc:language>en-US</dc:language>
  <cp:lastModifiedBy>微软用户</cp:lastModifiedBy>
  <dcterms:modified xsi:type="dcterms:W3CDTF">2013-12-04T14:48:03Z</dcterms:modified>
  <cp:revision>7</cp:revision>
  <dc:subject/>
  <dc:title>幻灯片 1</dc:title>
</cp:coreProperties>
</file>