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8.gif" ContentType="image/gif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24.jpeg" ContentType="image/jpeg"/>
  <Override PartName="/ppt/media/image15.png" ContentType="image/png"/>
  <Override PartName="/ppt/media/image31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13.png" ContentType="image/png"/>
  <Override PartName="/ppt/media/image50.png" ContentType="image/png"/>
  <Override PartName="/ppt/media/image46.jpeg" ContentType="image/jpeg"/>
  <Override PartName="/ppt/media/image30.jpeg" ContentType="image/jpeg"/>
  <Override PartName="/ppt/media/image3.jpeg" ContentType="image/jpeg"/>
  <Override PartName="/ppt/media/image47.jpeg" ContentType="image/jpeg"/>
  <Override PartName="/ppt/media/image4.png" ContentType="image/png"/>
  <Override PartName="/ppt/media/image32.jpeg" ContentType="image/jpeg"/>
  <Override PartName="/ppt/media/image51.png" ContentType="image/png"/>
  <Override PartName="/ppt/media/image38.png" ContentType="image/png"/>
  <Override PartName="/ppt/media/image8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E0C-8D81-4B1B-9D13-671603FA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0CE-91B2-4C20-AC9E-6C7791EA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160-B3BF-41F6-A5B9-7D3EB5AA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B24-F3F0-4616-A2D7-23C5C2D0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067-C1D0-466E-BA3A-544D561B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82E-6FDB-4186-81A1-46614B21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8D9-B8BB-482F-8919-9F1DFBAD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B0F-8CF1-4AC4-A993-2C2AED47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D76-CA3A-488A-999B-B66D37D8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A9E-0EC0-4409-8C9C-5422C002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F78-2119-4598-97EB-823F07E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653-4BB5-4669-9995-E05AB600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1D3E-134C-40EF-919F-509A95660F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13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1.png"/><Relationship Id="rId9" Type="http://schemas.openxmlformats.org/officeDocument/2006/relationships/image" Target="../media/image14.png"/><Relationship Id="rId10" Type="http://schemas.openxmlformats.org/officeDocument/2006/relationships/image" Target="../media/image12.png"/><Relationship Id="rId11" Type="http://schemas.openxmlformats.org/officeDocument/2006/relationships/image" Target="../media/image15.png"/><Relationship Id="rId12" Type="http://schemas.openxmlformats.org/officeDocument/2006/relationships/image" Target="../media/image13.png"/><Relationship Id="rId13" Type="http://schemas.openxmlformats.org/officeDocument/2006/relationships/image" Target="../media/image16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5284800" y="623880"/>
            <a:ext cx="1776240" cy="1762200"/>
          </a:xfrm>
          <a:custGeom>
            <a:avLst/>
            <a:gdLst/>
            <a:ahLst/>
            <a:rect l="l" t="t" r="r" b="b"/>
            <a:pathLst>
              <a:path w="1811218" h="1931525">
                <a:moveTo>
                  <a:pt x="1294486" y="1931525"/>
                </a:moveTo>
                <a:cubicBezTo>
                  <a:pt x="950395" y="1752931"/>
                  <a:pt x="606303" y="1629106"/>
                  <a:pt x="394372" y="1317162"/>
                </a:cubicBezTo>
                <a:cubicBezTo>
                  <a:pt x="182441" y="1005218"/>
                  <a:pt x="-79496" y="221788"/>
                  <a:pt x="22898" y="59863"/>
                </a:cubicBezTo>
                <a:cubicBezTo>
                  <a:pt x="125292" y="-102062"/>
                  <a:pt x="737274" y="88438"/>
                  <a:pt x="1008736" y="345613"/>
                </a:cubicBezTo>
                <a:cubicBezTo>
                  <a:pt x="1280198" y="602788"/>
                  <a:pt x="1517926" y="1373915"/>
                  <a:pt x="1651673" y="1602912"/>
                </a:cubicBezTo>
                <a:cubicBezTo>
                  <a:pt x="1785420" y="1831909"/>
                  <a:pt x="1777980" y="1695285"/>
                  <a:pt x="1811218" y="171959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任意多边形 4"/>
          <p:cNvSpPr/>
          <p:nvPr/>
        </p:nvSpPr>
        <p:spPr>
          <a:xfrm rot="3911400">
            <a:off x="7246800" y="382680"/>
            <a:ext cx="1470240" cy="2279520"/>
          </a:xfrm>
          <a:custGeom>
            <a:avLst/>
            <a:gdLst/>
            <a:ahLst/>
            <a:rect l="l" t="t" r="r" b="b"/>
            <a:pathLst>
              <a:path w="1610626" h="2323282">
                <a:moveTo>
                  <a:pt x="1075796" y="2323282"/>
                </a:moveTo>
                <a:cubicBezTo>
                  <a:pt x="731705" y="2144688"/>
                  <a:pt x="390647" y="1795886"/>
                  <a:pt x="212797" y="1462660"/>
                </a:cubicBezTo>
                <a:cubicBezTo>
                  <a:pt x="34947" y="1129434"/>
                  <a:pt x="-24268" y="563426"/>
                  <a:pt x="8694" y="323929"/>
                </a:cubicBezTo>
                <a:cubicBezTo>
                  <a:pt x="41656" y="84432"/>
                  <a:pt x="296093" y="-62093"/>
                  <a:pt x="410567" y="25679"/>
                </a:cubicBezTo>
                <a:cubicBezTo>
                  <a:pt x="525041" y="113451"/>
                  <a:pt x="695459" y="294406"/>
                  <a:pt x="837408" y="475420"/>
                </a:cubicBezTo>
                <a:cubicBezTo>
                  <a:pt x="979357" y="656434"/>
                  <a:pt x="1174158" y="949841"/>
                  <a:pt x="1262264" y="1111766"/>
                </a:cubicBezTo>
                <a:cubicBezTo>
                  <a:pt x="1350370" y="1273691"/>
                  <a:pt x="1493951" y="1614310"/>
                  <a:pt x="1547528" y="1735440"/>
                </a:cubicBezTo>
                <a:cubicBezTo>
                  <a:pt x="1601105" y="1856570"/>
                  <a:pt x="1638497" y="1921892"/>
                  <a:pt x="1583729" y="183854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5"/>
          <p:cNvSpPr/>
          <p:nvPr/>
        </p:nvSpPr>
        <p:spPr>
          <a:xfrm>
            <a:off x="6215040" y="2376360"/>
            <a:ext cx="331920" cy="236520"/>
          </a:xfrm>
          <a:custGeom>
            <a:avLst/>
            <a:gdLst/>
            <a:ahLst/>
            <a:rect l="l" t="t" r="r" b="b"/>
            <a:pathLst>
              <a:path w="338481" h="260327">
                <a:moveTo>
                  <a:pt x="338481" y="17439"/>
                </a:moveTo>
                <a:cubicBezTo>
                  <a:pt x="277759" y="22201"/>
                  <a:pt x="215848" y="-18279"/>
                  <a:pt x="190845" y="10296"/>
                </a:cubicBezTo>
                <a:cubicBezTo>
                  <a:pt x="165842" y="38871"/>
                  <a:pt x="291253" y="98799"/>
                  <a:pt x="259900" y="103164"/>
                </a:cubicBezTo>
                <a:cubicBezTo>
                  <a:pt x="228547" y="107529"/>
                  <a:pt x="31697" y="-27804"/>
                  <a:pt x="2725" y="36489"/>
                </a:cubicBezTo>
                <a:cubicBezTo>
                  <a:pt x="-26247" y="100782"/>
                  <a:pt x="185287" y="165474"/>
                  <a:pt x="186081" y="188889"/>
                </a:cubicBezTo>
                <a:cubicBezTo>
                  <a:pt x="186875" y="212304"/>
                  <a:pt x="11456" y="115069"/>
                  <a:pt x="7488" y="176982"/>
                </a:cubicBezTo>
                <a:cubicBezTo>
                  <a:pt x="3520" y="238895"/>
                  <a:pt x="85672" y="251199"/>
                  <a:pt x="133693" y="2603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任意多边形 6"/>
          <p:cNvSpPr/>
          <p:nvPr/>
        </p:nvSpPr>
        <p:spPr>
          <a:xfrm flipH="1" flipV="1" rot="17590200">
            <a:off x="7731000" y="2378160"/>
            <a:ext cx="193680" cy="322200"/>
          </a:xfrm>
          <a:custGeom>
            <a:avLst/>
            <a:gdLst/>
            <a:ahLst/>
            <a:rect l="l" t="t" r="r" b="b"/>
            <a:pathLst>
              <a:path w="212200" h="329521">
                <a:moveTo>
                  <a:pt x="212200" y="46158"/>
                </a:moveTo>
                <a:cubicBezTo>
                  <a:pt x="151478" y="50920"/>
                  <a:pt x="141534" y="-33130"/>
                  <a:pt x="112931" y="14851"/>
                </a:cubicBezTo>
                <a:cubicBezTo>
                  <a:pt x="84328" y="62832"/>
                  <a:pt x="189006" y="150038"/>
                  <a:pt x="170716" y="153991"/>
                </a:cubicBezTo>
                <a:cubicBezTo>
                  <a:pt x="152426" y="157944"/>
                  <a:pt x="31004" y="-21504"/>
                  <a:pt x="3190" y="38568"/>
                </a:cubicBezTo>
                <a:cubicBezTo>
                  <a:pt x="-24624" y="98640"/>
                  <a:pt x="138555" y="219997"/>
                  <a:pt x="139000" y="249319"/>
                </a:cubicBezTo>
                <a:cubicBezTo>
                  <a:pt x="139445" y="278641"/>
                  <a:pt x="9935" y="201131"/>
                  <a:pt x="5858" y="214498"/>
                </a:cubicBezTo>
                <a:cubicBezTo>
                  <a:pt x="1782" y="227865"/>
                  <a:pt x="66520" y="320393"/>
                  <a:pt x="114541" y="32952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任意多边形 8"/>
          <p:cNvSpPr/>
          <p:nvPr/>
        </p:nvSpPr>
        <p:spPr>
          <a:xfrm rot="20869200">
            <a:off x="6094080" y="3262320"/>
            <a:ext cx="603360" cy="262080"/>
          </a:xfrm>
          <a:custGeom>
            <a:avLst/>
            <a:gdLst/>
            <a:ahLst/>
            <a:rect l="l" t="t" r="r" b="b"/>
            <a:pathLst>
              <a:path w="614363" h="287220">
                <a:moveTo>
                  <a:pt x="0" y="287220"/>
                </a:moveTo>
                <a:cubicBezTo>
                  <a:pt x="9525" y="155060"/>
                  <a:pt x="82550" y="84020"/>
                  <a:pt x="154781" y="39570"/>
                </a:cubicBezTo>
                <a:cubicBezTo>
                  <a:pt x="227012" y="-4880"/>
                  <a:pt x="356790" y="-12816"/>
                  <a:pt x="433387" y="20521"/>
                </a:cubicBezTo>
                <a:cubicBezTo>
                  <a:pt x="509984" y="53858"/>
                  <a:pt x="579140" y="161609"/>
                  <a:pt x="614363" y="239594"/>
                </a:cubicBezTo>
              </a:path>
            </a:pathLst>
          </a:custGeom>
          <a:noFill/>
          <a:ln w="101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9"/>
          <p:cNvSpPr/>
          <p:nvPr/>
        </p:nvSpPr>
        <p:spPr>
          <a:xfrm rot="994800">
            <a:off x="7404120" y="3309840"/>
            <a:ext cx="601560" cy="262080"/>
          </a:xfrm>
          <a:custGeom>
            <a:avLst/>
            <a:gdLst/>
            <a:ahLst/>
            <a:rect l="l" t="t" r="r" b="b"/>
            <a:pathLst>
              <a:path w="614363" h="287220">
                <a:moveTo>
                  <a:pt x="0" y="287220"/>
                </a:moveTo>
                <a:cubicBezTo>
                  <a:pt x="9525" y="155060"/>
                  <a:pt x="82550" y="84020"/>
                  <a:pt x="154781" y="39570"/>
                </a:cubicBezTo>
                <a:cubicBezTo>
                  <a:pt x="227012" y="-4880"/>
                  <a:pt x="356790" y="-12816"/>
                  <a:pt x="433387" y="20521"/>
                </a:cubicBezTo>
                <a:cubicBezTo>
                  <a:pt x="509984" y="53858"/>
                  <a:pt x="579140" y="161609"/>
                  <a:pt x="614363" y="239594"/>
                </a:cubicBezTo>
              </a:path>
            </a:pathLst>
          </a:custGeom>
          <a:noFill/>
          <a:ln w="101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0"/>
          <p:cNvSpPr/>
          <p:nvPr/>
        </p:nvSpPr>
        <p:spPr>
          <a:xfrm rot="19276800">
            <a:off x="6098760" y="1150920"/>
            <a:ext cx="284040" cy="1201680"/>
          </a:xfrm>
          <a:custGeom>
            <a:avLst/>
            <a:gdLst/>
            <a:ahLst/>
            <a:rect l="l" t="t" r="r" b="b"/>
            <a:pathLst>
              <a:path w="288923" h="1316648">
                <a:moveTo>
                  <a:pt x="92" y="717751"/>
                </a:moveTo>
                <a:cubicBezTo>
                  <a:pt x="4321" y="498350"/>
                  <a:pt x="162647" y="7806"/>
                  <a:pt x="210785" y="129"/>
                </a:cubicBezTo>
                <a:cubicBezTo>
                  <a:pt x="258923" y="-7548"/>
                  <a:pt x="288923" y="329526"/>
                  <a:pt x="288923" y="671689"/>
                </a:cubicBezTo>
                <a:cubicBezTo>
                  <a:pt x="288923" y="1013852"/>
                  <a:pt x="233551" y="1308859"/>
                  <a:pt x="185413" y="1316536"/>
                </a:cubicBezTo>
                <a:cubicBezTo>
                  <a:pt x="137275" y="1324213"/>
                  <a:pt x="-4137" y="937152"/>
                  <a:pt x="92" y="717751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1"/>
          <p:cNvSpPr/>
          <p:nvPr/>
        </p:nvSpPr>
        <p:spPr>
          <a:xfrm rot="1981800">
            <a:off x="7705440" y="941400"/>
            <a:ext cx="306360" cy="1316160"/>
          </a:xfrm>
          <a:custGeom>
            <a:avLst/>
            <a:gdLst/>
            <a:ahLst/>
            <a:rect l="l" t="t" r="r" b="b"/>
            <a:pathLst>
              <a:path w="312825" h="1443017">
                <a:moveTo>
                  <a:pt x="36" y="774719"/>
                </a:moveTo>
                <a:cubicBezTo>
                  <a:pt x="2622" y="534330"/>
                  <a:pt x="148770" y="-12684"/>
                  <a:pt x="200901" y="224"/>
                </a:cubicBezTo>
                <a:cubicBezTo>
                  <a:pt x="253033" y="13132"/>
                  <a:pt x="312825" y="510003"/>
                  <a:pt x="312825" y="852166"/>
                </a:cubicBezTo>
                <a:cubicBezTo>
                  <a:pt x="312825" y="1194329"/>
                  <a:pt x="237515" y="1455467"/>
                  <a:pt x="185383" y="1442559"/>
                </a:cubicBezTo>
                <a:cubicBezTo>
                  <a:pt x="133252" y="1429651"/>
                  <a:pt x="-2550" y="1015108"/>
                  <a:pt x="36" y="774719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12"/>
          <p:cNvSpPr/>
          <p:nvPr/>
        </p:nvSpPr>
        <p:spPr>
          <a:xfrm>
            <a:off x="5715000" y="2612880"/>
            <a:ext cx="2681280" cy="1679760"/>
          </a:xfrm>
          <a:custGeom>
            <a:avLst/>
            <a:gdLst/>
            <a:ahLst/>
            <a:rect l="l" t="t" r="r" b="b"/>
            <a:pathLst>
              <a:path w="2734912" h="1841804">
                <a:moveTo>
                  <a:pt x="629716" y="0"/>
                </a:moveTo>
                <a:cubicBezTo>
                  <a:pt x="497424" y="197115"/>
                  <a:pt x="32181" y="627592"/>
                  <a:pt x="2336" y="885190"/>
                </a:cubicBezTo>
                <a:cubicBezTo>
                  <a:pt x="-27509" y="1142788"/>
                  <a:pt x="234534" y="1386205"/>
                  <a:pt x="450646" y="1545590"/>
                </a:cubicBezTo>
                <a:cubicBezTo>
                  <a:pt x="666758" y="1704975"/>
                  <a:pt x="972828" y="1849332"/>
                  <a:pt x="1299006" y="1841500"/>
                </a:cubicBezTo>
                <a:cubicBezTo>
                  <a:pt x="1625184" y="1833668"/>
                  <a:pt x="2169168" y="1657138"/>
                  <a:pt x="2407716" y="1498600"/>
                </a:cubicBezTo>
                <a:cubicBezTo>
                  <a:pt x="2646264" y="1340062"/>
                  <a:pt x="2759929" y="1130512"/>
                  <a:pt x="2730296" y="890270"/>
                </a:cubicBezTo>
                <a:cubicBezTo>
                  <a:pt x="2700663" y="650028"/>
                  <a:pt x="2334162" y="230717"/>
                  <a:pt x="2229916" y="5715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5216400" y="4367160"/>
            <a:ext cx="3527640" cy="2212920"/>
          </a:xfrm>
          <a:custGeom>
            <a:avLst/>
            <a:gdLst/>
            <a:ahLst/>
            <a:rect l="l" t="t" r="r" b="b"/>
            <a:pathLst>
              <a:path w="4073923" h="2213301">
                <a:moveTo>
                  <a:pt x="485776" y="14893"/>
                </a:moveTo>
                <a:cubicBezTo>
                  <a:pt x="1030214" y="14133"/>
                  <a:pt x="1574652" y="84810"/>
                  <a:pt x="2119090" y="84050"/>
                </a:cubicBezTo>
                <a:lnTo>
                  <a:pt x="4017020" y="606"/>
                </a:lnTo>
                <a:cubicBezTo>
                  <a:pt x="4184464" y="-16443"/>
                  <a:pt x="3933218" y="329699"/>
                  <a:pt x="3890740" y="541250"/>
                </a:cubicBezTo>
                <a:cubicBezTo>
                  <a:pt x="3848262" y="752801"/>
                  <a:pt x="3795876" y="993121"/>
                  <a:pt x="3762154" y="1269912"/>
                </a:cubicBezTo>
                <a:lnTo>
                  <a:pt x="3588396" y="2073409"/>
                </a:lnTo>
                <a:cubicBezTo>
                  <a:pt x="3285977" y="2221047"/>
                  <a:pt x="2468750" y="2208691"/>
                  <a:pt x="2104803" y="2212887"/>
                </a:cubicBezTo>
                <a:cubicBezTo>
                  <a:pt x="1740856" y="2217083"/>
                  <a:pt x="1831716" y="2188509"/>
                  <a:pt x="1533303" y="2170025"/>
                </a:cubicBezTo>
                <a:lnTo>
                  <a:pt x="0" y="2016259"/>
                </a:lnTo>
                <a:cubicBezTo>
                  <a:pt x="44376" y="1681752"/>
                  <a:pt x="274490" y="1432969"/>
                  <a:pt x="318866" y="1098462"/>
                </a:cubicBezTo>
                <a:cubicBezTo>
                  <a:pt x="403077" y="446760"/>
                  <a:pt x="473002" y="495146"/>
                  <a:pt x="485776" y="14893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15"/>
          <p:cNvSpPr/>
          <p:nvPr/>
        </p:nvSpPr>
        <p:spPr>
          <a:xfrm>
            <a:off x="5948280" y="4187880"/>
            <a:ext cx="527040" cy="552240"/>
          </a:xfrm>
          <a:custGeom>
            <a:avLst/>
            <a:gdLst/>
            <a:ahLst/>
            <a:rect l="l" t="t" r="r" b="b"/>
            <a:pathLst>
              <a:path w="697038" h="743699">
                <a:moveTo>
                  <a:pt x="75021" y="571699"/>
                </a:moveTo>
                <a:cubicBezTo>
                  <a:pt x="41683" y="476449"/>
                  <a:pt x="-34516" y="266899"/>
                  <a:pt x="17871" y="171649"/>
                </a:cubicBezTo>
                <a:cubicBezTo>
                  <a:pt x="70258" y="76399"/>
                  <a:pt x="277427" y="-4563"/>
                  <a:pt x="389346" y="199"/>
                </a:cubicBezTo>
                <a:cubicBezTo>
                  <a:pt x="501265" y="4961"/>
                  <a:pt x="656046" y="135930"/>
                  <a:pt x="689383" y="200224"/>
                </a:cubicBezTo>
                <a:cubicBezTo>
                  <a:pt x="722720" y="264518"/>
                  <a:pt x="639377" y="366911"/>
                  <a:pt x="589371" y="385961"/>
                </a:cubicBezTo>
                <a:cubicBezTo>
                  <a:pt x="539365" y="405011"/>
                  <a:pt x="386965" y="307380"/>
                  <a:pt x="389346" y="314524"/>
                </a:cubicBezTo>
                <a:cubicBezTo>
                  <a:pt x="391727" y="321668"/>
                  <a:pt x="584608" y="381199"/>
                  <a:pt x="603658" y="428824"/>
                </a:cubicBezTo>
                <a:cubicBezTo>
                  <a:pt x="622708" y="476449"/>
                  <a:pt x="563177" y="583605"/>
                  <a:pt x="503646" y="600274"/>
                </a:cubicBezTo>
                <a:cubicBezTo>
                  <a:pt x="444115" y="616943"/>
                  <a:pt x="270283" y="528836"/>
                  <a:pt x="246471" y="528836"/>
                </a:cubicBezTo>
                <a:cubicBezTo>
                  <a:pt x="222659" y="528836"/>
                  <a:pt x="365533" y="564555"/>
                  <a:pt x="360771" y="600274"/>
                </a:cubicBezTo>
                <a:cubicBezTo>
                  <a:pt x="356009" y="635993"/>
                  <a:pt x="265521" y="752674"/>
                  <a:pt x="217896" y="743149"/>
                </a:cubicBezTo>
                <a:cubicBezTo>
                  <a:pt x="170271" y="733624"/>
                  <a:pt x="108359" y="666949"/>
                  <a:pt x="75021" y="571699"/>
                </a:cubicBez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6"/>
          <p:cNvSpPr/>
          <p:nvPr/>
        </p:nvSpPr>
        <p:spPr>
          <a:xfrm flipH="1">
            <a:off x="7479720" y="4187880"/>
            <a:ext cx="484200" cy="552240"/>
          </a:xfrm>
          <a:custGeom>
            <a:avLst/>
            <a:gdLst/>
            <a:ahLst/>
            <a:rect l="l" t="t" r="r" b="b"/>
            <a:pathLst>
              <a:path w="697038" h="743699">
                <a:moveTo>
                  <a:pt x="75021" y="571699"/>
                </a:moveTo>
                <a:cubicBezTo>
                  <a:pt x="41683" y="476449"/>
                  <a:pt x="-34516" y="266899"/>
                  <a:pt x="17871" y="171649"/>
                </a:cubicBezTo>
                <a:cubicBezTo>
                  <a:pt x="70258" y="76399"/>
                  <a:pt x="277427" y="-4563"/>
                  <a:pt x="389346" y="199"/>
                </a:cubicBezTo>
                <a:cubicBezTo>
                  <a:pt x="501265" y="4961"/>
                  <a:pt x="656046" y="135930"/>
                  <a:pt x="689383" y="200224"/>
                </a:cubicBezTo>
                <a:cubicBezTo>
                  <a:pt x="722720" y="264518"/>
                  <a:pt x="639377" y="366911"/>
                  <a:pt x="589371" y="385961"/>
                </a:cubicBezTo>
                <a:cubicBezTo>
                  <a:pt x="539365" y="405011"/>
                  <a:pt x="386965" y="307380"/>
                  <a:pt x="389346" y="314524"/>
                </a:cubicBezTo>
                <a:cubicBezTo>
                  <a:pt x="391727" y="321668"/>
                  <a:pt x="584608" y="381199"/>
                  <a:pt x="603658" y="428824"/>
                </a:cubicBezTo>
                <a:cubicBezTo>
                  <a:pt x="622708" y="476449"/>
                  <a:pt x="563177" y="583605"/>
                  <a:pt x="503646" y="600274"/>
                </a:cubicBezTo>
                <a:cubicBezTo>
                  <a:pt x="444115" y="616943"/>
                  <a:pt x="270283" y="528836"/>
                  <a:pt x="246471" y="528836"/>
                </a:cubicBezTo>
                <a:cubicBezTo>
                  <a:pt x="222659" y="528836"/>
                  <a:pt x="365533" y="564555"/>
                  <a:pt x="360771" y="600274"/>
                </a:cubicBezTo>
                <a:cubicBezTo>
                  <a:pt x="356009" y="635993"/>
                  <a:pt x="265521" y="752674"/>
                  <a:pt x="217896" y="743149"/>
                </a:cubicBezTo>
                <a:cubicBezTo>
                  <a:pt x="170271" y="733624"/>
                  <a:pt x="108359" y="666949"/>
                  <a:pt x="75021" y="571699"/>
                </a:cubicBez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8"/>
          <p:cNvSpPr/>
          <p:nvPr/>
        </p:nvSpPr>
        <p:spPr>
          <a:xfrm>
            <a:off x="-249120" y="2355840"/>
            <a:ext cx="6765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5651640" y="5157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方正舒体"/>
                <a:ea typeface="方正舒体"/>
              </a:rPr>
              <a:t>大家晚上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926000" y="4130640"/>
            <a:ext cx="1643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微软雅黑"/>
              </a:rPr>
              <a:t>汇报人：程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828720" y="2060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微软雅黑"/>
                <a:ea typeface="微软雅黑"/>
              </a:rPr>
              <a:t>校园餐厅策划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244520" y="2060640"/>
            <a:ext cx="3111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背景音乐、钢琴曲 - 遇见" descr="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5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75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5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0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6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8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800"/>
                            </p:stCondLst>
                            <p:childTnLst>
                              <p:par>
                                <p:cTn id="9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6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外卖服务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有许多学生习惯于三点一线的生活方式，许多时候为了节约时间会选择呆在寝室，不愿意出门，我们开通电话送外卖的服务，这样就可以扩大我们的经营之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暑假经营策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暑假期间虽然客源会骤降，但毕竟还有部分学生留守武生院，届时可采取减少生产量，转移服务重点等方式，以改善暑期的经营状况。寒假期间就考虑修业一个月，已减少不必要的成本支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服务特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本餐厅采取自助餐的方式，免费茶水和鲜汤。并且米饭的质量相对竞争者要好，可采用不同的做法（如：蒸熟，是一种南方饭馆常见的米饭做法），使口感与众不同，以求有别于竞争者，给顾客更多的优惠，以吸引更多的客源。此外，本餐厅还推出烧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冷饮、八宝饭等情侣套餐，由于休闲饮食的空缺，这也将成为本店的一大特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N:\256x256\碳笔扫描风格图标\20071221161527178.png"/>
          <p:cNvPicPr/>
          <p:nvPr/>
        </p:nvPicPr>
        <p:blipFill>
          <a:blip r:embed="rId2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230" name="Line 300"/>
          <p:cNvSpPr/>
          <p:nvPr/>
        </p:nvSpPr>
        <p:spPr>
          <a:xfrm>
            <a:off x="0" y="3427560"/>
            <a:ext cx="1116000" cy="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圆角矩形 2"/>
          <p:cNvSpPr/>
          <p:nvPr/>
        </p:nvSpPr>
        <p:spPr>
          <a:xfrm>
            <a:off x="1116000" y="836640"/>
            <a:ext cx="792000" cy="5256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5256360"/>
              <a:gd name="textAreaBottom" fmla="*/ 5217840 h 5256360"/>
            </a:gdLst>
            <a:ahLst/>
            <a:rect l="textAreaLeft" t="textAreaTop" r="textAreaRight" b="textAreaBottom"/>
            <a:pathLst>
              <a:path w="21600" h="143300">
                <a:moveTo>
                  <a:pt x="3600" y="0"/>
                </a:moveTo>
                <a:arcTo wR="3600" hR="3600" stAng="16200000" swAng="-5400000"/>
                <a:lnTo>
                  <a:pt x="0" y="139700"/>
                </a:lnTo>
                <a:arcTo wR="3600" hR="3600" stAng="10800000" swAng="-5400000"/>
                <a:lnTo>
                  <a:pt x="18000" y="1433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我们最可爱的团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5"/>
          <p:cNvSpPr/>
          <p:nvPr/>
        </p:nvSpPr>
        <p:spPr>
          <a:xfrm flipV="1">
            <a:off x="1116000" y="952200"/>
            <a:ext cx="0" cy="24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8"/>
          <p:cNvSpPr/>
          <p:nvPr/>
        </p:nvSpPr>
        <p:spPr>
          <a:xfrm flipV="1">
            <a:off x="1116000" y="3428640"/>
            <a:ext cx="0" cy="24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N:\256x256\碳笔扫描风格图标\20071221161527426.png"/>
          <p:cNvPicPr/>
          <p:nvPr/>
        </p:nvPicPr>
        <p:blipFill>
          <a:blip r:embed="rId3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N:\256x256\碳笔扫描风格图标\20071221161532646.png"/>
          <p:cNvPicPr/>
          <p:nvPr/>
        </p:nvPicPr>
        <p:blipFill>
          <a:blip r:embed="rId4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2124000" y="1484280"/>
            <a:ext cx="7020000" cy="3882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059280" y="404640"/>
            <a:ext cx="5618160" cy="6096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 rot="21247200">
            <a:off x="2771640" y="0"/>
            <a:ext cx="5508720" cy="6624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 rot="546000">
            <a:off x="3131640" y="0"/>
            <a:ext cx="5238720" cy="6435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 rot="20649000">
            <a:off x="2916000" y="0"/>
            <a:ext cx="4968720" cy="6192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 rot="1000200">
            <a:off x="2695320" y="28440"/>
            <a:ext cx="4751280" cy="6096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"/>
          <a:stretch/>
        </p:blipFill>
        <p:spPr>
          <a:xfrm rot="538800">
            <a:off x="2052360" y="1339560"/>
            <a:ext cx="7369200" cy="475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50"/>
                            </p:stCondLst>
                            <p:childTnLst>
                              <p:par>
                                <p:cTn id="6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450"/>
                            </p:stCondLst>
                            <p:childTnLst>
                              <p:par>
                                <p:cTn id="6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450"/>
                            </p:stCondLst>
                            <p:childTnLst>
                              <p:par>
                                <p:cTn id="6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450"/>
                            </p:stCondLst>
                            <p:childTnLst>
                              <p:par>
                                <p:cTn id="65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9450"/>
                            </p:stCondLst>
                            <p:childTnLst>
                              <p:par>
                                <p:cTn id="6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450"/>
                            </p:stCondLst>
                            <p:childTnLst>
                              <p:par>
                                <p:cTn id="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1450"/>
                            </p:stCondLst>
                            <p:childTnLst>
                              <p:par>
                                <p:cTn id="6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2450"/>
                            </p:stCondLst>
                            <p:childTnLst>
                              <p:par>
                                <p:cTn id="6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4356000" y="620280"/>
            <a:ext cx="3928320" cy="864360"/>
            <a:chOff x="4356000" y="620280"/>
            <a:chExt cx="3928320" cy="864360"/>
          </a:xfrm>
        </p:grpSpPr>
        <p:sp>
          <p:nvSpPr>
            <p:cNvPr id="245" name="AutoShape 112"/>
            <p:cNvSpPr/>
            <p:nvPr/>
          </p:nvSpPr>
          <p:spPr>
            <a:xfrm rot="16200000">
              <a:off x="5453640" y="-477360"/>
              <a:ext cx="646200" cy="284184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951">
                  <a:moveTo>
                    <a:pt x="3600" y="0"/>
                  </a:moveTo>
                  <a:arcTo wR="3600" hR="3600" stAng="16200000" swAng="-5400000"/>
                  <a:lnTo>
                    <a:pt x="0" y="91351"/>
                  </a:lnTo>
                  <a:arcTo wR="3600" hR="3600" stAng="10800000" swAng="-5400000"/>
                  <a:lnTo>
                    <a:pt x="18000" y="949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 vert="eaVer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Box 3"/>
            <p:cNvSpPr/>
            <p:nvPr/>
          </p:nvSpPr>
          <p:spPr>
            <a:xfrm>
              <a:off x="5947200" y="720360"/>
              <a:ext cx="2337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市场发展分析</a:t>
              </a:r>
              <a:r>
                <a:rPr b="0" lang="zh-CN" sz="4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直接连接符 5"/>
          <p:cNvSpPr/>
          <p:nvPr/>
        </p:nvSpPr>
        <p:spPr>
          <a:xfrm>
            <a:off x="4651200" y="0"/>
            <a:ext cx="0" cy="9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364000" y="836280"/>
            <a:ext cx="3057840" cy="646200"/>
            <a:chOff x="5364000" y="836280"/>
            <a:chExt cx="3057840" cy="646200"/>
          </a:xfrm>
        </p:grpSpPr>
        <p:sp>
          <p:nvSpPr>
            <p:cNvPr id="249" name="AutoShape 112"/>
            <p:cNvSpPr/>
            <p:nvPr/>
          </p:nvSpPr>
          <p:spPr>
            <a:xfrm rot="16200000">
              <a:off x="6569640" y="-369360"/>
              <a:ext cx="646200" cy="305784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3057840"/>
                <a:gd name="textAreaBottom" fmla="*/ 3026520 h 3057840"/>
              </a:gdLst>
              <a:ahLst/>
              <a:rect l="textAreaLeft" t="textAreaTop" r="textAreaRight" b="textAreaBottom"/>
              <a:pathLst>
                <a:path w="21600" h="102167">
                  <a:moveTo>
                    <a:pt x="3600" y="0"/>
                  </a:moveTo>
                  <a:arcTo wR="3600" hR="3600" stAng="16200000" swAng="-5400000"/>
                  <a:lnTo>
                    <a:pt x="0" y="98567"/>
                  </a:lnTo>
                  <a:arcTo wR="3600" hR="3600" stAng="10800000" swAng="-5400000"/>
                  <a:lnTo>
                    <a:pt x="18000" y="102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 vert="eaVer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0"/>
            <p:cNvSpPr/>
            <p:nvPr/>
          </p:nvSpPr>
          <p:spPr>
            <a:xfrm>
              <a:off x="6397560" y="936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1628640"/>
            <a:ext cx="2584080" cy="1585800"/>
            <a:chOff x="4932360" y="1628640"/>
            <a:chExt cx="2584080" cy="1585800"/>
          </a:xfrm>
        </p:grpSpPr>
        <p:pic>
          <p:nvPicPr>
            <p:cNvPr id="252" name="圆角矩形 12" descr=""/>
            <p:cNvPicPr/>
            <p:nvPr/>
          </p:nvPicPr>
          <p:blipFill>
            <a:blip r:embed="rId2"/>
            <a:stretch/>
          </p:blipFill>
          <p:spPr>
            <a:xfrm>
              <a:off x="4932360" y="1629720"/>
              <a:ext cx="25830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933440" y="1628640"/>
              <a:ext cx="2583000" cy="15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场市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67960" y="2204640"/>
            <a:ext cx="2843280" cy="646200"/>
            <a:chOff x="1767960" y="2204640"/>
            <a:chExt cx="2843280" cy="646200"/>
          </a:xfrm>
        </p:grpSpPr>
        <p:sp>
          <p:nvSpPr>
            <p:cNvPr id="255" name="AutoShape 112"/>
            <p:cNvSpPr/>
            <p:nvPr/>
          </p:nvSpPr>
          <p:spPr>
            <a:xfrm flipH="1" rot="5400000">
              <a:off x="2866320" y="1105920"/>
              <a:ext cx="646200" cy="284328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999">
                  <a:moveTo>
                    <a:pt x="3600" y="0"/>
                  </a:moveTo>
                  <a:arcTo wR="3600" hR="3600" stAng="16200000" swAng="-5400000"/>
                  <a:lnTo>
                    <a:pt x="0" y="91399"/>
                  </a:lnTo>
                  <a:arcTo wR="3600" hR="3600" stAng="10800000" swAng="-5400000"/>
                  <a:lnTo>
                    <a:pt x="18000" y="94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 vert="eaVert" rot="10800000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5"/>
            <p:cNvSpPr/>
            <p:nvPr/>
          </p:nvSpPr>
          <p:spPr>
            <a:xfrm flipH="1">
              <a:off x="2184120" y="2305080"/>
              <a:ext cx="154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优势和劣势分析</a:t>
              </a: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908000" y="3141720"/>
            <a:ext cx="2584440" cy="1201320"/>
            <a:chOff x="1908000" y="3141720"/>
            <a:chExt cx="2584440" cy="1201320"/>
          </a:xfrm>
        </p:grpSpPr>
        <p:pic>
          <p:nvPicPr>
            <p:cNvPr id="258" name="圆角矩形 12" descr=""/>
            <p:cNvPicPr/>
            <p:nvPr/>
          </p:nvPicPr>
          <p:blipFill>
            <a:blip r:embed="rId3"/>
            <a:stretch/>
          </p:blipFill>
          <p:spPr>
            <a:xfrm>
              <a:off x="1908000" y="3142800"/>
              <a:ext cx="25844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1908000" y="3141720"/>
              <a:ext cx="258444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机会分析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643280" y="3573360"/>
            <a:ext cx="3733200" cy="804960"/>
            <a:chOff x="4643280" y="3573360"/>
            <a:chExt cx="3733200" cy="804960"/>
          </a:xfrm>
        </p:grpSpPr>
        <p:sp>
          <p:nvSpPr>
            <p:cNvPr id="261" name="AutoShape 112"/>
            <p:cNvSpPr/>
            <p:nvPr/>
          </p:nvSpPr>
          <p:spPr>
            <a:xfrm rot="16200000">
              <a:off x="5698080" y="2518560"/>
              <a:ext cx="648000" cy="2757600"/>
            </a:xfrm>
            <a:custGeom>
              <a:avLst/>
              <a:gdLst>
                <a:gd name="textAreaLeft" fmla="*/ 31320 w 648000"/>
                <a:gd name="textAreaRight" fmla="*/ 616680 w 648000"/>
                <a:gd name="textAreaTop" fmla="*/ 31320 h 2757600"/>
                <a:gd name="textAreaBottom" fmla="*/ 2726280 h 2757600"/>
              </a:gdLst>
              <a:ahLst/>
              <a:rect l="textAreaLeft" t="textAreaTop" r="textAreaRight" b="textAreaBottom"/>
              <a:pathLst>
                <a:path w="21600" h="91881">
                  <a:moveTo>
                    <a:pt x="3600" y="0"/>
                  </a:moveTo>
                  <a:arcTo wR="3600" hR="3600" stAng="16200000" swAng="-5400000"/>
                  <a:lnTo>
                    <a:pt x="0" y="88281"/>
                  </a:lnTo>
                  <a:arcTo wR="3600" hR="3600" stAng="10800000" swAng="-5400000"/>
                  <a:lnTo>
                    <a:pt x="18000" y="918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 vert="eaVer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Box 19"/>
            <p:cNvSpPr/>
            <p:nvPr/>
          </p:nvSpPr>
          <p:spPr>
            <a:xfrm>
              <a:off x="6120360" y="3674880"/>
              <a:ext cx="2256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财务状况分析</a:t>
              </a:r>
              <a:r>
                <a:rPr b="0" lang="zh-CN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932360" y="4653000"/>
            <a:ext cx="2808000" cy="895320"/>
            <a:chOff x="4932360" y="4653000"/>
            <a:chExt cx="2808000" cy="895320"/>
          </a:xfrm>
        </p:grpSpPr>
        <p:pic>
          <p:nvPicPr>
            <p:cNvPr id="264" name="圆角矩形 12" descr=""/>
            <p:cNvPicPr/>
            <p:nvPr/>
          </p:nvPicPr>
          <p:blipFill>
            <a:blip r:embed="rId4"/>
            <a:stretch/>
          </p:blipFill>
          <p:spPr>
            <a:xfrm>
              <a:off x="4932360" y="4654080"/>
              <a:ext cx="280800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32360" y="4653000"/>
              <a:ext cx="28080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风险与规避</a:t>
              </a:r>
              <a:r>
                <a:rPr b="0" lang="zh-CN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直接连接符 21"/>
          <p:cNvSpPr/>
          <p:nvPr/>
        </p:nvSpPr>
        <p:spPr>
          <a:xfrm>
            <a:off x="4651200" y="971640"/>
            <a:ext cx="0" cy="162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24"/>
          <p:cNvSpPr/>
          <p:nvPr/>
        </p:nvSpPr>
        <p:spPr>
          <a:xfrm>
            <a:off x="4651200" y="2570040"/>
            <a:ext cx="0" cy="162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接连接符 27"/>
          <p:cNvSpPr/>
          <p:nvPr/>
        </p:nvSpPr>
        <p:spPr>
          <a:xfrm>
            <a:off x="4656240" y="4140360"/>
            <a:ext cx="0" cy="274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10" descr="C:\Users\TITAN\Desktop\新建文件夹\2006413161622724.png"/>
          <p:cNvPicPr/>
          <p:nvPr/>
        </p:nvPicPr>
        <p:blipFill>
          <a:blip r:embed="rId5"/>
          <a:stretch/>
        </p:blipFill>
        <p:spPr>
          <a:xfrm>
            <a:off x="4284720" y="620640"/>
            <a:ext cx="718920" cy="72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0.26701 2.96296E-006 E">
                                      <p:cBhvr>
                                        <p:cTn id="704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01 2.96296E-006 L -0.00087 2.96296E-006 E">
                                      <p:cBhvr>
                                        <p:cTn id="710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2.96296E-006 L -0.00174 0.19953 E">
                                      <p:cBhvr>
                                        <p:cTn id="722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19953 L -0.29219 0.19953 E">
                                      <p:cBhvr>
                                        <p:cTn id="729" dur="25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50"/>
                            </p:stCondLst>
                            <p:childTnLst>
                              <p:par>
                                <p:cTn id="7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219 0.19953 L -0.00087 0.19953 E">
                                      <p:cBhvr>
                                        <p:cTn id="732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19953 L -0.00087 0.44097 E">
                                      <p:cBhvr>
                                        <p:cTn id="743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44097 L 0.29844 0.44097 E">
                                      <p:cBhvr>
                                        <p:cTn id="750" dur="25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750"/>
                            </p:stCondLst>
                            <p:childTnLst>
                              <p:par>
                                <p:cTn id="75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844 0.44097 L -0.00087 0.44097 E">
                                      <p:cBhvr>
                                        <p:cTn id="753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44097 L -0.00087 0.88194 E">
                                      <p:cBhvr>
                                        <p:cTn id="764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219640" y="1844640"/>
            <a:ext cx="36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很多人抱怨食堂的饭菜不好吃而且菜样单一，因此我们有意在繁华的商业街开这样一家餐厅。既解决了大家就餐的问题，同时又提供了各种不一样荆州口味的菜样。而且我们餐厅有着许多特色的地方，充分符合大学生的口味、品味，以及生活习惯，相信定能吸引很多顾客前来就餐。今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月份即将迎来新的一学期，届时学校将迎来新一批学生。因此相信这个时候介入市场时机恰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市场发展前景广阔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2852640"/>
            <a:ext cx="352764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优点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本餐厅采用自助选择   方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方便快捷，节约时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干净、服务态度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劣势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竞争力比较激烈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寒暑假期间的客源会骤降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快餐店的规模较小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1628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优势和劣势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/>
          <p:nvPr/>
        </p:nvSpPr>
        <p:spPr>
          <a:xfrm>
            <a:off x="4932360" y="981000"/>
            <a:ext cx="30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市场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机会分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据我们的市场调查与分析，本店产品的市场需求是存在的，并具有一定的竞争力。而本人正是学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个最大客户群中的一员，所以更能了解顾客需要什么样的产品和服务，从这些方面来看，是应该是很有机会挤入该餐饮市场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财务状况分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初始阶段的成本主要是：场地租赁费用（三千每学期），由于以前的店主东西都齐全所以直接用，装修费（两千元），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运营阶段的成本主要包括：员工工资（每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元），物料采购费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每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元）每月，水电燃料费（每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元），杂项开支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资金可有父母提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自己积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每日经营财务预算及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据预算分析及调查，可初步确定市场容量，并大致估算出每日总营业额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元，收益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毛利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元。由此可计算出投资回收期约为一个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8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897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97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897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897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897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风险与规避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部风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很多的同行也提出许多吸引顾客的方案，我们面临很大的挑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内部管理风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餐饮业是一个技术含量相对较低的行业，但是它需要严格的管理才能赢得消费者的信赖，服务态度决定了发展的未来，所以良好的态度是本店严格要求的规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35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市场风险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 开发阶段的风险，市场上可能会同时出现类似餐厅的开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 生产阶段的风险，如果项目已经投产，但没有生产出适销对路的产品，项目可能没有足够的能力支付生产费用和偿还债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 生产经营阶段的风险，项目投产后的效益取决于其产品在市场上的销售量和其他表现，而对于本阶段项目而言，最大的市场风险来源与市场上餐饮业的竞争风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原料资源风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本餐厅的原料主要以武生院周边农民伯伯自己种的天然果蔬、豆类、菌类为主，是当今最受欢迎的绿色天然无污染食品，尤其本餐厅是以保健为主的餐厅，因此在原料的选择上需要向生物技术系的同学学习专业知识，这样才有利于采购到新鲜、天然、无污染的绿色食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2622600" y="2638440"/>
            <a:ext cx="2568600" cy="3394080"/>
          </a:xfrm>
          <a:custGeom>
            <a:avLst/>
            <a:gdLst/>
            <a:ahLst/>
            <a:rect l="l" t="t" r="r" b="b"/>
            <a:pathLst>
              <a:path w="2568912" h="3393530">
                <a:moveTo>
                  <a:pt x="14922" y="0"/>
                </a:moveTo>
                <a:lnTo>
                  <a:pt x="2540336" y="571501"/>
                </a:lnTo>
                <a:lnTo>
                  <a:pt x="2568912" y="3393530"/>
                </a:lnTo>
                <a:lnTo>
                  <a:pt x="634" y="2693443"/>
                </a:lnTo>
                <a:cubicBezTo>
                  <a:pt x="-4128" y="1776579"/>
                  <a:pt x="19684" y="916864"/>
                  <a:pt x="14922" y="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2652840" y="2000160"/>
            <a:ext cx="3997080" cy="1235160"/>
          </a:xfrm>
          <a:custGeom>
            <a:avLst/>
            <a:gdLst/>
            <a:ahLst/>
            <a:rect l="l" t="t" r="r" b="b"/>
            <a:pathLst>
              <a:path w="3997027" h="1236117">
                <a:moveTo>
                  <a:pt x="2028825" y="0"/>
                </a:moveTo>
                <a:lnTo>
                  <a:pt x="3997027" y="328613"/>
                </a:lnTo>
                <a:lnTo>
                  <a:pt x="2525414" y="1236117"/>
                </a:lnTo>
                <a:lnTo>
                  <a:pt x="0" y="664617"/>
                </a:lnTo>
                <a:lnTo>
                  <a:pt x="2028825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5162400" y="2335320"/>
            <a:ext cx="1554480" cy="3693960"/>
          </a:xfrm>
          <a:custGeom>
            <a:avLst/>
            <a:gdLst/>
            <a:ahLst/>
            <a:rect l="l" t="t" r="r" b="b"/>
            <a:pathLst>
              <a:path w="1553864" h="3693566">
                <a:moveTo>
                  <a:pt x="0" y="900112"/>
                </a:moveTo>
                <a:lnTo>
                  <a:pt x="1511002" y="0"/>
                </a:lnTo>
                <a:lnTo>
                  <a:pt x="1553864" y="2722015"/>
                </a:lnTo>
                <a:lnTo>
                  <a:pt x="28575" y="3693566"/>
                </a:lnTo>
                <a:lnTo>
                  <a:pt x="0" y="900112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TextBox 5" descr=""/>
          <p:cNvPicPr/>
          <p:nvPr/>
        </p:nvPicPr>
        <p:blipFill>
          <a:blip r:embed="rId2"/>
          <a:stretch/>
        </p:blipFill>
        <p:spPr>
          <a:xfrm>
            <a:off x="3333600" y="2646360"/>
            <a:ext cx="897120" cy="33829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6" descr=""/>
          <p:cNvPicPr/>
          <p:nvPr/>
        </p:nvPicPr>
        <p:blipFill>
          <a:blip r:embed="rId3"/>
          <a:stretch/>
        </p:blipFill>
        <p:spPr>
          <a:xfrm>
            <a:off x="5479920" y="2736720"/>
            <a:ext cx="103032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7" descr=""/>
          <p:cNvPicPr/>
          <p:nvPr/>
        </p:nvPicPr>
        <p:blipFill>
          <a:blip r:embed="rId4"/>
          <a:stretch/>
        </p:blipFill>
        <p:spPr>
          <a:xfrm>
            <a:off x="3956040" y="2139840"/>
            <a:ext cx="2384280" cy="895320"/>
          </a:xfrm>
          <a:prstGeom prst="rect">
            <a:avLst/>
          </a:prstGeom>
          <a:ln w="0">
            <a:noFill/>
          </a:ln>
        </p:spPr>
      </p:pic>
      <p:sp>
        <p:nvSpPr>
          <p:cNvPr id="65" name="直接连接符 10"/>
          <p:cNvSpPr/>
          <p:nvPr/>
        </p:nvSpPr>
        <p:spPr>
          <a:xfrm>
            <a:off x="4651200" y="0"/>
            <a:ext cx="0" cy="20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619360" y="1787400"/>
            <a:ext cx="4170240" cy="4241880"/>
            <a:chOff x="2619360" y="1787400"/>
            <a:chExt cx="4170240" cy="4241880"/>
          </a:xfrm>
        </p:grpSpPr>
        <p:grpSp>
          <p:nvGrpSpPr>
            <p:cNvPr id="67" name=""/>
            <p:cNvGrpSpPr/>
            <p:nvPr/>
          </p:nvGrpSpPr>
          <p:grpSpPr>
            <a:xfrm>
              <a:off x="2619360" y="1787400"/>
              <a:ext cx="4170240" cy="4241880"/>
              <a:chOff x="2619360" y="1787400"/>
              <a:chExt cx="4170240" cy="4241880"/>
            </a:xfrm>
          </p:grpSpPr>
          <p:sp>
            <p:nvSpPr>
              <p:cNvPr id="68" name="矩形 1"/>
              <p:cNvSpPr/>
              <p:nvPr/>
            </p:nvSpPr>
            <p:spPr>
              <a:xfrm>
                <a:off x="2619360" y="2459880"/>
                <a:ext cx="2616840" cy="3569400"/>
              </a:xfrm>
              <a:custGeom>
                <a:avLst/>
                <a:gdLst/>
                <a:ahLst/>
                <a:rect l="l" t="t" r="r" b="b"/>
                <a:pathLst>
                  <a:path w="2568912" h="3393530">
                    <a:moveTo>
                      <a:pt x="14922" y="0"/>
                    </a:moveTo>
                    <a:lnTo>
                      <a:pt x="2540336" y="571501"/>
                    </a:lnTo>
                    <a:lnTo>
                      <a:pt x="2568912" y="3393530"/>
                    </a:lnTo>
                    <a:lnTo>
                      <a:pt x="634" y="2693443"/>
                    </a:lnTo>
                    <a:cubicBezTo>
                      <a:pt x="-4128" y="1776579"/>
                      <a:pt x="19684" y="916864"/>
                      <a:pt x="14922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矩形 2"/>
              <p:cNvSpPr/>
              <p:nvPr/>
            </p:nvSpPr>
            <p:spPr>
              <a:xfrm>
                <a:off x="2651400" y="1787400"/>
                <a:ext cx="4071600" cy="1299960"/>
              </a:xfrm>
              <a:custGeom>
                <a:avLst/>
                <a:gdLst/>
                <a:ahLst/>
                <a:rect l="l" t="t" r="r" b="b"/>
                <a:pathLst>
                  <a:path w="3997027" h="1236117">
                    <a:moveTo>
                      <a:pt x="2028825" y="0"/>
                    </a:moveTo>
                    <a:lnTo>
                      <a:pt x="3997027" y="328613"/>
                    </a:lnTo>
                    <a:lnTo>
                      <a:pt x="2525414" y="1236117"/>
                    </a:lnTo>
                    <a:lnTo>
                      <a:pt x="0" y="664617"/>
                    </a:lnTo>
                    <a:lnTo>
                      <a:pt x="2028825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矩形 3"/>
              <p:cNvSpPr/>
              <p:nvPr/>
            </p:nvSpPr>
            <p:spPr>
              <a:xfrm>
                <a:off x="5207040" y="2140200"/>
                <a:ext cx="1582560" cy="3884760"/>
              </a:xfrm>
              <a:custGeom>
                <a:avLst/>
                <a:gdLst/>
                <a:ahLst/>
                <a:rect l="l" t="t" r="r" b="b"/>
                <a:pathLst>
                  <a:path w="1553864" h="3693566">
                    <a:moveTo>
                      <a:pt x="0" y="900112"/>
                    </a:moveTo>
                    <a:lnTo>
                      <a:pt x="1511002" y="0"/>
                    </a:lnTo>
                    <a:lnTo>
                      <a:pt x="1553864" y="2722015"/>
                    </a:lnTo>
                    <a:lnTo>
                      <a:pt x="28575" y="3693566"/>
                    </a:lnTo>
                    <a:lnTo>
                      <a:pt x="0" y="900112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1" name="TextBox 13" descr=""/>
            <p:cNvPicPr/>
            <p:nvPr/>
          </p:nvPicPr>
          <p:blipFill>
            <a:blip r:embed="rId5"/>
            <a:stretch/>
          </p:blipFill>
          <p:spPr>
            <a:xfrm>
              <a:off x="3347280" y="2464560"/>
              <a:ext cx="912600" cy="35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4" descr=""/>
            <p:cNvPicPr/>
            <p:nvPr/>
          </p:nvPicPr>
          <p:blipFill>
            <a:blip r:embed="rId6"/>
            <a:stretch/>
          </p:blipFill>
          <p:spPr>
            <a:xfrm>
              <a:off x="5533200" y="2560680"/>
              <a:ext cx="1049400" cy="318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15" descr=""/>
            <p:cNvPicPr/>
            <p:nvPr/>
          </p:nvPicPr>
          <p:blipFill>
            <a:blip r:embed="rId7"/>
            <a:stretch/>
          </p:blipFill>
          <p:spPr>
            <a:xfrm>
              <a:off x="3974400" y="1932120"/>
              <a:ext cx="2433960" cy="94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826920" y="3879720"/>
            <a:ext cx="2502000" cy="2544840"/>
            <a:chOff x="826920" y="3879720"/>
            <a:chExt cx="2502000" cy="2544840"/>
          </a:xfrm>
        </p:grpSpPr>
        <p:grpSp>
          <p:nvGrpSpPr>
            <p:cNvPr id="75" name=""/>
            <p:cNvGrpSpPr/>
            <p:nvPr/>
          </p:nvGrpSpPr>
          <p:grpSpPr>
            <a:xfrm>
              <a:off x="826920" y="3879720"/>
              <a:ext cx="2502000" cy="2544840"/>
              <a:chOff x="826920" y="3879720"/>
              <a:chExt cx="2502000" cy="2544840"/>
            </a:xfrm>
          </p:grpSpPr>
          <p:sp>
            <p:nvSpPr>
              <p:cNvPr id="76" name="矩形 1"/>
              <p:cNvSpPr/>
              <p:nvPr/>
            </p:nvSpPr>
            <p:spPr>
              <a:xfrm>
                <a:off x="826920" y="4283280"/>
                <a:ext cx="1569960" cy="2141280"/>
              </a:xfrm>
              <a:custGeom>
                <a:avLst/>
                <a:gdLst/>
                <a:ahLst/>
                <a:rect l="l" t="t" r="r" b="b"/>
                <a:pathLst>
                  <a:path w="2568912" h="3393530">
                    <a:moveTo>
                      <a:pt x="14922" y="0"/>
                    </a:moveTo>
                    <a:lnTo>
                      <a:pt x="2540336" y="571501"/>
                    </a:lnTo>
                    <a:lnTo>
                      <a:pt x="2568912" y="3393530"/>
                    </a:lnTo>
                    <a:lnTo>
                      <a:pt x="634" y="2693443"/>
                    </a:lnTo>
                    <a:cubicBezTo>
                      <a:pt x="-4128" y="1776579"/>
                      <a:pt x="19684" y="916864"/>
                      <a:pt x="14922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矩形 2"/>
              <p:cNvSpPr/>
              <p:nvPr/>
            </p:nvSpPr>
            <p:spPr>
              <a:xfrm>
                <a:off x="846000" y="3879720"/>
                <a:ext cx="2442960" cy="779760"/>
              </a:xfrm>
              <a:custGeom>
                <a:avLst/>
                <a:gdLst/>
                <a:ahLst/>
                <a:rect l="l" t="t" r="r" b="b"/>
                <a:pathLst>
                  <a:path w="3997027" h="1236117">
                    <a:moveTo>
                      <a:pt x="2028825" y="0"/>
                    </a:moveTo>
                    <a:lnTo>
                      <a:pt x="3997027" y="328613"/>
                    </a:lnTo>
                    <a:lnTo>
                      <a:pt x="2525414" y="1236117"/>
                    </a:lnTo>
                    <a:lnTo>
                      <a:pt x="0" y="664617"/>
                    </a:lnTo>
                    <a:lnTo>
                      <a:pt x="2028825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矩形 3"/>
              <p:cNvSpPr/>
              <p:nvPr/>
            </p:nvSpPr>
            <p:spPr>
              <a:xfrm>
                <a:off x="2379240" y="4091400"/>
                <a:ext cx="949680" cy="2330640"/>
              </a:xfrm>
              <a:custGeom>
                <a:avLst/>
                <a:gdLst/>
                <a:ahLst/>
                <a:rect l="l" t="t" r="r" b="b"/>
                <a:pathLst>
                  <a:path w="1553864" h="3693566">
                    <a:moveTo>
                      <a:pt x="0" y="900112"/>
                    </a:moveTo>
                    <a:lnTo>
                      <a:pt x="1511002" y="0"/>
                    </a:lnTo>
                    <a:lnTo>
                      <a:pt x="1553864" y="2722015"/>
                    </a:lnTo>
                    <a:lnTo>
                      <a:pt x="28575" y="3693566"/>
                    </a:lnTo>
                    <a:lnTo>
                      <a:pt x="0" y="900112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9" name="TextBox 21" descr=""/>
            <p:cNvPicPr/>
            <p:nvPr/>
          </p:nvPicPr>
          <p:blipFill>
            <a:blip r:embed="rId8"/>
            <a:stretch/>
          </p:blipFill>
          <p:spPr>
            <a:xfrm>
              <a:off x="1256760" y="4277520"/>
              <a:ext cx="558720" cy="21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TextBox 22" descr=""/>
            <p:cNvPicPr/>
            <p:nvPr/>
          </p:nvPicPr>
          <p:blipFill>
            <a:blip r:embed="rId9"/>
            <a:stretch/>
          </p:blipFill>
          <p:spPr>
            <a:xfrm>
              <a:off x="2560680" y="4200480"/>
              <a:ext cx="658080" cy="21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TextBox 23" descr=""/>
            <p:cNvPicPr/>
            <p:nvPr/>
          </p:nvPicPr>
          <p:blipFill>
            <a:blip r:embed="rId10"/>
            <a:stretch/>
          </p:blipFill>
          <p:spPr>
            <a:xfrm>
              <a:off x="1505160" y="3899160"/>
              <a:ext cx="1726200" cy="70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矩形 10"/>
          <p:cNvSpPr/>
          <p:nvPr/>
        </p:nvSpPr>
        <p:spPr>
          <a:xfrm>
            <a:off x="846000" y="3927600"/>
            <a:ext cx="1949760" cy="344520"/>
          </a:xfrm>
          <a:custGeom>
            <a:avLst/>
            <a:gdLst/>
            <a:ahLst/>
            <a:rect l="l" t="t" r="r" b="b"/>
            <a:pathLst>
              <a:path w="2880320" h="508595">
                <a:moveTo>
                  <a:pt x="557212" y="0"/>
                </a:moveTo>
                <a:lnTo>
                  <a:pt x="2308821" y="1"/>
                </a:lnTo>
                <a:lnTo>
                  <a:pt x="2880320" y="508595"/>
                </a:lnTo>
                <a:lnTo>
                  <a:pt x="0" y="508595"/>
                </a:lnTo>
                <a:lnTo>
                  <a:pt x="557212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8"/>
          <p:cNvSpPr/>
          <p:nvPr/>
        </p:nvSpPr>
        <p:spPr>
          <a:xfrm>
            <a:off x="855720" y="4272120"/>
            <a:ext cx="1949400" cy="1949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855720" y="3927600"/>
            <a:ext cx="371520" cy="2286000"/>
          </a:xfrm>
          <a:custGeom>
            <a:avLst/>
            <a:gdLst/>
            <a:ahLst/>
            <a:rect l="l" t="t" r="r" b="b"/>
            <a:pathLst>
              <a:path w="548758" h="3377375">
                <a:moveTo>
                  <a:pt x="0" y="495300"/>
                </a:moveTo>
                <a:lnTo>
                  <a:pt x="547488" y="0"/>
                </a:lnTo>
                <a:cubicBezTo>
                  <a:pt x="547911" y="588582"/>
                  <a:pt x="548335" y="1167638"/>
                  <a:pt x="548758" y="1756220"/>
                </a:cubicBezTo>
                <a:lnTo>
                  <a:pt x="0" y="3377375"/>
                </a:lnTo>
                <a:lnTo>
                  <a:pt x="0" y="4953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4"/>
          <p:cNvSpPr/>
          <p:nvPr/>
        </p:nvSpPr>
        <p:spPr>
          <a:xfrm flipH="1">
            <a:off x="2421720" y="3924360"/>
            <a:ext cx="389160" cy="2278080"/>
          </a:xfrm>
          <a:custGeom>
            <a:avLst/>
            <a:gdLst/>
            <a:ahLst/>
            <a:rect l="l" t="t" r="r" b="b"/>
            <a:pathLst>
              <a:path w="575322" h="3364040">
                <a:moveTo>
                  <a:pt x="688" y="512921"/>
                </a:moveTo>
                <a:lnTo>
                  <a:pt x="572940" y="0"/>
                </a:lnTo>
                <a:cubicBezTo>
                  <a:pt x="574527" y="578739"/>
                  <a:pt x="573735" y="1169385"/>
                  <a:pt x="575322" y="1748124"/>
                </a:cubicBezTo>
                <a:lnTo>
                  <a:pt x="688" y="3364040"/>
                </a:lnTo>
                <a:cubicBezTo>
                  <a:pt x="-1693" y="2409698"/>
                  <a:pt x="3069" y="1467263"/>
                  <a:pt x="688" y="512921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55720" y="3924360"/>
            <a:ext cx="1947960" cy="2281320"/>
            <a:chOff x="855720" y="3924360"/>
            <a:chExt cx="1947960" cy="2281320"/>
          </a:xfrm>
        </p:grpSpPr>
        <p:sp>
          <p:nvSpPr>
            <p:cNvPr id="87" name="矩形 32"/>
            <p:cNvSpPr/>
            <p:nvPr/>
          </p:nvSpPr>
          <p:spPr>
            <a:xfrm>
              <a:off x="1225080" y="3924360"/>
              <a:ext cx="1189080" cy="1189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16"/>
            <p:cNvSpPr/>
            <p:nvPr/>
          </p:nvSpPr>
          <p:spPr>
            <a:xfrm>
              <a:off x="855720" y="5113440"/>
              <a:ext cx="1947960" cy="1092240"/>
            </a:xfrm>
            <a:custGeom>
              <a:avLst/>
              <a:gdLst/>
              <a:ahLst/>
              <a:rect l="l" t="t" r="r" b="b"/>
              <a:pathLst>
                <a:path w="2878337" h="1613893">
                  <a:moveTo>
                    <a:pt x="545307" y="0"/>
                  </a:moveTo>
                  <a:lnTo>
                    <a:pt x="2302075" y="0"/>
                  </a:lnTo>
                  <a:lnTo>
                    <a:pt x="2878337" y="1613893"/>
                  </a:lnTo>
                  <a:lnTo>
                    <a:pt x="0" y="1613893"/>
                  </a:lnTo>
                  <a:lnTo>
                    <a:pt x="545307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直接连接符 34"/>
          <p:cNvSpPr/>
          <p:nvPr/>
        </p:nvSpPr>
        <p:spPr>
          <a:xfrm>
            <a:off x="863640" y="6213600"/>
            <a:ext cx="1947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546200"/>
            <a:ext cx="1188720" cy="2378160"/>
            <a:chOff x="1230480" y="1546200"/>
            <a:chExt cx="1188720" cy="2378160"/>
          </a:xfrm>
        </p:grpSpPr>
        <p:sp>
          <p:nvSpPr>
            <p:cNvPr id="91" name="矩形 36"/>
            <p:cNvSpPr/>
            <p:nvPr/>
          </p:nvSpPr>
          <p:spPr>
            <a:xfrm>
              <a:off x="1230480" y="1546200"/>
              <a:ext cx="1188720" cy="1189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37"/>
            <p:cNvSpPr/>
            <p:nvPr/>
          </p:nvSpPr>
          <p:spPr>
            <a:xfrm>
              <a:off x="1230480" y="2735280"/>
              <a:ext cx="1188720" cy="1189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38"/>
          <p:cNvSpPr/>
          <p:nvPr/>
        </p:nvSpPr>
        <p:spPr>
          <a:xfrm>
            <a:off x="2413080" y="392436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39"/>
          <p:cNvSpPr/>
          <p:nvPr/>
        </p:nvSpPr>
        <p:spPr>
          <a:xfrm>
            <a:off x="1224000" y="511956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40"/>
          <p:cNvSpPr/>
          <p:nvPr/>
        </p:nvSpPr>
        <p:spPr>
          <a:xfrm>
            <a:off x="34920" y="393048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5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5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75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32934 0.21365 E">
                                      <p:cBhvr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1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2"/>
                            </p:stCondLst>
                            <p:childTnLst>
                              <p:par>
                                <p:cTn id="18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L 0.00139 -0.28148 E">
                                      <p:cBhvr>
                                        <p:cTn id="187" dur="25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9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252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253"/>
                            </p:stCondLst>
                            <p:childTnLst>
                              <p:par>
                                <p:cTn id="1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50" fill="hold"/>
                                        <p:tgtEl>
                                          <p:spTgt spid="89"/>
                                        </p:tgtEl>
                                      </p:cBhvr>
                                      <p:to x="62000" y="62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28148 L 0.00139 -0.33402 E">
                                      <p:cBhvr>
                                        <p:cTn id="205" dur="25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3"/>
                            </p:stCondLst>
                            <p:childTnLst>
                              <p:par>
                                <p:cTn id="20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8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3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应对措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汲取先进的生产技术与经验，开发出自己的特色食品。严格管理，定期培训人员，建立顾客服务报告。开发阶段进行严格的项目规划，减少项目风险。进入市场后，认识食品市场周期，积极开发更新食品，多和朋友沟通自己店的不足和优势，然后改进与调整合理的方案。与原料供应商签订相关协议，保证原料资源的供给。定期学习其它学校餐厅的优势之处，并吸收其中好的部分。让我们的餐厅做大做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together"/>
          <p:cNvPicPr/>
          <p:nvPr/>
        </p:nvPicPr>
        <p:blipFill>
          <a:blip r:embed="rId1"/>
          <a:stretch/>
        </p:blipFill>
        <p:spPr>
          <a:xfrm>
            <a:off x="898560" y="692280"/>
            <a:ext cx="7351560" cy="450360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287" name="椭圆 2"/>
          <p:cNvSpPr/>
          <p:nvPr/>
        </p:nvSpPr>
        <p:spPr>
          <a:xfrm>
            <a:off x="2235240" y="5950080"/>
            <a:ext cx="181080" cy="142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3"/>
          <p:cNvSpPr/>
          <p:nvPr/>
        </p:nvSpPr>
        <p:spPr>
          <a:xfrm>
            <a:off x="2627280" y="5697360"/>
            <a:ext cx="316080" cy="252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椭圆 4"/>
          <p:cNvSpPr/>
          <p:nvPr/>
        </p:nvSpPr>
        <p:spPr>
          <a:xfrm>
            <a:off x="2982960" y="5307120"/>
            <a:ext cx="423720" cy="360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47640" y="6210000"/>
            <a:ext cx="3683520" cy="647640"/>
            <a:chOff x="1547640" y="6210000"/>
            <a:chExt cx="3683520" cy="647640"/>
          </a:xfrm>
        </p:grpSpPr>
        <p:sp>
          <p:nvSpPr>
            <p:cNvPr id="291" name="AutoShape 112"/>
            <p:cNvSpPr/>
            <p:nvPr/>
          </p:nvSpPr>
          <p:spPr>
            <a:xfrm rot="16200000">
              <a:off x="2645280" y="5112000"/>
              <a:ext cx="647640" cy="28432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88">
                  <a:moveTo>
                    <a:pt x="3600" y="0"/>
                  </a:moveTo>
                  <a:arcTo wR="3600" hR="3600" stAng="16200000" swAng="-5400000"/>
                  <a:lnTo>
                    <a:pt x="0" y="91188"/>
                  </a:lnTo>
                  <a:arcTo wR="3600" hR="3600" stAng="10800000" swAng="-5400000"/>
                  <a:lnTo>
                    <a:pt x="18000" y="947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 vert="eaVer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TextBox 9"/>
            <p:cNvSpPr/>
            <p:nvPr/>
          </p:nvSpPr>
          <p:spPr>
            <a:xfrm>
              <a:off x="4698360" y="63165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ff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800" spc="-1" strike="noStrike">
                  <a:solidFill>
                    <a:srgbClr val="00ff00"/>
                  </a:solidFill>
                  <a:latin typeface="微软雅黑"/>
                  <a:ea typeface="微软雅黑"/>
                </a:rPr>
                <a:t>因为相信，所以不断去拼搏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3" name="Picture 12" descr="C:\Users\TITAN\Desktop\新建文件夹\2006413161643529.png"/>
          <p:cNvPicPr/>
          <p:nvPr/>
        </p:nvPicPr>
        <p:blipFill>
          <a:blip r:embed="rId3"/>
          <a:stretch/>
        </p:blipFill>
        <p:spPr>
          <a:xfrm>
            <a:off x="1332000" y="613728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294" name="圆角矩形 10"/>
          <p:cNvSpPr/>
          <p:nvPr/>
        </p:nvSpPr>
        <p:spPr>
          <a:xfrm>
            <a:off x="1079640" y="692280"/>
            <a:ext cx="6984720" cy="4503600"/>
          </a:xfrm>
          <a:custGeom>
            <a:avLst/>
            <a:gdLst/>
            <a:ahLst/>
            <a:rect l="l" t="t" r="r" b="b"/>
            <a:pathLst>
              <a:path w="6984796" h="4502596">
                <a:moveTo>
                  <a:pt x="0" y="744098"/>
                </a:moveTo>
                <a:cubicBezTo>
                  <a:pt x="0" y="333144"/>
                  <a:pt x="28344" y="0"/>
                  <a:pt x="439298" y="0"/>
                </a:cubicBezTo>
                <a:lnTo>
                  <a:pt x="6583578" y="0"/>
                </a:lnTo>
                <a:cubicBezTo>
                  <a:pt x="6994532" y="0"/>
                  <a:pt x="6984776" y="333144"/>
                  <a:pt x="6984776" y="744098"/>
                </a:cubicBezTo>
                <a:lnTo>
                  <a:pt x="6984776" y="3720398"/>
                </a:lnTo>
                <a:cubicBezTo>
                  <a:pt x="6984776" y="4131352"/>
                  <a:pt x="6956432" y="4464496"/>
                  <a:pt x="6545478" y="4464496"/>
                </a:cubicBezTo>
                <a:lnTo>
                  <a:pt x="420248" y="4502596"/>
                </a:lnTo>
                <a:cubicBezTo>
                  <a:pt x="9294" y="4502596"/>
                  <a:pt x="0" y="4131352"/>
                  <a:pt x="0" y="3720398"/>
                </a:cubicBezTo>
                <a:lnTo>
                  <a:pt x="0" y="744098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wecreatemore"/>
          <p:cNvPicPr/>
          <p:nvPr/>
        </p:nvPicPr>
        <p:blipFill>
          <a:blip r:embed="rId4"/>
          <a:stretch/>
        </p:blipFill>
        <p:spPr>
          <a:xfrm>
            <a:off x="2435400" y="4068720"/>
            <a:ext cx="5279760" cy="1092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together"/>
          <p:cNvPicPr/>
          <p:nvPr/>
        </p:nvPicPr>
        <p:blipFill>
          <a:blip r:embed="rId5"/>
          <a:stretch/>
        </p:blipFill>
        <p:spPr>
          <a:xfrm>
            <a:off x="1200240" y="996840"/>
            <a:ext cx="3844800" cy="129384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620720" y="2670120"/>
            <a:ext cx="5827680" cy="1054080"/>
            <a:chOff x="1620720" y="2670120"/>
            <a:chExt cx="5827680" cy="1054080"/>
          </a:xfrm>
        </p:grpSpPr>
        <p:pic>
          <p:nvPicPr>
            <p:cNvPr id="298" name="十字星 5" descr=""/>
            <p:cNvPicPr/>
            <p:nvPr/>
          </p:nvPicPr>
          <p:blipFill>
            <a:blip r:embed="rId6"/>
            <a:stretch/>
          </p:blipFill>
          <p:spPr>
            <a:xfrm>
              <a:off x="1621800" y="2671200"/>
              <a:ext cx="5823000" cy="10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620720" y="2670120"/>
              <a:ext cx="58276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085720" y="1733400"/>
            <a:ext cx="1934280" cy="3431520"/>
            <a:chOff x="5085720" y="1733400"/>
            <a:chExt cx="1934280" cy="3431520"/>
          </a:xfrm>
        </p:grpSpPr>
        <p:sp>
          <p:nvSpPr>
            <p:cNvPr id="301" name="任意多边形 17"/>
            <p:cNvSpPr/>
            <p:nvPr/>
          </p:nvSpPr>
          <p:spPr>
            <a:xfrm>
              <a:off x="5296680" y="2642400"/>
              <a:ext cx="1279080" cy="1215000"/>
            </a:xfrm>
            <a:custGeom>
              <a:avLst/>
              <a:gdLst/>
              <a:ahLst/>
              <a:rect l="l" t="t" r="r" b="b"/>
              <a:pathLst>
                <a:path w="1386178" h="1315845">
                  <a:moveTo>
                    <a:pt x="5354" y="0"/>
                  </a:moveTo>
                  <a:cubicBezTo>
                    <a:pt x="-3377" y="288131"/>
                    <a:pt x="-12108" y="576263"/>
                    <a:pt x="72029" y="781050"/>
                  </a:cubicBezTo>
                  <a:cubicBezTo>
                    <a:pt x="156166" y="985837"/>
                    <a:pt x="373654" y="1146175"/>
                    <a:pt x="510179" y="1228725"/>
                  </a:cubicBezTo>
                  <a:cubicBezTo>
                    <a:pt x="646704" y="1311275"/>
                    <a:pt x="754654" y="1350963"/>
                    <a:pt x="891179" y="1276350"/>
                  </a:cubicBezTo>
                  <a:cubicBezTo>
                    <a:pt x="1027704" y="1201738"/>
                    <a:pt x="1249954" y="990600"/>
                    <a:pt x="1329329" y="781050"/>
                  </a:cubicBezTo>
                  <a:cubicBezTo>
                    <a:pt x="1408704" y="571500"/>
                    <a:pt x="1388066" y="295275"/>
                    <a:pt x="1367429" y="1905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任意多边形 18"/>
            <p:cNvSpPr/>
            <p:nvPr/>
          </p:nvSpPr>
          <p:spPr>
            <a:xfrm>
              <a:off x="5106960" y="1733400"/>
              <a:ext cx="1685160" cy="1060920"/>
            </a:xfrm>
            <a:custGeom>
              <a:avLst/>
              <a:gdLst/>
              <a:ahLst/>
              <a:rect l="l" t="t" r="r" b="b"/>
              <a:pathLst>
                <a:path w="1826187" h="1149303">
                  <a:moveTo>
                    <a:pt x="1258858" y="660793"/>
                  </a:moveTo>
                  <a:cubicBezTo>
                    <a:pt x="1281876" y="625074"/>
                    <a:pt x="1146939" y="812003"/>
                    <a:pt x="1120745" y="827481"/>
                  </a:cubicBezTo>
                  <a:cubicBezTo>
                    <a:pt x="1094551" y="842959"/>
                    <a:pt x="1088203" y="794144"/>
                    <a:pt x="1101696" y="753663"/>
                  </a:cubicBezTo>
                  <a:cubicBezTo>
                    <a:pt x="1105665" y="686988"/>
                    <a:pt x="1144558" y="560385"/>
                    <a:pt x="1094552" y="696512"/>
                  </a:cubicBezTo>
                  <a:cubicBezTo>
                    <a:pt x="1044546" y="832639"/>
                    <a:pt x="963980" y="885028"/>
                    <a:pt x="830233" y="956069"/>
                  </a:cubicBezTo>
                  <a:cubicBezTo>
                    <a:pt x="696486" y="1027110"/>
                    <a:pt x="413117" y="1096563"/>
                    <a:pt x="292070" y="1122757"/>
                  </a:cubicBezTo>
                  <a:cubicBezTo>
                    <a:pt x="171023" y="1148951"/>
                    <a:pt x="118240" y="1118787"/>
                    <a:pt x="103952" y="1113231"/>
                  </a:cubicBezTo>
                  <a:cubicBezTo>
                    <a:pt x="89664" y="1107675"/>
                    <a:pt x="215474" y="942972"/>
                    <a:pt x="220633" y="917969"/>
                  </a:cubicBezTo>
                  <a:cubicBezTo>
                    <a:pt x="225792" y="892966"/>
                    <a:pt x="156737" y="939004"/>
                    <a:pt x="134909" y="963213"/>
                  </a:cubicBezTo>
                  <a:cubicBezTo>
                    <a:pt x="113081" y="987422"/>
                    <a:pt x="108318" y="1089022"/>
                    <a:pt x="89665" y="1063225"/>
                  </a:cubicBezTo>
                  <a:cubicBezTo>
                    <a:pt x="71012" y="1037428"/>
                    <a:pt x="34499" y="880266"/>
                    <a:pt x="22989" y="808432"/>
                  </a:cubicBezTo>
                  <a:cubicBezTo>
                    <a:pt x="11479" y="736598"/>
                    <a:pt x="-34558" y="521888"/>
                    <a:pt x="49183" y="403619"/>
                  </a:cubicBezTo>
                  <a:cubicBezTo>
                    <a:pt x="132924" y="285350"/>
                    <a:pt x="343267" y="152794"/>
                    <a:pt x="525433" y="98819"/>
                  </a:cubicBezTo>
                  <a:cubicBezTo>
                    <a:pt x="707599" y="44844"/>
                    <a:pt x="1052483" y="94056"/>
                    <a:pt x="1142177" y="79769"/>
                  </a:cubicBezTo>
                  <a:cubicBezTo>
                    <a:pt x="1231871" y="65482"/>
                    <a:pt x="1031052" y="23810"/>
                    <a:pt x="1063596" y="13094"/>
                  </a:cubicBezTo>
                  <a:cubicBezTo>
                    <a:pt x="1096140" y="2378"/>
                    <a:pt x="1272352" y="-11116"/>
                    <a:pt x="1337439" y="15475"/>
                  </a:cubicBezTo>
                  <a:cubicBezTo>
                    <a:pt x="1402527" y="42066"/>
                    <a:pt x="1411258" y="248838"/>
                    <a:pt x="1454121" y="172638"/>
                  </a:cubicBezTo>
                  <a:cubicBezTo>
                    <a:pt x="1496984" y="96438"/>
                    <a:pt x="1639858" y="113503"/>
                    <a:pt x="1651764" y="129775"/>
                  </a:cubicBezTo>
                  <a:cubicBezTo>
                    <a:pt x="1663670" y="146047"/>
                    <a:pt x="1505317" y="226216"/>
                    <a:pt x="1525558" y="270269"/>
                  </a:cubicBezTo>
                  <a:cubicBezTo>
                    <a:pt x="1545799" y="314322"/>
                    <a:pt x="1724392" y="307972"/>
                    <a:pt x="1773208" y="394094"/>
                  </a:cubicBezTo>
                  <a:cubicBezTo>
                    <a:pt x="1822024" y="480216"/>
                    <a:pt x="1837105" y="661191"/>
                    <a:pt x="1818452" y="787000"/>
                  </a:cubicBezTo>
                  <a:cubicBezTo>
                    <a:pt x="1799799" y="912809"/>
                    <a:pt x="1713677" y="1139028"/>
                    <a:pt x="1661290" y="1148950"/>
                  </a:cubicBezTo>
                  <a:cubicBezTo>
                    <a:pt x="1608903" y="1158872"/>
                    <a:pt x="1554530" y="957261"/>
                    <a:pt x="1504127" y="846533"/>
                  </a:cubicBezTo>
                  <a:cubicBezTo>
                    <a:pt x="1456105" y="761999"/>
                    <a:pt x="1385461" y="655238"/>
                    <a:pt x="1373158" y="641744"/>
                  </a:cubicBezTo>
                  <a:cubicBezTo>
                    <a:pt x="1360855" y="628250"/>
                    <a:pt x="1395384" y="732232"/>
                    <a:pt x="1406496" y="770332"/>
                  </a:cubicBezTo>
                  <a:cubicBezTo>
                    <a:pt x="1417608" y="808432"/>
                    <a:pt x="1516826" y="898125"/>
                    <a:pt x="1439833" y="870344"/>
                  </a:cubicBezTo>
                  <a:cubicBezTo>
                    <a:pt x="1362840" y="842563"/>
                    <a:pt x="1235840" y="696512"/>
                    <a:pt x="1258858" y="6607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任意多边形 19"/>
            <p:cNvSpPr/>
            <p:nvPr/>
          </p:nvSpPr>
          <p:spPr>
            <a:xfrm>
              <a:off x="5120640" y="2757600"/>
              <a:ext cx="185400" cy="354960"/>
            </a:xfrm>
            <a:custGeom>
              <a:avLst/>
              <a:gdLst/>
              <a:ahLst/>
              <a:rect l="l" t="t" r="r" b="b"/>
              <a:pathLst>
                <a:path w="200918" h="384714">
                  <a:moveTo>
                    <a:pt x="178058" y="64973"/>
                  </a:moveTo>
                  <a:cubicBezTo>
                    <a:pt x="112018" y="35128"/>
                    <a:pt x="107891" y="-26468"/>
                    <a:pt x="39946" y="12585"/>
                  </a:cubicBezTo>
                  <a:cubicBezTo>
                    <a:pt x="-27999" y="51638"/>
                    <a:pt x="6846" y="137284"/>
                    <a:pt x="27563" y="199276"/>
                  </a:cubicBezTo>
                  <a:cubicBezTo>
                    <a:pt x="48280" y="261268"/>
                    <a:pt x="113923" y="380886"/>
                    <a:pt x="164247" y="384537"/>
                  </a:cubicBezTo>
                  <a:cubicBezTo>
                    <a:pt x="214571" y="388188"/>
                    <a:pt x="186313" y="334848"/>
                    <a:pt x="200918" y="27833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任意多边形 20"/>
            <p:cNvSpPr/>
            <p:nvPr/>
          </p:nvSpPr>
          <p:spPr>
            <a:xfrm flipH="1" rot="21297600">
              <a:off x="6572160" y="2700360"/>
              <a:ext cx="185400" cy="354960"/>
            </a:xfrm>
            <a:custGeom>
              <a:avLst/>
              <a:gdLst/>
              <a:ahLst/>
              <a:rect l="l" t="t" r="r" b="b"/>
              <a:pathLst>
                <a:path w="200918" h="384714">
                  <a:moveTo>
                    <a:pt x="178058" y="64973"/>
                  </a:moveTo>
                  <a:cubicBezTo>
                    <a:pt x="112018" y="35128"/>
                    <a:pt x="107891" y="-26468"/>
                    <a:pt x="39946" y="12585"/>
                  </a:cubicBezTo>
                  <a:cubicBezTo>
                    <a:pt x="-27999" y="51638"/>
                    <a:pt x="6846" y="137284"/>
                    <a:pt x="27563" y="199276"/>
                  </a:cubicBezTo>
                  <a:cubicBezTo>
                    <a:pt x="48280" y="261268"/>
                    <a:pt x="113923" y="380886"/>
                    <a:pt x="164247" y="384537"/>
                  </a:cubicBezTo>
                  <a:cubicBezTo>
                    <a:pt x="214571" y="388188"/>
                    <a:pt x="186313" y="334848"/>
                    <a:pt x="200918" y="27833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圆角矩形 7"/>
            <p:cNvSpPr/>
            <p:nvPr/>
          </p:nvSpPr>
          <p:spPr>
            <a:xfrm>
              <a:off x="5317920" y="2935440"/>
              <a:ext cx="493560" cy="253800"/>
            </a:xfrm>
            <a:custGeom>
              <a:avLst/>
              <a:gdLst/>
              <a:ahLst/>
              <a:rect l="l" t="t" r="r" b="b"/>
              <a:pathLst>
                <a:path w="534913" h="274910">
                  <a:moveTo>
                    <a:pt x="0" y="45819"/>
                  </a:moveTo>
                  <a:cubicBezTo>
                    <a:pt x="0" y="20514"/>
                    <a:pt x="39564" y="0"/>
                    <a:pt x="64869" y="0"/>
                  </a:cubicBezTo>
                  <a:lnTo>
                    <a:pt x="470044" y="0"/>
                  </a:lnTo>
                  <a:cubicBezTo>
                    <a:pt x="495349" y="0"/>
                    <a:pt x="534913" y="20514"/>
                    <a:pt x="534913" y="45819"/>
                  </a:cubicBezTo>
                  <a:lnTo>
                    <a:pt x="503163" y="229091"/>
                  </a:lnTo>
                  <a:cubicBezTo>
                    <a:pt x="503163" y="254396"/>
                    <a:pt x="457249" y="274910"/>
                    <a:pt x="431944" y="274910"/>
                  </a:cubicBezTo>
                  <a:lnTo>
                    <a:pt x="112494" y="271735"/>
                  </a:lnTo>
                  <a:cubicBezTo>
                    <a:pt x="87189" y="271735"/>
                    <a:pt x="22225" y="260746"/>
                    <a:pt x="22225" y="235441"/>
                  </a:cubicBezTo>
                  <a:lnTo>
                    <a:pt x="0" y="45819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圆角矩形 7"/>
            <p:cNvSpPr/>
            <p:nvPr/>
          </p:nvSpPr>
          <p:spPr>
            <a:xfrm flipH="1">
              <a:off x="6048000" y="2935440"/>
              <a:ext cx="493560" cy="253800"/>
            </a:xfrm>
            <a:custGeom>
              <a:avLst/>
              <a:gdLst/>
              <a:ahLst/>
              <a:rect l="l" t="t" r="r" b="b"/>
              <a:pathLst>
                <a:path w="534913" h="274910">
                  <a:moveTo>
                    <a:pt x="0" y="45819"/>
                  </a:moveTo>
                  <a:cubicBezTo>
                    <a:pt x="0" y="20514"/>
                    <a:pt x="39564" y="0"/>
                    <a:pt x="64869" y="0"/>
                  </a:cubicBezTo>
                  <a:lnTo>
                    <a:pt x="470044" y="0"/>
                  </a:lnTo>
                  <a:cubicBezTo>
                    <a:pt x="495349" y="0"/>
                    <a:pt x="534913" y="20514"/>
                    <a:pt x="534913" y="45819"/>
                  </a:cubicBezTo>
                  <a:lnTo>
                    <a:pt x="503163" y="229091"/>
                  </a:lnTo>
                  <a:cubicBezTo>
                    <a:pt x="503163" y="254396"/>
                    <a:pt x="457249" y="274910"/>
                    <a:pt x="431944" y="274910"/>
                  </a:cubicBezTo>
                  <a:lnTo>
                    <a:pt x="112494" y="271735"/>
                  </a:lnTo>
                  <a:cubicBezTo>
                    <a:pt x="87189" y="271735"/>
                    <a:pt x="22225" y="260746"/>
                    <a:pt x="22225" y="235441"/>
                  </a:cubicBezTo>
                  <a:lnTo>
                    <a:pt x="0" y="45819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任意多边形 23"/>
            <p:cNvSpPr/>
            <p:nvPr/>
          </p:nvSpPr>
          <p:spPr>
            <a:xfrm>
              <a:off x="5783040" y="3420000"/>
              <a:ext cx="346320" cy="187920"/>
            </a:xfrm>
            <a:custGeom>
              <a:avLst/>
              <a:gdLst/>
              <a:ahLst/>
              <a:rect l="l" t="t" r="r" b="b"/>
              <a:pathLst>
                <a:path w="375484" h="203615">
                  <a:moveTo>
                    <a:pt x="0" y="49189"/>
                  </a:moveTo>
                  <a:cubicBezTo>
                    <a:pt x="155575" y="23789"/>
                    <a:pt x="319882" y="-12724"/>
                    <a:pt x="364808" y="4421"/>
                  </a:cubicBezTo>
                  <a:cubicBezTo>
                    <a:pt x="409734" y="21566"/>
                    <a:pt x="300275" y="119595"/>
                    <a:pt x="269557" y="152059"/>
                  </a:cubicBezTo>
                  <a:cubicBezTo>
                    <a:pt x="238839" y="184524"/>
                    <a:pt x="209629" y="190953"/>
                    <a:pt x="180498" y="199208"/>
                  </a:cubicBezTo>
                  <a:cubicBezTo>
                    <a:pt x="151367" y="207463"/>
                    <a:pt x="111442" y="201589"/>
                    <a:pt x="94773" y="201589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矩形 13"/>
            <p:cNvSpPr/>
            <p:nvPr/>
          </p:nvSpPr>
          <p:spPr>
            <a:xfrm>
              <a:off x="5583600" y="2934000"/>
              <a:ext cx="131400" cy="253440"/>
            </a:xfrm>
            <a:custGeom>
              <a:avLst/>
              <a:gdLst/>
              <a:ahLst/>
              <a:rect l="l" t="t" r="r" b="b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94000"/>
              </a:srgbClr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矩形 13"/>
            <p:cNvSpPr/>
            <p:nvPr/>
          </p:nvSpPr>
          <p:spPr>
            <a:xfrm>
              <a:off x="5518440" y="2930400"/>
              <a:ext cx="131400" cy="253440"/>
            </a:xfrm>
            <a:custGeom>
              <a:avLst/>
              <a:gdLst/>
              <a:ahLst/>
              <a:rect l="l" t="t" r="r" b="b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矩形 13"/>
            <p:cNvSpPr/>
            <p:nvPr/>
          </p:nvSpPr>
          <p:spPr>
            <a:xfrm>
              <a:off x="6315840" y="2934000"/>
              <a:ext cx="131400" cy="253440"/>
            </a:xfrm>
            <a:custGeom>
              <a:avLst/>
              <a:gdLst/>
              <a:ahLst/>
              <a:rect l="l" t="t" r="r" b="b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94000"/>
              </a:srgbClr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矩形 13"/>
            <p:cNvSpPr/>
            <p:nvPr/>
          </p:nvSpPr>
          <p:spPr>
            <a:xfrm>
              <a:off x="6250320" y="2930400"/>
              <a:ext cx="131400" cy="253440"/>
            </a:xfrm>
            <a:custGeom>
              <a:avLst/>
              <a:gdLst/>
              <a:ahLst/>
              <a:rect l="l" t="t" r="r" b="b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任意多边形 28"/>
            <p:cNvSpPr/>
            <p:nvPr/>
          </p:nvSpPr>
          <p:spPr>
            <a:xfrm>
              <a:off x="5645520" y="3736080"/>
              <a:ext cx="818640" cy="536040"/>
            </a:xfrm>
            <a:custGeom>
              <a:avLst/>
              <a:gdLst/>
              <a:ahLst/>
              <a:rect l="l" t="t" r="r" b="b"/>
              <a:pathLst>
                <a:path w="887217" h="727132">
                  <a:moveTo>
                    <a:pt x="132055" y="50800"/>
                  </a:moveTo>
                  <a:cubicBezTo>
                    <a:pt x="155338" y="186266"/>
                    <a:pt x="178622" y="321733"/>
                    <a:pt x="157455" y="406400"/>
                  </a:cubicBezTo>
                  <a:cubicBezTo>
                    <a:pt x="136288" y="491067"/>
                    <a:pt x="-30928" y="505349"/>
                    <a:pt x="5055" y="558800"/>
                  </a:cubicBezTo>
                  <a:cubicBezTo>
                    <a:pt x="41038" y="612251"/>
                    <a:pt x="227305" y="729221"/>
                    <a:pt x="373355" y="727104"/>
                  </a:cubicBezTo>
                  <a:cubicBezTo>
                    <a:pt x="519405" y="724987"/>
                    <a:pt x="834524" y="627255"/>
                    <a:pt x="881355" y="546099"/>
                  </a:cubicBezTo>
                  <a:cubicBezTo>
                    <a:pt x="928186" y="464943"/>
                    <a:pt x="680272" y="510116"/>
                    <a:pt x="640055" y="419100"/>
                  </a:cubicBezTo>
                  <a:cubicBezTo>
                    <a:pt x="599838" y="328084"/>
                    <a:pt x="640055" y="0"/>
                    <a:pt x="640055" y="0"/>
                  </a:cubicBezTo>
                  <a:lnTo>
                    <a:pt x="640055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任意多边形 29"/>
            <p:cNvSpPr/>
            <p:nvPr/>
          </p:nvSpPr>
          <p:spPr>
            <a:xfrm>
              <a:off x="6441480" y="4100760"/>
              <a:ext cx="578520" cy="1008360"/>
            </a:xfrm>
            <a:custGeom>
              <a:avLst/>
              <a:gdLst/>
              <a:ahLst/>
              <a:rect l="l" t="t" r="r" b="b"/>
              <a:pathLst>
                <a:path w="627063" h="1092201">
                  <a:moveTo>
                    <a:pt x="0" y="0"/>
                  </a:moveTo>
                  <a:cubicBezTo>
                    <a:pt x="49212" y="3704"/>
                    <a:pt x="88900" y="3175"/>
                    <a:pt x="158750" y="76200"/>
                  </a:cubicBezTo>
                  <a:cubicBezTo>
                    <a:pt x="228600" y="149225"/>
                    <a:pt x="347133" y="302683"/>
                    <a:pt x="419100" y="438150"/>
                  </a:cubicBezTo>
                  <a:cubicBezTo>
                    <a:pt x="491067" y="573617"/>
                    <a:pt x="555890" y="779992"/>
                    <a:pt x="590550" y="889000"/>
                  </a:cubicBezTo>
                  <a:cubicBezTo>
                    <a:pt x="625210" y="998008"/>
                    <a:pt x="610660" y="1015470"/>
                    <a:pt x="627063" y="109220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任意多边形 30"/>
            <p:cNvSpPr/>
            <p:nvPr/>
          </p:nvSpPr>
          <p:spPr>
            <a:xfrm>
              <a:off x="6666120" y="4604760"/>
              <a:ext cx="88200" cy="498600"/>
            </a:xfrm>
            <a:custGeom>
              <a:avLst/>
              <a:gdLst/>
              <a:ahLst/>
              <a:rect l="l" t="t" r="r" b="b"/>
              <a:pathLst>
                <a:path w="104261" h="604777">
                  <a:moveTo>
                    <a:pt x="0" y="0"/>
                  </a:moveTo>
                  <a:cubicBezTo>
                    <a:pt x="65616" y="220133"/>
                    <a:pt x="52493" y="209127"/>
                    <a:pt x="68580" y="309880"/>
                  </a:cubicBezTo>
                  <a:cubicBezTo>
                    <a:pt x="84667" y="410633"/>
                    <a:pt x="119803" y="612986"/>
                    <a:pt x="96520" y="60452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任意多边形 31"/>
            <p:cNvSpPr/>
            <p:nvPr/>
          </p:nvSpPr>
          <p:spPr>
            <a:xfrm flipH="1">
              <a:off x="5516280" y="4659120"/>
              <a:ext cx="88200" cy="498600"/>
            </a:xfrm>
            <a:custGeom>
              <a:avLst/>
              <a:gdLst/>
              <a:ahLst/>
              <a:rect l="l" t="t" r="r" b="b"/>
              <a:pathLst>
                <a:path w="104261" h="604777">
                  <a:moveTo>
                    <a:pt x="0" y="0"/>
                  </a:moveTo>
                  <a:cubicBezTo>
                    <a:pt x="65616" y="220133"/>
                    <a:pt x="52493" y="209127"/>
                    <a:pt x="68580" y="309880"/>
                  </a:cubicBezTo>
                  <a:cubicBezTo>
                    <a:pt x="84667" y="410633"/>
                    <a:pt x="119803" y="612986"/>
                    <a:pt x="96520" y="60452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任意多边形 32"/>
            <p:cNvSpPr/>
            <p:nvPr/>
          </p:nvSpPr>
          <p:spPr>
            <a:xfrm flipH="1" rot="21382200">
              <a:off x="5116320" y="4152960"/>
              <a:ext cx="576360" cy="994680"/>
            </a:xfrm>
            <a:custGeom>
              <a:avLst/>
              <a:gdLst/>
              <a:ahLst/>
              <a:rect l="l" t="t" r="r" b="b"/>
              <a:pathLst>
                <a:path w="624586" h="1076908">
                  <a:moveTo>
                    <a:pt x="0" y="0"/>
                  </a:moveTo>
                  <a:cubicBezTo>
                    <a:pt x="49212" y="3704"/>
                    <a:pt x="88900" y="3175"/>
                    <a:pt x="158750" y="76200"/>
                  </a:cubicBezTo>
                  <a:cubicBezTo>
                    <a:pt x="228600" y="149225"/>
                    <a:pt x="347133" y="302683"/>
                    <a:pt x="419100" y="438150"/>
                  </a:cubicBezTo>
                  <a:cubicBezTo>
                    <a:pt x="491067" y="573617"/>
                    <a:pt x="556302" y="782540"/>
                    <a:pt x="590550" y="889000"/>
                  </a:cubicBezTo>
                  <a:cubicBezTo>
                    <a:pt x="624798" y="995460"/>
                    <a:pt x="616684" y="972744"/>
                    <a:pt x="624586" y="107690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TextBox 33"/>
          <p:cNvSpPr/>
          <p:nvPr/>
        </p:nvSpPr>
        <p:spPr>
          <a:xfrm>
            <a:off x="2975040" y="258588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3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3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3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3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1" dur="3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3" dur="3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2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3" dur="2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5" dur="2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1">
                                  <p:stCondLst>
                                    <p:cond delay="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0"/>
          <p:cNvSpPr/>
          <p:nvPr/>
        </p:nvSpPr>
        <p:spPr>
          <a:xfrm>
            <a:off x="1230480" y="1547640"/>
            <a:ext cx="118872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1"/>
          <p:cNvSpPr/>
          <p:nvPr/>
        </p:nvSpPr>
        <p:spPr>
          <a:xfrm>
            <a:off x="1230480" y="2736720"/>
            <a:ext cx="118872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26"/>
          <p:cNvSpPr/>
          <p:nvPr/>
        </p:nvSpPr>
        <p:spPr>
          <a:xfrm>
            <a:off x="2413080" y="392580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7"/>
          <p:cNvSpPr/>
          <p:nvPr/>
        </p:nvSpPr>
        <p:spPr>
          <a:xfrm>
            <a:off x="1224000" y="512136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8"/>
          <p:cNvSpPr/>
          <p:nvPr/>
        </p:nvSpPr>
        <p:spPr>
          <a:xfrm>
            <a:off x="34920" y="393228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33"/>
          <p:cNvSpPr/>
          <p:nvPr/>
        </p:nvSpPr>
        <p:spPr>
          <a:xfrm>
            <a:off x="1222200" y="393372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67280" y="188640"/>
            <a:ext cx="2841480" cy="718920"/>
            <a:chOff x="4067280" y="188640"/>
            <a:chExt cx="2841480" cy="718920"/>
          </a:xfrm>
        </p:grpSpPr>
        <p:sp>
          <p:nvSpPr>
            <p:cNvPr id="103" name="AutoShape 112"/>
            <p:cNvSpPr/>
            <p:nvPr/>
          </p:nvSpPr>
          <p:spPr>
            <a:xfrm rot="16200000">
              <a:off x="5128560" y="-872640"/>
              <a:ext cx="718920" cy="2841480"/>
            </a:xfrm>
            <a:custGeom>
              <a:avLst/>
              <a:gdLst>
                <a:gd name="textAreaLeft" fmla="*/ 34920 w 718920"/>
                <a:gd name="textAreaRight" fmla="*/ 684000 w 718920"/>
                <a:gd name="textAreaTop" fmla="*/ 34920 h 2841480"/>
                <a:gd name="textAreaBottom" fmla="*/ 2806560 h 2841480"/>
              </a:gdLst>
              <a:ahLst/>
              <a:rect l="textAreaLeft" t="textAreaTop" r="textAreaRight" b="textAreaBottom"/>
              <a:pathLst>
                <a:path w="21600" h="85341">
                  <a:moveTo>
                    <a:pt x="3600" y="0"/>
                  </a:moveTo>
                  <a:arcTo wR="3600" hR="3600" stAng="16200000" swAng="-5400000"/>
                  <a:lnTo>
                    <a:pt x="0" y="81741"/>
                  </a:lnTo>
                  <a:arcTo wR="3600" hR="3600" stAng="10800000" swAng="-5400000"/>
                  <a:lnTo>
                    <a:pt x="18000" y="853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1"/>
            <p:cNvSpPr/>
            <p:nvPr/>
          </p:nvSpPr>
          <p:spPr>
            <a:xfrm>
              <a:off x="5033520" y="3009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业项目概括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5" name="Picture 10" descr="C:\Users\TITAN\Desktop\新建文件夹\2006413161622724.png"/>
          <p:cNvPicPr/>
          <p:nvPr/>
        </p:nvPicPr>
        <p:blipFill>
          <a:blip r:embed="rId2"/>
          <a:stretch/>
        </p:blipFill>
        <p:spPr>
          <a:xfrm>
            <a:off x="1366920" y="288144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:\Users\TITAN\Desktop\新建文件夹\2006413161632268.png"/>
          <p:cNvPicPr/>
          <p:nvPr/>
        </p:nvPicPr>
        <p:blipFill>
          <a:blip r:embed="rId3"/>
          <a:stretch/>
        </p:blipFill>
        <p:spPr>
          <a:xfrm>
            <a:off x="1374840" y="536400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Users\TITAN\Desktop\新建文件夹\2006413161643529.png"/>
          <p:cNvPicPr/>
          <p:nvPr/>
        </p:nvPicPr>
        <p:blipFill>
          <a:blip r:embed="rId4"/>
          <a:stretch/>
        </p:blipFill>
        <p:spPr>
          <a:xfrm>
            <a:off x="1374840" y="407052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C:\Users\TITAN\Desktop\新建文件夹\2006413161725253.png"/>
          <p:cNvPicPr/>
          <p:nvPr/>
        </p:nvPicPr>
        <p:blipFill>
          <a:blip r:embed="rId5"/>
          <a:stretch/>
        </p:blipFill>
        <p:spPr>
          <a:xfrm>
            <a:off x="179280" y="4124160"/>
            <a:ext cx="900360" cy="9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C:\Users\TITAN\Desktop\新建文件夹\2006413161734397.png"/>
          <p:cNvPicPr/>
          <p:nvPr/>
        </p:nvPicPr>
        <p:blipFill>
          <a:blip r:embed="rId6"/>
          <a:stretch/>
        </p:blipFill>
        <p:spPr>
          <a:xfrm>
            <a:off x="2557440" y="407052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Users\TITAN\Desktop\新建文件夹\2006413161740347.png"/>
          <p:cNvPicPr/>
          <p:nvPr/>
        </p:nvPicPr>
        <p:blipFill>
          <a:blip r:embed="rId7"/>
          <a:stretch/>
        </p:blipFill>
        <p:spPr>
          <a:xfrm>
            <a:off x="1366920" y="1692360"/>
            <a:ext cx="900000" cy="8985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5148360" y="1123560"/>
            <a:ext cx="2843280" cy="646200"/>
            <a:chOff x="5148360" y="1123560"/>
            <a:chExt cx="2843280" cy="646200"/>
          </a:xfrm>
        </p:grpSpPr>
        <p:sp>
          <p:nvSpPr>
            <p:cNvPr id="112" name="AutoShape 112"/>
            <p:cNvSpPr/>
            <p:nvPr/>
          </p:nvSpPr>
          <p:spPr>
            <a:xfrm rot="16200000">
              <a:off x="6246720" y="24840"/>
              <a:ext cx="646200" cy="284328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999">
                  <a:moveTo>
                    <a:pt x="3600" y="0"/>
                  </a:moveTo>
                  <a:arcTo wR="3600" hR="3600" stAng="16200000" swAng="-5400000"/>
                  <a:lnTo>
                    <a:pt x="0" y="91399"/>
                  </a:lnTo>
                  <a:arcTo wR="3600" hR="3600" stAng="10800000" swAng="-5400000"/>
                  <a:lnTo>
                    <a:pt x="18000" y="94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34"/>
            <p:cNvSpPr/>
            <p:nvPr/>
          </p:nvSpPr>
          <p:spPr>
            <a:xfrm>
              <a:off x="6361200" y="1224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展前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88000" y="1989000"/>
            <a:ext cx="2841480" cy="648000"/>
            <a:chOff x="4788000" y="1989000"/>
            <a:chExt cx="2841480" cy="648000"/>
          </a:xfrm>
        </p:grpSpPr>
        <p:sp>
          <p:nvSpPr>
            <p:cNvPr id="115" name="AutoShape 112"/>
            <p:cNvSpPr/>
            <p:nvPr/>
          </p:nvSpPr>
          <p:spPr>
            <a:xfrm rot="16200000">
              <a:off x="5884560" y="892080"/>
              <a:ext cx="648000" cy="2841480"/>
            </a:xfrm>
            <a:custGeom>
              <a:avLst/>
              <a:gdLst>
                <a:gd name="textAreaLeft" fmla="*/ 31320 w 648000"/>
                <a:gd name="textAreaRight" fmla="*/ 616680 w 64800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675">
                  <a:moveTo>
                    <a:pt x="3600" y="0"/>
                  </a:moveTo>
                  <a:arcTo wR="3600" hR="3600" stAng="16200000" swAng="-5400000"/>
                  <a:lnTo>
                    <a:pt x="0" y="91075"/>
                  </a:lnTo>
                  <a:arcTo wR="3600" hR="3600" stAng="10800000" swAng="-5400000"/>
                  <a:lnTo>
                    <a:pt x="18000" y="946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36"/>
            <p:cNvSpPr/>
            <p:nvPr/>
          </p:nvSpPr>
          <p:spPr>
            <a:xfrm>
              <a:off x="6042960" y="208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店面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148360" y="2852280"/>
            <a:ext cx="2841480" cy="646200"/>
            <a:chOff x="5148360" y="2852280"/>
            <a:chExt cx="2841480" cy="646200"/>
          </a:xfrm>
        </p:grpSpPr>
        <p:sp>
          <p:nvSpPr>
            <p:cNvPr id="118" name="AutoShape 112"/>
            <p:cNvSpPr/>
            <p:nvPr/>
          </p:nvSpPr>
          <p:spPr>
            <a:xfrm rot="16200000">
              <a:off x="6246000" y="1754640"/>
              <a:ext cx="646200" cy="284148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939">
                  <a:moveTo>
                    <a:pt x="3600" y="0"/>
                  </a:moveTo>
                  <a:arcTo wR="3600" hR="3600" stAng="16200000" swAng="-5400000"/>
                  <a:lnTo>
                    <a:pt x="0" y="91339"/>
                  </a:lnTo>
                  <a:arcTo wR="3600" hR="3600" stAng="10800000" swAng="-5400000"/>
                  <a:lnTo>
                    <a:pt x="18000" y="949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38"/>
            <p:cNvSpPr/>
            <p:nvPr/>
          </p:nvSpPr>
          <p:spPr>
            <a:xfrm>
              <a:off x="6456240" y="2953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策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3717720"/>
            <a:ext cx="2840760" cy="647640"/>
            <a:chOff x="4861080" y="3717720"/>
            <a:chExt cx="2840760" cy="647640"/>
          </a:xfrm>
        </p:grpSpPr>
        <p:sp>
          <p:nvSpPr>
            <p:cNvPr id="121" name="AutoShape 112"/>
            <p:cNvSpPr/>
            <p:nvPr/>
          </p:nvSpPr>
          <p:spPr>
            <a:xfrm rot="16200000">
              <a:off x="5957640" y="2621160"/>
              <a:ext cx="647640" cy="284076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0760"/>
                <a:gd name="textAreaBottom" fmla="*/ 2809440 h 2840760"/>
              </a:gdLst>
              <a:ahLst/>
              <a:rect l="textAreaLeft" t="textAreaTop" r="textAreaRight" b="textAreaBottom"/>
              <a:pathLst>
                <a:path w="21600" h="94704">
                  <a:moveTo>
                    <a:pt x="3600" y="0"/>
                  </a:moveTo>
                  <a:arcTo wR="3600" hR="3600" stAng="16200000" swAng="-5400000"/>
                  <a:lnTo>
                    <a:pt x="0" y="91104"/>
                  </a:lnTo>
                  <a:arcTo wR="3600" hR="3600" stAng="10800000" swAng="-5400000"/>
                  <a:lnTo>
                    <a:pt x="18000" y="947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40"/>
            <p:cNvSpPr/>
            <p:nvPr/>
          </p:nvSpPr>
          <p:spPr>
            <a:xfrm>
              <a:off x="6034320" y="38091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发展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427640" y="4652640"/>
            <a:ext cx="2843280" cy="647640"/>
            <a:chOff x="4427640" y="4652640"/>
            <a:chExt cx="2843280" cy="647640"/>
          </a:xfrm>
        </p:grpSpPr>
        <p:sp>
          <p:nvSpPr>
            <p:cNvPr id="124" name="AutoShape 112"/>
            <p:cNvSpPr/>
            <p:nvPr/>
          </p:nvSpPr>
          <p:spPr>
            <a:xfrm rot="16200000">
              <a:off x="5525280" y="3554640"/>
              <a:ext cx="647640" cy="28432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88">
                  <a:moveTo>
                    <a:pt x="3600" y="0"/>
                  </a:moveTo>
                  <a:arcTo wR="3600" hR="3600" stAng="16200000" swAng="-5400000"/>
                  <a:lnTo>
                    <a:pt x="0" y="91188"/>
                  </a:lnTo>
                  <a:arcTo wR="3600" hR="3600" stAng="10800000" swAng="-5400000"/>
                  <a:lnTo>
                    <a:pt x="18000" y="947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42"/>
            <p:cNvSpPr/>
            <p:nvPr/>
          </p:nvSpPr>
          <p:spPr>
            <a:xfrm>
              <a:off x="5457600" y="475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状况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Picture 10" descr="C:\Users\TITAN\Desktop\新建文件夹\2006413161622724.png"/>
          <p:cNvPicPr/>
          <p:nvPr/>
        </p:nvPicPr>
        <p:blipFill>
          <a:blip r:embed="rId8"/>
          <a:stretch/>
        </p:blipFill>
        <p:spPr>
          <a:xfrm>
            <a:off x="4861080" y="112392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Users\TITAN\Desktop\新建文件夹\2006413161725253.png"/>
          <p:cNvPicPr/>
          <p:nvPr/>
        </p:nvPicPr>
        <p:blipFill>
          <a:blip r:embed="rId9"/>
          <a:stretch/>
        </p:blipFill>
        <p:spPr>
          <a:xfrm>
            <a:off x="4427640" y="1989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Users\TITAN\Desktop\新建文件夹\2006413161632268.png"/>
          <p:cNvPicPr/>
          <p:nvPr/>
        </p:nvPicPr>
        <p:blipFill>
          <a:blip r:embed="rId10"/>
          <a:stretch/>
        </p:blipFill>
        <p:spPr>
          <a:xfrm>
            <a:off x="4788000" y="285264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C:\Users\TITAN\Desktop\新建文件夹\2006413161734397.png"/>
          <p:cNvPicPr/>
          <p:nvPr/>
        </p:nvPicPr>
        <p:blipFill>
          <a:blip r:embed="rId11"/>
          <a:stretch/>
        </p:blipFill>
        <p:spPr>
          <a:xfrm>
            <a:off x="4500720" y="371808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C:\Users\TITAN\Desktop\新建文件夹\2006413161643529.png"/>
          <p:cNvPicPr/>
          <p:nvPr/>
        </p:nvPicPr>
        <p:blipFill>
          <a:blip r:embed="rId12"/>
          <a:stretch/>
        </p:blipFill>
        <p:spPr>
          <a:xfrm>
            <a:off x="4211640" y="465300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Users\TITAN\Desktop\新建文件夹\2006413161740347.png"/>
          <p:cNvPicPr/>
          <p:nvPr/>
        </p:nvPicPr>
        <p:blipFill>
          <a:blip r:embed="rId13"/>
          <a:stretch/>
        </p:blipFill>
        <p:spPr>
          <a:xfrm>
            <a:off x="385128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32" name="Freeform 297"/>
          <p:cNvSpPr/>
          <p:nvPr/>
        </p:nvSpPr>
        <p:spPr>
          <a:xfrm>
            <a:off x="7451640" y="893880"/>
            <a:ext cx="1674720" cy="2286000"/>
          </a:xfrm>
          <a:custGeom>
            <a:avLst/>
            <a:gdLst/>
            <a:ahLst/>
            <a:rect l="l" t="t" r="r" b="b"/>
            <a:pathLst>
              <a:path w="2454" h="1222">
                <a:moveTo>
                  <a:pt x="0" y="0"/>
                </a:moveTo>
                <a:lnTo>
                  <a:pt x="322" y="0"/>
                </a:lnTo>
                <a:lnTo>
                  <a:pt x="1544" y="1222"/>
                </a:lnTo>
                <a:lnTo>
                  <a:pt x="2454" y="122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80000" y="5660640"/>
            <a:ext cx="2842920" cy="647640"/>
            <a:chOff x="3780000" y="5660640"/>
            <a:chExt cx="2842920" cy="647640"/>
          </a:xfrm>
        </p:grpSpPr>
        <p:sp>
          <p:nvSpPr>
            <p:cNvPr id="134" name="AutoShape 112"/>
            <p:cNvSpPr/>
            <p:nvPr/>
          </p:nvSpPr>
          <p:spPr>
            <a:xfrm rot="16200000">
              <a:off x="4877640" y="4563000"/>
              <a:ext cx="647640" cy="284292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2920"/>
                <a:gd name="textAreaBottom" fmla="*/ 2811600 h 2842920"/>
              </a:gdLst>
              <a:ahLst/>
              <a:rect l="textAreaLeft" t="textAreaTop" r="textAreaRight" b="textAreaBottom"/>
              <a:pathLst>
                <a:path w="21600" h="94776">
                  <a:moveTo>
                    <a:pt x="3600" y="0"/>
                  </a:moveTo>
                  <a:arcTo wR="3600" hR="3600" stAng="16200000" swAng="-5400000"/>
                  <a:lnTo>
                    <a:pt x="0" y="91176"/>
                  </a:lnTo>
                  <a:arcTo wR="3600" hR="3600" stAng="10800000" swAng="-5400000"/>
                  <a:lnTo>
                    <a:pt x="18000" y="94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42"/>
            <p:cNvSpPr/>
            <p:nvPr/>
          </p:nvSpPr>
          <p:spPr>
            <a:xfrm>
              <a:off x="4900680" y="57664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与规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6" name="Picture 14" descr="C:\Users\TITAN\Desktop\新建文件夹\2006413161734397.png"/>
          <p:cNvPicPr/>
          <p:nvPr/>
        </p:nvPicPr>
        <p:blipFill>
          <a:blip r:embed="rId14"/>
          <a:stretch/>
        </p:blipFill>
        <p:spPr>
          <a:xfrm>
            <a:off x="3348000" y="558972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2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3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4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7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75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6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47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47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847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8" dur="500" fill="hold"/>
                                        <p:tgtEl>
                                          <p:spTgt spid="10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347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847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347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847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24895 2.59259E-006 E">
                                      <p:cBhvr>
                                        <p:cTn id="338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创业项目概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项目名称：浪漫学生饭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经营范围：早餐、午餐、晚餐以及特色冷饮和休闲餐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项目投资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万人民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场地选择：繁华的商业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项目概述：浪漫学生饭店整合食堂和饭店的优缺，是一家学   生自助营养快餐店。主要提供早餐、午餐、晚餐以及特色冷饮和休闲餐饮等， 同时还提供特色荆州风味小吃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项目类型： 服务类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384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384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384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384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500"/>
                            </p:stCondLst>
                            <p:childTnLst>
                              <p:par>
                                <p:cTn id="37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6250"/>
                            </p:stCondLst>
                            <p:childTnLst>
                              <p:par>
                                <p:cTn id="3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0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9750"/>
                            </p:stCondLst>
                            <p:childTnLst>
                              <p:par>
                                <p:cTn id="4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Calibri"/>
              </a:rPr>
              <a:t>发展前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自上初中以来我便开始住校，深知令人头疼的“ 吃饭”问题。由于学校食堂普遍都是以大锅菜的方式做的，因此虽然价格较低但未必能真正受到学生欢迎。虽然大学生可以到校外就餐，但大多数学生考虑经济原因，还是愿意在校食堂就餐。饭菜质量问题，卫生问题，等待问题是个合适的机会发展一家学生饭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799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799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99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799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店面简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本店位于繁华的商业街，主要针对的客户群是大学生、教师。经营面积约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平米左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主要提供早餐、午餐、晚餐以及特色冷饮和休闲餐饮等。早餐以荆州等小吃为主打特色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午餐和晚餐则有不同口味菜式。而非餐点又提供各种冷饮，如果汁、薄冰、冰粥、、冰豆甜汤、皮蛋粥、水果拼盘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本餐厅采用自助快餐的方式，使顾客有更轻松的就餐环境与更多的选择空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4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2797200" y="4516560"/>
            <a:ext cx="3548160" cy="1979640"/>
            <a:chOff x="2797200" y="4516560"/>
            <a:chExt cx="3548160" cy="1979640"/>
          </a:xfrm>
        </p:grpSpPr>
        <p:sp>
          <p:nvSpPr>
            <p:cNvPr id="144" name="Freeform 21"/>
            <p:cNvSpPr/>
            <p:nvPr/>
          </p:nvSpPr>
          <p:spPr>
            <a:xfrm>
              <a:off x="2797200" y="4770720"/>
              <a:ext cx="3548160" cy="1725480"/>
            </a:xfrm>
            <a:custGeom>
              <a:avLst/>
              <a:gdLst/>
              <a:ahLst/>
              <a:rect l="l" t="t" r="r" b="b"/>
              <a:pathLst>
                <a:path w="1594" h="776">
                  <a:moveTo>
                    <a:pt x="105" y="776"/>
                  </a:moveTo>
                  <a:cubicBezTo>
                    <a:pt x="100" y="776"/>
                    <a:pt x="95" y="776"/>
                    <a:pt x="91" y="774"/>
                  </a:cubicBezTo>
                  <a:cubicBezTo>
                    <a:pt x="86" y="772"/>
                    <a:pt x="82" y="770"/>
                    <a:pt x="79" y="767"/>
                  </a:cubicBezTo>
                  <a:cubicBezTo>
                    <a:pt x="75" y="764"/>
                    <a:pt x="72" y="761"/>
                    <a:pt x="70" y="757"/>
                  </a:cubicBezTo>
                  <a:cubicBezTo>
                    <a:pt x="68" y="753"/>
                    <a:pt x="66" y="749"/>
                    <a:pt x="66" y="744"/>
                  </a:cubicBezTo>
                  <a:cubicBezTo>
                    <a:pt x="1" y="38"/>
                    <a:pt x="1" y="38"/>
                    <a:pt x="1" y="38"/>
                  </a:cubicBezTo>
                  <a:cubicBezTo>
                    <a:pt x="0" y="33"/>
                    <a:pt x="1" y="28"/>
                    <a:pt x="2" y="23"/>
                  </a:cubicBezTo>
                  <a:cubicBezTo>
                    <a:pt x="4" y="19"/>
                    <a:pt x="7" y="15"/>
                    <a:pt x="10" y="11"/>
                  </a:cubicBezTo>
                  <a:cubicBezTo>
                    <a:pt x="13" y="8"/>
                    <a:pt x="17" y="5"/>
                    <a:pt x="22" y="3"/>
                  </a:cubicBezTo>
                  <a:cubicBezTo>
                    <a:pt x="26" y="1"/>
                    <a:pt x="31" y="0"/>
                    <a:pt x="37" y="0"/>
                  </a:cubicBezTo>
                  <a:cubicBezTo>
                    <a:pt x="1557" y="0"/>
                    <a:pt x="1557" y="0"/>
                    <a:pt x="1557" y="0"/>
                  </a:cubicBezTo>
                  <a:cubicBezTo>
                    <a:pt x="1563" y="0"/>
                    <a:pt x="1568" y="1"/>
                    <a:pt x="1572" y="3"/>
                  </a:cubicBezTo>
                  <a:cubicBezTo>
                    <a:pt x="1577" y="5"/>
                    <a:pt x="1581" y="8"/>
                    <a:pt x="1584" y="11"/>
                  </a:cubicBezTo>
                  <a:cubicBezTo>
                    <a:pt x="1587" y="15"/>
                    <a:pt x="1590" y="19"/>
                    <a:pt x="1591" y="23"/>
                  </a:cubicBezTo>
                  <a:cubicBezTo>
                    <a:pt x="1593" y="28"/>
                    <a:pt x="1594" y="33"/>
                    <a:pt x="1593" y="38"/>
                  </a:cubicBezTo>
                  <a:cubicBezTo>
                    <a:pt x="1528" y="744"/>
                    <a:pt x="1528" y="744"/>
                    <a:pt x="1528" y="744"/>
                  </a:cubicBezTo>
                  <a:cubicBezTo>
                    <a:pt x="1528" y="749"/>
                    <a:pt x="1526" y="753"/>
                    <a:pt x="1524" y="757"/>
                  </a:cubicBezTo>
                  <a:cubicBezTo>
                    <a:pt x="1522" y="761"/>
                    <a:pt x="1519" y="764"/>
                    <a:pt x="1515" y="767"/>
                  </a:cubicBezTo>
                  <a:cubicBezTo>
                    <a:pt x="1512" y="770"/>
                    <a:pt x="1508" y="772"/>
                    <a:pt x="1503" y="774"/>
                  </a:cubicBezTo>
                  <a:cubicBezTo>
                    <a:pt x="1499" y="776"/>
                    <a:pt x="1494" y="776"/>
                    <a:pt x="1489" y="776"/>
                  </a:cubicBezTo>
                  <a:lnTo>
                    <a:pt x="105" y="776"/>
                  </a:lnTo>
                  <a:close/>
                </a:path>
              </a:pathLst>
            </a:custGeom>
            <a:solidFill>
              <a:srgbClr val="0079c1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3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/>
              <a:ahLst/>
              <a:rect l="l" t="t" r="r" b="b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4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/>
              <a:ahLst/>
              <a:rect l="l" t="t" r="r" b="b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5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/>
              <a:ahLst/>
              <a:rect l="l" t="t" r="r" b="b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/>
              <a:ahLst/>
              <a:rect l="l" t="t" r="r" b="b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7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/>
              <a:ahLst/>
              <a:rect l="l" t="t" r="r" b="b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771640" y="404640"/>
            <a:ext cx="3548160" cy="1981080"/>
            <a:chOff x="2771640" y="404640"/>
            <a:chExt cx="3548160" cy="1981080"/>
          </a:xfrm>
        </p:grpSpPr>
        <p:sp>
          <p:nvSpPr>
            <p:cNvPr id="151" name="Freeform 18"/>
            <p:cNvSpPr/>
            <p:nvPr/>
          </p:nvSpPr>
          <p:spPr>
            <a:xfrm>
              <a:off x="2771640" y="404640"/>
              <a:ext cx="3548160" cy="1725480"/>
            </a:xfrm>
            <a:custGeom>
              <a:avLst/>
              <a:gdLst/>
              <a:ahLst/>
              <a:rect l="l" t="t" r="r" b="b"/>
              <a:pathLst>
                <a:path w="1594" h="776">
                  <a:moveTo>
                    <a:pt x="1489" y="0"/>
                  </a:moveTo>
                  <a:cubicBezTo>
                    <a:pt x="1494" y="0"/>
                    <a:pt x="1499" y="1"/>
                    <a:pt x="1503" y="2"/>
                  </a:cubicBezTo>
                  <a:cubicBezTo>
                    <a:pt x="1508" y="4"/>
                    <a:pt x="1512" y="6"/>
                    <a:pt x="1515" y="9"/>
                  </a:cubicBezTo>
                  <a:cubicBezTo>
                    <a:pt x="1519" y="12"/>
                    <a:pt x="1522" y="15"/>
                    <a:pt x="1524" y="19"/>
                  </a:cubicBezTo>
                  <a:cubicBezTo>
                    <a:pt x="1526" y="23"/>
                    <a:pt x="1528" y="27"/>
                    <a:pt x="1528" y="32"/>
                  </a:cubicBezTo>
                  <a:cubicBezTo>
                    <a:pt x="1593" y="738"/>
                    <a:pt x="1593" y="738"/>
                    <a:pt x="1593" y="738"/>
                  </a:cubicBezTo>
                  <a:cubicBezTo>
                    <a:pt x="1594" y="743"/>
                    <a:pt x="1593" y="748"/>
                    <a:pt x="1592" y="753"/>
                  </a:cubicBezTo>
                  <a:cubicBezTo>
                    <a:pt x="1590" y="757"/>
                    <a:pt x="1587" y="762"/>
                    <a:pt x="1584" y="765"/>
                  </a:cubicBezTo>
                  <a:cubicBezTo>
                    <a:pt x="1581" y="768"/>
                    <a:pt x="1577" y="771"/>
                    <a:pt x="1572" y="773"/>
                  </a:cubicBezTo>
                  <a:cubicBezTo>
                    <a:pt x="1568" y="775"/>
                    <a:pt x="1563" y="776"/>
                    <a:pt x="1557" y="776"/>
                  </a:cubicBezTo>
                  <a:cubicBezTo>
                    <a:pt x="37" y="776"/>
                    <a:pt x="37" y="776"/>
                    <a:pt x="37" y="776"/>
                  </a:cubicBezTo>
                  <a:cubicBezTo>
                    <a:pt x="31" y="776"/>
                    <a:pt x="26" y="775"/>
                    <a:pt x="22" y="773"/>
                  </a:cubicBezTo>
                  <a:cubicBezTo>
                    <a:pt x="17" y="771"/>
                    <a:pt x="13" y="768"/>
                    <a:pt x="10" y="765"/>
                  </a:cubicBezTo>
                  <a:cubicBezTo>
                    <a:pt x="7" y="762"/>
                    <a:pt x="4" y="757"/>
                    <a:pt x="2" y="753"/>
                  </a:cubicBezTo>
                  <a:cubicBezTo>
                    <a:pt x="1" y="748"/>
                    <a:pt x="0" y="743"/>
                    <a:pt x="1" y="738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27"/>
                    <a:pt x="68" y="23"/>
                    <a:pt x="70" y="19"/>
                  </a:cubicBezTo>
                  <a:cubicBezTo>
                    <a:pt x="72" y="15"/>
                    <a:pt x="75" y="12"/>
                    <a:pt x="79" y="9"/>
                  </a:cubicBezTo>
                  <a:cubicBezTo>
                    <a:pt x="82" y="6"/>
                    <a:pt x="86" y="4"/>
                    <a:pt x="91" y="2"/>
                  </a:cubicBezTo>
                  <a:cubicBezTo>
                    <a:pt x="95" y="1"/>
                    <a:pt x="100" y="0"/>
                    <a:pt x="105" y="0"/>
                  </a:cubicBezTo>
                  <a:lnTo>
                    <a:pt x="1489" y="0"/>
                  </a:lnTo>
                  <a:close/>
                </a:path>
              </a:pathLst>
            </a:custGeom>
            <a:solidFill>
              <a:srgbClr val="0079c1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0"/>
            <p:cNvSpPr/>
            <p:nvPr/>
          </p:nvSpPr>
          <p:spPr>
            <a:xfrm>
              <a:off x="2798640" y="2109600"/>
              <a:ext cx="3494160" cy="276120"/>
            </a:xfrm>
            <a:custGeom>
              <a:avLst/>
              <a:gdLst/>
              <a:ahLst/>
              <a:rect l="l" t="t" r="r" b="b"/>
              <a:pathLst>
                <a:path w="1570" h="124">
                  <a:moveTo>
                    <a:pt x="1568" y="2"/>
                  </a:moveTo>
                  <a:cubicBezTo>
                    <a:pt x="1566" y="3"/>
                    <a:pt x="1564" y="5"/>
                    <a:pt x="1561" y="6"/>
                  </a:cubicBezTo>
                  <a:cubicBezTo>
                    <a:pt x="1559" y="7"/>
                    <a:pt x="1556" y="8"/>
                    <a:pt x="1554" y="8"/>
                  </a:cubicBezTo>
                  <a:cubicBezTo>
                    <a:pt x="1551" y="9"/>
                    <a:pt x="1548" y="9"/>
                    <a:pt x="1545" y="9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2" y="9"/>
                    <a:pt x="19" y="9"/>
                    <a:pt x="16" y="8"/>
                  </a:cubicBezTo>
                  <a:cubicBezTo>
                    <a:pt x="14" y="8"/>
                    <a:pt x="11" y="7"/>
                    <a:pt x="9" y="6"/>
                  </a:cubicBezTo>
                  <a:cubicBezTo>
                    <a:pt x="6" y="5"/>
                    <a:pt x="4" y="3"/>
                    <a:pt x="2" y="2"/>
                  </a:cubicBezTo>
                  <a:cubicBezTo>
                    <a:pt x="0" y="0"/>
                    <a:pt x="60" y="73"/>
                    <a:pt x="91" y="112"/>
                  </a:cubicBezTo>
                  <a:cubicBezTo>
                    <a:pt x="93" y="114"/>
                    <a:pt x="94" y="115"/>
                    <a:pt x="96" y="117"/>
                  </a:cubicBezTo>
                  <a:cubicBezTo>
                    <a:pt x="98" y="118"/>
                    <a:pt x="100" y="120"/>
                    <a:pt x="102" y="121"/>
                  </a:cubicBezTo>
                  <a:cubicBezTo>
                    <a:pt x="104" y="122"/>
                    <a:pt x="107" y="122"/>
                    <a:pt x="109" y="123"/>
                  </a:cubicBezTo>
                  <a:cubicBezTo>
                    <a:pt x="112" y="123"/>
                    <a:pt x="114" y="124"/>
                    <a:pt x="117" y="124"/>
                  </a:cubicBezTo>
                  <a:cubicBezTo>
                    <a:pt x="1453" y="124"/>
                    <a:pt x="1453" y="124"/>
                    <a:pt x="1453" y="124"/>
                  </a:cubicBezTo>
                  <a:cubicBezTo>
                    <a:pt x="1456" y="124"/>
                    <a:pt x="1458" y="123"/>
                    <a:pt x="1461" y="123"/>
                  </a:cubicBezTo>
                  <a:cubicBezTo>
                    <a:pt x="1463" y="122"/>
                    <a:pt x="1466" y="122"/>
                    <a:pt x="1468" y="121"/>
                  </a:cubicBezTo>
                  <a:cubicBezTo>
                    <a:pt x="1470" y="120"/>
                    <a:pt x="1472" y="118"/>
                    <a:pt x="1474" y="117"/>
                  </a:cubicBezTo>
                  <a:cubicBezTo>
                    <a:pt x="1475" y="115"/>
                    <a:pt x="1477" y="114"/>
                    <a:pt x="1479" y="112"/>
                  </a:cubicBezTo>
                  <a:cubicBezTo>
                    <a:pt x="1510" y="73"/>
                    <a:pt x="1570" y="0"/>
                    <a:pt x="1568" y="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Freeform 301"/>
          <p:cNvSpPr/>
          <p:nvPr/>
        </p:nvSpPr>
        <p:spPr>
          <a:xfrm>
            <a:off x="2987640" y="2565360"/>
            <a:ext cx="3240000" cy="1708200"/>
          </a:xfrm>
          <a:custGeom>
            <a:avLst/>
            <a:gdLst/>
            <a:ahLst/>
            <a:rect l="l" t="t" r="r" b="b"/>
            <a:pathLst>
              <a:path w="2041" h="1076">
                <a:moveTo>
                  <a:pt x="2041" y="1076"/>
                </a:moveTo>
                <a:lnTo>
                  <a:pt x="2041" y="1076"/>
                </a:lnTo>
                <a:lnTo>
                  <a:pt x="0" y="1076"/>
                </a:lnTo>
                <a:lnTo>
                  <a:pt x="0" y="0"/>
                </a:lnTo>
                <a:lnTo>
                  <a:pt x="2041" y="0"/>
                </a:lnTo>
                <a:lnTo>
                  <a:pt x="2041" y="1076"/>
                </a:lnTo>
                <a:lnTo>
                  <a:pt x="2041" y="1076"/>
                </a:lnTo>
                <a:close/>
              </a:path>
            </a:pathLst>
          </a:custGeom>
          <a:solidFill>
            <a:srgbClr val="0079c5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9"/>
          <p:cNvSpPr/>
          <p:nvPr/>
        </p:nvSpPr>
        <p:spPr>
          <a:xfrm>
            <a:off x="1801800" y="3425760"/>
            <a:ext cx="1440" cy="835200"/>
          </a:xfrm>
          <a:custGeom>
            <a:avLst/>
            <a:gdLst/>
            <a:ahLst/>
            <a:rect l="l" t="t" r="r" b="b"/>
            <a:pathLst>
              <a:path w="1587" h="526">
                <a:moveTo>
                  <a:pt x="0" y="526"/>
                </a:moveTo>
                <a:lnTo>
                  <a:pt x="0" y="0"/>
                </a:lnTo>
                <a:lnTo>
                  <a:pt x="0" y="526"/>
                </a:lnTo>
                <a:close/>
              </a:path>
            </a:pathLst>
          </a:custGeom>
          <a:solidFill>
            <a:srgbClr val="007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10"/>
          <p:cNvSpPr/>
          <p:nvPr/>
        </p:nvSpPr>
        <p:spPr>
          <a:xfrm flipV="1">
            <a:off x="2879640" y="3427200"/>
            <a:ext cx="1800" cy="83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2879640" y="4260960"/>
            <a:ext cx="3382920" cy="91800"/>
          </a:xfrm>
          <a:custGeom>
            <a:avLst/>
            <a:gdLst/>
            <a:ahLst/>
            <a:rect l="l" t="t" r="r" b="b"/>
            <a:pathLst>
              <a:path w="1520" h="41">
                <a:moveTo>
                  <a:pt x="1520" y="0"/>
                </a:moveTo>
                <a:cubicBezTo>
                  <a:pt x="1520" y="9"/>
                  <a:pt x="1520" y="9"/>
                  <a:pt x="1520" y="9"/>
                </a:cubicBezTo>
                <a:cubicBezTo>
                  <a:pt x="1520" y="26"/>
                  <a:pt x="1506" y="41"/>
                  <a:pt x="1488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14" y="41"/>
                  <a:pt x="0" y="26"/>
                  <a:pt x="0" y="9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3"/>
          <p:cNvSpPr/>
          <p:nvPr/>
        </p:nvSpPr>
        <p:spPr>
          <a:xfrm>
            <a:off x="2967120" y="2502000"/>
            <a:ext cx="3297240" cy="1779480"/>
          </a:xfrm>
          <a:custGeom>
            <a:avLst/>
            <a:gdLst/>
            <a:ahLst/>
            <a:rect l="l" t="t" r="r" b="b"/>
            <a:pathLst>
              <a:path w="2077" h="1121">
                <a:moveTo>
                  <a:pt x="0" y="0"/>
                </a:moveTo>
                <a:cubicBezTo>
                  <a:pt x="2031" y="0"/>
                  <a:pt x="2031" y="0"/>
                  <a:pt x="2031" y="0"/>
                </a:cubicBezTo>
                <a:cubicBezTo>
                  <a:pt x="2056" y="0"/>
                  <a:pt x="2076" y="20"/>
                  <a:pt x="2076" y="45"/>
                </a:cubicBezTo>
                <a:cubicBezTo>
                  <a:pt x="2076" y="1108"/>
                  <a:pt x="2077" y="1121"/>
                  <a:pt x="2077" y="112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2879640" y="2503440"/>
            <a:ext cx="87480" cy="924120"/>
          </a:xfrm>
          <a:custGeom>
            <a:avLst/>
            <a:gdLst/>
            <a:ahLst/>
            <a:rect l="l" t="t" r="r" b="b"/>
            <a:pathLst>
              <a:path w="39" h="415">
                <a:moveTo>
                  <a:pt x="0" y="415"/>
                </a:moveTo>
                <a:cubicBezTo>
                  <a:pt x="0" y="32"/>
                  <a:pt x="0" y="32"/>
                  <a:pt x="0" y="32"/>
                </a:cubicBezTo>
                <a:cubicBezTo>
                  <a:pt x="0" y="14"/>
                  <a:pt x="14" y="0"/>
                  <a:pt x="32" y="0"/>
                </a:cubicBezTo>
                <a:cubicBezTo>
                  <a:pt x="39" y="0"/>
                  <a:pt x="39" y="0"/>
                  <a:pt x="39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2813040" y="1150920"/>
            <a:ext cx="3240" cy="1440"/>
          </a:xfrm>
          <a:custGeom>
            <a:avLst/>
            <a:gdLst/>
            <a:ahLst/>
            <a:rect l="l" t="t" r="r" b="b"/>
            <a:pathLst>
              <a:path w="2" h="1587">
                <a:moveTo>
                  <a:pt x="2" y="0"/>
                </a:move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7"/>
          <p:cNvSpPr/>
          <p:nvPr/>
        </p:nvSpPr>
        <p:spPr>
          <a:xfrm>
            <a:off x="4284720" y="1152360"/>
            <a:ext cx="9360" cy="1800"/>
          </a:xfrm>
          <a:custGeom>
            <a:avLst/>
            <a:gdLst/>
            <a:ahLst/>
            <a:rect l="l" t="t" r="r" b="b"/>
            <a:pathLst>
              <a:path w="4" h="1588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39"/>
          <p:cNvSpPr/>
          <p:nvPr/>
        </p:nvSpPr>
        <p:spPr>
          <a:xfrm>
            <a:off x="4668840" y="1155600"/>
            <a:ext cx="1440" cy="1800"/>
          </a:xfrm>
          <a:custGeom>
            <a:avLst/>
            <a:gdLst/>
            <a:ahLst/>
            <a:rect l="l" t="t" r="r" b="b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40"/>
          <p:cNvSpPr/>
          <p:nvPr/>
        </p:nvSpPr>
        <p:spPr>
          <a:xfrm>
            <a:off x="2948040" y="1168560"/>
            <a:ext cx="4680" cy="1440"/>
          </a:xfrm>
          <a:custGeom>
            <a:avLst/>
            <a:gdLst/>
            <a:ahLst/>
            <a:rect l="l" t="t" r="r" b="b"/>
            <a:pathLst>
              <a:path w="2" h="1588">
                <a:moveTo>
                  <a:pt x="2" y="0"/>
                </a:move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43"/>
          <p:cNvSpPr/>
          <p:nvPr/>
        </p:nvSpPr>
        <p:spPr>
          <a:xfrm>
            <a:off x="3244680" y="1171440"/>
            <a:ext cx="3240" cy="1800"/>
          </a:xfrm>
          <a:custGeom>
            <a:avLst/>
            <a:gdLst/>
            <a:ahLst/>
            <a:rect l="l" t="t" r="r" b="b"/>
            <a:pathLst>
              <a:path w="2" h="1588">
                <a:moveTo>
                  <a:pt x="2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45"/>
          <p:cNvSpPr/>
          <p:nvPr/>
        </p:nvSpPr>
        <p:spPr>
          <a:xfrm>
            <a:off x="3890880" y="1173240"/>
            <a:ext cx="4680" cy="1440"/>
          </a:xfrm>
          <a:custGeom>
            <a:avLst/>
            <a:gdLst/>
            <a:ahLst/>
            <a:rect l="l" t="t" r="r" b="b"/>
            <a:pathLst>
              <a:path w="2" h="1587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54"/>
          <p:cNvSpPr/>
          <p:nvPr/>
        </p:nvSpPr>
        <p:spPr>
          <a:xfrm>
            <a:off x="4826160" y="1173240"/>
            <a:ext cx="1440" cy="1440"/>
          </a:xfrm>
          <a:custGeom>
            <a:avLst/>
            <a:gdLst/>
            <a:ahLst/>
            <a:rect l="l" t="t" r="r" b="b"/>
            <a:pathLst>
              <a:path w="1588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55"/>
          <p:cNvSpPr/>
          <p:nvPr/>
        </p:nvSpPr>
        <p:spPr>
          <a:xfrm>
            <a:off x="4433760" y="1177920"/>
            <a:ext cx="1800" cy="1440"/>
          </a:xfrm>
          <a:custGeom>
            <a:avLst/>
            <a:gdLst/>
            <a:ahLst/>
            <a:rect l="l" t="t" r="r" b="b"/>
            <a:pathLst>
              <a:path w="1587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87"/>
          <p:cNvSpPr/>
          <p:nvPr/>
        </p:nvSpPr>
        <p:spPr>
          <a:xfrm>
            <a:off x="2808360" y="1273320"/>
            <a:ext cx="4680" cy="1440"/>
          </a:xfrm>
          <a:custGeom>
            <a:avLst/>
            <a:gdLst/>
            <a:ahLst/>
            <a:rect l="l" t="t" r="r" b="b"/>
            <a:pathLst>
              <a:path w="2" h="1588">
                <a:moveTo>
                  <a:pt x="2" y="0"/>
                </a:move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88"/>
          <p:cNvSpPr/>
          <p:nvPr/>
        </p:nvSpPr>
        <p:spPr>
          <a:xfrm>
            <a:off x="3090960" y="1273320"/>
            <a:ext cx="7920" cy="1440"/>
          </a:xfrm>
          <a:custGeom>
            <a:avLst/>
            <a:gdLst/>
            <a:ahLst/>
            <a:rect l="l" t="t" r="r" b="b"/>
            <a:pathLst>
              <a:path w="4" h="1588">
                <a:moveTo>
                  <a:pt x="4" y="0"/>
                </a:move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02"/>
          <p:cNvSpPr/>
          <p:nvPr/>
        </p:nvSpPr>
        <p:spPr>
          <a:xfrm>
            <a:off x="4832280" y="1278000"/>
            <a:ext cx="3240" cy="1440"/>
          </a:xfrm>
          <a:custGeom>
            <a:avLst/>
            <a:gdLst/>
            <a:ahLst/>
            <a:rect l="l" t="t" r="r" b="b"/>
            <a:pathLst>
              <a:path w="1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16"/>
          <p:cNvSpPr/>
          <p:nvPr/>
        </p:nvSpPr>
        <p:spPr>
          <a:xfrm>
            <a:off x="4511520" y="1295280"/>
            <a:ext cx="7920" cy="1800"/>
          </a:xfrm>
          <a:custGeom>
            <a:avLst/>
            <a:gdLst/>
            <a:ahLst/>
            <a:rect l="l" t="t" r="r" b="b"/>
            <a:pathLst>
              <a:path w="3" h="1588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17"/>
          <p:cNvSpPr/>
          <p:nvPr/>
        </p:nvSpPr>
        <p:spPr>
          <a:xfrm>
            <a:off x="4676760" y="1297080"/>
            <a:ext cx="4680" cy="1440"/>
          </a:xfrm>
          <a:custGeom>
            <a:avLst/>
            <a:gdLst/>
            <a:ahLst/>
            <a:rect l="l" t="t" r="r" b="b"/>
            <a:pathLst>
              <a:path w="2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122"/>
          <p:cNvSpPr/>
          <p:nvPr/>
        </p:nvSpPr>
        <p:spPr>
          <a:xfrm>
            <a:off x="2583000" y="1123920"/>
            <a:ext cx="6120" cy="1440"/>
          </a:xfrm>
          <a:custGeom>
            <a:avLst/>
            <a:gdLst/>
            <a:ahLst/>
            <a:rect l="l" t="t" r="r" b="b"/>
            <a:pathLst>
              <a:path w="3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67"/>
          <p:cNvSpPr/>
          <p:nvPr/>
        </p:nvSpPr>
        <p:spPr>
          <a:xfrm>
            <a:off x="3691080" y="5697360"/>
            <a:ext cx="1440" cy="1800"/>
          </a:xfrm>
          <a:custGeom>
            <a:avLst/>
            <a:gdLst/>
            <a:ahLst/>
            <a:rect l="l" t="t" r="r" b="b"/>
            <a:pathLst>
              <a:path w="1587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80"/>
          <p:cNvSpPr/>
          <p:nvPr/>
        </p:nvSpPr>
        <p:spPr>
          <a:xfrm>
            <a:off x="4376880" y="5686560"/>
            <a:ext cx="1440" cy="1440"/>
          </a:xfrm>
          <a:custGeom>
            <a:avLst/>
            <a:gdLst/>
            <a:ahLst/>
            <a:rect l="l" t="t" r="r" b="b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214"/>
          <p:cNvSpPr/>
          <p:nvPr/>
        </p:nvSpPr>
        <p:spPr>
          <a:xfrm>
            <a:off x="4862520" y="5634000"/>
            <a:ext cx="1440" cy="6480"/>
          </a:xfrm>
          <a:custGeom>
            <a:avLst/>
            <a:gdLst/>
            <a:ahLst/>
            <a:rect l="l" t="t" r="r" b="b"/>
            <a:pathLst>
              <a:path w="1587" h="3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233"/>
          <p:cNvSpPr/>
          <p:nvPr/>
        </p:nvSpPr>
        <p:spPr>
          <a:xfrm>
            <a:off x="2314440" y="5586480"/>
            <a:ext cx="1800" cy="1440"/>
          </a:xfrm>
          <a:custGeom>
            <a:avLst/>
            <a:gdLst/>
            <a:ahLst/>
            <a:rect l="l" t="t" r="r" b="b"/>
            <a:pathLst>
              <a:path w="1588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234"/>
          <p:cNvSpPr/>
          <p:nvPr/>
        </p:nvSpPr>
        <p:spPr>
          <a:xfrm>
            <a:off x="2843280" y="5581800"/>
            <a:ext cx="3240" cy="1440"/>
          </a:xfrm>
          <a:custGeom>
            <a:avLst/>
            <a:gdLst/>
            <a:ahLst/>
            <a:rect l="l" t="t" r="r" b="b"/>
            <a:pathLst>
              <a:path w="1" h="1588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238"/>
          <p:cNvSpPr/>
          <p:nvPr/>
        </p:nvSpPr>
        <p:spPr>
          <a:xfrm>
            <a:off x="3895560" y="5581800"/>
            <a:ext cx="5040" cy="1440"/>
          </a:xfrm>
          <a:custGeom>
            <a:avLst/>
            <a:gdLst/>
            <a:ahLst/>
            <a:rect l="l" t="t" r="r" b="b"/>
            <a:pathLst>
              <a:path w="2" h="1588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239"/>
          <p:cNvSpPr/>
          <p:nvPr/>
        </p:nvSpPr>
        <p:spPr>
          <a:xfrm>
            <a:off x="3062160" y="5581800"/>
            <a:ext cx="3240" cy="1440"/>
          </a:xfrm>
          <a:custGeom>
            <a:avLst/>
            <a:gdLst/>
            <a:ahLst/>
            <a:rect l="l" t="t" r="r" b="b"/>
            <a:pathLst>
              <a:path w="2" h="1588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241"/>
          <p:cNvSpPr/>
          <p:nvPr/>
        </p:nvSpPr>
        <p:spPr>
          <a:xfrm>
            <a:off x="4516560" y="5581800"/>
            <a:ext cx="2880" cy="1440"/>
          </a:xfrm>
          <a:custGeom>
            <a:avLst/>
            <a:gdLst/>
            <a:ahLst/>
            <a:rect l="l" t="t" r="r" b="b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243"/>
          <p:cNvSpPr/>
          <p:nvPr/>
        </p:nvSpPr>
        <p:spPr>
          <a:xfrm>
            <a:off x="4043520" y="5581800"/>
            <a:ext cx="1440" cy="1440"/>
          </a:xfrm>
          <a:custGeom>
            <a:avLst/>
            <a:gdLst/>
            <a:ahLst/>
            <a:rect l="l" t="t" r="r" b="b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262"/>
          <p:cNvSpPr/>
          <p:nvPr/>
        </p:nvSpPr>
        <p:spPr>
          <a:xfrm>
            <a:off x="2314440" y="5562720"/>
            <a:ext cx="1800" cy="1440"/>
          </a:xfrm>
          <a:custGeom>
            <a:avLst/>
            <a:gdLst/>
            <a:ahLst/>
            <a:rect l="l" t="t" r="r" b="b"/>
            <a:pathLst>
              <a:path w="1588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300"/>
          <p:cNvSpPr/>
          <p:nvPr/>
        </p:nvSpPr>
        <p:spPr>
          <a:xfrm>
            <a:off x="0" y="3427560"/>
            <a:ext cx="2863800" cy="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07"/>
          <p:cNvSpPr/>
          <p:nvPr/>
        </p:nvSpPr>
        <p:spPr>
          <a:xfrm>
            <a:off x="2692440" y="179280"/>
            <a:ext cx="370044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301"/>
          <p:cNvSpPr/>
          <p:nvPr/>
        </p:nvSpPr>
        <p:spPr>
          <a:xfrm>
            <a:off x="2874960" y="4857840"/>
            <a:ext cx="3392640" cy="1584360"/>
          </a:xfrm>
          <a:custGeom>
            <a:avLst/>
            <a:gdLst/>
            <a:ahLst/>
            <a:rect l="l" t="t" r="r" b="b"/>
            <a:pathLst>
              <a:path w="10099" h="10060">
                <a:moveTo>
                  <a:pt x="9674" y="10060"/>
                </a:moveTo>
                <a:lnTo>
                  <a:pt x="469" y="10030"/>
                </a:lnTo>
                <a:cubicBezTo>
                  <a:pt x="261" y="6705"/>
                  <a:pt x="151" y="3414"/>
                  <a:pt x="0" y="30"/>
                </a:cubicBezTo>
                <a:cubicBezTo>
                  <a:pt x="3409" y="-40"/>
                  <a:pt x="6634" y="-50"/>
                  <a:pt x="10099" y="0"/>
                </a:cubicBezTo>
                <a:cubicBezTo>
                  <a:pt x="9953" y="3463"/>
                  <a:pt x="9777" y="6566"/>
                  <a:pt x="9674" y="10060"/>
                </a:cubicBezTo>
                <a:close/>
              </a:path>
            </a:pathLst>
          </a:custGeom>
          <a:solidFill>
            <a:srgbClr val="0079c5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301"/>
          <p:cNvSpPr/>
          <p:nvPr/>
        </p:nvSpPr>
        <p:spPr>
          <a:xfrm flipV="1">
            <a:off x="2771640" y="403560"/>
            <a:ext cx="3392640" cy="1582920"/>
          </a:xfrm>
          <a:custGeom>
            <a:avLst/>
            <a:gdLst/>
            <a:ahLst/>
            <a:rect l="l" t="t" r="r" b="b"/>
            <a:pathLst>
              <a:path w="10099" h="10060">
                <a:moveTo>
                  <a:pt x="9674" y="10060"/>
                </a:moveTo>
                <a:lnTo>
                  <a:pt x="469" y="10030"/>
                </a:lnTo>
                <a:cubicBezTo>
                  <a:pt x="261" y="6705"/>
                  <a:pt x="151" y="3414"/>
                  <a:pt x="0" y="30"/>
                </a:cubicBezTo>
                <a:cubicBezTo>
                  <a:pt x="3409" y="-40"/>
                  <a:pt x="6634" y="-50"/>
                  <a:pt x="10099" y="0"/>
                </a:cubicBezTo>
                <a:cubicBezTo>
                  <a:pt x="9953" y="3463"/>
                  <a:pt x="9777" y="6566"/>
                  <a:pt x="9674" y="10060"/>
                </a:cubicBezTo>
                <a:close/>
              </a:path>
            </a:pathLst>
          </a:custGeom>
          <a:solidFill>
            <a:srgbClr val="0079c5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3059280" y="549360"/>
            <a:ext cx="302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广告宣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服务特色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302"/>
          <p:cNvSpPr/>
          <p:nvPr/>
        </p:nvSpPr>
        <p:spPr>
          <a:xfrm>
            <a:off x="3419640" y="3135240"/>
            <a:ext cx="27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定价策略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03"/>
          <p:cNvSpPr/>
          <p:nvPr/>
        </p:nvSpPr>
        <p:spPr>
          <a:xfrm>
            <a:off x="3471480" y="5084640"/>
            <a:ext cx="206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外卖服务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暑假经营策略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97"/>
          <p:cNvSpPr/>
          <p:nvPr/>
        </p:nvSpPr>
        <p:spPr>
          <a:xfrm>
            <a:off x="6281640" y="1239840"/>
            <a:ext cx="2844720" cy="1940040"/>
          </a:xfrm>
          <a:custGeom>
            <a:avLst/>
            <a:gdLst/>
            <a:ahLst/>
            <a:rect l="l" t="t" r="r" b="b"/>
            <a:pathLst>
              <a:path w="2454" h="1222">
                <a:moveTo>
                  <a:pt x="0" y="0"/>
                </a:moveTo>
                <a:lnTo>
                  <a:pt x="322" y="0"/>
                </a:lnTo>
                <a:lnTo>
                  <a:pt x="1544" y="1222"/>
                </a:lnTo>
                <a:lnTo>
                  <a:pt x="2454" y="122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 rot="5400000">
            <a:off x="-937080" y="2529000"/>
            <a:ext cx="331164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经营策略</a:t>
            </a:r>
            <a:endParaRPr b="1" lang="en-US" sz="4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300"/>
          <p:cNvSpPr/>
          <p:nvPr/>
        </p:nvSpPr>
        <p:spPr>
          <a:xfrm>
            <a:off x="0" y="3427560"/>
            <a:ext cx="1719360" cy="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 38"/>
          <p:cNvSpPr/>
          <p:nvPr/>
        </p:nvSpPr>
        <p:spPr>
          <a:xfrm flipH="1">
            <a:off x="539640" y="3427560"/>
            <a:ext cx="1177920" cy="1514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39"/>
          <p:cNvSpPr/>
          <p:nvPr/>
        </p:nvSpPr>
        <p:spPr>
          <a:xfrm flipH="1">
            <a:off x="539640" y="4941720"/>
            <a:ext cx="7894800" cy="1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42"/>
          <p:cNvSpPr/>
          <p:nvPr/>
        </p:nvSpPr>
        <p:spPr>
          <a:xfrm flipH="1" flipV="1">
            <a:off x="7633800" y="2282760"/>
            <a:ext cx="800280" cy="2641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45"/>
          <p:cNvSpPr/>
          <p:nvPr/>
        </p:nvSpPr>
        <p:spPr>
          <a:xfrm flipV="1">
            <a:off x="2541600" y="2282400"/>
            <a:ext cx="5092560" cy="42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48"/>
          <p:cNvSpPr/>
          <p:nvPr/>
        </p:nvSpPr>
        <p:spPr>
          <a:xfrm flipV="1">
            <a:off x="1719360" y="2325240"/>
            <a:ext cx="822240" cy="1104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24000" y="1413000"/>
            <a:ext cx="5162760" cy="2992320"/>
            <a:chOff x="2124000" y="1413000"/>
            <a:chExt cx="5162760" cy="2992320"/>
          </a:xfrm>
        </p:grpSpPr>
        <p:sp>
          <p:nvSpPr>
            <p:cNvPr id="199" name="直接连接符 9"/>
            <p:cNvSpPr/>
            <p:nvPr/>
          </p:nvSpPr>
          <p:spPr>
            <a:xfrm>
              <a:off x="7275600" y="2357640"/>
              <a:ext cx="0" cy="149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任意多边形 11"/>
            <p:cNvSpPr/>
            <p:nvPr/>
          </p:nvSpPr>
          <p:spPr>
            <a:xfrm>
              <a:off x="6282720" y="1449360"/>
              <a:ext cx="999720" cy="2363040"/>
            </a:xfrm>
            <a:custGeom>
              <a:avLst/>
              <a:gdLst/>
              <a:ahLst/>
              <a:rect l="l" t="t" r="r" b="b"/>
              <a:pathLst>
                <a:path w="717550" h="1695450">
                  <a:moveTo>
                    <a:pt x="0" y="1066800"/>
                  </a:moveTo>
                  <a:lnTo>
                    <a:pt x="12700" y="0"/>
                  </a:lnTo>
                  <a:cubicBezTo>
                    <a:pt x="139700" y="40746"/>
                    <a:pt x="197643" y="29104"/>
                    <a:pt x="377031" y="124618"/>
                  </a:cubicBezTo>
                  <a:cubicBezTo>
                    <a:pt x="520964" y="227541"/>
                    <a:pt x="622036" y="404284"/>
                    <a:pt x="644525" y="438150"/>
                  </a:cubicBezTo>
                  <a:cubicBezTo>
                    <a:pt x="668867" y="488686"/>
                    <a:pt x="693208" y="543983"/>
                    <a:pt x="717550" y="596900"/>
                  </a:cubicBezTo>
                  <a:cubicBezTo>
                    <a:pt x="715433" y="963083"/>
                    <a:pt x="713317" y="1329267"/>
                    <a:pt x="711200" y="1695450"/>
                  </a:cubicBezTo>
                  <a:lnTo>
                    <a:pt x="469900" y="1250950"/>
                  </a:lnTo>
                  <a:lnTo>
                    <a:pt x="209550" y="1123950"/>
                  </a:lnTo>
                  <a:lnTo>
                    <a:pt x="0" y="1066800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2548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直接连接符 8"/>
            <p:cNvSpPr/>
            <p:nvPr/>
          </p:nvSpPr>
          <p:spPr>
            <a:xfrm>
              <a:off x="6481440" y="2909160"/>
              <a:ext cx="0" cy="149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任意多边形 3"/>
            <p:cNvSpPr/>
            <p:nvPr/>
          </p:nvSpPr>
          <p:spPr>
            <a:xfrm>
              <a:off x="2124000" y="2909160"/>
              <a:ext cx="5152320" cy="1496160"/>
            </a:xfrm>
            <a:custGeom>
              <a:avLst/>
              <a:gdLst/>
              <a:ahLst/>
              <a:rect l="l" t="t" r="r" b="b"/>
              <a:pathLst>
                <a:path w="3697339" h="1073598">
                  <a:moveTo>
                    <a:pt x="0" y="838648"/>
                  </a:moveTo>
                  <a:cubicBezTo>
                    <a:pt x="277283" y="892623"/>
                    <a:pt x="678392" y="929665"/>
                    <a:pt x="933450" y="889448"/>
                  </a:cubicBezTo>
                  <a:cubicBezTo>
                    <a:pt x="1188508" y="849231"/>
                    <a:pt x="1354667" y="716940"/>
                    <a:pt x="1530350" y="597348"/>
                  </a:cubicBezTo>
                  <a:cubicBezTo>
                    <a:pt x="1706033" y="477756"/>
                    <a:pt x="1794933" y="271381"/>
                    <a:pt x="1987550" y="171898"/>
                  </a:cubicBezTo>
                  <a:cubicBezTo>
                    <a:pt x="2180167" y="72415"/>
                    <a:pt x="2458508" y="5740"/>
                    <a:pt x="2686050" y="448"/>
                  </a:cubicBezTo>
                  <a:cubicBezTo>
                    <a:pt x="2913592" y="-4844"/>
                    <a:pt x="3184525" y="36431"/>
                    <a:pt x="3352800" y="140148"/>
                  </a:cubicBezTo>
                  <a:cubicBezTo>
                    <a:pt x="3521075" y="243865"/>
                    <a:pt x="3676650" y="485165"/>
                    <a:pt x="3695700" y="622748"/>
                  </a:cubicBezTo>
                  <a:cubicBezTo>
                    <a:pt x="3714750" y="760331"/>
                    <a:pt x="3563408" y="890506"/>
                    <a:pt x="3467100" y="965648"/>
                  </a:cubicBezTo>
                  <a:cubicBezTo>
                    <a:pt x="3370792" y="1040790"/>
                    <a:pt x="3288241" y="1064073"/>
                    <a:pt x="3117850" y="107359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任意多边形 10"/>
            <p:cNvSpPr/>
            <p:nvPr/>
          </p:nvSpPr>
          <p:spPr>
            <a:xfrm>
              <a:off x="6481440" y="2347200"/>
              <a:ext cx="805320" cy="2053080"/>
            </a:xfrm>
            <a:custGeom>
              <a:avLst/>
              <a:gdLst/>
              <a:ahLst/>
              <a:rect l="l" t="t" r="r" b="b"/>
              <a:pathLst>
                <a:path w="577991" h="1473200">
                  <a:moveTo>
                    <a:pt x="3316" y="403225"/>
                  </a:moveTo>
                  <a:cubicBezTo>
                    <a:pt x="4374" y="760942"/>
                    <a:pt x="-917" y="1115483"/>
                    <a:pt x="141" y="1473200"/>
                  </a:cubicBezTo>
                  <a:cubicBezTo>
                    <a:pt x="72108" y="1466850"/>
                    <a:pt x="194874" y="1492250"/>
                    <a:pt x="416066" y="1311275"/>
                  </a:cubicBezTo>
                  <a:cubicBezTo>
                    <a:pt x="582224" y="1156758"/>
                    <a:pt x="564233" y="1068917"/>
                    <a:pt x="577991" y="1066800"/>
                  </a:cubicBezTo>
                  <a:cubicBezTo>
                    <a:pt x="576933" y="723900"/>
                    <a:pt x="569524" y="342900"/>
                    <a:pt x="568466" y="0"/>
                  </a:cubicBezTo>
                  <a:cubicBezTo>
                    <a:pt x="553649" y="124883"/>
                    <a:pt x="497558" y="170392"/>
                    <a:pt x="355741" y="285750"/>
                  </a:cubicBezTo>
                  <a:cubicBezTo>
                    <a:pt x="332458" y="316442"/>
                    <a:pt x="178999" y="416983"/>
                    <a:pt x="3316" y="40322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58e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任意多边形 13"/>
            <p:cNvSpPr/>
            <p:nvPr/>
          </p:nvSpPr>
          <p:spPr>
            <a:xfrm>
              <a:off x="2129400" y="1429560"/>
              <a:ext cx="4217400" cy="2730240"/>
            </a:xfrm>
            <a:custGeom>
              <a:avLst/>
              <a:gdLst/>
              <a:ahLst/>
              <a:rect l="l" t="t" r="r" b="b"/>
              <a:pathLst>
                <a:path w="3026568" h="1958975">
                  <a:moveTo>
                    <a:pt x="793" y="1890712"/>
                  </a:moveTo>
                  <a:cubicBezTo>
                    <a:pt x="-1" y="1535112"/>
                    <a:pt x="794" y="1191418"/>
                    <a:pt x="0" y="835818"/>
                  </a:cubicBezTo>
                  <a:cubicBezTo>
                    <a:pt x="231775" y="875506"/>
                    <a:pt x="380204" y="891380"/>
                    <a:pt x="447673" y="895350"/>
                  </a:cubicBezTo>
                  <a:cubicBezTo>
                    <a:pt x="590548" y="893762"/>
                    <a:pt x="757236" y="911225"/>
                    <a:pt x="876299" y="890587"/>
                  </a:cubicBezTo>
                  <a:cubicBezTo>
                    <a:pt x="948530" y="888206"/>
                    <a:pt x="1099342" y="850106"/>
                    <a:pt x="1207292" y="804862"/>
                  </a:cubicBezTo>
                  <a:cubicBezTo>
                    <a:pt x="1339055" y="736599"/>
                    <a:pt x="1466056" y="646906"/>
                    <a:pt x="1574006" y="557212"/>
                  </a:cubicBezTo>
                  <a:cubicBezTo>
                    <a:pt x="1643856" y="482600"/>
                    <a:pt x="1659730" y="481012"/>
                    <a:pt x="1739105" y="390525"/>
                  </a:cubicBezTo>
                  <a:cubicBezTo>
                    <a:pt x="1805780" y="323850"/>
                    <a:pt x="1847055" y="269875"/>
                    <a:pt x="1897855" y="219075"/>
                  </a:cubicBezTo>
                  <a:cubicBezTo>
                    <a:pt x="1958180" y="187325"/>
                    <a:pt x="2043905" y="142875"/>
                    <a:pt x="2148680" y="98425"/>
                  </a:cubicBezTo>
                  <a:lnTo>
                    <a:pt x="2450305" y="23812"/>
                  </a:lnTo>
                  <a:lnTo>
                    <a:pt x="2783680" y="0"/>
                  </a:lnTo>
                  <a:lnTo>
                    <a:pt x="3026568" y="30162"/>
                  </a:lnTo>
                  <a:lnTo>
                    <a:pt x="2993230" y="1085850"/>
                  </a:lnTo>
                  <a:cubicBezTo>
                    <a:pt x="2881047" y="1072092"/>
                    <a:pt x="2835538" y="1061508"/>
                    <a:pt x="2656680" y="1057275"/>
                  </a:cubicBezTo>
                  <a:cubicBezTo>
                    <a:pt x="2519626" y="1057275"/>
                    <a:pt x="2474647" y="1073150"/>
                    <a:pt x="2350293" y="1095375"/>
                  </a:cubicBezTo>
                  <a:cubicBezTo>
                    <a:pt x="2277268" y="1120775"/>
                    <a:pt x="2194718" y="1127125"/>
                    <a:pt x="2032793" y="1187450"/>
                  </a:cubicBezTo>
                  <a:cubicBezTo>
                    <a:pt x="1924314" y="1236133"/>
                    <a:pt x="1917434" y="1265767"/>
                    <a:pt x="1859755" y="1304925"/>
                  </a:cubicBezTo>
                  <a:cubicBezTo>
                    <a:pt x="1791493" y="1385887"/>
                    <a:pt x="1751805" y="1409700"/>
                    <a:pt x="1645443" y="1544637"/>
                  </a:cubicBezTo>
                  <a:lnTo>
                    <a:pt x="1415255" y="1722437"/>
                  </a:lnTo>
                  <a:cubicBezTo>
                    <a:pt x="1307834" y="1784879"/>
                    <a:pt x="1222639" y="1834620"/>
                    <a:pt x="1080293" y="1900237"/>
                  </a:cubicBezTo>
                  <a:cubicBezTo>
                    <a:pt x="932126" y="1955800"/>
                    <a:pt x="876035" y="1938337"/>
                    <a:pt x="781843" y="1958975"/>
                  </a:cubicBezTo>
                  <a:cubicBezTo>
                    <a:pt x="698235" y="1953683"/>
                    <a:pt x="538426" y="1948392"/>
                    <a:pt x="426243" y="1949450"/>
                  </a:cubicBezTo>
                  <a:lnTo>
                    <a:pt x="793" y="1890712"/>
                  </a:lnTo>
                  <a:close/>
                </a:path>
              </a:pathLst>
            </a:custGeom>
            <a:gradFill rotWithShape="0">
              <a:gsLst>
                <a:gs pos="0">
                  <a:srgbClr val="4780c5"/>
                </a:gs>
                <a:gs pos="100000">
                  <a:srgbClr val="0f61a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任意多边形 4"/>
            <p:cNvSpPr/>
            <p:nvPr/>
          </p:nvSpPr>
          <p:spPr>
            <a:xfrm>
              <a:off x="2124000" y="1413000"/>
              <a:ext cx="5152320" cy="1496160"/>
            </a:xfrm>
            <a:custGeom>
              <a:avLst/>
              <a:gdLst/>
              <a:ahLst/>
              <a:rect l="l" t="t" r="r" b="b"/>
              <a:pathLst>
                <a:path w="3697339" h="1073598">
                  <a:moveTo>
                    <a:pt x="0" y="838648"/>
                  </a:moveTo>
                  <a:cubicBezTo>
                    <a:pt x="277283" y="892623"/>
                    <a:pt x="678392" y="929665"/>
                    <a:pt x="933450" y="889448"/>
                  </a:cubicBezTo>
                  <a:cubicBezTo>
                    <a:pt x="1188508" y="849231"/>
                    <a:pt x="1354667" y="716940"/>
                    <a:pt x="1530350" y="597348"/>
                  </a:cubicBezTo>
                  <a:cubicBezTo>
                    <a:pt x="1706033" y="477756"/>
                    <a:pt x="1794933" y="271381"/>
                    <a:pt x="1987550" y="171898"/>
                  </a:cubicBezTo>
                  <a:cubicBezTo>
                    <a:pt x="2180167" y="72415"/>
                    <a:pt x="2458508" y="5740"/>
                    <a:pt x="2686050" y="448"/>
                  </a:cubicBezTo>
                  <a:cubicBezTo>
                    <a:pt x="2913592" y="-4844"/>
                    <a:pt x="3184525" y="36431"/>
                    <a:pt x="3352800" y="140148"/>
                  </a:cubicBezTo>
                  <a:cubicBezTo>
                    <a:pt x="3521075" y="243865"/>
                    <a:pt x="3676650" y="485165"/>
                    <a:pt x="3695700" y="622748"/>
                  </a:cubicBezTo>
                  <a:cubicBezTo>
                    <a:pt x="3714750" y="760331"/>
                    <a:pt x="3563408" y="890506"/>
                    <a:pt x="3467100" y="965648"/>
                  </a:cubicBezTo>
                  <a:cubicBezTo>
                    <a:pt x="3370792" y="1040790"/>
                    <a:pt x="3288241" y="1064073"/>
                    <a:pt x="3117850" y="107359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直接连接符 6"/>
            <p:cNvSpPr/>
            <p:nvPr/>
          </p:nvSpPr>
          <p:spPr>
            <a:xfrm>
              <a:off x="2124000" y="2581560"/>
              <a:ext cx="0" cy="149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TextBox 50"/>
          <p:cNvSpPr/>
          <p:nvPr/>
        </p:nvSpPr>
        <p:spPr>
          <a:xfrm>
            <a:off x="3739320" y="282600"/>
            <a:ext cx="16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广告宣传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340000" y="2708280"/>
            <a:ext cx="503280" cy="504720"/>
            <a:chOff x="2340000" y="2708280"/>
            <a:chExt cx="503280" cy="504720"/>
          </a:xfrm>
        </p:grpSpPr>
        <p:grpSp>
          <p:nvGrpSpPr>
            <p:cNvPr id="209" name=""/>
            <p:cNvGrpSpPr/>
            <p:nvPr/>
          </p:nvGrpSpPr>
          <p:grpSpPr>
            <a:xfrm>
              <a:off x="2340000" y="2708280"/>
              <a:ext cx="137520" cy="138240"/>
              <a:chOff x="2340000" y="2708280"/>
              <a:chExt cx="137520" cy="138240"/>
            </a:xfrm>
          </p:grpSpPr>
          <p:sp>
            <p:nvSpPr>
              <p:cNvPr id="210" name="直接连接符 17"/>
              <p:cNvSpPr/>
              <p:nvPr/>
            </p:nvSpPr>
            <p:spPr>
              <a:xfrm flipV="1">
                <a:off x="2341440" y="2708280"/>
                <a:ext cx="0" cy="13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24"/>
              <p:cNvSpPr/>
              <p:nvPr/>
            </p:nvSpPr>
            <p:spPr>
              <a:xfrm flipH="1">
                <a:off x="2340000" y="2709720"/>
                <a:ext cx="137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703960" y="2709720"/>
              <a:ext cx="137520" cy="138240"/>
              <a:chOff x="2703960" y="2709720"/>
              <a:chExt cx="137520" cy="138240"/>
            </a:xfrm>
          </p:grpSpPr>
          <p:sp>
            <p:nvSpPr>
              <p:cNvPr id="213" name="直接连接符 27"/>
              <p:cNvSpPr/>
              <p:nvPr/>
            </p:nvSpPr>
            <p:spPr>
              <a:xfrm flipV="1">
                <a:off x="2840040" y="2709720"/>
                <a:ext cx="0" cy="13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直接连接符 28"/>
              <p:cNvSpPr/>
              <p:nvPr/>
            </p:nvSpPr>
            <p:spPr>
              <a:xfrm>
                <a:off x="2703960" y="2711160"/>
                <a:ext cx="137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341440" y="3074760"/>
              <a:ext cx="137520" cy="138240"/>
              <a:chOff x="2341440" y="3074760"/>
              <a:chExt cx="137520" cy="138240"/>
            </a:xfrm>
          </p:grpSpPr>
          <p:sp>
            <p:nvSpPr>
              <p:cNvPr id="216" name="直接连接符 30"/>
              <p:cNvSpPr/>
              <p:nvPr/>
            </p:nvSpPr>
            <p:spPr>
              <a:xfrm>
                <a:off x="2342880" y="3074760"/>
                <a:ext cx="0" cy="13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直接连接符 31"/>
              <p:cNvSpPr/>
              <p:nvPr/>
            </p:nvSpPr>
            <p:spPr>
              <a:xfrm flipH="1">
                <a:off x="2341440" y="3211560"/>
                <a:ext cx="137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705760" y="3073320"/>
              <a:ext cx="137520" cy="138240"/>
              <a:chOff x="2705760" y="3073320"/>
              <a:chExt cx="137520" cy="138240"/>
            </a:xfrm>
          </p:grpSpPr>
          <p:sp>
            <p:nvSpPr>
              <p:cNvPr id="219" name="直接连接符 33"/>
              <p:cNvSpPr/>
              <p:nvPr/>
            </p:nvSpPr>
            <p:spPr>
              <a:xfrm>
                <a:off x="2705760" y="3210120"/>
                <a:ext cx="137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直接连接符 34"/>
              <p:cNvSpPr/>
              <p:nvPr/>
            </p:nvSpPr>
            <p:spPr>
              <a:xfrm>
                <a:off x="2841840" y="3073320"/>
                <a:ext cx="0" cy="13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2475360" y="2684520"/>
            <a:ext cx="13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1.</a:t>
            </a:r>
            <a:r>
              <a:rPr b="1" lang="zh-CN" sz="2000" spc="-1" strike="noStrike">
                <a:solidFill>
                  <a:srgbClr val="00ff00"/>
                </a:solidFill>
                <a:latin typeface="Calibri"/>
              </a:rPr>
              <a:t>通过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QQ</a:t>
            </a:r>
            <a:r>
              <a:rPr b="1" lang="zh-CN" sz="2000" spc="-1" strike="noStrike">
                <a:solidFill>
                  <a:srgbClr val="00ff00"/>
                </a:solidFill>
                <a:latin typeface="Calibri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2.</a:t>
            </a:r>
            <a:r>
              <a:rPr b="1" lang="zh-CN" sz="2000" spc="-1" strike="noStrike">
                <a:solidFill>
                  <a:srgbClr val="00ff00"/>
                </a:solidFill>
                <a:latin typeface="Calibri"/>
              </a:rPr>
              <a:t>优惠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3.</a:t>
            </a:r>
            <a:r>
              <a:rPr b="1" lang="zh-CN" sz="2000" spc="-1" strike="noStrike">
                <a:solidFill>
                  <a:srgbClr val="00ff00"/>
                </a:solidFill>
                <a:latin typeface="Calibri"/>
              </a:rPr>
              <a:t>网络宣传</a:t>
            </a:r>
            <a:r>
              <a:rPr b="0" lang="zh-CN" sz="2000" spc="-1" strike="noStrike">
                <a:solidFill>
                  <a:srgbClr val="00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718880" y="2136600"/>
            <a:ext cx="165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4.</a:t>
            </a:r>
            <a:r>
              <a:rPr b="1" lang="zh-CN" sz="2000" spc="-1" strike="noStrike">
                <a:solidFill>
                  <a:srgbClr val="00ff00"/>
                </a:solidFill>
                <a:latin typeface="Calibri"/>
              </a:rPr>
              <a:t>音箱播放经营理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5.</a:t>
            </a:r>
            <a:r>
              <a:rPr b="1" lang="zh-CN" sz="2000" spc="-1" strike="noStrike">
                <a:solidFill>
                  <a:srgbClr val="00ff00"/>
                </a:solidFill>
                <a:latin typeface="Calibri"/>
              </a:rPr>
              <a:t>老顾客带动新顾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25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75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5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750"/>
                            </p:stCondLst>
                            <p:childTnLst>
                              <p:par>
                                <p:cTn id="5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250"/>
                            </p:stCondLst>
                            <p:childTnLst>
                              <p:par>
                                <p:cTn id="5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0" dur="500" fill="hold"/>
                                        <p:tgtEl>
                                          <p:spTgt spid="208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2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750"/>
                            </p:stCondLst>
                            <p:childTnLst>
                              <p:par>
                                <p:cTn id="5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定价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本餐厅在理工范围内的所有竞争者中价格属于适中，然而相对于所提供的产品与服务而言，性价比较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面包、蛋糕价格一般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-2.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，牛奶价格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杯，素菜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1.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份，荤菜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-3.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份，各种饮品价格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。另推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套餐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套餐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套餐为一荤一素加一杯饮品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套餐为两荤一素加一杯饮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2:11:34Z</dcterms:created>
  <dc:creator>TITAN</dc:creator>
  <dc:description/>
  <dc:language>en-US</dc:language>
  <cp:lastModifiedBy>f</cp:lastModifiedBy>
  <dcterms:modified xsi:type="dcterms:W3CDTF">2013-05-19T05:54:42Z</dcterms:modified>
  <cp:revision>2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