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2.jpeg" ContentType="image/jpeg"/>
  <Override PartName="/ppt/media/image7.png" ContentType="image/png"/>
  <Override PartName="/ppt/media/image11.jpeg" ContentType="image/jpe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D492-F35A-4D98-B36F-604B7C25D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485F-9502-4D6E-BDE4-31449CBD7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F7377-4E96-4E0E-91F7-71449809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5BC7DC-5F93-469F-ABEA-194224DD8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74985F-4C78-4695-AA06-06FD35EFC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B5CE2F-E881-40DC-972B-879A02DD6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34FE65-C389-4A47-B927-7BF1A1E9A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8CF54-80C6-4E09-ADC9-7A9BAEC02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AD335-E6DF-4225-902C-D6946E29F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5435A7-8EE0-4D17-AA8D-371E4F73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B1691-EA0D-4AA2-9040-368E05CD3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DE0AF6-FF64-49F7-AAF3-94DBC71B2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EA19-781B-47AF-A688-293E9CAC2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8C7DE7-4FC6-415E-B1B9-A09F85B0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FE9778-9D00-4C66-9D23-CD1D6E48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565C97-E4DE-4057-81B7-097B43070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8D111E-91D1-4387-A09B-74E23974D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F92504-38FE-4958-B11F-76FF79B5E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47E7F-212F-4140-817A-9D1C528C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630AD6-A27E-422A-8BD1-99D271151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D88C77-559F-4C7B-9907-B56C4A76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87D5B6-2B09-4CBD-90ED-4A7332B9D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5075C0-7C85-4940-8FED-7F9DEECB3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BE4C7-9902-4F6A-AA79-343D7B5C0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324563-D2EE-400B-8B58-FC6D1B00D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46485B-78AC-4A18-89F5-CCA2F388C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831875-0133-4528-BAF5-114FC694E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F000B8-0220-40DE-931B-23949028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CA12F5-02AA-4508-B4D3-CBF013E23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6C1E43-1B00-4268-8C47-14B42F1EF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A64E01-D357-4B4E-AEA9-0EFCE7650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1052DC-AAF7-43AF-ACF4-24BD74D8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2B52C6-0987-48FE-BFFB-BCF122349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D04CB-D983-45A5-A8C2-6F3671269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AF657-F19D-4C7C-85B1-FCCB6EB93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B1E9EB-4078-4DAB-8578-A9D721D93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439A02-6870-42B3-8354-3CD053510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883C8C-B2D4-4878-8108-D038F9C22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4DC76B-DE59-42B5-8A05-BFB90ED6C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44C4F5-F4D9-4D5A-BE42-562442224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9F51F2-98C8-4186-A0DF-612D517E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29EE19-7C74-4598-A386-5E27ECF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F4ECE7-3820-42F6-8058-0EEA9BE2A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F4097-52B3-4CE1-99BA-F9DEFF82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6D625-D03C-4C39-93B2-E46E01BD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5E295-4A63-4BF4-BDB1-12548CCBF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A1F91AD-6EDB-4AEF-A3DD-DCF95A87B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7E7A32-4986-41A9-BA7F-61BBA990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C04D2F-E668-4E2A-8A59-113080D2E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0134F1-DE3D-4091-8CF7-9C7E47D63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708B27-F826-471F-A057-13243F859E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86667E-CDCC-4CD4-B3EE-21688CB2C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032C3D-058B-4760-9842-DA3205DC2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9AC9F3D-5A1A-4950-BA9F-34E8F298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74107C-08B0-4EDB-AA56-8518762A2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851D3B-C8EB-4582-8A7D-103E1978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051B8-EDF9-4A57-84AE-2C3B5E80E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FDA9F5-5312-45F4-8130-E5460E22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D20EB3-1DAD-45F9-97AD-5378E85FD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26EEFA-D9FC-48A4-9506-0F1140073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29C584-5765-4B8D-9AAF-35ADD2FFF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6E314E-EED0-4ACE-ADE8-651754327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591395-D5D2-4AA6-AE22-294D18297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CB730C-E7EC-4D71-9909-40756BD27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E410E4-74FE-4162-9AAA-5E26AE883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21F28C3-327F-458B-A3CD-28B48E45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2D2AE5-C386-4FA9-9ADB-5586F04FC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8FCF-F784-46FA-9CF3-94D00939A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B01789-441C-4EA4-A817-E2F752246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13C89C-2FFD-4B19-8494-40FF209E6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A5D702B-96B5-455E-A6AA-9E54DD640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E1D939E-7B10-4CDE-B593-275EAF56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F7D689-6DB0-4B52-B132-DD4E4A1E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9EF369-7D5D-4428-A6A5-031FE079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A47598E-686E-48F9-BCF9-D74843B64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04C5CB-3C62-4400-B44A-C3C192E3F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7E13FF-9589-4D78-8778-2F57D9E16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1EF83-536F-461B-9895-A4DDC26BA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BF5B3-6771-4F65-BCF2-889C63A1B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220770-3562-4A68-90C6-0A6102D03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18D5-0E9C-4CB1-9C2F-944D6490F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55590-77CE-467A-8215-22E9E855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3AF3C-C1E4-4C04-9D22-FAE5F804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6D325-4E6A-43A6-9B6C-2D2F256FA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F5347-7811-475B-944D-3A1A0740D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470C-F046-4DEC-9076-E8FEE8ABD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31BC1F-FD71-484C-8532-6C4B9B65F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570139-6E35-4055-90E8-DAAF06534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A5267-646F-479F-8CCC-788BD19F6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927D1-E1E1-47E6-B054-57B12B3C0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BEF6D-243D-4EF9-8948-8A582B312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6558-AE88-4842-9F93-90F2E9CEE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A73A6A-797A-41F9-979E-CDA753DE6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57440E-1A72-4F00-8380-C13E3F7A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94C173-8942-4FD1-96E9-6D2D4CF8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A0EC4-9B27-460B-9EB0-1E0C2FD6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6F446-F876-4DE7-ACE1-B594818B3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31D7F-7C6B-41AA-9940-F30CD265B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5D38B-74BE-4C84-B62A-369B8614A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D090B-F93C-4B25-ADF2-A2774E3D0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735B4-30F1-4B5E-9DEB-9FFE40212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EE412F-0FF7-480D-BBF4-8E6A5410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3EAC-84D0-4E3C-80F6-DA56E0B8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41F4E1-DBE4-469A-BF5D-07C367ACD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FEF688-0F1A-41E0-BAED-1DC8137EF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9CFF6-E232-4873-8A73-C47B736E5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4C6CE5-6774-4A14-9D49-F0C84CBEE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8278C4-B7A0-4EC1-B0AD-9C1B6141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65A02-75A1-4FD1-966A-A412E3F73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434376-B1E7-48B2-88B3-FF547424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D3635-9454-4C9D-90CC-CB85FAFAC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2F85E-A02E-4B9D-ACA6-7E5995947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8D62DD-E559-46EA-905E-0BEAF2717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0505-6416-4A65-B995-B940BA858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CA1435-D50D-411D-9432-A0EFE434D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B7A76A-4344-400E-8DBF-97947DF4C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8B487-5C7C-4940-80D3-D9035A23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FA6D99-E646-42F3-92EE-8264C493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64AD22-3F9B-47DD-B461-C1D8594DF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4201DE-F0EA-4DA5-A230-923FD5683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DAF47-61C7-447F-A26E-0A73191BE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9E57D-B135-49F4-8E6E-B7B058117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BDB2A6-93DC-44F4-B3AF-092D2934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EF6D83-BEF6-496D-A6BA-0E474CB928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B207-36C8-490E-8E7F-9B8E8EC5D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D70602-E2D7-405C-93EA-B09E7267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D290E-0CB1-4BAC-8C72-4F5BA8E3BC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99F6B-3AAA-472C-8CD9-3950618C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67E8D6-20BA-429A-BD71-BE21A1AFA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B77312-B726-47E6-BF3E-C96B22B12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06497E-4C2C-4B16-ABC5-7AC8B4A1E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162246-3A30-4CDB-8F4F-F375D317A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075F9-26CF-4B70-A1F6-A6607EFA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E145A-75FC-426F-BBB1-940E50037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A10279-338B-49D7-80B3-E39B32007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ABA7-2CE2-44A7-8BC5-4F1FD502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4A902-2720-443F-A8A4-D1AC77DED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F14E14-5D41-4E4B-9EE0-21AC5E4F9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868A26-2574-4220-88AE-D85DD819B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AC84D-A467-4206-BEAC-471FF873E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DD815-8955-4318-BAE6-658B2071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BBC573-9929-45E0-9FE1-DEE5FBA75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23BC3A-ED22-453E-B706-48D941475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A871EF-5B99-4DE0-B59C-6DE59293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3DB172-595B-4255-844A-B99995784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79CFBE-68CA-4077-9757-BCC999E2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7316-62EE-4E6A-9230-EE575C1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89B21D-3A55-4222-8B63-0A0AAF131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7C834F-6009-453A-85D3-14530F90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7690F7-89C5-43DE-814B-6F2706EDE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4B231-FDD1-4163-A88C-26D1D493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1266F6-10F5-4603-86CB-621F0CB1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1A5C7A-E985-4DE2-830F-DF20AC2D4E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751E3B-4446-4707-B8A3-38314CC85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B45DD-67E4-413F-9C30-3D194D91E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CBA8AD-34C8-4D81-9965-EB1A4E5EC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DB5F93-CF95-4216-8006-96DAC7ADE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DCEA-2A18-4C35-A407-C57F29562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BA22BA-BCC1-4D06-B2DA-7B83E53E7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43E13-47E3-4DBC-9C83-C2BF4623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46B6A0-6BB9-4D77-A5AD-B5C6F0396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C76B55-E652-4346-BC9C-7753C5E03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1D0D3-AB08-4534-84BC-F08BE9E3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B3FCCE-D6A3-448E-B699-B86D8BB5A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C1ACAA-4082-40CB-8977-B16449D145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A8CBC4-8743-4CDD-921E-E08BE2268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0B66-CD6E-4EEB-82C8-7DE7955E0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41E933-A96E-4EEE-9ACB-FC73A49A6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21.xml"/><Relationship Id="rId11" Type="http://schemas.openxmlformats.org/officeDocument/2006/relationships/slideLayout" Target="../slideLayouts/slideLayout122.xml"/><Relationship Id="rId12" Type="http://schemas.openxmlformats.org/officeDocument/2006/relationships/slideLayout" Target="../slideLayouts/slideLayout123.xml"/><Relationship Id="rId13" Type="http://schemas.openxmlformats.org/officeDocument/2006/relationships/slideLayout" Target="../slideLayouts/slideLayout124.xml"/><Relationship Id="rId14" Type="http://schemas.openxmlformats.org/officeDocument/2006/relationships/slideLayout" Target="../slideLayouts/slideLayout125.xml"/><Relationship Id="rId15" Type="http://schemas.openxmlformats.org/officeDocument/2006/relationships/slideLayout" Target="../slideLayouts/slideLayout126.xml"/><Relationship Id="rId16" Type="http://schemas.openxmlformats.org/officeDocument/2006/relationships/slideLayout" Target="../slideLayouts/slideLayout127.xml"/><Relationship Id="rId17" Type="http://schemas.openxmlformats.org/officeDocument/2006/relationships/slideLayout" Target="../slideLayouts/slideLayout128.xml"/><Relationship Id="rId18" Type="http://schemas.openxmlformats.org/officeDocument/2006/relationships/slideLayout" Target="../slideLayouts/slideLayout129.xml"/><Relationship Id="rId19" Type="http://schemas.openxmlformats.org/officeDocument/2006/relationships/slideLayout" Target="../slideLayouts/slideLayout130.xml"/><Relationship Id="rId20" Type="http://schemas.openxmlformats.org/officeDocument/2006/relationships/slideLayout" Target="../slideLayouts/slideLayout131.xml"/><Relationship Id="rId21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33.xml"/><Relationship Id="rId11" Type="http://schemas.openxmlformats.org/officeDocument/2006/relationships/slideLayout" Target="../slideLayouts/slideLayout134.xml"/><Relationship Id="rId12" Type="http://schemas.openxmlformats.org/officeDocument/2006/relationships/slideLayout" Target="../slideLayouts/slideLayout135.xml"/><Relationship Id="rId13" Type="http://schemas.openxmlformats.org/officeDocument/2006/relationships/slideLayout" Target="../slideLayouts/slideLayout136.xml"/><Relationship Id="rId14" Type="http://schemas.openxmlformats.org/officeDocument/2006/relationships/slideLayout" Target="../slideLayouts/slideLayout137.xml"/><Relationship Id="rId15" Type="http://schemas.openxmlformats.org/officeDocument/2006/relationships/slideLayout" Target="../slideLayouts/slideLayout138.xml"/><Relationship Id="rId16" Type="http://schemas.openxmlformats.org/officeDocument/2006/relationships/slideLayout" Target="../slideLayouts/slideLayout139.xml"/><Relationship Id="rId17" Type="http://schemas.openxmlformats.org/officeDocument/2006/relationships/slideLayout" Target="../slideLayouts/slideLayout140.xml"/><Relationship Id="rId18" Type="http://schemas.openxmlformats.org/officeDocument/2006/relationships/slideLayout" Target="../slideLayouts/slideLayout141.xml"/><Relationship Id="rId19" Type="http://schemas.openxmlformats.org/officeDocument/2006/relationships/slideLayout" Target="../slideLayouts/slideLayout142.xml"/><Relationship Id="rId20" Type="http://schemas.openxmlformats.org/officeDocument/2006/relationships/slideLayout" Target="../slideLayouts/slideLayout143.xml"/><Relationship Id="rId21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45.xml"/><Relationship Id="rId11" Type="http://schemas.openxmlformats.org/officeDocument/2006/relationships/slideLayout" Target="../slideLayouts/slideLayout146.xml"/><Relationship Id="rId12" Type="http://schemas.openxmlformats.org/officeDocument/2006/relationships/slideLayout" Target="../slideLayouts/slideLayout147.xml"/><Relationship Id="rId13" Type="http://schemas.openxmlformats.org/officeDocument/2006/relationships/slideLayout" Target="../slideLayouts/slideLayout148.xml"/><Relationship Id="rId14" Type="http://schemas.openxmlformats.org/officeDocument/2006/relationships/slideLayout" Target="../slideLayouts/slideLayout149.xml"/><Relationship Id="rId15" Type="http://schemas.openxmlformats.org/officeDocument/2006/relationships/slideLayout" Target="../slideLayouts/slideLayout150.xml"/><Relationship Id="rId16" Type="http://schemas.openxmlformats.org/officeDocument/2006/relationships/slideLayout" Target="../slideLayouts/slideLayout151.xml"/><Relationship Id="rId17" Type="http://schemas.openxmlformats.org/officeDocument/2006/relationships/slideLayout" Target="../slideLayouts/slideLayout152.xml"/><Relationship Id="rId18" Type="http://schemas.openxmlformats.org/officeDocument/2006/relationships/slideLayout" Target="../slideLayouts/slideLayout153.xml"/><Relationship Id="rId19" Type="http://schemas.openxmlformats.org/officeDocument/2006/relationships/slideLayout" Target="../slideLayouts/slideLayout154.xml"/><Relationship Id="rId20" Type="http://schemas.openxmlformats.org/officeDocument/2006/relationships/slideLayout" Target="../slideLayouts/slideLayout155.xml"/><Relationship Id="rId21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57.xml"/><Relationship Id="rId11" Type="http://schemas.openxmlformats.org/officeDocument/2006/relationships/slideLayout" Target="../slideLayouts/slideLayout158.xml"/><Relationship Id="rId12" Type="http://schemas.openxmlformats.org/officeDocument/2006/relationships/slideLayout" Target="../slideLayouts/slideLayout159.xml"/><Relationship Id="rId13" Type="http://schemas.openxmlformats.org/officeDocument/2006/relationships/slideLayout" Target="../slideLayouts/slideLayout160.xml"/><Relationship Id="rId14" Type="http://schemas.openxmlformats.org/officeDocument/2006/relationships/slideLayout" Target="../slideLayouts/slideLayout161.xml"/><Relationship Id="rId15" Type="http://schemas.openxmlformats.org/officeDocument/2006/relationships/slideLayout" Target="../slideLayouts/slideLayout162.xml"/><Relationship Id="rId16" Type="http://schemas.openxmlformats.org/officeDocument/2006/relationships/slideLayout" Target="../slideLayouts/slideLayout163.xml"/><Relationship Id="rId17" Type="http://schemas.openxmlformats.org/officeDocument/2006/relationships/slideLayout" Target="../slideLayouts/slideLayout164.xml"/><Relationship Id="rId18" Type="http://schemas.openxmlformats.org/officeDocument/2006/relationships/slideLayout" Target="../slideLayouts/slideLayout165.xml"/><Relationship Id="rId19" Type="http://schemas.openxmlformats.org/officeDocument/2006/relationships/slideLayout" Target="../slideLayouts/slideLayout166.xml"/><Relationship Id="rId20" Type="http://schemas.openxmlformats.org/officeDocument/2006/relationships/slideLayout" Target="../slideLayouts/slideLayout167.xml"/><Relationship Id="rId21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61.xml"/><Relationship Id="rId11" Type="http://schemas.openxmlformats.org/officeDocument/2006/relationships/slideLayout" Target="../slideLayouts/slideLayout62.xml"/><Relationship Id="rId12" Type="http://schemas.openxmlformats.org/officeDocument/2006/relationships/slideLayout" Target="../slideLayouts/slideLayout63.xml"/><Relationship Id="rId13" Type="http://schemas.openxmlformats.org/officeDocument/2006/relationships/slideLayout" Target="../slideLayouts/slideLayout64.xml"/><Relationship Id="rId14" Type="http://schemas.openxmlformats.org/officeDocument/2006/relationships/slideLayout" Target="../slideLayouts/slideLayout65.xml"/><Relationship Id="rId15" Type="http://schemas.openxmlformats.org/officeDocument/2006/relationships/slideLayout" Target="../slideLayouts/slideLayout66.xml"/><Relationship Id="rId16" Type="http://schemas.openxmlformats.org/officeDocument/2006/relationships/slideLayout" Target="../slideLayouts/slideLayout67.xml"/><Relationship Id="rId17" Type="http://schemas.openxmlformats.org/officeDocument/2006/relationships/slideLayout" Target="../slideLayouts/slideLayout68.xml"/><Relationship Id="rId18" Type="http://schemas.openxmlformats.org/officeDocument/2006/relationships/slideLayout" Target="../slideLayouts/slideLayout69.xml"/><Relationship Id="rId19" Type="http://schemas.openxmlformats.org/officeDocument/2006/relationships/slideLayout" Target="../slideLayouts/slideLayout70.xml"/><Relationship Id="rId20" Type="http://schemas.openxmlformats.org/officeDocument/2006/relationships/slideLayout" Target="../slideLayouts/slideLayout71.xml"/><Relationship Id="rId21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image" Target="../media/image2.png"/><Relationship Id="rId5" Type="http://schemas.openxmlformats.org/officeDocument/2006/relationships/slide" Target="slide2.xml"/><Relationship Id="rId6" Type="http://schemas.openxmlformats.org/officeDocument/2006/relationships/image" Target="../media/image3.png"/><Relationship Id="rId7" Type="http://schemas.openxmlformats.org/officeDocument/2006/relationships/slide" Target=""/><Relationship Id="rId8" Type="http://schemas.openxmlformats.org/officeDocument/2006/relationships/image" Target="../media/image4.png"/><Relationship Id="rId9" Type="http://schemas.openxmlformats.org/officeDocument/2006/relationships/slide" Target="slide1.xml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148E3-A579-4AC2-9A23-4A83261C37AC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3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74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5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6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47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8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480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1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2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483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5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16702-F7C5-4FC7-AE9D-3403400B571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7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528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9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0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3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2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3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34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5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6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37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8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4C09-CD7E-4F82-B446-344D14FE6A6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10"/>
    <p:sldLayoutId id="2147483780" r:id="rId11"/>
    <p:sldLayoutId id="2147483781" r:id="rId12"/>
    <p:sldLayoutId id="2147483782" r:id="rId13"/>
    <p:sldLayoutId id="2147483783" r:id="rId14"/>
    <p:sldLayoutId id="2147483784" r:id="rId15"/>
    <p:sldLayoutId id="2147483785" r:id="rId16"/>
    <p:sldLayoutId id="2147483786" r:id="rId17"/>
    <p:sldLayoutId id="2147483787" r:id="rId18"/>
    <p:sldLayoutId id="2147483788" r:id="rId19"/>
    <p:sldLayoutId id="2147483789" r:id="rId20"/>
    <p:sldLayoutId id="2147483790" r:id="rId21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1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582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4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8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6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7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88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0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91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2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3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C1755-7A7D-42B9-8B6F-AB42EBC253A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10"/>
    <p:sldLayoutId id="2147483793" r:id="rId11"/>
    <p:sldLayoutId id="2147483794" r:id="rId12"/>
    <p:sldLayoutId id="2147483795" r:id="rId13"/>
    <p:sldLayoutId id="2147483796" r:id="rId14"/>
    <p:sldLayoutId id="2147483797" r:id="rId15"/>
    <p:sldLayoutId id="2147483798" r:id="rId16"/>
    <p:sldLayoutId id="2147483799" r:id="rId17"/>
    <p:sldLayoutId id="2147483800" r:id="rId18"/>
    <p:sldLayoutId id="2147483801" r:id="rId19"/>
    <p:sldLayoutId id="2147483802" r:id="rId20"/>
    <p:sldLayoutId id="2147483803" r:id="rId21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63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63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64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64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D0F8-4AD4-4FC7-B823-82EDA2F548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10"/>
    <p:sldLayoutId id="2147483806" r:id="rId11"/>
    <p:sldLayoutId id="2147483807" r:id="rId12"/>
    <p:sldLayoutId id="2147483808" r:id="rId13"/>
    <p:sldLayoutId id="2147483809" r:id="rId14"/>
    <p:sldLayoutId id="2147483810" r:id="rId15"/>
    <p:sldLayoutId id="2147483811" r:id="rId16"/>
    <p:sldLayoutId id="2147483812" r:id="rId17"/>
    <p:sldLayoutId id="2147483813" r:id="rId18"/>
    <p:sldLayoutId id="2147483814" r:id="rId19"/>
    <p:sldLayoutId id="2147483815" r:id="rId20"/>
    <p:sldLayoutId id="2147483816" r:id="rId21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69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69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69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69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7CB01-FD0F-4A93-A275-DDD8CDA91FC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10"/>
    <p:sldLayoutId id="2147483819" r:id="rId11"/>
    <p:sldLayoutId id="2147483820" r:id="rId12"/>
    <p:sldLayoutId id="2147483821" r:id="rId13"/>
    <p:sldLayoutId id="2147483822" r:id="rId14"/>
    <p:sldLayoutId id="2147483823" r:id="rId15"/>
    <p:sldLayoutId id="2147483824" r:id="rId16"/>
    <p:sldLayoutId id="2147483825" r:id="rId17"/>
    <p:sldLayoutId id="2147483826" r:id="rId18"/>
    <p:sldLayoutId id="2147483827" r:id="rId19"/>
    <p:sldLayoutId id="2147483828" r:id="rId20"/>
    <p:sldLayoutId id="2147483829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9716-BCFB-43A3-B6C0-82BDD37F52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7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50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53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56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9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9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0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10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2229-C9BA-402A-BDA7-A3C5E947C44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15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15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15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15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CB46C-62D5-42B9-9AFB-FCFF04CB08F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3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204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207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210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1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13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E5E0D-5FA4-4881-8D67-8E2E15734F0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258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261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3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264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5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267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4E7D0-3814-4327-BAC2-C5A282FF7A4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0"/>
    <p:sldLayoutId id="2147483715" r:id="rId11"/>
    <p:sldLayoutId id="2147483716" r:id="rId12"/>
    <p:sldLayoutId id="2147483717" r:id="rId13"/>
    <p:sldLayoutId id="2147483718" r:id="rId14"/>
    <p:sldLayoutId id="2147483719" r:id="rId15"/>
    <p:sldLayoutId id="2147483720" r:id="rId16"/>
    <p:sldLayoutId id="2147483721" r:id="rId17"/>
    <p:sldLayoutId id="2147483722" r:id="rId18"/>
    <p:sldLayoutId id="2147483723" r:id="rId19"/>
    <p:sldLayoutId id="2147483724" r:id="rId20"/>
    <p:sldLayoutId id="2147483725" r:id="rId21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312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3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315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6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7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318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9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0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321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3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1A3DA-4DB3-402D-9744-B2B7C2E4FE1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366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369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0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372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3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375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7A740-7BF4-47B8-B795-08EC38167361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9" name="圆角矩形 6"/>
          <p:cNvGrpSpPr/>
          <p:nvPr/>
        </p:nvGrpSpPr>
        <p:grpSpPr>
          <a:xfrm>
            <a:off x="4700520" y="6248520"/>
            <a:ext cx="1103400" cy="738000"/>
            <a:chOff x="4700520" y="6248520"/>
            <a:chExt cx="1103400" cy="738000"/>
          </a:xfrm>
        </p:grpSpPr>
        <p:pic>
          <p:nvPicPr>
            <p:cNvPr id="420" name="圆角矩形 6" descr="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4700520" y="6248520"/>
              <a:ext cx="110340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1" name=""/>
            <p:cNvSpPr/>
            <p:nvPr/>
          </p:nvSpPr>
          <p:spPr>
            <a:xfrm>
              <a:off x="481644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3" action="ppaction://hlinksldjump"/>
                </a:rPr>
                <a:t>上一页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2" name="圆角矩形 7"/>
          <p:cNvGrpSpPr/>
          <p:nvPr/>
        </p:nvGrpSpPr>
        <p:grpSpPr>
          <a:xfrm>
            <a:off x="3754440" y="6248520"/>
            <a:ext cx="1122480" cy="738000"/>
            <a:chOff x="3754440" y="6248520"/>
            <a:chExt cx="1122480" cy="738000"/>
          </a:xfrm>
        </p:grpSpPr>
        <p:pic>
          <p:nvPicPr>
            <p:cNvPr id="423" name="圆角矩形 7" descr=""/>
            <p:cNvPicPr/>
            <p:nvPr/>
          </p:nvPicPr>
          <p:blipFill>
            <a:blip r:embed="rId4"/>
            <a:stretch/>
          </p:blipFill>
          <p:spPr>
            <a:xfrm>
              <a:off x="37544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4" name=""/>
            <p:cNvSpPr/>
            <p:nvPr/>
          </p:nvSpPr>
          <p:spPr>
            <a:xfrm>
              <a:off x="3879720" y="6310440"/>
              <a:ext cx="87948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5" action="ppaction://hlinksldjump"/>
                </a:rPr>
                <a:t>目录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圆角矩形 8"/>
          <p:cNvGrpSpPr/>
          <p:nvPr/>
        </p:nvGrpSpPr>
        <p:grpSpPr>
          <a:xfrm>
            <a:off x="5619600" y="6248520"/>
            <a:ext cx="1208160" cy="738000"/>
            <a:chOff x="5619600" y="6248520"/>
            <a:chExt cx="1208160" cy="738000"/>
          </a:xfrm>
        </p:grpSpPr>
        <p:pic>
          <p:nvPicPr>
            <p:cNvPr id="426" name="圆角矩形 8" descr=""/>
            <p:cNvPicPr/>
            <p:nvPr/>
          </p:nvPicPr>
          <p:blipFill>
            <a:blip r:embed="rId6"/>
            <a:stretch/>
          </p:blipFill>
          <p:spPr>
            <a:xfrm>
              <a:off x="5619600" y="6248520"/>
              <a:ext cx="120816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"/>
            <p:cNvSpPr/>
            <p:nvPr/>
          </p:nvSpPr>
          <p:spPr>
            <a:xfrm>
              <a:off x="5751360" y="6310440"/>
              <a:ext cx="95256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7" action="ppaction://hlinksldjump"/>
                </a:rPr>
                <a:t>下一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8" name="圆角矩形 9"/>
          <p:cNvGrpSpPr/>
          <p:nvPr/>
        </p:nvGrpSpPr>
        <p:grpSpPr>
          <a:xfrm>
            <a:off x="2852640" y="6248520"/>
            <a:ext cx="1122480" cy="738000"/>
            <a:chOff x="2852640" y="6248520"/>
            <a:chExt cx="1122480" cy="738000"/>
          </a:xfrm>
        </p:grpSpPr>
        <p:pic>
          <p:nvPicPr>
            <p:cNvPr id="429" name="圆角矩形 9" descr=""/>
            <p:cNvPicPr/>
            <p:nvPr/>
          </p:nvPicPr>
          <p:blipFill>
            <a:blip r:embed="rId8"/>
            <a:stretch/>
          </p:blipFill>
          <p:spPr>
            <a:xfrm>
              <a:off x="2852640" y="6248520"/>
              <a:ext cx="1122480" cy="73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0" name=""/>
            <p:cNvSpPr/>
            <p:nvPr/>
          </p:nvSpPr>
          <p:spPr>
            <a:xfrm>
              <a:off x="3016080" y="6310440"/>
              <a:ext cx="808200" cy="51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 u="sng">
                  <a:solidFill>
                    <a:srgbClr val="0000ff"/>
                  </a:solidFill>
                  <a:uFillTx/>
                  <a:latin typeface="楷体"/>
                  <a:ea typeface="楷体"/>
                  <a:hlinkClick r:id="rId9" action="ppaction://hlinksldjump"/>
                </a:rPr>
                <a:t>首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TextBox 10"/>
          <p:cNvSpPr/>
          <p:nvPr/>
        </p:nvSpPr>
        <p:spPr>
          <a:xfrm>
            <a:off x="684360" y="189000"/>
            <a:ext cx="8208720" cy="764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00"/>
                </a:solidFill>
                <a:latin typeface="Arial"/>
                <a:ea typeface="华文彩云"/>
              </a:rPr>
              <a:t>自我介绍</a:t>
            </a:r>
            <a:r>
              <a:rPr b="1" lang="en-US" sz="4400" spc="-1" strike="noStrike">
                <a:solidFill>
                  <a:srgbClr val="008000"/>
                </a:solidFill>
                <a:latin typeface="Gungsuh"/>
                <a:ea typeface="Gungsuh"/>
              </a:rPr>
              <a:t>Self Introdu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F7EB4-B980-4A59-A314-13B66422E09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2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7174080"/>
          </a:xfrm>
          <a:prstGeom prst="rect">
            <a:avLst/>
          </a:prstGeom>
          <a:ln w="0">
            <a:noFill/>
          </a:ln>
        </p:spPr>
      </p:pic>
      <p:sp>
        <p:nvSpPr>
          <p:cNvPr id="744" name=""/>
          <p:cNvSpPr txBox="1"/>
          <p:nvPr/>
        </p:nvSpPr>
        <p:spPr>
          <a:xfrm rot="5400000">
            <a:off x="2261880" y="2970360"/>
            <a:ext cx="4619520" cy="923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这样的我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p:transition>
    <p:pull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AutoShape 35"/>
          <p:cNvSpPr/>
          <p:nvPr/>
        </p:nvSpPr>
        <p:spPr>
          <a:xfrm>
            <a:off x="1619280" y="1341360"/>
            <a:ext cx="2819520" cy="38124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AutoShape 37"/>
          <p:cNvSpPr/>
          <p:nvPr/>
        </p:nvSpPr>
        <p:spPr>
          <a:xfrm>
            <a:off x="2340000" y="1628640"/>
            <a:ext cx="252108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个人简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AutoShape 38"/>
          <p:cNvSpPr/>
          <p:nvPr/>
        </p:nvSpPr>
        <p:spPr>
          <a:xfrm>
            <a:off x="1476360" y="2349360"/>
            <a:ext cx="259236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学习经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AutoShape 39"/>
          <p:cNvSpPr/>
          <p:nvPr/>
        </p:nvSpPr>
        <p:spPr>
          <a:xfrm>
            <a:off x="900000" y="407664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个人爱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AutoShape 40"/>
          <p:cNvSpPr/>
          <p:nvPr/>
        </p:nvSpPr>
        <p:spPr>
          <a:xfrm>
            <a:off x="1619280" y="4797360"/>
            <a:ext cx="244944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我的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AutoShape 41"/>
          <p:cNvSpPr/>
          <p:nvPr/>
        </p:nvSpPr>
        <p:spPr>
          <a:xfrm>
            <a:off x="2124000" y="5661000"/>
            <a:ext cx="2664000" cy="5047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8000"/>
                </a:solidFill>
                <a:latin typeface="Arial"/>
              </a:rPr>
              <a:t>人生格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47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48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4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4" name="AutoShape 64"/>
          <p:cNvGrpSpPr/>
          <p:nvPr/>
        </p:nvGrpSpPr>
        <p:grpSpPr>
          <a:xfrm>
            <a:off x="-255600" y="755640"/>
            <a:ext cx="2852640" cy="1023840"/>
            <a:chOff x="-255600" y="755640"/>
            <a:chExt cx="2852640" cy="1023840"/>
          </a:xfrm>
        </p:grpSpPr>
        <p:pic>
          <p:nvPicPr>
            <p:cNvPr id="755" name="AutoShape 64" descr=""/>
            <p:cNvPicPr/>
            <p:nvPr/>
          </p:nvPicPr>
          <p:blipFill>
            <a:blip r:embed="rId2"/>
            <a:stretch/>
          </p:blipFill>
          <p:spPr>
            <a:xfrm>
              <a:off x="-255600" y="755640"/>
              <a:ext cx="285264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56" name=""/>
            <p:cNvSpPr/>
            <p:nvPr/>
          </p:nvSpPr>
          <p:spPr>
            <a:xfrm>
              <a:off x="165240" y="912960"/>
              <a:ext cx="2008080" cy="71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600" spc="-1" strike="noStrike">
                  <a:solidFill>
                    <a:srgbClr val="000000"/>
                  </a:solidFill>
                  <a:latin typeface="Arial"/>
                </a:rPr>
                <a:t>目录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7" name="AutoShape 39"/>
          <p:cNvSpPr/>
          <p:nvPr/>
        </p:nvSpPr>
        <p:spPr>
          <a:xfrm>
            <a:off x="1187280" y="3213000"/>
            <a:ext cx="2664000" cy="5050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800080"/>
              </a:gs>
              <a:gs pos="50000">
                <a:srgbClr val="ffffff"/>
              </a:gs>
              <a:gs pos="100000">
                <a:srgbClr val="80008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9184" dir="3271692" blurRad="0" rotWithShape="0">
              <a:srgbClr val="111111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b41875"/>
                </a:solidFill>
                <a:latin typeface="Arial"/>
              </a:rPr>
              <a:t>我的母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2000">
    <p:newsflash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000"/>
                            </p:stCondLst>
                            <p:childTnLst>
                              <p:par>
                                <p:cTn id="3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3000"/>
                            </p:stCondLst>
                            <p:childTnLst>
                              <p:par>
                                <p:cTn id="3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10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4000"/>
                            </p:stCondLst>
                            <p:childTnLst>
                              <p:par>
                                <p:cTn id="4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10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4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4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5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6000"/>
                            </p:stCondLst>
                            <p:childTnLst>
                              <p:par>
                                <p:cTn id="52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utoShape 2"/>
          <p:cNvSpPr/>
          <p:nvPr/>
        </p:nvSpPr>
        <p:spPr>
          <a:xfrm>
            <a:off x="0" y="54936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199" y="5400"/>
                </a:lnTo>
                <a:lnTo>
                  <a:pt x="16199" y="0"/>
                </a:lnTo>
                <a:lnTo>
                  <a:pt x="21600" y="10800"/>
                </a:lnTo>
                <a:lnTo>
                  <a:pt x="16199" y="21600"/>
                </a:lnTo>
                <a:lnTo>
                  <a:pt x="16199" y="16200"/>
                </a:lnTo>
                <a:lnTo>
                  <a:pt x="0" y="16200"/>
                </a:lnTo>
                <a:lnTo>
                  <a:pt x="270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00"/>
                </a:solidFill>
                <a:latin typeface="华文行楷"/>
                <a:ea typeface="华文行楷"/>
              </a:rPr>
              <a:t>我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Rectangle 43"/>
          <p:cNvSpPr/>
          <p:nvPr/>
        </p:nvSpPr>
        <p:spPr>
          <a:xfrm>
            <a:off x="0" y="1700280"/>
            <a:ext cx="4859280" cy="446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 anchorCtr="1">
            <a:noAutofit/>
          </a:bodyPr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年龄：</a:t>
            </a: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18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姓名：梁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Arial"/>
              </a:rPr>
              <a:t>星座：双鱼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6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血型：</a:t>
            </a:r>
            <a:r>
              <a:rPr b="1" lang="en-US" sz="3200" spc="-1" strike="noStrike">
                <a:solidFill>
                  <a:srgbClr val="66ff33"/>
                </a:solidFill>
                <a:latin typeface="Arial"/>
              </a:rPr>
              <a:t>0</a:t>
            </a:r>
            <a:r>
              <a:rPr b="1" lang="zh-CN" sz="3200" spc="-1" strike="noStrike">
                <a:solidFill>
                  <a:srgbClr val="66ff33"/>
                </a:solidFill>
                <a:latin typeface="Arial"/>
              </a:rPr>
              <a:t>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ff"/>
                </a:solidFill>
                <a:latin typeface="Arial"/>
              </a:rPr>
              <a:t>来自：安徽省明光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33"/>
                </a:solidFill>
                <a:latin typeface="Arial"/>
              </a:rPr>
              <a:t>喜欢的运动：</a:t>
            </a:r>
            <a:r>
              <a:rPr b="1" lang="zh-CN" sz="2800" spc="-1" strike="noStrike">
                <a:solidFill>
                  <a:srgbClr val="ff9933"/>
                </a:solidFill>
                <a:latin typeface="Arial"/>
              </a:rPr>
              <a:t>跑步、羽毛球、器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2d0c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56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6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6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73"/>
          <p:cNvSpPr/>
          <p:nvPr/>
        </p:nvSpPr>
        <p:spPr>
          <a:xfrm>
            <a:off x="250920" y="170028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75"/>
          <p:cNvSpPr/>
          <p:nvPr/>
        </p:nvSpPr>
        <p:spPr>
          <a:xfrm>
            <a:off x="8893080" y="170028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76"/>
          <p:cNvSpPr/>
          <p:nvPr/>
        </p:nvSpPr>
        <p:spPr>
          <a:xfrm flipH="1">
            <a:off x="250920" y="6237360"/>
            <a:ext cx="8642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77"/>
          <p:cNvSpPr/>
          <p:nvPr/>
        </p:nvSpPr>
        <p:spPr>
          <a:xfrm flipV="1">
            <a:off x="250920" y="1699920"/>
            <a:ext cx="0" cy="45370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79"/>
          <p:cNvSpPr/>
          <p:nvPr/>
        </p:nvSpPr>
        <p:spPr>
          <a:xfrm>
            <a:off x="4572000" y="17002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8" name="" descr=""/>
          <p:cNvPicPr/>
          <p:nvPr/>
        </p:nvPicPr>
        <p:blipFill>
          <a:blip r:embed="rId2"/>
          <a:stretch/>
        </p:blipFill>
        <p:spPr>
          <a:xfrm>
            <a:off x="4572000" y="1773360"/>
            <a:ext cx="4367160" cy="4392360"/>
          </a:xfrm>
          <a:prstGeom prst="rect">
            <a:avLst/>
          </a:prstGeom>
          <a:ln w="0">
            <a:noFill/>
          </a:ln>
        </p:spPr>
      </p:pic>
    </p:spTree>
  </p:cSld>
  <p:transition spd="slow" advTm="8000">
    <p:wheel spokes="1"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6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6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2000" fill="hold"/>
                                        <p:tgtEl>
                                          <p:spTgt spid="7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3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2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2000" fill="hold"/>
                                        <p:tgtEl>
                                          <p:spTgt spid="7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5000"/>
                            </p:stCondLst>
                            <p:childTnLst>
                              <p:par>
                                <p:cTn id="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20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2000" fill="hold"/>
                                        <p:tgtEl>
                                          <p:spTgt spid="7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700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2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2000" fill="hold"/>
                                        <p:tgtEl>
                                          <p:spTgt spid="7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2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2000" fill="hold"/>
                                        <p:tgtEl>
                                          <p:spTgt spid="7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7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9" name=""/>
          <p:cNvGraphicFramePr/>
          <p:nvPr/>
        </p:nvGraphicFramePr>
        <p:xfrm>
          <a:off x="468360" y="1916280"/>
          <a:ext cx="8496360" cy="3516120"/>
        </p:xfrm>
        <a:graphic>
          <a:graphicData uri="http://schemas.openxmlformats.org/drawingml/2006/table">
            <a:tbl>
              <a:tblPr/>
              <a:tblGrid>
                <a:gridCol w="4246560"/>
                <a:gridCol w="4249800"/>
              </a:tblGrid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ff0000"/>
                          </a:solidFill>
                          <a:latin typeface="华文楷体"/>
                          <a:ea typeface="华文楷体"/>
                        </a:rPr>
                        <a:t>起止年月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8000"/>
                          </a:solidFill>
                          <a:latin typeface="华文楷体"/>
                          <a:ea typeface="华文楷体"/>
                        </a:rPr>
                        <a:t>就读学校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8720">
                      <a:solidFill>
                        <a:srgbClr val="0000ff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0——200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涝口小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08——20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涝口中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2011</a:t>
                      </a: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Arial"/>
                        </a:rPr>
                        <a:t>至今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ff"/>
                      </a:solidFill>
                    </a:lnL>
                    <a:lnR w="43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28545e"/>
                          </a:solidFill>
                          <a:latin typeface="华文行楷"/>
                          <a:ea typeface="华文行楷"/>
                        </a:rPr>
                        <a:t>安徽汽车工业学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ff"/>
                      </a:solidFill>
                    </a:lnL>
                    <a:lnR w="18720">
                      <a:solidFill>
                        <a:srgbClr val="0000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0" name="Line 131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4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AutoShape 4"/>
          <p:cNvSpPr/>
          <p:nvPr/>
        </p:nvSpPr>
        <p:spPr>
          <a:xfrm>
            <a:off x="0" y="765000"/>
            <a:ext cx="3168720" cy="1224000"/>
          </a:xfrm>
          <a:custGeom>
            <a:avLst/>
            <a:gdLst>
              <a:gd name="textAreaLeft" fmla="*/ 336600 w 3168720"/>
              <a:gd name="textAreaRight" fmla="*/ 2832120 w 3168720"/>
              <a:gd name="textAreaTop" fmla="*/ 306000 h 1224000"/>
              <a:gd name="textAreaBottom" fmla="*/ 91800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09" y="5400"/>
                </a:lnTo>
                <a:lnTo>
                  <a:pt x="17009" y="0"/>
                </a:lnTo>
                <a:lnTo>
                  <a:pt x="21600" y="10800"/>
                </a:lnTo>
                <a:lnTo>
                  <a:pt x="17009" y="21600"/>
                </a:lnTo>
                <a:lnTo>
                  <a:pt x="17009" y="16200"/>
                </a:lnTo>
                <a:lnTo>
                  <a:pt x="0" y="16200"/>
                </a:lnTo>
                <a:lnTo>
                  <a:pt x="2296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c1c1c"/>
                </a:solidFill>
                <a:latin typeface="华文行楷"/>
                <a:ea typeface="华文行楷"/>
              </a:rPr>
              <a:t>学习经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pull dir="lu"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8" dur="2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AutoShape 4"/>
          <p:cNvSpPr/>
          <p:nvPr/>
        </p:nvSpPr>
        <p:spPr>
          <a:xfrm>
            <a:off x="0" y="549360"/>
            <a:ext cx="3635280" cy="1439640"/>
          </a:xfrm>
          <a:custGeom>
            <a:avLst/>
            <a:gdLst>
              <a:gd name="textAreaLeft" fmla="*/ 396000 w 3635280"/>
              <a:gd name="textAreaRight" fmla="*/ 3239280 w 363528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894" y="5400"/>
                </a:lnTo>
                <a:lnTo>
                  <a:pt x="16894" y="0"/>
                </a:lnTo>
                <a:lnTo>
                  <a:pt x="21600" y="10800"/>
                </a:lnTo>
                <a:lnTo>
                  <a:pt x="16894" y="21600"/>
                </a:lnTo>
                <a:lnTo>
                  <a:pt x="16894" y="16200"/>
                </a:lnTo>
                <a:lnTo>
                  <a:pt x="0" y="16200"/>
                </a:lnTo>
                <a:lnTo>
                  <a:pt x="2353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我的母校</a:t>
            </a:r>
            <a:r>
              <a:rPr b="0" lang="zh-CN" sz="1800" spc="-1" strike="noStrike">
                <a:solidFill>
                  <a:srgbClr val="990000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形标注 8"/>
          <p:cNvSpPr/>
          <p:nvPr/>
        </p:nvSpPr>
        <p:spPr>
          <a:xfrm>
            <a:off x="4140360" y="404640"/>
            <a:ext cx="2952720" cy="720720"/>
          </a:xfrm>
          <a:prstGeom prst="wedgeEllipseCallout">
            <a:avLst>
              <a:gd name="adj1" fmla="val -54578"/>
              <a:gd name="adj2" fmla="val 185694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华文行楷"/>
                <a:ea typeface="华文行楷"/>
              </a:rPr>
              <a:t>汽工学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9" name="" descr=""/>
          <p:cNvPicPr/>
          <p:nvPr/>
        </p:nvPicPr>
        <p:blipFill>
          <a:blip r:embed="rId2"/>
          <a:stretch/>
        </p:blipFill>
        <p:spPr>
          <a:xfrm>
            <a:off x="0" y="2060640"/>
            <a:ext cx="5435640" cy="4172040"/>
          </a:xfrm>
          <a:prstGeom prst="rect">
            <a:avLst/>
          </a:prstGeom>
          <a:ln w="0">
            <a:noFill/>
          </a:ln>
        </p:spPr>
      </p:pic>
      <p:pic>
        <p:nvPicPr>
          <p:cNvPr id="780" name="" descr=""/>
          <p:cNvPicPr/>
          <p:nvPr/>
        </p:nvPicPr>
        <p:blipFill>
          <a:blip r:embed="rId3"/>
          <a:stretch/>
        </p:blipFill>
        <p:spPr>
          <a:xfrm>
            <a:off x="5435640" y="1341360"/>
            <a:ext cx="3708360" cy="2362320"/>
          </a:xfrm>
          <a:prstGeom prst="rect">
            <a:avLst/>
          </a:prstGeom>
          <a:ln w="0">
            <a:noFill/>
          </a:ln>
        </p:spPr>
      </p:pic>
      <p:pic>
        <p:nvPicPr>
          <p:cNvPr id="781" name="" descr=""/>
          <p:cNvPicPr/>
          <p:nvPr/>
        </p:nvPicPr>
        <p:blipFill>
          <a:blip r:embed="rId4"/>
          <a:stretch/>
        </p:blipFill>
        <p:spPr>
          <a:xfrm>
            <a:off x="5508720" y="3645000"/>
            <a:ext cx="3635280" cy="255276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cover dir="ld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2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2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2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7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20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颜色： 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绿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书：    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《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钢铁是怎样炼成的</a:t>
            </a:r>
            <a:r>
              <a:rPr b="1" lang="en-US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歌手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汪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喜欢的季节：  </a:t>
            </a:r>
            <a:r>
              <a:rPr b="1" lang="zh-CN" sz="3200" spc="-1" strike="noStrike">
                <a:solidFill>
                  <a:srgbClr val="1f497d"/>
                </a:solidFill>
                <a:latin typeface="华文行楷"/>
                <a:ea typeface="华文行楷"/>
              </a:rPr>
              <a:t>夏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f497d"/>
                </a:solidFill>
                <a:latin typeface="Calibri"/>
              </a:rPr>
              <a:t>最爱的人：爱我的每个人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AutoShape 4"/>
          <p:cNvSpPr/>
          <p:nvPr/>
        </p:nvSpPr>
        <p:spPr>
          <a:xfrm>
            <a:off x="0" y="620640"/>
            <a:ext cx="2987640" cy="1152720"/>
          </a:xfrm>
          <a:custGeom>
            <a:avLst/>
            <a:gdLst>
              <a:gd name="textAreaLeft" fmla="*/ 316800 w 2987640"/>
              <a:gd name="textAreaRight" fmla="*/ 2670840 w 2987640"/>
              <a:gd name="textAreaTop" fmla="*/ 288000 h 1152720"/>
              <a:gd name="textAreaBottom" fmla="*/ 86472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7018" y="5400"/>
                </a:lnTo>
                <a:lnTo>
                  <a:pt x="17018" y="0"/>
                </a:lnTo>
                <a:lnTo>
                  <a:pt x="21600" y="10800"/>
                </a:lnTo>
                <a:lnTo>
                  <a:pt x="17018" y="21600"/>
                </a:lnTo>
                <a:lnTo>
                  <a:pt x="17018" y="16200"/>
                </a:lnTo>
                <a:lnTo>
                  <a:pt x="0" y="16200"/>
                </a:lnTo>
                <a:lnTo>
                  <a:pt x="2291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华文行楷"/>
                <a:ea typeface="华文行楷"/>
              </a:rPr>
              <a:t>个人爱好</a:t>
            </a:r>
            <a:r>
              <a:rPr b="0" lang="zh-CN" sz="1800" spc="-1" strike="noStrike">
                <a:solidFill>
                  <a:srgbClr val="1f497d"/>
                </a:solidFill>
                <a:latin typeface="华文行楷"/>
                <a:ea typeface="华文行楷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9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20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3000">
    <p:push dir="u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900"/>
                            </p:stCondLst>
                            <p:childTnLst>
                              <p:par>
                                <p:cTn id="15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3150"/>
                            </p:stCondLst>
                            <p:childTnLst>
                              <p:par>
                                <p:cTn id="16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7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050"/>
                            </p:stCondLst>
                            <p:childTnLst>
                              <p:par>
                                <p:cTn id="1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7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4950"/>
                            </p:stCondLst>
                            <p:childTnLst>
                              <p:par>
                                <p:cTn id="18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500"/>
                                        <p:tgtEl>
                                          <p:spTgt spid="7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2" descr="p_large_8AnH_2679000523ef2d1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7"/>
          <p:cNvSpPr/>
          <p:nvPr/>
        </p:nvSpPr>
        <p:spPr>
          <a:xfrm>
            <a:off x="250920" y="189000"/>
            <a:ext cx="3168720" cy="1439640"/>
          </a:xfrm>
          <a:custGeom>
            <a:avLst/>
            <a:gdLst>
              <a:gd name="textAreaLeft" fmla="*/ 396000 w 3168720"/>
              <a:gd name="textAreaRight" fmla="*/ 2772720 w 3168720"/>
              <a:gd name="textAreaTop" fmla="*/ 360000 h 1439640"/>
              <a:gd name="textAreaBottom" fmla="*/ 1080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我的理想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3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25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26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31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对于未来，曾经有过许多许多设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而如今，似乎那些都已经完全脱离了现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只想做好现在所能做好的一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过去已经过去，而未来还在前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抓紧现在所能抓住的一切机遇与挑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微软简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改变，或许从现在就已经开始</a:t>
            </a:r>
            <a:r>
              <a:rPr b="1" lang="en-US" sz="3200" spc="-1" strike="noStrike">
                <a:solidFill>
                  <a:srgbClr val="ff5050"/>
                </a:solidFill>
                <a:latin typeface="微软简隶书"/>
                <a:ea typeface="微软简隶书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505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Just Do My Best</a:t>
            </a:r>
            <a:r>
              <a:rPr b="1" lang="zh-CN" sz="3200" spc="-1" strike="noStrike">
                <a:solidFill>
                  <a:srgbClr val="ff5050"/>
                </a:solidFill>
                <a:latin typeface="Monotype Corsiva"/>
                <a:ea typeface="微软简隶书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0">
    <p:cover dir="d"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2" dur="1000"/>
                                        <p:tgtEl>
                                          <p:spTgt spid="7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2000"/>
                            </p:stCondLst>
                            <p:childTnLst>
                              <p:par>
                                <p:cTn id="20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1000"/>
                                        <p:tgtEl>
                                          <p:spTgt spid="7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000"/>
                            </p:stCondLst>
                            <p:childTnLst>
                              <p:par>
                                <p:cTn id="20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0" dur="1000"/>
                                        <p:tgtEl>
                                          <p:spTgt spid="7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4000"/>
                            </p:stCondLst>
                            <p:childTnLst>
                              <p:par>
                                <p:cTn id="21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4" dur="1000"/>
                                        <p:tgtEl>
                                          <p:spTgt spid="7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0"/>
                            </p:stCondLst>
                            <p:childTnLst>
                              <p:par>
                                <p:cTn id="21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8" dur="1000"/>
                                        <p:tgtEl>
                                          <p:spTgt spid="7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1000"/>
                                        <p:tgtEl>
                                          <p:spTgt spid="7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000"/>
                            </p:stCondLst>
                            <p:childTnLst>
                              <p:par>
                                <p:cTn id="22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1000"/>
                                        <p:tgtEl>
                                          <p:spTgt spid="7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AutoShape 4"/>
          <p:cNvSpPr/>
          <p:nvPr/>
        </p:nvSpPr>
        <p:spPr>
          <a:xfrm>
            <a:off x="0" y="620640"/>
            <a:ext cx="3168720" cy="1295640"/>
          </a:xfrm>
          <a:custGeom>
            <a:avLst/>
            <a:gdLst>
              <a:gd name="textAreaLeft" fmla="*/ 356400 w 3168720"/>
              <a:gd name="textAreaRight" fmla="*/ 2812320 w 316872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740" y="5400"/>
                </a:lnTo>
                <a:lnTo>
                  <a:pt x="16740" y="0"/>
                </a:lnTo>
                <a:lnTo>
                  <a:pt x="21600" y="10800"/>
                </a:lnTo>
                <a:lnTo>
                  <a:pt x="16740" y="21600"/>
                </a:lnTo>
                <a:lnTo>
                  <a:pt x="16740" y="16200"/>
                </a:lnTo>
                <a:lnTo>
                  <a:pt x="0" y="16200"/>
                </a:lnTo>
                <a:lnTo>
                  <a:pt x="243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dcebf5"/>
              </a:gs>
              <a:gs pos="100000">
                <a:srgbClr val="55261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f497d"/>
                </a:solidFill>
                <a:latin typeface="Arial"/>
                <a:ea typeface="微软简魏碑"/>
              </a:rPr>
              <a:t>人生格言</a:t>
            </a:r>
            <a:r>
              <a:rPr b="0" lang="zh-CN" sz="1800" spc="-1" strike="noStrike">
                <a:solidFill>
                  <a:srgbClr val="1f497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0"/>
          <p:cNvSpPr/>
          <p:nvPr/>
        </p:nvSpPr>
        <p:spPr>
          <a:xfrm flipV="1">
            <a:off x="5003640" y="6308280"/>
            <a:ext cx="360360" cy="28908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8"/>
          <p:cNvSpPr/>
          <p:nvPr/>
        </p:nvSpPr>
        <p:spPr>
          <a:xfrm>
            <a:off x="5364000" y="6308640"/>
            <a:ext cx="378000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Line 19"/>
          <p:cNvSpPr/>
          <p:nvPr/>
        </p:nvSpPr>
        <p:spPr>
          <a:xfrm>
            <a:off x="0" y="6597720"/>
            <a:ext cx="5003640" cy="0"/>
          </a:xfrm>
          <a:prstGeom prst="line">
            <a:avLst/>
          </a:prstGeom>
          <a:ln w="9360">
            <a:solidFill>
              <a:srgbClr val="b4187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7168320" y="1628640"/>
            <a:ext cx="1529280" cy="4525920"/>
          </a:xfrm>
          <a:prstGeom prst="rect">
            <a:avLst/>
          </a:prstGeom>
          <a:noFill/>
          <a:ln w="0">
            <a:noFill/>
          </a:ln>
        </p:spPr>
        <p:txBody>
          <a:bodyPr anchor="t" vert="eaVer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1111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圆角矩形 19"/>
          <p:cNvSpPr/>
          <p:nvPr/>
        </p:nvSpPr>
        <p:spPr>
          <a:xfrm>
            <a:off x="468360" y="1916280"/>
            <a:ext cx="790560" cy="424944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9440"/>
              <a:gd name="textAreaBottom" fmla="*/ 4210920 h 4249440"/>
            </a:gdLst>
            <a:ahLst/>
            <a:rect l="textAreaLeft" t="textAreaTop" r="textAreaRight" b="textAreaBottom"/>
            <a:pathLst>
              <a:path w="21600" h="116062">
                <a:moveTo>
                  <a:pt x="3600" y="0"/>
                </a:moveTo>
                <a:arcTo wR="3600" hR="3600" stAng="16200000" swAng="-5400000"/>
                <a:lnTo>
                  <a:pt x="0" y="112462"/>
                </a:lnTo>
                <a:arcTo wR="3600" hR="3600" stAng="10800000" swAng="-5400000"/>
                <a:lnTo>
                  <a:pt x="18000" y="11606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吾  将  上  下  而  求  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圆角矩形 20"/>
          <p:cNvSpPr/>
          <p:nvPr/>
        </p:nvSpPr>
        <p:spPr>
          <a:xfrm>
            <a:off x="7885080" y="1844640"/>
            <a:ext cx="790560" cy="4248360"/>
          </a:xfrm>
          <a:custGeom>
            <a:avLst/>
            <a:gdLst>
              <a:gd name="textAreaLeft" fmla="*/ 38520 w 790560"/>
              <a:gd name="textAreaRight" fmla="*/ 752040 w 790560"/>
              <a:gd name="textAreaTop" fmla="*/ 38520 h 4248360"/>
              <a:gd name="textAreaBottom" fmla="*/ 4209840 h 4248360"/>
            </a:gdLst>
            <a:ahLst/>
            <a:rect l="textAreaLeft" t="textAreaTop" r="textAreaRight" b="textAreaBottom"/>
            <a:pathLst>
              <a:path w="21600" h="116032">
                <a:moveTo>
                  <a:pt x="3600" y="0"/>
                </a:moveTo>
                <a:arcTo wR="3600" hR="3600" stAng="16200000" swAng="-5400000"/>
                <a:lnTo>
                  <a:pt x="0" y="112432"/>
                </a:lnTo>
                <a:arcTo wR="3600" hR="3600" stAng="10800000" swAng="-5400000"/>
                <a:lnTo>
                  <a:pt x="18000" y="1160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1c1c1c"/>
                </a:solidFill>
                <a:latin typeface="华文行楷"/>
                <a:ea typeface="华文行楷"/>
              </a:rPr>
              <a:t>路   漫  漫  其  修  远  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Box 30"/>
          <p:cNvSpPr/>
          <p:nvPr/>
        </p:nvSpPr>
        <p:spPr>
          <a:xfrm>
            <a:off x="1258920" y="1844640"/>
            <a:ext cx="6626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前方一路风雨，就犹豫徘徊畏缩不前，到最后只会使充满希望的生命之花凋谢枯萎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不要因为往日的骄傲而忘勿所以，沉淀其中不能自拔，到最后只会使如火般的激情悄然熄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所以，在人生的旅途中无论遇到什么、拥有什么、失去什么、都要不忘了人生的启程，忘记了赶路。鲜花和掌声是赠与那些风雨无阻的行者，而不是赐予停留在原地的待兔者，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  <a:ea typeface="华文楷体"/>
              </a:rPr>
              <a:t>只有启程和前行才能到达成功的彼岸</a:t>
            </a:r>
            <a:br>
              <a:rPr sz="2400"/>
            </a:br>
            <a:r>
              <a:rPr b="0" lang="zh-CN" sz="2400" spc="-1" strike="noStrike">
                <a:solidFill>
                  <a:srgbClr val="008000"/>
                </a:solidFill>
                <a:latin typeface="华文楷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8000">
    <p:cover dir="lu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3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3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3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3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4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9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8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8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8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TextBox 4"/>
          <p:cNvSpPr/>
          <p:nvPr/>
        </p:nvSpPr>
        <p:spPr>
          <a:xfrm>
            <a:off x="1908000" y="1773360"/>
            <a:ext cx="547236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Constantia"/>
              </a:rPr>
              <a:t>谢谢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Constantia"/>
              </a:rPr>
              <a:t>Best  wishes  to  you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6000">
    <p:comb dir="vert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1200"/>
                            </p:stCondLst>
                            <p:childTnLst>
                              <p:par>
                                <p:cTn id="276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7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7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6T11:50:58Z</dcterms:created>
  <dc:creator>Microsoft</dc:creator>
  <dc:description/>
  <dc:language>en-US</dc:language>
  <cp:lastModifiedBy>未知用户</cp:lastModifiedBy>
  <dcterms:modified xsi:type="dcterms:W3CDTF">2013-02-24T06:47:29Z</dcterms:modified>
  <cp:revision>72</cp:revision>
  <dc:subject/>
  <dc:title>自我介绍</dc:title>
</cp:coreProperties>
</file>