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5EC-01FB-4A1F-997C-E3AA3663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DFF6-EFA1-4BF3-BCD7-D83EB5D3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902-E932-4F61-A708-B532AC96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810-06FE-4149-9BFC-AF2EA419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AF5-C047-461F-AEB8-67B6EB37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4F6-1712-4D9A-B368-1E307AD5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829-DDF9-45D3-A1D5-28FCE0FF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25B-44E6-4D30-9F6B-9F1B1A7A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AA6-FD32-4D5F-A899-162E6B10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F1B-EA1E-45D3-884B-0E74150B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93E-499F-4DA2-ACDC-7E456F9D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C406-F5D2-4A09-9DC4-6ED77AA4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4583-212F-475F-89E7-ADC076D4EA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2819520"/>
            <a:ext cx="6400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</a:rPr>
              <a:t>欢迎您的到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541008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五年级一班家长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0666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Lucida Console"/>
              </a:rPr>
              <a:t>家长是孩子的第一任老师，也是孩子终身的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0"/>
            <a:ext cx="861048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、关心孩子的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说到关心孩子的学习许多家长一定会说我是很关心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每天都问孩子有没有做作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学校表现好不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是不是真正的关心呢？我看未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许有的家长会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题目我自己都不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叫我怎么教 ，对这些情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长应当怎样辅导孩子呢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一、热情支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二、认真督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三、仔细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四、积极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228600"/>
            <a:ext cx="85345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三、帮助孩子提高学习成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的家长对孩子抱怨、斥责。有的家长根本不管孩子的学习。放任、纵容孩子。这样做是十分错误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殊不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习惯的养成是有一个过程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长应当从哪里入手提高孩子的学习成绩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一、抓作业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二、抓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三、关注孩子的学习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四、帮助孩子制定学习计划、确定学习目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5800" y="380880"/>
            <a:ext cx="7772400" cy="5586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四、培养孩子良好的学习习惯和行为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行动养成习惯，习惯形成性格，性格决定命运、命运决定人生。生动的阐述了习惯的重要性，所以家长要从小注重培养孩子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一、培养孩子良好的学习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二、注重培养孩子的劳动观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三、培养孩子良好的行为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674640"/>
            <a:ext cx="10909440" cy="7532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0"/>
            <a:ext cx="9067680" cy="61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给家长的十条建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针对学生的情况，发现问题及时和老师联系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沟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支持老师的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多和孩子进行一点必要的沟通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工作再忙也要抽点时间来了解孩子的学习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多给孩子一点鼓励和信心，保护孩子的自尊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控制好上学放学时间及业余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674640"/>
            <a:ext cx="10909440" cy="753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57400" y="129528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380880"/>
            <a:ext cx="815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教育孩子养成勤俭节约的好习惯，不乱花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要用平和的心态去看待孩子。应该表扬就及时表扬，口头表扬一点不逊于物质奖励，而且往往效果更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尽量抽时间多陪陪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孩子面前做好表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做好孩子的安全教育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121932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孩子是我们永远的希望，教育孩子是我们共同的责任，就让我们携起手来，一起为孩子的健康成长而努力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23880" y="2666880"/>
            <a:ext cx="6096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祝各位家长工作愉快！</a:t>
            </a:r>
            <a:endParaRPr b="1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76" name=""/>
          <p:cNvSpPr/>
          <p:nvPr/>
        </p:nvSpPr>
        <p:spPr>
          <a:xfrm>
            <a:off x="2193840" y="169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1219320"/>
            <a:ext cx="8915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一次对您的到来表示感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05320" y="4038480"/>
            <a:ext cx="1828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再见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班主任电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523880"/>
            <a:ext cx="6933960" cy="305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会议注意事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请填写家长签到表后，找到您孩子的座位入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请您不要吸烟、说话、随意走动，最好把手机关机或者静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谢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学校对教师教学的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每节课后写教学反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每周进行一次教研活动、听评课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定期检查教案、作业批改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每次单元考试后，教师要写试卷分析并把成绩用家校通发给家长。期中、期末考试后，教师要对学生的试卷做全面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语、数、英老师对班内学困生的辅导有记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班级基本情况及存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班共有学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，是全校人数最多的班级。其中男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，女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班内的学困生大多为男生，大概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习主动性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部分学生把学习当做任务去完成，没有把学习当做自己的事，处于被动应付的局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部分男同学经常去网吧，有的学生早晨和中午还去网吧。影响了整天的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开学已大半学期了，仍有几个学生经常不完成作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班主任所作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坚持早到校。做到学生在，老师就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对学生进行日常行为习惯教育和思想教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对学生的在校行为和学习严格要求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间、路队、吃零食、作业书写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学困生的辅导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3049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99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师对学生的管理是很严格的，由于班级人数多，在工作中不可能面面俱到。单靠老师的力量是不够的，孩子的每一点进步，除了老师的辛勤培育之外，家长的努力和付出也是至关重要的。所以希望家长也能够积极的配合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期已经过大半，期末考试一晃眼就会来到，我希望家长在这段时间还是要以督促为主，多提醒，根据自己孩子自身的特点，有针对性适当练习，毕竟靠老师课堂上的讲授是远远不够的，孩子必须要回家内化，不断重复巩固。往高年级走，难度会越来越大，要求孩子独立自主得学习会越来越明显的体现，如果现在就忽视，那将来肯定会掉队的，希望我们家长要引以为重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26668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期中成绩汇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JDSJ3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5"/>
          <p:cNvSpPr txBox="1"/>
          <p:nvPr/>
        </p:nvSpPr>
        <p:spPr>
          <a:xfrm>
            <a:off x="1476360" y="2349360"/>
            <a:ext cx="5759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如何来教育孩子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324000" y="260280"/>
            <a:ext cx="338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共同探讨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rcRect l="1853" t="0" r="1853" b="2533"/>
          <a:stretch/>
        </p:blipFill>
        <p:spPr>
          <a:xfrm>
            <a:off x="0" y="0"/>
            <a:ext cx="9144000" cy="6416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380880"/>
            <a:ext cx="85345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建立良好的家庭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个孩子都有一个家，家庭是孩子成长的第一所学校，父母是孩子的第一任老师。家庭环境的好坏，直接影响孩子能否健康成长。并不是指富裕的家庭环境，而是指家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一、家长要不断提高自身素质，以身作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第二、要不断创造良好的家庭文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三、要有良好的家庭心理环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3-06T12:47:4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