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BBD-CBDB-4807-B6B0-4DA1909F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F9E-B7A3-4905-9FC0-EB9444CC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269-9428-4411-96B3-1A771FB7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1CF-B1FA-413C-9E0C-7B05DAFB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67A6-3C31-4FD0-B613-E03BFABE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0C50-B671-484D-9A75-B594DA6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A131-FFD5-40AF-83B2-04566B18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6AB0-9FA9-4233-8CE6-84C7CA8E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D1FC-D62E-4EF3-9A59-CABE2539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AA7-E0D9-42C5-A8FF-D46AEB2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9684-E4B5-4460-97D4-7B286019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F79-DDC6-4114-83FB-34A4201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DEBF-7B44-41D3-BE5F-8793E36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69D7-D69E-478C-9993-7DC5AD5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3E88-D850-4B6F-9801-5FF4A94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DC4B-58A5-4219-ACDC-1F094E15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A498-0697-48E3-A55F-CA6C4E75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5304-92EB-4CAB-B6B7-89516F8B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14B7-0E1E-4EC2-901F-72BC46AA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0DBC-4D34-472F-91C6-03544F34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4FDE-C2D2-41A3-B6EF-EA4EB37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FC5A-DF96-4616-B7E9-5CBBADB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9B9-08A2-40A4-9F38-20996285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47FD-7ED5-45BD-9977-00DDD3E5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E9A8-4ECE-4DBC-97A2-DC9DA1C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3CF2-EF4F-421C-89C8-4AB03D4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7305-C914-48D0-8F2F-2470F0C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BCF3-7659-4385-8555-0CB0B83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CEBB-6202-470D-9770-DBB19F73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F53F-7A92-42D7-A0A7-16D2B394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4720-7110-4394-A735-CF90DCB9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51FA-5009-4CB9-8D6A-F521B574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D96E-1DF1-483E-8FAD-A1107BC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F2C-9281-441E-92F7-2C5D7B4F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C6A3-C225-44DD-BFD1-59DD848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8D75-94D0-45ED-A827-07A6D72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CF67-75F1-4FF7-A655-B8254C8A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A9D5-96BC-4E73-A3F4-B194C48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43DB-3CC9-49E8-AD3F-7089B42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E067-E8F4-4118-9CC8-BEA6348C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7B6B-814F-40A5-BC38-191907C2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DC7D-BBEF-456D-9D11-BAA75A19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AB86-F267-487F-B555-9796AE2D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C16-3B3F-45A1-BA21-F80C8968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022-36B6-4D8E-B7F3-ADB6A01B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120-1367-49F7-84CF-7B465FE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6F2-5084-414C-9F7A-596D9B0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1D6-E7B9-47EA-9D1D-2FF977C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3ADA-A860-40CE-9A50-98C287BB7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5CC8-583B-4EA2-B1BE-27C5251F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24B3-33F6-4DD7-B3EF-3D3A369B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8ABA-DE8F-4FC7-A421-D37740BA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62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多给孩子有用的关爱和尊重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2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1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2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3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5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88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9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0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2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5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6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7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9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2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3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4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6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09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1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3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6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7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8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0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1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4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7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8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9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1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5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cp:keywords/>
  <dc:language>en-US</dc:language>
  <cp:lastModifiedBy>未知用户</cp:lastModifiedBy>
  <cp:lastPrinted>1899-12-30T00:00:00Z</cp:lastPrinted>
  <dcterms:modified xsi:type="dcterms:W3CDTF">2015-11-23T01:45:43Z</dcterms:modified>
  <cp:revision>19</cp:revision>
  <dc:subject/>
  <dc:title>鞀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