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9813-6D1B-4208-A344-DDDFC8C27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1F6F-F49F-4DA4-9139-BF5591DB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D568-F2BC-439B-944E-D973825E2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186D-E597-417C-A508-571C8AA97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1707-04A2-4A44-94D4-273A72317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BC83-E491-437E-B18F-4F7C9B0F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971C-1A57-4987-8C6F-4889D033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9EE9-D38E-41F9-B859-1829B7B0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F45F-4A2F-4508-8304-F7C0B945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9095E-8080-453D-81BD-4B008E16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DF6A-0E17-4795-BB42-6F25FC83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8D0E-210F-402B-9AEB-FD2BE011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9447-F8FA-4E6A-ADA2-7565AFD4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74E6-C0E2-4375-8668-F1BE85A2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8B4E-7B62-4ED9-8893-DEA351D4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07D0-9780-4191-9B95-511C72916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E2F5-D8E4-49BC-9BBE-E5C68713F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78BA-B528-43D3-820D-BF1D9CA3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4EBA-1E2F-4A8E-87EE-1AA8EF7F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D50D-BBC5-4EBB-A885-97255203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6289-CD9D-4267-ABFA-33A495FB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7CF7-9AC6-420E-BC50-40CBBA95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B741-AAE1-4D49-BC7B-071F008E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670C-024A-4AEE-9A37-814788A0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84F2-B60C-495F-958C-2D3059266D8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C1A5-BFDA-4B38-91C9-720986CFC28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kxxx.com/" TargetMode="Externa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jasminchen@sina.com" TargetMode="Externa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0" spc="-1" strike="noStrike">
              <a:solidFill>
                <a:srgbClr val="ffff66"/>
              </a:solidFill>
              <a:latin typeface="Arial"/>
              <a:ea typeface="楷体_GB2312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Arial"/>
              </a:rPr>
              <a:t>三年级英语家长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692360" y="1413000"/>
            <a:ext cx="6767280" cy="33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宋体"/>
              </a:rPr>
              <a:t>欢迎各位家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宋体"/>
              <a:ea typeface="宋体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  <a:ea typeface="楷体_GB2312"/>
              </a:rPr>
              <a:t>希望家长每天都要检查的事情</a:t>
            </a: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翻阅孩子的作业登记本并给予是否完成的确认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根据作业登记一一检查相应的作业本或练习册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监督孩子天天按要求认真听课文录音并跟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翻翻书包，看看听写本有没有最新的听写，看看有没有试卷，书包里有没有与学习无关的东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我们希望您：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认真督促学生完成每天布置的作业，尤其一开始严格要求他们的英语书写，写得不好的你们也可以要求他们重作，并签名和当天的日期在作业本上；（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希望家长们以艺术家的眼光来检查和评价孩子们的作业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检查作业主要看他们书写和格式以及上次老师的批改，如果书写不好，让他们重做，如果您有什么意见也可以写在登记本上，便于及时沟通。）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学过的课文和单词要求每天要复习和读、背；家长还可以帮助他们听写，你们读汉语，让孩子们写英语；如果有磁带和光碟的家庭最好是鼓励他们多听多看来学习、练习、英语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每天督促孩子听、跟读录音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分钟以上，以便增强孩子的语感（这个环节非常重要，让孩子们多听多读，才能提高英语听力水平。）另外，我们还可以将英语作为家里的背景音乐，每天孩子一起床我们就打开录音机播放课文录音，让孩子穿衣、梳洗、吃早餐的时候听，会有潜移默化的效果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教育孩子要爱惜自己的学习用品，养成一个良好的习惯。不爱护书本或对在书本作业本上乱涂乱画者，家长要进行教育；另外还要教育孩子们不依赖涂改用具，下笔前要想清楚，作业及试卷要保持干净清洁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激发英语兴趣的方法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父母与孩子共同学习英语，虚心向孩子们请教，你们会发现孩子是惊人的耐心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给孩子提供展示的机会：在家里的客厅或饭厅设立一个小角落展示孩子的英语作业或作品，墙上贴一张进步表，孩子们认真完成作业、认真听录音或者得到老师的表扬奖励都可以在上面做好记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10872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亲人面前让孩子们大方展示所学的英语对话和歌曲，亲人们的赞赏会大大增强他们的信心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让孩子们的房间成为英语的海洋：墙上是字母表、单词表，家具或电器上是英语名称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多和孩子们玩英语游戏，如父母参与的课文表演，看谁拼的快（单词拼写）、看谁查的快（查字典）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我们的课题研究：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我校申请了一个资助英语课题，关于小学低年级英语阅读训练。目的是通过学生平时的大量阅读，提高他们的词汇量和英语视野，养成良好的阅读习惯，更好的促进英语的学习。三年级是参与课题研究的年级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我们需要您的支持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购买孩子们愿意看的英文课外读物和报纸（开展阅读的物质基础），可以是图文并茂英语小故事或小诗歌，可以是少儿英语教材，也可以是中英文结合的故事书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如果孩子买回来后不主动看家长就和他们一起阅读，分享阅读的乐趣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给孩子买本英汉词典，有条件的家庭最好买能发音的电子辞典，帮助孩子们在阅读的过程中查阅新单词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5280" y="6919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将单词记录在英语读书卡中（格式见样板）：自己复印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8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张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A4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纸，每张记录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2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周的课外阅读单词，左边是记录孩子看到的学过的单词，右边记录孩子自学的新单词，每格至少要记录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15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个单词以上。请家长注意提醒孩子们收集整理，时时翻阅，充实卡的内容，每周进行经验交流，分享英文阅读，期末统一整理，进行评比，然后学校复印存档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66"/>
                </a:solidFill>
                <a:latin typeface="Arial"/>
                <a:ea typeface="楷体_GB2312"/>
              </a:rPr>
              <a:t>我们的建议：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家长自己和孩子都要树立一个观念：英语是一门重要的主科，从现在开始英语的学习与考试将会伴随到孩子大学毕业甚至终身。（英语好不仅是一个特长，也许是他们将来谋生的途径。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英语的学习是需要成本的：大量的时间和部分金钱。（没有付出就没有收获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国庆假期还可以：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1628640"/>
            <a:ext cx="854064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买本便筏纸给孩子制作单词卡，正面是书写工整的、学过的英文单词，反面是中文。绘画好的孩子还可以画上背景图，增加趣味性。家长注意要孩子时时增加内容，学到哪做到哪，有空就翻翻，学而时习之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为了让孩子注意收集错题，加强分析归纳的能力，建议买本不厚的硬皮抄给孩子们作为“英语错题集录”，每页分两大块，左边是错题题目或者错的单词的中文，右边是正确答案或单词正确拼写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本发言稿将保存在：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本校网站：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http:// </a:t>
            </a:r>
            <a:r>
              <a:rPr b="0" lang="zh-CN" sz="4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www.lkxxx.co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三年（一）（二）（三）班班级主页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我的联系方式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电话号码：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33645485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（晚上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00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前有空，其余时间欢迎短信息联系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E-mail: </a:t>
            </a:r>
            <a:r>
              <a:rPr b="0" lang="zh-CN" sz="36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jasminchen@sina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jasminchen@avl.com.c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1844640"/>
            <a:ext cx="867564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次感谢家长们的大力支持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69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家庭教育必不可少  </a:t>
            </a:r>
            <a:br>
              <a:rPr sz="4000"/>
            </a:br>
            <a:r>
              <a:rPr b="0" lang="zh-CN" sz="40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我们需要您的支持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作为家长，首先明白，孩子的智力基础和品质基础是在家庭中奠定的，人的智力和品质是在家庭的塑造下成型的，学校是接过这块毛坯进行继续加工的，从家庭，幼儿园，小学，这已是第三棒，在学校塑造和加工的全部过程中，离不开正确家庭教育的配合，倘若没有良好，正确合理的家庭教育配合，再好的师资和学校都不可能产生好的教育效果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家庭教育在孩子一生中起到了关键作用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如果孩子的家庭教育是不完善的，那么这对于孩子来说，这不能不算是一大遗憾。 各位家长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在全面实施素质教育的今天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家庭教育、学校教育、社会教育是现代人成才的三大支柱，家庭教育是基础性的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本学期英语学习内容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26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个字母大小写，读音与在单词中的发音、正确书写顺序，发音归类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课本后的单词表，颜色越深表示要掌握的要求越高。词汇是三年级考试的重要内容，一定要过关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课文中的对话，日常交际用语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听力训练：试卷中听力题的比重占三分之二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英语教材配置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学校发的：英语课本、活动手册、相应的录音磁带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多媒体配置：如广州教研室推荐的金太阳教材电脑光盘和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VCD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我们挑选的教学辅导书：《广州市小学英语课堂过关训练》及录音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其他：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英语作业登记本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抄写本：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本、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本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听写本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单元练习卷：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份单元练习卷（以听力为主，词汇，句型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图画阅读理解为主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一本《复习册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一份综合练习卷（模拟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期末测试卷（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分满分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试卷上的形成性评价内容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95280" y="1125360"/>
          <a:ext cx="8207280" cy="5400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125360"/>
                    <a:ext cx="8207280" cy="5400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66"/>
                </a:solidFill>
                <a:latin typeface="Arial"/>
                <a:ea typeface="楷体_GB2312"/>
              </a:rPr>
              <a:t>孩子们的英语作业分类</a:t>
            </a: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267920"/>
            <a:ext cx="8540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抄写的作业（经常）：分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本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本      格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练习题的作业（经常）： 《活动手册》和《小学英语课堂过关训练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听课文录音并跟读的作业 （天天）：复预习的重要手段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唱歌或者口语展示的作业（有时）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阅读训练（经常）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手工作业（有时）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2T23:01:31Z</dcterms:created>
  <dc:creator>Y AND J</dc:creator>
  <dc:description/>
  <dc:language>en-US</dc:language>
  <cp:lastModifiedBy>未知用户</cp:lastModifiedBy>
  <dcterms:modified xsi:type="dcterms:W3CDTF">2015-11-23T09:33:29Z</dcterms:modified>
  <cp:revision>21</cp:revision>
  <dc:subject/>
  <dc:title>欢迎各位家长</dc:title>
</cp:coreProperties>
</file>