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4.gif" ContentType="image/gif"/>
  <Override PartName="/ppt/media/image33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6.jpeg" ContentType="image/jpeg"/>
  <Override PartName="/ppt/media/image34.jpeg" ContentType="image/jpeg"/>
  <Override PartName="/ppt/media/image40.png" ContentType="image/pn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52.jpeg" ContentType="image/jpeg"/>
  <Override PartName="/ppt/media/image29.jpeg" ContentType="image/jpeg"/>
  <Override PartName="/ppt/media/image8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8.jpeg" ContentType="image/jpeg"/>
  <Override PartName="/ppt/media/image51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76B-7F22-420D-98F4-87EAB0D5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37D-57B0-4D78-8AAA-E7318BFE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F67C7-5DA5-4727-A518-47CAC9A0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CF346-8E33-4253-A711-5757D213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AC470-5E01-482D-87DA-148C8D41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B9CA8-1BA9-4FBD-93DF-BF2F04C8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63BC3-1FCB-457E-886B-EC22CFDA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0859C-F901-4DB1-BC69-AB444A17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4C37B-5CA1-4E89-B02B-2E75143C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1EF02-3AB3-4A2A-B552-AD73DE10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E1DBB-0026-4FD0-ACA8-D7EE252E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6BF5B-D3E6-45CD-8B6C-ADF840DD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AF5-1121-4318-87C4-E0907DBF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FE111-F8CA-46EF-8B34-4DFB9616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AE16C-6C06-4B22-9C04-FCFE934A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5D34B-29DF-4E6E-8DE7-AC43FD67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FA914-5A56-4A29-ACD5-F48E9DC7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DF6A5-F035-45DD-9FE7-4470222A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F59CC-840D-4544-AEB3-FFD330B4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B4FFF-29AF-46F3-92F1-FB5E7DC4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A73CC-7247-4417-B3B4-99B86E6E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9B50A-2B85-482C-9425-85233F0A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B763A-C940-4501-9B79-522703DF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30C8-B581-4550-9370-BA9EC7AF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A2C45-EC77-4A35-8988-EEB32B04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25468-DDC5-4A45-B799-FB540E15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4F727-E6DB-4D1D-AD89-1076A143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410CC-25D2-4427-B3E9-B6EDF3E3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988E6-A053-4296-8085-1E47ED7B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0C167-71EB-4C2E-BF2B-9DB37244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CC100-6E8F-4107-A8D6-88405D26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83A64-8B5C-49D1-8359-92FED2F7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52DE7-EA41-4065-B37D-B1D5A875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95D10-0591-4E3E-810E-F0ED8CBB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2DAD-E20A-4EA5-AB19-48CD399C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D577C-6A06-4368-B2DB-75DFE4C9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519F4-BACE-4993-8FA7-1F5B40DA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063CD-3170-46DF-9DA4-BFE73107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4071-F518-4A30-8F4F-A1C67711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05E3-7C50-472F-9C70-0743131F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5A25-8288-4725-9686-C3D43929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2817-0599-4FDE-B4A5-6054B718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109E-6A8E-4195-8F8F-A7256BAA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80C1-412A-482C-9A70-946803A0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8C33-F0D6-4A77-A869-328EA77B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9161-1DB8-4AF4-9136-F7D6FE2D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4C1C-F090-4A78-B735-60C148C0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B331-825E-4B19-B870-708E850E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C78D-6F01-43AB-945B-8BCD64C7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8B88-53C1-4AAC-91FB-5DB6AE0C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0D6F-F881-4C21-BC7F-E7D5BD53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1DFA5-9541-4B33-BF8E-F95F9A51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042BA-18FE-4EE7-A105-77B63C3E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56E2C-DB2E-4C16-B541-D5CF68DD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44DF-DE73-4592-ADEA-F7EB2B9D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3456C-B370-40B3-9725-5C8006BE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FDB20-C146-4231-8617-9A0D11FF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95A03-3CBB-4491-B0A0-39854EF1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A229D-65FD-4C6E-A416-89AB4C88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9356F-5D9A-4693-B6CA-3AE8B0DB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6BCA1-574E-4F19-A5A6-B8787087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67C67-154A-4C9A-AB02-51CD96CB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6E365-ABAE-4AAE-9A25-03CB41C5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7AFA1-FC82-43F4-923E-754C4BC3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2593B-DD08-4A18-AED2-A4B472C1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3A18-261A-4E4E-9AEF-8A975A33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3CCE5-9B8E-4904-8BC6-3457B77C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C4E9B-C899-447B-86AF-9CEFBB08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CAAC7-B0E4-4C92-A87A-109DC10E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C7D35-7894-43E0-899D-D1F66653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1CF30-24E5-4CCB-AD90-874156D2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C5F76-6992-4DB1-AB0B-BE7D931C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D8F8E-D6D6-4DB9-8F3A-12E39A2D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CE22E-99F0-4C0F-8076-C08F41EE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F166B-CB43-426E-90C8-7D511EA5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B123F-7CDF-423F-B2BF-39D4D8D9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500E-52C3-4729-BCA5-FFF80915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C7ADF-5285-41C1-B119-A1724AED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6FFBE-E4A8-4BA7-973A-C76C8B80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954DD-2278-437F-9675-1134D279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95924-52A9-4778-95C7-DD23F8D0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49D52-1061-4B65-BC08-7ACF609E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815E7-8C21-4458-BF03-5CE08527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7E516-CABF-409B-A1D8-919C3307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40867-3D2D-44F1-B222-560A2707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D8D65-F983-4165-A635-09180C22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51BF2-6101-4E41-88C2-A1C2EEBD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A360-0AFB-4FCE-9887-8596A905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99A01-02C6-4F25-A1AF-8607D9F6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55E47-9222-42A9-80FE-7F0E20A2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6DBC9-6DA3-4EF4-B745-80525FDA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BE8B5-5EB3-49FA-ACCE-7E5BD93E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41848-9AA4-40BA-9AAC-CB2942B1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D8752-A866-4CF9-9D09-4035EF88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FD44D-1C08-451E-B37A-1E8BEC89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3F9D3-F2A7-41BA-83A5-3B74842D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367DE-FEB5-440A-AF95-DE7945B2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78FC5-31FD-4D57-801E-5B4AF7CB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583-2743-4EA1-B445-6152DF10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9A614-D34F-4AA4-A789-1CA3E457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BFB62-9971-479A-B55C-0EB3B185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105FD-D575-42BC-B329-59FAB9D0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76209-53C5-4875-841C-CC416D4D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9CE73-8F70-430D-96A8-6A4C991C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CBBDC-5A17-4E4B-9A1B-E49FEE8A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8988B-E274-42BF-A628-77D28043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416C6-8CEB-4A62-B926-5D256C31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288F6-6D5C-4B0C-B488-75BFDC53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D3498-06D2-4811-BD37-3744DD0A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D5F-6467-4E7B-9950-CEF2F9D6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EBB80-4A52-4DD0-8D4A-B16A86CF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CB859-5648-48C2-BC9F-B4BA98DF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446B8-A8CA-45C7-8ECD-11A11279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24A06-2D22-4E6A-A919-A977CA36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D9735-395C-40B8-ADC1-7DE93A89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97499-FB28-43EF-8947-CAE5EE78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0807F-A148-4D91-B168-4144246F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7F62C-87E5-4F9B-BF05-586D4884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D545F-2399-4F9C-94EE-8F3DD863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6F61A-1794-42B0-8BFA-D9D1E7F5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B282-0B81-4FB9-9999-E486201E2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9E1A-4AC3-493E-AAAB-D5F4C00FF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8518-4798-490F-B8E2-F5BC0FC91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4EB9-A00E-432D-B95A-AA3F95464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0320" y="4481640"/>
            <a:ext cx="7772400" cy="1179360"/>
          </a:xfrm>
          <a:prstGeom prst="rect">
            <a:avLst/>
          </a:prstGeom>
          <a:solidFill>
            <a:srgbClr val="ff9999">
              <a:alpha val="2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door_view_clouds_hg_clr"/>
          <p:cNvPicPr/>
          <p:nvPr/>
        </p:nvPicPr>
        <p:blipFill>
          <a:blip r:embed="rId3"/>
          <a:stretch/>
        </p:blipFill>
        <p:spPr>
          <a:xfrm>
            <a:off x="7182000" y="4343400"/>
            <a:ext cx="1768320" cy="22096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-36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622560"/>
            <a:ext cx="2895840" cy="1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7009920" y="6622560"/>
            <a:ext cx="2133720" cy="1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BEF7-766F-4F55-9F87-7FDE452BF43E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" descr="door_view_clouds_hg_clr"/>
          <p:cNvPicPr/>
          <p:nvPr/>
        </p:nvPicPr>
        <p:blipFill>
          <a:blip r:embed="rId3"/>
          <a:stretch/>
        </p:blipFill>
        <p:spPr>
          <a:xfrm>
            <a:off x="7182000" y="4343400"/>
            <a:ext cx="1768320" cy="22096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99cc"/>
              </a:solidFill>
              <a:latin typeface="微软雅黑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0E0E-D9FC-42AC-A84E-02F674036635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DE01-CAAB-4C43-98C9-4AAB9C76E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42CC-4A33-4ACF-B95D-2E15372AE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3150-5EB4-4949-AF33-3B7A67A40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9524-FB3E-43A3-AE9C-323605A8D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8.jpeg"/><Relationship Id="rId4" Type="http://schemas.openxmlformats.org/officeDocument/2006/relationships/image" Target="../media/image48.jpeg"/><Relationship Id="rId5" Type="http://schemas.openxmlformats.org/officeDocument/2006/relationships/image" Target="../media/image4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6705720" y="5105520"/>
            <a:ext cx="1565280" cy="11541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4343400" y="-74520"/>
            <a:ext cx="4809960" cy="6932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152280" y="2743200"/>
            <a:ext cx="6324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宋体"/>
              </a:rPr>
              <a:t>读书 励志 </a:t>
            </a:r>
            <a:endParaRPr b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宋体"/>
              <a:ea typeface="宋体"/>
            </a:endParaRPr>
          </a:p>
        </p:txBody>
      </p:sp>
      <p:sp>
        <p:nvSpPr>
          <p:cNvPr id="448" name=""/>
          <p:cNvSpPr/>
          <p:nvPr/>
        </p:nvSpPr>
        <p:spPr>
          <a:xfrm>
            <a:off x="622440" y="684360"/>
            <a:ext cx="334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三年级班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6156360" cy="421164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1045440" y="1773360"/>
            <a:ext cx="7898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这不是一个老人，他是一个孩子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2057400" y="304920"/>
            <a:ext cx="6705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beve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方正粗活意简体"/>
              </a:rPr>
              <a:t>如果你说苦，那他们呢？</a:t>
            </a:r>
            <a:endParaRPr b="1" lang="en-US" sz="1800" spc="1" strike="noStrike">
              <a:ln w="12600">
                <a:solidFill>
                  <a:srgbClr val="b2b2b2"/>
                </a:solidFill>
                <a:beve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方正粗活意简体"/>
              <a:ea typeface="方正粗活意简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6624720" cy="480348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1870200" y="5805360"/>
            <a:ext cx="72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最便宜的“草稿纸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057400" y="304920"/>
            <a:ext cx="6705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beve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方正粗活意简体"/>
              </a:rPr>
              <a:t>如果你说苦，那他们呢？</a:t>
            </a:r>
            <a:endParaRPr b="1" lang="en-US" sz="1800" spc="1" strike="noStrike">
              <a:ln w="12600">
                <a:solidFill>
                  <a:srgbClr val="b2b2b2"/>
                </a:solidFill>
                <a:beve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方正粗活意简体"/>
              <a:ea typeface="方正粗活意简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337440" cy="506916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2057400" y="304920"/>
            <a:ext cx="6705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beve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方正粗活意简体"/>
              </a:rPr>
              <a:t>如果你说苦，那他们呢？</a:t>
            </a:r>
            <a:endParaRPr b="1" lang="en-US" sz="1800" spc="1" strike="noStrike">
              <a:ln w="12600">
                <a:solidFill>
                  <a:srgbClr val="b2b2b2"/>
                </a:solidFill>
                <a:beve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方正粗活意简体"/>
              <a:ea typeface="方正粗活意简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5143680" cy="65088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5704920" y="260280"/>
            <a:ext cx="219132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深夜就要起床翻越几个山头去上学的山区孩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52280" y="5334120"/>
            <a:ext cx="6705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beve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方正粗活意简体"/>
              </a:rPr>
              <a:t>如果你说苦，那他们呢？</a:t>
            </a:r>
            <a:endParaRPr b="1" lang="en-US" sz="1800" spc="1" strike="noStrike">
              <a:ln w="12600">
                <a:solidFill>
                  <a:srgbClr val="b2b2b2"/>
                </a:solidFill>
                <a:beve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方正粗活意简体"/>
              <a:ea typeface="方正粗活意简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704000" cy="50245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50920" y="566748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了凑齐费用，她要砍大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筐这样的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2057400" y="304920"/>
            <a:ext cx="6705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beve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方正粗活意简体"/>
              </a:rPr>
              <a:t>如果你说苦，那他们呢？</a:t>
            </a:r>
            <a:endParaRPr b="1" lang="en-US" sz="1800" spc="1" strike="noStrike">
              <a:ln w="12600">
                <a:solidFill>
                  <a:srgbClr val="b2b2b2"/>
                </a:solidFill>
                <a:beve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方正粗活意简体"/>
              <a:ea typeface="方正粗活意简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201080" cy="55054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228600" y="61722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没有凳子，跪着听课的孩子。你有这样的专心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600200" y="380880"/>
            <a:ext cx="5562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方正粗活意简体"/>
              </a:rPr>
              <a:t>我要读书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方正粗活意简体"/>
              <a:ea typeface="方正粗活意简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-3274920" y="152280"/>
            <a:ext cx="15085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想一想：谁更苦？</a:t>
            </a:r>
            <a:endParaRPr b="0" lang="en-US" sz="6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你为了谁必须要吃苦？</a:t>
            </a:r>
            <a:endParaRPr b="0" lang="en-US" sz="6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rcRect l="4523" t="30069" r="16554" b="0"/>
          <a:stretch/>
        </p:blipFill>
        <p:spPr>
          <a:xfrm>
            <a:off x="755640" y="2852640"/>
            <a:ext cx="5040360" cy="33498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5911200" y="2060640"/>
            <a:ext cx="2008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了孩子，普天之下的父母都不怕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7777080" cy="590544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539640" y="404640"/>
            <a:ext cx="700092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因不能为孙子交学费而流泪的爷爷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0" y="334800"/>
            <a:ext cx="8172360" cy="61185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684360" y="5950080"/>
            <a:ext cx="61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为了给孩子上学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7819920" cy="56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539640" y="117360"/>
            <a:ext cx="856944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17236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792144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533520" y="3124080"/>
            <a:ext cx="7351560" cy="825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在这样的教室里专心上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14384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7964640" cy="57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320760"/>
            <a:ext cx="8244000" cy="620388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122720" cy="308448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4427640" y="260280"/>
            <a:ext cx="3817800" cy="31687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395280" y="3500280"/>
            <a:ext cx="3727440" cy="308484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4"/>
          <a:stretch/>
        </p:blipFill>
        <p:spPr>
          <a:xfrm>
            <a:off x="4427640" y="3573360"/>
            <a:ext cx="3744720" cy="295272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 txBox="1"/>
          <p:nvPr/>
        </p:nvSpPr>
        <p:spPr>
          <a:xfrm>
            <a:off x="179280" y="2637000"/>
            <a:ext cx="7489800" cy="99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想父母们的生活吧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5000">
    <p:wedge/>
    <p:sndAc>
      <p:stSnd>
        <p:snd r:embed="rId5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4876560" cy="681192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457200" y="0"/>
            <a:ext cx="8280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当我们感觉苦的时候，请你多想想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、也许我读书苦，可父母一定比我还辛苦！他们在干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、也许我穿的不够时尚，但想过像我这样幸福生活的孩子是怎样想的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、也许我的零花钱不多，可是贫苦地区的孩子们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、也许别人有富裕的家庭，可是他们有我这样温馨的家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、也许老师对我严了些，可是没有这样严格的环境我会怎样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out" orient="horz"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152280" y="1981080"/>
            <a:ext cx="7272360" cy="390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875b0d">
                      <a:alpha val="65000"/>
                    </a:srgbClr>
                  </a:outerShdw>
                </a:effectLst>
                <a:latin typeface="宋体"/>
              </a:rPr>
              <a:t>不要让我们的父母流泪！</a:t>
            </a:r>
            <a:endParaRPr b="1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875b0d">
                    <a:alpha val="6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875b0d">
                      <a:alpha val="65000"/>
                    </a:srgbClr>
                  </a:outerShdw>
                </a:effectLst>
                <a:latin typeface="宋体"/>
              </a:rPr>
              <a:t>不要让他们的希望变成失望！</a:t>
            </a:r>
            <a:endParaRPr b="1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875b0d">
                    <a:alpha val="6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875b0d">
                      <a:alpha val="65000"/>
                    </a:srgbClr>
                  </a:outerShdw>
                </a:effectLst>
                <a:latin typeface="宋体"/>
              </a:rPr>
              <a:t>我们点滴的进步都会让他们欣慰！！</a:t>
            </a:r>
            <a:endParaRPr b="1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875b0d">
                    <a:alpha val="6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875b0d">
                      <a:alpha val="65000"/>
                    </a:srgbClr>
                  </a:outerShdw>
                </a:effectLst>
                <a:latin typeface="宋体"/>
              </a:rPr>
              <a:t>相信吧，苍天不负有心人！有努力终有回报！！</a:t>
            </a:r>
            <a:endParaRPr b="1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875b0d">
                    <a:alpha val="6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411280" y="476280"/>
            <a:ext cx="345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迷你简启体"/>
              </a:rPr>
              <a:t>寄语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迷你简启体"/>
              <a:ea typeface="迷你简启体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rcRect l="0" t="5772" r="2835" b="0"/>
          <a:stretch/>
        </p:blipFill>
        <p:spPr>
          <a:xfrm>
            <a:off x="5867280" y="31680"/>
            <a:ext cx="3332160" cy="299736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7052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 txBox="1"/>
          <p:nvPr/>
        </p:nvSpPr>
        <p:spPr>
          <a:xfrm>
            <a:off x="1523880" y="-455760"/>
            <a:ext cx="57150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00"/>
                  </a:solidFill>
                  <a:beve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就让我们读书励志</a:t>
            </a:r>
            <a:endParaRPr b="1" lang="en-US" sz="4400" spc="1" strike="noStrike">
              <a:ln w="12600">
                <a:solidFill>
                  <a:srgbClr val="000000"/>
                </a:solidFill>
                <a:beve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00"/>
                  </a:solidFill>
                  <a:bevel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树立崇高理想吧！</a:t>
            </a:r>
            <a:endParaRPr b="1" lang="en-US" sz="4400" spc="1" strike="noStrike">
              <a:ln w="12600">
                <a:solidFill>
                  <a:srgbClr val="000000"/>
                </a:solidFill>
                <a:bevel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out" orient="vert"/>
    <p:sndAc>
      <p:stSnd>
        <p:snd r:embed="rId6" name="chimes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0099"/>
                </a:solidFill>
                <a:uFillTx/>
                <a:latin typeface="Comic Sans MS"/>
              </a:rPr>
              <a:t>静静地反思……</a:t>
            </a:r>
            <a:endParaRPr b="0" lang="en-US" sz="60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明志</a:t>
            </a:r>
            <a:endParaRPr b="0" lang="en-US" sz="6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cc"/>
                </a:solidFill>
                <a:latin typeface="Arial"/>
                <a:ea typeface="楷体_GB2312"/>
              </a:rPr>
              <a:t>我有明确的目标吗？</a:t>
            </a:r>
            <a:endParaRPr b="0" lang="en-US" sz="48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cc"/>
                </a:solidFill>
                <a:latin typeface="Arial"/>
                <a:ea typeface="楷体_GB2312"/>
              </a:rPr>
              <a:t>我为实现目标而努力了吗？</a:t>
            </a:r>
            <a:endParaRPr b="0" lang="en-US" sz="4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transition advTm="5000">
    <p:plus/>
    <p:sndAc>
      <p:stSnd>
        <p:snd r:embed="rId2" name="chimes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82160" cy="61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0099"/>
                </a:solidFill>
                <a:uFillTx/>
                <a:latin typeface="Comic Sans MS"/>
              </a:rPr>
              <a:t>静静地反思……</a:t>
            </a:r>
            <a:endParaRPr b="0" lang="en-US" sz="60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勤学</a:t>
            </a:r>
            <a:endParaRPr b="0" lang="en-US" sz="6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Arial"/>
                <a:ea typeface="楷体_GB2312"/>
              </a:rPr>
              <a:t>我在课上能全身心投入吗？</a:t>
            </a:r>
            <a:endParaRPr b="0" lang="en-US" sz="4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Arial"/>
                <a:ea typeface="楷体_GB2312"/>
              </a:rPr>
              <a:t>我能充分应用好各个真空时间吗（课前三分钟、自习等）？</a:t>
            </a:r>
            <a:endParaRPr b="0" lang="en-US" sz="4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Arial"/>
                <a:ea typeface="楷体_GB2312"/>
              </a:rPr>
              <a:t>早读、自修，我能从严要求自己吗（不打瞌睡、不交头接耳等）？</a:t>
            </a:r>
            <a:endParaRPr b="0" lang="en-US" sz="4000" spc="-1" strike="noStrike">
              <a:solidFill>
                <a:srgbClr val="0099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transition advTm="5000">
    <p:diamond/>
    <p:sndAc>
      <p:stSnd>
        <p:snd r:embed="rId2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0099"/>
                </a:solidFill>
                <a:uFillTx/>
                <a:latin typeface="Comic Sans MS"/>
              </a:rPr>
              <a:t>静静地反思……</a:t>
            </a:r>
            <a:endParaRPr b="0" lang="en-US" sz="60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慎思</a:t>
            </a:r>
            <a:endParaRPr b="0" lang="en-US" sz="6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Arial"/>
                <a:ea typeface="楷体_GB2312"/>
              </a:rPr>
              <a:t>我能谨慎对待每一道题吗？</a:t>
            </a:r>
            <a:endParaRPr b="0" lang="en-US" sz="4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Arial"/>
                <a:ea typeface="楷体_GB2312"/>
              </a:rPr>
              <a:t>我能对练习、考试中的存在问题及时进行总结吗？</a:t>
            </a:r>
            <a:endParaRPr b="0" lang="en-US" sz="4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Arial"/>
                <a:ea typeface="楷体_GB2312"/>
              </a:rPr>
              <a:t>我思考过解决问题的措施、方法吗？</a:t>
            </a:r>
            <a:endParaRPr b="0" lang="en-US" sz="4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transition advTm="5000">
    <p:circle/>
    <p:sndAc>
      <p:stSnd>
        <p:snd r:embed="rId2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0099"/>
                </a:solidFill>
                <a:uFillTx/>
                <a:latin typeface="Comic Sans MS"/>
              </a:rPr>
              <a:t>静静地反思……</a:t>
            </a:r>
            <a:endParaRPr b="0" lang="en-US" sz="60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笃行</a:t>
            </a:r>
            <a:endParaRPr b="0" lang="en-US" sz="6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cc"/>
                </a:solidFill>
                <a:latin typeface="Arial"/>
                <a:ea typeface="楷体_GB2312"/>
              </a:rPr>
              <a:t>我能做到及时订正并加以落实吗？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cc"/>
                </a:solidFill>
                <a:latin typeface="Arial"/>
                <a:ea typeface="楷体_GB2312"/>
              </a:rPr>
              <a:t>我能细心地将试卷分类整理吗？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cc"/>
                </a:solidFill>
                <a:latin typeface="Arial"/>
                <a:ea typeface="楷体_GB2312"/>
              </a:rPr>
              <a:t>我能在每节课前迅速进入状态吗？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transition advTm="5000">
    <p:randomBar dir="vert"/>
    <p:sndAc>
      <p:stSnd>
        <p:snd r:embed="rId2" name="chimes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0099"/>
                </a:solidFill>
                <a:uFillTx/>
                <a:latin typeface="Comic Sans MS"/>
              </a:rPr>
              <a:t>静静地反思……</a:t>
            </a:r>
            <a:endParaRPr b="0" lang="en-US" sz="60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细节</a:t>
            </a:r>
            <a:endParaRPr b="0" lang="en-US" sz="6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cc"/>
                </a:solidFill>
                <a:latin typeface="Arial"/>
                <a:ea typeface="楷体_GB2312"/>
              </a:rPr>
              <a:t>我能把用完的工具排放整齐，把用好的抹布搓洗干净吗？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cc"/>
                </a:solidFill>
                <a:latin typeface="Arial"/>
                <a:ea typeface="楷体_GB2312"/>
              </a:rPr>
              <a:t>我能正常到食堂就餐吗？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cc"/>
                </a:solidFill>
                <a:latin typeface="Arial"/>
                <a:ea typeface="楷体_GB2312"/>
              </a:rPr>
              <a:t>我能保持好自身以及周围卫生并做好值日工作吗？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transition advTm="5000">
    <p:split dir="out" orient="horz"/>
    <p:sndAc>
      <p:stSnd>
        <p:snd r:embed="rId2" name="chimes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00cc"/>
                </a:solidFill>
                <a:uFillTx/>
                <a:latin typeface="Comic Sans MS"/>
              </a:rPr>
              <a:t>静静地反思……</a:t>
            </a:r>
            <a:endParaRPr b="0" lang="en-US" sz="60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守纪</a:t>
            </a:r>
            <a:endParaRPr b="0" lang="en-US" sz="6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规定时间内我还在闲逛游走吗？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我能够真正遵守各项规章制度吗？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transition advTm="5000">
    <p:push dir="u"/>
    <p:sndAc>
      <p:stSnd>
        <p:snd r:embed="rId2" name="chimes.wav"/>
      </p:stSnd>
    </p:sndAc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00cc"/>
                </a:solidFill>
                <a:uFillTx/>
                <a:latin typeface="Comic Sans MS"/>
              </a:rPr>
              <a:t>静静地反思……</a:t>
            </a:r>
            <a:endParaRPr b="0" lang="en-US" sz="60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感恩</a:t>
            </a:r>
            <a:endParaRPr b="0" lang="en-US" sz="6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我能体会到家人的艰辛，感受到家人的期盼吗？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我所做的一切对得起我的家人吗？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我想过要报答父母的恩德吗？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transition advTm="5000">
    <p:push dir="r"/>
    <p:sndAc>
      <p:stSnd>
        <p:snd r:embed="rId2" name="chimes.wav"/>
      </p:stSnd>
    </p:sndAc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c00"/>
                </a:solidFill>
                <a:latin typeface="Comic Sans MS"/>
              </a:rPr>
              <a:t>扪心自问</a:t>
            </a:r>
            <a:endParaRPr b="0" lang="en-US" sz="60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仿宋_GB2312"/>
              </a:rPr>
              <a:t>别人在奋力拼搏，锐意进取，而我在做什么呢？</a:t>
            </a:r>
            <a:endParaRPr b="0" lang="en-US" sz="54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仿宋_GB2312"/>
              </a:rPr>
              <a:t>别人在积极思维，踊跃参与，而我在做什么呢？</a:t>
            </a:r>
            <a:endParaRPr b="0" lang="en-US" sz="5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transition advTm="5000">
    <p:push dir="l"/>
    <p:sndAc>
      <p:stSnd>
        <p:snd r:embed="rId2" name="chimes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Comic Sans MS"/>
              </a:rPr>
              <a:t>读懂人生</a:t>
            </a:r>
            <a:endParaRPr b="0" lang="en-US" sz="48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cc"/>
                </a:solidFill>
                <a:latin typeface="Arial"/>
                <a:ea typeface="仿宋_GB2312"/>
              </a:rPr>
              <a:t>用色彩打扮自己，不如用知识充实自己。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cc"/>
                </a:solidFill>
                <a:latin typeface="Arial"/>
                <a:ea typeface="仿宋_GB2312"/>
              </a:rPr>
              <a:t>清晨不起早，误一天的事；年少不勤学，误一生的事。</a:t>
            </a:r>
            <a:endParaRPr b="0" lang="en-US" sz="4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transition advTm="5000">
    <p:push dir="d"/>
    <p:sndAc>
      <p:stSnd>
        <p:snd r:embed="rId2" name="chimes.wav"/>
      </p:stSnd>
    </p:sndAc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274320"/>
            <a:ext cx="8229960" cy="1143360"/>
          </a:xfrm>
          <a:prstGeom prst="rect">
            <a:avLst/>
          </a:prstGeom>
          <a:solidFill>
            <a:srgbClr val="0000cc">
              <a:alpha val="91000"/>
            </a:srgbClr>
          </a:solidFill>
          <a:ln w="0">
            <a:noFill/>
          </a:ln>
          <a:effectLst>
            <a:outerShdw dist="40186" dir="4303641" blurRad="0" rotWithShape="0">
              <a:srgbClr val="4d4d4d">
                <a:alpha val="79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351640" cy="52293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755640" y="2060640"/>
            <a:ext cx="3529080" cy="93672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  <p:sndAc>
      <p:stSnd>
        <p:snd r:embed="rId3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1066680" y="2057400"/>
            <a:ext cx="71629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古今名人的读书故事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dissolve/>
    <p:sndAc>
      <p:stSnd>
        <p:snd r:embed="rId2" name="chimes.wav"/>
      </p:stSnd>
    </p:sndAc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468360" y="263520"/>
            <a:ext cx="820908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533520" y="304920"/>
            <a:ext cx="79246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◎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凿壁借光 </a:t>
            </a:r>
            <a:br>
              <a:rPr sz="1800"/>
            </a:b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西汉时，有个叫匡衡的人，非常勤奋好学，但家境贫困，买不起蜡烛。匡衡的邻居，家境富裕，夜间烛火通明。匡衡请求晚上去他家读书，但邻居不允许。不得已，匡衡想了一个办法，偷偷地在墙壁上凿了一个小洞，让邻居的亮光透过来，借着这点亮光读书。 用这种方法，匡衡读完了一些书，但他买不起新书。有一天，他发现一个财主家里藏着许多书，于是他向财主提出，愿意帮助干活，不要工钱。财主很奇怪，问其原因，匡衡说：“我给你干活，不要工钱，只是想借你家里的书看看。”财主听说只借书看而不要工钱，很是高兴。匡衡就这样读了很多书，因而成为一个很有学问的人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◎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鲁迅嚼辣椒驱寒</a:t>
            </a:r>
            <a:br>
              <a:rPr sz="1800"/>
            </a:b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鲁迅先生从小认真学习。少年时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在江南水师学堂读书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第一学期成绩优异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学校奖一枚金质奖章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他立即拿到南京鼓楼街头卖掉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然后买了几本书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又买了一串红辣椒。每当晚上寒冷时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夜读难耐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他便摘下一颗辣椒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放在嘴里嚼着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直辣得额头冒汗。他就用这种办法驱寒坚持读书。由于苦读书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后来终于成为我国著名的文学家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◎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王亚南苦读成才</a:t>
            </a:r>
            <a:br>
              <a:rPr sz="1800"/>
            </a:b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王亚南小时候胸有大志，酷爱读书。他在读中学时，为了争取更多的时间读书，特意把自己睡的木板床的一条脚锯短半尺，成为三脚床。每天读到深夜，疲劳时上床去睡一觉后迷糊中一翻身，床向短脚方向倾斜过去，他一下子被惊醒过来，便立刻下床，伏案夜读。天天如此，从未间断。结果他年年都取得优异的成绩，被誉为班内的三杰之一。他由于少年时勤奋刻苦读书，后来，终于成为我国杰出的经济学家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  <p:sndAc>
      <p:stSnd>
        <p:snd r:embed="rId2" name="chimes.wav"/>
      </p:stSnd>
    </p:sndAc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1828800" y="2057400"/>
            <a:ext cx="54864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宋体"/>
              </a:rPr>
              <a:t>为什么要读书？</a:t>
            </a:r>
            <a:endParaRPr b="1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宋体"/>
              </a:rPr>
              <a:t>让我们看看那些名人是怎么说的吧！</a:t>
            </a:r>
            <a:endParaRPr b="1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random/>
    <p:sndAc>
      <p:stSnd>
        <p:snd r:embed="rId6" name="chimes.wav"/>
      </p:stSnd>
    </p:sndAc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457200" y="228600"/>
            <a:ext cx="83059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宋体"/>
              </a:rPr>
              <a:t>书籍是巨大的力量——列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宋体"/>
              </a:rPr>
              <a:t>书籍是青年人不可分离的生命伴侣和导师——高尔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宋体"/>
              </a:rPr>
              <a:t>读一本好书，就是和许多高尚的人谈话——笛卡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宋体"/>
              </a:rPr>
              <a:t>每一本书都是一个用黑字印在白纸上的 灵魂，只要我的眼睛、我的理智接触了它，它就活起来了——高尔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宋体"/>
              </a:rPr>
              <a:t>光阴给我们经验，读书给我们知识——奥斯特洛夫斯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宋体"/>
              </a:rPr>
              <a:t>热爱书吧——这是知识的泉源！只有知识才是有用的，只有它才能够使我们在精神上成为坚强、忠诚和有理智的人，成为能够真正爱人类、尊重人类劳动、衷心地欣赏人类那不间断的伟大劳动所产生的美好果实的人——高尔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宋体"/>
              </a:rPr>
              <a:t>理想的书籍，是智慧的钥匙——列夫</a:t>
            </a:r>
            <a:r>
              <a:rPr b="1" lang="en-US" sz="2400" spc="-1" strike="noStrike">
                <a:solidFill>
                  <a:srgbClr val="9933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993300"/>
                </a:solidFill>
                <a:latin typeface="宋体"/>
              </a:rPr>
              <a:t>托尔斯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宋体"/>
              </a:rPr>
              <a:t>和书籍生活在一起，永远 不会叹气——罗曼</a:t>
            </a:r>
            <a:r>
              <a:rPr b="1" lang="en-US" sz="2400" spc="-1" strike="noStrike">
                <a:solidFill>
                  <a:srgbClr val="9933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993300"/>
                </a:solidFill>
                <a:latin typeface="宋体"/>
              </a:rPr>
              <a:t>罗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宋体"/>
              </a:rPr>
              <a:t>书籍——当代真正的大学——托马斯</a:t>
            </a:r>
            <a:r>
              <a:rPr b="1" lang="en-US" sz="2400" spc="-1" strike="noStrike">
                <a:solidFill>
                  <a:srgbClr val="9933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993300"/>
                </a:solidFill>
                <a:latin typeface="宋体"/>
              </a:rPr>
              <a:t>卡莱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5410080" y="228600"/>
            <a:ext cx="3413160" cy="487692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 txBox="1"/>
          <p:nvPr/>
        </p:nvSpPr>
        <p:spPr>
          <a:xfrm>
            <a:off x="609480" y="2057400"/>
            <a:ext cx="4114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周恩来：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为中华崛起而读书！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304920" y="106200"/>
            <a:ext cx="853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a38e3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fa38e3"/>
                </a:solidFill>
                <a:latin typeface="Arial"/>
              </a:rPr>
              <a:t>84</a:t>
            </a:r>
            <a:r>
              <a:rPr b="1" lang="zh-CN" sz="2400" spc="-1" strike="noStrike">
                <a:solidFill>
                  <a:srgbClr val="fa38e3"/>
                </a:solidFill>
                <a:latin typeface="Arial"/>
              </a:rPr>
              <a:t>年前，也就是</a:t>
            </a:r>
            <a:r>
              <a:rPr b="1" lang="zh-CN" sz="2400" spc="-1" strike="noStrike">
                <a:solidFill>
                  <a:srgbClr val="fa38e3"/>
                </a:solidFill>
                <a:latin typeface="Arial"/>
              </a:rPr>
              <a:t>1911</a:t>
            </a:r>
            <a:r>
              <a:rPr b="1" lang="zh-CN" sz="2400" spc="-1" strike="noStrike">
                <a:solidFill>
                  <a:srgbClr val="fa38e3"/>
                </a:solidFill>
                <a:latin typeface="Arial"/>
              </a:rPr>
              <a:t>年，在沈阳东关小学的教室里，老师问：“你们读书的目的是什么</a:t>
            </a:r>
            <a:r>
              <a:rPr b="1" lang="zh-CN" sz="2400" spc="-1" strike="noStrike">
                <a:solidFill>
                  <a:srgbClr val="fa38e3"/>
                </a:solidFill>
                <a:latin typeface="Arial"/>
              </a:rPr>
              <a:t>? ”</a:t>
            </a:r>
            <a:r>
              <a:rPr b="1" lang="zh-CN" sz="2400" spc="-1" strike="noStrike">
                <a:solidFill>
                  <a:srgbClr val="fa38e3"/>
                </a:solidFill>
                <a:latin typeface="Arial"/>
              </a:rPr>
              <a:t>有的同学回答是为了当官，有的是为了发财，也有的说为了光宗耀祖；年仅</a:t>
            </a:r>
            <a:r>
              <a:rPr b="1" lang="zh-CN" sz="2400" spc="-1" strike="noStrike">
                <a:solidFill>
                  <a:srgbClr val="fa38e3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fa38e3"/>
                </a:solidFill>
                <a:latin typeface="Arial"/>
              </a:rPr>
              <a:t>岁的周恩来回答的却是“为中华之崛起而读书”。—语惊人，掌声四起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a38e3"/>
                </a:solidFill>
                <a:latin typeface="Arial"/>
              </a:rPr>
              <a:t>　人各有志。千百年来，对为什么而读书，有许多不同的回答，电视连续剧《八月桂花香》中，胡雪严的父亲胡道宏，几十年寒窗苦读，捱到中举当官之日就中风而死；《儒林外史》中，吴敬梓笔下的范进，看到自己榜上有名竟当场发癫，在他们心中，“书中自有黄金屋，书中自有颜如玉”，“世上万般皆下品，唯有读书高”，于是，读书当官，成了他们心中的理想，苦苦的追求， 胡道宏、范进是那么的可笑，可悲而又可怜，相比之下，他们读书的理想是那么的渺小而短浅。那么，周恩来为什么会树立起“为中华之崛起而读书”这一崇高而远大的理想呢</a:t>
            </a:r>
            <a:r>
              <a:rPr b="1" lang="zh-CN" sz="2400" spc="-1" strike="noStrike">
                <a:solidFill>
                  <a:srgbClr val="fa38e3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a38e3"/>
                </a:solidFill>
                <a:latin typeface="Arial"/>
              </a:rPr>
              <a:t>　 我们都不会忘记，中国近代史上一页页屈辱的历史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a38e3"/>
                </a:solidFill>
                <a:latin typeface="Arial"/>
              </a:rPr>
              <a:t>　 鸦片战争的失败，《辛丑条约》的签定，山东半岛的侵占，东北三省的沦陷， “东亚病夫”的屈辱，“华人与狗不得入内”的牌子……这耳闻目睹的事实，—桩桩烙印在少年周恩来的心坎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7848360" cy="63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58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5616360" cy="64800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6342840" y="260280"/>
            <a:ext cx="13993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甘肃  冬天    满是冻疮的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985080" cy="616572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-455400" y="260280"/>
            <a:ext cx="164268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在田间劳动间隙看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067280" y="5805360"/>
            <a:ext cx="428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5000"/>
                    </a:srgbClr>
                  </a:outerShdw>
                </a:effectLst>
                <a:latin typeface="方正粗活意简体"/>
              </a:rPr>
              <a:t>如果你说苦，那他们呢？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5000"/>
                  </a:srgbClr>
                </a:outerShdw>
              </a:effectLst>
              <a:latin typeface="方正粗活意简体"/>
              <a:ea typeface="方正粗活意简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3900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1692360" y="566100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几个人共用的教科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2916360" y="549360"/>
            <a:ext cx="428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5000"/>
                    </a:srgbClr>
                  </a:outerShdw>
                </a:effectLst>
                <a:latin typeface="方正粗活意简体"/>
              </a:rPr>
              <a:t>如果你说苦，那他们呢？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5000"/>
                  </a:srgbClr>
                </a:outerShdw>
              </a:effectLst>
              <a:latin typeface="方正粗活意简体"/>
              <a:ea typeface="方正粗活意简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096240" cy="41338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2057400" y="304920"/>
            <a:ext cx="6705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方正粗活意简体"/>
              </a:rPr>
              <a:t>如果你说苦，那他们呢？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方正粗活意简体"/>
              <a:ea typeface="方正粗活意简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14:07:53Z</dcterms:created>
  <dc:creator/>
  <dc:description/>
  <dc:language>en-US</dc:language>
  <cp:lastModifiedBy>微软用户</cp:lastModifiedBy>
  <dcterms:modified xsi:type="dcterms:W3CDTF">2013-09-29T15:05:2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  <property fmtid="{D5CDD505-2E9C-101B-9397-08002B2CF9AE}" pid="3" name="Version">
    <vt:r8>1</vt:r8>
  </property>
</Properties>
</file>