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7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32.jpeg" ContentType="image/jpeg"/>
  <Override PartName="/ppt/media/image34.jpeg" ContentType="image/jpeg"/>
  <Override PartName="/ppt/media/image44.gif" ContentType="image/gif"/>
  <Override PartName="/ppt/media/image20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8.gif" ContentType="image/gif"/>
  <Override PartName="/ppt/media/image18.jpeg" ContentType="image/jpeg"/>
  <Override PartName="/ppt/media/image26.jpeg" ContentType="image/jpeg"/>
  <Override PartName="/ppt/media/image42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4.gif" ContentType="image/gif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A27-462C-4E26-B081-22A5EBDE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BE0-F258-4F51-8359-5398E7B3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794-B61D-4294-9E13-817EA32A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879-C1F2-42B9-9F22-C287CF9F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F65-0DBF-484B-936B-089194AD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D75-9FFC-4D5D-A431-13CE0D70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06D-F32C-45B8-A6DF-FBC075E9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694-C0D2-4221-80EE-8F0666E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B4A-8141-4A99-9CAD-2AB983F3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4D1-E528-427B-BD67-3C966B43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EE7-2861-4DC1-A05C-3901BCD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1F6-1F35-4D3D-B54D-0C91FA1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544C-05A1-4FB9-A8BF-D1A2D9DD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29"/>
          <p:cNvSpPr txBox="1"/>
          <p:nvPr/>
        </p:nvSpPr>
        <p:spPr>
          <a:xfrm>
            <a:off x="3203640" y="0"/>
            <a:ext cx="331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爱您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Text Box 1030"/>
          <p:cNvSpPr/>
          <p:nvPr/>
        </p:nvSpPr>
        <p:spPr>
          <a:xfrm>
            <a:off x="468360" y="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ordArt 1033" descr=""/>
          <p:cNvPicPr/>
          <p:nvPr/>
        </p:nvPicPr>
        <p:blipFill>
          <a:blip r:embed="rId2"/>
          <a:stretch/>
        </p:blipFill>
        <p:spPr>
          <a:xfrm>
            <a:off x="3578400" y="2481120"/>
            <a:ext cx="5230800" cy="90828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1034" descr=""/>
          <p:cNvPicPr/>
          <p:nvPr/>
        </p:nvPicPr>
        <p:blipFill>
          <a:blip r:embed="rId3"/>
          <a:stretch/>
        </p:blipFill>
        <p:spPr>
          <a:xfrm>
            <a:off x="396720" y="1762200"/>
            <a:ext cx="49802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学生档案\主题班会\20070221121807515.jpg"/>
          <p:cNvPicPr/>
          <p:nvPr/>
        </p:nvPicPr>
        <p:blipFill>
          <a:blip r:embed="rId1"/>
          <a:stretch/>
        </p:blipFill>
        <p:spPr>
          <a:xfrm>
            <a:off x="1397160" y="888840"/>
            <a:ext cx="634968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学生档案\主题班会\shenliu.jpg"/>
          <p:cNvPicPr/>
          <p:nvPr/>
        </p:nvPicPr>
        <p:blipFill>
          <a:blip r:embed="rId1"/>
          <a:stretch/>
        </p:blipFill>
        <p:spPr>
          <a:xfrm>
            <a:off x="1397160" y="1143000"/>
            <a:ext cx="6349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学生档案\主题班会\shenliu2.jpg"/>
          <p:cNvPicPr/>
          <p:nvPr/>
        </p:nvPicPr>
        <p:blipFill>
          <a:blip r:embed="rId1"/>
          <a:stretch/>
        </p:blipFill>
        <p:spPr>
          <a:xfrm>
            <a:off x="1714680" y="1066680"/>
            <a:ext cx="57150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:\学生档案\主题班会\feixingyuan.jpg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学生档案\主题班会\北京.jpg"/>
          <p:cNvPicPr/>
          <p:nvPr/>
        </p:nvPicPr>
        <p:blipFill>
          <a:blip r:embed="rId1"/>
          <a:stretch/>
        </p:blipFill>
        <p:spPr>
          <a:xfrm>
            <a:off x="3257640" y="2508120"/>
            <a:ext cx="26287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学生档案\主题班会\长城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学生档案\主题班会\北京2.jpg"/>
          <p:cNvPicPr/>
          <p:nvPr/>
        </p:nvPicPr>
        <p:blipFill>
          <a:blip r:embed="rId1"/>
          <a:stretch/>
        </p:blipFill>
        <p:spPr>
          <a:xfrm>
            <a:off x="2571840" y="1971720"/>
            <a:ext cx="400032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学生档案\主题班会\tiantan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:\学生档案\主题班会\aoyunbiao.jpg"/>
          <p:cNvPicPr/>
          <p:nvPr/>
        </p:nvPicPr>
        <p:blipFill>
          <a:blip r:embed="rId1"/>
          <a:stretch/>
        </p:blipFill>
        <p:spPr>
          <a:xfrm>
            <a:off x="2286000" y="1274760"/>
            <a:ext cx="4572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学生档案\主题班会\fuwua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F:\学生档案\主题班会\队旗1.gif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457200" y="304920"/>
            <a:ext cx="597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是共产主义接班人，继承革命先辈的光荣传统，爱祖国，爱人民，鲜艳的红领巾飘扬在前胸。不怕困难，不怕敌人，顽强学习，坚决斗争。向着胜利勇敢前进，向着胜利勇敢前进，前进，向着胜利勇敢前进，我们是共产主义接班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是共产主义接班人，沿着革命先辈的光荣路程，爱祖国，爱人民，少先队是我们骄傲的名称。时刻准备，建立功勋，要把敌人，消灭干净。为着胜利勇敢前进，为着胜利勇敢前进，前进，为着胜利勇敢前进，我们是共产主义接班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F:\学生档案\主题班会\fuwua.gif"/>
          <p:cNvPicPr/>
          <p:nvPr/>
        </p:nvPicPr>
        <p:blipFill>
          <a:blip r:embed="rId1"/>
          <a:stretch/>
        </p:blipFill>
        <p:spPr>
          <a:xfrm>
            <a:off x="1428840" y="1868400"/>
            <a:ext cx="628632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学生档案\主题班会\niaochao.jpg"/>
          <p:cNvPicPr/>
          <p:nvPr/>
        </p:nvPicPr>
        <p:blipFill>
          <a:blip r:embed="rId1"/>
          <a:stretch/>
        </p:blipFill>
        <p:spPr>
          <a:xfrm>
            <a:off x="2057400" y="1450800"/>
            <a:ext cx="50292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0920" y="260280"/>
            <a:ext cx="201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嘉峪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 rot="5400000">
            <a:off x="-483840" y="4883760"/>
            <a:ext cx="21891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黄河壶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WordArt 6" descr=""/>
          <p:cNvPicPr/>
          <p:nvPr/>
        </p:nvPicPr>
        <p:blipFill>
          <a:blip r:embed="rId2"/>
          <a:stretch/>
        </p:blipFill>
        <p:spPr>
          <a:xfrm>
            <a:off x="-652320" y="2487600"/>
            <a:ext cx="87534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5" descr=""/>
          <p:cNvPicPr/>
          <p:nvPr/>
        </p:nvPicPr>
        <p:blipFill>
          <a:blip r:embed="rId2"/>
          <a:stretch/>
        </p:blipFill>
        <p:spPr>
          <a:xfrm>
            <a:off x="2901960" y="2475000"/>
            <a:ext cx="5668920" cy="116352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340000" y="333360"/>
            <a:ext cx="658800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面请继续欣赏快板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324000" y="26028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祖国知识知多少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250920" y="1557360"/>
            <a:ext cx="85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面让我们来一个知识大比拼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826920" y="3500280"/>
            <a:ext cx="698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答对问题，有奖品哦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03280" y="2492280"/>
            <a:ext cx="8640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的国旗是什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星红旗代表的意义是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旗上的红色和黄色有什么象征意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的国徽是什么样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的国歌名称是什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146_200612200117413_thumb"/>
          <p:cNvPicPr/>
          <p:nvPr/>
        </p:nvPicPr>
        <p:blipFill>
          <a:blip r:embed="rId1"/>
          <a:stretch/>
        </p:blipFill>
        <p:spPr>
          <a:xfrm>
            <a:off x="3995640" y="0"/>
            <a:ext cx="194472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00473118218658"/>
          <p:cNvPicPr/>
          <p:nvPr/>
        </p:nvPicPr>
        <p:blipFill>
          <a:blip r:embed="rId2"/>
          <a:stretch/>
        </p:blipFill>
        <p:spPr>
          <a:xfrm>
            <a:off x="0" y="0"/>
            <a:ext cx="349236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dbf8"/>
            </a:gs>
            <a:gs pos="100000">
              <a:srgbClr val="a8cd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627280" y="260280"/>
            <a:ext cx="6732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兵书是春秋孙武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数最多的字典是清朝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报纸是西汉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传记文学是西汉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优秀诗歌总集是春秋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记载时间最长的历史巨著是孔子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世界最大的皇宫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高的宫殿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长的石窟画廊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大的内陆盆地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立体地图是宋代沈括绘制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大的广场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 rot="5400000">
            <a:off x="-1549440" y="278136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中国的世界之最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755640" y="2060640"/>
            <a:ext cx="7848720" cy="23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面也该轻松一下了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5" descr=""/>
          <p:cNvPicPr/>
          <p:nvPr/>
        </p:nvPicPr>
        <p:blipFill>
          <a:blip r:embed="rId1"/>
          <a:stretch/>
        </p:blipFill>
        <p:spPr>
          <a:xfrm>
            <a:off x="-12600" y="324000"/>
            <a:ext cx="9192960" cy="199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可"/>
          <p:cNvPicPr/>
          <p:nvPr/>
        </p:nvPicPr>
        <p:blipFill>
          <a:blip r:embed="rId2"/>
          <a:stretch/>
        </p:blipFill>
        <p:spPr>
          <a:xfrm>
            <a:off x="1187280" y="2857680"/>
            <a:ext cx="6840720" cy="400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3110665070-20070904115321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187280" y="4508640"/>
            <a:ext cx="65674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魔术表演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0" y="1557360"/>
            <a:ext cx="7201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欣赏许颖仪同学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5" name="Picture 7" descr="5555545555454"/>
          <p:cNvPicPr/>
          <p:nvPr/>
        </p:nvPicPr>
        <p:blipFill>
          <a:blip r:embed="rId3"/>
          <a:stretch/>
        </p:blipFill>
        <p:spPr>
          <a:xfrm>
            <a:off x="2268360" y="333360"/>
            <a:ext cx="2086200" cy="1495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gif0405_038"/>
          <p:cNvPicPr/>
          <p:nvPr/>
        </p:nvPicPr>
        <p:blipFill>
          <a:blip r:embed="rId4"/>
          <a:stretch/>
        </p:blipFill>
        <p:spPr>
          <a:xfrm>
            <a:off x="0" y="0"/>
            <a:ext cx="2409840" cy="24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353"/>
          <p:cNvPicPr/>
          <p:nvPr/>
        </p:nvPicPr>
        <p:blipFill>
          <a:blip r:embed="rId5"/>
          <a:stretch/>
        </p:blipFill>
        <p:spPr>
          <a:xfrm>
            <a:off x="7564320" y="4838760"/>
            <a:ext cx="1579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ordArt 6" descr=""/>
          <p:cNvPicPr/>
          <p:nvPr/>
        </p:nvPicPr>
        <p:blipFill>
          <a:blip r:embed="rId2"/>
          <a:stretch/>
        </p:blipFill>
        <p:spPr>
          <a:xfrm>
            <a:off x="3340080" y="4638600"/>
            <a:ext cx="5230800" cy="180504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324000" y="0"/>
            <a:ext cx="8577000" cy="50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请听梁明慧同学朗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献给祖国妈妈的一首诗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6"/>
          <p:cNvSpPr txBox="1"/>
          <p:nvPr/>
        </p:nvSpPr>
        <p:spPr>
          <a:xfrm>
            <a:off x="2916360" y="4437000"/>
            <a:ext cx="468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拜拜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250920" y="2205000"/>
            <a:ext cx="86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今天我们的队会到此结束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" name="歌唱祖国.mp3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7" descr=""/>
          <p:cNvPicPr/>
          <p:nvPr/>
        </p:nvPicPr>
        <p:blipFill>
          <a:blip r:embed="rId2"/>
          <a:stretch/>
        </p:blipFill>
        <p:spPr>
          <a:xfrm>
            <a:off x="1030320" y="542880"/>
            <a:ext cx="70279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539640" y="2349360"/>
            <a:ext cx="7201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长江长，黄河黄，长江长，黄河黄，　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两条巨龙飞东方，西有牛羊东有粮，　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南一北奔腾急，中华民族摇篮地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看谁先到太平洋，文明古国四海扬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2" name="WordArt 6" descr=""/>
          <p:cNvPicPr/>
          <p:nvPr/>
        </p:nvPicPr>
        <p:blipFill>
          <a:blip r:embed="rId2"/>
          <a:stretch/>
        </p:blipFill>
        <p:spPr>
          <a:xfrm>
            <a:off x="1676520" y="463680"/>
            <a:ext cx="50353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我家在中国.mp3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 rot="5400000">
            <a:off x="7440120" y="5025960"/>
            <a:ext cx="1922760" cy="1033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黄河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:\学生档案\主题班会\lushan.jpg"/>
          <p:cNvPicPr/>
          <p:nvPr/>
        </p:nvPicPr>
        <p:blipFill>
          <a:blip r:embed="rId1"/>
          <a:stretch/>
        </p:blipFill>
        <p:spPr>
          <a:xfrm>
            <a:off x="838080" y="609480"/>
            <a:ext cx="774720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学生档案\主题班会\huanghe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19:18Z</dcterms:created>
  <dc:creator>user</dc:creator>
  <dc:description/>
  <dc:language>en-US</dc:language>
  <cp:lastModifiedBy>fyzx</cp:lastModifiedBy>
  <dcterms:modified xsi:type="dcterms:W3CDTF">2012-12-12T03:40:27Z</dcterms:modified>
  <cp:revision>49</cp:revision>
  <dc:subject/>
  <dc:title>幻灯片 1</dc:title>
</cp:coreProperties>
</file>