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08B2-3DC9-4FC2-BD7F-97CCB915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8F07-FEC3-4396-9586-E04D3786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BF1D-DCC4-4B12-8D0B-46BE6E22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9A01-0009-42CB-937C-D9AE2F9E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4300-A9DA-4954-8D7C-82ED5025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6AF0-7720-4112-9C5C-CECF32BB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EFB-6D42-4240-8A42-4C1CA637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A145-C243-444E-9F77-D4E40123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A37-B8B6-49E6-899A-6823FA06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5811-C3CB-40E6-B5BE-E8D419FF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5995-7B63-4C42-987B-9D7AC7FD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320-3F9E-4C56-9B4F-4EDAC170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341D-2A12-48FF-82C2-F7B583DC64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 学 生 健 康 知 识 讲 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  三 讲     饮 食  卫  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怎样注意交通安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过马路两边看，不能闷头往前闯。过街要走横道线，车头车尾不乱窜。红灯停，绿灯行，黄灯眨眼提醒你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户外活动和课间操有什么好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呼吸室外新鲜空气，解除疲劳，使大脑得到二定的休息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痰里含有很多细菌和病毒，能传播哪些疾病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能传播白堠、脑膜炎、麻疹、感冒、肺结核等多种疾病，所以，不能随地吐痰。有了痰吐在痰盂里或吐到废纸里裹起来，扔到垃圾箱里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  三 讲     饮 食  卫  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怎样防治腮腺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流行的季节里不去或少去公共场所，外出时一定要戴口罩；②不和患病者接触，更不能吃他们的东西和玩他们的玩具；③患了腮腺炎一定要去医院诊治，安心卧床休息，多喝 开水，吃容易消化的食物。一般经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—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，病就会好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饮水要注意什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不能喝生水，要喝只能喝开水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不用公共杯，茶杯自己来准备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剧烈运动后，不要立即就喝水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  三 讲     饮 食  卫  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皮肤有什么作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四勤”是什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皮肤有保护身体的作用。皮肤还能用排汗的方法调节体温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“四勤”即勤洗头、勤理发、勤洗澡、勤换衣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讲  健 康 知 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读写时，眼离书本的距离应该一尺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要保护好牙齿一定要做到早晚刷牙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看电视时，座位与电视机的距离至少二米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预防蛔虫病和蛲虫病要做到注意饮食卫生，不喝生水，生吃瓜果要洗净削皮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心脏在人体的左胸部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肺在人体的胸腔里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预防流感主要是在流感流行期间尽量少到公共场所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预防肠道传染病应防止“病从口人”；养成良好的卫生习惯，饭前便后要洗手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讲  健 康 知 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预防甲型肝炎应做到：注意饮食卫生；喝开水；饭前便后要洗 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老鼠主要传播流行性出血热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苍蝇能传播肠道传染病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预防贫血要多吃动物肝脏．海带等含铁量高的食物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吸烟可致肺癌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骨头．虾皮．豆制品的含钙．磷量较多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被狗咬后一定要及时到防疫部门处理伤口和注射狂犬疫苗。 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讲     健 康 与 卫 生 知 识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人体分为几部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人体分为头、颈、躯干和四肢四个部分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正确的坐、立、走、卧姿势是怎样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坐如钟，立如松，卧如弓，走路抬头要挺胸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怎样保持手的卫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饭前和便前便后要用清洁的水洗手，要勤剪指甲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饮水卫生应注意哪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不喝生水，不用公共杯喝水，剧烈运动后不能立即大量饮水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怎样做到读写姿势正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胸离桌沿一拳，眼离书本一尺，手指离笔尖一寸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讲     健 康 与 卫 生 知 识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609480"/>
            <a:ext cx="6477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预防近视要做到哪“六个不”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不走路看书，不乘车看书，不躺在床上看书，不在暗弱的光线下看书写字，不在强光下面看书写字。不歪着头看书写字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讲究个人卫生要做到哪“五勤”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勤洗头，勤理发，勤剪指甲，勤洗澡，勤换衣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讲究公共卫生要注意哪两点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一不随地吐痰，二不乱扔杂物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怎样保护牙齿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早晚要刷牙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饭后要漱口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保持口腔清洁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怎样正确刷牙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刷上牙时，刷毛由上向下刷；刷下牙时，刷毛由下向上刷；刷牙的内侧，刷毛在内侧由下向上作弧形旋转；刷牙的咬合面时，刷毛前后推拉刷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讲     健 康 与 卫 生 知 识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为什么要进行预防接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预防接种能使机体产生对细菌、病毒的免疫力，预防多种传染病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预防病从口人，应该做到哪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饭前便后洗手，不喝生水，生吃瓜果洗净，食物防苍蝇叮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咳嗽、打喷嚏时为什么用手帕捂住鼻和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咳嗽、打喷嚏时用手帕捂住鼻和口，不让飞沫四处闯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看电视要讲究卫生，应该怎样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电视室内亮一盏小灯，看电视时间不超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小时，不要边看电视边吃饭，电视机与人距离不小于电视机屏幕对角线长度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—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倍，不要躺在床上看电视，看完电视洗个脸再睡觉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  三 讲     饮 食  卫  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怎样养成良好的饮食习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日三餐要吃好，按时定量很必要，早餐吃得好，中餐要吃饱，晚餐精而少；不偏食，不挑食，合理安排很重要；一日三餐有规律，身体强健发育好。吃饭时要做到；细细嚼，慢慢咽，不说笑，不打闹，还要做到吃饭不用汤、水泡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换牙时应注意什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岁时，乳牙逐渐脱落，恒牙陆续长出。恒牙是人生的永久牙，换牙时要做到不用刚长出的恒牙咬硬东西；不咬手指，不用舌头舔刚长出的恒牙；饭后漱口，早晚一定要刷牙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  三 讲     饮 食  卫  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怎样预防龋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不偏食，多吃豆类食品、鱼虾和蔬菜食物；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②讲卫生，养成早晚刷牙、饭后漱口的好习惯；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③睡觉前不吃零食，不喝酸、甜的饮料；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④定期做口腔检杳，发现龋齿，及早治疗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怎样预防蛔虫、蛲虫病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小朋友，要牢记，不留指甲不玩泥；吃饭前，大便后。双手一定要洗净。个人卫生很重要，饮食卫生莫大意。喝开水，吃热菜，瓜果吃前要冲洗，沸水烫，或削皮，不能粗心和大意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  三 讲     饮 食  卫  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暴饮暴食的危害有哪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暴饮暴食会使胃肠等消化器官负担过重；受到损伤，减弱肠胃的消化功能，引起肠胃疾病，影响身体健康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看电视应注意哪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眼睛与电视有一定的距离，距离不小于电视机屏幕对角线长度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—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倍。看电视时间不、能过长，一般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时左右，看电视时房间里最好留有一盏小灯，看完电视后用温水洗洗脸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5-22T13:03:5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