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1BE-BDB9-405B-9512-5407855C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0CF-5462-4557-B849-19135EF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6FE-BA68-42C2-885A-87BDC43C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A89-63DE-40C9-931A-D1AAEC5F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D3DF-8A39-4936-AB66-EF5F95A3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83CF-4963-4F76-A8B4-639CBD0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0483-3F35-44AA-BDBD-668E4403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2FE-B775-42D6-9704-F3D1EEC2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5AA7-CA72-4B17-9253-2543E0E5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5EE9-297F-4C3B-85DC-B731C8E1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DD0-DAB9-47A5-B8A2-E50DDE7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C6F-7418-4A66-9E5D-91DE97EB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00B-C30F-4C3D-BFD1-5CA8717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8311-83DF-480D-B9C2-ED7004DE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C654-7780-42C5-AE8B-3D98651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3EF8-59E0-42CF-B22C-1D438E35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80D2-AF17-488A-95BD-2F111A72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16D8-DD85-418A-B03D-85025BAE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1B9B-0E67-41EE-8A9C-5AAA37B2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94E0-C3BA-470C-ABA5-310932C6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6B7B-BFF8-4B98-8C6B-44EB5CA4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7382-8BFC-4E62-B91E-0AE530D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AF7-F574-4D0E-84F7-E3908E7C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E06C-0B78-4C78-8CC1-11E5244C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3CFD-5C99-4D52-AF50-718EA51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181D-9D57-4F33-B545-EEB14F13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ECDA-02F4-4B3E-8A4B-EEF4CED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011A-4319-4970-BF33-862BB9A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B3A8-DDCB-4245-A6EF-891B31DE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C75C-A701-4885-9830-BB1C17A4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06F-3958-4CFE-AAA6-F7FBBF7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293-F8B1-4F47-8459-27BB12E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A73-4EEE-4AD2-B573-2DD2FAF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8CB-FB92-4F5E-A479-FAA9E5B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449-96D7-49E0-A658-44F5CEA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3B0-8502-4933-BCAF-90DB27C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4479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E1B-1C8A-4089-BEB7-4B88F43959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2EA6-9F9A-4ED3-B306-674D24437C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 flipV="1" rot="10800000">
            <a:off x="5789520" y="5560920"/>
            <a:ext cx="28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139B-52A9-4B87-A12E-A40D385A80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 flipV="1" rot="10800000">
            <a:off x="5789520" y="5560920"/>
            <a:ext cx="28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28gl.com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法制安全教育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79400" y="838080"/>
            <a:ext cx="71629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法制安全在我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7" name="Rectangle 3" descr=""/>
          <p:cNvPicPr/>
          <p:nvPr/>
        </p:nvPicPr>
        <p:blipFill>
          <a:blip r:embed="rId2"/>
          <a:stretch/>
        </p:blipFill>
        <p:spPr>
          <a:xfrm>
            <a:off x="2209680" y="380880"/>
            <a:ext cx="2200320" cy="195444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3" descr=""/>
          <p:cNvPicPr/>
          <p:nvPr/>
        </p:nvPicPr>
        <p:blipFill>
          <a:blip r:embed="rId3"/>
          <a:stretch/>
        </p:blipFill>
        <p:spPr>
          <a:xfrm>
            <a:off x="5943600" y="457200"/>
            <a:ext cx="2085840" cy="2046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715000" y="266688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禁止机动车通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0" name="Rectangle 3" descr=""/>
          <p:cNvPicPr/>
          <p:nvPr/>
        </p:nvPicPr>
        <p:blipFill>
          <a:blip r:embed="rId4"/>
          <a:stretch/>
        </p:blipFill>
        <p:spPr>
          <a:xfrm>
            <a:off x="2514600" y="358128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666880" y="57150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禁止直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2" name="Rectangle 3" descr=""/>
          <p:cNvPicPr/>
          <p:nvPr/>
        </p:nvPicPr>
        <p:blipFill>
          <a:blip r:embed="rId5"/>
          <a:stretch/>
        </p:blipFill>
        <p:spPr>
          <a:xfrm>
            <a:off x="6019920" y="3581280"/>
            <a:ext cx="2112840" cy="1828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248520" y="57150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禁止鸣笛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0" y="266688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禁止驶入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6" name="Rectangle 3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2514600" cy="210024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3" descr=""/>
          <p:cNvPicPr/>
          <p:nvPr/>
        </p:nvPicPr>
        <p:blipFill>
          <a:blip r:embed="rId3"/>
          <a:stretch/>
        </p:blipFill>
        <p:spPr>
          <a:xfrm>
            <a:off x="5791320" y="685800"/>
            <a:ext cx="2359080" cy="212076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3" descr=""/>
          <p:cNvPicPr/>
          <p:nvPr/>
        </p:nvPicPr>
        <p:blipFill>
          <a:blip r:embed="rId4"/>
          <a:stretch/>
        </p:blipFill>
        <p:spPr>
          <a:xfrm>
            <a:off x="6095880" y="3886200"/>
            <a:ext cx="2397240" cy="210168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3" descr=""/>
          <p:cNvPicPr/>
          <p:nvPr/>
        </p:nvPicPr>
        <p:blipFill>
          <a:blip r:embed="rId5"/>
          <a:stretch/>
        </p:blipFill>
        <p:spPr>
          <a:xfrm>
            <a:off x="2286000" y="3886200"/>
            <a:ext cx="2362320" cy="2093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2209680" y="304812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当心儿童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19920" y="304812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小心有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438280" y="6172200"/>
            <a:ext cx="221004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禁止饮用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小心吊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75" name="Rectangle 3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2057400" cy="510552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3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1873440" cy="3932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657600" y="220968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禁止吸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57600" y="480060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禁止火种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781680" y="5105520"/>
            <a:ext cx="198144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宋体"/>
              </a:rPr>
              <a:t>紧急出口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2"/>
          <a:stretch/>
        </p:blipFill>
        <p:spPr>
          <a:xfrm>
            <a:off x="1440" y="1440"/>
            <a:ext cx="921888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2"/>
          <a:stretch/>
        </p:blipFill>
        <p:spPr>
          <a:xfrm>
            <a:off x="0" y="-61920"/>
            <a:ext cx="9218520" cy="6919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905120" y="3048120"/>
            <a:ext cx="3371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2"/>
          <a:stretch/>
        </p:blipFill>
        <p:spPr>
          <a:xfrm>
            <a:off x="3240" y="9360"/>
            <a:ext cx="9218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8" name="Rectangle 3" descr=""/>
          <p:cNvPicPr/>
          <p:nvPr/>
        </p:nvPicPr>
        <p:blipFill>
          <a:blip r:embed="rId2"/>
          <a:stretch/>
        </p:blipFill>
        <p:spPr>
          <a:xfrm>
            <a:off x="3240" y="-17640"/>
            <a:ext cx="9229680" cy="69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2"/>
          <a:stretch/>
        </p:blipFill>
        <p:spPr>
          <a:xfrm>
            <a:off x="3240" y="-17640"/>
            <a:ext cx="9229680" cy="69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2"/>
          <a:stretch/>
        </p:blipFill>
        <p:spPr>
          <a:xfrm>
            <a:off x="1440" y="0"/>
            <a:ext cx="921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基本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40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姓      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性      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年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      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毕业院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子信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地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267080"/>
            <a:ext cx="404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5840" y="228600"/>
            <a:ext cx="38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95680" y="8377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是什么标志啊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95680" y="41148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是什么标志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2590920" cy="2262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752480" y="3733920"/>
            <a:ext cx="2590920" cy="2141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0" y="205740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当心有毒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502920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注意安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720" y="114264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学生要记牢，安全事很重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室内不打闹，电线类你别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走廊里勿玩耍，不乱扔不吵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下楼别拥挤，大让小要懂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集合时莫推挤，快静齐记心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陌生人不要理，遇坏人报案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火灾一一九，有案情一一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安全歌人人记，都平安大家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4" name="Rectangle 3" descr=""/>
          <p:cNvPicPr/>
          <p:nvPr/>
        </p:nvPicPr>
        <p:blipFill>
          <a:blip r:embed="rId2"/>
          <a:stretch/>
        </p:blipFill>
        <p:spPr>
          <a:xfrm>
            <a:off x="3240" y="-23760"/>
            <a:ext cx="92232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经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05.5-2008.6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具体负责某事，为公司创造了某些效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03.5-2005.5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具体负责某事，工作中表现如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00.5-2003.5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公司中担负某种职责，学到了某种经验，体会到了公司的企业文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2203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2"/>
          <a:stretch/>
        </p:blipFill>
        <p:spPr>
          <a:xfrm>
            <a:off x="1440" y="0"/>
            <a:ext cx="92188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2"/>
          <a:stretch/>
        </p:blipFill>
        <p:spPr>
          <a:xfrm>
            <a:off x="324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基本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40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姓      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性      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年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      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毕业院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子信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地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4267080"/>
            <a:ext cx="404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5840" y="228600"/>
            <a:ext cx="38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育培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40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3.9-2003.12   x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格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获得某某证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96.9-2000.6   x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ctangle 3" descr=""/>
          <p:cNvPicPr/>
          <p:nvPr/>
        </p:nvPicPr>
        <p:blipFill>
          <a:blip r:embed="rId2"/>
          <a:stretch/>
        </p:blipFill>
        <p:spPr>
          <a:xfrm>
            <a:off x="1440" y="1440"/>
            <a:ext cx="921888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自我评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40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的特长，我的优点，我擅长的职业领域，以及我的处事风格，等等；（拣好的说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ctangle 3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3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2:16:19Z</dcterms:created>
  <dc:creator/>
  <dc:description/>
  <cp:keywords/>
  <dc:language>en-US</dc:language>
  <cp:lastModifiedBy>USER</cp:lastModifiedBy>
  <cp:lastPrinted>1899-12-30T00:00:00Z</cp:lastPrinted>
  <dcterms:modified xsi:type="dcterms:W3CDTF">2013-02-27T07:38:09Z</dcterms:modified>
  <cp:revision>49</cp:revision>
  <dc:subject/>
  <dc:title>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