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1D2-6AB0-4EC1-B4F6-A1AE3C08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638-CB90-4C3D-B0E6-4ED160E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208-DD9A-45D5-9060-AF944D4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F56-F2F1-432F-A98D-4F806959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4E59-A434-4525-8580-61F0BFFB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C4C2-AF18-4906-B5D7-3C753D4B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7A48-5B84-4B2D-A4DD-84C3761D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2A92-F658-4FBF-9DCD-84DD5DB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AEB0-E6A1-4A30-B94E-C3DCD32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E80F-6FC4-4EE9-B47D-16DA90CE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366-100A-486B-B471-D7A29AE2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C1D-E87D-4E86-B353-8AB4C405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4A87-ECAE-4D71-AA99-29DEA42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7085-148E-4598-8210-3FA6A594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21A8-D3A8-43A5-83F9-AAC2349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8480-2917-4BB9-AAC5-80B038B7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7B9A-1C65-4379-82D0-E7D89B8C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55B-36A2-426B-B45E-0AD7AD0D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B5-1CF9-4560-8EE5-BD26E969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425-9786-46EB-A7F0-1F6BCD6A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E06-3C82-437E-B0EE-4DEDAC6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B7A-799E-4E24-B8DB-E1E4D21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16F-1D70-417E-B99F-B420AE2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CE5-EC32-4BA8-8D00-608B6493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D79E-FC5B-4A8D-9902-FC89E18728B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B213-C00A-4B07-AA0B-CD2C6ED0279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95480" y="2008080"/>
            <a:ext cx="7724520" cy="2357640"/>
            <a:chOff x="1095480" y="2008080"/>
            <a:chExt cx="7724520" cy="2357640"/>
          </a:xfrm>
        </p:grpSpPr>
        <p:sp>
          <p:nvSpPr>
            <p:cNvPr id="96" name=""/>
            <p:cNvSpPr/>
            <p:nvPr/>
          </p:nvSpPr>
          <p:spPr>
            <a:xfrm>
              <a:off x="1095480" y="2008080"/>
              <a:ext cx="7724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1.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我国交通标志分为四种：禁止标志用            ；警告标志用               ；指示标志用              ；提示标志用        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.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6360" y="321300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0920" y="371628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0920" y="4365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32720" y="4437000"/>
            <a:ext cx="158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365720"/>
            <a:ext cx="158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628640"/>
            <a:ext cx="707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我国交通标志分为四种：禁止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警告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黄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指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蓝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提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8360" y="1406520"/>
            <a:ext cx="8085240" cy="3606840"/>
            <a:chOff x="468360" y="1406520"/>
            <a:chExt cx="8085240" cy="3606840"/>
          </a:xfrm>
        </p:grpSpPr>
        <p:sp>
          <p:nvSpPr>
            <p:cNvPr id="106" name=""/>
            <p:cNvSpPr/>
            <p:nvPr/>
          </p:nvSpPr>
          <p:spPr>
            <a:xfrm>
              <a:off x="468360" y="1406520"/>
              <a:ext cx="808524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(2)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行人横过有人行横道灯的人行横道时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须遵守          的规定。          ．准许行人通过人行横道线；     ，不准行人进入人行横道，但已进入人行横道的，可以继续通行；     ，不准行人进入人行横道。</a:t>
              </a:r>
              <a:r>
                <a:rPr b="0" lang="zh-CN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84360" y="3141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1640" y="314172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08720" y="386064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8720" y="501336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406520"/>
            <a:ext cx="8085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行人横过有人行横道灯的人行横道时 须遵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人行横道灯信号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规定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．准许行人通过人行横道线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闪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，但已进入人行横道的，可以继续通行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76360" y="1773360"/>
            <a:ext cx="6932520" cy="3311280"/>
            <a:chOff x="1476360" y="1773360"/>
            <a:chExt cx="6932520" cy="3311280"/>
          </a:xfrm>
        </p:grpSpPr>
        <p:sp>
          <p:nvSpPr>
            <p:cNvPr id="115" name=""/>
            <p:cNvSpPr/>
            <p:nvPr/>
          </p:nvSpPr>
          <p:spPr>
            <a:xfrm>
              <a:off x="1476360" y="1773360"/>
              <a:ext cx="69325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3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《道路交通管理条例》第六条规定：驾驶车辆，赶、骑牲畜必须遵守靠        通行的原则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4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不满      岁的少年儿童不宜骑自行车</a:t>
              </a:r>
              <a:r>
                <a:rPr b="0" lang="zh-CN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716280"/>
              <a:ext cx="936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084640"/>
              <a:ext cx="936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76360" y="1773360"/>
            <a:ext cx="6932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《道路交通管理条例》第六条规定：驾驶车辆，赶、骑牲畜必须遵守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右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通行的原则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不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的少年儿童不宜骑自行车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284720" y="1844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交通肇事电话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65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36720" y="429264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063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335480" y="2060640"/>
            <a:ext cx="419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电话报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35733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8850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092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332000" y="1700280"/>
            <a:ext cx="6769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交通图标大家认一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472360" cy="54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35120" y="5738760"/>
            <a:ext cx="347688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禁止行人通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537080" cy="4471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32760" y="508464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车辆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时或长时停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619280" y="519120"/>
            <a:ext cx="4608360" cy="454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71280" y="525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驶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46240" y="4946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限制速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01960" y="5667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35280" y="1393920"/>
            <a:ext cx="4681440" cy="3481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95800" y="5595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非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9640" y="1773360"/>
            <a:ext cx="35067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说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836640"/>
            <a:ext cx="815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行车行驶“七不准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弯时须减速慢行，前后注意，伸手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突然猛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超越前车时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被超车的正常行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陡坡，横过四条以上机动车道或途中车闸失效时，须下车推行。下车前须伸手上下摆动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后面的车辆行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双手不准离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攀扶其他车辆或手中持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牵引车辆或被其他车辆牵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扶身并行，互相追逐或曲折竞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行车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人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54160"/>
            <a:ext cx="852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人行走的安全区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有人行道的道路上，除道路施工不能通行外，行人必须在人行道上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没有人行道的道路上，要靠右侧的路边行走。按道路设计标准规定，一人通行道路所需活动空间的宽度：行人徒手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，手提负荷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。行人在路边没有遇到不利的地形、地物时，在上述活动空间内行走的，应认为是靠路边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步行街上，行人可在道路中央行走，但有时步行街还有车辆通行，所以在步行街上行走也要注意来往车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速道路、汽车专用道路禁止行人进入。其他禁止行人进入的道路上，设有禁止行人通行标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768760" y="1233360"/>
            <a:ext cx="36050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403280" y="2924280"/>
            <a:ext cx="619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珍惜生命重视交通安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8101080" y="57499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50600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0"/>
            <a:ext cx="7667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484360" y="314172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-383400" y="305676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885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5400000">
            <a:off x="-599040" y="298368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国每年交通事故死亡人数超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万人 居世界第一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的道路交通安全形势非常严峻，统计数据表明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就有一人丧身车轮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都会有一人因为交通事故而伤残。每年因交通事故所造成的经济损失达数百亿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3:27:45Z</dcterms:created>
  <dc:creator>dengshaohui</dc:creator>
  <dc:description/>
  <dc:language>en-US</dc:language>
  <cp:lastModifiedBy>未知用户</cp:lastModifiedBy>
  <dcterms:modified xsi:type="dcterms:W3CDTF">2015-12-02T08:11:01Z</dcterms:modified>
  <cp:revision>24</cp:revision>
  <dc:subject/>
  <dc:title>幻灯片 1</dc:title>
</cp:coreProperties>
</file>