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image24.jpeg" ContentType="image/jpeg"/>
  <Override PartName="/ppt/media/image25.jpeg" ContentType="image/jpeg"/>
  <Override PartName="/ppt/media/image4.jpeg" ContentType="image/jpeg"/>
  <Override PartName="/ppt/media/image1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27.png" ContentType="image/png"/>
  <Override PartName="/ppt/media/image28.gif" ContentType="image/gif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type.wav" ContentType="audio/x-wav"/>
  <Override PartName="/ppt/media/image13.jpeg" ContentType="image/jpeg"/>
  <Override PartName="/ppt/media/image14.wmf" ContentType="image/x-wmf"/>
  <Override PartName="/ppt/media/image18.gif" ContentType="image/gif"/>
  <Override PartName="/ppt/media/image15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chimes.wav" ContentType="audio/x-wav"/>
  <Override PartName="/ppt/media/image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74E-81A1-4B4E-86EB-0C41F927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7AD-BB2B-4B24-95F8-5C1AE96F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03A-F9BC-4C17-8BCC-093DF706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97C-E054-4681-B846-DB0FEF79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DF9-126F-424D-A396-E1497250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7D4-CBE3-451C-B9EE-5D198058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E52-DB56-496C-8860-B0033301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EF7-222A-4FDA-B68F-939FFA89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047-4984-4AD4-AF48-C1045061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918-4D5D-44AD-B437-1CC48427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9D6-EFF6-4012-9D56-BD4AEE8C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D00-10A8-4F4A-87BC-9D95F9E2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63F1-2942-41F8-9BAC-0DAE662E2C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29958&amp;cl=2&amp;lm=-1&amp;pn=298&amp;rn=1&amp;di=26614611195&amp;ln=1&amp;fr=ala0&amp;ic=0&amp;s=&amp;se=&amp;sme=0&amp;tab=&amp;width=&amp;height=&amp;face=0&amp;fb=0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bymarilee.spaces.live.com/blog/cns!79D229A8B8EDC058!133.entry" TargetMode="External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bymarilee.spaces.live.com/blog/cns!79D229A8B8EDC058!133.entry" TargetMode="External"/><Relationship Id="rId2" Type="http://schemas.openxmlformats.org/officeDocument/2006/relationships/image" Target="../media/image6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24851&amp;cl=2&amp;lm=-1&amp;pn=106&amp;rn=1&amp;di=46992226548&amp;ln=1&amp;fr=ala0&amp;ic=0&amp;s=&amp;se=&amp;sme=0&amp;tab=&amp;width=&amp;height=&amp;face=0&amp;fb=0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1197000"/>
            <a:ext cx="6842160" cy="22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冬季安全伴我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76720" y="5157720"/>
            <a:ext cx="53244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小学生冬季安全教育主题班会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5747760" y="632952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城实验学校二年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9174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冬季有霜冻，路面较滑，汽车驾驶往往容易出现刹车侧滑、掉头失控的状况，因此应尽量距离行车道远一些。有时还有大雪、大雾天气，行走要当心，过马路要走斑马线，严禁乘坐无牌无证等不符合规定的车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809640"/>
            <a:ext cx="83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防滑防摔，宁可踩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要避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尽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脚，实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踩下去，以降低滑倒的可能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6890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积雪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413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浮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4097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积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06720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尽量选择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，或者乘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通工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437000"/>
            <a:ext cx="864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防磕防砸。有些树木、大棚有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危险，注意远离。冰雪融化时，注意屋檐等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筑上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413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抬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292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2924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公共汽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4289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压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4000" y="57340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冰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177336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愚者用鲜血换取教训，智者用教训避免流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给我们的幸福加上一条保险，在平时生活中我们应当不断提高自身的交通安全意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8360" y="549360"/>
            <a:ext cx="44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二、校园安全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许，家住哈尔滨市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男孩小杨在与小肖及另外一名同伴在学校一时兴起，打起了雪仗。玩了一会，小杨发现雪球每次都扔不远，即使打在了同伴身上也是一碰即碎很不过瘾，于是小杨“灵机一动”，拣起地上的石块并用雪包裹住，狠狠地掷向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外的小肖。此时毫不知情的小肖面对飞速袭来的雪球竟傻了眼，在没有防备的情况下被“雪球”重重地砸伤了头部，小肖顿时痛苦倒地、血流满面。在场的另外一名同伴见状，连忙通知了受伤男孩的家人，将其送往省医院进行救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   据医生介绍，受伤的男孩右眼破损，视力终身受到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68360" y="476280"/>
            <a:ext cx="4175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校隐患大排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3924360" cy="2665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8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海在学校有个非常要好的朋友叫小天，那天下了雪，生性好动的小天显得很兴奋，跑过来拉着小海去雪地里玩。玩闹中，小天按住小海的脖子往雪地里压，而小海用力挣扎，突然小海觉得脖子不能动了，当时小海疼得哭起来。放学后，小海的妈妈带他去医院检查，                             确诊为颈椎半脱位，法                              医鉴定为十级伤残，被                                                  禁止一切剧烈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24000" y="404640"/>
            <a:ext cx="4175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校隐患大排查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476280"/>
            <a:ext cx="838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惹了祸的小天吓坏了，他以为只不过一时撒欢打闹了一下，竟出这么大事，又是自己最好的朋友，这是他刚刚开始的人生第一次遇到的大事。为此他内疚、自责和害怕以及承受来自学校家庭各方面的压力，学习成绩一落千丈，性格也变得孤僻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386064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3573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完这两个故事，你有什么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14130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杨和小天都做出了伤害别人、让自己后悔莫及的事情，其根本原因就在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9337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高安全意识，不仅能保证自己的安全，还能够保护他人免受伤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2781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乏正确的安全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098960" y="4698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54936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Comic Sans MS"/>
                <a:ea typeface="华文行楷"/>
              </a:rPr>
              <a:t>提高安全意识  保护你我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84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▲ </a:t>
            </a: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不要在狭窄的教室门口、楼道内推推搡搡，拥挤成一团，或者猛冲猛跑，或追跑打闹，以免跌倒摔伤自己或撞伤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581280"/>
            <a:ext cx="670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076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▲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上下楼梯是要尽量靠右行，要走好走稳，以免慌里慌张，失足跌下楼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2133720"/>
            <a:ext cx="78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严禁在学校内打雪仗，远离结冰处，不要把雪球带到教室内，避免弄湿底面，防止滑倒摔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476280"/>
            <a:ext cx="80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进出教室、楼门时，要轻推轻放，不要用力推门，防止撞伤自己和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4065480"/>
            <a:ext cx="783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体育课要互相帮助做好保护。锻炼后，要注意保暖，不要轻易脱掉外套，防止感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学生知道一些简单的安全知识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这次的主题班会，提高学生的交通安全、防火、防煤气中毒、取暖防冻、防人身伤害的思想意识，养成一个良好的生活习惯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会如何应急、自救与保护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8532720" cy="3716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据有关部门统计，寒冷的冬季是火灾的高发季节，这是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333360"/>
            <a:ext cx="4681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三、冬季火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2664000" cy="328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3662280" cy="3357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20187600">
            <a:off x="0" y="3330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瞧一瞧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067280" y="3448080"/>
            <a:ext cx="4681440" cy="3409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140360" y="333360"/>
            <a:ext cx="47624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1443240"/>
            <a:ext cx="770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看来，冬季天气干燥原因是次要的，关键还是安全意识不到位，所以为了避免悲剧的发生，希望同学们要注意以下几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不带火柴、打火机、爆竹等易燃、易爆危险物品进入校园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玩火，不吸烟。吸烟危害身体健康，又容易诱发火灾，要遵守学生守则和学校的规章制度，坚决杜绝吸烟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节日期间燃放烟花、爆竹要有家长的监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注意用电、用气安全，使用取暖器时，不要将易燃物品放置在旁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968920"/>
            <a:ext cx="547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不用的电器设备、燃气设备要关闭电源和气源，预防火灾、触电事故和煤气中毒事故的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爱护消防设施。为了预防火灾，防止火灾事故，我们的教学楼和宿舍楼等公共场所都设置了消防栓、灭火器等消防设施，我们要自觉爱护这些消防设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用电器要符合安全要求，不乱拆乱卸，以免造成安全性能下降，引发火灾。在实验室做实验要做到电器使用完毕时，及时关闭电源，以防电器过热而发生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2" name="explod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手脚冻僵巧处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寒冷的冬季外出活动，常常冻得手脚发僵。手脚冻僵了，千万不要在炉火上烤或者在热水中浸泡，那样会形成冻疮甚至溃烂。那么正确的方法应该怎样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应该回到温暖的环境中去，使冻僵部位的温度慢慢回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最有效的方法是用手搓，通过摩擦增加温度，促进自身的血液循环，以恢复正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另外小朋友要知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30268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一、防煤气中毒也是很重要的，小朋友应该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屋内要注意开窗透气防止煤气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睡前要熄灭炉火防止煤气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如果发现煤气中毒的患者，首先应该立即打开门窗，将患者移到空气新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`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通风透气的地方紧接着通知医院派车和医生前来抢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二、是防人身侵害教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冬季白天时间短，要按时回家，不与陌生人接触；不携带、使用管制刀具，积极举报携带、使用管制刀具的行为；不做容易造成人身伤害的事情，不做有危险的游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252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冬季校园安全儿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朋友，听我言，人的生命真可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冬天到，天气冷，事事处处要注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穿棉衣，戴棉帽，暖暖和和不感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上下楼，排一排，右侧行走记心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操场上，做游戏，开开心心真热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防滑倒，防摔伤，快快乐乐身体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安全处处注意了，幸福生活永围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900000" y="1413000"/>
            <a:ext cx="77724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祝愿大家能开心安全地度过这个冬季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484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同学们，你们喜欢冬天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276640"/>
            <a:ext cx="720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又到了一个全城银装素裹的季节。雪是大自然对我们的馈赠，但是在欣赏美景的同时，我们也看到了一些不愿看到的场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90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900000" y="836640"/>
            <a:ext cx="741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知道冬天有哪些安全隐患吗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ver dir="d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6040" y="473040"/>
            <a:ext cx="851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分许，因积雪融化地面湿滑，一辆载有学生的车辆在双城市发生车祸，伤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82440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4535640" cy="3020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5256360" cy="321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464000" y="98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27280" y="260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悲愤欲绝的家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427640" y="3860640"/>
            <a:ext cx="4716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440" y="1125360"/>
            <a:ext cx="777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在冬天美丽的外表下，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处隐藏着危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429000"/>
            <a:ext cx="11017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同学们一定要注意冬季安全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尤其是交通安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3" name="type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1309680"/>
            <a:ext cx="7772400" cy="750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请同学们先看看以下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274480"/>
            <a:ext cx="842472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次世界大战死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万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次世界大战死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60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万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辆汽车问世以来，已有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万人死于滚滚的车轮下，平均六分钟死一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据统计我国每天因车祸死亡的学生就达一个班的人数这之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89000"/>
            <a:ext cx="4067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一、交通安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352680" y="3048120"/>
          <a:ext cx="251640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048120"/>
                    <a:ext cx="2516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50920" y="1052640"/>
            <a:ext cx="3816360" cy="2016000"/>
          </a:xfrm>
          <a:prstGeom prst="cloudCallout">
            <a:avLst>
              <a:gd name="adj1" fmla="val 49916"/>
              <a:gd name="adj2" fmla="val 82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这是为什么呢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04640"/>
            <a:ext cx="4572000" cy="2519640"/>
          </a:xfrm>
          <a:prstGeom prst="wedgeRoundRectCallout">
            <a:avLst>
              <a:gd name="adj1" fmla="val -42115"/>
              <a:gd name="adj2" fmla="val 80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主要是因为人们的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交通安全意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太淡薄了！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1:56:15Z</dcterms:created>
  <dc:creator>番茄花园</dc:creator>
  <dc:description/>
  <dc:language>en-US</dc:language>
  <cp:lastModifiedBy>微软用户</cp:lastModifiedBy>
  <dcterms:modified xsi:type="dcterms:W3CDTF">2013-11-21T12:12:07Z</dcterms:modified>
  <cp:revision>34</cp:revision>
  <dc:subject/>
  <dc:title>幻灯片 1</dc:title>
</cp:coreProperties>
</file>