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5D5-BDA8-4FB7-AC18-97DE7CF9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121-EFA0-4DF8-B81A-1DE539CA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62A-2253-4DFE-8536-BA617D02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000-AD13-4CF5-B884-6AD26DAB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320-3DDB-40EB-8530-0D646305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E29-9317-4F6A-A42B-1FEA3C7A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52BB-5EE9-43FE-85B3-11836930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FF2-3039-4B90-8829-7CE49388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D8A5-9A8B-49D9-83A8-827BDB1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DC5-A380-4F87-9835-92DAC21F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93E-4FFF-457B-9778-D3623AB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5C1-5300-4092-B8EC-6EA76E8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2028-EF93-4BDC-93CF-6E75664FCA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22825;&#20142;&#20102;.mp3" TargetMode="External"/><Relationship Id="rId3" Type="http://schemas.openxmlformats.org/officeDocument/2006/relationships/hyperlink" Target="file:///&#22825;&#20142;&#20102;.mp3" TargetMode="External"/><Relationship Id="rId4" Type="http://schemas.openxmlformats.org/officeDocument/2006/relationships/hyperlink" Target="file:///&#22825;&#20142;&#20102;.mp3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1341360"/>
            <a:ext cx="8569440" cy="378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学会感恩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从现在开始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3276720"/>
            <a:ext cx="1066680" cy="4572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972000"/>
            <a:ext cx="30956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让我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怀着一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感恩的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起祝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天下所有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父母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健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快乐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53000" y="457200"/>
            <a:ext cx="539100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87280" y="1773360"/>
            <a:ext cx="7272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2349360"/>
            <a:ext cx="75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感谢父母之外，我们还要感激谁？</a:t>
            </a: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2203560"/>
            <a:ext cx="18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感激老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53000" y="457200"/>
            <a:ext cx="5391000" cy="640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78040" y="-2109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拓展篇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红烛照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lazhu" descr=""/>
          <p:cNvPicPr/>
          <p:nvPr/>
        </p:nvPicPr>
        <p:blipFill>
          <a:blip r:embed="rId1"/>
          <a:stretch/>
        </p:blipFill>
        <p:spPr>
          <a:xfrm>
            <a:off x="-3421080" y="-1611360"/>
            <a:ext cx="18288000" cy="11430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620640"/>
            <a:ext cx="81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620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他是红烛，燃烧了自己，照亮了别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他是火种，点燃了学生的心灵之火</a:t>
            </a:r>
            <a:r>
              <a:rPr b="0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黑体"/>
                <a:ea typeface="黑体"/>
              </a:rPr>
              <a:t>他把我们入知识的殿堂，我们沐浴着师恩的阳光，我们像小鸟一样展翅飞翔，无论暴风骤雨，是老师赋予了我们顽强的斗志，鼓励我们勇往直前。感谢你啊，老师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929120"/>
            <a:ext cx="845964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Arial"/>
              </a:rPr>
              <a:t>下面请我们同学一起来说说老师使你感动的故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7280" y="1773360"/>
            <a:ext cx="7272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234936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诗朗诵：感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56720" y="270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0265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148360" y="5445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张祥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 rot="268200">
            <a:off x="755640" y="476280"/>
            <a:ext cx="244800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感恩社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03280" y="339840"/>
            <a:ext cx="676908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学会感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在自己成长道路上，得到的帮助太多了，需要感激的人和事也太多了，只有现在努力学习，以优异的成绩回报父母，回报老师，回报在我们成长的道路上支持过和帮助过我们的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会感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001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生育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使我体验生命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抚养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使我不断成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帮助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使我度过难关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鼓励我的人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他们给我力量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教育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教会了我成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伤害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磨炼了我的心志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感激欺骗我的人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因为他们增进了我的智慧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0"/>
            <a:ext cx="2124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集体诵读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74920" y="3284640"/>
            <a:ext cx="67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感恩的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32720" y="3645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06480" y="2060640"/>
            <a:ext cx="246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隶书"/>
              </a:rPr>
              <a:t>集体合唱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87346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339840"/>
            <a:ext cx="6769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学会感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让我们行动起来，从我做起，从身边的小事做起。说感谢之话，怀感动之情，做感恩之事。感谢父母的养育之恩，感谢老师的教诲之恩，感激同学的帮助之恩，感激社会的关爱之恩，感恩一切可感激之人。感恩磨难、感恩生活……让世界因感恩而变得更加美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700280"/>
            <a:ext cx="9791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明理篇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走近亲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3108240"/>
            <a:ext cx="748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</a:rPr>
              <a:t>苹果树的故事 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154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050920" y="1484280"/>
            <a:ext cx="6408720" cy="378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谢谢大家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0" lang="zh-CN" sz="9600" spc="-1" strike="noStrike">
                <a:solidFill>
                  <a:srgbClr val="ff00ff"/>
                </a:solidFill>
                <a:latin typeface="Times New Roman"/>
                <a:ea typeface="隶书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76720"/>
            <a:ext cx="1066680" cy="4572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80360" y="2276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8734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7280" y="177336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歌曲欣赏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Times New Roman"/>
                <a:ea typeface="隶书"/>
              </a:rPr>
              <a:t>《烛光里的妈妈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04000" y="242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879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00000" y="981000"/>
            <a:ext cx="7489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小品欣赏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隶书"/>
              </a:rPr>
              <a:t>《爸爸，我错了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0360" y="3500280"/>
            <a:ext cx="2649600" cy="309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7708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2117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916280"/>
            <a:ext cx="74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　　父亲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9506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1916280"/>
            <a:ext cx="74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讨论：看小品后大家有何感想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87280" y="1773360"/>
            <a:ext cx="7272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2349360"/>
            <a:ext cx="756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隶书"/>
                <a:ea typeface="隶书"/>
              </a:rPr>
              <a:t>讲述与父母亲发生的故事</a:t>
            </a: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549360"/>
            <a:ext cx="931536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歌曲欣赏：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《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天亮了</a:t>
            </a:r>
            <a:r>
              <a:rPr b="0" lang="zh-CN" sz="6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14172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一次缆车事故中，一对父母在缆车掉下悬崖的那一刹那，用手托举着自己的孩子，最终使这个孩子成为那次事故的唯一幸存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4211640" y="1052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09316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6551640" cy="5097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71640" y="544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260280"/>
            <a:ext cx="59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导行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-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报亲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003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4:38:49Z</dcterms:created>
  <dc:creator>hh</dc:creator>
  <dc:description/>
  <dc:language>en-US</dc:language>
  <cp:lastModifiedBy>雨林木风</cp:lastModifiedBy>
  <dcterms:modified xsi:type="dcterms:W3CDTF">2012-10-16T15:08:27Z</dcterms:modified>
  <cp:revision>65</cp:revision>
  <dc:subject/>
  <dc:title>                </dc:title>
</cp:coreProperties>
</file>