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1.gif" ContentType="image/gif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9F09-70CB-4B4B-A18B-348456B59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9F8-833A-4C79-8977-8E700E39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4F0-6795-4744-A1B5-0EBFB665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8443-547D-417C-A935-5778B6BC2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C848-8F18-4A21-BCC6-7FF6359A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A60-B288-4A98-86BA-9E27E05E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97A2-51D2-45A2-8FDF-098556F8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65C-9334-41B7-89BA-F2F1AEB6E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6DF-651B-4F64-8000-6DAE2880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5235-F484-43E0-AD8E-BC08AC3B8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D13F-9983-420D-8004-E205CBD0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E11-4139-4967-8138-4BA1ABD1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9A543-9B45-41E2-B438-BE9968C58F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2"/>
          <p:cNvPicPr/>
          <p:nvPr/>
        </p:nvPicPr>
        <p:blipFill>
          <a:blip r:embed="rId2"/>
          <a:srcRect l="0" t="3838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one.cn.yahoo.com/view?v=image&amp;p=&#23615;&#24067;&#30137;&amp;b=106&amp;x=&amp;pid=416169_1006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Users\陈健\Desktop\xx.jpg"/>
          <p:cNvPicPr/>
          <p:nvPr/>
        </p:nvPicPr>
        <p:blipFill>
          <a:blip r:embed="rId1"/>
          <a:srcRect l="0" t="12985" r="0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1979640" y="1268280"/>
            <a:ext cx="47512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宋体"/>
              </a:rPr>
              <a:t>新生儿护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宋体"/>
              <a:ea typeface="宋体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4149720"/>
            <a:ext cx="66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南京市妇幼保健院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屈利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新生儿皮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生儿皮肤角质层薄，毛细血管丰富。防御功能较差，易损伤和感染。应勤洗头、洗澡，尤其是皮肤皱折处，应注意保持清洁、干燥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新生儿红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生儿皮肤因受阳光、空气的刺激，有时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现过敏性的皮肤红色斑疹，称为“红斑”，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周内自然消退，无须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Arial"/>
                <a:ea typeface="楷体_GB2312"/>
              </a:rPr>
              <a:t>新生儿红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2844304639661866311"/>
          <p:cNvPicPr/>
          <p:nvPr/>
        </p:nvPicPr>
        <p:blipFill>
          <a:blip r:embed="rId1"/>
          <a:stretch/>
        </p:blipFill>
        <p:spPr>
          <a:xfrm>
            <a:off x="1403280" y="1268280"/>
            <a:ext cx="633744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643120" y="2625840"/>
            <a:ext cx="20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333360"/>
            <a:ext cx="712764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          </a:t>
            </a: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尿布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俗称“腌屁股”。表现为会阴、肛门周围及臀部皮肤发红，出现丘疹、斑疹，继续发展出现表皮脱落溃烂及较深的溃疡。尿布疹主要是由于腹泻、便溺刺激臀部皮肤或护理不当造成的。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492360" y="4149720"/>
            <a:ext cx="2376720" cy="200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尿布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护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及时发现宝宝大小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持宝宝臀部清洗干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局部可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%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鞣酸软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24360" y="184464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468360" y="404640"/>
            <a:ext cx="8280360" cy="32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       </a:t>
            </a: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上皮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新生儿或出生后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-2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月的婴儿，有的口内牙床上长出像小米或大米样大小的白色球状颗粒，数目不一，看上去很像小牙，其实这不是牙齿，俗称“马牙”</a:t>
            </a: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3479845_0"/>
          <p:cNvPicPr/>
          <p:nvPr/>
        </p:nvPicPr>
        <p:blipFill>
          <a:blip r:embed="rId1"/>
          <a:stretch/>
        </p:blipFill>
        <p:spPr>
          <a:xfrm>
            <a:off x="2916360" y="4535640"/>
            <a:ext cx="3097080" cy="2322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3"/>
          <p:cNvSpPr/>
          <p:nvPr/>
        </p:nvSpPr>
        <p:spPr>
          <a:xfrm>
            <a:off x="1042920" y="620640"/>
            <a:ext cx="727236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Calibri"/>
                <a:ea typeface="楷体_GB2312"/>
              </a:rPr>
              <a:t>                </a:t>
            </a:r>
            <a:r>
              <a:rPr b="1" lang="zh-CN" sz="4400" spc="-1" strike="noStrike">
                <a:solidFill>
                  <a:srgbClr val="cc0066"/>
                </a:solidFill>
                <a:latin typeface="Calibri"/>
                <a:ea typeface="楷体_GB2312"/>
              </a:rPr>
              <a:t>上皮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经进食、吸吮的摩擦，可自行脱落。这是上皮细胞堆积而引起。一般无任何症状，对口腔颌面部的发育和健康没有任何影响，不需做任何处理，切不可用针挑或用毛巾擦，否则容易损伤粘膜，造成感染。如果长期不脱落，应请医生诊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新生儿青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常位于背部、骶部、臀部皮肤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青色斑是胎儿时期色素细胞堆积的结果，这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种青斑随着孩子的生长，在儿童期会逐渐消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</a:rPr>
              <a:t>失，无需治疗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3"/>
          <p:cNvSpPr/>
          <p:nvPr/>
        </p:nvSpPr>
        <p:spPr>
          <a:xfrm>
            <a:off x="1476360" y="260280"/>
            <a:ext cx="676908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粟粒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主要是由于新生儿皮脂腺潴留所引起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般在出生后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-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周消退，不需任何处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843280" y="2852640"/>
            <a:ext cx="3168720" cy="3457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楷体_GB2312"/>
              </a:rPr>
              <a:t>受母亲激素影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乳房肿大及泌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假月经、新生儿白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用处理，不影响新生儿生长发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u=3045990492,2764546605&amp;fm=15&amp;gp=0"/>
          <p:cNvPicPr/>
          <p:nvPr/>
        </p:nvPicPr>
        <p:blipFill>
          <a:blip r:embed="rId1"/>
          <a:stretch/>
        </p:blipFill>
        <p:spPr>
          <a:xfrm>
            <a:off x="3419640" y="407664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52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新生儿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是指出生至生后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内的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新生儿的护理需要注意其生理特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468360" y="907920"/>
            <a:ext cx="831672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四肢屈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这是健康新生儿肌张力正常的表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罗圈腿是由于佝偻病所致的骨骼变形引起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与新生儿四肢屈曲毫无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20090615102431614"/>
          <p:cNvPicPr/>
          <p:nvPr/>
        </p:nvPicPr>
        <p:blipFill>
          <a:blip r:embed="rId2"/>
          <a:stretch/>
        </p:blipFill>
        <p:spPr>
          <a:xfrm>
            <a:off x="3132000" y="4149720"/>
            <a:ext cx="3168720" cy="20559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吐奶、溢奶</a:t>
            </a:r>
            <a:br>
              <a:rPr sz="40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1981080"/>
            <a:ext cx="5334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胃呈水平位，容量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贲门关闭差，幽门关闭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吃奶时吸入空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合适的喂奶姿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检查奶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830920" y="2057400"/>
            <a:ext cx="33130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3"/>
          <p:cNvSpPr/>
          <p:nvPr/>
        </p:nvSpPr>
        <p:spPr>
          <a:xfrm>
            <a:off x="611280" y="981000"/>
            <a:ext cx="7921440" cy="23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Calibri"/>
                <a:ea typeface="楷体_GB2312"/>
              </a:rPr>
              <a:t>                </a:t>
            </a:r>
            <a:r>
              <a:rPr b="1" lang="zh-CN" sz="4400" spc="-1" strike="noStrike">
                <a:solidFill>
                  <a:srgbClr val="cc0066"/>
                </a:solidFill>
                <a:latin typeface="Calibri"/>
                <a:ea typeface="楷体_GB2312"/>
              </a:rPr>
              <a:t>打喷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新生儿鼻腔内血管丰富、鼻粘膜敏感，周围温度变化，室内空气污浊，粉尘，都会导致宝宝不适，打喷嚏是机体遇到不适时自我保护的一种方式，但如有流鼻涕或鼻塞等症状应及时就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u=735931347,1117501612&amp;fm=0&amp;gp=0"/>
          <p:cNvPicPr/>
          <p:nvPr/>
        </p:nvPicPr>
        <p:blipFill>
          <a:blip r:embed="rId2"/>
          <a:stretch/>
        </p:blipFill>
        <p:spPr>
          <a:xfrm>
            <a:off x="6227640" y="404640"/>
            <a:ext cx="2087640" cy="15354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楷体_GB2312"/>
              </a:rPr>
              <a:t>鹅口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腔护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%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碳酸氢钠溶液清洗口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哺乳前母亲应洗净双手和乳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做好奶具的消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新生儿脐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8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至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左右行二次断脐后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带基本脱落，脱落后有少量分泌物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属于正常现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保持干燥、清洁。沐浴后局部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%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酒精，并坚持一个月。如出现脐周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肿、分泌物增多应及时就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  <a:ea typeface="楷体_GB2312"/>
              </a:rPr>
              <a:t>新生儿排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胎便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呈墨绿色，稍粘稠，无粪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部分孩子在生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时内排出胎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出生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内排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60093"/>
                </a:solidFill>
                <a:latin typeface="Arial"/>
                <a:ea typeface="楷体_GB2312"/>
              </a:rPr>
              <a:t>新生儿排便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母乳喂养儿的大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呈金黄色、糊状、有酸味、无臭味、无奶瓣，每日排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-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乃至更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工喂养儿的大便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呈淡黄色，粪便较干，稍有臭味，每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次，有便秘倾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643120" y="2625840"/>
            <a:ext cx="20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47640" y="981000"/>
            <a:ext cx="655344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Calibri"/>
                <a:ea typeface="楷体_GB2312"/>
              </a:rPr>
              <a:t>          </a:t>
            </a:r>
            <a:r>
              <a:rPr b="1" lang="zh-CN" sz="4400" spc="-1" strike="noStrike">
                <a:solidFill>
                  <a:srgbClr val="cc0066"/>
                </a:solidFill>
                <a:latin typeface="Calibri"/>
                <a:ea typeface="楷体_GB2312"/>
              </a:rPr>
              <a:t>新生儿</a:t>
            </a:r>
            <a:r>
              <a:rPr b="1" lang="zh-CN" sz="4400" spc="-1" strike="noStrike">
                <a:solidFill>
                  <a:srgbClr val="cc0066"/>
                </a:solidFill>
                <a:latin typeface="黑体"/>
                <a:ea typeface="楷体_GB2312"/>
              </a:rPr>
              <a:t>视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新生儿视觉距离在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-1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3132000" y="3284640"/>
            <a:ext cx="3384720" cy="25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43120" y="2625840"/>
            <a:ext cx="20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47640" y="981000"/>
            <a:ext cx="662472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新生儿听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新生儿能听到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0-1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厘米内的声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3500280"/>
            <a:ext cx="3168720" cy="228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643120" y="2625840"/>
            <a:ext cx="20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47640" y="981000"/>
            <a:ext cx="669636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Calibri"/>
                <a:ea typeface="楷体_GB2312"/>
              </a:rPr>
              <a:t>           </a:t>
            </a:r>
            <a:r>
              <a:rPr b="1" lang="zh-CN" sz="4400" spc="-1" strike="noStrike">
                <a:solidFill>
                  <a:srgbClr val="cc0066"/>
                </a:solidFill>
                <a:latin typeface="Calibri"/>
                <a:ea typeface="楷体_GB2312"/>
              </a:rPr>
              <a:t>新生儿嗅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新生儿的嗅觉发育基本成熟，对妈妈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黑体"/>
              </a:rPr>
              <a:t>的体味和母乳的气味非常喜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924360" y="3429000"/>
            <a:ext cx="1942920" cy="27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体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调节功能差，皮下脂肪薄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表面积相对大容易散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调节室温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-22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  不能过度保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监测体温：腋下体温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-37.2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肛温在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-37.8 ℃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643120" y="2625840"/>
            <a:ext cx="20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981000"/>
            <a:ext cx="5545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新生儿味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59280" y="2924280"/>
            <a:ext cx="2447640" cy="24336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643280" y="2205000"/>
            <a:ext cx="3672000" cy="1368360"/>
          </a:xfrm>
          <a:prstGeom prst="wedgeEllipseCallout">
            <a:avLst>
              <a:gd name="adj1" fmla="val -49611"/>
              <a:gd name="adj2" fmla="val 983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我喜欢甜甜的奶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643120" y="2625840"/>
            <a:ext cx="20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333360"/>
            <a:ext cx="78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66"/>
                </a:solidFill>
                <a:latin typeface="Calibri"/>
                <a:ea typeface="楷体_GB2312"/>
              </a:rPr>
              <a:t>               </a:t>
            </a:r>
            <a:r>
              <a:rPr b="1" lang="zh-CN" sz="4400" spc="-1" strike="noStrike">
                <a:solidFill>
                  <a:srgbClr val="cc0066"/>
                </a:solidFill>
                <a:latin typeface="Calibri"/>
                <a:ea typeface="楷体_GB2312"/>
              </a:rPr>
              <a:t>新生儿触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新生儿的触觉在慢慢成长，宝宝在妈妈温柔的抚摸下，往往就会比较安静，同时还对痛痒有感觉，研究表明，触摸可以刺激成长激素的分泌，有助于婴儿免疫系统的发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132000" y="4149720"/>
            <a:ext cx="3311640" cy="22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203640" y="342900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643120" y="2625840"/>
            <a:ext cx="20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360" y="162864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新生儿每天睡眠时间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时左右，而且他们的睡眠周期都是混乱的，每天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小时里，宝宝时睡时醒，没有规律可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28960" y="380880"/>
            <a:ext cx="4667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c0875"/>
                </a:solidFill>
                <a:latin typeface="Calibri"/>
                <a:ea typeface="楷体_GB2312"/>
              </a:rPr>
              <a:t>新生儿睡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4221000"/>
            <a:ext cx="2592360" cy="17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643120" y="2625840"/>
            <a:ext cx="2000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413000"/>
            <a:ext cx="55450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新生儿每次睡眠时间只持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分钟至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个小时左右，晚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常觉醒时间长。大约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周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后，才开始出现比较规律的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睡眠模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796000" y="1413000"/>
            <a:ext cx="3081240" cy="396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1640" y="333360"/>
            <a:ext cx="4572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c0875"/>
                </a:solidFill>
                <a:latin typeface="Arial"/>
                <a:ea typeface="楷体_GB2312"/>
              </a:rPr>
              <a:t>   </a:t>
            </a:r>
            <a:r>
              <a:rPr b="1" lang="zh-CN" sz="4400" spc="-1" strike="noStrike">
                <a:solidFill>
                  <a:srgbClr val="9c0875"/>
                </a:solidFill>
                <a:latin typeface="Arial"/>
                <a:ea typeface="楷体_GB2312"/>
              </a:rPr>
              <a:t>新生儿睡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生理性体重下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，由于摄入不足，排出胎粪和水份的蒸发，体重可暂时性下降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后体重开始增加，产后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-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达原水平。生理性体重下降的范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如果母乳喂养的正常，新生儿每日的体重约增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0g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满月时可增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-1.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公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60093"/>
                </a:solidFill>
                <a:latin typeface="Arial"/>
                <a:ea typeface="楷体_GB2312"/>
              </a:rPr>
              <a:t>生理性黄疸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1628280"/>
            <a:ext cx="8675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出现，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-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达高峰，足月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0-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消退，早产儿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消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黄疸期间一般情况好， 不伴其他临床症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1300000210281122105438258050"/>
          <p:cNvPicPr/>
          <p:nvPr/>
        </p:nvPicPr>
        <p:blipFill>
          <a:blip r:embed="rId1"/>
          <a:stretch/>
        </p:blipFill>
        <p:spPr>
          <a:xfrm>
            <a:off x="3348000" y="3573360"/>
            <a:ext cx="1944720" cy="23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          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生理性黄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原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新生儿红细胞破坏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产生胆红素↑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肝酶活力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清除胆红素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400" spc="-1" strike="noStrike">
                <a:solidFill>
                  <a:srgbClr val="cc0066"/>
                </a:solidFill>
                <a:latin typeface="Arial"/>
              </a:rPr>
              <a:t>发生黄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             </a:t>
            </a:r>
            <a:r>
              <a:rPr b="1" lang="zh-CN" sz="4800" spc="-1" strike="noStrike">
                <a:solidFill>
                  <a:srgbClr val="d60093"/>
                </a:solidFill>
                <a:latin typeface="Arial"/>
                <a:ea typeface="楷体_GB2312"/>
              </a:rPr>
              <a:t>生理性黄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住院期间每日有医生测量孩子的</a:t>
            </a:r>
            <a:r>
              <a:rPr b="1" lang="zh-CN" sz="4000" spc="-1" strike="noStrike">
                <a:solidFill>
                  <a:srgbClr val="cc0066"/>
                </a:solidFill>
                <a:latin typeface="Arial"/>
              </a:rPr>
              <a:t>黄疸指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让新生儿勤吸吮母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保持大便通畅、黄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消退较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出生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-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仍不消退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需到医院检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59280" y="3141720"/>
            <a:ext cx="3313080" cy="2489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9T11:59:10Z</dcterms:created>
  <dc:creator>qlj</dc:creator>
  <dc:description/>
  <dc:language>en-US</dc:language>
  <cp:lastModifiedBy>qlj</cp:lastModifiedBy>
  <dcterms:modified xsi:type="dcterms:W3CDTF">2010-08-19T13:53:40Z</dcterms:modified>
  <cp:revision>2</cp:revision>
  <dc:subject/>
  <dc:title>幻灯片 1</dc:title>
</cp:coreProperties>
</file>