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6ACA-6226-4C17-99BF-BDD3E10F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D82E-9267-4F69-A057-9944D695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9774-1755-4FA1-9897-BDF5268D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938A-D1C5-495D-96CA-1EDE32BF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7DAF-74BB-4FD7-AAFA-921FB54C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83D6-BEAF-455A-964C-277F5F10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706B-B0C9-4788-A736-AAF65B9E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A999-AA40-463A-ADE5-C4FED0B0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D955-97C0-4957-B2C2-664FFF32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895B-0E19-4A96-9DE0-8C1C35AE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E342-8522-4122-85E2-79C59C47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98B2-D3B8-4806-8118-4C09D627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FA32-F68C-4846-AB04-389A7CD7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96B9-7279-4750-A8EB-0F343D0E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3322-4726-4B48-ACF7-DFD6B759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A802-EB5D-4F95-A4A5-FABB8DD3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BAF1-84AD-4108-ABB9-04B3C8A7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754A3-DE6F-45AC-8CC1-DB5ECB7E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702CE-5E43-433F-98EF-605D5D99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99137-A8E3-4E05-955D-4B4FC654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2AE3B-4A0C-4932-927F-0A0A08B8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12761-4704-4208-B680-8EA5370C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854B-866C-4246-9168-E9F75801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E611C-6FD0-4A7F-8FFA-19952E8F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C2BAB-C9DF-4D86-95B7-58485899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485F2-B894-4CD3-AD1F-66935743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0BF01-E70F-4F3B-BE4B-E88485EF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CD70B-2EBD-4D21-A83D-D363AECD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DD4EA-72B1-4963-B5C6-51DDE243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25877-78AA-421F-9912-1286E991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87D50-F418-435A-9403-50B8B05A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76E89-317B-4B6C-ABF7-0532C437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C120A-3E12-452A-A6B3-06F55613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2942-E532-4219-BAF1-650F1EB3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6C44A-7844-4B9B-812A-1690C6F7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52495-E920-48DC-BEF3-E40C0ACD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82390-8930-417C-BD6C-CA26CC8A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15A8C-215B-4916-9521-1EB7AA49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8AB32-FDED-4198-8D8C-FB4D5677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B1EA1-1925-4B8A-904C-F1B8CDD8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C0135-12DF-431E-B175-9A32BFD9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B0437-4765-49C9-B8B7-F66B6444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E78BE-B908-48F7-9B44-FB9E75EC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A199-32E1-49FF-9264-0B6DEBBD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FFF-01C8-4924-A461-B733BAA0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CD2E-A6AE-402D-A4D7-C39ABC9E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67A1-564A-4EC7-A1E4-F548116F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2064-007D-4A24-A1AC-E7CA65DB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omputer_kuan_262885_10[1]"/>
          <p:cNvPicPr/>
          <p:nvPr/>
        </p:nvPicPr>
        <p:blipFill>
          <a:blip r:embed="rId2"/>
          <a:srcRect l="3950" t="0" r="5029" b="0"/>
          <a:stretch/>
        </p:blipFill>
        <p:spPr>
          <a:xfrm>
            <a:off x="1440" y="60480"/>
            <a:ext cx="9107640" cy="6392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BEBB-5F94-4AD4-86F7-16ECF39E1C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omputer_kuan_263056_9[1]"/>
          <p:cNvPicPr/>
          <p:nvPr/>
        </p:nvPicPr>
        <p:blipFill>
          <a:blip r:embed="rId2"/>
          <a:stretch/>
        </p:blipFill>
        <p:spPr>
          <a:xfrm>
            <a:off x="-27000" y="0"/>
            <a:ext cx="9209160" cy="6769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4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A3C0-FDFC-4984-8643-7CD835338E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omputer_kuan_262951_9[1]"/>
          <p:cNvPicPr/>
          <p:nvPr/>
        </p:nvPicPr>
        <p:blipFill>
          <a:blip r:embed="rId2"/>
          <a:stretch/>
        </p:blipFill>
        <p:spPr>
          <a:xfrm>
            <a:off x="34920" y="1440"/>
            <a:ext cx="9109080" cy="68122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299E-970E-4B1A-8421-802245FB84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omputer_kuan_262934_11[1]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D045-AC76-4107-93F9-299D094C99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2"/>
          <p:cNvSpPr/>
          <p:nvPr/>
        </p:nvSpPr>
        <p:spPr>
          <a:xfrm>
            <a:off x="108000" y="637704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468360" y="2386080"/>
            <a:ext cx="410364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4T21:03:06Z</dcterms:created>
  <dc:creator>张媚</dc:creator>
  <dc:description/>
  <dc:language>en-US</dc:language>
  <cp:lastModifiedBy>lenovo</cp:lastModifiedBy>
  <cp:lastPrinted>1899-12-30T00:00:00Z</cp:lastPrinted>
  <dcterms:modified xsi:type="dcterms:W3CDTF">2015-11-02T03:44:1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