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2.png" ContentType="image/png"/>
  <Override PartName="/ppt/media/projctor.wav" ContentType="audio/x-wav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5.jpeg" ContentType="image/jpeg"/>
  <Override PartName="/ppt/media/image16.png" ContentType="image/png"/>
  <Override PartName="/ppt/media/chimes.wav" ContentType="audio/x-wav"/>
  <Override PartName="/ppt/media/image29.png" ContentType="image/png"/>
  <Override PartName="/ppt/media/image14.png" ContentType="image/png"/>
  <Override PartName="/ppt/media/image10.jpeg" ContentType="image/jpeg"/>
  <Override PartName="/ppt/media/image13.jpeg" ContentType="image/jpeg"/>
  <Override PartName="/ppt/media/type.wav" ContentType="audio/x-wav"/>
  <Override PartName="/ppt/media/image18.png" ContentType="image/png"/>
  <Override PartName="/ppt/media/image6.jpeg" ContentType="image/jpeg"/>
  <Override PartName="/ppt/media/image1.jpeg" ContentType="image/jpeg"/>
  <Override PartName="/ppt/media/image3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33.jpeg" ContentType="image/jpeg"/>
  <Override PartName="/ppt/media/glass.wav" ContentType="audio/x-wav"/>
  <Override PartName="/ppt/media/image28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37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42.gif" ContentType="image/gif"/>
  <Override PartName="/ppt/media/applause.wav" ContentType="audio/x-wav"/>
  <Override PartName="/ppt/media/image5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40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226-37D8-4B32-A260-4A29EA8E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3F6-D46F-4531-8631-01B863E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A89-7867-4213-A677-B6875716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6DA-4802-4C45-9059-4183B1E3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EEA-BA81-4350-A356-EFA4804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2DBC-8644-4FB0-AA0F-2DA8218A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AA2F-9466-4F35-BB71-35071D0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BF15-BF92-49A0-A1DB-6381C2CF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6C36-33C6-484E-950D-2A62E70D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472B-5371-4BD0-A973-2CBBBB31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DCE-3AED-4582-942D-6E3BCA3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F83-95EF-48F2-B20E-CC778DCD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F04E-FBAE-47B3-A6B0-EB5AFB4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A47F-39C4-4477-9353-07F3C988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578D-26ED-4423-BE3B-237067A7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5343-4D5C-4259-B50C-05DF554B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7C77-6903-4C56-B6E6-7F561559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9FF4A-D463-4C35-B474-EDAD3805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6F83C-7377-450A-BDDE-25F9CC8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25DA9-6A74-45B9-AA59-49E1BC4C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7797F-FAC8-403A-A7CB-D0945019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1972A-4BEB-4433-9472-01CC603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FBC-C20F-464E-89C7-0A5FC45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682A9-7551-4DE4-B6FF-A22B1581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11055-72D0-4626-B6EA-83D9332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B1B4D-DF0F-4AA9-B68A-40A63DD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0E860-731D-4172-85F5-37DA8F7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C5EB9-49C5-4291-8E98-8E9865F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B7DF3-17F5-4675-B0FC-79B4AD87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19E9B-6D23-48DB-B981-E6CF3FEA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F3ED2-C5AC-46CD-AF74-10491B47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0E55-2B9D-4EBD-91D5-2832E2AF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310D-E8DC-46B8-A004-176ADF4B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987-2B65-4FC5-AD47-24AB23F0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FB444-2786-4175-BA4E-FED3405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188A-BAD2-4956-8075-91DC3881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92AF-F079-44CD-98F9-F7EFDC1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4F36-A3D8-4027-AA70-8D17028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DE30-63EA-4107-BC05-E8B668A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052D-3185-4EF6-AFB8-55FB6B3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2D6A-9773-4C4A-AE69-3B3145F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B7E9-7135-4132-9298-818EF431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E170-23BD-401D-B712-3961602E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0D6D-0FF4-4757-8CF6-545CD7FA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AE5-ABEF-4533-8106-51467010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1EF9-8BC3-41C3-9799-6F77A76B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6B5D-B588-44FA-BE11-1DA00DD7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04F9-47CC-477B-B9DE-66EA4BC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4BAA-2E57-4EA9-B90B-54CDDEAC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438D-2F58-494E-8703-291420B7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7388F-1502-4F41-9586-B3DDED0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891A-B022-4951-AEFA-BE4F84B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3C43-0FC2-4D36-BF03-0AF33FD9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F82C-8C7B-48B0-99BD-927101AF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D44D-8A4D-4FFD-B660-C4FB25B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172-2D35-4CFE-8A29-7C4DE11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544E-8F01-429B-A194-34A1D022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6ACC-E88F-411A-8376-7BD67AB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5E57-332D-4FDD-AD33-C36EACA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3836-996C-49B2-BCD0-79E61611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6B02-65D0-4F67-B2F8-5D65720F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01894-23E4-4A14-8D9F-FCAA82FF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0D26-6B98-4A80-A9F8-82D66FF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300C0-F785-430A-A4D2-E7B23D7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01A05-8FB5-4D90-96C4-E0859EA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6F12-021A-4EEF-B305-E5689B0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FD2-D949-4244-B2A3-0937ACB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2F13-DC3E-4E09-A8DB-62DE263F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E8495-700D-4D98-93C1-D2CAC403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274B-55EF-49A4-AD68-9F46D982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11C18-5B5F-43EE-B71F-30B318D5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885D-BF35-43CD-81A5-7AAC0EB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9295-0E47-4502-BBA5-D62E56A8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BE34-9821-4ED3-A923-BBEFF36C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14E9-CF1E-4695-A7F9-6264773E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60FE7-2437-4C1C-A742-544DAB51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0B0A1-F081-4286-A797-3B74660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954-8B53-4D9F-B885-36C2A19C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6C936-17BE-4993-B402-4306551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4496E-5640-48F1-BD28-554940B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A68D-0D94-4EFE-958B-145C232C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B5B7D-668D-4C32-A717-311ABC39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AFBAC-1AB2-4EF8-8F64-4A983B0F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A67-9EDA-4F20-9153-A6FFFD9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该资料由书利华教育网【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ShuLiHua.ne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2A61-3450-4DEB-A4A2-FE452DC51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该资料由书利华教育网【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www.ShuLiHua.ne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】为您整理提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D95-CC8B-4BD1-BCB7-F73BCEB08A9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FDA-717A-4542-80A8-3B50A76645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5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6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6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6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6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8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8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9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0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0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0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1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1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1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2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3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3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4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5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5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5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该资料由书利华教育网【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www.ShuLiHua.net</a:t>
            </a: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CBBF-2A52-461C-AA80-28011A272342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33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34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3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3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0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4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2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4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4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4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81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482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5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6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8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9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1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2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3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9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3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3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3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3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54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551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该资料由书利华教育网【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www.ShuLiHua.ne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】为您整理提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7CF-0FBE-45B5-9544-0F5F7F5223F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224-64AF-4BE8-8421-01B7150CED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4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5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5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5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6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8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9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0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1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2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3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4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5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5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5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5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6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该资料由书利华教育网【</a:t>
            </a: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www.ShuLiHua.net</a:t>
            </a: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B52F-F9B2-495E-A1BA-2D01FE14A952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aedu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applause.wav"/><Relationship Id="rId6" Type="http://schemas.openxmlformats.org/officeDocument/2006/relationships/audio" Target="../media/type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8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chenwenming/&#26700;&#38754;/1750%5B1%5D.swf" TargetMode="External"/><Relationship Id="rId2" Type="http://schemas.openxmlformats.org/officeDocument/2006/relationships/hyperlink" Target="file:///C:/Documents%20and%20Settings/chenwenming/&#26700;&#38754;/1750%5B1%5D.swf" TargetMode="External"/><Relationship Id="rId3" Type="http://schemas.openxmlformats.org/officeDocument/2006/relationships/hyperlink" Target="http://www.paedu.net/" TargetMode="External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ic.sina.com.cn/cgi-bin/retr/imgclick?id=2528209&amp;flag=0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sports.china.com/zh_cn/sportsnews/soccer/1047/20020531/images/11264667_65633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753480" cy="746748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i="1" lang="zh-CN" sz="6000" spc="-1" strike="noStrike">
                <a:solidFill>
                  <a:srgbClr val="ff0000"/>
                </a:solidFill>
                <a:latin typeface="宋体"/>
              </a:rPr>
              <a:t>学会调控情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放飞好心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4495680" y="54100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4038480" y="649116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ea typeface="华文行楷"/>
                <a:hlinkClick r:id="rId2"/>
              </a:rPr>
              <a:t>http://www.paedu.n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1026"/>
          <p:cNvSpPr/>
          <p:nvPr/>
        </p:nvSpPr>
        <p:spPr>
          <a:xfrm>
            <a:off x="0" y="9907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他夸奖我了，好开心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27"/>
          <p:cNvSpPr/>
          <p:nvPr/>
        </p:nvSpPr>
        <p:spPr>
          <a:xfrm>
            <a:off x="7086600" y="914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1028" descr="0484"/>
          <p:cNvPicPr/>
          <p:nvPr/>
        </p:nvPicPr>
        <p:blipFill>
          <a:blip r:embed="rId1"/>
          <a:stretch/>
        </p:blipFill>
        <p:spPr>
          <a:xfrm>
            <a:off x="5486400" y="5335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1029"/>
          <p:cNvSpPr/>
          <p:nvPr/>
        </p:nvSpPr>
        <p:spPr>
          <a:xfrm>
            <a:off x="304920" y="25909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唉，他在讽刺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Picture 1030" descr="kt13"/>
          <p:cNvPicPr/>
          <p:nvPr/>
        </p:nvPicPr>
        <p:blipFill>
          <a:blip r:embed="rId2"/>
          <a:stretch/>
        </p:blipFill>
        <p:spPr>
          <a:xfrm>
            <a:off x="5486400" y="228600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1031"/>
          <p:cNvSpPr/>
          <p:nvPr/>
        </p:nvSpPr>
        <p:spPr>
          <a:xfrm>
            <a:off x="7086600" y="2514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伤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032"/>
          <p:cNvSpPr/>
          <p:nvPr/>
        </p:nvSpPr>
        <p:spPr>
          <a:xfrm>
            <a:off x="22860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他究竟为什么会这么说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Picture 1033" descr="kt33"/>
          <p:cNvPicPr/>
          <p:nvPr/>
        </p:nvPicPr>
        <p:blipFill>
          <a:blip r:embed="rId3"/>
          <a:stretch/>
        </p:blipFill>
        <p:spPr>
          <a:xfrm>
            <a:off x="5410080" y="5410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1034"/>
          <p:cNvSpPr/>
          <p:nvPr/>
        </p:nvSpPr>
        <p:spPr>
          <a:xfrm>
            <a:off x="380880" y="5638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哼，讨好我，想利用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035"/>
          <p:cNvSpPr/>
          <p:nvPr/>
        </p:nvSpPr>
        <p:spPr>
          <a:xfrm>
            <a:off x="7238880" y="4038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036"/>
          <p:cNvSpPr/>
          <p:nvPr/>
        </p:nvSpPr>
        <p:spPr>
          <a:xfrm>
            <a:off x="72388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厌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1037" descr="kt22"/>
          <p:cNvPicPr/>
          <p:nvPr/>
        </p:nvPicPr>
        <p:blipFill>
          <a:blip r:embed="rId4"/>
          <a:stretch/>
        </p:blipFill>
        <p:spPr>
          <a:xfrm>
            <a:off x="5486400" y="3733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back (22)"/>
          <p:cNvPicPr/>
          <p:nvPr/>
        </p:nvPicPr>
        <p:blipFill>
          <a:blip r:embed="rId1"/>
          <a:stretch/>
        </p:blipFill>
        <p:spPr>
          <a:xfrm>
            <a:off x="-609480" y="-1066680"/>
            <a:ext cx="9753480" cy="76960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3"/>
          <p:cNvSpPr/>
          <p:nvPr/>
        </p:nvSpPr>
        <p:spPr>
          <a:xfrm>
            <a:off x="2743200" y="762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宋体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一个小女孩趴在窗台上，看窗外的人正埋葬她心爱的小狗，不禁泪流满面，悲伤不已。她的外祖父见状，连忙引她到另一个窗口，让她欣赏他的玫瑰花园。果然小女孩的心情顿时明朗。老人托起外孙女的下巴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孩子，你开错了窗户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2819520" y="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智慧故事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5181480" y="0"/>
            <a:ext cx="299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不要开错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1026"/>
          <p:cNvSpPr/>
          <p:nvPr/>
        </p:nvSpPr>
        <p:spPr>
          <a:xfrm>
            <a:off x="511920" y="944640"/>
            <a:ext cx="78984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人生感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027"/>
          <p:cNvSpPr/>
          <p:nvPr/>
        </p:nvSpPr>
        <p:spPr>
          <a:xfrm rot="268800">
            <a:off x="7794720" y="623160"/>
            <a:ext cx="729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此可见，即使对于同一件事情，每个人的想法也大不相同啊！你可以改变你的态度来调适你的情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Oval 2"/>
          <p:cNvSpPr/>
          <p:nvPr/>
        </p:nvSpPr>
        <p:spPr>
          <a:xfrm>
            <a:off x="228600" y="0"/>
            <a:ext cx="1600200" cy="4648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-117000" y="762120"/>
            <a:ext cx="164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换个好情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3048120" y="914400"/>
            <a:ext cx="2743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5"/>
          <p:cNvSpPr/>
          <p:nvPr/>
        </p:nvSpPr>
        <p:spPr>
          <a:xfrm>
            <a:off x="2666880" y="6094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嫉妒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这次考试王聪比我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26668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有什么了不起，他没有我聪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2666880" y="13716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新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8"/>
          <p:cNvSpPr/>
          <p:nvPr/>
        </p:nvSpPr>
        <p:spPr>
          <a:xfrm>
            <a:off x="2743200" y="18288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多疑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同学们总是用异样的眼光看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9"/>
          <p:cNvSpPr/>
          <p:nvPr/>
        </p:nvSpPr>
        <p:spPr>
          <a:xfrm>
            <a:off x="266688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家庭条件差，他们看不起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0"/>
          <p:cNvSpPr/>
          <p:nvPr/>
        </p:nvSpPr>
        <p:spPr>
          <a:xfrm>
            <a:off x="2700360" y="270828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2743200" y="32004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害怕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这次又考砸了，不敢回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12"/>
          <p:cNvSpPr/>
          <p:nvPr/>
        </p:nvSpPr>
        <p:spPr>
          <a:xfrm>
            <a:off x="2666880" y="373392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辜负了父母期望，害怕会批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2666880" y="411480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4"/>
          <p:cNvSpPr/>
          <p:nvPr/>
        </p:nvSpPr>
        <p:spPr>
          <a:xfrm>
            <a:off x="2666880" y="4572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厌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他总爱在课上讲话，妨碍我听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5"/>
          <p:cNvSpPr/>
          <p:nvPr/>
        </p:nvSpPr>
        <p:spPr>
          <a:xfrm>
            <a:off x="4361400" y="5181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跟他坐在一起，真倒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6"/>
          <p:cNvSpPr/>
          <p:nvPr/>
        </p:nvSpPr>
        <p:spPr>
          <a:xfrm>
            <a:off x="2666880" y="55627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17" descr="button101">
            <a:hlinkClick r:id="rId2" action="ppaction://hlinksldjump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609588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2"/>
          <p:cNvSpPr/>
          <p:nvPr/>
        </p:nvSpPr>
        <p:spPr>
          <a:xfrm>
            <a:off x="609480" y="53352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换一副眼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得一副好心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02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8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Picture 1027" descr="2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希腊哲学家苏格拉底原先和几个朋友住在一间只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方的房子，有人认为他居住的条件太差了，他说：“朋友们住在一起，随时可以和他们交流感情，是值得高兴的事啊。”几年后，他一个人住，又有人说他太寂寞了，他又说：“我有很多书啊，一本书就是一个老师，我和那么多老师在一起，怎么不高兴呢？”之后，他住进楼房的一楼，有人认为一楼的环境差，“你不知道，一楼方便啊，进门就到家，朋友来方便，还可以在空地上种花、种菜什么的。”后来，他又搬到顶楼，有人说住顶楼没好处，“好处多啊，每天爬楼锻炼身体，光线也好。头顶上没干扰，白天晚上都安静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826920" y="981000"/>
            <a:ext cx="80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们热爱生活，有着乐观的生活态度，即使遭遇到挫折、失败，甚至危及到生命，他们依然能够保持积极向上的情绪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1280" y="43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有了快乐的思想和行为，你就能感到快乐。                       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卡耐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5" descr="sun1"/>
          <p:cNvPicPr/>
          <p:nvPr/>
        </p:nvPicPr>
        <p:blipFill>
          <a:blip r:embed="rId2"/>
          <a:stretch/>
        </p:blipFill>
        <p:spPr>
          <a:xfrm>
            <a:off x="2700360" y="2997360"/>
            <a:ext cx="5543640" cy="2347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6" descr="sun1"/>
          <p:cNvPicPr/>
          <p:nvPr/>
        </p:nvPicPr>
        <p:blipFill>
          <a:blip r:embed="rId3"/>
          <a:stretch/>
        </p:blipFill>
        <p:spPr>
          <a:xfrm>
            <a:off x="826920" y="3500280"/>
            <a:ext cx="5761080" cy="24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217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efb73"/>
                </a:solidFill>
                <a:latin typeface="华文彩云"/>
                <a:ea typeface="华文彩云"/>
              </a:rPr>
              <a:t>故事</a:t>
            </a:r>
            <a:r>
              <a:rPr b="1" lang="en-US" sz="4400" spc="-1" strike="noStrike">
                <a:solidFill>
                  <a:srgbClr val="defb73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一个孩子跑到山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意间对着山谷喊了一声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声音刚落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四面八方传来了一阵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回声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山答应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很惊讶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喊了一声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是谁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山也回应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是谁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生气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喊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恨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哪知道这一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整个群山传来的声音都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恨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忍不住了哭着回家告诉了妈妈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妈妈对他说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回去对大山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试呢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又跑到山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果然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次孩子被包围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你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回声之中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笑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群山也笑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back (70)"/>
          <p:cNvPicPr/>
          <p:nvPr/>
        </p:nvPicPr>
        <p:blipFill>
          <a:blip r:embed="rId1"/>
          <a:stretch/>
        </p:blipFill>
        <p:spPr>
          <a:xfrm>
            <a:off x="200160" y="28440"/>
            <a:ext cx="8743680" cy="6801120"/>
          </a:xfrm>
          <a:prstGeom prst="rect">
            <a:avLst/>
          </a:prstGeom>
          <a:ln w="0">
            <a:noFill/>
          </a:ln>
        </p:spPr>
      </p:pic>
      <p:sp>
        <p:nvSpPr>
          <p:cNvPr id="898" name="Text Box 3"/>
          <p:cNvSpPr/>
          <p:nvPr/>
        </p:nvSpPr>
        <p:spPr>
          <a:xfrm>
            <a:off x="1523880" y="17524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生活就像一面镜子，你对它哭，它对你哭；你对它笑，它也对你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课堂小结</a:t>
            </a:r>
            <a:r>
              <a:rPr b="0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情绪与我们个人的态度是紧密相连的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生活中我们可以通过改变自己的态度来控制自己的情绪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听一听</a:t>
            </a:r>
            <a:r>
              <a:rPr b="1" lang="en-US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,</a:t>
            </a:r>
            <a:r>
              <a:rPr b="1" lang="zh-CN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看一看</a:t>
            </a:r>
            <a:r>
              <a:rPr b="1" lang="en-US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,</a:t>
            </a:r>
            <a:r>
              <a:rPr b="1" lang="zh-CN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议一议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58920" y="3789360"/>
            <a:ext cx="6562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有阴晴圆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人有喜怒哀乐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这是否意味着我们是</a:t>
            </a:r>
            <a:r>
              <a:rPr b="1" i="1" lang="zh-CN" sz="3200" spc="-1" strike="noStrike">
                <a:solidFill>
                  <a:srgbClr val="ffcc00"/>
                </a:solidFill>
                <a:latin typeface="Garamond"/>
              </a:rPr>
              <a:t>情绪的奴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呢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1692360" y="2205000"/>
            <a:ext cx="5256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cc00"/>
                </a:solidFill>
                <a:uFillTx/>
                <a:latin typeface="Times New Roman"/>
                <a:ea typeface="华文琥珀"/>
                <a:hlinkClick r:id="rId1"/>
              </a:rPr>
              <a:t>最 近 比 较 烦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imes New Roman"/>
                <a:ea typeface="华文琥珀"/>
                <a:hlinkClick r:id="rId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4038480" y="649116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ea typeface="华文行楷"/>
                <a:hlinkClick r:id="rId3"/>
              </a:rPr>
              <a:t>http://www.paedu.n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 Box 2"/>
          <p:cNvSpPr/>
          <p:nvPr/>
        </p:nvSpPr>
        <p:spPr>
          <a:xfrm>
            <a:off x="228600" y="0"/>
            <a:ext cx="89154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情绪像一首歌，抑扬顿挫，委婉悠长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情绪像一幅画，色彩斑斓，意境深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我们心灵的花园里，情绪之花争相斗艳，在我们火热的青春里，情绪似“奔腾的洪流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我们广阔的智慧里，理智驾驭着情绪之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3" descr="01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707040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"/>
          <p:cNvSpPr/>
          <p:nvPr/>
        </p:nvSpPr>
        <p:spPr>
          <a:xfrm>
            <a:off x="250920" y="836640"/>
            <a:ext cx="8626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绪像一首歌，抑扬顿挫，委婉悠长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绪像一幅画，色彩斑斓，意境深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绪像一首诗，月有阴晴圆缺，人有喜怒哀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们心灵的花园里，情绪之花争相斗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们火热的青春里，情绪似“奔腾的洪流” 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我们广阔的智慧里，理智控制着情绪之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5"/>
          <p:cNvSpPr/>
          <p:nvPr/>
        </p:nvSpPr>
        <p:spPr>
          <a:xfrm>
            <a:off x="838080" y="0"/>
            <a:ext cx="5029200" cy="914400"/>
          </a:xfrm>
          <a:prstGeom prst="cloudCallout">
            <a:avLst>
              <a:gd name="adj1" fmla="val -46305"/>
              <a:gd name="adj2" fmla="val 60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127160" y="9684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447920" y="-468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说一说：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情绪像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064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480000" y="333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你会怎么办</a:t>
            </a: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063"/>
          <p:cNvPicPr/>
          <p:nvPr/>
        </p:nvPicPr>
        <p:blipFill>
          <a:blip r:embed="rId1"/>
          <a:srcRect l="2646" t="0" r="6115" b="10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2" descr="065"/>
          <p:cNvPicPr/>
          <p:nvPr/>
        </p:nvPicPr>
        <p:blipFill>
          <a:blip r:embed="rId1"/>
          <a:srcRect l="5790" t="0" r="2653" b="0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Picture 3" descr="点击看大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4"/>
          <p:cNvSpPr txBox="1"/>
          <p:nvPr/>
        </p:nvSpPr>
        <p:spPr>
          <a:xfrm>
            <a:off x="533520" y="914400"/>
            <a:ext cx="160020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哭</a:t>
            </a:r>
            <a:endParaRPr b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2" descr="kt11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3"/>
          <p:cNvSpPr/>
          <p:nvPr/>
        </p:nvSpPr>
        <p:spPr>
          <a:xfrm>
            <a:off x="-561240" y="0"/>
            <a:ext cx="2009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imes New Roman"/>
              </a:rPr>
              <a:t>大声叫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sport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WordArt 3"/>
          <p:cNvSpPr txBox="1"/>
          <p:nvPr/>
        </p:nvSpPr>
        <p:spPr>
          <a:xfrm>
            <a:off x="1066680" y="0"/>
            <a:ext cx="21337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运动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mic"/>
          <p:cNvPicPr/>
          <p:nvPr/>
        </p:nvPicPr>
        <p:blipFill>
          <a:blip r:embed="rId1"/>
          <a:stretch/>
        </p:blipFill>
        <p:spPr>
          <a:xfrm>
            <a:off x="175248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67140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013120" y="2451240"/>
            <a:ext cx="646092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Picture 4" descr="forum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2"/>
          <p:cNvGrpSpPr/>
          <p:nvPr/>
        </p:nvGrpSpPr>
        <p:grpSpPr>
          <a:xfrm>
            <a:off x="2232000" y="2635200"/>
            <a:ext cx="4680000" cy="1569960"/>
            <a:chOff x="2232000" y="2635200"/>
            <a:chExt cx="4680000" cy="1569960"/>
          </a:xfrm>
        </p:grpSpPr>
        <p:sp>
          <p:nvSpPr>
            <p:cNvPr id="923" name="Rectangle 3"/>
            <p:cNvSpPr/>
            <p:nvPr/>
          </p:nvSpPr>
          <p:spPr>
            <a:xfrm>
              <a:off x="2232000" y="2635200"/>
              <a:ext cx="4680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4"/>
            <p:cNvSpPr/>
            <p:nvPr/>
          </p:nvSpPr>
          <p:spPr>
            <a:xfrm>
              <a:off x="2232000" y="2635200"/>
              <a:ext cx="468000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9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5" name="Picture 5" descr="00001701"/>
          <p:cNvPicPr/>
          <p:nvPr/>
        </p:nvPicPr>
        <p:blipFill>
          <a:blip r:embed="rId1"/>
          <a:stretch/>
        </p:blipFill>
        <p:spPr>
          <a:xfrm>
            <a:off x="5410080" y="1447920"/>
            <a:ext cx="3508560" cy="4647960"/>
          </a:xfrm>
          <a:prstGeom prst="rect">
            <a:avLst/>
          </a:prstGeom>
          <a:ln w="0">
            <a:noFill/>
          </a:ln>
        </p:spPr>
      </p:pic>
      <p:sp>
        <p:nvSpPr>
          <p:cNvPr id="926" name="WordArt 6"/>
          <p:cNvSpPr txBox="1"/>
          <p:nvPr/>
        </p:nvSpPr>
        <p:spPr>
          <a:xfrm>
            <a:off x="152280" y="1828800"/>
            <a:ext cx="17528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喝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酒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7" name="Picture 7" descr="w0179_1"/>
          <p:cNvPicPr/>
          <p:nvPr/>
        </p:nvPicPr>
        <p:blipFill>
          <a:blip r:embed="rId2"/>
          <a:stretch/>
        </p:blipFill>
        <p:spPr>
          <a:xfrm>
            <a:off x="2133720" y="1447920"/>
            <a:ext cx="3319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总觉得日子过得有一些极端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想我还是不习惯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从没没无闻到有人喜欢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总觉得钞票一天比一天难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朋友常常有意无意调侃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也许有天改名叫周转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看那前方怎么也看不到岸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那个後面还有一班天才追赶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哎呦写一首皆大欢喜的歌是越来越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陌生的城市何处有我的期盼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挥别了家乡的伙伴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现在的我更觉得孤单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2" descr="xs406004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929" name="WordArt 3"/>
          <p:cNvSpPr txBox="1"/>
          <p:nvPr/>
        </p:nvSpPr>
        <p:spPr>
          <a:xfrm>
            <a:off x="6248520" y="609480"/>
            <a:ext cx="2361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睡觉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2" descr="19"/>
          <p:cNvPicPr/>
          <p:nvPr/>
        </p:nvPicPr>
        <p:blipFill>
          <a:blip r:embed="rId1"/>
          <a:stretch/>
        </p:blipFill>
        <p:spPr>
          <a:xfrm>
            <a:off x="2666880" y="304920"/>
            <a:ext cx="5246640" cy="6207120"/>
          </a:xfrm>
          <a:prstGeom prst="rect">
            <a:avLst/>
          </a:prstGeom>
          <a:ln w="0">
            <a:noFill/>
          </a:ln>
        </p:spPr>
      </p:pic>
      <p:sp>
        <p:nvSpPr>
          <p:cNvPr id="931" name="WordArt 3"/>
          <p:cNvSpPr txBox="1"/>
          <p:nvPr/>
        </p:nvSpPr>
        <p:spPr>
          <a:xfrm rot="182400">
            <a:off x="304920" y="914040"/>
            <a:ext cx="1752480" cy="53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80000"/>
                </a:gradFill>
                <a:latin typeface="华文行楷"/>
              </a:rPr>
              <a:t>吃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8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80000"/>
                </a:gradFill>
                <a:latin typeface="华文行楷"/>
              </a:rPr>
              <a:t>东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8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80000"/>
                </a:gradFill>
                <a:latin typeface="华文行楷"/>
              </a:rPr>
              <a:t>西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8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K15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29560"/>
          </a:xfrm>
          <a:prstGeom prst="rect">
            <a:avLst/>
          </a:prstGeom>
          <a:ln w="0">
            <a:noFill/>
          </a:ln>
        </p:spPr>
      </p:pic>
      <p:sp>
        <p:nvSpPr>
          <p:cNvPr id="933" name="WordArt 3"/>
          <p:cNvSpPr txBox="1"/>
          <p:nvPr/>
        </p:nvSpPr>
        <p:spPr>
          <a:xfrm>
            <a:off x="6324480" y="4038480"/>
            <a:ext cx="2514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行楷"/>
              </a:rPr>
              <a:t>打架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11430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Times New Roman"/>
              </a:rPr>
              <a:t>情绪发泄基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1447920" y="2819520"/>
          <a:ext cx="6248160" cy="761760"/>
        </p:xfrm>
        <a:graphic>
          <a:graphicData uri="http://schemas.openxmlformats.org/drawingml/2006/table">
            <a:tbl>
              <a:tblPr/>
              <a:tblGrid>
                <a:gridCol w="2097000"/>
                <a:gridCol w="1773360"/>
                <a:gridCol w="2377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恰当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中性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不恰当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6" name="Text Box 14"/>
          <p:cNvSpPr/>
          <p:nvPr/>
        </p:nvSpPr>
        <p:spPr>
          <a:xfrm>
            <a:off x="1447920" y="3733920"/>
            <a:ext cx="22096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哭、运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找人倾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唱歌、娱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5"/>
          <p:cNvSpPr/>
          <p:nvPr/>
        </p:nvSpPr>
        <p:spPr>
          <a:xfrm>
            <a:off x="3581280" y="3733920"/>
            <a:ext cx="198144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吃东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6"/>
          <p:cNvSpPr/>
          <p:nvPr/>
        </p:nvSpPr>
        <p:spPr>
          <a:xfrm>
            <a:off x="5410080" y="37339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狂哭、狂睡、狂吃、喝酒、吸烟、生闷气、扔东西、打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2"/>
          <p:cNvSpPr/>
          <p:nvPr/>
        </p:nvSpPr>
        <p:spPr>
          <a:xfrm>
            <a:off x="1143000" y="121932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归纳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"/>
          <p:cNvSpPr/>
          <p:nvPr/>
        </p:nvSpPr>
        <p:spPr>
          <a:xfrm>
            <a:off x="1143000" y="213372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倾诉型：分享快乐、分担忧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1143000" y="320040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摧残型：吸烟、喝酒、狂吃狂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1143000" y="42670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运动型：打球、游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3974760" y="2563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b9fdf"/>
                </a:solidFill>
                <a:latin typeface="Times New Roman"/>
                <a:ea typeface="隶书"/>
              </a:rPr>
              <a:t>转移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332000" y="549180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0fb3"/>
                </a:solidFill>
                <a:latin typeface="Times New Roman"/>
                <a:ea typeface="隶书"/>
              </a:rPr>
              <a:t>当自己不开心的时候，把不开心的感觉转移到别的东西上去。例如自己考试考得不好，很不快乐，那就想想上个周末全班去郊游的事情，或者想想昨天老师表扬自己勤奋学习的时刻，这时，我们会变得快乐，积极起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4" descr="0064"/>
          <p:cNvPicPr/>
          <p:nvPr/>
        </p:nvPicPr>
        <p:blipFill>
          <a:blip r:embed="rId1"/>
          <a:stretch/>
        </p:blipFill>
        <p:spPr>
          <a:xfrm>
            <a:off x="7524720" y="5897520"/>
            <a:ext cx="1266840" cy="960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5" descr="HOT1"/>
          <p:cNvPicPr/>
          <p:nvPr/>
        </p:nvPicPr>
        <p:blipFill>
          <a:blip r:embed="rId2"/>
          <a:stretch/>
        </p:blipFill>
        <p:spPr>
          <a:xfrm>
            <a:off x="7236000" y="23493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2"/>
          <p:cNvSpPr/>
          <p:nvPr/>
        </p:nvSpPr>
        <p:spPr>
          <a:xfrm>
            <a:off x="3633840" y="815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b9fdf"/>
                </a:solidFill>
                <a:latin typeface="Times New Roman"/>
                <a:ea typeface="华文楷体"/>
              </a:rPr>
              <a:t>呼吸调节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"/>
          <p:cNvSpPr/>
          <p:nvPr/>
        </p:nvSpPr>
        <p:spPr>
          <a:xfrm>
            <a:off x="2003400" y="237024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914400" y="2831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0fb3"/>
                </a:solidFill>
                <a:latin typeface="Times New Roman"/>
                <a:ea typeface="华文楷体"/>
              </a:rPr>
              <a:t>当自己觉得很不开心的时候，闭上眼睛，深吸气，然后把气慢慢放出来；再深吸气</a:t>
            </a:r>
            <a:r>
              <a:rPr b="1" lang="en-US" sz="3200" spc="-1" strike="noStrike">
                <a:solidFill>
                  <a:srgbClr val="1b0fb3"/>
                </a:solidFill>
                <a:latin typeface="Times New Roman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1b0fb3"/>
                </a:solidFill>
                <a:latin typeface="Times New Roman"/>
                <a:ea typeface="华文楷体"/>
              </a:rPr>
              <a:t>如此持续几个循环。你会发现自己呼吸变得平稳，整个人也平静下来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Picture 5" descr="0032"/>
          <p:cNvPicPr/>
          <p:nvPr/>
        </p:nvPicPr>
        <p:blipFill>
          <a:blip r:embed="rId1"/>
          <a:stretch/>
        </p:blipFill>
        <p:spPr>
          <a:xfrm>
            <a:off x="1403280" y="5084640"/>
            <a:ext cx="914400" cy="8892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6" descr="HOT2"/>
          <p:cNvPicPr/>
          <p:nvPr/>
        </p:nvPicPr>
        <p:blipFill>
          <a:blip r:embed="rId2"/>
          <a:stretch/>
        </p:blipFill>
        <p:spPr>
          <a:xfrm>
            <a:off x="6553080" y="685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2"/>
          <p:cNvSpPr/>
          <p:nvPr/>
        </p:nvSpPr>
        <p:spPr>
          <a:xfrm>
            <a:off x="3069720" y="979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表情调节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1187280" y="3814200"/>
            <a:ext cx="589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0fb3"/>
                </a:solidFill>
                <a:latin typeface="楷体_GB2312"/>
                <a:ea typeface="楷体_GB2312"/>
              </a:rPr>
              <a:t>当自己不开心的时候，到镜子面前对着自己扮鬼脸。你会发现自己也可以逗自己笑，笑起来的自己其实也很可爱，不开心的情绪也就不见拉≈≈≈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4" descr="kld"/>
          <p:cNvPicPr/>
          <p:nvPr/>
        </p:nvPicPr>
        <p:blipFill>
          <a:blip r:embed="rId1"/>
          <a:stretch/>
        </p:blipFill>
        <p:spPr>
          <a:xfrm>
            <a:off x="6877080" y="836640"/>
            <a:ext cx="1542960" cy="1752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5" descr="HOT2"/>
          <p:cNvPicPr/>
          <p:nvPr/>
        </p:nvPicPr>
        <p:blipFill>
          <a:blip r:embed="rId2"/>
          <a:stretch/>
        </p:blipFill>
        <p:spPr>
          <a:xfrm>
            <a:off x="1258920" y="836640"/>
            <a:ext cx="860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gar08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Text Box 3"/>
          <p:cNvSpPr/>
          <p:nvPr/>
        </p:nvSpPr>
        <p:spPr>
          <a:xfrm>
            <a:off x="380880" y="1911600"/>
            <a:ext cx="3467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今天的课我们知道，没有什么烦恼是我们不可以解决的，对不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却乌云见晴天，我们排除了烦恼也就见到快乐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家还会不快乐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4" descr="笑1"/>
          <p:cNvPicPr/>
          <p:nvPr/>
        </p:nvPicPr>
        <p:blipFill>
          <a:blip r:embed="rId2"/>
          <a:stretch/>
        </p:blipFill>
        <p:spPr>
          <a:xfrm>
            <a:off x="0" y="6054840"/>
            <a:ext cx="1044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5375520" y="98100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以我们都要记住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WordArt 3"/>
          <p:cNvSpPr txBox="1"/>
          <p:nvPr/>
        </p:nvSpPr>
        <p:spPr>
          <a:xfrm>
            <a:off x="5219640" y="1700280"/>
            <a:ext cx="36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快乐就在我身边！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儿说六加六结果等於十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问老段说怎么办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他说基本上这个很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你烦也比你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梦见和饭岛爱一起晚餐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梦中的餐厅灯光太昏暗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遍寻不著那蓝色的小药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usic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生总有远的近的麻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太每天嫌我回家太晚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友妈妈嫌我长得寒酸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虽然我已每天苦干实干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华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它什么天大麻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久而久之我会习惯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下没有不要钱的午餐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太发现秘书裙子很短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她就买了八千块的耳环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儿太胖儿子不肯吃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车子太烂银行没有存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华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麻烦麻烦麻烦麻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麻烦我很麻烦麻烦麻烦麻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比较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的头发只剩下从前的一半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天的工作排得太满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台北的女生有些高不可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只是心烦却还没有混乱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们的关心让我温暖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家是我最甘心的负担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李华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烦我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只有一点烦你比我烦我情愿心甘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我不烦我不烦我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有一点烦你和我一样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我不烦我真的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人生很灿烂灿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你比我烦你比较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比较烦我不烦我一点都不烦我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4"/>
          <p:cNvGrpSpPr/>
          <p:nvPr/>
        </p:nvGrpSpPr>
        <p:grpSpPr>
          <a:xfrm>
            <a:off x="4643280" y="4797360"/>
            <a:ext cx="3887640" cy="1706400"/>
            <a:chOff x="4643280" y="4797360"/>
            <a:chExt cx="3887640" cy="1706400"/>
          </a:xfrm>
        </p:grpSpPr>
        <p:sp>
          <p:nvSpPr>
            <p:cNvPr id="834" name="AutoShape 5"/>
            <p:cNvSpPr/>
            <p:nvPr/>
          </p:nvSpPr>
          <p:spPr>
            <a:xfrm>
              <a:off x="4643280" y="4797360"/>
              <a:ext cx="3797280" cy="1706400"/>
            </a:xfrm>
            <a:prstGeom prst="cloudCallout">
              <a:avLst>
                <a:gd name="adj1" fmla="val -49402"/>
                <a:gd name="adj2" fmla="val 78064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6"/>
            <p:cNvSpPr/>
            <p:nvPr/>
          </p:nvSpPr>
          <p:spPr>
            <a:xfrm>
              <a:off x="5095080" y="4870080"/>
              <a:ext cx="343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</a:rPr>
                <a:t>给了你什么启示</a:t>
              </a: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Rectangle 7"/>
          <p:cNvSpPr/>
          <p:nvPr/>
        </p:nvSpPr>
        <p:spPr>
          <a:xfrm>
            <a:off x="324000" y="692280"/>
            <a:ext cx="813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一个粗心的医生，将两个病人的诊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报告弄错了。原本没有癌症倾向的病人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为错误的诊断报告，而极度的伤心、痛苦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焦虑，并且情绪极不稳定。没过多久，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医院的再次检查中，果真发现了癌症的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向。而那位本应有癌症倾向的病人，由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拿到了没有癌症倾向的诊断证明，情绪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得高涨，心情变得愉悦，病情渐渐好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a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3"/>
          <p:cNvSpPr/>
          <p:nvPr/>
        </p:nvSpPr>
        <p:spPr>
          <a:xfrm>
            <a:off x="1824120" y="885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4"/>
          <p:cNvGrpSpPr/>
          <p:nvPr/>
        </p:nvGrpSpPr>
        <p:grpSpPr>
          <a:xfrm>
            <a:off x="250920" y="765000"/>
            <a:ext cx="7139160" cy="2362320"/>
            <a:chOff x="250920" y="765000"/>
            <a:chExt cx="7139160" cy="2362320"/>
          </a:xfrm>
        </p:grpSpPr>
        <p:sp>
          <p:nvSpPr>
            <p:cNvPr id="840" name="AutoShape 5"/>
            <p:cNvSpPr/>
            <p:nvPr/>
          </p:nvSpPr>
          <p:spPr>
            <a:xfrm>
              <a:off x="250920" y="765000"/>
              <a:ext cx="838080" cy="2362320"/>
            </a:xfrm>
            <a:prstGeom prst="verticalScroll">
              <a:avLst>
                <a:gd name="adj" fmla="val 125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你分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6"/>
            <p:cNvSpPr/>
            <p:nvPr/>
          </p:nvSpPr>
          <p:spPr>
            <a:xfrm>
              <a:off x="2472840" y="1204920"/>
              <a:ext cx="4917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对同样的事情，为什么不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的人会有不同的情绪表现呢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2" name="Picture 7" descr="Image10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6058080" y="3429000"/>
            <a:ext cx="2503440" cy="274464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8"/>
          <p:cNvSpPr/>
          <p:nvPr/>
        </p:nvSpPr>
        <p:spPr>
          <a:xfrm>
            <a:off x="4886280" y="4059360"/>
            <a:ext cx="11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Picture 9" descr="Image11-1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244680" y="3699000"/>
            <a:ext cx="2654640" cy="24080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" descr="Image12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476280" y="3429000"/>
            <a:ext cx="2486160" cy="279072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11"/>
          <p:cNvSpPr/>
          <p:nvPr/>
        </p:nvSpPr>
        <p:spPr>
          <a:xfrm>
            <a:off x="1979640" y="2852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因为每个人看问题的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角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和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态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2" descr="fans_ho"/>
          <p:cNvPicPr/>
          <p:nvPr/>
        </p:nvPicPr>
        <p:blipFill>
          <a:blip r:embed="rId2"/>
          <a:stretch/>
        </p:blipFill>
        <p:spPr>
          <a:xfrm>
            <a:off x="468360" y="784080"/>
            <a:ext cx="3672000" cy="24512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3" descr="11264667_656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61080" y="1303200"/>
            <a:ext cx="3598560" cy="265752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4"/>
          <p:cNvSpPr/>
          <p:nvPr/>
        </p:nvSpPr>
        <p:spPr>
          <a:xfrm>
            <a:off x="538200" y="3429000"/>
            <a:ext cx="388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球迷为什么会在自己身上涂满了色彩标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395280" y="47563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心热爱足球，对足球有着深厚感情和极大的兴趣。他们在每场比赛中都情绪高涨，十分投入。用各种方式表现个性情绪。相反，有些人对足球不感兴趣，再盛大的比赛也不能激发他们的热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1332000" y="259560"/>
            <a:ext cx="74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黑体"/>
              </a:rPr>
              <a:t>兴趣不同，人们的情绪感受也不会相同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黑体"/>
              </a:rPr>
              <a:t>。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shop62905894.taobao.com</cp:keywords>
  <dc:language>en-US</dc:language>
  <cp:lastModifiedBy>微软用户</cp:lastModifiedBy>
  <dcterms:modified xsi:type="dcterms:W3CDTF">2011-09-28T05:23:18Z</dcterms:modified>
  <cp:revision>25</cp:revision>
  <dc:subject>主题班会课件(分28大类): http://shop62905894.taobao.com</dc:subject>
  <dc:title>主题班会课件(分28大类): http://shop62905894.taobao.com</dc:title>
</cp:coreProperties>
</file>