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7EA-66E6-41B5-A19C-9A4C77CE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706-75AF-49AA-BCFF-2190989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054-6D78-4297-8E2E-E81BE20E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C29-6748-4159-86AA-9A25C913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04E-CB63-4C2C-8A16-D61553AC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797-BEA3-43EA-A2ED-F9FFCF76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CA5-8819-4411-A9DC-14D0683B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9FE-C6FA-4F2E-BC41-D02D6197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203-2390-441E-93C1-953CA7D4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182-F6ED-46BD-949F-132B617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2B0-B3AD-4B9F-8623-0F4FA8F0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2FD-4CFC-4C71-A735-3E239B1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CBD4-7F07-47E6-90C5-CDF4789E6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天空之城 宫崎骏.mp3" descr=""/>
          <p:cNvPicPr/>
          <p:nvPr/>
        </p:nvPicPr>
        <p:blipFill>
          <a:blip r:embed="rId2"/>
          <a:stretch/>
        </p:blipFill>
        <p:spPr>
          <a:xfrm>
            <a:off x="7740720" y="76500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sh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9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故事讲完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0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2:58:11Z</dcterms:created>
  <dc:creator>yang</dc:creator>
  <dc:description/>
  <dc:language>en-US</dc:language>
  <cp:lastModifiedBy>USER</cp:lastModifiedBy>
  <dcterms:modified xsi:type="dcterms:W3CDTF">2013-11-01T15:32:01Z</dcterms:modified>
  <cp:revision>11</cp:revision>
  <dc:subject/>
  <dc:title>幻灯片 1</dc:title>
</cp:coreProperties>
</file>