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13.png" ContentType="image/png"/>
  <Override PartName="/ppt/media/image12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5A5-C76A-4769-9AE4-50A9B8E775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30E4-DDE9-4A06-A0EE-D3BFB4AD5F9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E21-6B87-4CCE-B455-74DDB004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520-2C08-4BD8-8D53-620386F7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AFC-7F6E-4482-825A-442BA02F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34B-00C4-409B-A6D6-1F092E42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0249-6309-494B-A41C-2ABC00C1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8219-C87A-44C6-B45F-884FF7A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3D7-7202-4DE8-9FD3-84D0B0BD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27CE-EAA5-437B-A52E-DA9FE3E9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4E5F-0869-462C-9950-2ED1CA68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CB2E-08FA-4960-843C-276F1D6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36D5-4AC7-4D5D-A617-E8F3294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805-0D71-4FB1-9E88-487C60E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6667-076B-464F-86FD-24DC34F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A59-7E2D-42D0-AE4D-1B86F39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B33-E355-4CFF-97BE-730FA22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B91D-F64E-4CBA-9139-790FE7C5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8DCE-F93E-4775-9485-8BCF882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3E1D-A017-4A47-A3EB-1C10F83D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DC53-446D-4C2A-9B88-D736E4E1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2F98-A771-40C2-A084-99F942D5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23CF-3189-4E10-8696-E5DC99C9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1AA0-7FC5-4E1A-B429-07D9EC01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59F-2B83-47C5-A2CC-91C39B01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8FBC-8982-4B84-B686-CC0331BA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6893-0115-4FAB-B8FC-325539B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4DDB-C398-4DC9-9A32-4FCBB91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D527-AD88-4EC0-8224-09AB1F1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3392-1888-4FE0-83D1-54A43D39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8A37-8113-4736-B99B-054A640A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2B1E-C510-4B7B-8CB2-A8D05613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177-A7FD-42E5-917E-EE58CA6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78A-CE03-456D-801E-F10FD92B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FD7-D53C-4AD3-BF72-C19107F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560-5C5B-492C-B702-6FFE435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E9E-F56A-4250-BD5F-35A2CD7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DD1-DEB1-4747-ACC5-A3F4BC7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9D4-C013-453C-BCAA-5C6AF4985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106-2B6D-4624-A1A3-7B6C5A03212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A95-1AF0-47F9-9BF0-A649823F94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620640"/>
            <a:ext cx="835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雷锋精神，共创和谐校园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80000" y="3068640"/>
            <a:ext cx="18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92360" y="3141720"/>
            <a:ext cx="215568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08720" y="3068640"/>
            <a:ext cx="192888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708360" y="3141720"/>
            <a:ext cx="195120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539640" y="27208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总书记全面而系统地对雷锋和雷锋精神进行了精辟的总结：“一个只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年短暂生命的普通共产党员，能够赢得亿万人民如此崇高和长久的敬意；一个普通的战士所表现出的高贵品质，能够激励几代人的健康成长；一个群众性的活动，能够在几十年历史进程中延续不断，影响一个时代的社会风尚，这表明雷锋精神对于我们这个民族和社会过去具有、现在仍然具有重大价值和时代意义。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3056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6193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9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6048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888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978000" cy="5977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3353400"/>
            <a:ext cx="845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雷锋的名字已经超越了国界和疆域，全世界的人民在不同的国度用不同语言读着他的故事，在不同的岗位怀着同样的真诚学着他的精神。美国人说：“雷锋属于世界。”巴西人说：“雷锋应是精神领袖。”日本人说：“要像雷锋那样生活。”美国专门成立了学习雷锋研究会，泰国政府专门翻印《雷锋》图书发给国民学习，美国西点军校的大厅里悬挂着五位“英雄像”，首位就是雷锋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03400" y="404640"/>
            <a:ext cx="3168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雷锋在国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03280" y="5877000"/>
            <a:ext cx="6769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讨论：我们将怎样践行雷锋精神？</a:t>
            </a:r>
            <a:endParaRPr b="0" lang="en-US" sz="18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8000" cy="1513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6443640" y="1268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华山抢险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89154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1160" y="1773360"/>
            <a:ext cx="835632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外出办事、不慎迷失方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赶着办急事却挤不上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你买东西缺少一分钱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不小心摔跤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搬不动重的东西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的车坏了时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下雨时忘了带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我们上课时病痛难忍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00000" y="3213000"/>
            <a:ext cx="7753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们生活中学习中处处时时需要雷锋的帮助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77080" y="4543560"/>
            <a:ext cx="2266920" cy="23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4192560"/>
            <a:ext cx="2278080" cy="266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22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268360" cy="196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23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0" y="1285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凡是看到需要帮助的人，他都毫不犹豫地伸出热情的双手。究竟为别人做了多少好事，连他自己都记不住了。多年来，除了给希望工程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，他还帮助身边有困难的人和向社会慈善事业捐款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万多元。汶川大地震后，他不仅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次捐款，还交了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050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元特殊党费。正是由于他几十年如一日无怨无悔、不求任何回报的付出，使他拥有了强大的人格魅力，感动了身边的每一个人，也激发了他们对高尚品德和完美人格的追求与渴望。这就是郭明义他先后荣获了齐矿先进生产者标兵、模范共产党员，矿业公司先进生产者、模范共产党员，鞍钢先进生产者、精神文明建设标兵、优秀共产党员、鞍钢劳动模范，鞍山市优秀义工、道德模范、无偿献血形象代言人、特等劳动模范、辽宁省道德模范提名奖、希望工程突出贡献奖、全国无偿献血奉献奖金奖、全国红十字志愿者之星、中央企业优秀共产党员等荣誉称号。 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bc3f00"/>
                </a:solidFill>
                <a:latin typeface="Arial"/>
              </a:rPr>
              <a:t>日，齐大山铁矿党政工做出了《关于开展向郭明义同志学习活动的决定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309600"/>
            <a:ext cx="82152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代活雷锋 郭明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0"/>
            <a:ext cx="3527280" cy="74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忠于革命忠于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爱憎分明不忘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立场坚定斗志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艰苦朴素永不忘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愿做革命的螺丝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集体主义思想放光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主席的教导记心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全心全意为人民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共产主义品德多高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学习雷锋好榜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毛泽东思想来武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保卫祖国握紧枪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继续革命当闯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0"/>
            <a:ext cx="730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《学习雷锋好榜样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5975640" cy="511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678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8497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0"/>
            <a:ext cx="5113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你，浪花里的一滴水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这里， 我要歌唱一个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将军， 却立了无数功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不是文豪， 却写下不朽诗文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如此平凡，如此年青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一滴小小的春雨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渗透— 亿万人的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呵为什么，六亿人民的心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念着这个二十二岁士兵的姓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一滴水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反映了整个太阳的光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展翅的鸟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够一心向着党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才点亮的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不过每一分光都没浪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啊， 是刚敲响的鼓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能把每一声都化成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67280" y="260280"/>
            <a:ext cx="417672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编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不为自己织罗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自己梳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不为个人流一滴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啊，雷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国际歌》里的一个      音符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红旗上的一根纤维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花丛中的红花一瓣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你，浪花里最清的一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青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永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壮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看列兵雷锋呵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回声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步一个歌曲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直响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未来的无穷世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9440" cy="6048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9280" y="333360"/>
            <a:ext cx="374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240" y="333360"/>
            <a:ext cx="266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班主任寄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做好分内的事，做好身边的小事，怀着一颗感恩的心去学习、生活，共创和谐校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840" y="7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学习雷锋好榜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28800" y="9284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忠于革命忠于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爱憎分明不忘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场坚定斗志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艰苦朴素永不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愿做革命的螺丝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集体主义思想放光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4786200" y="928800"/>
            <a:ext cx="457200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主席的教导记心上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心全意为人民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共产主义品德多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雷锋好榜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毛泽东思想来武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保卫祖国握紧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767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继续革命当闯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956720" y="27792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8497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51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雷锋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4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出生于湖南省一个贫苦家庭，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7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岁成为孤儿。解放后，在党和政府的关怀下读书、工作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0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参加人民解放军，同年加入中国共产党。他乐以助人，大公无私，对工作精益求精。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962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8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月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日，不幸因公殉职。是一位伟大的共产主义战士，是我国社会主义时期一代新人的光辉典范。雷锋在其短暂而光辉的一生中所体现出来的爱国、爱党、爱社会主义的坚定信念，刻苦钻研科学理论的钉子精神，全心全意为人民服务的崇高品质，助人为乐、无私奉献的高尚情操，艰苦奋斗、忘我工作的优良作风，给我们留下了宝贵的精神财富，产生了广泛而深远的影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0240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456520" y="3573360"/>
            <a:ext cx="1155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雷锋简介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Arial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3"/>
          <p:cNvSpPr/>
          <p:nvPr/>
        </p:nvSpPr>
        <p:spPr>
          <a:xfrm>
            <a:off x="250920" y="1844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285840" y="7142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次雷锋外出在沈阳站换车的时候，一出检票口，发现一群人围看一个背着小孩的中年妇女，原来这位妇女从山东去吉林看丈夫，车票和钱丢了。雷锋用自己的津贴费买了一张去吉林的火车票塞到大嫂手里，大嫂含着眼泪说：“大兄弟，你叫什么名字，是哪个单位的？“雷锋说：“我叫解放军，就住在中国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月的一天，雷锋冒雨要去沈阳，他为了赶早车，早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多就起来，带了几个馒头就披上雨衣上路了，路上，看见一位妇女背着一个小孩，手还领着一个小女孩也正艰难地向车站走去。雷锋脱下身上的雨衣披在大嫂身上，又抱起小女孩陪他们一起来到车站，上车后，雷锋见小女孩冷得发颤，又把自己的贴身线衣脱下来给她穿上，雷锋估计她早上也没吃饭，就把自己带的馒头给她们吃。火车到了沈阳，天还在下雨，雷锋又一直把她们送到家里。那位妇女感激地说：“同志，我可怎么感谢你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hiphotos.baidu.com/qsndxq/pic/item/d15df2547008124ad10906b3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9920" y="2676600"/>
            <a:ext cx="58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请问大家还知道哪些</a:t>
            </a:r>
            <a:br>
              <a:rPr sz="4600"/>
            </a:br>
            <a:r>
              <a:rPr b="1" lang="zh-CN" sz="4600" spc="-1" strike="noStrike">
                <a:solidFill>
                  <a:srgbClr val="ffffff"/>
                </a:solidFill>
                <a:latin typeface="黑体"/>
                <a:ea typeface="黑体"/>
              </a:rPr>
              <a:t>雷锋事迹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20060422232701799"/>
          <p:cNvPicPr/>
          <p:nvPr/>
        </p:nvPicPr>
        <p:blipFill>
          <a:blip r:embed="rId1"/>
          <a:stretch/>
        </p:blipFill>
        <p:spPr>
          <a:xfrm>
            <a:off x="0" y="4143240"/>
            <a:ext cx="2371680" cy="2714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329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月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1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日 雷锋纪念日的来历</a:t>
            </a:r>
            <a:r>
              <a:rPr b="1" lang="zh-CN" sz="4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雷锋同志不幸因公殉职后，他的日记陆续被一些新闻媒体报导出来。《中国青年》杂志社觉得雷锋是和平时期青年的一个楷模，打算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96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出一本合刊介绍雷锋事迹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他们给毛主席写信希望它能为雷锋题词，毛主席看信后为了全面概括雷锋同志一切从人民利益出发，全心全意为人民服务的精神，写下了“向雷锋同志学习”这一著名题词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毛主席的题词在《中国青年》上刊出了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新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华社发通稿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，全国各大报纸纷纷刊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载毛主席向“向雷锋同志学习”题词。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后来，中央决 定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日定为雷锋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念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辽宁抚顺雷锋纪念馆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1382400"/>
            <a:ext cx="461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始建于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又建新馆，占地面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5.67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万平方米。主要纪念建筑物有雷锋纪念碑、雷锋墓、雷锋塑像和雷锋事迹陈列馆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99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日，中共中央总书记江泽民参观雷锋纪念馆，并题写馆名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5-022052903"/>
          <p:cNvPicPr/>
          <p:nvPr/>
        </p:nvPicPr>
        <p:blipFill>
          <a:blip r:embed="rId1"/>
          <a:stretch/>
        </p:blipFill>
        <p:spPr>
          <a:xfrm>
            <a:off x="395280" y="981000"/>
            <a:ext cx="37306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1639800"/>
            <a:ext cx="8604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人的生命是有限的，可是，为人民服务是无限的，我要把有限的生命，投入到无限的为人民服务中去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待同志要像春天般的温暖，对待工作要像夏天一样的火热，对待个人主义要像秋风扫落叶一样，对待敌人要像严冬一样残酷无情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344040" y="262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华文行楷"/>
                <a:ea typeface="华文行楷"/>
              </a:rPr>
              <a:t>雷锋名言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5564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3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块好好的木板，上面一个眼也没有，但钉子为什么能钉进去呢？原来是靠压力硬挤进去的，硬钻进去的。由此看来，钉子有两个长处：一个是挤劲，一个是钻劲。我们在学习上，也要提倡这种‘钉子’精神，善于挤和善于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———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“要记住：‘在工作上，要向积极性最高的同志看齐；在生活上，要向水平最低的同志看齐。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—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摘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雷锋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7:19:36Z</dcterms:created>
  <dc:creator>微软中国</dc:creator>
  <dc:description/>
  <dc:language>en-US</dc:language>
  <cp:lastModifiedBy>User</cp:lastModifiedBy>
  <dcterms:modified xsi:type="dcterms:W3CDTF">2014-02-11T19:08:14Z</dcterms:modified>
  <cp:revision>66</cp:revision>
  <dc:subject/>
  <dc:title>幻灯片 1</dc:title>
</cp:coreProperties>
</file>