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43B-47C2-4A2A-870B-845B6E95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4EC-EEEF-4D9E-BDED-972C0DB2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1E028-E8CB-4919-A47C-030FCD75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4D8A5-AB1B-41E3-A6D3-8CE3499A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30D5E-4C39-47A9-810F-CAB74FC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4EB43-1F68-44A1-AAE0-CAB5A70D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B89E2-B2EC-42DA-9DE7-A89E6A1D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86C18-811C-4CEE-90EF-0BF21E0A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1C45E-66F7-413D-8C78-C7506C95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D319B-1E31-462D-B3D2-E2ED8671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D5F67-5C8C-46A0-9DA3-EC996AFC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58136-3669-467B-B03C-4D33DAF4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0C8-87D4-496C-BC23-D3005F04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FA268-BB73-4664-AF33-6D0AA88E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7C4F5-EDD6-4CC6-9B74-0DC203E5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D3D2E-0012-4848-B437-45E59201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95826-1162-4DDF-ACE4-667D46E1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01ECE-1348-4BB2-AA79-923F9B9B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2EA4E-AA84-4357-84AB-318CB02D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C109C-1A3B-4B85-9282-010D9EBB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7EBF2-FA50-4815-BCEC-1BD525C3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5F4A8-4E23-44B6-8AA2-8FCC0783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E41AE-390C-449F-B1AD-6BD4DAEC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B37-AD02-43E0-B1DA-B54FF35D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39257-D379-485C-860F-FDDB64E1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C06F6-E2C1-43B4-BE7B-5EA3065D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0CEFA-11B8-4DDA-812B-D20DF632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4CB71-8C8C-4AD2-8EAC-E5F40961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92961-E89F-4122-86C5-E586E9CC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D5B1A-F747-430E-936D-75B2B7CF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59DA9-006D-483C-A4CB-4613FB1B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94EC2-ED01-41CE-94EE-C044DC2C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79E96-86C7-4D8A-A8F4-8072A2F5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8EF39-D0EC-4D34-8E17-26C56073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1182-81F6-4443-8D16-C5C5A6A6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8FBE0-5DA4-4785-A1E7-9AA1C4DC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95CD3-7EBE-47D0-B5C0-89A4ABB2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B41FC-ADBB-4E2D-AE01-7955D45C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5C77C-0A27-4717-B063-61930589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59130-2F45-4EA5-AD4F-44AE34A7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65680-94E2-4CE6-84DF-3ECCFEE5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DCC5E-9810-48CD-9A4F-FB9BE4CA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3ED06-5DC4-4010-80C2-0E8F6724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AFC4E-8762-4619-9A6C-FACB4734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F8FC3-8B12-4EB0-8264-F584DC33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E476-9D60-43A8-91D7-C6BB9C9B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F3111-65C6-4F64-9857-059AA989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96D43-7068-4842-A589-7731A92A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BA30D-4226-4930-9025-62F769B1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444B8-A252-4906-A2C5-9CB61679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589ED-60A3-461C-908C-31A7EA73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58ACB-EA49-4DF8-A494-9A21E1DD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6589B-AB21-42E4-AD1B-FA67C4E8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24ED4-A6E6-4838-92C3-A191317D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95988-A859-4C29-BA1A-246808D8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F373F-418F-407F-A4FF-4D25D139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8F1C-5135-4C40-9D65-BEEA9D7E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71CC9-D2DA-4BCA-961F-91F4CD5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5759E-0814-4064-8DF3-E5226D62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C147D-789F-49FA-8D7B-93F12BE1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3A565-058D-4BB2-A930-A6485AC3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B52BC-0FE0-430E-B7BB-62E88EF5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A545E-40F9-4887-BA12-D1CF4AE2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3F1ED-8625-4D3A-A5D0-E2AFE8AA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2D0A2-DF23-4E83-ABE5-E68130C3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2A5E6-A3F7-4791-A26A-B8CC7EC7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9B31F-1180-4B6A-AC5C-50EF6B76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3F0A-8809-422E-B543-85A445AE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1A0AC-1F66-4DC5-9517-50453A3C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D872B-2C31-4B2D-B963-B26E89A2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53EEC0-E206-40D7-94CD-2BD8D6A6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8F7C3-2C24-4780-B178-70387F98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8951A-EF2F-4E12-9E83-5AC32C1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5D311-ADD4-4A28-B656-77588C9C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D304D-B18B-429E-BFE9-8268EFFE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7451C-CCB7-4B22-A972-095DFB48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BCFCF-517A-4707-96F9-C8678874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7473-10CC-499A-8988-16D3C71E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8023-6C1B-4CB6-958B-AE9DC254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100C-53A8-4FF2-A637-D4BA96A7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9F2-F52C-4DF3-A8D2-1C10987C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5A4F-3084-47B1-918B-24EB1A5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184C-5E6B-4121-B3D2-75CAA28F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057D-28B5-43E3-8C34-B3BF9CE3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17DB1B-E1B4-4FF5-981B-A05A4DE5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7533-EE26-4418-9219-55DD05C3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50B0AC-C84A-44B1-8999-7842117B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DF7DE1-F5F9-40CB-B206-3A84ECA3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60C884-D7AB-4C91-B787-B9BC32A5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1FD69E-A846-4B49-9A97-3BD0194D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F3A82E7-9CA3-40B2-B610-FF4655CB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2E6293-649E-4B7D-8DA0-23E10ECA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366F46-3D33-42B6-A28A-31F2B75B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FBF2B5-15B4-4D60-A137-082D8F38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01EFBE-285A-4424-BB5B-397A103A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D0AD84-5158-4998-A3D8-34D6509A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3A31-B412-4C7C-A85C-87372CC7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70BF71-645D-4243-821A-9F9A5C94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B2513E1-CBA6-4D35-842C-F5690754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2F06E2A-0B01-48F0-B26B-9298CE39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122B190-B63B-4CB8-8823-77450AB5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765F7BE-1248-4DD5-BB18-0DBAFAF4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5BE2764-E232-4DE1-9DA8-6A44521D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06E6B50-4DFB-4E6C-8EFA-405F99D4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3E5499-00BB-40FB-AC1D-501A1B0D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9BBC41A-BBC0-471E-824F-B33114D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C5110D5-72AF-487A-AA85-018684F2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E878-0A42-4A86-8183-1BC7799E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5993EA6-C386-4455-80CD-67F1E76E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CB2701D-180F-469D-B68F-036716D2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DC5E99C-676E-46CB-B145-E6E5E316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4BA35D-9E0B-4808-A795-85754062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1CDFB5-ED6B-403B-BD16-49A6654F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22D8CC7-C41C-495A-B27D-195163AD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959F3F-8040-4168-B95B-C81141C3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B96916-8941-4D3E-835E-246F298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1AA2081-6EE5-4199-B74F-759AC375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F17405-9401-4305-8A17-913676A7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F8271-1AFF-4BBC-82BC-4F5BACC5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E1185F-078D-44F6-955F-11C5E877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45DE59-F14C-471A-A9A5-766906FB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164FDF-7620-483B-9518-CEC33D8B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5A3ABA-11B1-4F36-8121-EBD4DE6E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AD4A50-3583-4E2F-B6B2-328B4A2E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64DE-0E69-4C51-9E22-C59C2DC0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F467-6353-418C-9E75-DC85B662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0B307-C207-463D-B1C9-FB67F2F1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3F6-AB33-41BC-8EEE-B4D823C1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D0A3-5A0B-49D8-83C3-92C1000E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1C3B3-0375-4D09-BEC5-3E4E541E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91A52-72AA-485B-BA8A-642C7801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E523-BDB5-475D-AEB7-7BB82B7F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CA7D5-A781-4CF3-B117-17A176EC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7D24-A4DE-4275-A196-114832F8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31C8-5D64-4361-9176-616C0E0F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E154-CF29-4180-8D9A-BFD279C9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162ED-5C68-46D4-8A8C-5063C0FD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1022C-DF73-4912-9393-FC92E9BA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79A-A9DE-419A-9A89-A5A7A5F1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40B48-0673-41C6-B219-DE0FC212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E045-0705-4B33-AF2C-95A2B66A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10B65-31F3-4A2C-AD3F-07D10346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CC52-DA44-40AC-9A1A-7D59C212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A538-8F4A-404C-AAAA-7B31FFDD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6C22-4EF0-4ABF-AA90-EC347272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C65D1-DC38-4BE1-B509-EDDAC0F6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542E4-7C16-436F-9D97-0877A5C3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B3D2-798C-42F0-A13B-B38753E8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379E2-85F3-4DE3-BDC5-C2744080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D9C-C116-4F93-8162-E0CEB128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8D669-3AEB-4A11-B9E6-961D7059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1930E-92DF-43B1-B35C-FE2154B8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0103C-9769-4C1A-8041-DCB2CBFB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70BB8-C524-4669-8A5B-30505465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774C-5A46-473E-BB07-3A779942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5120D-E141-4027-BAD1-8420942E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5FE8E-5F49-47B7-81A5-62963A88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96151-5707-4DE9-A59D-2812B6F8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36C9-9ED9-4AC9-B078-6AEEC6F2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FDDA9-B6F0-4D6D-B74C-D747A61B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CDB-6D3A-4A33-B5C9-73496B47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EBC5B-29D2-4677-8750-0DF5DE74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BA46D-2C81-4730-A1DD-357199A5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D141E-CE5C-4D56-AF4C-F29203A1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B8957-A96C-48E4-A80B-5570A152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A289-314C-4C78-B017-A8614A0A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3538D-5B66-410C-844F-C64B3368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A8E4E-F950-4DAE-9E17-22A6BA38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0C43A-01D7-475D-AD75-757C949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A6994-C41C-4B3C-A336-E4D97E74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BB091-A26B-4CE6-B5F9-F3089AF9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F81-C544-4CFA-9725-4654CE7D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EED57-E0DA-4694-8621-1B7D5EEF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0F6D3-5983-4DCA-B275-7E38497E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4AF8D-4744-434B-B1B7-281FD70D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00D30-63CA-4F77-B1F4-F78A0E83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A6A9A-1A9B-438C-BDE5-86B4F2EE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503AD-66C4-4D25-9854-B4A9DAB9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F7FF4-C780-4E22-B826-A714680E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1BA85-2D51-4BF1-A06C-7607A9B1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41F02-AD11-4FAA-B502-4747CC7C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54AF-D7A0-4908-894F-C81031E3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CE1-AFEF-4C08-8E33-A2B2EB38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6304D-1D08-493A-A1D3-4F7078F1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BE51F-7C3A-4117-A290-85DB97C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66F7F-006A-4899-A86C-04953B04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8479F-605A-4033-95F1-5D984EBB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77BF3-04D3-4A7A-9B57-8EC71D6D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B8C0F-8762-47C1-BEFB-E4595E67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BCBAB-49B1-4368-BE23-F929E5DC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DD0D6-DA67-4806-A2C0-E2963C12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D2BA0-7DD6-41A4-8691-920DDCCA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54219-1194-4AFD-9DEB-28211B02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809-9980-45B9-A4CA-0541BF04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281FE-5673-4711-A6F1-1DEBA521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A1403-2ABA-42B3-8F79-1EEDBD1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BDAC3-6BCF-41DB-BAAA-0CDF2F0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F92E5-7A51-4437-84A5-DAA8CCA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57770-CA39-43F8-8E54-A9861AE0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4AF32-50DD-48A2-A965-6B72AB3F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9823D-3B53-43D1-9AE2-733F18C6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09FD3-29E1-4544-95BB-781DDACE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921CD-6690-4059-A440-B5CB51B1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A9B43-5CB1-4B0D-A6FC-93DDA171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776C-2E7F-497D-9C47-2748B7FBF93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376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92C5-8472-4E83-9DA7-6231FB58C0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BAB6-F89A-4FFA-BE07-510AE0C316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666520" y="2130120"/>
            <a:ext cx="579132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7E27-A1D5-4EA3-98A8-DE6E7F40E6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6D15-6B25-4266-A476-5574918EC7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8E9F-E372-4AEE-9259-5021A2740F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4ECA-3E40-4E36-9137-8F8B393EF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43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0BFD874C-9CE0-4094-92B6-7716D968A24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65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55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e151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e1517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e15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ae15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ae15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151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e15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D558-E7CF-4CDF-A457-E8EAD10F522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dt" idx="4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ftr" idx="4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4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4FF5-1EE7-4B8B-AFA9-7F45000522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body"/>
          </p:nvPr>
        </p:nvSpPr>
        <p:spPr>
          <a:xfrm>
            <a:off x="4460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15000"/>
              </a:lnSpc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5000"/>
              </a:lnSpc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15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15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6BCC-F07C-412E-BAD3-AA3C5D2ABB9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B6DA-B938-46A5-A1A6-05E309FA372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E36C-E26E-4765-AB9E-07861D202A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07F2-4254-4D01-B3F5-5E1C936190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D7AD-382B-4D50-87D1-64267EC00A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6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8C9B-3682-4DC7-AA7B-E1BAC69F7B0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DAF5-6CFD-4358-85F4-81227A15D7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CE7E-2D50-41CB-8FD5-DA7EE2A645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66520" y="2130120"/>
            <a:ext cx="579132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0950-EACC-4388-B4D0-7158A2324B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329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C9F9-9BB4-4A8D-8FC3-83789F3181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0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19280" y="1160640"/>
            <a:ext cx="822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新加坡十大旅游景点</a:t>
            </a:r>
            <a:endParaRPr b="0" lang="en-US" sz="48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5724360" y="36021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：张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.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裕廊飞禽公园 </a:t>
            </a:r>
            <a:br>
              <a:rPr sz="3200"/>
            </a:br>
            <a:endParaRPr b="1" lang="en-US" sz="3200" spc="-1" strike="noStrike">
              <a:solidFill>
                <a:srgbClr val="ae1517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裕廊飞禽公园坐落在新加坡裕廊山上，建于</a:t>
            </a:r>
            <a:r>
              <a:rPr b="0" lang="en-US" sz="2400" spc="-1" strike="noStrike">
                <a:solidFill>
                  <a:srgbClr val="ae1517"/>
                </a:solidFill>
                <a:latin typeface="Arial"/>
              </a:rPr>
              <a:t>1971</a:t>
            </a: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年，面积达</a:t>
            </a:r>
            <a:r>
              <a:rPr b="0" lang="en-US" sz="2400" spc="-1" strike="noStrike">
                <a:solidFill>
                  <a:srgbClr val="ae1517"/>
                </a:solidFill>
                <a:latin typeface="Arial"/>
              </a:rPr>
              <a:t>20.2</a:t>
            </a: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公顷，被誉为东南亚最壮观的“鸟类天堂”，也是世界上少数规模庞大的禽鸟公园之一。</a:t>
            </a:r>
            <a:endParaRPr b="0" lang="en-US" sz="2400" spc="-1" strike="noStrike">
              <a:solidFill>
                <a:srgbClr val="ae151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e151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e1517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 rot="60000">
            <a:off x="4444560" y="1766520"/>
            <a:ext cx="4197600" cy="3602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. 1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圣淘沙岛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46040" y="1350720"/>
            <a:ext cx="403848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从市中心出发，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钟即可到达圣陶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一座风景旖旎的度假岛屿圣淘沙，在马来语中即“和平安宁”的意思。这里有纯净的海滩、世界级的旅游景点、海上运动场所、高尔夫球场和度假休闲中心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2"/>
          <a:stretch/>
        </p:blipFill>
        <p:spPr>
          <a:xfrm rot="20880000">
            <a:off x="4727160" y="1761840"/>
            <a:ext cx="4038480" cy="264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266840" y="273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谢谢您的观赏</a:t>
            </a:r>
            <a:endParaRPr b="1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.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滨海湾金沙</a:t>
            </a:r>
            <a:endParaRPr b="1" lang="en-US" sz="32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滨海湾金沙的中心地区，有三座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层高的酒店高楼拔地而起，提供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250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多间豪华客房。餐吧，酒吧，休闲吧，及名店汇聚。并设有两座一流的剧院，你可欣赏到各种风格各种流派各种地区的表演艺术。更为酒店观赏荣耀之光的是令人惊叹的金沙空中花园，并拥有一个广阔无垠的泳池，在这里能够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36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度的拳脚俯瞰新加坡的繁华之美。如临世界之巅，你将感受到误伤的尊贵体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8" name="文本占位符 2" descr=""/>
          <p:cNvPicPr/>
          <p:nvPr/>
        </p:nvPicPr>
        <p:blipFill>
          <a:blip r:embed="rId2"/>
          <a:stretch/>
        </p:blipFill>
        <p:spPr>
          <a:xfrm>
            <a:off x="4645080" y="1698480"/>
            <a:ext cx="404172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28360" y="-168120"/>
            <a:ext cx="82249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.2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环球影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29509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新加坡环球影城坐落于全球投资额最高、内容最丰富的顶级家庭旅游目的地圣淘沙名胜世界之内，其将推出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过山车和景点，大部分景点为世界级的首创亮点或是特地为新加坡量身定造的，堪称环球影城的又一鸿篇巨制。环球影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景点和云霄飞车等项目中，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专为新加坡设计，全球独有的游乐项目，包括科幻影集太空堡垒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Battlestar Galactica)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为蓝本，高度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2.5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米的双轨云霄飞车；以及拥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500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观众席、全球最多座位的未来水世界剧场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1" name="Espace réservé du texte 2" descr=""/>
          <p:cNvPicPr/>
          <p:nvPr/>
        </p:nvPicPr>
        <p:blipFill>
          <a:blip r:embed="rId2"/>
          <a:stretch/>
        </p:blipFill>
        <p:spPr>
          <a:xfrm>
            <a:off x="3637080" y="1054080"/>
            <a:ext cx="525600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加坡摩天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788000" y="1483920"/>
            <a:ext cx="40384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新加坡摩天轮耗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亿元新币，历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年打造完工，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米高的巨姿震撼全亚洲。由东京知名建筑师黑山纪章与新加坡缔博建筑师事务所携手合作，从埃菲尔塔及伦敦眼汲取设计灵感，创造出前所未有的观景轮。周边设施还有购物休闲中心，户外希腊剧院，湾畔餐饮长廊以及热带雨林庭园，为游客带来独特的全新体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82234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.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新加坡夜间动物园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024000" cy="244800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3097080" cy="2448000"/>
          </a:xfrm>
          <a:prstGeom prst="rect">
            <a:avLst/>
          </a:prstGeom>
          <a:ln w="0">
            <a:noFill/>
          </a:ln>
        </p:spPr>
      </p:pic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10920" y="4076280"/>
            <a:ext cx="64818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是全球唯一一座夜间野生动物园，耗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元，运用岩石，溪流，及花草树木等天然环境，营造出适合夜间动物居住的丛林世界。园内目前拥有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的夜间动物，通过先进的照明科技，在不干扰动物的生活状况下，让游客能清楚的观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-1979640" y="4042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5f00"/>
                </a:solidFill>
                <a:latin typeface="Arial"/>
              </a:rPr>
              <a:t>NO.5</a:t>
            </a:r>
            <a:r>
              <a:rPr b="0" lang="zh-CN" sz="3200" spc="-1" strike="noStrike">
                <a:solidFill>
                  <a:srgbClr val="265f00"/>
                </a:solidFill>
                <a:latin typeface="Arial"/>
              </a:rPr>
              <a:t>新加坡植物园</a:t>
            </a:r>
            <a:br>
              <a:rPr sz="3200"/>
            </a:br>
            <a:endParaRPr b="0" lang="en-US" sz="32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43280" y="1196640"/>
            <a:ext cx="40118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加坡植物园占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顷，以研究和收集热带植物、园艺花卉而著称。园内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种亚热带、热带的奇异花卉和珍贵的树木，可分为热带、亚热带常绿乔木、灌木、蔓藤、棕榈、竹类园艺花卉、水生植物、沼生植物、寄生植物和沙漠植物等。园中的热带丛林、繁花似锦的小花园和温室，占地约四公顷，分外清新迷人。维多利亚式建筑的胡姬亭，种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株名贵兰花，其中包都有远近驰名的新加坡国花卓锦万黛兰，该园曾成功地引进和培植原产于巴西的三叶橡胶树，从而改变了东南亚经济，使马来西亚、印度尼西亚等国成为主要的橡胶生产地。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起，新加坡植物园就致力于观赏植物的杂交育种工作，特别是对胡姬花及其杂交品种的研究工作取得出重大成果，使新加坡胡姬花出口居世界领先地位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39236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.6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新加坡乌节路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乌节路是新加坡的百货商圈，各大购物中心沿着道路两侧排列开来，热闹景象让人无法想象。长长的乌节路设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座地铁站，无论从哪一站下车，都将陷入丛林般的购物商场与汹涌人潮，更过名牌精品竞相争艳。逛累了，小型酒吧，露天咖啡及三明治简餐无所不在，仿佛置身巴黎香榭里大道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5033880" y="1627200"/>
            <a:ext cx="3259080" cy="219060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5084640" y="3940200"/>
            <a:ext cx="3165480" cy="2190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86920" y="40464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.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克拉码头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87440" y="1585800"/>
            <a:ext cx="403848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拉码头是位于新加坡河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Vally Rd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角的旅游名胜地。这里有餐厅、购物城、娱乐设施，当地人和外国游客都很多。只是这里白天店铺开门的很少，要想充分享受，还是傍晚以后前往最佳。每到周末，举家出游来此的人络绎不绝。整条河滨街道充满浪漫气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Rectangle 3" descr=""/>
          <p:cNvPicPr/>
          <p:nvPr/>
        </p:nvPicPr>
        <p:blipFill>
          <a:blip r:embed="rId2"/>
          <a:stretch/>
        </p:blipFill>
        <p:spPr>
          <a:xfrm>
            <a:off x="4635360" y="1566720"/>
            <a:ext cx="4184640" cy="354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-4354560" y="620640"/>
            <a:ext cx="822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.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新加坡动物园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559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新加坡动物园位于新加坡北部的万里湖路，占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公顷，采用全开放式的模式，是世界十大动物园之一。园内以天然屏障代替栅栏，为各种动物创造天然的生活环境，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个品种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多只动物在没有人为屏障的舒适环境下过着自由自在的生活，与游客和平共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2"/>
          <a:stretch/>
        </p:blipFill>
        <p:spPr>
          <a:xfrm>
            <a:off x="4648320" y="1635120"/>
            <a:ext cx="403848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47:09Z</dcterms:created>
  <dc:creator/>
  <dc:description/>
  <dc:language>en-US</dc:language>
  <cp:lastModifiedBy>u</cp:lastModifiedBy>
  <cp:lastPrinted>1899-12-30T00:00:00Z</cp:lastPrinted>
  <dcterms:modified xsi:type="dcterms:W3CDTF">2012-10-01T03:58:15Z</dcterms:modified>
  <cp:revision>6</cp:revision>
  <dc:subject/>
  <dc:title>新加坡旅游景点十大不得不去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