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DDE-8ACE-4A39-93EA-45CA2509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966-14A6-4765-8E6B-A8E2507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C56-88ED-46CE-9CF1-7B189B82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D13-9EA4-4B60-B8DE-805078EA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13E-1F4D-4EBF-97A7-EC42713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F5B-FD51-4775-948C-0B06E10B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747-B61E-4EA1-AC4C-54FE1704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C3F-3C88-42BC-B19B-2A08E7CD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F5D-D30B-42A4-837D-D098D39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03B-3101-49B2-8F63-78EDCB1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0B5-5838-4FB9-B15C-380AEE6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B0A-28E1-49AE-990E-CFC31D0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3FD-7388-45BD-964F-B15DC892A7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桌面\2013年2期\2013年2月娃娃绘本刊\熊爱蝴蝶0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桌面\2013年2期\2013年2月娃娃绘本刊\熊爱蝴蝶_页面_11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admin\桌面\2013年2期\2013年2月娃娃绘本刊\熊爱蝴蝶_页面_12.jpg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admin\桌面\2013年2期\2013年2月娃娃绘本刊\熊爱蝴蝶_页面_13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admin\桌面\2013年2期\2013年2月娃娃绘本刊\熊爱蝴蝶_页面_1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admin\桌面\2013年2期\2013年2月娃娃绘本刊\熊爱蝴蝶_页面_15.jpg"/>
          <p:cNvPicPr/>
          <p:nvPr/>
        </p:nvPicPr>
        <p:blipFill>
          <a:blip r:embed="rId2"/>
          <a:stretch/>
        </p:blipFill>
        <p:spPr>
          <a:xfrm>
            <a:off x="0" y="692280"/>
            <a:ext cx="9142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dmin\桌面\2013年2期\2013年2月娃娃绘本刊\熊爱蝴蝶_页面_16.jp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\桌面\2013年2期\2013年2月娃娃绘本刊\熊爱蝴蝶_页面_17.jpg"/>
          <p:cNvPicPr/>
          <p:nvPr/>
        </p:nvPicPr>
        <p:blipFill>
          <a:blip r:embed="rId2"/>
          <a:stretch/>
        </p:blipFill>
        <p:spPr>
          <a:xfrm>
            <a:off x="0" y="641520"/>
            <a:ext cx="9144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桌面\2013年2期\2013年2月娃娃绘本刊\熊爱蝴蝶02副本1.jpg"/>
          <p:cNvPicPr/>
          <p:nvPr/>
        </p:nvPicPr>
        <p:blipFill>
          <a:blip r:embed="rId2"/>
          <a:stretch/>
        </p:blipFill>
        <p:spPr>
          <a:xfrm>
            <a:off x="2050920" y="333360"/>
            <a:ext cx="52326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桌面\2013年2期\2013年2月娃娃绘本刊\熊爱蝴蝶_页面_03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admin\桌面\2013年2期\2013年2月娃娃绘本刊\熊爱蝴蝶_页面_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桌面\2013年2期\2013年2月娃娃绘本刊\熊爱蝴蝶_页面_05.jpg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桌面\2013年2期\2013年2月娃娃绘本刊\熊爱蝴蝶_页面_06.jpg"/>
          <p:cNvPicPr/>
          <p:nvPr/>
        </p:nvPicPr>
        <p:blipFill>
          <a:blip r:embed="rId2"/>
          <a:stretch/>
        </p:blipFill>
        <p:spPr>
          <a:xfrm>
            <a:off x="-17640" y="260280"/>
            <a:ext cx="9161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桌面\2013年2期\2013年2月娃娃绘本刊\熊爱蝴蝶_页面_07.jpg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admin\桌面\2013年2期\2013年2月娃娃绘本刊\熊爱蝴蝶_页面_08.jpg"/>
          <p:cNvPicPr/>
          <p:nvPr/>
        </p:nvPicPr>
        <p:blipFill>
          <a:blip r:embed="rId2"/>
          <a:stretch/>
        </p:blipFill>
        <p:spPr>
          <a:xfrm>
            <a:off x="0" y="692280"/>
            <a:ext cx="914544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\桌面\2013年2期\2013年2月娃娃绘本刊\熊爱蝴蝶_页面_09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admin\桌面\2013年2期\2013年2月娃娃绘本刊\熊爱蝴蝶_页面_10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5-11-22T02:01:10Z</dcterms:modified>
  <cp:revision>5</cp:revision>
  <dc:subject/>
  <dc:title>幻灯片 1</dc:title>
</cp:coreProperties>
</file>