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351-F065-4207-A871-AA32004A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520-0BA8-4868-B862-BCB17991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49A-D2CF-40A0-BF8A-C8E467AB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A15-1764-4FEE-8686-415274D1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662-60CC-4667-BF96-D3DFA82B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053-00B3-423F-8696-6D10FB7B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3E4-51A3-4959-A311-DD1D350E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8F2-E407-4F5A-A6A6-7726B0AB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679-D251-4123-8236-1A040CDF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2AA-FF27-48B7-B875-24FE64E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4F4-6211-449E-AF24-63486A63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9A8-B4FD-4DD3-BBF2-DA74ECE8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0BDA-6390-422B-A3CC-7704A24613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小怪兽封面.jpg"/>
          <p:cNvPicPr/>
          <p:nvPr/>
        </p:nvPicPr>
        <p:blipFill>
          <a:blip r:embed="rId1"/>
          <a:stretch/>
        </p:blipFill>
        <p:spPr>
          <a:xfrm>
            <a:off x="2038320" y="0"/>
            <a:ext cx="50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小怪兽内文9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小怪兽内文10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小怪兽内文11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小怪兽内文12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小怪兽内文13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小怪兽内文14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小怪兽内文15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小怪兽内文16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小怪兽内文17.jpg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小怪兽内文.jpg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小怪兽内文2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小怪兽内文3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小怪兽内文4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小怪兽内文5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小怪兽内文6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小怪兽内文7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小怪兽内文8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9:14:33Z</dcterms:created>
  <dc:creator>微软用户</dc:creator>
  <dc:description/>
  <dc:language>en-US</dc:language>
  <cp:lastModifiedBy>微软用户</cp:lastModifiedBy>
  <dcterms:modified xsi:type="dcterms:W3CDTF">2012-09-20T09:15:30Z</dcterms:modified>
  <cp:revision>1</cp:revision>
  <dc:subject/>
  <dc:title>幻灯片 1</dc:title>
</cp:coreProperties>
</file>