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FF8E-3FF0-4895-8183-9DCAC262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0A26-D2EA-484D-B6F8-11697E77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2E6F-AFF1-4A14-87F4-8C2D476D6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AD6F-EE6B-485E-B8AC-7C272520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004C-261C-4369-B658-562EE723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2EC1-7823-4267-BEEF-07150D0A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5838-B439-4E2A-9554-C44183C6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27FC-1C79-4A66-BDC8-865AE09A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96C7-7336-46A5-A068-470E9BBB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4D2D-13D4-43B9-8C5E-0A7658C0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E6F1-798C-4758-8657-6F0CA010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5837-B863-4D16-A867-38876E6B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A6B6-D3E7-42E3-86C0-99FA722EE3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9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38120" y="1523880"/>
            <a:ext cx="48769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小孩与大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4572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有的贝壳小小的，细致的花纹很美丽，那是美人鱼公主珍藏的宝贝；有的贝壳大大的，放在耳边，仔细听一听，可以听到海浪的声音，那是赞美大海的音乐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2990880" cy="2185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91320" y="30492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52280" y="2743200"/>
            <a:ext cx="3086280" cy="2590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248520" y="25909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276720" y="304920"/>
            <a:ext cx="220968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rcRect l="23999" t="21335" r="25002" b="17334"/>
          <a:stretch/>
        </p:blipFill>
        <p:spPr>
          <a:xfrm>
            <a:off x="3276720" y="2743200"/>
            <a:ext cx="2819160" cy="2543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95280" y="571500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54864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有的贝壳小小的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细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花纹很美丽，那是美人鱼公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珍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宝贝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5486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细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2280" y="30481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有的贝壳大大的，放在耳边，仔细听一听，可以听到海浪的声音，那是赞美大海的音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4572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有的贝壳小小的，细致的花纹很美丽，那是美人鱼公主珍藏的宝贝；有的贝壳大大的，放在耳边，仔细听一听，可以听到海浪的声音，那是赞美大海的音乐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1447560"/>
            <a:ext cx="8001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的贝壳（五颜六色的，形状像只美丽的蝴蝶），那是（            ）；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的贝壳（                  ）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是（             ）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90720" y="1219320"/>
            <a:ext cx="6933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楷体_GB2312"/>
              </a:rPr>
              <a:t>孩子们玩累了，沿着海边走，捡海浪打上来的椰子壳、枯木、珊瑚……有时候还会捡到一些贝壳。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楷体_GB2312"/>
              </a:rPr>
              <a:t>有的贝壳小小的，细致的花纹很美丽，那是美人鱼公主珍藏的宝贝；有的贝壳大大的，放在耳边，仔细听一听，可以听到海浪的声音，那是赞美大海的音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 rot="10800000">
            <a:off x="7620120" y="5638320"/>
            <a:ext cx="914400" cy="762120"/>
          </a:xfrm>
          <a:custGeom>
            <a:avLst/>
            <a:gdLst>
              <a:gd name="textAreaLeft" fmla="*/ 0 w 914400"/>
              <a:gd name="textAreaRight" fmla="*/ 914760 w 9144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34120" y="68580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沙滩外面是大海，大海的尽头是什么呢？海有多深呢？深深的海底又有什么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54864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大船带着孩子的梦出海，孩子的梦里有神秘的大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4600" y="1218960"/>
            <a:ext cx="1371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踏浪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4267080" y="1981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堆城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5715000" y="28195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拾贝壳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6629400" y="40384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看船远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3657600" cy="2666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91120" y="3352680"/>
            <a:ext cx="3733560" cy="2686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09480" y="3352680"/>
            <a:ext cx="3581640" cy="2667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343400" y="533520"/>
            <a:ext cx="3581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在海边，孩子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提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小水桶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拿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小铲子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挖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沙子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城堡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220968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提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89548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拿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289548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48520" y="28954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99072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大家七手八脚地忙着，要再堆一座更大、更高的城堡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22096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七手八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50000">
              <a:srgbClr val="ffffff"/>
            </a:gs>
            <a:gs pos="100000">
              <a:srgbClr val="33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352680" y="0"/>
            <a:ext cx="5791320" cy="4319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0" t="12284" r="0" b="10530"/>
          <a:stretch/>
        </p:blipFill>
        <p:spPr>
          <a:xfrm>
            <a:off x="-304920" y="3200400"/>
            <a:ext cx="50292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4173480" cy="4343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19720" y="1600200"/>
            <a:ext cx="4495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海边，孩子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提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水桶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拿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铲子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沙子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城堡。城堡有门也有窗，还有小旗子在上面飘扬，就像童话故事里王子和公主住的地方。呀！海水一下子涌进来，城堡哗啦啦地塌了。大家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七手八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地忙着，要再堆一座更大、更高的城堡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" action="ppaction://hlinksldjump"/>
          </p:cNvPr>
          <p:cNvSpPr/>
          <p:nvPr/>
        </p:nvSpPr>
        <p:spPr>
          <a:xfrm rot="10800000">
            <a:off x="7467120" y="5866920"/>
            <a:ext cx="685800" cy="685800"/>
          </a:xfrm>
          <a:custGeom>
            <a:avLst/>
            <a:gdLst>
              <a:gd name="textAreaLeft" fmla="*/ 0 w 685800"/>
              <a:gd name="textAreaRight" fmla="*/ 686160 w 6858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743200" y="41148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椰子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4876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枯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55627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珊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6095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贝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 </dc:creator>
  <dc:description>  </dc:description>
  <dc:language>en-US</dc:language>
  <cp:lastModifiedBy>微软用户</cp:lastModifiedBy>
  <dcterms:modified xsi:type="dcterms:W3CDTF">2013-03-22T18:29:32Z</dcterms:modified>
  <cp:revision>0</cp:revision>
  <dc:subject>  </dc:subject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