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82C9-3A52-4836-90E2-2C781B97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52B28-263A-40E1-A6EE-3AFBBBB7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5679-7203-48AB-9EF4-1D23A2ED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BFEB-701E-4EBF-83BB-69580A191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D55E-A69B-4205-AD6E-C8E640CF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A81-3FF8-463E-9AC4-5225F295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649E-77B1-4863-A2CE-43453BFA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9420-63D9-4103-9243-AD6B9854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41A-E6A0-4763-ADCC-5E0778669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42AC-F76A-459E-8E90-54551412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D92-216B-404B-8E7A-FCF7F0EF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684-798A-4C33-9636-58E97CA67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03AD-2409-4A2C-9774-A00AABBF596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3BAD-20A4-4EF3-8293-AFCC2F9DFA1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.bimg.126.net/photo/dW8CBQyQrfw3trZ17tiPow==/3994411394501521888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bimg.126.net/photo/ZqsFrMKMXR13OZha1suSIg==/3994411394501521895.jp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44400" y="357120"/>
            <a:ext cx="5569200" cy="6572160"/>
          </a:xfrm>
          <a:prstGeom prst="rect">
            <a:avLst/>
          </a:prstGeom>
          <a:ln w="0">
            <a:noFill/>
          </a:ln>
        </p:spPr>
      </p:pic>
      <p:sp>
        <p:nvSpPr>
          <p:cNvPr id="42" name="TextBox 6"/>
          <p:cNvSpPr/>
          <p:nvPr/>
        </p:nvSpPr>
        <p:spPr>
          <a:xfrm>
            <a:off x="500040" y="7000920"/>
            <a:ext cx="5643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xiǎo fánɡ zi zhēn de huì biàn chénɡ dà fánɡ zi mɑ   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小   房     子真     的 会  变    成        大 房    子 吗 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ào dǐ   shì zěn me huí shì 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到   底  是 怎   么   回  事 呢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uài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uài kāi dònɡ nǐ  de xiáo nǎo jīn xiǎnɡ xiǎnɡ kàn  le    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快    快    开   动     你 的 小    脑   筋  想     想       看   了 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灯片编号占位符 7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BCE7-264A-4D13-B0E5-21905137B33D}" type="slidenum">
              <a:rPr b="0" lang="zh-CN" sz="16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38280" y="728640"/>
            <a:ext cx="5581440" cy="7686720"/>
          </a:xfrm>
          <a:prstGeom prst="rect">
            <a:avLst/>
          </a:prstGeom>
          <a:ln w="0">
            <a:noFill/>
          </a:ln>
        </p:spPr>
      </p:pic>
      <p:sp>
        <p:nvSpPr>
          <p:cNvPr id="61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BA57-8DF8-4B4A-877F-468F4501F7F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14520" y="684360"/>
            <a:ext cx="5628960" cy="7775280"/>
          </a:xfrm>
          <a:prstGeom prst="rect">
            <a:avLst/>
          </a:prstGeom>
          <a:ln w="0">
            <a:noFill/>
          </a:ln>
        </p:spPr>
      </p:pic>
      <p:sp>
        <p:nvSpPr>
          <p:cNvPr id="63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5731B-5E4A-4526-81CE-F91BAE6183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63480" y="781200"/>
            <a:ext cx="5531040" cy="7581600"/>
          </a:xfrm>
          <a:prstGeom prst="rect">
            <a:avLst/>
          </a:prstGeom>
          <a:ln w="0">
            <a:noFill/>
          </a:ln>
        </p:spPr>
      </p:pic>
      <p:sp>
        <p:nvSpPr>
          <p:cNvPr id="65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1D3A3-B484-4737-B272-23593D0E7F0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85720" y="658800"/>
            <a:ext cx="5686560" cy="7826400"/>
          </a:xfrm>
          <a:prstGeom prst="rect">
            <a:avLst/>
          </a:prstGeom>
          <a:ln w="0">
            <a:noFill/>
          </a:ln>
        </p:spPr>
      </p:pic>
      <p:sp>
        <p:nvSpPr>
          <p:cNvPr id="67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6E30-4016-41FB-9D98-CA6C56F6E18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52600" y="623880"/>
            <a:ext cx="5752800" cy="7896240"/>
          </a:xfrm>
          <a:prstGeom prst="rect">
            <a:avLst/>
          </a:prstGeom>
          <a:ln w="0">
            <a:noFill/>
          </a:ln>
        </p:spPr>
      </p:pic>
      <p:sp>
        <p:nvSpPr>
          <p:cNvPr id="69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C4AF2-11FF-42A1-B9FA-04D514E7B3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57280" y="639720"/>
            <a:ext cx="5743440" cy="7864560"/>
          </a:xfrm>
          <a:prstGeom prst="rect">
            <a:avLst/>
          </a:prstGeom>
          <a:ln w="0">
            <a:noFill/>
          </a:ln>
        </p:spPr>
      </p:pic>
      <p:sp>
        <p:nvSpPr>
          <p:cNvPr id="71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5FA77-59AC-4875-B3AE-8FCA594C5A5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71680" y="552600"/>
            <a:ext cx="5715000" cy="8038800"/>
          </a:xfrm>
          <a:prstGeom prst="rect">
            <a:avLst/>
          </a:prstGeom>
          <a:ln w="0">
            <a:noFill/>
          </a:ln>
        </p:spPr>
      </p:pic>
      <p:sp>
        <p:nvSpPr>
          <p:cNvPr id="73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0EA3-90D8-437F-A95B-F3B25F7DC74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65200" y="590400"/>
            <a:ext cx="5727600" cy="7963200"/>
          </a:xfrm>
          <a:prstGeom prst="rect">
            <a:avLst/>
          </a:prstGeom>
          <a:ln w="0">
            <a:noFill/>
          </a:ln>
        </p:spPr>
      </p:pic>
      <p:sp>
        <p:nvSpPr>
          <p:cNvPr id="75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451F-2C85-48DC-8E40-1D0D5CDA2E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90400" y="719280"/>
            <a:ext cx="5677200" cy="7705440"/>
          </a:xfrm>
          <a:prstGeom prst="rect">
            <a:avLst/>
          </a:prstGeom>
          <a:ln w="0">
            <a:noFill/>
          </a:ln>
        </p:spPr>
      </p:pic>
      <p:sp>
        <p:nvSpPr>
          <p:cNvPr id="77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E22-422C-40B5-A52A-0456BBD994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81040" y="677880"/>
            <a:ext cx="5695920" cy="7788240"/>
          </a:xfrm>
          <a:prstGeom prst="rect">
            <a:avLst/>
          </a:prstGeom>
          <a:ln w="0">
            <a:noFill/>
          </a:ln>
        </p:spPr>
      </p:pic>
      <p:sp>
        <p:nvSpPr>
          <p:cNvPr id="79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AEC4-F9FE-496E-B8C4-FE5751BECC3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47640" y="870120"/>
            <a:ext cx="5562720" cy="7403760"/>
          </a:xfrm>
          <a:prstGeom prst="rect">
            <a:avLst/>
          </a:prstGeom>
          <a:ln w="0">
            <a:noFill/>
          </a:ln>
        </p:spPr>
      </p:pic>
      <p:sp>
        <p:nvSpPr>
          <p:cNvPr id="45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88CB-C362-4545-8276-ABE5254B52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19200" y="708120"/>
            <a:ext cx="5619600" cy="7727760"/>
          </a:xfrm>
          <a:prstGeom prst="rect">
            <a:avLst/>
          </a:prstGeom>
          <a:ln w="0">
            <a:noFill/>
          </a:ln>
        </p:spPr>
      </p:pic>
      <p:sp>
        <p:nvSpPr>
          <p:cNvPr id="81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E75E-C0FD-4079-AE6C-279B6CD2591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00120" y="658800"/>
            <a:ext cx="5657760" cy="7826400"/>
          </a:xfrm>
          <a:prstGeom prst="rect">
            <a:avLst/>
          </a:prstGeom>
          <a:ln w="0">
            <a:noFill/>
          </a:ln>
        </p:spPr>
      </p:pic>
      <p:sp>
        <p:nvSpPr>
          <p:cNvPr id="83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AFC30-6AC5-4BDE-B04B-EC3378AD31C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23880" y="633240"/>
            <a:ext cx="5610240" cy="7877520"/>
          </a:xfrm>
          <a:prstGeom prst="rect">
            <a:avLst/>
          </a:prstGeom>
          <a:ln w="0">
            <a:noFill/>
          </a:ln>
        </p:spPr>
      </p:pic>
      <p:sp>
        <p:nvSpPr>
          <p:cNvPr id="85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F8C9-244A-426E-A4A0-8276D0BCBBD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95440" y="654120"/>
            <a:ext cx="5667120" cy="7834320"/>
          </a:xfrm>
          <a:prstGeom prst="rect">
            <a:avLst/>
          </a:prstGeom>
          <a:ln w="0">
            <a:noFill/>
          </a:ln>
        </p:spPr>
      </p:pic>
      <p:sp>
        <p:nvSpPr>
          <p:cNvPr id="87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62C4E-535F-496E-AEBF-571A3C06BF5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12640" y="485640"/>
            <a:ext cx="5832720" cy="8172720"/>
          </a:xfrm>
          <a:prstGeom prst="rect">
            <a:avLst/>
          </a:prstGeom>
          <a:ln w="0">
            <a:noFill/>
          </a:ln>
        </p:spPr>
      </p:pic>
      <p:sp>
        <p:nvSpPr>
          <p:cNvPr id="89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5FFB-8FB2-420A-B878-7B0293CF2D0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66640" y="689040"/>
            <a:ext cx="5724720" cy="7765920"/>
          </a:xfrm>
          <a:prstGeom prst="rect">
            <a:avLst/>
          </a:prstGeom>
          <a:ln w="0">
            <a:noFill/>
          </a:ln>
        </p:spPr>
      </p:pic>
      <p:sp>
        <p:nvSpPr>
          <p:cNvPr id="91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AE49-DE26-4750-9B05-DD4B7020BF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63400" y="704880"/>
            <a:ext cx="5731200" cy="7734240"/>
          </a:xfrm>
          <a:prstGeom prst="rect">
            <a:avLst/>
          </a:prstGeom>
          <a:ln w="0">
            <a:noFill/>
          </a:ln>
        </p:spPr>
      </p:pic>
      <p:sp>
        <p:nvSpPr>
          <p:cNvPr id="47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E2CB-C9B5-4EED-8BA1-07E7AAFDF7D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12640" y="681120"/>
            <a:ext cx="5832720" cy="7781760"/>
          </a:xfrm>
          <a:prstGeom prst="rect">
            <a:avLst/>
          </a:prstGeom>
          <a:ln w="0">
            <a:noFill/>
          </a:ln>
        </p:spPr>
      </p:pic>
      <p:sp>
        <p:nvSpPr>
          <p:cNvPr id="49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6B47-563A-48FC-8A61-401A5890914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90400" y="800280"/>
            <a:ext cx="5677200" cy="7543800"/>
          </a:xfrm>
          <a:prstGeom prst="rect">
            <a:avLst/>
          </a:prstGeom>
          <a:ln w="0">
            <a:noFill/>
          </a:ln>
        </p:spPr>
      </p:pic>
      <p:sp>
        <p:nvSpPr>
          <p:cNvPr id="51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9978-C170-4E72-8E0C-E96B1AA57A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3" descr="小房子变大房子 - 成长的小脚丫 - 每天进步一点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6360" y="641520"/>
            <a:ext cx="5705280" cy="7860960"/>
          </a:xfrm>
          <a:prstGeom prst="rect">
            <a:avLst/>
          </a:prstGeom>
          <a:ln w="0">
            <a:noFill/>
          </a:ln>
        </p:spPr>
      </p:pic>
      <p:sp>
        <p:nvSpPr>
          <p:cNvPr id="53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3133-807F-4E83-AE20-68C5CA1B061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小房子变大房子 - 成长的小脚丫 - 每天进步一点点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0400" y="704880"/>
            <a:ext cx="5677200" cy="7734240"/>
          </a:xfrm>
          <a:prstGeom prst="rect">
            <a:avLst/>
          </a:prstGeom>
          <a:ln w="0">
            <a:noFill/>
          </a:ln>
        </p:spPr>
      </p:pic>
      <p:sp>
        <p:nvSpPr>
          <p:cNvPr id="55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314B-E613-41E4-8BA0-A0A07F614B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652320" y="838080"/>
            <a:ext cx="5553360" cy="7467840"/>
          </a:xfrm>
          <a:prstGeom prst="rect">
            <a:avLst/>
          </a:prstGeom>
          <a:ln w="0">
            <a:noFill/>
          </a:ln>
        </p:spPr>
      </p:pic>
      <p:sp>
        <p:nvSpPr>
          <p:cNvPr id="57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D7788-394D-47C6-BDE3-E157496727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3" descr="小房子变大房子 - 成长的小脚丫 - 每天进步一点点"/>
          <p:cNvPicPr/>
          <p:nvPr/>
        </p:nvPicPr>
        <p:blipFill>
          <a:blip r:embed="rId1"/>
          <a:stretch/>
        </p:blipFill>
        <p:spPr>
          <a:xfrm>
            <a:off x="542880" y="727200"/>
            <a:ext cx="5772240" cy="7689600"/>
          </a:xfrm>
          <a:prstGeom prst="rect">
            <a:avLst/>
          </a:prstGeom>
          <a:ln w="0">
            <a:noFill/>
          </a:ln>
        </p:spPr>
      </p:pic>
      <p:sp>
        <p:nvSpPr>
          <p:cNvPr id="59" name="灯片编号占位符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65CA-C438-4EBA-A61E-EC8DE9E50C4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2:43:10Z</dcterms:created>
  <dc:creator>Jiete</dc:creator>
  <dc:description/>
  <dc:language>en-US</dc:language>
  <cp:lastModifiedBy>User</cp:lastModifiedBy>
  <dcterms:modified xsi:type="dcterms:W3CDTF">2011-04-03T15:13:46Z</dcterms:modified>
  <cp:revision>6</cp:revision>
  <dc:subject/>
  <dc:title>幻灯片 1</dc:title>
</cp:coreProperties>
</file>