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38.jpeg" ContentType="image/jpeg"/>
  <Override PartName="/ppt/media/image21.jpeg" ContentType="image/jpeg"/>
  <Override PartName="/ppt/media/chimes.wav" ContentType="audio/x-wav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46.jpeg" ContentType="image/jpeg"/>
  <Override PartName="/ppt/media/image37.wmf" ContentType="image/x-wmf"/>
  <Override PartName="/ppt/media/image45.jpeg" ContentType="image/jpe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png" ContentType="image/png"/>
  <Override PartName="/ppt/media/image48.jpeg" ContentType="image/jpeg"/>
  <Override PartName="/ppt/media/image55.jpeg" ContentType="image/jpeg"/>
  <Override PartName="/ppt/media/image56.png" ContentType="image/png"/>
  <Override PartName="/ppt/media/image36.jpeg" ContentType="image/jpeg"/>
  <Override PartName="/ppt/media/image35.png" ContentType="image/png"/>
  <Override PartName="/ppt/media/image30.png" ContentType="image/png"/>
  <Override PartName="/ppt/media/image51.wmf" ContentType="image/x-wmf"/>
  <Override PartName="/ppt/media/image11.png" ContentType="image/png"/>
  <Override PartName="/ppt/media/image10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9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59B-0565-4C44-9422-4B495F40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E0C-1A26-45B0-9BE2-2A48B8E0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8E3-9190-4157-AE33-58546AFF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DE-2368-43F0-9A22-C32335D1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5C97-FDEC-402B-BC2C-4768D40E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8A67-A879-4317-8C96-7FE9711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2F1-CC10-413F-8576-6AE0A07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179C-BC5C-40AB-84DF-BD337F5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2320-BDFB-425B-AD73-86A13E2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3A5B-81EB-49F9-9DE9-879F6A73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6191-B761-4A7E-9F62-297E452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545-EB4D-414E-9DF1-12492ED0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210-D828-4D37-85E9-86A2310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A071-FF09-45B8-B3F7-6F3F353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DD71-44D5-4E53-80FD-49E31C8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0919-BC53-450B-A8BF-E295385D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080A-97EC-47D5-A326-56D90DEA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D5D-2F36-4407-80B6-EDF5743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64A-3C42-4AF7-B40A-5C016FB0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046-1E5B-47B7-BD32-6C9FB9C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D1E-BE25-40D1-B3A6-446939E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6A-7D22-4BA4-B27B-D0CE8DF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489-FC1F-4C1B-8F42-6392F80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252-8D3C-4FDB-A79C-97A889E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CC7-E4FB-41FD-BBDA-8A59D223C5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D93-41A0-4823-8DC5-D6D951DDCE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22.gif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22.gif"/><Relationship Id="rId10" Type="http://schemas.openxmlformats.org/officeDocument/2006/relationships/image" Target="../media/image32.png"/><Relationship Id="rId11" Type="http://schemas.openxmlformats.org/officeDocument/2006/relationships/image" Target="../media/image30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image" Target="../media/image22.gif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1.wmf"/><Relationship Id="rId3" Type="http://schemas.openxmlformats.org/officeDocument/2006/relationships/image" Target="../media/image22.gif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22.gif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file:///19&#23567;&#21160;&#29289;&#36807;&#20908;&#26391;&#35835;.swf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90" name="Picture 8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9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2"/>
          <p:cNvSpPr/>
          <p:nvPr/>
        </p:nvSpPr>
        <p:spPr>
          <a:xfrm>
            <a:off x="607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27280" y="1628640"/>
            <a:ext cx="460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衣小英雄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间捉害虫，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它休息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勤劳动。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24000" y="8366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一节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5280" y="2071800"/>
            <a:ext cx="83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青蛙、小燕子和小蜜蜂是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三个好朋友要商量过冬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燕子到南方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4-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青蛙钻到泥土里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6-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小蜜蜂藏到蜂巢里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三个好朋友约定第二年春天再相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5092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青蛙、小燕子和小蜜蜂一起商量过冬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不理解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249120" y="1700280"/>
            <a:ext cx="8643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  唱歌  跳舞  青蛙  蜜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  快乐  刮风  过冬  商量  南方  暖和  虫子  明年  接着  春暖花开  准备  吃饱  泥土  来年  钻进  冰雪  鲜花  生活  采蜜  藏在蜂巢里  约定  相见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6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10960" y="76500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584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矩形 12"/>
          <p:cNvSpPr/>
          <p:nvPr/>
        </p:nvSpPr>
        <p:spPr>
          <a:xfrm>
            <a:off x="108900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508200" y="155592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矩形 12"/>
          <p:cNvSpPr/>
          <p:nvPr/>
        </p:nvSpPr>
        <p:spPr>
          <a:xfrm>
            <a:off x="3681360" y="148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7220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矩形 12"/>
          <p:cNvSpPr/>
          <p:nvPr/>
        </p:nvSpPr>
        <p:spPr>
          <a:xfrm>
            <a:off x="634536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1640" y="34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矩形 12"/>
          <p:cNvSpPr/>
          <p:nvPr/>
        </p:nvSpPr>
        <p:spPr>
          <a:xfrm>
            <a:off x="1144440" y="3371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64000" y="3429000"/>
          <a:ext cx="171144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矩形 12"/>
          <p:cNvSpPr/>
          <p:nvPr/>
        </p:nvSpPr>
        <p:spPr>
          <a:xfrm>
            <a:off x="3736800" y="33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227640" y="34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矩形 12"/>
          <p:cNvSpPr/>
          <p:nvPr/>
        </p:nvSpPr>
        <p:spPr>
          <a:xfrm>
            <a:off x="6400800" y="3371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9640" y="52434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矩形 12"/>
          <p:cNvSpPr/>
          <p:nvPr/>
        </p:nvSpPr>
        <p:spPr>
          <a:xfrm>
            <a:off x="71280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70036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矩形 12"/>
          <p:cNvSpPr/>
          <p:nvPr/>
        </p:nvSpPr>
        <p:spPr>
          <a:xfrm>
            <a:off x="2873520" y="515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859280" y="524340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矩形 12"/>
          <p:cNvSpPr/>
          <p:nvPr/>
        </p:nvSpPr>
        <p:spPr>
          <a:xfrm>
            <a:off x="5032440" y="51721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964200" y="522936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矩形 12"/>
          <p:cNvSpPr/>
          <p:nvPr/>
        </p:nvSpPr>
        <p:spPr>
          <a:xfrm>
            <a:off x="7137360" y="515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FOfficeDoc1"/>
          <p:cNvGraphicFramePr/>
          <p:nvPr/>
        </p:nvGraphicFramePr>
        <p:xfrm>
          <a:off x="2340000" y="1643040"/>
          <a:ext cx="5616720" cy="449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16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FOfficeDoc1"/>
          <p:cNvGraphicFramePr/>
          <p:nvPr/>
        </p:nvGraphicFramePr>
        <p:xfrm>
          <a:off x="2340000" y="1643040"/>
          <a:ext cx="5688000" cy="455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88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FOfficeDoc1"/>
          <p:cNvGraphicFramePr/>
          <p:nvPr/>
        </p:nvGraphicFramePr>
        <p:xfrm>
          <a:off x="2340000" y="1643040"/>
          <a:ext cx="5472000" cy="437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4720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FOfficeDoc1"/>
          <p:cNvGraphicFramePr/>
          <p:nvPr/>
        </p:nvGraphicFramePr>
        <p:xfrm>
          <a:off x="2340000" y="1643040"/>
          <a:ext cx="5400720" cy="432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40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98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0"/>
          <p:cNvSpPr/>
          <p:nvPr/>
        </p:nvSpPr>
        <p:spPr>
          <a:xfrm>
            <a:off x="7369200" y="530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916360" y="1484280"/>
            <a:ext cx="4535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劳又勇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到百花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遍前朵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酿成蜜更甜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FOfficeDoc1"/>
          <p:cNvGraphicFramePr/>
          <p:nvPr/>
        </p:nvGraphicFramePr>
        <p:xfrm>
          <a:off x="2340000" y="1643040"/>
          <a:ext cx="5545080" cy="443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54508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FOfficeDoc1"/>
          <p:cNvGraphicFramePr/>
          <p:nvPr/>
        </p:nvGraphicFramePr>
        <p:xfrm>
          <a:off x="2340000" y="1643040"/>
          <a:ext cx="5688000" cy="455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688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FOfficeDoc1"/>
          <p:cNvGraphicFramePr/>
          <p:nvPr/>
        </p:nvGraphicFramePr>
        <p:xfrm>
          <a:off x="2340000" y="1643040"/>
          <a:ext cx="518472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1847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好笔顺和在田字格里的位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FOfficeDoc1"/>
          <p:cNvGraphicFramePr/>
          <p:nvPr/>
        </p:nvGraphicFramePr>
        <p:xfrm>
          <a:off x="2340000" y="1643040"/>
          <a:ext cx="5256360" cy="420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FOfficeDoc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43040"/>
                    <a:ext cx="525636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179280" y="3414600"/>
            <a:ext cx="8785440" cy="33274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22200" y="134136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笔顺描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燕子6"/>
          <p:cNvPicPr/>
          <p:nvPr/>
        </p:nvPicPr>
        <p:blipFill>
          <a:blip r:embed="rId1"/>
          <a:stretch/>
        </p:blipFill>
        <p:spPr>
          <a:xfrm>
            <a:off x="5722920" y="115920"/>
            <a:ext cx="3097080" cy="2386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青蛙冬眠"/>
          <p:cNvPicPr/>
          <p:nvPr/>
        </p:nvPicPr>
        <p:blipFill>
          <a:blip r:embed="rId2"/>
          <a:stretch/>
        </p:blipFill>
        <p:spPr>
          <a:xfrm>
            <a:off x="3527280" y="2565360"/>
            <a:ext cx="3276720" cy="2400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蜜蜂0"/>
          <p:cNvPicPr/>
          <p:nvPr/>
        </p:nvPicPr>
        <p:blipFill>
          <a:blip r:embed="rId3"/>
          <a:stretch/>
        </p:blipFill>
        <p:spPr>
          <a:xfrm>
            <a:off x="250920" y="4346640"/>
            <a:ext cx="3240000" cy="2395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"/>
          <p:cNvPicPr/>
          <p:nvPr/>
        </p:nvPicPr>
        <p:blipFill>
          <a:blip r:embed="rId4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5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它们常常在一起唱歌跳舞，日子过得很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279" name="矩形 15"/>
          <p:cNvSpPr/>
          <p:nvPr/>
        </p:nvSpPr>
        <p:spPr>
          <a:xfrm>
            <a:off x="7696800" y="968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m"/>
          <p:cNvPicPr/>
          <p:nvPr/>
        </p:nvPicPr>
        <p:blipFill>
          <a:blip r:embed="rId1"/>
          <a:stretch/>
        </p:blipFill>
        <p:spPr>
          <a:xfrm>
            <a:off x="5943600" y="2971800"/>
            <a:ext cx="1281240" cy="129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AL_hima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aquab_music_t"/>
          <p:cNvPicPr/>
          <p:nvPr/>
        </p:nvPicPr>
        <p:blipFill>
          <a:blip r:embed="rId3"/>
          <a:stretch/>
        </p:blipFill>
        <p:spPr>
          <a:xfrm>
            <a:off x="2133720" y="472428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aquab_music_4"/>
          <p:cNvPicPr/>
          <p:nvPr/>
        </p:nvPicPr>
        <p:blipFill>
          <a:blip r:embed="rId4"/>
          <a:stretch/>
        </p:blipFill>
        <p:spPr>
          <a:xfrm>
            <a:off x="914400" y="4191120"/>
            <a:ext cx="19368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aquab_music_16"/>
          <p:cNvPicPr/>
          <p:nvPr/>
        </p:nvPicPr>
        <p:blipFill>
          <a:blip r:embed="rId5"/>
          <a:stretch/>
        </p:blipFill>
        <p:spPr>
          <a:xfrm>
            <a:off x="4724280" y="403848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aquab_music_32"/>
          <p:cNvPicPr/>
          <p:nvPr/>
        </p:nvPicPr>
        <p:blipFill>
          <a:blip r:embed="rId6"/>
          <a:stretch/>
        </p:blipFill>
        <p:spPr>
          <a:xfrm>
            <a:off x="7620120" y="2514600"/>
            <a:ext cx="206280" cy="56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aquab_music_2"/>
          <p:cNvPicPr/>
          <p:nvPr/>
        </p:nvPicPr>
        <p:blipFill>
          <a:blip r:embed="rId7"/>
          <a:stretch/>
        </p:blipFill>
        <p:spPr>
          <a:xfrm>
            <a:off x="3505320" y="3505320"/>
            <a:ext cx="250560" cy="503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aquab_music_t"/>
          <p:cNvPicPr/>
          <p:nvPr/>
        </p:nvPicPr>
        <p:blipFill>
          <a:blip r:embed="rId8"/>
          <a:stretch/>
        </p:blipFill>
        <p:spPr>
          <a:xfrm>
            <a:off x="533520" y="3200400"/>
            <a:ext cx="320400" cy="80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aquab_music_16"/>
          <p:cNvPicPr/>
          <p:nvPr/>
        </p:nvPicPr>
        <p:blipFill>
          <a:blip r:embed="rId9"/>
          <a:stretch/>
        </p:blipFill>
        <p:spPr>
          <a:xfrm>
            <a:off x="5181480" y="2590920"/>
            <a:ext cx="308160" cy="492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燕子2"/>
          <p:cNvPicPr/>
          <p:nvPr/>
        </p:nvPicPr>
        <p:blipFill>
          <a:blip r:embed="rId10"/>
          <a:stretch/>
        </p:blipFill>
        <p:spPr>
          <a:xfrm>
            <a:off x="838080" y="2514600"/>
            <a:ext cx="2210040" cy="1879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2"/>
          <p:cNvSpPr/>
          <p:nvPr/>
        </p:nvSpPr>
        <p:spPr>
          <a:xfrm>
            <a:off x="179280" y="925560"/>
            <a:ext cx="87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和小蜜蜂是好朋友。它们常常在一起唱歌跳舞，日子过得很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2202840" y="2335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很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583960" y="1685880"/>
            <a:ext cx="170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歌跳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kaeru2"/>
          <p:cNvPicPr/>
          <p:nvPr/>
        </p:nvPicPr>
        <p:blipFill>
          <a:blip r:embed="rId11"/>
          <a:stretch/>
        </p:blipFill>
        <p:spPr>
          <a:xfrm>
            <a:off x="25909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4"/>
          <p:cNvSpPr/>
          <p:nvPr/>
        </p:nvSpPr>
        <p:spPr>
          <a:xfrm>
            <a:off x="4276080" y="1676520"/>
            <a:ext cx="9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555280" y="1698480"/>
            <a:ext cx="10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常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142920" y="907920"/>
            <a:ext cx="8893080" cy="5888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4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179280" y="1341360"/>
            <a:ext cx="87854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在一起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日子过得很快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106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0"/>
          <p:cNvSpPr/>
          <p:nvPr/>
        </p:nvSpPr>
        <p:spPr>
          <a:xfrm>
            <a:off x="6721560" y="587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43280" y="1628640"/>
            <a:ext cx="518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小姑娘满身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秋去江南春来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从小立志除害虫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身带剪刀满天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199600" y="409680"/>
            <a:ext cx="5057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起来了，天气渐渐凉了。一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蛙、小燕子、小蜜蜂聚到一起商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冬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71280" y="115920"/>
          <a:ext cx="8893440" cy="667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15920"/>
                    <a:ext cx="8893440" cy="66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4"/>
          <p:cNvSpPr/>
          <p:nvPr/>
        </p:nvSpPr>
        <p:spPr>
          <a:xfrm>
            <a:off x="380880" y="770040"/>
            <a:ext cx="813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起来了，天气渐渐凉了。一天，青蛙、小燕子、小蜜蜂聚到一起商量过冬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kaeru2"/>
          <p:cNvPicPr/>
          <p:nvPr/>
        </p:nvPicPr>
        <p:blipFill>
          <a:blip r:embed="rId3"/>
          <a:stretch/>
        </p:blipFill>
        <p:spPr>
          <a:xfrm>
            <a:off x="179280" y="5300640"/>
            <a:ext cx="1513080" cy="142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ico_tubame1"/>
          <p:cNvPicPr/>
          <p:nvPr/>
        </p:nvPicPr>
        <p:blipFill>
          <a:blip r:embed="rId4"/>
          <a:stretch/>
        </p:blipFill>
        <p:spPr>
          <a:xfrm>
            <a:off x="7164360" y="2924280"/>
            <a:ext cx="1655640" cy="1047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m"/>
          <p:cNvPicPr/>
          <p:nvPr/>
        </p:nvPicPr>
        <p:blipFill>
          <a:blip r:embed="rId5"/>
          <a:stretch/>
        </p:blipFill>
        <p:spPr>
          <a:xfrm>
            <a:off x="7524720" y="5300640"/>
            <a:ext cx="1352520" cy="1368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1"/>
          <p:cNvSpPr/>
          <p:nvPr/>
        </p:nvSpPr>
        <p:spPr>
          <a:xfrm>
            <a:off x="5190120" y="2274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商量过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1447920" y="3429000"/>
            <a:ext cx="632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5"/>
          <p:cNvSpPr/>
          <p:nvPr/>
        </p:nvSpPr>
        <p:spPr>
          <a:xfrm>
            <a:off x="2504520" y="2249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聚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84971E-006 L 0.33854 -0.07237 E">
                                      <p:cBhvr>
                                        <p:cTn id="179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69942E-006 L -0.27882 -0.06821 E">
                                      <p:cBhvr>
                                        <p:cTn id="18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46821E-006 L -0.29514 0.14404 E">
                                      <p:cBhvr>
                                        <p:cTn id="183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5"/>
          <p:cNvGraphicFramePr/>
          <p:nvPr/>
        </p:nvGraphicFramePr>
        <p:xfrm>
          <a:off x="179280" y="115920"/>
          <a:ext cx="8964720" cy="672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6"/>
          <p:cNvSpPr/>
          <p:nvPr/>
        </p:nvSpPr>
        <p:spPr>
          <a:xfrm>
            <a:off x="914400" y="1658880"/>
            <a:ext cx="75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燕子、青蛙和小蜜蜂是怎么过冬的？为什么要这样过冬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m"/>
          <p:cNvPicPr/>
          <p:nvPr/>
        </p:nvPicPr>
        <p:blipFill>
          <a:blip r:embed="rId9"/>
          <a:stretch/>
        </p:blipFill>
        <p:spPr>
          <a:xfrm>
            <a:off x="5638680" y="3429000"/>
            <a:ext cx="180828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ico_tubame1"/>
          <p:cNvPicPr/>
          <p:nvPr/>
        </p:nvPicPr>
        <p:blipFill>
          <a:blip r:embed="rId10"/>
          <a:stretch/>
        </p:blipFill>
        <p:spPr>
          <a:xfrm>
            <a:off x="6629400" y="685800"/>
            <a:ext cx="1655640" cy="1047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829440" y="733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cc0066"/>
                </a:solidFill>
                <a:uFillTx/>
                <a:latin typeface="Arial"/>
              </a:rPr>
              <a:t>思考</a:t>
            </a:r>
            <a:r>
              <a:rPr b="1" i="1" lang="zh-CN" sz="4800" spc="-1" strike="noStrike">
                <a:solidFill>
                  <a:srgbClr val="cc0066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kaeru2"/>
          <p:cNvPicPr/>
          <p:nvPr/>
        </p:nvPicPr>
        <p:blipFill>
          <a:blip r:embed="rId11"/>
          <a:stretch/>
        </p:blipFill>
        <p:spPr>
          <a:xfrm>
            <a:off x="1219320" y="4662360"/>
            <a:ext cx="1741320" cy="1636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1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1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ico_tubame1"/>
          <p:cNvPicPr/>
          <p:nvPr/>
        </p:nvPicPr>
        <p:blipFill>
          <a:blip r:embed="rId1"/>
          <a:stretch/>
        </p:blipFill>
        <p:spPr>
          <a:xfrm>
            <a:off x="250920" y="3141720"/>
            <a:ext cx="2286000" cy="1325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9"/>
          <p:cNvSpPr/>
          <p:nvPr/>
        </p:nvSpPr>
        <p:spPr>
          <a:xfrm>
            <a:off x="2627280" y="83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冬天快要来了，虫子也快没啦。我要飞到南方去，那儿暖和，还有很多虫子。等明年春暖花开的时候，我再飞回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827520" y="1327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飞到南方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79280" y="443700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又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所以我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79280" y="55864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所以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是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又因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3"/>
          <p:cNvSpPr/>
          <p:nvPr/>
        </p:nvSpPr>
        <p:spPr>
          <a:xfrm>
            <a:off x="3492360" y="1341360"/>
            <a:ext cx="5008680" cy="1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556000" y="476280"/>
            <a:ext cx="6192720" cy="2808360"/>
          </a:xfrm>
          <a:prstGeom prst="cloudCallout">
            <a:avLst>
              <a:gd name="adj1" fmla="val -47027"/>
              <a:gd name="adj2" fmla="val 55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13"/>
          <p:cNvSpPr/>
          <p:nvPr/>
        </p:nvSpPr>
        <p:spPr>
          <a:xfrm>
            <a:off x="6156360" y="1844640"/>
            <a:ext cx="23446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13"/>
          <p:cNvSpPr/>
          <p:nvPr/>
        </p:nvSpPr>
        <p:spPr>
          <a:xfrm>
            <a:off x="2843280" y="2349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21093" t="14584" r="28126" b="31250"/>
          <a:stretch/>
        </p:blipFill>
        <p:spPr>
          <a:xfrm>
            <a:off x="71280" y="115920"/>
            <a:ext cx="8893440" cy="6670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2643120" y="2286000"/>
            <a:ext cx="226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候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3071880" y="3929040"/>
            <a:ext cx="257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62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迁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200442057569"/>
          <p:cNvPicPr/>
          <p:nvPr/>
        </p:nvPicPr>
        <p:blipFill>
          <a:blip r:embed="rId1"/>
          <a:stretch/>
        </p:blipFill>
        <p:spPr>
          <a:xfrm>
            <a:off x="71280" y="765000"/>
            <a:ext cx="8964720" cy="60184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571680" y="2643120"/>
            <a:ext cx="30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zge64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45040" y="98136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丹顶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71280" y="115920"/>
          <a:ext cx="8964720" cy="6723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 Box 3"/>
          <p:cNvSpPr/>
          <p:nvPr/>
        </p:nvSpPr>
        <p:spPr>
          <a:xfrm>
            <a:off x="4038480" y="69228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青蛙哥哥，你不是也要吃虫子吗？可你不会飞，怎么到南方去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24000" y="30481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不到南方去，就在这里过冬。我准备吃得饱饱的，过两天钻到泥土里去，好好睡上一大觉。等到来年春天，再出来找虫子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3851280" y="260280"/>
            <a:ext cx="5041800" cy="2664000"/>
          </a:xfrm>
          <a:prstGeom prst="cloudCallout">
            <a:avLst>
              <a:gd name="adj1" fmla="val -68828"/>
              <a:gd name="adj2" fmla="val -8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2788200" y="4044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钻到泥土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kaeru2"/>
          <p:cNvPicPr/>
          <p:nvPr/>
        </p:nvPicPr>
        <p:blipFill>
          <a:blip r:embed="rId3"/>
          <a:stretch/>
        </p:blipFill>
        <p:spPr>
          <a:xfrm>
            <a:off x="6629400" y="426708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ico_tubame1"/>
          <p:cNvPicPr/>
          <p:nvPr/>
        </p:nvPicPr>
        <p:blipFill>
          <a:blip r:embed="rId4"/>
          <a:stretch/>
        </p:blipFill>
        <p:spPr>
          <a:xfrm>
            <a:off x="457200" y="973080"/>
            <a:ext cx="2274840" cy="144792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6"/>
          <p:cNvSpPr/>
          <p:nvPr/>
        </p:nvSpPr>
        <p:spPr>
          <a:xfrm>
            <a:off x="142920" y="2666880"/>
            <a:ext cx="6084720" cy="3570480"/>
          </a:xfrm>
          <a:prstGeom prst="cloudCallout">
            <a:avLst>
              <a:gd name="adj1" fmla="val 63254"/>
              <a:gd name="adj2" fmla="val 9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5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6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66" name="直接连接符 13"/>
          <p:cNvSpPr/>
          <p:nvPr/>
        </p:nvSpPr>
        <p:spPr>
          <a:xfrm>
            <a:off x="3786120" y="407196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16"/>
          <p:cNvSpPr/>
          <p:nvPr/>
        </p:nvSpPr>
        <p:spPr>
          <a:xfrm>
            <a:off x="2571840" y="4572000"/>
            <a:ext cx="2286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8"/>
          <p:cNvSpPr/>
          <p:nvPr/>
        </p:nvSpPr>
        <p:spPr>
          <a:xfrm>
            <a:off x="1285920" y="5072040"/>
            <a:ext cx="192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迎春花"/>
          <p:cNvPicPr/>
          <p:nvPr/>
        </p:nvPicPr>
        <p:blipFill>
          <a:blip r:embed="rId1"/>
          <a:stretch/>
        </p:blipFill>
        <p:spPr>
          <a:xfrm>
            <a:off x="1428840" y="214200"/>
            <a:ext cx="7429320" cy="6215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桃花"/>
          <p:cNvPicPr/>
          <p:nvPr/>
        </p:nvPicPr>
        <p:blipFill>
          <a:blip r:embed="rId2"/>
          <a:stretch/>
        </p:blipFill>
        <p:spPr>
          <a:xfrm>
            <a:off x="1428840" y="4500720"/>
            <a:ext cx="2071440" cy="1931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梨花"/>
          <p:cNvPicPr/>
          <p:nvPr/>
        </p:nvPicPr>
        <p:blipFill>
          <a:blip r:embed="rId3"/>
          <a:stretch/>
        </p:blipFill>
        <p:spPr>
          <a:xfrm>
            <a:off x="1428840" y="2357280"/>
            <a:ext cx="2071440" cy="15717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桃花1"/>
          <p:cNvPicPr/>
          <p:nvPr/>
        </p:nvPicPr>
        <p:blipFill>
          <a:blip r:embed="rId4"/>
          <a:stretch/>
        </p:blipFill>
        <p:spPr>
          <a:xfrm>
            <a:off x="6500880" y="285840"/>
            <a:ext cx="231444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太阳花"/>
          <p:cNvPicPr/>
          <p:nvPr/>
        </p:nvPicPr>
        <p:blipFill>
          <a:blip r:embed="rId5"/>
          <a:stretch/>
        </p:blipFill>
        <p:spPr>
          <a:xfrm>
            <a:off x="6643800" y="4500720"/>
            <a:ext cx="2309760" cy="1928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桃花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428840" y="357120"/>
            <a:ext cx="2071440" cy="1714680"/>
          </a:xfrm>
          <a:prstGeom prst="rect">
            <a:avLst/>
          </a:prstGeom>
          <a:ln w="0">
            <a:noFill/>
          </a:ln>
        </p:spPr>
      </p:pic>
      <p:sp>
        <p:nvSpPr>
          <p:cNvPr id="375" name="矩形 8"/>
          <p:cNvSpPr/>
          <p:nvPr/>
        </p:nvSpPr>
        <p:spPr>
          <a:xfrm>
            <a:off x="285840" y="1357200"/>
            <a:ext cx="114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楷体_GB2312"/>
              </a:rPr>
              <a:t>春暖花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rcRect l="26564" t="17709" r="25003" b="29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4452120" y="21430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4006440" y="5572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蟒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193680" y="189000"/>
            <a:ext cx="2211840" cy="2663640"/>
            <a:chOff x="193680" y="189000"/>
            <a:chExt cx="2211840" cy="2663640"/>
          </a:xfrm>
        </p:grpSpPr>
        <p:pic>
          <p:nvPicPr>
            <p:cNvPr id="114" name="Picture 6" descr="xxyw2bp69"/>
            <p:cNvPicPr/>
            <p:nvPr/>
          </p:nvPicPr>
          <p:blipFill>
            <a:blip r:embed="rId4"/>
            <a:srcRect l="20009" t="45430" r="-33" b="30"/>
            <a:stretch/>
          </p:blipFill>
          <p:spPr>
            <a:xfrm>
              <a:off x="193680" y="189000"/>
              <a:ext cx="213660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7"/>
            <p:cNvSpPr/>
            <p:nvPr/>
          </p:nvSpPr>
          <p:spPr>
            <a:xfrm rot="441600">
              <a:off x="1476000" y="1339560"/>
              <a:ext cx="863640" cy="10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</a:rPr>
                <a:t>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1280" y="32454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白花天上栽，一夜北风花盛开，千变万化六个瓣，飘呀飘呀落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119320" y="53593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雪花来临时，什么季节到了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01516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5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6386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2819520" y="5715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蟾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AutoShape 3"/>
          <p:cNvSpPr/>
          <p:nvPr/>
        </p:nvSpPr>
        <p:spPr>
          <a:xfrm>
            <a:off x="838080" y="3200400"/>
            <a:ext cx="4800600" cy="2514600"/>
          </a:xfrm>
          <a:prstGeom prst="cloudCallout">
            <a:avLst>
              <a:gd name="adj1" fmla="val 72157"/>
              <a:gd name="adj2" fmla="val 11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427640" y="476280"/>
            <a:ext cx="4476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蜜蜂妹妹，冬天地上都是冰雪，没有鲜花，你怎么生活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28800" y="3505320"/>
            <a:ext cx="463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早就采了很多蜜，藏在蜂巢里，够吃上一个冬天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211640" y="189000"/>
            <a:ext cx="4773600" cy="2520720"/>
          </a:xfrm>
          <a:prstGeom prst="cloudCallout">
            <a:avLst>
              <a:gd name="adj1" fmla="val -72981"/>
              <a:gd name="adj2" fmla="val -7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m"/>
          <p:cNvPicPr/>
          <p:nvPr/>
        </p:nvPicPr>
        <p:blipFill>
          <a:blip r:embed="rId3"/>
          <a:stretch/>
        </p:blipFill>
        <p:spPr>
          <a:xfrm>
            <a:off x="6780240" y="4267080"/>
            <a:ext cx="1657440" cy="16765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8"/>
          <p:cNvSpPr/>
          <p:nvPr/>
        </p:nvSpPr>
        <p:spPr>
          <a:xfrm>
            <a:off x="1258560" y="4157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藏在蜂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ico_tubame1"/>
          <p:cNvPicPr/>
          <p:nvPr/>
        </p:nvPicPr>
        <p:blipFill>
          <a:blip r:embed="rId4"/>
          <a:stretch/>
        </p:blipFill>
        <p:spPr>
          <a:xfrm>
            <a:off x="609480" y="838080"/>
            <a:ext cx="2274840" cy="1447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" descr=""/>
          <p:cNvPicPr/>
          <p:nvPr/>
        </p:nvPicPr>
        <p:blipFill>
          <a:blip r:embed="rId5"/>
          <a:stretch/>
        </p:blipFill>
        <p:spPr>
          <a:xfrm>
            <a:off x="108000" y="189000"/>
            <a:ext cx="2539800" cy="571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/>
          <p:cNvPicPr/>
          <p:nvPr/>
        </p:nvPicPr>
        <p:blipFill>
          <a:blip r:embed="rId6"/>
          <a:stretch/>
        </p:blipFill>
        <p:spPr>
          <a:xfrm>
            <a:off x="2700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399" name="直接连接符 11"/>
          <p:cNvSpPr/>
          <p:nvPr/>
        </p:nvSpPr>
        <p:spPr>
          <a:xfrm>
            <a:off x="3500280" y="4071960"/>
            <a:ext cx="1857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3"/>
          <p:cNvSpPr/>
          <p:nvPr/>
        </p:nvSpPr>
        <p:spPr>
          <a:xfrm>
            <a:off x="1143000" y="4713120"/>
            <a:ext cx="1857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15"/>
          <p:cNvSpPr/>
          <p:nvPr/>
        </p:nvSpPr>
        <p:spPr>
          <a:xfrm>
            <a:off x="3786120" y="464184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6"/>
          <p:cNvSpPr/>
          <p:nvPr/>
        </p:nvSpPr>
        <p:spPr>
          <a:xfrm>
            <a:off x="1143000" y="528480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20045924424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3"/>
          <p:cNvSpPr/>
          <p:nvPr/>
        </p:nvSpPr>
        <p:spPr>
          <a:xfrm>
            <a:off x="1143000" y="5643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蜂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3400560" y="54291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备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0045940221"/>
          <p:cNvPicPr/>
          <p:nvPr/>
        </p:nvPicPr>
        <p:blipFill>
          <a:blip r:embed="rId1"/>
          <a:stretch/>
        </p:blipFill>
        <p:spPr>
          <a:xfrm>
            <a:off x="1828800" y="907920"/>
            <a:ext cx="5562720" cy="5257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1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3048120" y="5857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  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3643200" y="55720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蚂  蚁</a:t>
            </a:r>
            <a:r>
              <a:rPr b="1" lang="zh-CN" sz="6600" spc="-1" strike="noStrike">
                <a:solidFill>
                  <a:srgbClr val="ffcc99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762120" y="228600"/>
          <a:ext cx="748512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48512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1" descr=""/>
          <p:cNvPicPr/>
          <p:nvPr/>
        </p:nvPicPr>
        <p:blipFill>
          <a:blip r:embed="rId3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4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108000" y="115920"/>
          <a:ext cx="8964720" cy="6723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896472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304920" y="7207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们商量好了，约定第二年春天还在这里相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m"/>
          <p:cNvPicPr/>
          <p:nvPr/>
        </p:nvPicPr>
        <p:blipFill>
          <a:blip r:embed="rId3"/>
          <a:stretch/>
        </p:blipFill>
        <p:spPr>
          <a:xfrm>
            <a:off x="1143000" y="2895480"/>
            <a:ext cx="1838160" cy="1859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ico_tubame1"/>
          <p:cNvPicPr/>
          <p:nvPr/>
        </p:nvPicPr>
        <p:blipFill>
          <a:blip r:embed="rId4"/>
          <a:stretch/>
        </p:blipFill>
        <p:spPr>
          <a:xfrm>
            <a:off x="6324480" y="2382840"/>
            <a:ext cx="1791000" cy="11318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7010280" y="147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●      ●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33520" y="2217600"/>
            <a:ext cx="5790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</a:rPr>
              <a:t>●      ●      ●       ●      ●      ●     ●       ●      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kaeru2"/>
          <p:cNvPicPr/>
          <p:nvPr/>
        </p:nvPicPr>
        <p:blipFill>
          <a:blip r:embed="rId5"/>
          <a:stretch/>
        </p:blipFill>
        <p:spPr>
          <a:xfrm>
            <a:off x="3809880" y="4267080"/>
            <a:ext cx="1513080" cy="1422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our_Elise.wma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b6"/>
          <p:cNvPicPr/>
          <p:nvPr/>
        </p:nvPicPr>
        <p:blipFill>
          <a:blip r:embed="rId2">
            <a:lum bright="70000" contrast="-70000"/>
          </a:blip>
          <a:srcRect l="0" t="0" r="0" b="9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4"/>
          <p:cNvGrpSpPr/>
          <p:nvPr/>
        </p:nvGrpSpPr>
        <p:grpSpPr>
          <a:xfrm>
            <a:off x="971640" y="765000"/>
            <a:ext cx="5471640" cy="1616400"/>
            <a:chOff x="971640" y="765000"/>
            <a:chExt cx="5471640" cy="1616400"/>
          </a:xfrm>
        </p:grpSpPr>
        <p:sp>
          <p:nvSpPr>
            <p:cNvPr id="433" name="WordArt 5"/>
            <p:cNvSpPr txBox="1"/>
            <p:nvPr/>
          </p:nvSpPr>
          <p:spPr>
            <a:xfrm>
              <a:off x="971640" y="765000"/>
              <a:ext cx="3951720" cy="161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想像飞起来！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434" name="Picture 6" descr="xiaoniao"/>
            <p:cNvPicPr/>
            <p:nvPr/>
          </p:nvPicPr>
          <p:blipFill>
            <a:blip r:embed="rId3"/>
            <a:srcRect l="36202" t="49396" r="45078" b="33640"/>
            <a:stretch/>
          </p:blipFill>
          <p:spPr>
            <a:xfrm>
              <a:off x="4923360" y="765000"/>
              <a:ext cx="1519920" cy="9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 Box 7"/>
          <p:cNvSpPr/>
          <p:nvPr/>
        </p:nvSpPr>
        <p:spPr>
          <a:xfrm>
            <a:off x="762120" y="2362320"/>
            <a:ext cx="7391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年春天，青蛙、小燕子和小蜜蜂又聚到一起。它们会说些什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些什么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4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"/>
          <p:cNvPicPr/>
          <p:nvPr/>
        </p:nvPicPr>
        <p:blipFill>
          <a:blip r:embed="rId5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108000" y="4428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28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0" name="Picture 3" descr="kaeru2"/>
          <p:cNvPicPr/>
          <p:nvPr/>
        </p:nvPicPr>
        <p:blipFill>
          <a:blip r:embed="rId3"/>
          <a:stretch/>
        </p:blipFill>
        <p:spPr>
          <a:xfrm>
            <a:off x="990720" y="487692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co_tubame1"/>
          <p:cNvPicPr/>
          <p:nvPr/>
        </p:nvPicPr>
        <p:blipFill>
          <a:blip r:embed="rId4"/>
          <a:stretch/>
        </p:blipFill>
        <p:spPr>
          <a:xfrm>
            <a:off x="4419720" y="3124080"/>
            <a:ext cx="1655640" cy="1047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m"/>
          <p:cNvPicPr/>
          <p:nvPr/>
        </p:nvPicPr>
        <p:blipFill>
          <a:blip r:embed="rId5"/>
          <a:stretch/>
        </p:blipFill>
        <p:spPr>
          <a:xfrm>
            <a:off x="6095880" y="4800600"/>
            <a:ext cx="1352520" cy="136836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6"/>
          <p:cNvSpPr/>
          <p:nvPr/>
        </p:nvSpPr>
        <p:spPr>
          <a:xfrm rot="16200000">
            <a:off x="4914720" y="4457160"/>
            <a:ext cx="838440" cy="914400"/>
          </a:xfrm>
          <a:prstGeom prst="wedgeRoundRectCallout">
            <a:avLst>
              <a:gd name="adj1" fmla="val -40152"/>
              <a:gd name="adj2" fmla="val 62671"/>
              <a:gd name="adj3" fmla="val 16667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rot="15610200">
            <a:off x="3272400" y="3203640"/>
            <a:ext cx="762120" cy="1059120"/>
          </a:xfrm>
          <a:prstGeom prst="wedgeEllipseCallout">
            <a:avLst>
              <a:gd name="adj1" fmla="val -4592"/>
              <a:gd name="adj2" fmla="val 6805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2209680" y="4419720"/>
            <a:ext cx="1185840" cy="745920"/>
          </a:xfrm>
          <a:prstGeom prst="wedgeEllipseCallout">
            <a:avLst>
              <a:gd name="adj1" fmla="val -56962"/>
              <a:gd name="adj2" fmla="val 3872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00200" y="11430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第二年春天</a:t>
            </a:r>
            <a:r>
              <a:rPr b="0" lang="en-US" sz="60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6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"/>
          <p:cNvPicPr/>
          <p:nvPr/>
        </p:nvPicPr>
        <p:blipFill>
          <a:blip r:embed="rId7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春光图"/>
          <p:cNvPicPr/>
          <p:nvPr/>
        </p:nvPicPr>
        <p:blipFill>
          <a:blip r:embed="rId1"/>
          <a:stretch/>
        </p:blipFill>
        <p:spPr>
          <a:xfrm>
            <a:off x="179280" y="115920"/>
            <a:ext cx="8836200" cy="666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2362320" y="749160"/>
            <a:ext cx="6476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光明媚　　春意盎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春色满园　　百花齐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鸟语花香　　花红柳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万紫千红　　五彩缤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172120"/>
            <a:ext cx="9131400" cy="1685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19640" y="404280"/>
            <a:ext cx="151128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600" spc="-1" strike="noStrike">
                <a:solidFill>
                  <a:srgbClr val="3b812f"/>
                </a:solidFill>
                <a:latin typeface="Arial"/>
                <a:ea typeface="隶书"/>
              </a:rPr>
              <a:t>冬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21300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2852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你们是怎样度过寒冷的冬天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1403280" y="16527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年春天，青蛙（   ）从泥土里钻出来，早早地来到约定的地方，等它的好朋友。（    ）小蜜蜂从蜂巢里出来和青蛙见面了。不久，小燕子（   ）从南方飞回来了。三个好朋友一起快乐地唱起了歌，跳起了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403440" y="843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先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接着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也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394680" y="1635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6878520" y="278748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接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5745600" y="379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aah180016"/>
          <p:cNvPicPr/>
          <p:nvPr/>
        </p:nvPicPr>
        <p:blipFill>
          <a:blip r:embed="rId1"/>
          <a:stretch/>
        </p:blipFill>
        <p:spPr>
          <a:xfrm>
            <a:off x="179280" y="115920"/>
            <a:ext cx="3240360" cy="2259000"/>
          </a:xfrm>
          <a:prstGeom prst="rect">
            <a:avLst/>
          </a:prstGeom>
          <a:ln w="0">
            <a:noFill/>
          </a:ln>
        </p:spPr>
      </p:pic>
      <p:sp>
        <p:nvSpPr>
          <p:cNvPr id="461" name="Freeform 3"/>
          <p:cNvSpPr/>
          <p:nvPr/>
        </p:nvSpPr>
        <p:spPr>
          <a:xfrm>
            <a:off x="2627280" y="1509840"/>
            <a:ext cx="6126120" cy="4064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4"/>
          <p:cNvSpPr/>
          <p:nvPr/>
        </p:nvSpPr>
        <p:spPr>
          <a:xfrm>
            <a:off x="2700360" y="1413000"/>
            <a:ext cx="5904000" cy="406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"/>
          <p:cNvSpPr txBox="1"/>
          <p:nvPr/>
        </p:nvSpPr>
        <p:spPr>
          <a:xfrm rot="1226400">
            <a:off x="2952720" y="1029960"/>
            <a:ext cx="144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填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4" name="WordArt 6"/>
          <p:cNvSpPr txBox="1"/>
          <p:nvPr/>
        </p:nvSpPr>
        <p:spPr>
          <a:xfrm rot="348600">
            <a:off x="4357800" y="912960"/>
            <a:ext cx="10062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空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5" name="WordArt 7"/>
          <p:cNvSpPr txBox="1"/>
          <p:nvPr/>
        </p:nvSpPr>
        <p:spPr>
          <a:xfrm rot="20947800">
            <a:off x="5654160" y="885960"/>
            <a:ext cx="9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6" name="WordArt 8"/>
          <p:cNvSpPr txBox="1"/>
          <p:nvPr/>
        </p:nvSpPr>
        <p:spPr>
          <a:xfrm rot="530400">
            <a:off x="7011720" y="856800"/>
            <a:ext cx="86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稚艺简体"/>
              </a:rPr>
              <a:t>习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稚艺简体"/>
              <a:ea typeface="方正稚艺简体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2360" y="2205000"/>
            <a:ext cx="856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冬天到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，所以燕子要飞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青蛙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要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到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到了，没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幸好小蜜蜂早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藏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够吃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10"/>
          <p:cNvSpPr txBox="1"/>
          <p:nvPr/>
        </p:nvSpPr>
        <p:spPr>
          <a:xfrm>
            <a:off x="4068720" y="2324160"/>
            <a:ext cx="20480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5840">
                  <a:solidFill>
                    <a:srgbClr val="3333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虫子快没了</a:t>
            </a:r>
            <a:endParaRPr b="0" lang="en-US" sz="3200" spc="1" strike="noStrike">
              <a:ln w="15840">
                <a:solidFill>
                  <a:srgbClr val="3333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WordArt 11"/>
          <p:cNvSpPr txBox="1"/>
          <p:nvPr/>
        </p:nvSpPr>
        <p:spPr>
          <a:xfrm>
            <a:off x="2268360" y="2827440"/>
            <a:ext cx="819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南方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0" name="WordArt 12"/>
          <p:cNvSpPr txBox="1"/>
          <p:nvPr/>
        </p:nvSpPr>
        <p:spPr>
          <a:xfrm>
            <a:off x="3421080" y="328464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不会飞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WordArt 13"/>
          <p:cNvSpPr txBox="1"/>
          <p:nvPr/>
        </p:nvSpPr>
        <p:spPr>
          <a:xfrm>
            <a:off x="5508720" y="328464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没虫子吃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2" name="WordArt 14"/>
          <p:cNvSpPr txBox="1"/>
          <p:nvPr/>
        </p:nvSpPr>
        <p:spPr>
          <a:xfrm>
            <a:off x="1117440" y="3763800"/>
            <a:ext cx="223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饱饱吃上一顿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WordArt 15"/>
          <p:cNvSpPr txBox="1"/>
          <p:nvPr/>
        </p:nvSpPr>
        <p:spPr>
          <a:xfrm>
            <a:off x="4286160" y="376380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钻进泥土里睡一大觉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WordArt 16"/>
          <p:cNvSpPr txBox="1"/>
          <p:nvPr/>
        </p:nvSpPr>
        <p:spPr>
          <a:xfrm>
            <a:off x="1405080" y="4292640"/>
            <a:ext cx="215892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年春天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WordArt 17"/>
          <p:cNvSpPr txBox="1"/>
          <p:nvPr/>
        </p:nvSpPr>
        <p:spPr>
          <a:xfrm>
            <a:off x="4689360" y="4772160"/>
            <a:ext cx="819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WordArt 18"/>
          <p:cNvSpPr txBox="1"/>
          <p:nvPr/>
        </p:nvSpPr>
        <p:spPr>
          <a:xfrm>
            <a:off x="1260360" y="5275440"/>
            <a:ext cx="1871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采了很多蜜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7" name="WordArt 19"/>
          <p:cNvSpPr txBox="1"/>
          <p:nvPr/>
        </p:nvSpPr>
        <p:spPr>
          <a:xfrm>
            <a:off x="5219640" y="5275440"/>
            <a:ext cx="13683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蜂巢里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WordArt 20"/>
          <p:cNvSpPr txBox="1"/>
          <p:nvPr/>
        </p:nvSpPr>
        <p:spPr>
          <a:xfrm>
            <a:off x="1258920" y="5734080"/>
            <a:ext cx="1871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个冬天了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Freeform 21"/>
          <p:cNvSpPr/>
          <p:nvPr/>
        </p:nvSpPr>
        <p:spPr>
          <a:xfrm>
            <a:off x="8675640" y="659772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8101080" y="6453360"/>
            <a:ext cx="647640" cy="2887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7740720" y="6524640"/>
            <a:ext cx="33660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4"/>
          <p:cNvSpPr/>
          <p:nvPr/>
        </p:nvSpPr>
        <p:spPr>
          <a:xfrm rot="14796600">
            <a:off x="7308360" y="6452640"/>
            <a:ext cx="33660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6877080" y="6524640"/>
            <a:ext cx="336600" cy="2890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6372360" y="6597720"/>
            <a:ext cx="33624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7"/>
          <p:cNvSpPr/>
          <p:nvPr/>
        </p:nvSpPr>
        <p:spPr>
          <a:xfrm rot="1161600">
            <a:off x="5867280" y="6524640"/>
            <a:ext cx="576360" cy="2556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28"/>
          <p:cNvSpPr/>
          <p:nvPr/>
        </p:nvSpPr>
        <p:spPr>
          <a:xfrm>
            <a:off x="5459400" y="6630840"/>
            <a:ext cx="336600" cy="1828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29"/>
          <p:cNvSpPr/>
          <p:nvPr/>
        </p:nvSpPr>
        <p:spPr>
          <a:xfrm>
            <a:off x="4884840" y="6453360"/>
            <a:ext cx="647640" cy="3222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30"/>
          <p:cNvSpPr/>
          <p:nvPr/>
        </p:nvSpPr>
        <p:spPr>
          <a:xfrm>
            <a:off x="4524480" y="6558120"/>
            <a:ext cx="336600" cy="2538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31"/>
          <p:cNvSpPr/>
          <p:nvPr/>
        </p:nvSpPr>
        <p:spPr>
          <a:xfrm>
            <a:off x="4092480" y="655812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32"/>
          <p:cNvSpPr/>
          <p:nvPr/>
        </p:nvSpPr>
        <p:spPr>
          <a:xfrm>
            <a:off x="3660840" y="6453360"/>
            <a:ext cx="479520" cy="2872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3"/>
          <p:cNvSpPr/>
          <p:nvPr/>
        </p:nvSpPr>
        <p:spPr>
          <a:xfrm>
            <a:off x="3203640" y="6742080"/>
            <a:ext cx="409680" cy="10944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34"/>
          <p:cNvSpPr/>
          <p:nvPr/>
        </p:nvSpPr>
        <p:spPr>
          <a:xfrm>
            <a:off x="3492360" y="6381720"/>
            <a:ext cx="287640" cy="2160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5"/>
          <p:cNvSpPr/>
          <p:nvPr/>
        </p:nvSpPr>
        <p:spPr>
          <a:xfrm>
            <a:off x="313200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6"/>
          <p:cNvSpPr/>
          <p:nvPr/>
        </p:nvSpPr>
        <p:spPr>
          <a:xfrm>
            <a:off x="2484360" y="6381720"/>
            <a:ext cx="647640" cy="2890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37"/>
          <p:cNvSpPr/>
          <p:nvPr/>
        </p:nvSpPr>
        <p:spPr>
          <a:xfrm>
            <a:off x="2124000" y="6453360"/>
            <a:ext cx="336600" cy="25380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8"/>
          <p:cNvSpPr/>
          <p:nvPr/>
        </p:nvSpPr>
        <p:spPr>
          <a:xfrm>
            <a:off x="169236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39"/>
          <p:cNvSpPr/>
          <p:nvPr/>
        </p:nvSpPr>
        <p:spPr>
          <a:xfrm>
            <a:off x="1260360" y="6453360"/>
            <a:ext cx="3366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0"/>
          <p:cNvSpPr/>
          <p:nvPr/>
        </p:nvSpPr>
        <p:spPr>
          <a:xfrm>
            <a:off x="755640" y="6526080"/>
            <a:ext cx="336600" cy="3589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"/>
          <p:cNvSpPr/>
          <p:nvPr/>
        </p:nvSpPr>
        <p:spPr>
          <a:xfrm>
            <a:off x="250920" y="6526080"/>
            <a:ext cx="576000" cy="1825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2"/>
          <p:cNvSpPr/>
          <p:nvPr/>
        </p:nvSpPr>
        <p:spPr>
          <a:xfrm rot="14796600">
            <a:off x="8813520" y="6134040"/>
            <a:ext cx="336240" cy="25416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3"/>
          <p:cNvSpPr/>
          <p:nvPr/>
        </p:nvSpPr>
        <p:spPr>
          <a:xfrm>
            <a:off x="8381880" y="6205680"/>
            <a:ext cx="336600" cy="28872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4"/>
          <p:cNvSpPr/>
          <p:nvPr/>
        </p:nvSpPr>
        <p:spPr>
          <a:xfrm>
            <a:off x="7877160" y="6278400"/>
            <a:ext cx="336600" cy="182880"/>
          </a:xfrm>
          <a:prstGeom prst="pie">
            <a:avLst/>
          </a:prstGeom>
          <a:solidFill>
            <a:srgbClr val="ccff99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371600" y="12193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684360" y="907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   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116000" y="227664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过冬方式是 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335772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过冬方式 是 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65080" y="4437000"/>
            <a:ext cx="74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bf3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 蜂过冬方式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502960" y="228276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冬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5691600" y="33577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迁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5766120" y="44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备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5"/>
          <p:cNvSpPr/>
          <p:nvPr/>
        </p:nvSpPr>
        <p:spPr>
          <a:xfrm>
            <a:off x="755640" y="207648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（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liɑnɡ   liàn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uān  zhuān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到泥土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nuǎn luǎn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hé huo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5003640" y="2349360"/>
            <a:ext cx="165600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3635280" y="3716280"/>
            <a:ext cx="165600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3203640" y="5013360"/>
            <a:ext cx="165564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5724360" y="5084640"/>
            <a:ext cx="86364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物、动物、物品、物体、事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风、刮破、雨刮、刮刀、刮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、商店、商业、工商、经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、温暖、暖气、暖天、暖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量、较量、计量、量杯、海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1403280" y="206064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白、明亮、天明、光明、明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着、接替、接力、接班、接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哥、大哥、八哥、阿哥、哥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钻进、钻入、钻石、钻孔、钻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、等第、及第、次第、门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24000" y="213372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兆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357120" y="785880"/>
            <a:ext cx="14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7120" y="179064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缓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4389480" y="177336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饱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炮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57120" y="3933720"/>
            <a:ext cx="291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泳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427640" y="3933720"/>
            <a:ext cx="291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弟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2124000" y="1341360"/>
            <a:ext cx="3998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量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年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定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067280" y="1341360"/>
            <a:ext cx="122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快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商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预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明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商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7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7"/>
          <p:cNvSpPr/>
          <p:nvPr/>
        </p:nvSpPr>
        <p:spPr>
          <a:xfrm>
            <a:off x="357120" y="785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下面词语的反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2124000" y="1628640"/>
            <a:ext cx="3998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乐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和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凉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饱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4067280" y="1628640"/>
            <a:ext cx="273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忧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寒冷、凉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1280" y="907920"/>
            <a:ext cx="8964720" cy="5875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27280" y="619200"/>
            <a:ext cx="4032360" cy="117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357120" y="785880"/>
            <a:ext cx="83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拼音写词语（听写的词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1773360"/>
            <a:ext cx="820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éng yǒu    ch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g gē    qīng w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ì fēng    jiē zhe   xiāng j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zuān 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zǐ    k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lè    guā fēng     guò dōng   shāng liɑng    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fāng    nuǎn hu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óng zǐ   míng n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  chūn nuǎn huā kāi   zhǔn bèi   chī b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í tǔ    l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n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 bīng xuě    xiān hu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ēng huó   cǎi mì   yuē d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7"/>
          <p:cNvSpPr/>
          <p:nvPr/>
        </p:nvSpPr>
        <p:spPr>
          <a:xfrm>
            <a:off x="2916360" y="83664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过冬各出奇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79280" y="836640"/>
            <a:ext cx="87138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隆冬腊月，冰天雪地，我们人类可以穿大衣、棉鞋，戴帽子、手套。但动物们呢，它们可没有这样的智慧和条件，它们会挨冻吗？同学们的担心是多余的，动物们也很聪明，它们过冬时各有各的绝招呢！快来看看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虎跑步。数九寒天，深山老林异常寒冷。以速度和力量著称的老虎，就用奔跑和跳跃来取暖，跑步时的老虎特别专心，连近在咫尺的猎物也会弃之不顾，而不停地奔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北极熊用毛吸热。北极熊号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上霸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熊毛是一种不含任何色素的空心管子，这种空心管可以吸取紫外线在内的大部分光线，由此增加了北极熊的体温，使它在冰天雪地中平安无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兔子撞肚皮。冬天，兔子的毛又长又密，皮下脂肪也增厚了。但它们穿上这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时还觉得冷，它们就挤在一起，互相横向撞击肚皮，以此来取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海豹冰上钻孔。南极的冬季，气温可低至零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。生活在这里的海豹，便会到冰封的海水中过冬，因为海水中的温度比陆地上高一些。海豹为了能呼吸冰层上的空气，就用门牙将冰层锯出一个洞，这样，它的身体浸在水中，鼻孔就可露出水面呼吸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540160" cy="571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0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7"/>
          <p:cNvSpPr/>
          <p:nvPr/>
        </p:nvSpPr>
        <p:spPr>
          <a:xfrm>
            <a:off x="357120" y="62064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阅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250920" y="141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8720" y="2637000"/>
            <a:ext cx="74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了哪些动物过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动物是怎么过冬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85840" y="981000"/>
            <a:ext cx="8286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看课文，一边听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4"/>
              </a:rPr>
              <a:t>朗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遍；想想刚才提出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84360" y="2163600"/>
            <a:ext cx="5327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了哪些动物过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动物是怎么过冬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364500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青蛙、小燕子和小蜜蜂三个小动物过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蛙是钻入洞里冬眠过冬的，小燕子是飞到南方去过冬的，小蜜蜂是钻进蜂巢里吃蜂蜜过冬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916360" y="115920"/>
            <a:ext cx="2233440" cy="65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8893080" cy="5887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39640" y="22654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几遍，长句子或难读的句子多读几遍，做到不错读，不漏读，不重读，不打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刘寿华</dc:creator>
  <dc:description/>
  <dc:language>en-US</dc:language>
  <cp:lastModifiedBy>Windows 用户</cp:lastModifiedBy>
  <dcterms:modified xsi:type="dcterms:W3CDTF">2013-12-09T13:56:10Z</dcterms:modified>
  <cp:revision>82</cp:revision>
  <dc:subject/>
  <dc:title>19小动物过冬</dc:title>
</cp:coreProperties>
</file>