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9724-EE80-48BB-9E3F-765F9E31B8F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9000-87A9-437A-B343-0CEB7D89024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0FF-E259-4A05-B22F-D18A5F13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F03-962C-44FD-A589-B8333976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57B-2F16-4BF9-906F-A109F38C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AE2-14D4-4A82-AB0C-649D2F68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9BF-EE8D-4455-B350-7C45BA32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D2D-C673-45AA-8E2D-DA6EE9B8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46A-A421-4A2D-8928-FAE4B78C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EA2-5C7F-4171-9F8B-10C160A0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A46-C029-4DC2-8769-FD69C8A5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3889-E2E7-4FEC-84C7-BFEF47C8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32D-0FDD-40F5-9FB3-E384BADC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973-ED56-44F4-A7CD-ED0771E1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78AC-BCDE-418D-A2AD-FCAEA98433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37.png"/><Relationship Id="rId17" Type="http://schemas.openxmlformats.org/officeDocument/2006/relationships/image" Target="../media/image38.png"/><Relationship Id="rId18" Type="http://schemas.openxmlformats.org/officeDocument/2006/relationships/image" Target="../media/image39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梯形 3"/>
          <p:cNvSpPr/>
          <p:nvPr/>
        </p:nvSpPr>
        <p:spPr>
          <a:xfrm rot="8423400">
            <a:off x="7821360" y="-904680"/>
            <a:ext cx="639720" cy="5872320"/>
          </a:xfrm>
          <a:custGeom>
            <a:avLst/>
            <a:gdLst>
              <a:gd name="textAreaLeft" fmla="*/ 106560 w 639720"/>
              <a:gd name="textAreaRight" fmla="*/ 533160 w 639720"/>
              <a:gd name="textAreaTop" fmla="*/ 978480 h 5872320"/>
              <a:gd name="textAreaBottom" fmla="*/ 5872680 h 5872320"/>
            </a:gdLst>
            <a:ahLst/>
            <a:rect l="textAreaLeft" t="textAreaTop" r="textAreaRight" b="textAreaBottom"/>
            <a:pathLst>
              <a:path w="639762" h="5872163">
                <a:moveTo>
                  <a:pt x="0" y="5872163"/>
                </a:moveTo>
                <a:lnTo>
                  <a:pt x="159941" y="0"/>
                </a:lnTo>
                <a:lnTo>
                  <a:pt x="479822" y="0"/>
                </a:lnTo>
                <a:lnTo>
                  <a:pt x="639762" y="58721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梯形 4"/>
          <p:cNvSpPr/>
          <p:nvPr/>
        </p:nvSpPr>
        <p:spPr>
          <a:xfrm rot="5883000">
            <a:off x="4172040" y="718920"/>
            <a:ext cx="641160" cy="9337680"/>
          </a:xfrm>
          <a:custGeom>
            <a:avLst/>
            <a:gdLst>
              <a:gd name="textAreaLeft" fmla="*/ 106920 w 641160"/>
              <a:gd name="textAreaRight" fmla="*/ 534240 w 641160"/>
              <a:gd name="textAreaTop" fmla="*/ 1556280 h 9337680"/>
              <a:gd name="textAreaBottom" fmla="*/ 9337680 h 9337680"/>
            </a:gdLst>
            <a:ahLst/>
            <a:rect l="textAreaLeft" t="textAreaTop" r="textAreaRight" b="textAreaBottom"/>
            <a:pathLst>
              <a:path w="641350" h="9337676">
                <a:moveTo>
                  <a:pt x="0" y="9337676"/>
                </a:moveTo>
                <a:lnTo>
                  <a:pt x="160338" y="0"/>
                </a:lnTo>
                <a:lnTo>
                  <a:pt x="481013" y="0"/>
                </a:lnTo>
                <a:lnTo>
                  <a:pt x="641350" y="93376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"/>
          <p:cNvSpPr/>
          <p:nvPr/>
        </p:nvSpPr>
        <p:spPr>
          <a:xfrm rot="1567200">
            <a:off x="3734280" y="2032920"/>
            <a:ext cx="4335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000"/>
                </a:solidFill>
                <a:latin typeface="华文琥珀"/>
                <a:ea typeface="华文琥珀"/>
              </a:rPr>
              <a:t>MY STOR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9893160" y="4095720"/>
            <a:ext cx="2298960" cy="3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 rot="2321400">
            <a:off x="8875800" y="6342120"/>
            <a:ext cx="1590480" cy="2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9"/>
          <p:cNvSpPr/>
          <p:nvPr/>
        </p:nvSpPr>
        <p:spPr>
          <a:xfrm>
            <a:off x="10064880" y="5411880"/>
            <a:ext cx="2127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Chiller"/>
                <a:ea typeface="华文琥珀"/>
              </a:rPr>
              <a:t>Made By </a:t>
            </a:r>
            <a:r>
              <a:rPr b="1" lang="en-US" sz="4400" spc="-1" strike="noStrike">
                <a:solidFill>
                  <a:srgbClr val="92d050"/>
                </a:solidFill>
                <a:latin typeface="Cooper Std Black"/>
                <a:ea typeface="华文琥珀"/>
              </a:rPr>
              <a:t>L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0"/>
          <p:cNvSpPr/>
          <p:nvPr/>
        </p:nvSpPr>
        <p:spPr>
          <a:xfrm rot="17797200">
            <a:off x="-1875960" y="1294560"/>
            <a:ext cx="2138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同心圆 11"/>
          <p:cNvSpPr/>
          <p:nvPr/>
        </p:nvSpPr>
        <p:spPr>
          <a:xfrm>
            <a:off x="1204920" y="2297160"/>
            <a:ext cx="1335240" cy="1334880"/>
          </a:xfrm>
          <a:custGeom>
            <a:avLst/>
            <a:gdLst>
              <a:gd name="textAreaLeft" fmla="*/ 195480 w 1335240"/>
              <a:gd name="textAreaRight" fmla="*/ 1139760 w 1335240"/>
              <a:gd name="textAreaTop" fmla="*/ 195480 h 1334880"/>
              <a:gd name="textAreaBottom" fmla="*/ 1139400 h 1334880"/>
            </a:gdLst>
            <a:ahLst/>
            <a:rect l="textAreaLeft" t="textAreaTop" r="textAreaRight" b="textAreaBottom"/>
            <a:pathLst>
              <a:path w="1335087" h="1335087">
                <a:moveTo>
                  <a:pt x="0" y="667544"/>
                </a:moveTo>
                <a:lnTo>
                  <a:pt x="0" y="667544"/>
                </a:lnTo>
                <a:arcTo wR="667544" hR="667544" stAng="-10799995" swAng="5400000"/>
                <a:lnTo>
                  <a:pt x="667545" y="1"/>
                </a:lnTo>
                <a:arcTo wR="667544" hR="667544" stAng="-5399995" swAng="5400000"/>
                <a:lnTo>
                  <a:pt x="1335088" y="667546"/>
                </a:lnTo>
                <a:arcTo wR="667544" hR="667544" stAng="0" swAng="5400000"/>
                <a:lnTo>
                  <a:pt x="667544" y="1335090"/>
                </a:lnTo>
                <a:arcTo wR="667544" hR="667544" stAng="5400000" swAng="5400005"/>
                <a:close/>
                <a:moveTo>
                  <a:pt x="333772" y="667544"/>
                </a:moveTo>
                <a:lnTo>
                  <a:pt x="333772" y="667544"/>
                </a:lnTo>
                <a:arcTo wR="333772" hR="333772" stAng="10800000" swAng="-5400000"/>
                <a:lnTo>
                  <a:pt x="667544" y="1001316"/>
                </a:lnTo>
                <a:arcTo wR="333772" hR="333772" stAng="5400000" swAng="-5400000"/>
                <a:lnTo>
                  <a:pt x="1001316" y="667544"/>
                </a:lnTo>
                <a:arcTo wR="333772" hR="333772" stAng="0" swAng="-5400000"/>
                <a:lnTo>
                  <a:pt x="667544" y="333772"/>
                </a:lnTo>
                <a:arcTo wR="333772" hR="333772" stAng="-5400000" swAng="-5400000"/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7632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同心圆 12"/>
          <p:cNvSpPr/>
          <p:nvPr/>
        </p:nvSpPr>
        <p:spPr>
          <a:xfrm>
            <a:off x="4489560" y="4540320"/>
            <a:ext cx="511200" cy="509400"/>
          </a:xfrm>
          <a:custGeom>
            <a:avLst/>
            <a:gdLst>
              <a:gd name="textAreaLeft" fmla="*/ 74880 w 511200"/>
              <a:gd name="textAreaRight" fmla="*/ 436320 w 511200"/>
              <a:gd name="textAreaTop" fmla="*/ 74520 h 509400"/>
              <a:gd name="textAreaBottom" fmla="*/ 434880 h 509400"/>
            </a:gdLst>
            <a:ahLst/>
            <a:rect l="textAreaLeft" t="textAreaTop" r="textAreaRight" b="textAreaBottom"/>
            <a:pathLst>
              <a:path w="511175" h="509588">
                <a:moveTo>
                  <a:pt x="0" y="254794"/>
                </a:moveTo>
                <a:lnTo>
                  <a:pt x="0" y="254794"/>
                </a:lnTo>
                <a:arcTo wR="255588" hR="254794" stAng="10800000" swAng="5400000"/>
                <a:lnTo>
                  <a:pt x="255588" y="0"/>
                </a:lnTo>
                <a:arcTo wR="255588" hR="254794" stAng="-5400000" swAng="5400000"/>
                <a:lnTo>
                  <a:pt x="511176" y="254794"/>
                </a:lnTo>
                <a:arcTo wR="255588" hR="254794" stAng="0" swAng="5400000"/>
                <a:lnTo>
                  <a:pt x="255588" y="509588"/>
                </a:lnTo>
                <a:arcTo wR="255588" hR="254794" stAng="5400000" swAng="5400000"/>
                <a:close/>
                <a:moveTo>
                  <a:pt x="127397" y="254794"/>
                </a:moveTo>
                <a:lnTo>
                  <a:pt x="127397" y="254794"/>
                </a:lnTo>
                <a:arcTo wR="128191" hR="127397" stAng="10800000" swAng="-5400000"/>
                <a:lnTo>
                  <a:pt x="255588" y="382191"/>
                </a:lnTo>
                <a:arcTo wR="128191" hR="127397" stAng="5400000" swAng="-5400000"/>
                <a:lnTo>
                  <a:pt x="383779" y="254794"/>
                </a:lnTo>
                <a:arcTo wR="128191" hR="127397" stAng="0" swAng="-5400000"/>
                <a:lnTo>
                  <a:pt x="255588" y="127397"/>
                </a:lnTo>
                <a:arcTo wR="128191" hR="127397" stAng="-540000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同心圆 15"/>
          <p:cNvSpPr/>
          <p:nvPr/>
        </p:nvSpPr>
        <p:spPr>
          <a:xfrm>
            <a:off x="2952720" y="4525920"/>
            <a:ext cx="1020960" cy="1020960"/>
          </a:xfrm>
          <a:custGeom>
            <a:avLst/>
            <a:gdLst>
              <a:gd name="textAreaLeft" fmla="*/ 149400 w 1020960"/>
              <a:gd name="textAreaRight" fmla="*/ 871560 w 1020960"/>
              <a:gd name="textAreaTop" fmla="*/ 149400 h 1020960"/>
              <a:gd name="textAreaBottom" fmla="*/ 871560 h 1020960"/>
            </a:gdLst>
            <a:ahLst/>
            <a:rect l="textAreaLeft" t="textAreaTop" r="textAreaRight" b="textAreaBottom"/>
            <a:pathLst>
              <a:path w="1020763" h="1020762">
                <a:moveTo>
                  <a:pt x="0" y="510381"/>
                </a:moveTo>
                <a:lnTo>
                  <a:pt x="0" y="510381"/>
                </a:lnTo>
                <a:arcTo wR="510382" hR="510381" stAng="-10799993" swAng="5400000"/>
                <a:lnTo>
                  <a:pt x="510383" y="1"/>
                </a:lnTo>
                <a:arcTo wR="510382" hR="510381" stAng="-5399993" swAng="5400000"/>
                <a:lnTo>
                  <a:pt x="1020764" y="510383"/>
                </a:lnTo>
                <a:arcTo wR="510382" hR="510381" stAng="0" swAng="5400000"/>
                <a:lnTo>
                  <a:pt x="510382" y="1020764"/>
                </a:lnTo>
                <a:arcTo wR="510382" hR="510381" stAng="5400000" swAng="5400007"/>
                <a:close/>
                <a:moveTo>
                  <a:pt x="255191" y="510381"/>
                </a:moveTo>
                <a:lnTo>
                  <a:pt x="255191" y="510381"/>
                </a:lnTo>
                <a:arcTo wR="255191" hR="255191" stAng="10800000" swAng="-5400000"/>
                <a:lnTo>
                  <a:pt x="510382" y="765572"/>
                </a:lnTo>
                <a:arcTo wR="255191" hR="255191" stAng="5400000" swAng="-5400000"/>
                <a:lnTo>
                  <a:pt x="765573" y="510381"/>
                </a:lnTo>
                <a:arcTo wR="255191" hR="255191" stAng="0" swAng="-5400000"/>
                <a:lnTo>
                  <a:pt x="510382" y="255190"/>
                </a:lnTo>
                <a:arcTo wR="255191" hR="255191" stAng="-540000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同心圆 16"/>
          <p:cNvSpPr/>
          <p:nvPr/>
        </p:nvSpPr>
        <p:spPr>
          <a:xfrm>
            <a:off x="1025640" y="4124160"/>
            <a:ext cx="2125440" cy="2124360"/>
          </a:xfrm>
          <a:custGeom>
            <a:avLst/>
            <a:gdLst>
              <a:gd name="textAreaLeft" fmla="*/ 311040 w 2125440"/>
              <a:gd name="textAreaRight" fmla="*/ 1814400 w 2125440"/>
              <a:gd name="textAreaTop" fmla="*/ 311040 h 2124360"/>
              <a:gd name="textAreaBottom" fmla="*/ 1813320 h 2124360"/>
            </a:gdLst>
            <a:ahLst/>
            <a:rect l="textAreaLeft" t="textAreaTop" r="textAreaRight" b="textAreaBottom"/>
            <a:pathLst>
              <a:path w="2125663" h="2124075">
                <a:moveTo>
                  <a:pt x="0" y="1062038"/>
                </a:moveTo>
                <a:lnTo>
                  <a:pt x="0" y="1062038"/>
                </a:lnTo>
                <a:arcTo wR="1062832" hR="1062038" stAng="-10799997" swAng="5400003"/>
                <a:lnTo>
                  <a:pt x="1062834" y="1"/>
                </a:lnTo>
                <a:arcTo wR="1062832" hR="1062038" stAng="-5399997" swAng="5400003"/>
                <a:lnTo>
                  <a:pt x="2125665" y="1062041"/>
                </a:lnTo>
                <a:arcTo wR="1062832" hR="1062038" stAng="0" swAng="5400003"/>
                <a:lnTo>
                  <a:pt x="1062832" y="2124079"/>
                </a:lnTo>
                <a:arcTo wR="1062832" hR="1062038" stAng="5400003" swAng="5400000"/>
                <a:close/>
                <a:moveTo>
                  <a:pt x="531019" y="1062038"/>
                </a:moveTo>
                <a:lnTo>
                  <a:pt x="531019" y="1062038"/>
                </a:lnTo>
                <a:arcTo wR="531813" hR="531019" stAng="-10799994" swAng="-5400000"/>
                <a:lnTo>
                  <a:pt x="1062831" y="1593058"/>
                </a:lnTo>
                <a:arcTo wR="531813" hR="531019" stAng="5400000" swAng="-5400000"/>
                <a:lnTo>
                  <a:pt x="1594644" y="1062039"/>
                </a:lnTo>
                <a:arcTo wR="531813" hR="531019" stAng="0" swAng="-5400000"/>
                <a:lnTo>
                  <a:pt x="1062831" y="531020"/>
                </a:lnTo>
                <a:arcTo wR="531813" hR="531019" stAng="-5399994" swAng="-5400000"/>
                <a:close/>
              </a:path>
            </a:pathLst>
          </a:custGeom>
          <a:solidFill>
            <a:srgbClr val="2e75b6"/>
          </a:solidFill>
          <a:ln w="0">
            <a:noFill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同心圆 17"/>
          <p:cNvSpPr/>
          <p:nvPr/>
        </p:nvSpPr>
        <p:spPr>
          <a:xfrm>
            <a:off x="6084720" y="2403360"/>
            <a:ext cx="308160" cy="306360"/>
          </a:xfrm>
          <a:custGeom>
            <a:avLst/>
            <a:gdLst>
              <a:gd name="textAreaLeft" fmla="*/ 45000 w 308160"/>
              <a:gd name="textAreaRight" fmla="*/ 263160 w 308160"/>
              <a:gd name="textAreaTop" fmla="*/ 44640 h 306360"/>
              <a:gd name="textAreaBottom" fmla="*/ 261720 h 306360"/>
            </a:gdLst>
            <a:ahLst/>
            <a:rect l="textAreaLeft" t="textAreaTop" r="textAreaRight" b="textAreaBottom"/>
            <a:pathLst>
              <a:path w="307975" h="306388">
                <a:moveTo>
                  <a:pt x="0" y="153194"/>
                </a:moveTo>
                <a:lnTo>
                  <a:pt x="0" y="153194"/>
                </a:lnTo>
                <a:arcTo wR="153988" hR="153194" stAng="10800000" swAng="5400000"/>
                <a:lnTo>
                  <a:pt x="153988" y="0"/>
                </a:lnTo>
                <a:arcTo wR="153988" hR="153194" stAng="-5400000" swAng="5400000"/>
                <a:lnTo>
                  <a:pt x="307976" y="153194"/>
                </a:lnTo>
                <a:arcTo wR="153988" hR="153194" stAng="0" swAng="5400000"/>
                <a:lnTo>
                  <a:pt x="153988" y="306388"/>
                </a:lnTo>
                <a:arcTo wR="153988" hR="153194" stAng="5400000" swAng="5400000"/>
                <a:close/>
                <a:moveTo>
                  <a:pt x="76597" y="153194"/>
                </a:moveTo>
                <a:lnTo>
                  <a:pt x="76597" y="153194"/>
                </a:lnTo>
                <a:arcTo wR="77391" hR="76597" stAng="10800000" swAng="-5400000"/>
                <a:lnTo>
                  <a:pt x="153988" y="229791"/>
                </a:lnTo>
                <a:arcTo wR="77391" hR="76597" stAng="5400000" swAng="-5400000"/>
                <a:lnTo>
                  <a:pt x="231379" y="153194"/>
                </a:lnTo>
                <a:arcTo wR="77391" hR="76597" stAng="0" swAng="-5400000"/>
                <a:lnTo>
                  <a:pt x="153988" y="76597"/>
                </a:lnTo>
                <a:arcTo wR="77391" hR="76597" stAng="-540000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同心圆 19"/>
          <p:cNvSpPr/>
          <p:nvPr/>
        </p:nvSpPr>
        <p:spPr>
          <a:xfrm>
            <a:off x="7748640" y="3483000"/>
            <a:ext cx="392040" cy="392040"/>
          </a:xfrm>
          <a:custGeom>
            <a:avLst/>
            <a:gdLst>
              <a:gd name="textAreaLeft" fmla="*/ 57240 w 392040"/>
              <a:gd name="textAreaRight" fmla="*/ 334800 w 392040"/>
              <a:gd name="textAreaTop" fmla="*/ 57240 h 392040"/>
              <a:gd name="textAreaBottom" fmla="*/ 334800 h 392040"/>
            </a:gdLst>
            <a:ahLst/>
            <a:rect l="textAreaLeft" t="textAreaTop" r="textAreaRight" b="textAreaBottom"/>
            <a:pathLst>
              <a:path w="392112" h="392113">
                <a:moveTo>
                  <a:pt x="0" y="196057"/>
                </a:moveTo>
                <a:lnTo>
                  <a:pt x="0" y="196057"/>
                </a:lnTo>
                <a:arcTo wR="196056" hR="196057" stAng="10800000" swAng="5400000"/>
                <a:lnTo>
                  <a:pt x="196056" y="0"/>
                </a:lnTo>
                <a:arcTo wR="196056" hR="196057" stAng="-5400000" swAng="5400000"/>
                <a:lnTo>
                  <a:pt x="392112" y="196057"/>
                </a:lnTo>
                <a:arcTo wR="196056" hR="196057" stAng="0" swAng="5400000"/>
                <a:lnTo>
                  <a:pt x="196056" y="392114"/>
                </a:lnTo>
                <a:arcTo wR="196056" hR="196057" stAng="5400000" swAng="5400000"/>
                <a:close/>
                <a:moveTo>
                  <a:pt x="98028" y="196057"/>
                </a:moveTo>
                <a:lnTo>
                  <a:pt x="98028" y="196057"/>
                </a:lnTo>
                <a:arcTo wR="98028" hR="98029" stAng="10800000" swAng="-5400000"/>
                <a:lnTo>
                  <a:pt x="196056" y="294086"/>
                </a:lnTo>
                <a:arcTo wR="98028" hR="98029" stAng="5400000" swAng="-5400000"/>
                <a:lnTo>
                  <a:pt x="294084" y="196057"/>
                </a:lnTo>
                <a:arcTo wR="98028" hR="98029" stAng="0" swAng="-5400000"/>
                <a:lnTo>
                  <a:pt x="196056" y="98028"/>
                </a:lnTo>
                <a:arcTo wR="98028" hR="98029" stAng="-5400000" swAng="-5400000"/>
                <a:close/>
              </a:path>
            </a:pathLst>
          </a:custGeom>
          <a:solidFill>
            <a:srgbClr val="2e75b6"/>
          </a:solidFill>
          <a:ln w="0">
            <a:noFill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同心圆 20"/>
          <p:cNvSpPr/>
          <p:nvPr/>
        </p:nvSpPr>
        <p:spPr>
          <a:xfrm>
            <a:off x="10039320" y="3089160"/>
            <a:ext cx="784080" cy="785880"/>
          </a:xfrm>
          <a:custGeom>
            <a:avLst/>
            <a:gdLst>
              <a:gd name="textAreaLeft" fmla="*/ 114840 w 784080"/>
              <a:gd name="textAreaRight" fmla="*/ 669240 w 784080"/>
              <a:gd name="textAreaTop" fmla="*/ 114840 h 785880"/>
              <a:gd name="textAreaBottom" fmla="*/ 671040 h 785880"/>
            </a:gdLst>
            <a:ahLst/>
            <a:rect l="textAreaLeft" t="textAreaTop" r="textAreaRight" b="textAreaBottom"/>
            <a:pathLst>
              <a:path w="784225" h="785813">
                <a:moveTo>
                  <a:pt x="0" y="392907"/>
                </a:moveTo>
                <a:lnTo>
                  <a:pt x="0" y="392907"/>
                </a:lnTo>
                <a:arcTo wR="392113" hR="392907" stAng="10800000" swAng="5400009"/>
                <a:lnTo>
                  <a:pt x="392114" y="0"/>
                </a:lnTo>
                <a:arcTo wR="392113" hR="392907" stAng="-5400000" swAng="5400009"/>
                <a:lnTo>
                  <a:pt x="784227" y="392908"/>
                </a:lnTo>
                <a:arcTo wR="392113" hR="392907" stAng="0" swAng="5400000"/>
                <a:lnTo>
                  <a:pt x="392114" y="785815"/>
                </a:lnTo>
                <a:arcTo wR="392113" hR="392907" stAng="5400000" swAng="5400000"/>
                <a:close/>
                <a:moveTo>
                  <a:pt x="196056" y="392907"/>
                </a:moveTo>
                <a:lnTo>
                  <a:pt x="196056" y="392907"/>
                </a:lnTo>
                <a:arcTo wR="196056" hR="196850" stAng="10800000" swAng="-5400000"/>
                <a:lnTo>
                  <a:pt x="392112" y="589757"/>
                </a:lnTo>
                <a:arcTo wR="196056" hR="196850" stAng="5400000" swAng="-5400000"/>
                <a:lnTo>
                  <a:pt x="588168" y="392907"/>
                </a:lnTo>
                <a:arcTo wR="196056" hR="196850" stAng="0" swAng="-5400000"/>
                <a:lnTo>
                  <a:pt x="392112" y="196057"/>
                </a:lnTo>
                <a:arcTo wR="196056" hR="196850" stAng="-5400000" swAng="-5400000"/>
                <a:close/>
              </a:path>
            </a:pathLst>
          </a:custGeom>
          <a:solidFill>
            <a:srgbClr val="2e75b6"/>
          </a:solidFill>
          <a:ln w="0">
            <a:noFill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同心圆 21"/>
          <p:cNvSpPr/>
          <p:nvPr/>
        </p:nvSpPr>
        <p:spPr>
          <a:xfrm>
            <a:off x="8850240" y="5850000"/>
            <a:ext cx="541440" cy="541440"/>
          </a:xfrm>
          <a:custGeom>
            <a:avLst/>
            <a:gdLst>
              <a:gd name="textAreaLeft" fmla="*/ 79200 w 541440"/>
              <a:gd name="textAreaRight" fmla="*/ 462240 w 541440"/>
              <a:gd name="textAreaTop" fmla="*/ 79200 h 541440"/>
              <a:gd name="textAreaBottom" fmla="*/ 462240 h 541440"/>
            </a:gdLst>
            <a:ahLst/>
            <a:rect l="textAreaLeft" t="textAreaTop" r="textAreaRight" b="textAreaBottom"/>
            <a:pathLst>
              <a:path w="541337" h="541337">
                <a:moveTo>
                  <a:pt x="0" y="270669"/>
                </a:moveTo>
                <a:lnTo>
                  <a:pt x="0" y="270669"/>
                </a:lnTo>
                <a:arcTo wR="270669" hR="270669" stAng="10800000" swAng="5400000"/>
                <a:lnTo>
                  <a:pt x="270669" y="0"/>
                </a:lnTo>
                <a:arcTo wR="270669" hR="270669" stAng="-5400000" swAng="5400000"/>
                <a:lnTo>
                  <a:pt x="541338" y="270669"/>
                </a:lnTo>
                <a:arcTo wR="270669" hR="270669" stAng="0" swAng="5400000"/>
                <a:lnTo>
                  <a:pt x="270669" y="541338"/>
                </a:lnTo>
                <a:arcTo wR="270669" hR="270669" stAng="5400000" swAng="5400000"/>
                <a:close/>
                <a:moveTo>
                  <a:pt x="135334" y="270669"/>
                </a:moveTo>
                <a:lnTo>
                  <a:pt x="135334" y="270669"/>
                </a:lnTo>
                <a:arcTo wR="135334" hR="135334" stAng="10800000" swAng="-5400000"/>
                <a:lnTo>
                  <a:pt x="270668" y="406003"/>
                </a:lnTo>
                <a:arcTo wR="135334" hR="135334" stAng="5400000" swAng="-5400000"/>
                <a:lnTo>
                  <a:pt x="406002" y="270669"/>
                </a:lnTo>
                <a:arcTo wR="135334" hR="135334" stAng="0" swAng="-5400000"/>
                <a:lnTo>
                  <a:pt x="270668" y="135335"/>
                </a:lnTo>
                <a:arcTo wR="135334" hR="135334" stAng="-540000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同心圆 22"/>
          <p:cNvSpPr/>
          <p:nvPr/>
        </p:nvSpPr>
        <p:spPr>
          <a:xfrm>
            <a:off x="6299280" y="5264280"/>
            <a:ext cx="1082520" cy="1083960"/>
          </a:xfrm>
          <a:custGeom>
            <a:avLst/>
            <a:gdLst>
              <a:gd name="textAreaLeft" fmla="*/ 158400 w 1082520"/>
              <a:gd name="textAreaRight" fmla="*/ 924120 w 1082520"/>
              <a:gd name="textAreaTop" fmla="*/ 158760 h 1083960"/>
              <a:gd name="textAreaBottom" fmla="*/ 925200 h 1083960"/>
            </a:gdLst>
            <a:ahLst/>
            <a:rect l="textAreaLeft" t="textAreaTop" r="textAreaRight" b="textAreaBottom"/>
            <a:pathLst>
              <a:path w="1082675" h="1084263">
                <a:moveTo>
                  <a:pt x="0" y="542132"/>
                </a:moveTo>
                <a:lnTo>
                  <a:pt x="0" y="542132"/>
                </a:lnTo>
                <a:arcTo wR="541338" hR="542132" stAng="-10799994" swAng="5400000"/>
                <a:lnTo>
                  <a:pt x="541339" y="1"/>
                </a:lnTo>
                <a:arcTo wR="541338" hR="542132" stAng="-5399994" swAng="5400000"/>
                <a:lnTo>
                  <a:pt x="1082676" y="542134"/>
                </a:lnTo>
                <a:arcTo wR="541338" hR="542132" stAng="0" swAng="5400000"/>
                <a:lnTo>
                  <a:pt x="541338" y="1084266"/>
                </a:lnTo>
                <a:arcTo wR="541338" hR="542132" stAng="5400000" swAng="5400006"/>
                <a:close/>
                <a:moveTo>
                  <a:pt x="270669" y="542132"/>
                </a:moveTo>
                <a:lnTo>
                  <a:pt x="270669" y="542132"/>
                </a:lnTo>
                <a:arcTo wR="270669" hR="271463" stAng="10800000" swAng="-5400000"/>
                <a:lnTo>
                  <a:pt x="541338" y="813595"/>
                </a:lnTo>
                <a:arcTo wR="270669" hR="271463" stAng="5400000" swAng="-5400000"/>
                <a:lnTo>
                  <a:pt x="812007" y="542132"/>
                </a:lnTo>
                <a:arcTo wR="270669" hR="271463" stAng="0" swAng="-5400000"/>
                <a:lnTo>
                  <a:pt x="541338" y="270669"/>
                </a:lnTo>
                <a:arcTo wR="270669" hR="271463" stAng="-5400000" swAng="-5400000"/>
                <a:close/>
              </a:path>
            </a:pathLst>
          </a:custGeom>
          <a:solidFill>
            <a:srgbClr val="c00000"/>
          </a:solidFill>
          <a:ln w="0">
            <a:noFill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文本框 18" descr=""/>
          <p:cNvPicPr/>
          <p:nvPr/>
        </p:nvPicPr>
        <p:blipFill>
          <a:blip r:embed="rId1"/>
          <a:stretch/>
        </p:blipFill>
        <p:spPr>
          <a:xfrm>
            <a:off x="2865600" y="731880"/>
            <a:ext cx="5626080" cy="494964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5"/>
          <p:cNvSpPr/>
          <p:nvPr/>
        </p:nvSpPr>
        <p:spPr>
          <a:xfrm rot="1567200">
            <a:off x="3863880" y="2778120"/>
            <a:ext cx="25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8de18"/>
                </a:solidFill>
                <a:latin typeface="华文琥珀"/>
                <a:ea typeface="华文琥珀"/>
              </a:rPr>
              <a:t>我的个人简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2"/>
          <a:stretch/>
        </p:blipFill>
        <p:spPr>
          <a:xfrm>
            <a:off x="12642840" y="21924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0.20404 -0.06667 L 0.33946 -0.08519 L 0.4448 -0.08148 L 0.55508 -0.05926 L 0.66862 -0.00741 L 0.74063 0.06412 L 0.78503 0.14814 L 0.82787 0.29768 C 0.82917 0.3375 0.83008 0.37754 0.83125 0.41852 C 0.82201 0.46319 0.81303 0.50856 0.80391 0.55347 L 0.77279 0.60671 L 0.72917 0.63472 L 0.67396 0.64814 L 0.60938 0.64629 L 0.53724 0.63333 L 0.4625 0.59027 L 0.39584 0.53703 L 0.34362 0.46852 L 0.31146 0.38495 C 0.3073 0.36111 0.30261 0.3375 0.29844 0.31481 C 0.30157 0.27847 0.30261 0.24282 0.3073 0.2074 C 0.31303 0.18379 0.31928 0.16458 0.32748 0.14398 C 0.33998 0.13194 0.35248 0.12916 0.36498 0.12176 L 0.36498 0.12199 E">
                                      <p:cBhvr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10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498 0.12208 L 0.84571 0.55098 E">
                                      <p:cBhvr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800"/>
                            </p:stCondLst>
                            <p:childTnLst>
                              <p:par>
                                <p:cTn id="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6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6" presetSubtype="3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26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6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5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47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5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47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5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47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5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7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5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47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5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5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47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5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47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5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47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5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1"/>
          <p:cNvGrpSpPr/>
          <p:nvPr/>
        </p:nvGrpSpPr>
        <p:grpSpPr>
          <a:xfrm>
            <a:off x="-174960" y="-434520"/>
            <a:ext cx="16872120" cy="11830320"/>
            <a:chOff x="-174960" y="-434520"/>
            <a:chExt cx="16872120" cy="11830320"/>
          </a:xfrm>
        </p:grpSpPr>
        <p:sp>
          <p:nvSpPr>
            <p:cNvPr id="68" name="梯形 3"/>
            <p:cNvSpPr/>
            <p:nvPr/>
          </p:nvSpPr>
          <p:spPr>
            <a:xfrm rot="8423400">
              <a:off x="7821000" y="-904680"/>
              <a:ext cx="639720" cy="5873760"/>
            </a:xfrm>
            <a:custGeom>
              <a:avLst/>
              <a:gdLst>
                <a:gd name="textAreaLeft" fmla="*/ 106560 w 639720"/>
                <a:gd name="textAreaRight" fmla="*/ 533160 w 639720"/>
                <a:gd name="textAreaTop" fmla="*/ 978840 h 5873760"/>
                <a:gd name="textAreaBottom" fmla="*/ 5874120 h 5873760"/>
              </a:gdLst>
              <a:ahLst/>
              <a:rect l="textAreaLeft" t="textAreaTop" r="textAreaRight" b="textAreaBottom"/>
              <a:pathLst>
                <a:path w="639755" h="5873603">
                  <a:moveTo>
                    <a:pt x="0" y="5873603"/>
                  </a:moveTo>
                  <a:lnTo>
                    <a:pt x="159939" y="0"/>
                  </a:lnTo>
                  <a:lnTo>
                    <a:pt x="479816" y="0"/>
                  </a:lnTo>
                  <a:lnTo>
                    <a:pt x="639755" y="58736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梯形 4"/>
            <p:cNvSpPr/>
            <p:nvPr/>
          </p:nvSpPr>
          <p:spPr>
            <a:xfrm rot="5883000">
              <a:off x="4172760" y="719640"/>
              <a:ext cx="639720" cy="9337680"/>
            </a:xfrm>
            <a:custGeom>
              <a:avLst/>
              <a:gdLst>
                <a:gd name="textAreaLeft" fmla="*/ 106560 w 639720"/>
                <a:gd name="textAreaRight" fmla="*/ 533160 w 639720"/>
                <a:gd name="textAreaTop" fmla="*/ 1556280 h 9337680"/>
                <a:gd name="textAreaBottom" fmla="*/ 9337680 h 9337680"/>
              </a:gdLst>
              <a:ahLst/>
              <a:rect l="textAreaLeft" t="textAreaTop" r="textAreaRight" b="textAreaBottom"/>
              <a:pathLst>
                <a:path w="639746" h="9337571">
                  <a:moveTo>
                    <a:pt x="0" y="9337571"/>
                  </a:moveTo>
                  <a:lnTo>
                    <a:pt x="159937" y="0"/>
                  </a:lnTo>
                  <a:lnTo>
                    <a:pt x="479810" y="0"/>
                  </a:lnTo>
                  <a:lnTo>
                    <a:pt x="639746" y="9337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文本框 5"/>
            <p:cNvSpPr/>
            <p:nvPr/>
          </p:nvSpPr>
          <p:spPr>
            <a:xfrm rot="1567200">
              <a:off x="3733920" y="2034000"/>
              <a:ext cx="433512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c000"/>
                  </a:solidFill>
                  <a:latin typeface="华文琥珀"/>
                  <a:ea typeface="华文琥珀"/>
                </a:rPr>
                <a:t>MY STORY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6"/>
            <p:cNvSpPr/>
            <p:nvPr/>
          </p:nvSpPr>
          <p:spPr>
            <a:xfrm>
              <a:off x="9893160" y="4095720"/>
              <a:ext cx="680400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8"/>
            <p:cNvSpPr/>
            <p:nvPr/>
          </p:nvSpPr>
          <p:spPr>
            <a:xfrm rot="2321400">
              <a:off x="8121240" y="8490240"/>
              <a:ext cx="8459640" cy="29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文本框 9"/>
            <p:cNvSpPr/>
            <p:nvPr/>
          </p:nvSpPr>
          <p:spPr>
            <a:xfrm>
              <a:off x="10063800" y="5412600"/>
              <a:ext cx="212796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2d050"/>
                  </a:solidFill>
                  <a:latin typeface="Chiller"/>
                  <a:ea typeface="华文琥珀"/>
                </a:rPr>
                <a:t>Made By </a:t>
              </a:r>
              <a:r>
                <a:rPr b="1" lang="en-US" sz="4400" spc="-1" strike="noStrike">
                  <a:solidFill>
                    <a:srgbClr val="92d050"/>
                  </a:solidFill>
                  <a:latin typeface="Cooper Std Black"/>
                  <a:ea typeface="华文琥珀"/>
                </a:rPr>
                <a:t>Le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0"/>
            <p:cNvSpPr/>
            <p:nvPr/>
          </p:nvSpPr>
          <p:spPr>
            <a:xfrm rot="17797200">
              <a:off x="8499600" y="4952160"/>
              <a:ext cx="2138400" cy="21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文本框 5"/>
            <p:cNvSpPr/>
            <p:nvPr/>
          </p:nvSpPr>
          <p:spPr>
            <a:xfrm rot="1567200">
              <a:off x="3864600" y="2778120"/>
              <a:ext cx="25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8de18"/>
                  </a:solidFill>
                  <a:latin typeface="华文琥珀"/>
                  <a:ea typeface="华文琥珀"/>
                </a:rPr>
                <a:t>我的个人简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文本框 18" descr=""/>
            <p:cNvPicPr/>
            <p:nvPr/>
          </p:nvPicPr>
          <p:blipFill>
            <a:blip r:embed="rId1"/>
            <a:stretch/>
          </p:blipFill>
          <p:spPr>
            <a:xfrm>
              <a:off x="2865240" y="731160"/>
              <a:ext cx="5626440" cy="495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文本框 28"/>
          <p:cNvSpPr/>
          <p:nvPr/>
        </p:nvSpPr>
        <p:spPr>
          <a:xfrm>
            <a:off x="2178000" y="1119240"/>
            <a:ext cx="5340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Bodoni MT Black"/>
                <a:ea typeface="华文琥珀"/>
              </a:rPr>
              <a:t>LET’S</a:t>
            </a:r>
            <a:r>
              <a:rPr b="1" lang="en-US" sz="8800" spc="-1" strike="noStrike">
                <a:solidFill>
                  <a:srgbClr val="ff0000"/>
                </a:solidFill>
                <a:latin typeface="华文琥珀"/>
                <a:ea typeface="华文琥珀"/>
              </a:rPr>
              <a:t> </a:t>
            </a:r>
            <a:r>
              <a:rPr b="1" lang="en-US" sz="8800" spc="-1" strike="noStrike">
                <a:solidFill>
                  <a:srgbClr val="a9d18e"/>
                </a:solidFill>
                <a:latin typeface="Bodoni MT Black"/>
                <a:ea typeface="华文琥珀"/>
              </a:rPr>
              <a:t>TAKE A</a:t>
            </a:r>
            <a:r>
              <a:rPr b="1" lang="en-US" sz="8800" spc="-1" strike="noStrike">
                <a:solidFill>
                  <a:srgbClr val="ff0000"/>
                </a:solidFill>
                <a:latin typeface="Bodoni MT Black"/>
                <a:ea typeface="华文琥珀"/>
              </a:rPr>
              <a:t> Loo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95833E-006 4.44444E-006 L -0.85794 -0.38264 E">
                                      <p:cBhvr>
                                        <p:cTn id="131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">
                                      <p:cBhvr>
                                        <p:cTn id="13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22"/>
          <p:cNvSpPr/>
          <p:nvPr/>
        </p:nvSpPr>
        <p:spPr>
          <a:xfrm>
            <a:off x="4343400" y="6605640"/>
            <a:ext cx="719928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1"/>
          <p:cNvSpPr/>
          <p:nvPr/>
        </p:nvSpPr>
        <p:spPr>
          <a:xfrm>
            <a:off x="4343400" y="6605640"/>
            <a:ext cx="719928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14"/>
          <p:cNvSpPr/>
          <p:nvPr/>
        </p:nvSpPr>
        <p:spPr>
          <a:xfrm>
            <a:off x="5584680" y="3835440"/>
            <a:ext cx="2001960" cy="1155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113"/>
          <p:cNvSpPr/>
          <p:nvPr/>
        </p:nvSpPr>
        <p:spPr>
          <a:xfrm>
            <a:off x="5713560" y="3416400"/>
            <a:ext cx="19065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100"/>
          <p:cNvGrpSpPr/>
          <p:nvPr/>
        </p:nvGrpSpPr>
        <p:grpSpPr>
          <a:xfrm>
            <a:off x="2475000" y="2762280"/>
            <a:ext cx="5145120" cy="1333440"/>
            <a:chOff x="2475000" y="2762280"/>
            <a:chExt cx="5145120" cy="1333440"/>
          </a:xfrm>
        </p:grpSpPr>
        <p:sp>
          <p:nvSpPr>
            <p:cNvPr id="83" name="直接连接符 86"/>
            <p:cNvSpPr/>
            <p:nvPr/>
          </p:nvSpPr>
          <p:spPr>
            <a:xfrm>
              <a:off x="5713560" y="3416400"/>
              <a:ext cx="19065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同心圆 87"/>
            <p:cNvSpPr/>
            <p:nvPr/>
          </p:nvSpPr>
          <p:spPr>
            <a:xfrm>
              <a:off x="4378320" y="2762280"/>
              <a:ext cx="1334880" cy="1333440"/>
            </a:xfrm>
            <a:custGeom>
              <a:avLst/>
              <a:gdLst>
                <a:gd name="textAreaLeft" fmla="*/ 195480 w 1334880"/>
                <a:gd name="textAreaRight" fmla="*/ 1139400 w 1334880"/>
                <a:gd name="textAreaTop" fmla="*/ 195120 h 1333440"/>
                <a:gd name="textAreaBottom" fmla="*/ 1138320 h 1333440"/>
              </a:gdLst>
              <a:ahLst/>
              <a:rect l="textAreaLeft" t="textAreaTop" r="textAreaRight" b="textAreaBottom"/>
              <a:pathLst>
                <a:path w="1334960" h="1334695">
                  <a:moveTo>
                    <a:pt x="0" y="667348"/>
                  </a:moveTo>
                  <a:lnTo>
                    <a:pt x="0" y="667348"/>
                  </a:lnTo>
                  <a:arcTo wR="667480" hR="667348" stAng="-10799995" swAng="5400000"/>
                  <a:lnTo>
                    <a:pt x="667481" y="1"/>
                  </a:lnTo>
                  <a:arcTo wR="667480" hR="667348" stAng="-5399995" swAng="5400000"/>
                  <a:lnTo>
                    <a:pt x="1334960" y="667350"/>
                  </a:lnTo>
                  <a:arcTo wR="667480" hR="667348" stAng="0" swAng="5400000"/>
                  <a:lnTo>
                    <a:pt x="667480" y="1334698"/>
                  </a:lnTo>
                  <a:arcTo wR="667480" hR="667348" stAng="5400000" swAng="5400005"/>
                  <a:close/>
                  <a:moveTo>
                    <a:pt x="333674" y="667348"/>
                  </a:moveTo>
                  <a:lnTo>
                    <a:pt x="333674" y="667348"/>
                  </a:lnTo>
                  <a:arcTo wR="333806" hR="333674" stAng="10800000" swAng="-5400000"/>
                  <a:lnTo>
                    <a:pt x="667480" y="1001022"/>
                  </a:lnTo>
                  <a:arcTo wR="333806" hR="333674" stAng="5400000" swAng="-5400000"/>
                  <a:lnTo>
                    <a:pt x="1001286" y="667348"/>
                  </a:lnTo>
                  <a:arcTo wR="333806" hR="333674" stAng="0" swAng="-5400000"/>
                  <a:lnTo>
                    <a:pt x="667480" y="333674"/>
                  </a:lnTo>
                  <a:arcTo wR="333806" hR="333674" stAng="-5400000" swAng="-5400000"/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99"/>
            <p:cNvSpPr/>
            <p:nvPr/>
          </p:nvSpPr>
          <p:spPr>
            <a:xfrm>
              <a:off x="2475000" y="3416400"/>
              <a:ext cx="1906560" cy="0"/>
            </a:xfrm>
            <a:prstGeom prst="line">
              <a:avLst/>
            </a:prstGeom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直接连接符 8"/>
          <p:cNvSpPr/>
          <p:nvPr/>
        </p:nvSpPr>
        <p:spPr>
          <a:xfrm>
            <a:off x="5713560" y="3416400"/>
            <a:ext cx="19065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 rot="3300000">
            <a:off x="1016640" y="1565640"/>
            <a:ext cx="4760640" cy="2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空心弧 10"/>
          <p:cNvSpPr/>
          <p:nvPr/>
        </p:nvSpPr>
        <p:spPr>
          <a:xfrm rot="8700000">
            <a:off x="4574880" y="2949120"/>
            <a:ext cx="952560" cy="951120"/>
          </a:xfrm>
          <a:custGeom>
            <a:avLst/>
            <a:gdLst>
              <a:gd name="textAreaLeft" fmla="*/ 470520 w 952560"/>
              <a:gd name="textAreaRight" fmla="*/ 952920 w 952560"/>
              <a:gd name="textAreaTop" fmla="*/ 0 h 951120"/>
              <a:gd name="textAreaBottom" fmla="*/ 475560 h 951120"/>
            </a:gdLst>
            <a:ahLst/>
            <a:rect l="textAreaLeft" t="textAreaTop" r="textAreaRight" b="textAreaBottom"/>
            <a:pathLst>
              <a:path w="952500" h="950913">
                <a:moveTo>
                  <a:pt x="470577" y="34"/>
                </a:moveTo>
                <a:lnTo>
                  <a:pt x="470577" y="34"/>
                </a:lnTo>
                <a:arcTo wR="476250" hR="475457" stAng="-5441019" swAng="5441026"/>
                <a:lnTo>
                  <a:pt x="714772" y="475457"/>
                </a:lnTo>
                <a:lnTo>
                  <a:pt x="714772" y="475457"/>
                </a:lnTo>
                <a:arcTo wR="238522" hR="237728" stAng="0" swAng="-5441026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空心弧 12"/>
          <p:cNvSpPr/>
          <p:nvPr/>
        </p:nvSpPr>
        <p:spPr>
          <a:xfrm rot="3300000">
            <a:off x="4575600" y="2948400"/>
            <a:ext cx="951120" cy="952560"/>
          </a:xfrm>
          <a:custGeom>
            <a:avLst/>
            <a:gdLst>
              <a:gd name="textAreaLeft" fmla="*/ 469800 w 951120"/>
              <a:gd name="textAreaRight" fmla="*/ 951480 w 951120"/>
              <a:gd name="textAreaTop" fmla="*/ 0 h 952560"/>
              <a:gd name="textAreaBottom" fmla="*/ 476280 h 952560"/>
            </a:gdLst>
            <a:ahLst/>
            <a:rect l="textAreaLeft" t="textAreaTop" r="textAreaRight" b="textAreaBottom"/>
            <a:pathLst>
              <a:path w="950913" h="952500">
                <a:moveTo>
                  <a:pt x="469774" y="34"/>
                </a:moveTo>
                <a:lnTo>
                  <a:pt x="469774" y="34"/>
                </a:lnTo>
                <a:arcTo wR="475457" hR="476250" stAng="-5441023" swAng="5441030"/>
                <a:lnTo>
                  <a:pt x="713185" y="476250"/>
                </a:lnTo>
                <a:lnTo>
                  <a:pt x="713185" y="476250"/>
                </a:lnTo>
                <a:arcTo wR="237728" hR="238522" stAng="0" swAng="-5441034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空心弧 13"/>
          <p:cNvSpPr/>
          <p:nvPr/>
        </p:nvSpPr>
        <p:spPr>
          <a:xfrm rot="19500000">
            <a:off x="4575240" y="2949480"/>
            <a:ext cx="952560" cy="951120"/>
          </a:xfrm>
          <a:custGeom>
            <a:avLst/>
            <a:gdLst>
              <a:gd name="textAreaLeft" fmla="*/ 470520 w 952560"/>
              <a:gd name="textAreaRight" fmla="*/ 952920 w 952560"/>
              <a:gd name="textAreaTop" fmla="*/ 0 h 951120"/>
              <a:gd name="textAreaBottom" fmla="*/ 475560 h 951120"/>
            </a:gdLst>
            <a:ahLst/>
            <a:rect l="textAreaLeft" t="textAreaTop" r="textAreaRight" b="textAreaBottom"/>
            <a:pathLst>
              <a:path w="952500" h="950913">
                <a:moveTo>
                  <a:pt x="470577" y="34"/>
                </a:moveTo>
                <a:lnTo>
                  <a:pt x="470577" y="34"/>
                </a:lnTo>
                <a:arcTo wR="476250" hR="475457" stAng="-5441019" swAng="5441026"/>
                <a:lnTo>
                  <a:pt x="714772" y="475457"/>
                </a:lnTo>
                <a:lnTo>
                  <a:pt x="714772" y="475457"/>
                </a:lnTo>
                <a:arcTo wR="238522" hR="237728" stAng="0" swAng="-5441026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空心弧 14"/>
          <p:cNvSpPr/>
          <p:nvPr/>
        </p:nvSpPr>
        <p:spPr>
          <a:xfrm rot="14100000">
            <a:off x="4575960" y="2948760"/>
            <a:ext cx="951120" cy="952560"/>
          </a:xfrm>
          <a:custGeom>
            <a:avLst/>
            <a:gdLst>
              <a:gd name="textAreaLeft" fmla="*/ 469800 w 951120"/>
              <a:gd name="textAreaRight" fmla="*/ 951480 w 951120"/>
              <a:gd name="textAreaTop" fmla="*/ 0 h 952560"/>
              <a:gd name="textAreaBottom" fmla="*/ 476280 h 952560"/>
            </a:gdLst>
            <a:ahLst/>
            <a:rect l="textAreaLeft" t="textAreaTop" r="textAreaRight" b="textAreaBottom"/>
            <a:pathLst>
              <a:path w="950913" h="952500">
                <a:moveTo>
                  <a:pt x="469774" y="34"/>
                </a:moveTo>
                <a:lnTo>
                  <a:pt x="469774" y="34"/>
                </a:lnTo>
                <a:arcTo wR="475457" hR="476250" stAng="-5441023" swAng="5441030"/>
                <a:lnTo>
                  <a:pt x="713185" y="476250"/>
                </a:lnTo>
                <a:lnTo>
                  <a:pt x="713185" y="476250"/>
                </a:lnTo>
                <a:arcTo wR="237728" hR="238522" stAng="0" swAng="-5441034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24"/>
          <p:cNvGrpSpPr/>
          <p:nvPr/>
        </p:nvGrpSpPr>
        <p:grpSpPr>
          <a:xfrm>
            <a:off x="7850160" y="2655720"/>
            <a:ext cx="773280" cy="1260720"/>
            <a:chOff x="7850160" y="2655720"/>
            <a:chExt cx="773280" cy="1260720"/>
          </a:xfrm>
        </p:grpSpPr>
        <p:sp>
          <p:nvSpPr>
            <p:cNvPr id="93" name="任意多边形 23"/>
            <p:cNvSpPr/>
            <p:nvPr/>
          </p:nvSpPr>
          <p:spPr>
            <a:xfrm>
              <a:off x="7850160" y="3101760"/>
              <a:ext cx="301680" cy="811440"/>
            </a:xfrm>
            <a:custGeom>
              <a:avLst/>
              <a:gdLst/>
              <a:ahLst/>
              <a:rect l="l" t="t" r="r" b="b"/>
              <a:pathLst>
                <a:path w="525334" h="1409700">
                  <a:moveTo>
                    <a:pt x="824" y="121920"/>
                  </a:moveTo>
                  <a:lnTo>
                    <a:pt x="320864" y="0"/>
                  </a:lnTo>
                  <a:lnTo>
                    <a:pt x="525334" y="1409700"/>
                  </a:lnTo>
                  <a:lnTo>
                    <a:pt x="189" y="1301750"/>
                  </a:lnTo>
                  <a:cubicBezTo>
                    <a:pt x="-658" y="908473"/>
                    <a:pt x="1671" y="515197"/>
                    <a:pt x="824" y="12192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等腰三角形 16"/>
            <p:cNvSpPr/>
            <p:nvPr/>
          </p:nvSpPr>
          <p:spPr>
            <a:xfrm rot="18316200">
              <a:off x="8039520" y="3061440"/>
              <a:ext cx="141120" cy="19368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25"/>
            <p:cNvSpPr/>
            <p:nvPr/>
          </p:nvSpPr>
          <p:spPr>
            <a:xfrm flipH="1" rot="3283800">
              <a:off x="8289360" y="3060720"/>
              <a:ext cx="141120" cy="19512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等腰三角形 28"/>
            <p:cNvSpPr/>
            <p:nvPr/>
          </p:nvSpPr>
          <p:spPr>
            <a:xfrm flipV="1">
              <a:off x="8158320" y="3249720"/>
              <a:ext cx="156960" cy="10296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等腰三角形 29"/>
            <p:cNvSpPr/>
            <p:nvPr/>
          </p:nvSpPr>
          <p:spPr>
            <a:xfrm>
              <a:off x="8158320" y="3346560"/>
              <a:ext cx="156960" cy="46512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等腰三角形 30"/>
            <p:cNvSpPr/>
            <p:nvPr/>
          </p:nvSpPr>
          <p:spPr>
            <a:xfrm flipV="1">
              <a:off x="8158320" y="3805560"/>
              <a:ext cx="156960" cy="10296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21"/>
            <p:cNvSpPr/>
            <p:nvPr/>
          </p:nvSpPr>
          <p:spPr>
            <a:xfrm>
              <a:off x="8002440" y="2655720"/>
              <a:ext cx="446040" cy="4460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38"/>
            <p:cNvSpPr/>
            <p:nvPr/>
          </p:nvSpPr>
          <p:spPr>
            <a:xfrm flipH="1">
              <a:off x="8321760" y="3106440"/>
              <a:ext cx="301680" cy="810000"/>
            </a:xfrm>
            <a:custGeom>
              <a:avLst/>
              <a:gdLst/>
              <a:ahLst/>
              <a:rect l="l" t="t" r="r" b="b"/>
              <a:pathLst>
                <a:path w="525334" h="1409700">
                  <a:moveTo>
                    <a:pt x="824" y="121920"/>
                  </a:moveTo>
                  <a:lnTo>
                    <a:pt x="320864" y="0"/>
                  </a:lnTo>
                  <a:lnTo>
                    <a:pt x="525334" y="1409700"/>
                  </a:lnTo>
                  <a:lnTo>
                    <a:pt x="189" y="1301750"/>
                  </a:lnTo>
                  <a:cubicBezTo>
                    <a:pt x="-658" y="908473"/>
                    <a:pt x="1671" y="515197"/>
                    <a:pt x="824" y="12192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圆角矩形标注 39"/>
          <p:cNvSpPr/>
          <p:nvPr/>
        </p:nvSpPr>
        <p:spPr>
          <a:xfrm>
            <a:off x="8737560" y="1879560"/>
            <a:ext cx="1711440" cy="776160"/>
          </a:xfrm>
          <a:prstGeom prst="wedgeRoundRectCallout">
            <a:avLst>
              <a:gd name="adj1" fmla="val -69129"/>
              <a:gd name="adj2" fmla="val 68750"/>
              <a:gd name="adj3" fmla="val 16667"/>
            </a:avLst>
          </a:prstGeom>
          <a:solidFill>
            <a:srgbClr val="00b0f0">
              <a:alpha val="5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琥珀"/>
                <a:ea typeface="华文琥珀"/>
              </a:rPr>
              <a:t>我叫李新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61"/>
          <p:cNvGrpSpPr/>
          <p:nvPr/>
        </p:nvGrpSpPr>
        <p:grpSpPr>
          <a:xfrm>
            <a:off x="7531200" y="2719440"/>
            <a:ext cx="1438200" cy="1077840"/>
            <a:chOff x="7531200" y="2719440"/>
            <a:chExt cx="1438200" cy="1077840"/>
          </a:xfrm>
        </p:grpSpPr>
        <p:sp>
          <p:nvSpPr>
            <p:cNvPr id="103" name="等腰三角形 40"/>
            <p:cNvSpPr/>
            <p:nvPr/>
          </p:nvSpPr>
          <p:spPr>
            <a:xfrm>
              <a:off x="7531200" y="2719440"/>
              <a:ext cx="1438200" cy="31248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60"/>
            <p:cNvGrpSpPr/>
            <p:nvPr/>
          </p:nvGrpSpPr>
          <p:grpSpPr>
            <a:xfrm>
              <a:off x="7609320" y="3072600"/>
              <a:ext cx="1281960" cy="724680"/>
              <a:chOff x="7609320" y="3072600"/>
              <a:chExt cx="1281960" cy="724680"/>
            </a:xfrm>
          </p:grpSpPr>
          <p:grpSp>
            <p:nvGrpSpPr>
              <p:cNvPr id="105" name="组合 47"/>
              <p:cNvGrpSpPr/>
              <p:nvPr/>
            </p:nvGrpSpPr>
            <p:grpSpPr>
              <a:xfrm>
                <a:off x="7609320" y="3072600"/>
                <a:ext cx="232200" cy="724680"/>
                <a:chOff x="7609320" y="3072600"/>
                <a:chExt cx="232200" cy="724680"/>
              </a:xfrm>
            </p:grpSpPr>
            <p:sp>
              <p:nvSpPr>
                <p:cNvPr id="106" name="矩形 41"/>
                <p:cNvSpPr/>
                <p:nvPr/>
              </p:nvSpPr>
              <p:spPr>
                <a:xfrm>
                  <a:off x="7609320" y="3072600"/>
                  <a:ext cx="232200" cy="8856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矩形 42"/>
                <p:cNvSpPr/>
                <p:nvPr/>
              </p:nvSpPr>
              <p:spPr>
                <a:xfrm>
                  <a:off x="7609320" y="3708720"/>
                  <a:ext cx="232200" cy="8856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矩形 43"/>
                <p:cNvSpPr/>
                <p:nvPr/>
              </p:nvSpPr>
              <p:spPr>
                <a:xfrm>
                  <a:off x="7644240" y="3157920"/>
                  <a:ext cx="162360" cy="54864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组合 48"/>
              <p:cNvGrpSpPr/>
              <p:nvPr/>
            </p:nvGrpSpPr>
            <p:grpSpPr>
              <a:xfrm>
                <a:off x="7959240" y="3072600"/>
                <a:ext cx="232200" cy="724680"/>
                <a:chOff x="7959240" y="3072600"/>
                <a:chExt cx="232200" cy="724680"/>
              </a:xfrm>
            </p:grpSpPr>
            <p:sp>
              <p:nvSpPr>
                <p:cNvPr id="110" name="矩形 49"/>
                <p:cNvSpPr/>
                <p:nvPr/>
              </p:nvSpPr>
              <p:spPr>
                <a:xfrm>
                  <a:off x="7959240" y="3072600"/>
                  <a:ext cx="232200" cy="8856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矩形 50"/>
                <p:cNvSpPr/>
                <p:nvPr/>
              </p:nvSpPr>
              <p:spPr>
                <a:xfrm>
                  <a:off x="7959240" y="3708720"/>
                  <a:ext cx="232200" cy="8856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矩形 51"/>
                <p:cNvSpPr/>
                <p:nvPr/>
              </p:nvSpPr>
              <p:spPr>
                <a:xfrm>
                  <a:off x="7994160" y="3157920"/>
                  <a:ext cx="162360" cy="54864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组合 52"/>
              <p:cNvGrpSpPr/>
              <p:nvPr/>
            </p:nvGrpSpPr>
            <p:grpSpPr>
              <a:xfrm>
                <a:off x="8309160" y="3072600"/>
                <a:ext cx="232200" cy="724680"/>
                <a:chOff x="8309160" y="3072600"/>
                <a:chExt cx="232200" cy="724680"/>
              </a:xfrm>
            </p:grpSpPr>
            <p:sp>
              <p:nvSpPr>
                <p:cNvPr id="114" name="矩形 53"/>
                <p:cNvSpPr/>
                <p:nvPr/>
              </p:nvSpPr>
              <p:spPr>
                <a:xfrm>
                  <a:off x="8309160" y="3072600"/>
                  <a:ext cx="232200" cy="8856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矩形 54"/>
                <p:cNvSpPr/>
                <p:nvPr/>
              </p:nvSpPr>
              <p:spPr>
                <a:xfrm>
                  <a:off x="8309160" y="3708720"/>
                  <a:ext cx="232200" cy="8856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矩形 55"/>
                <p:cNvSpPr/>
                <p:nvPr/>
              </p:nvSpPr>
              <p:spPr>
                <a:xfrm>
                  <a:off x="8344080" y="3157920"/>
                  <a:ext cx="162360" cy="54864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组合 56"/>
              <p:cNvGrpSpPr/>
              <p:nvPr/>
            </p:nvGrpSpPr>
            <p:grpSpPr>
              <a:xfrm>
                <a:off x="8659080" y="3072600"/>
                <a:ext cx="232200" cy="724680"/>
                <a:chOff x="8659080" y="3072600"/>
                <a:chExt cx="232200" cy="724680"/>
              </a:xfrm>
            </p:grpSpPr>
            <p:sp>
              <p:nvSpPr>
                <p:cNvPr id="118" name="矩形 57"/>
                <p:cNvSpPr/>
                <p:nvPr/>
              </p:nvSpPr>
              <p:spPr>
                <a:xfrm>
                  <a:off x="8659080" y="3072600"/>
                  <a:ext cx="232200" cy="8856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矩形 58"/>
                <p:cNvSpPr/>
                <p:nvPr/>
              </p:nvSpPr>
              <p:spPr>
                <a:xfrm>
                  <a:off x="8659080" y="3708720"/>
                  <a:ext cx="232200" cy="8856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矩形 59"/>
                <p:cNvSpPr/>
                <p:nvPr/>
              </p:nvSpPr>
              <p:spPr>
                <a:xfrm>
                  <a:off x="8694000" y="3157920"/>
                  <a:ext cx="162360" cy="54864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1" name="组合 80"/>
          <p:cNvGrpSpPr/>
          <p:nvPr/>
        </p:nvGrpSpPr>
        <p:grpSpPr>
          <a:xfrm>
            <a:off x="7594560" y="4438800"/>
            <a:ext cx="1064520" cy="996840"/>
            <a:chOff x="7594560" y="4438800"/>
            <a:chExt cx="1064520" cy="996840"/>
          </a:xfrm>
        </p:grpSpPr>
        <p:sp>
          <p:nvSpPr>
            <p:cNvPr id="122" name="同心圆 62"/>
            <p:cNvSpPr/>
            <p:nvPr/>
          </p:nvSpPr>
          <p:spPr>
            <a:xfrm>
              <a:off x="7610400" y="4635360"/>
              <a:ext cx="293400" cy="291960"/>
            </a:xfrm>
            <a:custGeom>
              <a:avLst/>
              <a:gdLst>
                <a:gd name="textAreaLeft" fmla="*/ 42840 w 293400"/>
                <a:gd name="textAreaRight" fmla="*/ 250560 w 293400"/>
                <a:gd name="textAreaTop" fmla="*/ 42480 h 291960"/>
                <a:gd name="textAreaBottom" fmla="*/ 249480 h 291960"/>
              </a:gdLst>
              <a:ahLst/>
              <a:rect l="textAreaLeft" t="textAreaTop" r="textAreaRight" b="textAreaBottom"/>
              <a:pathLst>
                <a:path w="429962" h="427325">
                  <a:moveTo>
                    <a:pt x="0" y="213663"/>
                  </a:moveTo>
                  <a:lnTo>
                    <a:pt x="0" y="213663"/>
                  </a:lnTo>
                  <a:arcTo wR="214981" hR="213663" stAng="10800000" swAng="5400000"/>
                  <a:lnTo>
                    <a:pt x="214981" y="0"/>
                  </a:lnTo>
                  <a:arcTo wR="214981" hR="213663" stAng="-5400000" swAng="5400000"/>
                  <a:lnTo>
                    <a:pt x="429962" y="213663"/>
                  </a:lnTo>
                  <a:arcTo wR="214981" hR="213663" stAng="0" swAng="5400000"/>
                  <a:lnTo>
                    <a:pt x="214981" y="427326"/>
                  </a:lnTo>
                  <a:arcTo wR="214981" hR="213663" stAng="5400000" swAng="5400000"/>
                  <a:close/>
                  <a:moveTo>
                    <a:pt x="123792" y="213663"/>
                  </a:moveTo>
                  <a:lnTo>
                    <a:pt x="123792" y="213663"/>
                  </a:lnTo>
                  <a:arcTo wR="91189" hR="89871" stAng="10800000" swAng="-5400000"/>
                  <a:lnTo>
                    <a:pt x="214981" y="303534"/>
                  </a:lnTo>
                  <a:arcTo wR="91189" hR="89871" stAng="5400000" swAng="-5400000"/>
                  <a:lnTo>
                    <a:pt x="306170" y="213663"/>
                  </a:lnTo>
                  <a:arcTo wR="91189" hR="89871" stAng="0" swAng="-5400000"/>
                  <a:lnTo>
                    <a:pt x="214981" y="123792"/>
                  </a:lnTo>
                  <a:arcTo wR="91189" hR="89871" stAng="-5400000" swAng="-5400000"/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65"/>
            <p:cNvSpPr/>
            <p:nvPr/>
          </p:nvSpPr>
          <p:spPr>
            <a:xfrm rot="20746800">
              <a:off x="7859520" y="4598640"/>
              <a:ext cx="457200" cy="163440"/>
            </a:xfrm>
            <a:custGeom>
              <a:avLst/>
              <a:gdLst/>
              <a:ahLst/>
              <a:rect l="l" t="t" r="r" b="b"/>
              <a:pathLst>
                <a:path w="669523" h="238125">
                  <a:moveTo>
                    <a:pt x="0" y="0"/>
                  </a:moveTo>
                  <a:lnTo>
                    <a:pt x="669523" y="0"/>
                  </a:lnTo>
                  <a:lnTo>
                    <a:pt x="669523" y="238125"/>
                  </a:lnTo>
                  <a:lnTo>
                    <a:pt x="1" y="238125"/>
                  </a:lnTo>
                  <a:lnTo>
                    <a:pt x="24031" y="202484"/>
                  </a:lnTo>
                  <a:cubicBezTo>
                    <a:pt x="34876" y="176843"/>
                    <a:pt x="40873" y="148654"/>
                    <a:pt x="40873" y="119063"/>
                  </a:cubicBezTo>
                  <a:cubicBezTo>
                    <a:pt x="40873" y="89473"/>
                    <a:pt x="34876" y="61283"/>
                    <a:pt x="24031" y="35643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圆角矩形 66"/>
            <p:cNvSpPr/>
            <p:nvPr/>
          </p:nvSpPr>
          <p:spPr>
            <a:xfrm>
              <a:off x="8261280" y="4508280"/>
              <a:ext cx="163440" cy="226800"/>
            </a:xfrm>
            <a:custGeom>
              <a:avLst/>
              <a:gdLst>
                <a:gd name="textAreaLeft" fmla="*/ 7920 w 163440"/>
                <a:gd name="textAreaRight" fmla="*/ 155520 w 163440"/>
                <a:gd name="textAreaTop" fmla="*/ 7920 h 226800"/>
                <a:gd name="textAreaBottom" fmla="*/ 218880 h 226800"/>
              </a:gdLst>
              <a:ahLst/>
              <a:rect l="textAreaLeft" t="textAreaTop" r="textAreaRight" b="textAreaBottom"/>
              <a:pathLst>
                <a:path w="21600" h="29955">
                  <a:moveTo>
                    <a:pt x="3600" y="0"/>
                  </a:moveTo>
                  <a:arcTo wR="3600" hR="3600" stAng="16200000" swAng="-5400000"/>
                  <a:lnTo>
                    <a:pt x="0" y="26355"/>
                  </a:lnTo>
                  <a:arcTo wR="3600" hR="3600" stAng="10800000" swAng="-5400000"/>
                  <a:lnTo>
                    <a:pt x="18000" y="299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组合 71"/>
            <p:cNvGrpSpPr/>
            <p:nvPr/>
          </p:nvGrpSpPr>
          <p:grpSpPr>
            <a:xfrm>
              <a:off x="8363520" y="4438800"/>
              <a:ext cx="295560" cy="137160"/>
              <a:chOff x="8363520" y="4438800"/>
              <a:chExt cx="295560" cy="137160"/>
            </a:xfrm>
          </p:grpSpPr>
          <p:sp>
            <p:nvSpPr>
              <p:cNvPr id="126" name="圆角矩形 67"/>
              <p:cNvSpPr/>
              <p:nvPr/>
            </p:nvSpPr>
            <p:spPr>
              <a:xfrm rot="19912200">
                <a:off x="8368920" y="4474440"/>
                <a:ext cx="168480" cy="65160"/>
              </a:xfrm>
              <a:prstGeom prst="roundRect">
                <a:avLst>
                  <a:gd name="adj" fmla="val 16667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圆角矩形 68"/>
              <p:cNvSpPr/>
              <p:nvPr/>
            </p:nvSpPr>
            <p:spPr>
              <a:xfrm rot="1463400">
                <a:off x="8484480" y="4471560"/>
                <a:ext cx="168480" cy="65160"/>
              </a:xfrm>
              <a:prstGeom prst="roundRect">
                <a:avLst>
                  <a:gd name="adj" fmla="val 16667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组合 72"/>
            <p:cNvGrpSpPr/>
            <p:nvPr/>
          </p:nvGrpSpPr>
          <p:grpSpPr>
            <a:xfrm>
              <a:off x="8363520" y="4668480"/>
              <a:ext cx="295560" cy="136800"/>
              <a:chOff x="8363520" y="4668480"/>
              <a:chExt cx="295560" cy="136800"/>
            </a:xfrm>
          </p:grpSpPr>
          <p:sp>
            <p:nvSpPr>
              <p:cNvPr id="129" name="圆角矩形 73"/>
              <p:cNvSpPr/>
              <p:nvPr/>
            </p:nvSpPr>
            <p:spPr>
              <a:xfrm flipV="1" rot="1687800">
                <a:off x="8368920" y="4704120"/>
                <a:ext cx="168480" cy="65160"/>
              </a:xfrm>
              <a:prstGeom prst="roundRect">
                <a:avLst>
                  <a:gd name="adj" fmla="val 16667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圆角矩形 74"/>
              <p:cNvSpPr/>
              <p:nvPr/>
            </p:nvSpPr>
            <p:spPr>
              <a:xfrm flipV="1" rot="20136600">
                <a:off x="8484480" y="4707000"/>
                <a:ext cx="168480" cy="65160"/>
              </a:xfrm>
              <a:prstGeom prst="roundRect">
                <a:avLst>
                  <a:gd name="adj" fmla="val 16667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圆角矩形 75"/>
            <p:cNvSpPr/>
            <p:nvPr/>
          </p:nvSpPr>
          <p:spPr>
            <a:xfrm>
              <a:off x="7767360" y="5211720"/>
              <a:ext cx="468360" cy="22392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 78"/>
            <p:cNvSpPr/>
            <p:nvPr/>
          </p:nvSpPr>
          <p:spPr>
            <a:xfrm rot="3697800">
              <a:off x="7675560" y="4988880"/>
              <a:ext cx="514440" cy="214200"/>
            </a:xfrm>
            <a:custGeom>
              <a:avLst/>
              <a:gdLst/>
              <a:ahLst/>
              <a:rect l="l" t="t" r="r" b="b"/>
              <a:pathLst>
                <a:path w="885825" h="285750">
                  <a:moveTo>
                    <a:pt x="648" y="0"/>
                  </a:moveTo>
                  <a:lnTo>
                    <a:pt x="885825" y="0"/>
                  </a:lnTo>
                  <a:lnTo>
                    <a:pt x="885825" y="285750"/>
                  </a:lnTo>
                  <a:lnTo>
                    <a:pt x="0" y="285750"/>
                  </a:lnTo>
                  <a:lnTo>
                    <a:pt x="0" y="281137"/>
                  </a:lnTo>
                  <a:lnTo>
                    <a:pt x="37931" y="226708"/>
                  </a:lnTo>
                  <a:cubicBezTo>
                    <a:pt x="61490" y="172419"/>
                    <a:pt x="60814" y="113720"/>
                    <a:pt x="40676" y="6270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同心圆 79"/>
            <p:cNvSpPr/>
            <p:nvPr/>
          </p:nvSpPr>
          <p:spPr>
            <a:xfrm>
              <a:off x="7594560" y="4614840"/>
              <a:ext cx="328680" cy="328680"/>
            </a:xfrm>
            <a:custGeom>
              <a:avLst/>
              <a:gdLst>
                <a:gd name="textAreaLeft" fmla="*/ 47880 w 328680"/>
                <a:gd name="textAreaRight" fmla="*/ 280800 w 328680"/>
                <a:gd name="textAreaTop" fmla="*/ 47880 h 328680"/>
                <a:gd name="textAreaBottom" fmla="*/ 280800 h 328680"/>
              </a:gdLst>
              <a:ahLst/>
              <a:rect l="textAreaLeft" t="textAreaTop" r="textAreaRight" b="textAreaBottom"/>
              <a:pathLst>
                <a:path w="481092" h="480740">
                  <a:moveTo>
                    <a:pt x="0" y="240370"/>
                  </a:moveTo>
                  <a:lnTo>
                    <a:pt x="0" y="240370"/>
                  </a:lnTo>
                  <a:arcTo wR="240546" hR="240370" stAng="10800000" swAng="5400000"/>
                  <a:lnTo>
                    <a:pt x="240546" y="0"/>
                  </a:lnTo>
                  <a:arcTo wR="240546" hR="240370" stAng="-5400000" swAng="5400000"/>
                  <a:lnTo>
                    <a:pt x="481092" y="240370"/>
                  </a:lnTo>
                  <a:arcTo wR="240546" hR="240370" stAng="0" swAng="5400000"/>
                  <a:lnTo>
                    <a:pt x="240546" y="480740"/>
                  </a:lnTo>
                  <a:arcTo wR="240546" hR="240370" stAng="5400000" swAng="5400000"/>
                  <a:close/>
                  <a:moveTo>
                    <a:pt x="27522" y="240370"/>
                  </a:moveTo>
                  <a:lnTo>
                    <a:pt x="27522" y="240370"/>
                  </a:lnTo>
                  <a:arcTo wR="213024" hR="212848" stAng="10800000" swAng="-5400000"/>
                  <a:lnTo>
                    <a:pt x="240546" y="453218"/>
                  </a:lnTo>
                  <a:arcTo wR="213024" hR="212848" stAng="5400000" swAng="-5400000"/>
                  <a:lnTo>
                    <a:pt x="453570" y="240370"/>
                  </a:lnTo>
                  <a:arcTo wR="213024" hR="212848" stAng="0" swAng="-5400000"/>
                  <a:lnTo>
                    <a:pt x="240546" y="27522"/>
                  </a:lnTo>
                  <a:arcTo wR="213024" hR="212848" stAng="-540000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圆角矩形标注 84"/>
          <p:cNvSpPr/>
          <p:nvPr/>
        </p:nvSpPr>
        <p:spPr>
          <a:xfrm>
            <a:off x="8756640" y="2022480"/>
            <a:ext cx="2622600" cy="776160"/>
          </a:xfrm>
          <a:prstGeom prst="wedgeRoundRectCallout">
            <a:avLst>
              <a:gd name="adj1" fmla="val -69129"/>
              <a:gd name="adj2" fmla="val 68750"/>
              <a:gd name="adj3" fmla="val 16667"/>
            </a:avLst>
          </a:prstGeom>
          <a:solidFill>
            <a:srgbClr val="00b0f0">
              <a:alpha val="5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琥珀"/>
                <a:ea typeface="华文琥珀"/>
              </a:rPr>
              <a:t>毕业于北京科技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标注 85"/>
          <p:cNvSpPr/>
          <p:nvPr/>
        </p:nvSpPr>
        <p:spPr>
          <a:xfrm>
            <a:off x="8744040" y="3730680"/>
            <a:ext cx="1711080" cy="776160"/>
          </a:xfrm>
          <a:prstGeom prst="wedgeRoundRectCallout">
            <a:avLst>
              <a:gd name="adj1" fmla="val -69129"/>
              <a:gd name="adj2" fmla="val 68750"/>
              <a:gd name="adj3" fmla="val 16667"/>
            </a:avLst>
          </a:prstGeom>
          <a:solidFill>
            <a:srgbClr val="00b0f0">
              <a:alpha val="5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琥珀"/>
                <a:ea typeface="华文琥珀"/>
              </a:rPr>
              <a:t>自动化专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19"/>
          <p:cNvSpPr/>
          <p:nvPr/>
        </p:nvSpPr>
        <p:spPr>
          <a:xfrm>
            <a:off x="4343400" y="-277920"/>
            <a:ext cx="719928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同心圆 17"/>
          <p:cNvSpPr/>
          <p:nvPr/>
        </p:nvSpPr>
        <p:spPr>
          <a:xfrm>
            <a:off x="4379760" y="2762280"/>
            <a:ext cx="1333800" cy="1333440"/>
          </a:xfrm>
          <a:custGeom>
            <a:avLst/>
            <a:gdLst>
              <a:gd name="textAreaLeft" fmla="*/ 195120 w 1333800"/>
              <a:gd name="textAreaRight" fmla="*/ 1138680 w 1333800"/>
              <a:gd name="textAreaTop" fmla="*/ 195120 h 1333440"/>
              <a:gd name="textAreaBottom" fmla="*/ 1138320 h 1333440"/>
            </a:gdLst>
            <a:ahLst/>
            <a:rect l="textAreaLeft" t="textAreaTop" r="textAreaRight" b="textAreaBottom"/>
            <a:pathLst>
              <a:path w="1333500" h="1333500">
                <a:moveTo>
                  <a:pt x="0" y="666750"/>
                </a:moveTo>
                <a:lnTo>
                  <a:pt x="0" y="666750"/>
                </a:lnTo>
                <a:arcTo wR="666750" hR="666750" stAng="-10799995" swAng="5400000"/>
                <a:lnTo>
                  <a:pt x="666751" y="1"/>
                </a:lnTo>
                <a:arcTo wR="666750" hR="666750" stAng="-5399995" swAng="5400000"/>
                <a:lnTo>
                  <a:pt x="1333500" y="666752"/>
                </a:lnTo>
                <a:arcTo wR="666750" hR="666750" stAng="0" swAng="5400000"/>
                <a:lnTo>
                  <a:pt x="666750" y="1333502"/>
                </a:lnTo>
                <a:arcTo wR="666750" hR="666750" stAng="5400000" swAng="5400005"/>
                <a:close/>
                <a:moveTo>
                  <a:pt x="333375" y="666750"/>
                </a:moveTo>
                <a:lnTo>
                  <a:pt x="333375" y="666750"/>
                </a:lnTo>
                <a:arcTo wR="333375" hR="333375" stAng="10800000" swAng="-5400000"/>
                <a:lnTo>
                  <a:pt x="666750" y="1000125"/>
                </a:lnTo>
                <a:arcTo wR="333375" hR="333375" stAng="5400000" swAng="-5400000"/>
                <a:lnTo>
                  <a:pt x="1000125" y="666750"/>
                </a:lnTo>
                <a:arcTo wR="333375" hR="333375" stAng="0" swAng="-5400000"/>
                <a:lnTo>
                  <a:pt x="666750" y="333375"/>
                </a:lnTo>
                <a:arcTo wR="333375" hR="333375" stAng="-5400000" swAng="-5400000"/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7632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同心圆 15"/>
          <p:cNvSpPr/>
          <p:nvPr/>
        </p:nvSpPr>
        <p:spPr>
          <a:xfrm>
            <a:off x="3714840" y="2093760"/>
            <a:ext cx="2671560" cy="2670480"/>
          </a:xfrm>
          <a:custGeom>
            <a:avLst/>
            <a:gdLst>
              <a:gd name="textAreaLeft" fmla="*/ 390960 w 2671560"/>
              <a:gd name="textAreaRight" fmla="*/ 2280600 w 2671560"/>
              <a:gd name="textAreaTop" fmla="*/ 390960 h 2670480"/>
              <a:gd name="textAreaBottom" fmla="*/ 2279520 h 2670480"/>
            </a:gdLst>
            <a:ahLst/>
            <a:rect l="textAreaLeft" t="textAreaTop" r="textAreaRight" b="textAreaBottom"/>
            <a:pathLst>
              <a:path w="2671763" h="2670175">
                <a:moveTo>
                  <a:pt x="0" y="1335088"/>
                </a:moveTo>
                <a:lnTo>
                  <a:pt x="0" y="1335088"/>
                </a:lnTo>
                <a:arcTo wR="1335882" hR="1335088" stAng="-10799995" swAng="5400000"/>
                <a:lnTo>
                  <a:pt x="1335884" y="2"/>
                </a:lnTo>
                <a:arcTo wR="1335882" hR="1335088" stAng="-5399995" swAng="5400000"/>
                <a:lnTo>
                  <a:pt x="2671764" y="1335092"/>
                </a:lnTo>
                <a:arcTo wR="1335882" hR="1335088" stAng="0" swAng="5400003"/>
                <a:lnTo>
                  <a:pt x="1335881" y="2670180"/>
                </a:lnTo>
                <a:arcTo wR="1335882" hR="1335088" stAng="5400003" swAng="5400003"/>
                <a:close/>
                <a:moveTo>
                  <a:pt x="667544" y="1335088"/>
                </a:moveTo>
                <a:lnTo>
                  <a:pt x="667544" y="1335088"/>
                </a:lnTo>
                <a:arcTo wR="668338" hR="667544" stAng="-10799995" swAng="-5400000"/>
                <a:lnTo>
                  <a:pt x="1335881" y="2002633"/>
                </a:lnTo>
                <a:arcTo wR="668338" hR="667544" stAng="5400000" swAng="-5400000"/>
                <a:lnTo>
                  <a:pt x="2004219" y="1335089"/>
                </a:lnTo>
                <a:arcTo wR="668338" hR="667544" stAng="0" swAng="-5400000"/>
                <a:lnTo>
                  <a:pt x="1335881" y="667545"/>
                </a:lnTo>
                <a:arcTo wR="668338" hR="667544" stAng="-5399995" swAng="-5400000"/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sh dir="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2" presetSubtype="1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300"/>
                            </p:stCondLst>
                            <p:childTnLst>
                              <p:par>
                                <p:cTn id="1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2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8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3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3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1800000">
                                      <p:cBhvr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11" dur="900" fill="hold"/>
                                        <p:tgtEl>
                                          <p:spTgt spid="82"/>
                                        </p:tgtEl>
                                      </p:cBhvr>
                                      <p:to x="11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8.33333E-007 3.33333E-006 L -8.33333E-007 -0.25 E">
                                      <p:cBhvr>
                                        <p:cTn id="21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04167E-006 4.44444E-006 L 1.04167E-006 -0.25 E">
                                      <p:cBhvr>
                                        <p:cTn id="215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8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300"/>
                            </p:stCondLst>
                            <p:childTnLst>
                              <p:par>
                                <p:cTn id="2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3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30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300"/>
                            </p:stCondLst>
                            <p:childTnLst>
                              <p:par>
                                <p:cTn id="24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7.40741E-007 L -2.29167E-006 1.00532 E">
                                      <p:cBhvr>
                                        <p:cTn id="246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8">
                                  <p:stCondLst>
                                    <p:cond delay="1750"/>
                                  </p:stCondLst>
                                  <p:childTnLst>
                                    <p:animRot by="3300000">
                                      <p:cBhvr>
                                        <p:cTn id="281" dur="3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8">
                                  <p:stCondLst>
                                    <p:cond delay="1750"/>
                                  </p:stCondLst>
                                  <p:childTnLst>
                                    <p:animRot by="-1380000">
                                      <p:cBhvr>
                                        <p:cTn id="283" dur="3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6">
                                  <p:stCondLst>
                                    <p:cond delay="1750"/>
                                  </p:stCondLst>
                                  <p:childTnLst>
                                    <p:animScale>
                                      <p:cBhvr>
                                        <p:cTn id="285" dur="55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1"/>
          <p:cNvGrpSpPr/>
          <p:nvPr/>
        </p:nvGrpSpPr>
        <p:grpSpPr>
          <a:xfrm>
            <a:off x="-113040" y="-1531440"/>
            <a:ext cx="16067880" cy="7493400"/>
            <a:chOff x="-113040" y="-1531440"/>
            <a:chExt cx="16067880" cy="7493400"/>
          </a:xfrm>
        </p:grpSpPr>
        <p:sp>
          <p:nvSpPr>
            <p:cNvPr id="140" name="矩形 13"/>
            <p:cNvSpPr/>
            <p:nvPr/>
          </p:nvSpPr>
          <p:spPr>
            <a:xfrm rot="20247600">
              <a:off x="7941960" y="45720"/>
              <a:ext cx="828036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4"/>
            <p:cNvSpPr/>
            <p:nvPr/>
          </p:nvSpPr>
          <p:spPr>
            <a:xfrm rot="20247600">
              <a:off x="-166320" y="4599000"/>
              <a:ext cx="266832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5"/>
            <p:cNvSpPr/>
            <p:nvPr/>
          </p:nvSpPr>
          <p:spPr>
            <a:xfrm rot="4047600">
              <a:off x="1654920" y="4902120"/>
              <a:ext cx="191304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6"/>
            <p:cNvSpPr/>
            <p:nvPr/>
          </p:nvSpPr>
          <p:spPr>
            <a:xfrm rot="20247600">
              <a:off x="2549160" y="4408560"/>
              <a:ext cx="684684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7"/>
            <p:cNvSpPr/>
            <p:nvPr/>
          </p:nvSpPr>
          <p:spPr>
            <a:xfrm rot="4047600">
              <a:off x="7736400" y="2369520"/>
              <a:ext cx="191304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18"/>
            <p:cNvSpPr/>
            <p:nvPr/>
          </p:nvSpPr>
          <p:spPr>
            <a:xfrm rot="20243400">
              <a:off x="2512080" y="3318840"/>
              <a:ext cx="5064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92d050"/>
                  </a:solidFill>
                  <a:latin typeface="华文琥珀"/>
                  <a:ea typeface="华文琥珀"/>
                </a:rPr>
                <a:t>社团活动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文本框 12"/>
          <p:cNvSpPr/>
          <p:nvPr/>
        </p:nvSpPr>
        <p:spPr>
          <a:xfrm rot="20243400">
            <a:off x="2492640" y="3243600"/>
            <a:ext cx="548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2d050"/>
                </a:solidFill>
                <a:latin typeface="华文琥珀"/>
                <a:ea typeface="华文琥珀"/>
              </a:rPr>
              <a:t>社团活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 rot="20247600">
            <a:off x="8084880" y="775800"/>
            <a:ext cx="4454280" cy="2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/>
          <p:cNvSpPr/>
          <p:nvPr/>
        </p:nvSpPr>
        <p:spPr>
          <a:xfrm rot="20247600">
            <a:off x="-169560" y="4595400"/>
            <a:ext cx="266868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/>
          <p:cNvSpPr/>
          <p:nvPr/>
        </p:nvSpPr>
        <p:spPr>
          <a:xfrm rot="4047600">
            <a:off x="1653120" y="4899960"/>
            <a:ext cx="19112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9"/>
          <p:cNvSpPr/>
          <p:nvPr/>
        </p:nvSpPr>
        <p:spPr>
          <a:xfrm rot="20247600">
            <a:off x="2545920" y="4404960"/>
            <a:ext cx="68468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1"/>
          <p:cNvSpPr/>
          <p:nvPr/>
        </p:nvSpPr>
        <p:spPr>
          <a:xfrm rot="4047600">
            <a:off x="7734960" y="2365920"/>
            <a:ext cx="1911240" cy="2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 22"/>
          <p:cNvSpPr/>
          <p:nvPr/>
        </p:nvSpPr>
        <p:spPr>
          <a:xfrm>
            <a:off x="1066680" y="3416400"/>
            <a:ext cx="2519640" cy="539640"/>
          </a:xfrm>
          <a:prstGeom prst="roundRect">
            <a:avLst>
              <a:gd name="adj" fmla="val 16667"/>
            </a:avLst>
          </a:prstGeom>
          <a:solidFill>
            <a:srgbClr val="ededed">
              <a:alpha val="74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Calibri"/>
              </a:rPr>
              <a:t>青年志愿者协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同心圆 21"/>
          <p:cNvSpPr/>
          <p:nvPr/>
        </p:nvSpPr>
        <p:spPr>
          <a:xfrm>
            <a:off x="2146320" y="3876840"/>
            <a:ext cx="360360" cy="358560"/>
          </a:xfrm>
          <a:custGeom>
            <a:avLst/>
            <a:gdLst>
              <a:gd name="textAreaLeft" fmla="*/ 52560 w 360360"/>
              <a:gd name="textAreaRight" fmla="*/ 307800 w 360360"/>
              <a:gd name="textAreaTop" fmla="*/ 52560 h 358560"/>
              <a:gd name="textAreaBottom" fmla="*/ 306000 h 358560"/>
            </a:gdLst>
            <a:ahLst/>
            <a:rect l="textAreaLeft" t="textAreaTop" r="textAreaRight" b="textAreaBottom"/>
            <a:pathLst>
              <a:path w="360363" h="358775">
                <a:moveTo>
                  <a:pt x="0" y="179388"/>
                </a:moveTo>
                <a:lnTo>
                  <a:pt x="0" y="179388"/>
                </a:lnTo>
                <a:arcTo wR="180182" hR="179388" stAng="10800000" swAng="5400000"/>
                <a:lnTo>
                  <a:pt x="180182" y="0"/>
                </a:lnTo>
                <a:arcTo wR="180182" hR="179388" stAng="-5400000" swAng="5400000"/>
                <a:lnTo>
                  <a:pt x="360364" y="179388"/>
                </a:lnTo>
                <a:arcTo wR="180182" hR="179388" stAng="0" swAng="5400000"/>
                <a:lnTo>
                  <a:pt x="180182" y="358776"/>
                </a:lnTo>
                <a:arcTo wR="180182" hR="179388" stAng="5400000" swAng="5400000"/>
                <a:close/>
                <a:moveTo>
                  <a:pt x="89694" y="179388"/>
                </a:moveTo>
                <a:lnTo>
                  <a:pt x="89694" y="179388"/>
                </a:lnTo>
                <a:arcTo wR="90488" hR="89694" stAng="10800000" swAng="-5400000"/>
                <a:lnTo>
                  <a:pt x="180182" y="269082"/>
                </a:lnTo>
                <a:arcTo wR="90488" hR="89694" stAng="5400000" swAng="-5400000"/>
                <a:lnTo>
                  <a:pt x="270670" y="179388"/>
                </a:lnTo>
                <a:arcTo wR="90488" hR="89694" stAng="0" swAng="-5400000"/>
                <a:lnTo>
                  <a:pt x="180182" y="89694"/>
                </a:lnTo>
                <a:arcTo wR="90488" hR="89694" stAng="-5400000" swAng="-5400000"/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圆角矩形 27"/>
          <p:cNvGrpSpPr/>
          <p:nvPr/>
        </p:nvGrpSpPr>
        <p:grpSpPr>
          <a:xfrm>
            <a:off x="1073160" y="2908440"/>
            <a:ext cx="2803680" cy="371160"/>
            <a:chOff x="1073160" y="2908440"/>
            <a:chExt cx="2803680" cy="371160"/>
          </a:xfrm>
        </p:grpSpPr>
        <p:pic>
          <p:nvPicPr>
            <p:cNvPr id="155" name="圆角矩形 27" descr=""/>
            <p:cNvPicPr/>
            <p:nvPr/>
          </p:nvPicPr>
          <p:blipFill>
            <a:blip r:embed="rId1"/>
            <a:stretch/>
          </p:blipFill>
          <p:spPr>
            <a:xfrm>
              <a:off x="1073160" y="2908440"/>
              <a:ext cx="280368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081080" y="2916360"/>
              <a:ext cx="278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b0f0"/>
                  </a:solidFill>
                  <a:latin typeface="Calibri"/>
                </a:rPr>
                <a:t>奥体志愿项目负责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圆角矩形 29"/>
          <p:cNvGrpSpPr/>
          <p:nvPr/>
        </p:nvGrpSpPr>
        <p:grpSpPr>
          <a:xfrm>
            <a:off x="1073160" y="2523960"/>
            <a:ext cx="2535120" cy="371520"/>
            <a:chOff x="1073160" y="2523960"/>
            <a:chExt cx="2535120" cy="371520"/>
          </a:xfrm>
        </p:grpSpPr>
        <p:pic>
          <p:nvPicPr>
            <p:cNvPr id="158" name="圆角矩形 29" descr=""/>
            <p:cNvPicPr/>
            <p:nvPr/>
          </p:nvPicPr>
          <p:blipFill>
            <a:blip r:embed="rId2"/>
            <a:stretch/>
          </p:blipFill>
          <p:spPr>
            <a:xfrm>
              <a:off x="1073160" y="2523960"/>
              <a:ext cx="253512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081080" y="2530440"/>
              <a:ext cx="25210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b0f0"/>
                  </a:solidFill>
                  <a:latin typeface="Calibri"/>
                </a:rPr>
                <a:t>宣传部负责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圆角矩形 31"/>
          <p:cNvGrpSpPr/>
          <p:nvPr/>
        </p:nvGrpSpPr>
        <p:grpSpPr>
          <a:xfrm>
            <a:off x="1073160" y="2139840"/>
            <a:ext cx="2535120" cy="371520"/>
            <a:chOff x="1073160" y="2139840"/>
            <a:chExt cx="2535120" cy="371520"/>
          </a:xfrm>
        </p:grpSpPr>
        <p:pic>
          <p:nvPicPr>
            <p:cNvPr id="161" name="圆角矩形 31" descr=""/>
            <p:cNvPicPr/>
            <p:nvPr/>
          </p:nvPicPr>
          <p:blipFill>
            <a:blip r:embed="rId3"/>
            <a:stretch/>
          </p:blipFill>
          <p:spPr>
            <a:xfrm>
              <a:off x="1073160" y="2139840"/>
              <a:ext cx="253512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081080" y="2143080"/>
              <a:ext cx="2521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b0f0"/>
                  </a:solidFill>
                  <a:latin typeface="Calibri"/>
                </a:rPr>
                <a:t>其他志愿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圆角矩形 43"/>
          <p:cNvSpPr/>
          <p:nvPr/>
        </p:nvSpPr>
        <p:spPr>
          <a:xfrm>
            <a:off x="7709040" y="3695760"/>
            <a:ext cx="2160360" cy="539640"/>
          </a:xfrm>
          <a:prstGeom prst="roundRect">
            <a:avLst>
              <a:gd name="adj" fmla="val 16667"/>
            </a:avLst>
          </a:prstGeom>
          <a:solidFill>
            <a:srgbClr val="ededed">
              <a:alpha val="74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Calibri"/>
              </a:rPr>
              <a:t>天文协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同心圆 44"/>
          <p:cNvSpPr/>
          <p:nvPr/>
        </p:nvSpPr>
        <p:spPr>
          <a:xfrm>
            <a:off x="7520040" y="3800520"/>
            <a:ext cx="360360" cy="358560"/>
          </a:xfrm>
          <a:custGeom>
            <a:avLst/>
            <a:gdLst>
              <a:gd name="textAreaLeft" fmla="*/ 52560 w 360360"/>
              <a:gd name="textAreaRight" fmla="*/ 307800 w 360360"/>
              <a:gd name="textAreaTop" fmla="*/ 52560 h 358560"/>
              <a:gd name="textAreaBottom" fmla="*/ 306000 h 358560"/>
            </a:gdLst>
            <a:ahLst/>
            <a:rect l="textAreaLeft" t="textAreaTop" r="textAreaRight" b="textAreaBottom"/>
            <a:pathLst>
              <a:path w="360362" h="358775">
                <a:moveTo>
                  <a:pt x="0" y="179388"/>
                </a:moveTo>
                <a:lnTo>
                  <a:pt x="0" y="179388"/>
                </a:lnTo>
                <a:arcTo wR="180181" hR="179388" stAng="10800000" swAng="5400000"/>
                <a:lnTo>
                  <a:pt x="180181" y="0"/>
                </a:lnTo>
                <a:arcTo wR="180181" hR="179388" stAng="-5400000" swAng="5400000"/>
                <a:lnTo>
                  <a:pt x="360362" y="179388"/>
                </a:lnTo>
                <a:arcTo wR="180181" hR="179388" stAng="0" swAng="5400000"/>
                <a:lnTo>
                  <a:pt x="180181" y="358776"/>
                </a:lnTo>
                <a:arcTo wR="180181" hR="179388" stAng="5400000" swAng="5400000"/>
                <a:close/>
                <a:moveTo>
                  <a:pt x="89694" y="179388"/>
                </a:moveTo>
                <a:lnTo>
                  <a:pt x="89694" y="179388"/>
                </a:lnTo>
                <a:arcTo wR="90487" hR="89694" stAng="10800000" swAng="-5400000"/>
                <a:lnTo>
                  <a:pt x="180181" y="269082"/>
                </a:lnTo>
                <a:arcTo wR="90487" hR="89694" stAng="5400000" swAng="-5400000"/>
                <a:lnTo>
                  <a:pt x="270668" y="179388"/>
                </a:lnTo>
                <a:arcTo wR="90487" hR="89694" stAng="0" swAng="-5400000"/>
                <a:lnTo>
                  <a:pt x="180181" y="89694"/>
                </a:lnTo>
                <a:arcTo wR="90487" hR="89694" stAng="-5400000" swAng="-5400000"/>
                <a:close/>
              </a:path>
            </a:pathLst>
          </a:custGeom>
          <a:solidFill>
            <a:srgbClr val="2e75b6"/>
          </a:solidFill>
          <a:ln w="0">
            <a:noFill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2"/>
          <p:cNvSpPr/>
          <p:nvPr/>
        </p:nvSpPr>
        <p:spPr>
          <a:xfrm>
            <a:off x="8265600" y="31748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46"/>
          <p:cNvSpPr/>
          <p:nvPr/>
        </p:nvSpPr>
        <p:spPr>
          <a:xfrm rot="19420800">
            <a:off x="7890120" y="35884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47"/>
          <p:cNvSpPr/>
          <p:nvPr/>
        </p:nvSpPr>
        <p:spPr>
          <a:xfrm rot="20064600">
            <a:off x="9111600" y="3413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圆角矩形 48"/>
          <p:cNvGrpSpPr/>
          <p:nvPr/>
        </p:nvGrpSpPr>
        <p:grpSpPr>
          <a:xfrm>
            <a:off x="7705800" y="4462560"/>
            <a:ext cx="1773000" cy="371520"/>
            <a:chOff x="7705800" y="4462560"/>
            <a:chExt cx="1773000" cy="371520"/>
          </a:xfrm>
        </p:grpSpPr>
        <p:pic>
          <p:nvPicPr>
            <p:cNvPr id="169" name="圆角矩形 48" descr=""/>
            <p:cNvPicPr/>
            <p:nvPr/>
          </p:nvPicPr>
          <p:blipFill>
            <a:blip r:embed="rId4"/>
            <a:stretch/>
          </p:blipFill>
          <p:spPr>
            <a:xfrm>
              <a:off x="7705800" y="4462560"/>
              <a:ext cx="17730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7709040" y="4470480"/>
              <a:ext cx="1765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b0f0"/>
                  </a:solidFill>
                  <a:latin typeface="Calibri"/>
                </a:rPr>
                <a:t>娱乐性组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圆角矩形 49"/>
          <p:cNvGrpSpPr/>
          <p:nvPr/>
        </p:nvGrpSpPr>
        <p:grpSpPr>
          <a:xfrm>
            <a:off x="7705800" y="5224320"/>
            <a:ext cx="1901880" cy="371520"/>
            <a:chOff x="7705800" y="5224320"/>
            <a:chExt cx="1901880" cy="371520"/>
          </a:xfrm>
        </p:grpSpPr>
        <p:pic>
          <p:nvPicPr>
            <p:cNvPr id="172" name="圆角矩形 49" descr=""/>
            <p:cNvPicPr/>
            <p:nvPr/>
          </p:nvPicPr>
          <p:blipFill>
            <a:blip r:embed="rId5"/>
            <a:stretch/>
          </p:blipFill>
          <p:spPr>
            <a:xfrm>
              <a:off x="7705800" y="5224320"/>
              <a:ext cx="1901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709040" y="5232240"/>
              <a:ext cx="18921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b0f0"/>
                  </a:solidFill>
                  <a:latin typeface="Calibri"/>
                </a:rPr>
                <a:t>看看流星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圆角矩形 50"/>
          <p:cNvGrpSpPr/>
          <p:nvPr/>
        </p:nvGrpSpPr>
        <p:grpSpPr>
          <a:xfrm>
            <a:off x="7705800" y="4846680"/>
            <a:ext cx="2170080" cy="371520"/>
            <a:chOff x="7705800" y="4846680"/>
            <a:chExt cx="2170080" cy="371520"/>
          </a:xfrm>
        </p:grpSpPr>
        <p:pic>
          <p:nvPicPr>
            <p:cNvPr id="175" name="圆角矩形 50" descr=""/>
            <p:cNvPicPr/>
            <p:nvPr/>
          </p:nvPicPr>
          <p:blipFill>
            <a:blip r:embed="rId6"/>
            <a:stretch/>
          </p:blipFill>
          <p:spPr>
            <a:xfrm>
              <a:off x="7705800" y="4846680"/>
              <a:ext cx="21700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709040" y="4851360"/>
              <a:ext cx="215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b0f0"/>
                  </a:solidFill>
                  <a:latin typeface="Calibri"/>
                </a:rPr>
                <a:t>外联部打打酱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圆角矩形 53"/>
          <p:cNvGrpSpPr/>
          <p:nvPr/>
        </p:nvGrpSpPr>
        <p:grpSpPr>
          <a:xfrm>
            <a:off x="7705800" y="5608800"/>
            <a:ext cx="2066760" cy="371160"/>
            <a:chOff x="7705800" y="5608800"/>
            <a:chExt cx="2066760" cy="371160"/>
          </a:xfrm>
        </p:grpSpPr>
        <p:pic>
          <p:nvPicPr>
            <p:cNvPr id="178" name="圆角矩形 53" descr=""/>
            <p:cNvPicPr/>
            <p:nvPr/>
          </p:nvPicPr>
          <p:blipFill>
            <a:blip r:embed="rId7"/>
            <a:stretch/>
          </p:blipFill>
          <p:spPr>
            <a:xfrm>
              <a:off x="7705800" y="5608800"/>
              <a:ext cx="20667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709040" y="5613480"/>
              <a:ext cx="20574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b0f0"/>
                  </a:solidFill>
                  <a:latin typeface="Calibri"/>
                </a:rPr>
                <a:t>搞搞路边天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56"/>
          <p:cNvGrpSpPr/>
          <p:nvPr/>
        </p:nvGrpSpPr>
        <p:grpSpPr>
          <a:xfrm>
            <a:off x="8305920" y="2316600"/>
            <a:ext cx="2766240" cy="2395080"/>
            <a:chOff x="8305920" y="2316600"/>
            <a:chExt cx="2766240" cy="2395080"/>
          </a:xfrm>
        </p:grpSpPr>
        <p:sp>
          <p:nvSpPr>
            <p:cNvPr id="181" name="椭圆形标注 54"/>
            <p:cNvSpPr/>
            <p:nvPr/>
          </p:nvSpPr>
          <p:spPr>
            <a:xfrm rot="936000">
              <a:off x="9343800" y="2514240"/>
              <a:ext cx="1616400" cy="105192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rgbClr val="ffe6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bf9000"/>
                  </a:solidFill>
                  <a:latin typeface="Calibri"/>
                </a:rPr>
                <a:t>别告诉我你懂天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椭圆形标注 55" descr=""/>
            <p:cNvPicPr/>
            <p:nvPr/>
          </p:nvPicPr>
          <p:blipFill>
            <a:blip r:embed="rId8"/>
            <a:stretch/>
          </p:blipFill>
          <p:spPr>
            <a:xfrm>
              <a:off x="8305920" y="3498480"/>
              <a:ext cx="1703160" cy="121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文本框 45"/>
          <p:cNvSpPr/>
          <p:nvPr/>
        </p:nvSpPr>
        <p:spPr>
          <a:xfrm rot="1359000">
            <a:off x="10248840" y="24134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2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2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2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2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3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300"/>
                            </p:stCondLst>
                            <p:childTnLst>
                              <p:par>
                                <p:cTn id="32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0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6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600"/>
                            </p:stCondLst>
                            <p:childTnLst>
                              <p:par>
                                <p:cTn id="3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1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6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100"/>
                            </p:stCondLst>
                            <p:childTnLst>
                              <p:par>
                                <p:cTn id="360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2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4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900"/>
                            </p:stCondLst>
                            <p:childTnLst>
                              <p:par>
                                <p:cTn id="3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7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700"/>
                            </p:stCondLst>
                            <p:childTnLst>
                              <p:par>
                                <p:cTn id="39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200"/>
                            </p:stCondLst>
                            <p:childTnLst>
                              <p:par>
                                <p:cTn id="4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700"/>
                            </p:stCondLst>
                            <p:childTnLst>
                              <p:par>
                                <p:cTn id="4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92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970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200"/>
                            </p:stCondLst>
                            <p:childTnLst>
                              <p:par>
                                <p:cTn id="42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2200"/>
                            </p:stCondLst>
                            <p:childTnLst>
                              <p:par>
                                <p:cTn id="473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6060000">
                                      <p:cBhvr>
                                        <p:cTn id="474" dur="1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54167E-006 -3.33333E-006 L -0.60091 0.00116 E">
                                      <p:cBhvr>
                                        <p:cTn id="476" dur="14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374"/>
          <p:cNvGrpSpPr/>
          <p:nvPr/>
        </p:nvGrpSpPr>
        <p:grpSpPr>
          <a:xfrm>
            <a:off x="5430960" y="704160"/>
            <a:ext cx="3028320" cy="2449080"/>
            <a:chOff x="5430960" y="704160"/>
            <a:chExt cx="3028320" cy="2449080"/>
          </a:xfrm>
        </p:grpSpPr>
        <p:sp>
          <p:nvSpPr>
            <p:cNvPr id="185" name="矩形 375"/>
            <p:cNvSpPr/>
            <p:nvPr/>
          </p:nvSpPr>
          <p:spPr>
            <a:xfrm rot="4854000">
              <a:off x="5924160" y="558720"/>
              <a:ext cx="2041560" cy="273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095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组合 376"/>
            <p:cNvGrpSpPr/>
            <p:nvPr/>
          </p:nvGrpSpPr>
          <p:grpSpPr>
            <a:xfrm>
              <a:off x="5884560" y="2009880"/>
              <a:ext cx="2466360" cy="947160"/>
              <a:chOff x="5884560" y="2009880"/>
              <a:chExt cx="2466360" cy="947160"/>
            </a:xfrm>
          </p:grpSpPr>
          <p:sp>
            <p:nvSpPr>
              <p:cNvPr id="187" name="直接连接符 441"/>
              <p:cNvSpPr/>
              <p:nvPr/>
            </p:nvSpPr>
            <p:spPr>
              <a:xfrm flipV="1">
                <a:off x="6447240" y="2368800"/>
                <a:ext cx="1409400" cy="9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任意多边形 442"/>
              <p:cNvSpPr/>
              <p:nvPr/>
            </p:nvSpPr>
            <p:spPr>
              <a:xfrm rot="21054000">
                <a:off x="5901120" y="2503440"/>
                <a:ext cx="569520" cy="258480"/>
              </a:xfrm>
              <a:custGeom>
                <a:avLst/>
                <a:gdLst/>
                <a:ahLst/>
                <a:rect l="l" t="t" r="r" b="b"/>
                <a:pathLst>
                  <a:path w="790872" h="358775">
                    <a:moveTo>
                      <a:pt x="297" y="358775"/>
                    </a:moveTo>
                    <a:cubicBezTo>
                      <a:pt x="-2746" y="327289"/>
                      <a:pt x="18156" y="300434"/>
                      <a:pt x="35222" y="276225"/>
                    </a:cubicBezTo>
                    <a:cubicBezTo>
                      <a:pt x="52288" y="252016"/>
                      <a:pt x="77555" y="233231"/>
                      <a:pt x="102691" y="213519"/>
                    </a:cubicBezTo>
                    <a:cubicBezTo>
                      <a:pt x="127827" y="193807"/>
                      <a:pt x="151375" y="181018"/>
                      <a:pt x="186035" y="157956"/>
                    </a:cubicBezTo>
                    <a:cubicBezTo>
                      <a:pt x="220034" y="135334"/>
                      <a:pt x="276257" y="109934"/>
                      <a:pt x="320972" y="92075"/>
                    </a:cubicBezTo>
                    <a:cubicBezTo>
                      <a:pt x="365687" y="74216"/>
                      <a:pt x="409872" y="64558"/>
                      <a:pt x="454322" y="50800"/>
                    </a:cubicBezTo>
                    <a:cubicBezTo>
                      <a:pt x="482897" y="43921"/>
                      <a:pt x="550630" y="24342"/>
                      <a:pt x="606722" y="15875"/>
                    </a:cubicBezTo>
                    <a:cubicBezTo>
                      <a:pt x="662814" y="7408"/>
                      <a:pt x="752508" y="3307"/>
                      <a:pt x="790872" y="0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弧形 443"/>
              <p:cNvSpPr/>
              <p:nvPr/>
            </p:nvSpPr>
            <p:spPr>
              <a:xfrm flipH="1" flipV="1" rot="21054000">
                <a:off x="5919120" y="2574360"/>
                <a:ext cx="906120" cy="312480"/>
              </a:xfrm>
              <a:custGeom>
                <a:avLst/>
                <a:gdLst>
                  <a:gd name="textAreaLeft" fmla="*/ 453240 w 906120"/>
                  <a:gd name="textAreaRight" fmla="*/ 906480 w 906120"/>
                  <a:gd name="textAreaTop" fmla="*/ 0 h 312480"/>
                  <a:gd name="textAreaBottom" fmla="*/ 156240 h 312480"/>
                </a:gdLst>
                <a:ahLst/>
                <a:rect l="textAreaLeft" t="textAreaTop" r="textAreaRight" b="textAreaBottom"/>
                <a:pathLst>
                  <a:path stroke="0" w="1257283" h="433844">
                    <a:moveTo>
                      <a:pt x="628642" y="0"/>
                    </a:moveTo>
                    <a:lnTo>
                      <a:pt x="628642" y="0"/>
                    </a:lnTo>
                    <a:arcTo wR="628642" hR="216922" stAng="-5400000" swAng="5400005"/>
                    <a:lnTo>
                      <a:pt x="628642" y="216922"/>
                    </a:lnTo>
                    <a:close/>
                  </a:path>
                  <a:path fill="none" w="1257283" h="433844">
                    <a:moveTo>
                      <a:pt x="628642" y="0"/>
                    </a:moveTo>
                    <a:lnTo>
                      <a:pt x="628642" y="0"/>
                    </a:lnTo>
                    <a:arcTo wR="628642" hR="216922" stAng="-5400000" swAng="5400005"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直接连接符 444"/>
              <p:cNvSpPr/>
              <p:nvPr/>
            </p:nvSpPr>
            <p:spPr>
              <a:xfrm flipV="1">
                <a:off x="6397920" y="2573640"/>
                <a:ext cx="1952640" cy="31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直接连接符 445"/>
              <p:cNvSpPr/>
              <p:nvPr/>
            </p:nvSpPr>
            <p:spPr>
              <a:xfrm flipV="1">
                <a:off x="7853040" y="2082600"/>
                <a:ext cx="93960" cy="286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弧形 446"/>
              <p:cNvSpPr/>
              <p:nvPr/>
            </p:nvSpPr>
            <p:spPr>
              <a:xfrm flipH="1" rot="21054000">
                <a:off x="7946640" y="2057040"/>
                <a:ext cx="74520" cy="66600"/>
              </a:xfrm>
              <a:custGeom>
                <a:avLst/>
                <a:gdLst>
                  <a:gd name="textAreaLeft" fmla="*/ 37440 w 74520"/>
                  <a:gd name="textAreaRight" fmla="*/ 73080 w 74520"/>
                  <a:gd name="textAreaTop" fmla="*/ 0 h 66600"/>
                  <a:gd name="textAreaBottom" fmla="*/ 23400 h 66600"/>
                </a:gdLst>
                <a:ahLst/>
                <a:rect l="textAreaLeft" t="textAreaTop" r="textAreaRight" b="textAreaBottom"/>
                <a:pathLst>
                  <a:path stroke="0" w="103490" h="92495">
                    <a:moveTo>
                      <a:pt x="51745" y="0"/>
                    </a:moveTo>
                    <a:lnTo>
                      <a:pt x="51745" y="0"/>
                    </a:lnTo>
                    <a:arcTo wR="51745" hR="46248" stAng="-5400000" swAng="4484681"/>
                    <a:lnTo>
                      <a:pt x="51745" y="46248"/>
                    </a:lnTo>
                    <a:close/>
                  </a:path>
                  <a:path fill="none" w="103490" h="92495">
                    <a:moveTo>
                      <a:pt x="51745" y="0"/>
                    </a:moveTo>
                    <a:lnTo>
                      <a:pt x="51745" y="0"/>
                    </a:lnTo>
                    <a:arcTo wR="51745" hR="46248" stAng="-5400000" swAng="4484681"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直接连接符 447"/>
              <p:cNvSpPr/>
              <p:nvPr/>
            </p:nvSpPr>
            <p:spPr>
              <a:xfrm flipV="1">
                <a:off x="7971120" y="2009880"/>
                <a:ext cx="291240" cy="46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直接连接符 448"/>
              <p:cNvSpPr/>
              <p:nvPr/>
            </p:nvSpPr>
            <p:spPr>
              <a:xfrm>
                <a:off x="8260560" y="2009880"/>
                <a:ext cx="90360" cy="563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直接连接符 449"/>
              <p:cNvSpPr/>
              <p:nvPr/>
            </p:nvSpPr>
            <p:spPr>
              <a:xfrm>
                <a:off x="8125560" y="2030760"/>
                <a:ext cx="90360" cy="563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直接连接符 450"/>
              <p:cNvSpPr/>
              <p:nvPr/>
            </p:nvSpPr>
            <p:spPr>
              <a:xfrm flipH="1">
                <a:off x="8083800" y="2319120"/>
                <a:ext cx="86760" cy="138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接连接符 451"/>
              <p:cNvSpPr/>
              <p:nvPr/>
            </p:nvSpPr>
            <p:spPr>
              <a:xfrm>
                <a:off x="8082360" y="2455200"/>
                <a:ext cx="125640" cy="82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组合 377"/>
            <p:cNvGrpSpPr/>
            <p:nvPr/>
          </p:nvGrpSpPr>
          <p:grpSpPr>
            <a:xfrm>
              <a:off x="5673240" y="1850760"/>
              <a:ext cx="1472400" cy="721800"/>
              <a:chOff x="5673240" y="1850760"/>
              <a:chExt cx="1472400" cy="721800"/>
            </a:xfrm>
          </p:grpSpPr>
          <p:sp>
            <p:nvSpPr>
              <p:cNvPr id="199" name="直接连接符 427"/>
              <p:cNvSpPr/>
              <p:nvPr/>
            </p:nvSpPr>
            <p:spPr>
              <a:xfrm>
                <a:off x="6346440" y="1850760"/>
                <a:ext cx="653400" cy="128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任意多边形 428"/>
              <p:cNvSpPr/>
              <p:nvPr/>
            </p:nvSpPr>
            <p:spPr>
              <a:xfrm rot="4854000">
                <a:off x="6879240" y="2120400"/>
                <a:ext cx="386280" cy="85680"/>
              </a:xfrm>
              <a:custGeom>
                <a:avLst/>
                <a:gdLst/>
                <a:ahLst/>
                <a:rect l="l" t="t" r="r" b="b"/>
                <a:pathLst>
                  <a:path w="271463" h="54328">
                    <a:moveTo>
                      <a:pt x="0" y="54328"/>
                    </a:moveTo>
                    <a:cubicBezTo>
                      <a:pt x="5953" y="48871"/>
                      <a:pt x="15874" y="29721"/>
                      <a:pt x="28574" y="20990"/>
                    </a:cubicBezTo>
                    <a:cubicBezTo>
                      <a:pt x="41274" y="12259"/>
                      <a:pt x="62309" y="5910"/>
                      <a:pt x="76200" y="1941"/>
                    </a:cubicBezTo>
                    <a:cubicBezTo>
                      <a:pt x="116681" y="-2425"/>
                      <a:pt x="230783" y="1941"/>
                      <a:pt x="271463" y="1941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429"/>
              <p:cNvSpPr/>
              <p:nvPr/>
            </p:nvSpPr>
            <p:spPr>
              <a:xfrm flipH="1">
                <a:off x="6566040" y="2347920"/>
                <a:ext cx="57456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直接连接符 430"/>
              <p:cNvSpPr/>
              <p:nvPr/>
            </p:nvSpPr>
            <p:spPr>
              <a:xfrm flipH="1" flipV="1">
                <a:off x="6417720" y="2314440"/>
                <a:ext cx="153720" cy="47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431"/>
              <p:cNvSpPr/>
              <p:nvPr/>
            </p:nvSpPr>
            <p:spPr>
              <a:xfrm>
                <a:off x="6891840" y="1952280"/>
                <a:ext cx="32400" cy="202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接连接符 432"/>
              <p:cNvSpPr/>
              <p:nvPr/>
            </p:nvSpPr>
            <p:spPr>
              <a:xfrm flipH="1">
                <a:off x="6391080" y="2154600"/>
                <a:ext cx="532800" cy="8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直接连接符 433"/>
              <p:cNvSpPr/>
              <p:nvPr/>
            </p:nvSpPr>
            <p:spPr>
              <a:xfrm flipH="1" flipV="1">
                <a:off x="6382800" y="2160000"/>
                <a:ext cx="255240" cy="37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接连接符 434"/>
              <p:cNvSpPr/>
              <p:nvPr/>
            </p:nvSpPr>
            <p:spPr>
              <a:xfrm flipH="1">
                <a:off x="5758920" y="1851840"/>
                <a:ext cx="58392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任意多边形 435"/>
              <p:cNvSpPr/>
              <p:nvPr/>
            </p:nvSpPr>
            <p:spPr>
              <a:xfrm flipV="1" rot="4853400">
                <a:off x="5552640" y="2331000"/>
                <a:ext cx="386280" cy="85680"/>
              </a:xfrm>
              <a:custGeom>
                <a:avLst/>
                <a:gdLst/>
                <a:ahLst/>
                <a:rect l="l" t="t" r="r" b="b"/>
                <a:pathLst>
                  <a:path w="271463" h="54328">
                    <a:moveTo>
                      <a:pt x="0" y="54328"/>
                    </a:moveTo>
                    <a:cubicBezTo>
                      <a:pt x="5953" y="48871"/>
                      <a:pt x="15874" y="29721"/>
                      <a:pt x="28574" y="20990"/>
                    </a:cubicBezTo>
                    <a:cubicBezTo>
                      <a:pt x="41274" y="12259"/>
                      <a:pt x="62309" y="5910"/>
                      <a:pt x="76200" y="1941"/>
                    </a:cubicBezTo>
                    <a:cubicBezTo>
                      <a:pt x="116681" y="-2425"/>
                      <a:pt x="230783" y="1941"/>
                      <a:pt x="271463" y="1941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436"/>
              <p:cNvSpPr/>
              <p:nvPr/>
            </p:nvSpPr>
            <p:spPr>
              <a:xfrm flipV="1">
                <a:off x="5737320" y="2407320"/>
                <a:ext cx="550080" cy="16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直接连接符 437"/>
              <p:cNvSpPr/>
              <p:nvPr/>
            </p:nvSpPr>
            <p:spPr>
              <a:xfrm flipV="1">
                <a:off x="6284520" y="2311560"/>
                <a:ext cx="135720" cy="9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直接连接符 438"/>
              <p:cNvSpPr/>
              <p:nvPr/>
            </p:nvSpPr>
            <p:spPr>
              <a:xfrm>
                <a:off x="5853960" y="2118960"/>
                <a:ext cx="32400" cy="202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直接连接符 439"/>
              <p:cNvSpPr/>
              <p:nvPr/>
            </p:nvSpPr>
            <p:spPr>
              <a:xfrm flipV="1">
                <a:off x="5884560" y="2239200"/>
                <a:ext cx="508680" cy="83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直接连接符 440"/>
              <p:cNvSpPr/>
              <p:nvPr/>
            </p:nvSpPr>
            <p:spPr>
              <a:xfrm flipV="1">
                <a:off x="6167880" y="2158920"/>
                <a:ext cx="218160" cy="11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组合 378"/>
            <p:cNvGrpSpPr/>
            <p:nvPr/>
          </p:nvGrpSpPr>
          <p:grpSpPr>
            <a:xfrm>
              <a:off x="5546160" y="973080"/>
              <a:ext cx="2625120" cy="879840"/>
              <a:chOff x="5546160" y="973080"/>
              <a:chExt cx="2625120" cy="879840"/>
            </a:xfrm>
          </p:grpSpPr>
          <p:sp>
            <p:nvSpPr>
              <p:cNvPr id="214" name="直接连接符 413"/>
              <p:cNvSpPr/>
              <p:nvPr/>
            </p:nvSpPr>
            <p:spPr>
              <a:xfrm flipH="1">
                <a:off x="6682320" y="973080"/>
                <a:ext cx="212760" cy="33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直接连接符 414"/>
              <p:cNvSpPr/>
              <p:nvPr/>
            </p:nvSpPr>
            <p:spPr>
              <a:xfrm>
                <a:off x="6891120" y="973440"/>
                <a:ext cx="959760" cy="4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任意多边形 415"/>
              <p:cNvSpPr/>
              <p:nvPr/>
            </p:nvSpPr>
            <p:spPr>
              <a:xfrm rot="4854000">
                <a:off x="7776360" y="1107720"/>
                <a:ext cx="470880" cy="247320"/>
              </a:xfrm>
              <a:custGeom>
                <a:avLst/>
                <a:gdLst/>
                <a:ahLst/>
                <a:rect l="l" t="t" r="r" b="b"/>
                <a:pathLst>
                  <a:path w="323850" h="164484">
                    <a:moveTo>
                      <a:pt x="0" y="164484"/>
                    </a:moveTo>
                    <a:cubicBezTo>
                      <a:pt x="3473" y="149601"/>
                      <a:pt x="12701" y="120827"/>
                      <a:pt x="23813" y="100189"/>
                    </a:cubicBezTo>
                    <a:cubicBezTo>
                      <a:pt x="34925" y="79551"/>
                      <a:pt x="50799" y="54945"/>
                      <a:pt x="66674" y="40658"/>
                    </a:cubicBezTo>
                    <a:cubicBezTo>
                      <a:pt x="82549" y="26371"/>
                      <a:pt x="97630" y="20815"/>
                      <a:pt x="119061" y="14465"/>
                    </a:cubicBezTo>
                    <a:cubicBezTo>
                      <a:pt x="140492" y="8115"/>
                      <a:pt x="167878" y="4939"/>
                      <a:pt x="195262" y="2558"/>
                    </a:cubicBezTo>
                    <a:cubicBezTo>
                      <a:pt x="215503" y="971"/>
                      <a:pt x="254794" y="574"/>
                      <a:pt x="276225" y="177"/>
                    </a:cubicBezTo>
                    <a:cubicBezTo>
                      <a:pt x="297656" y="-220"/>
                      <a:pt x="307975" y="177"/>
                      <a:pt x="323850" y="177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直接连接符 416"/>
              <p:cNvSpPr/>
              <p:nvPr/>
            </p:nvSpPr>
            <p:spPr>
              <a:xfrm flipH="1">
                <a:off x="6955920" y="1443960"/>
                <a:ext cx="1213200" cy="27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直接连接符 417"/>
              <p:cNvSpPr/>
              <p:nvPr/>
            </p:nvSpPr>
            <p:spPr>
              <a:xfrm>
                <a:off x="7944840" y="1356840"/>
                <a:ext cx="37800" cy="127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直接连接符 418"/>
              <p:cNvSpPr/>
              <p:nvPr/>
            </p:nvSpPr>
            <p:spPr>
              <a:xfrm>
                <a:off x="7156800" y="1547280"/>
                <a:ext cx="34560" cy="127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直接连接符 419"/>
              <p:cNvSpPr/>
              <p:nvPr/>
            </p:nvSpPr>
            <p:spPr>
              <a:xfrm flipH="1">
                <a:off x="7154640" y="1352880"/>
                <a:ext cx="794880" cy="19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直接连接符 420"/>
              <p:cNvSpPr/>
              <p:nvPr/>
            </p:nvSpPr>
            <p:spPr>
              <a:xfrm flipH="1">
                <a:off x="5788800" y="1005840"/>
                <a:ext cx="897840" cy="34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任意多边形 421"/>
              <p:cNvSpPr/>
              <p:nvPr/>
            </p:nvSpPr>
            <p:spPr>
              <a:xfrm flipV="1" rot="4853400">
                <a:off x="5469840" y="1476360"/>
                <a:ext cx="470880" cy="247320"/>
              </a:xfrm>
              <a:custGeom>
                <a:avLst/>
                <a:gdLst/>
                <a:ahLst/>
                <a:rect l="l" t="t" r="r" b="b"/>
                <a:pathLst>
                  <a:path w="323850" h="164484">
                    <a:moveTo>
                      <a:pt x="0" y="164484"/>
                    </a:moveTo>
                    <a:cubicBezTo>
                      <a:pt x="3473" y="149601"/>
                      <a:pt x="12701" y="120827"/>
                      <a:pt x="23813" y="100189"/>
                    </a:cubicBezTo>
                    <a:cubicBezTo>
                      <a:pt x="34925" y="79551"/>
                      <a:pt x="50799" y="54945"/>
                      <a:pt x="66674" y="40658"/>
                    </a:cubicBezTo>
                    <a:cubicBezTo>
                      <a:pt x="82549" y="26371"/>
                      <a:pt x="97630" y="20815"/>
                      <a:pt x="119061" y="14465"/>
                    </a:cubicBezTo>
                    <a:cubicBezTo>
                      <a:pt x="140492" y="8115"/>
                      <a:pt x="167878" y="4939"/>
                      <a:pt x="195262" y="2558"/>
                    </a:cubicBezTo>
                    <a:cubicBezTo>
                      <a:pt x="215503" y="971"/>
                      <a:pt x="254794" y="574"/>
                      <a:pt x="276225" y="177"/>
                    </a:cubicBezTo>
                    <a:cubicBezTo>
                      <a:pt x="297656" y="-220"/>
                      <a:pt x="307975" y="177"/>
                      <a:pt x="323850" y="177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直接连接符 422"/>
              <p:cNvSpPr/>
              <p:nvPr/>
            </p:nvSpPr>
            <p:spPr>
              <a:xfrm flipV="1">
                <a:off x="5619600" y="1739160"/>
                <a:ext cx="1249560" cy="113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423"/>
              <p:cNvSpPr/>
              <p:nvPr/>
            </p:nvSpPr>
            <p:spPr>
              <a:xfrm>
                <a:off x="5806080" y="1700280"/>
                <a:ext cx="3600" cy="13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424"/>
              <p:cNvSpPr/>
              <p:nvPr/>
            </p:nvSpPr>
            <p:spPr>
              <a:xfrm>
                <a:off x="6613560" y="1633680"/>
                <a:ext cx="6840" cy="13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425"/>
              <p:cNvSpPr/>
              <p:nvPr/>
            </p:nvSpPr>
            <p:spPr>
              <a:xfrm flipV="1">
                <a:off x="5802480" y="1630800"/>
                <a:ext cx="815400" cy="66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426"/>
              <p:cNvSpPr/>
              <p:nvPr/>
            </p:nvSpPr>
            <p:spPr>
              <a:xfrm flipH="1">
                <a:off x="6867360" y="1723680"/>
                <a:ext cx="889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组合 379"/>
            <p:cNvGrpSpPr/>
            <p:nvPr/>
          </p:nvGrpSpPr>
          <p:grpSpPr>
            <a:xfrm>
              <a:off x="7178040" y="1717920"/>
              <a:ext cx="447120" cy="243000"/>
              <a:chOff x="7178040" y="1717920"/>
              <a:chExt cx="447120" cy="243000"/>
            </a:xfrm>
          </p:grpSpPr>
          <p:sp>
            <p:nvSpPr>
              <p:cNvPr id="229" name="直接连接符 398"/>
              <p:cNvSpPr/>
              <p:nvPr/>
            </p:nvSpPr>
            <p:spPr>
              <a:xfrm flipV="1">
                <a:off x="7205040" y="1718640"/>
                <a:ext cx="390600" cy="62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直接连接符 399"/>
              <p:cNvSpPr/>
              <p:nvPr/>
            </p:nvSpPr>
            <p:spPr>
              <a:xfrm>
                <a:off x="7596360" y="1717920"/>
                <a:ext cx="28800" cy="17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直接连接符 400"/>
              <p:cNvSpPr/>
              <p:nvPr/>
            </p:nvSpPr>
            <p:spPr>
              <a:xfrm flipV="1">
                <a:off x="7234920" y="1897920"/>
                <a:ext cx="390240" cy="62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401"/>
              <p:cNvSpPr/>
              <p:nvPr/>
            </p:nvSpPr>
            <p:spPr>
              <a:xfrm>
                <a:off x="7178040" y="1860840"/>
                <a:ext cx="504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402"/>
              <p:cNvSpPr/>
              <p:nvPr/>
            </p:nvSpPr>
            <p:spPr>
              <a:xfrm flipV="1">
                <a:off x="7179120" y="1779120"/>
                <a:ext cx="2808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403"/>
              <p:cNvSpPr/>
              <p:nvPr/>
            </p:nvSpPr>
            <p:spPr>
              <a:xfrm>
                <a:off x="7183080" y="1892880"/>
                <a:ext cx="52200" cy="68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404"/>
              <p:cNvSpPr/>
              <p:nvPr/>
            </p:nvSpPr>
            <p:spPr>
              <a:xfrm flipV="1">
                <a:off x="7184160" y="1882440"/>
                <a:ext cx="54360" cy="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405"/>
              <p:cNvSpPr/>
              <p:nvPr/>
            </p:nvSpPr>
            <p:spPr>
              <a:xfrm>
                <a:off x="7233480" y="1852920"/>
                <a:ext cx="468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406"/>
              <p:cNvSpPr/>
              <p:nvPr/>
            </p:nvSpPr>
            <p:spPr>
              <a:xfrm flipV="1">
                <a:off x="7233120" y="1845000"/>
                <a:ext cx="5292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407"/>
              <p:cNvSpPr/>
              <p:nvPr/>
            </p:nvSpPr>
            <p:spPr>
              <a:xfrm>
                <a:off x="7285680" y="1843200"/>
                <a:ext cx="504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408"/>
              <p:cNvSpPr/>
              <p:nvPr/>
            </p:nvSpPr>
            <p:spPr>
              <a:xfrm flipV="1">
                <a:off x="7504920" y="1832040"/>
                <a:ext cx="5292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409"/>
              <p:cNvSpPr/>
              <p:nvPr/>
            </p:nvSpPr>
            <p:spPr>
              <a:xfrm>
                <a:off x="7552800" y="1801080"/>
                <a:ext cx="4680" cy="2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直接连接符 410"/>
              <p:cNvSpPr/>
              <p:nvPr/>
            </p:nvSpPr>
            <p:spPr>
              <a:xfrm flipV="1">
                <a:off x="7553880" y="1794240"/>
                <a:ext cx="543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直接连接符 411"/>
              <p:cNvSpPr/>
              <p:nvPr/>
            </p:nvSpPr>
            <p:spPr>
              <a:xfrm>
                <a:off x="7500960" y="1810440"/>
                <a:ext cx="468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矩形 412"/>
              <p:cNvSpPr/>
              <p:nvPr/>
            </p:nvSpPr>
            <p:spPr>
              <a:xfrm rot="21054000">
                <a:off x="7287840" y="1827000"/>
                <a:ext cx="216360" cy="29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组合 380"/>
            <p:cNvGrpSpPr/>
            <p:nvPr/>
          </p:nvGrpSpPr>
          <p:grpSpPr>
            <a:xfrm>
              <a:off x="7649280" y="1620000"/>
              <a:ext cx="579240" cy="269640"/>
              <a:chOff x="7649280" y="1620000"/>
              <a:chExt cx="579240" cy="269640"/>
            </a:xfrm>
          </p:grpSpPr>
          <p:sp>
            <p:nvSpPr>
              <p:cNvPr id="245" name="直接连接符 384"/>
              <p:cNvSpPr/>
              <p:nvPr/>
            </p:nvSpPr>
            <p:spPr>
              <a:xfrm flipH="1" flipV="1">
                <a:off x="8199720" y="1620720"/>
                <a:ext cx="28800" cy="180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直接连接符 385"/>
              <p:cNvSpPr/>
              <p:nvPr/>
            </p:nvSpPr>
            <p:spPr>
              <a:xfrm flipH="1">
                <a:off x="8155800" y="1695960"/>
                <a:ext cx="5472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直接连接符 386"/>
              <p:cNvSpPr/>
              <p:nvPr/>
            </p:nvSpPr>
            <p:spPr>
              <a:xfrm flipH="1" flipV="1">
                <a:off x="8157600" y="1703160"/>
                <a:ext cx="504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直接连接符 387"/>
              <p:cNvSpPr/>
              <p:nvPr/>
            </p:nvSpPr>
            <p:spPr>
              <a:xfrm flipH="1">
                <a:off x="8108280" y="1734120"/>
                <a:ext cx="5292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直接连接符 388"/>
              <p:cNvSpPr/>
              <p:nvPr/>
            </p:nvSpPr>
            <p:spPr>
              <a:xfrm flipH="1" flipV="1">
                <a:off x="8103960" y="1712880"/>
                <a:ext cx="468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直接连接符 389"/>
              <p:cNvSpPr/>
              <p:nvPr/>
            </p:nvSpPr>
            <p:spPr>
              <a:xfrm flipH="1">
                <a:off x="7746120" y="1761120"/>
                <a:ext cx="54720" cy="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直接连接符 390"/>
              <p:cNvSpPr/>
              <p:nvPr/>
            </p:nvSpPr>
            <p:spPr>
              <a:xfrm flipH="1" flipV="1">
                <a:off x="7747920" y="1770120"/>
                <a:ext cx="504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直接连接符 391"/>
              <p:cNvSpPr/>
              <p:nvPr/>
            </p:nvSpPr>
            <p:spPr>
              <a:xfrm flipH="1">
                <a:off x="7700040" y="1799280"/>
                <a:ext cx="5328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矩形 392"/>
              <p:cNvSpPr/>
              <p:nvPr/>
            </p:nvSpPr>
            <p:spPr>
              <a:xfrm rot="10254000">
                <a:off x="7796160" y="1736640"/>
                <a:ext cx="312840" cy="29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直接连接符 393"/>
              <p:cNvSpPr/>
              <p:nvPr/>
            </p:nvSpPr>
            <p:spPr>
              <a:xfrm flipH="1" flipV="1">
                <a:off x="7693920" y="1778040"/>
                <a:ext cx="468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直接连接符 394"/>
              <p:cNvSpPr/>
              <p:nvPr/>
            </p:nvSpPr>
            <p:spPr>
              <a:xfrm flipH="1">
                <a:off x="7677720" y="1807920"/>
                <a:ext cx="20160" cy="81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直接连接符 395"/>
              <p:cNvSpPr/>
              <p:nvPr/>
            </p:nvSpPr>
            <p:spPr>
              <a:xfrm flipH="1" flipV="1">
                <a:off x="7651440" y="1707840"/>
                <a:ext cx="41400" cy="70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直接连接符 396"/>
              <p:cNvSpPr/>
              <p:nvPr/>
            </p:nvSpPr>
            <p:spPr>
              <a:xfrm flipH="1">
                <a:off x="7677720" y="1800720"/>
                <a:ext cx="550440" cy="88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直接连接符 397"/>
              <p:cNvSpPr/>
              <p:nvPr/>
            </p:nvSpPr>
            <p:spPr>
              <a:xfrm flipH="1">
                <a:off x="7649280" y="1620000"/>
                <a:ext cx="550080" cy="88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矩形 381"/>
            <p:cNvSpPr/>
            <p:nvPr/>
          </p:nvSpPr>
          <p:spPr>
            <a:xfrm flipH="1" rot="21054000">
              <a:off x="7650360" y="2482560"/>
              <a:ext cx="388800" cy="26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382"/>
            <p:cNvSpPr/>
            <p:nvPr/>
          </p:nvSpPr>
          <p:spPr>
            <a:xfrm flipH="1" rot="21054000">
              <a:off x="6323760" y="2648160"/>
              <a:ext cx="985680" cy="26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383"/>
            <p:cNvSpPr/>
            <p:nvPr/>
          </p:nvSpPr>
          <p:spPr>
            <a:xfrm flipH="1" rot="21054000">
              <a:off x="6012720" y="2768760"/>
              <a:ext cx="104760" cy="26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文本框 372"/>
          <p:cNvSpPr/>
          <p:nvPr/>
        </p:nvSpPr>
        <p:spPr>
          <a:xfrm>
            <a:off x="1811160" y="170964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000"/>
                </a:solidFill>
                <a:latin typeface="华文琥珀"/>
                <a:ea typeface="华文琥珀"/>
              </a:rPr>
              <a:t>校内航模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圆角矩形 1"/>
          <p:cNvSpPr/>
          <p:nvPr/>
        </p:nvSpPr>
        <p:spPr>
          <a:xfrm>
            <a:off x="5541840" y="3532320"/>
            <a:ext cx="5546880" cy="3125520"/>
          </a:xfrm>
          <a:prstGeom prst="roundRect">
            <a:avLst>
              <a:gd name="adj" fmla="val 4074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781200" y="1189080"/>
            <a:ext cx="160812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"/>
          <p:cNvSpPr/>
          <p:nvPr/>
        </p:nvSpPr>
        <p:spPr>
          <a:xfrm rot="4666800">
            <a:off x="1481760" y="587880"/>
            <a:ext cx="1538280" cy="254160"/>
          </a:xfrm>
          <a:prstGeom prst="parallelogram">
            <a:avLst>
              <a:gd name="adj" fmla="val 2306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0"/>
          <p:cNvSpPr/>
          <p:nvPr/>
        </p:nvSpPr>
        <p:spPr>
          <a:xfrm rot="5400000">
            <a:off x="-186480" y="2151720"/>
            <a:ext cx="2178000" cy="2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 rot="4732800">
            <a:off x="1061280" y="4881600"/>
            <a:ext cx="3894120" cy="252360"/>
          </a:xfrm>
          <a:prstGeom prst="parallelogram">
            <a:avLst>
              <a:gd name="adj" fmla="val 175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3"/>
          <p:cNvSpPr/>
          <p:nvPr/>
        </p:nvSpPr>
        <p:spPr>
          <a:xfrm>
            <a:off x="776160" y="3121200"/>
            <a:ext cx="190656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8"/>
          <p:cNvGrpSpPr/>
          <p:nvPr/>
        </p:nvGrpSpPr>
        <p:grpSpPr>
          <a:xfrm>
            <a:off x="8172000" y="4129200"/>
            <a:ext cx="2865960" cy="2249280"/>
            <a:chOff x="8172000" y="4129200"/>
            <a:chExt cx="2865960" cy="2249280"/>
          </a:xfrm>
        </p:grpSpPr>
        <p:grpSp>
          <p:nvGrpSpPr>
            <p:cNvPr id="270" name="组合 16"/>
            <p:cNvGrpSpPr/>
            <p:nvPr/>
          </p:nvGrpSpPr>
          <p:grpSpPr>
            <a:xfrm>
              <a:off x="8172000" y="4129200"/>
              <a:ext cx="2865960" cy="998640"/>
              <a:chOff x="8172000" y="4129200"/>
              <a:chExt cx="2865960" cy="998640"/>
            </a:xfrm>
          </p:grpSpPr>
          <p:sp>
            <p:nvSpPr>
              <p:cNvPr id="271" name="直接连接符 125"/>
              <p:cNvSpPr/>
              <p:nvPr/>
            </p:nvSpPr>
            <p:spPr>
              <a:xfrm>
                <a:off x="9421920" y="4213080"/>
                <a:ext cx="1792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组合 126"/>
              <p:cNvGrpSpPr/>
              <p:nvPr/>
            </p:nvGrpSpPr>
            <p:grpSpPr>
              <a:xfrm>
                <a:off x="8316360" y="4210920"/>
                <a:ext cx="1108440" cy="717480"/>
                <a:chOff x="8316360" y="4210920"/>
                <a:chExt cx="1108440" cy="717480"/>
              </a:xfrm>
            </p:grpSpPr>
            <p:sp>
              <p:nvSpPr>
                <p:cNvPr id="273" name="直接连接符 159"/>
                <p:cNvSpPr/>
                <p:nvPr/>
              </p:nvSpPr>
              <p:spPr>
                <a:xfrm flipH="1">
                  <a:off x="8452800" y="4210920"/>
                  <a:ext cx="972000" cy="173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弧形 160"/>
                <p:cNvSpPr/>
                <p:nvPr/>
              </p:nvSpPr>
              <p:spPr>
                <a:xfrm rot="16200000">
                  <a:off x="8217360" y="4479840"/>
                  <a:ext cx="526680" cy="328680"/>
                </a:xfrm>
                <a:custGeom>
                  <a:avLst/>
                  <a:gdLst>
                    <a:gd name="textAreaLeft" fmla="*/ 348840 w 526680"/>
                    <a:gd name="textAreaRight" fmla="*/ 523440 w 526680"/>
                    <a:gd name="textAreaTop" fmla="*/ 8640 h 328680"/>
                    <a:gd name="textAreaBottom" fmla="*/ 137880 h 328680"/>
                  </a:gdLst>
                  <a:ahLst/>
                  <a:rect l="textAreaLeft" t="textAreaTop" r="textAreaRight" b="textAreaBottom"/>
                  <a:pathLst>
                    <a:path stroke="0" w="795239" h="486699">
                      <a:moveTo>
                        <a:pt x="526419" y="13121"/>
                      </a:moveTo>
                      <a:lnTo>
                        <a:pt x="526419" y="13121"/>
                      </a:lnTo>
                      <a:arcTo wR="397620" hR="243350" stAng="-3646540" swAng="3302484"/>
                      <a:lnTo>
                        <a:pt x="397620" y="243350"/>
                      </a:lnTo>
                      <a:close/>
                    </a:path>
                    <a:path fill="none" w="795239" h="486699">
                      <a:moveTo>
                        <a:pt x="526419" y="13121"/>
                      </a:moveTo>
                      <a:lnTo>
                        <a:pt x="526419" y="13121"/>
                      </a:lnTo>
                      <a:arcTo wR="397620" hR="243350" stAng="-3646540" swAng="3302484"/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直接连接符 161"/>
                <p:cNvSpPr/>
                <p:nvPr/>
              </p:nvSpPr>
              <p:spPr>
                <a:xfrm>
                  <a:off x="8324280" y="4559400"/>
                  <a:ext cx="0" cy="2242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直接连接符 162"/>
                <p:cNvSpPr/>
                <p:nvPr/>
              </p:nvSpPr>
              <p:spPr>
                <a:xfrm>
                  <a:off x="8322480" y="4782240"/>
                  <a:ext cx="1097640" cy="146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直接连接符 163"/>
                <p:cNvSpPr/>
                <p:nvPr/>
              </p:nvSpPr>
              <p:spPr>
                <a:xfrm flipH="1">
                  <a:off x="8524080" y="4685040"/>
                  <a:ext cx="14040" cy="1238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直接连接符 164"/>
                <p:cNvSpPr/>
                <p:nvPr/>
              </p:nvSpPr>
              <p:spPr>
                <a:xfrm flipH="1">
                  <a:off x="9278640" y="4790160"/>
                  <a:ext cx="12600" cy="117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直接连接符 165"/>
                <p:cNvSpPr/>
                <p:nvPr/>
              </p:nvSpPr>
              <p:spPr>
                <a:xfrm>
                  <a:off x="8538480" y="4686480"/>
                  <a:ext cx="756000" cy="103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组合 127"/>
              <p:cNvGrpSpPr/>
              <p:nvPr/>
            </p:nvGrpSpPr>
            <p:grpSpPr>
              <a:xfrm>
                <a:off x="9599760" y="4211640"/>
                <a:ext cx="1108440" cy="716760"/>
                <a:chOff x="9599760" y="4211640"/>
                <a:chExt cx="1108440" cy="716760"/>
              </a:xfrm>
            </p:grpSpPr>
            <p:sp>
              <p:nvSpPr>
                <p:cNvPr id="281" name="直接连接符 152"/>
                <p:cNvSpPr/>
                <p:nvPr/>
              </p:nvSpPr>
              <p:spPr>
                <a:xfrm>
                  <a:off x="9599760" y="4211640"/>
                  <a:ext cx="970560" cy="174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弧形 153"/>
                <p:cNvSpPr/>
                <p:nvPr/>
              </p:nvSpPr>
              <p:spPr>
                <a:xfrm flipH="1" rot="5400000">
                  <a:off x="10280880" y="4479840"/>
                  <a:ext cx="525960" cy="328320"/>
                </a:xfrm>
                <a:custGeom>
                  <a:avLst/>
                  <a:gdLst>
                    <a:gd name="textAreaLeft" fmla="*/ 348120 w 525960"/>
                    <a:gd name="textAreaRight" fmla="*/ 522720 w 525960"/>
                    <a:gd name="textAreaTop" fmla="*/ 8640 h 328320"/>
                    <a:gd name="textAreaBottom" fmla="*/ 137520 h 328320"/>
                  </a:gdLst>
                  <a:ahLst/>
                  <a:rect l="textAreaLeft" t="textAreaTop" r="textAreaRight" b="textAreaBottom"/>
                  <a:pathLst>
                    <a:path stroke="0" w="795239" h="486699">
                      <a:moveTo>
                        <a:pt x="526419" y="13121"/>
                      </a:moveTo>
                      <a:lnTo>
                        <a:pt x="526419" y="13121"/>
                      </a:lnTo>
                      <a:arcTo wR="397620" hR="243350" stAng="-3646540" swAng="3302484"/>
                      <a:lnTo>
                        <a:pt x="397620" y="243350"/>
                      </a:lnTo>
                      <a:close/>
                    </a:path>
                    <a:path fill="none" w="795239" h="486699">
                      <a:moveTo>
                        <a:pt x="526419" y="13121"/>
                      </a:moveTo>
                      <a:lnTo>
                        <a:pt x="526419" y="13121"/>
                      </a:lnTo>
                      <a:arcTo wR="397620" hR="243350" stAng="-3646540" swAng="3302484"/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直接连接符 154"/>
                <p:cNvSpPr/>
                <p:nvPr/>
              </p:nvSpPr>
              <p:spPr>
                <a:xfrm>
                  <a:off x="10700280" y="4559760"/>
                  <a:ext cx="0" cy="2239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直接连接符 155"/>
                <p:cNvSpPr/>
                <p:nvPr/>
              </p:nvSpPr>
              <p:spPr>
                <a:xfrm flipH="1">
                  <a:off x="9599760" y="4782240"/>
                  <a:ext cx="1102320" cy="146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直接连接符 156"/>
                <p:cNvSpPr/>
                <p:nvPr/>
              </p:nvSpPr>
              <p:spPr>
                <a:xfrm>
                  <a:off x="10484640" y="4685400"/>
                  <a:ext cx="15840" cy="1238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直接连接符 157"/>
                <p:cNvSpPr/>
                <p:nvPr/>
              </p:nvSpPr>
              <p:spPr>
                <a:xfrm>
                  <a:off x="9733320" y="4790160"/>
                  <a:ext cx="12600" cy="117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直接连接符 158"/>
                <p:cNvSpPr/>
                <p:nvPr/>
              </p:nvSpPr>
              <p:spPr>
                <a:xfrm flipH="1">
                  <a:off x="9730080" y="4686840"/>
                  <a:ext cx="756360" cy="103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直接连接符 128"/>
              <p:cNvSpPr/>
              <p:nvPr/>
            </p:nvSpPr>
            <p:spPr>
              <a:xfrm>
                <a:off x="9421920" y="4928040"/>
                <a:ext cx="1792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直接连接符 129"/>
              <p:cNvSpPr/>
              <p:nvPr/>
            </p:nvSpPr>
            <p:spPr>
              <a:xfrm>
                <a:off x="8173800" y="4928040"/>
                <a:ext cx="2864160" cy="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直接连接符 130"/>
              <p:cNvSpPr/>
              <p:nvPr/>
            </p:nvSpPr>
            <p:spPr>
              <a:xfrm>
                <a:off x="8173800" y="4211640"/>
                <a:ext cx="2864160" cy="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直接连接符 131"/>
              <p:cNvSpPr/>
              <p:nvPr/>
            </p:nvSpPr>
            <p:spPr>
              <a:xfrm>
                <a:off x="9510840" y="4135320"/>
                <a:ext cx="0" cy="78912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直接连接符 132"/>
              <p:cNvSpPr/>
              <p:nvPr/>
            </p:nvSpPr>
            <p:spPr>
              <a:xfrm>
                <a:off x="9599760" y="4182840"/>
                <a:ext cx="0" cy="86076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直接连接符 133"/>
              <p:cNvSpPr/>
              <p:nvPr/>
            </p:nvSpPr>
            <p:spPr>
              <a:xfrm>
                <a:off x="9416880" y="4186080"/>
                <a:ext cx="0" cy="86076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94" name="直接箭头连接符 134"/>
              <p:cNvCxnSpPr/>
              <p:nvPr/>
            </p:nvCxnSpPr>
            <p:spPr>
              <a:xfrm flipH="1">
                <a:off x="9411480" y="4992840"/>
                <a:ext cx="191160" cy="108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cxnSp>
            <p:nvCxnSpPr>
              <p:cNvPr id="295" name="直接箭头连接符 135"/>
              <p:cNvCxnSpPr/>
              <p:nvPr/>
            </p:nvCxnSpPr>
            <p:spPr>
              <a:xfrm>
                <a:off x="10901160" y="4209480"/>
                <a:ext cx="1080" cy="72468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sp>
            <p:nvSpPr>
              <p:cNvPr id="296" name="直接连接符 136"/>
              <p:cNvSpPr/>
              <p:nvPr/>
            </p:nvSpPr>
            <p:spPr>
              <a:xfrm flipH="1">
                <a:off x="8513640" y="4812120"/>
                <a:ext cx="9360" cy="8568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直接连接符 137"/>
              <p:cNvSpPr/>
              <p:nvPr/>
            </p:nvSpPr>
            <p:spPr>
              <a:xfrm flipH="1">
                <a:off x="9269280" y="4908960"/>
                <a:ext cx="9360" cy="8388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98" name="直接箭头连接符 138"/>
              <p:cNvCxnSpPr/>
              <p:nvPr/>
            </p:nvCxnSpPr>
            <p:spPr>
              <a:xfrm flipH="1" flipV="1">
                <a:off x="8514720" y="4858920"/>
                <a:ext cx="761040" cy="10044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sp>
            <p:nvSpPr>
              <p:cNvPr id="299" name="直接连接符 139"/>
              <p:cNvSpPr/>
              <p:nvPr/>
            </p:nvSpPr>
            <p:spPr>
              <a:xfrm flipH="1">
                <a:off x="8172000" y="4781880"/>
                <a:ext cx="153720" cy="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00" name="直接箭头连接符 140"/>
              <p:cNvCxnSpPr/>
              <p:nvPr/>
            </p:nvCxnSpPr>
            <p:spPr>
              <a:xfrm flipH="1" flipV="1">
                <a:off x="8254080" y="4781160"/>
                <a:ext cx="1080" cy="14364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sp>
            <p:nvSpPr>
              <p:cNvPr id="301" name="直接连接符 141"/>
              <p:cNvSpPr/>
              <p:nvPr/>
            </p:nvSpPr>
            <p:spPr>
              <a:xfrm flipH="1" flipV="1">
                <a:off x="8471880" y="4677120"/>
                <a:ext cx="66600" cy="1080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02" name="直接箭头连接符 142"/>
              <p:cNvCxnSpPr/>
              <p:nvPr/>
            </p:nvCxnSpPr>
            <p:spPr>
              <a:xfrm flipV="1">
                <a:off x="8476920" y="4677840"/>
                <a:ext cx="19440" cy="12924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sp>
            <p:nvSpPr>
              <p:cNvPr id="303" name="矩形 143"/>
              <p:cNvSpPr/>
              <p:nvPr/>
            </p:nvSpPr>
            <p:spPr>
              <a:xfrm rot="660000">
                <a:off x="9096120" y="4795560"/>
                <a:ext cx="23760" cy="237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矩形 144"/>
              <p:cNvSpPr/>
              <p:nvPr/>
            </p:nvSpPr>
            <p:spPr>
              <a:xfrm flipH="1" rot="20940000">
                <a:off x="9906480" y="4795560"/>
                <a:ext cx="23760" cy="2340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椭圆 145"/>
              <p:cNvSpPr/>
              <p:nvPr/>
            </p:nvSpPr>
            <p:spPr>
              <a:xfrm>
                <a:off x="9497880" y="4481640"/>
                <a:ext cx="29880" cy="2988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直接连接符 146"/>
              <p:cNvSpPr/>
              <p:nvPr/>
            </p:nvSpPr>
            <p:spPr>
              <a:xfrm flipV="1">
                <a:off x="9105840" y="4506840"/>
                <a:ext cx="395280" cy="29988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147"/>
              <p:cNvSpPr/>
              <p:nvPr/>
            </p:nvSpPr>
            <p:spPr>
              <a:xfrm flipH="1" flipV="1">
                <a:off x="9520200" y="4503600"/>
                <a:ext cx="396720" cy="29988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148"/>
              <p:cNvSpPr/>
              <p:nvPr/>
            </p:nvSpPr>
            <p:spPr>
              <a:xfrm>
                <a:off x="10537920" y="4187880"/>
                <a:ext cx="0" cy="93996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149"/>
              <p:cNvSpPr/>
              <p:nvPr/>
            </p:nvSpPr>
            <p:spPr>
              <a:xfrm>
                <a:off x="10703160" y="4129200"/>
                <a:ext cx="0" cy="99864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0" name="直接箭头连接符 150"/>
              <p:cNvCxnSpPr/>
              <p:nvPr/>
            </p:nvCxnSpPr>
            <p:spPr>
              <a:xfrm flipH="1">
                <a:off x="10537560" y="5018040"/>
                <a:ext cx="167040" cy="108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cxnSp>
            <p:nvCxnSpPr>
              <p:cNvPr id="311" name="直接箭头连接符 151"/>
              <p:cNvCxnSpPr/>
              <p:nvPr/>
            </p:nvCxnSpPr>
            <p:spPr>
              <a:xfrm flipH="1">
                <a:off x="9511920" y="4160520"/>
                <a:ext cx="1186560" cy="108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</p:grpSp>
        <p:grpSp>
          <p:nvGrpSpPr>
            <p:cNvPr id="312" name="组合 17"/>
            <p:cNvGrpSpPr/>
            <p:nvPr/>
          </p:nvGrpSpPr>
          <p:grpSpPr>
            <a:xfrm>
              <a:off x="8190000" y="5295960"/>
              <a:ext cx="2271960" cy="1082520"/>
              <a:chOff x="8190000" y="5295960"/>
              <a:chExt cx="2271960" cy="1082520"/>
            </a:xfrm>
          </p:grpSpPr>
          <p:grpSp>
            <p:nvGrpSpPr>
              <p:cNvPr id="313" name="组合 18"/>
              <p:cNvGrpSpPr/>
              <p:nvPr/>
            </p:nvGrpSpPr>
            <p:grpSpPr>
              <a:xfrm>
                <a:off x="8330760" y="5377680"/>
                <a:ext cx="612720" cy="530640"/>
                <a:chOff x="8330760" y="5377680"/>
                <a:chExt cx="612720" cy="530640"/>
              </a:xfrm>
            </p:grpSpPr>
            <p:sp>
              <p:nvSpPr>
                <p:cNvPr id="314" name="直接连接符 120"/>
                <p:cNvSpPr/>
                <p:nvPr/>
              </p:nvSpPr>
              <p:spPr>
                <a:xfrm flipV="1">
                  <a:off x="8370360" y="5377680"/>
                  <a:ext cx="573120" cy="1778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直接连接符 121"/>
                <p:cNvSpPr/>
                <p:nvPr/>
              </p:nvSpPr>
              <p:spPr>
                <a:xfrm>
                  <a:off x="8330760" y="5616000"/>
                  <a:ext cx="0" cy="292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直接连接符 122"/>
                <p:cNvSpPr/>
                <p:nvPr/>
              </p:nvSpPr>
              <p:spPr>
                <a:xfrm flipV="1">
                  <a:off x="8330760" y="5854320"/>
                  <a:ext cx="482400" cy="540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弧形 123"/>
                <p:cNvSpPr/>
                <p:nvPr/>
              </p:nvSpPr>
              <p:spPr>
                <a:xfrm rot="16200000">
                  <a:off x="8319600" y="5568120"/>
                  <a:ext cx="123840" cy="98640"/>
                </a:xfrm>
                <a:custGeom>
                  <a:avLst/>
                  <a:gdLst>
                    <a:gd name="textAreaLeft" fmla="*/ 61920 w 123840"/>
                    <a:gd name="textAreaRight" fmla="*/ 123120 w 123840"/>
                    <a:gd name="textAreaTop" fmla="*/ 0 h 98640"/>
                    <a:gd name="textAreaBottom" fmla="*/ 41400 h 98640"/>
                  </a:gdLst>
                  <a:ahLst/>
                  <a:rect l="textAreaLeft" t="textAreaTop" r="textAreaRight" b="textAreaBottom"/>
                  <a:pathLst>
                    <a:path stroke="0" w="187397" h="148946">
                      <a:moveTo>
                        <a:pt x="93699" y="0"/>
                      </a:moveTo>
                      <a:lnTo>
                        <a:pt x="93699" y="0"/>
                      </a:lnTo>
                      <a:arcTo wR="93699" hR="74473" stAng="-5400000" swAng="4957839"/>
                      <a:lnTo>
                        <a:pt x="93699" y="74473"/>
                      </a:lnTo>
                      <a:close/>
                    </a:path>
                    <a:path fill="none" w="187397" h="148946">
                      <a:moveTo>
                        <a:pt x="93699" y="0"/>
                      </a:moveTo>
                      <a:lnTo>
                        <a:pt x="93699" y="0"/>
                      </a:lnTo>
                      <a:arcTo wR="93699" hR="74473" stAng="-5400000" swAng="4957839"/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直接连接符 124"/>
                <p:cNvSpPr/>
                <p:nvPr/>
              </p:nvSpPr>
              <p:spPr>
                <a:xfrm flipV="1">
                  <a:off x="8813160" y="5795280"/>
                  <a:ext cx="128880" cy="586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直接连接符 19"/>
              <p:cNvSpPr/>
              <p:nvPr/>
            </p:nvSpPr>
            <p:spPr>
              <a:xfrm>
                <a:off x="8940960" y="5310000"/>
                <a:ext cx="0" cy="65088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组合 20"/>
              <p:cNvGrpSpPr/>
              <p:nvPr/>
            </p:nvGrpSpPr>
            <p:grpSpPr>
              <a:xfrm>
                <a:off x="8936640" y="5377680"/>
                <a:ext cx="612720" cy="530640"/>
                <a:chOff x="8936640" y="5377680"/>
                <a:chExt cx="612720" cy="530640"/>
              </a:xfrm>
            </p:grpSpPr>
            <p:sp>
              <p:nvSpPr>
                <p:cNvPr id="321" name="直接连接符 115"/>
                <p:cNvSpPr/>
                <p:nvPr/>
              </p:nvSpPr>
              <p:spPr>
                <a:xfrm flipH="1" flipV="1">
                  <a:off x="8936640" y="5377680"/>
                  <a:ext cx="573120" cy="1778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直接连接符 116"/>
                <p:cNvSpPr/>
                <p:nvPr/>
              </p:nvSpPr>
              <p:spPr>
                <a:xfrm>
                  <a:off x="9549360" y="5616000"/>
                  <a:ext cx="0" cy="292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直接连接符 117"/>
                <p:cNvSpPr/>
                <p:nvPr/>
              </p:nvSpPr>
              <p:spPr>
                <a:xfrm flipH="1" flipV="1">
                  <a:off x="9066600" y="5854320"/>
                  <a:ext cx="482760" cy="540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弧形 118"/>
                <p:cNvSpPr/>
                <p:nvPr/>
              </p:nvSpPr>
              <p:spPr>
                <a:xfrm flipH="1" rot="5400000">
                  <a:off x="9436320" y="5568120"/>
                  <a:ext cx="123840" cy="98280"/>
                </a:xfrm>
                <a:custGeom>
                  <a:avLst/>
                  <a:gdLst>
                    <a:gd name="textAreaLeft" fmla="*/ 61920 w 123840"/>
                    <a:gd name="textAreaRight" fmla="*/ 123120 w 123840"/>
                    <a:gd name="textAreaTop" fmla="*/ 0 h 98280"/>
                    <a:gd name="textAreaBottom" fmla="*/ 41040 h 98280"/>
                  </a:gdLst>
                  <a:ahLst/>
                  <a:rect l="textAreaLeft" t="textAreaTop" r="textAreaRight" b="textAreaBottom"/>
                  <a:pathLst>
                    <a:path stroke="0" w="187397" h="148946">
                      <a:moveTo>
                        <a:pt x="93699" y="0"/>
                      </a:moveTo>
                      <a:lnTo>
                        <a:pt x="93699" y="0"/>
                      </a:lnTo>
                      <a:arcTo wR="93699" hR="74473" stAng="-5400000" swAng="4957839"/>
                      <a:lnTo>
                        <a:pt x="93699" y="74473"/>
                      </a:lnTo>
                      <a:close/>
                    </a:path>
                    <a:path fill="none" w="187397" h="148946">
                      <a:moveTo>
                        <a:pt x="93699" y="0"/>
                      </a:moveTo>
                      <a:lnTo>
                        <a:pt x="93699" y="0"/>
                      </a:lnTo>
                      <a:arcTo wR="93699" hR="74473" stAng="-5400000" swAng="4957839"/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直接连接符 119"/>
                <p:cNvSpPr/>
                <p:nvPr/>
              </p:nvSpPr>
              <p:spPr>
                <a:xfrm flipH="1" flipV="1">
                  <a:off x="8938080" y="5795280"/>
                  <a:ext cx="128520" cy="586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组合 21"/>
              <p:cNvGrpSpPr/>
              <p:nvPr/>
            </p:nvGrpSpPr>
            <p:grpSpPr>
              <a:xfrm>
                <a:off x="8507520" y="5516280"/>
                <a:ext cx="434160" cy="193320"/>
                <a:chOff x="8507520" y="5516280"/>
                <a:chExt cx="434160" cy="193320"/>
              </a:xfrm>
            </p:grpSpPr>
            <p:sp>
              <p:nvSpPr>
                <p:cNvPr id="327" name="直接连接符 111"/>
                <p:cNvSpPr/>
                <p:nvPr/>
              </p:nvSpPr>
              <p:spPr>
                <a:xfrm>
                  <a:off x="8507520" y="5516280"/>
                  <a:ext cx="0" cy="193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8" name="组合 112"/>
                <p:cNvGrpSpPr/>
                <p:nvPr/>
              </p:nvGrpSpPr>
              <p:grpSpPr>
                <a:xfrm>
                  <a:off x="8507520" y="5644800"/>
                  <a:ext cx="434160" cy="62640"/>
                  <a:chOff x="8507520" y="5644800"/>
                  <a:chExt cx="434160" cy="62640"/>
                </a:xfrm>
              </p:grpSpPr>
              <p:sp>
                <p:nvSpPr>
                  <p:cNvPr id="329" name="直接连接符 113"/>
                  <p:cNvSpPr/>
                  <p:nvPr/>
                </p:nvSpPr>
                <p:spPr>
                  <a:xfrm>
                    <a:off x="8507520" y="5707440"/>
                    <a:ext cx="432720" cy="0"/>
                  </a:xfrm>
                  <a:prstGeom prst="line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直接连接符 114"/>
                  <p:cNvSpPr/>
                  <p:nvPr/>
                </p:nvSpPr>
                <p:spPr>
                  <a:xfrm flipV="1">
                    <a:off x="8766720" y="5644800"/>
                    <a:ext cx="174960" cy="61200"/>
                  </a:xfrm>
                  <a:prstGeom prst="line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" name="组合 22"/>
              <p:cNvGrpSpPr/>
              <p:nvPr/>
            </p:nvGrpSpPr>
            <p:grpSpPr>
              <a:xfrm>
                <a:off x="8942040" y="5516280"/>
                <a:ext cx="434160" cy="193320"/>
                <a:chOff x="8942040" y="5516280"/>
                <a:chExt cx="434160" cy="193320"/>
              </a:xfrm>
            </p:grpSpPr>
            <p:sp>
              <p:nvSpPr>
                <p:cNvPr id="332" name="直接连接符 107"/>
                <p:cNvSpPr/>
                <p:nvPr/>
              </p:nvSpPr>
              <p:spPr>
                <a:xfrm>
                  <a:off x="9376200" y="5516280"/>
                  <a:ext cx="0" cy="193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3" name="组合 108"/>
                <p:cNvGrpSpPr/>
                <p:nvPr/>
              </p:nvGrpSpPr>
              <p:grpSpPr>
                <a:xfrm>
                  <a:off x="8942040" y="5644800"/>
                  <a:ext cx="434160" cy="62640"/>
                  <a:chOff x="8942040" y="5644800"/>
                  <a:chExt cx="434160" cy="62640"/>
                </a:xfrm>
              </p:grpSpPr>
              <p:sp>
                <p:nvSpPr>
                  <p:cNvPr id="334" name="直接连接符 109"/>
                  <p:cNvSpPr/>
                  <p:nvPr/>
                </p:nvSpPr>
                <p:spPr>
                  <a:xfrm flipH="1">
                    <a:off x="8943480" y="5707440"/>
                    <a:ext cx="432720" cy="0"/>
                  </a:xfrm>
                  <a:prstGeom prst="line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直接连接符 110"/>
                  <p:cNvSpPr/>
                  <p:nvPr/>
                </p:nvSpPr>
                <p:spPr>
                  <a:xfrm flipH="1" flipV="1">
                    <a:off x="8942040" y="5644800"/>
                    <a:ext cx="174240" cy="61200"/>
                  </a:xfrm>
                  <a:prstGeom prst="line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6" name="直接连接符 23"/>
              <p:cNvSpPr/>
              <p:nvPr/>
            </p:nvSpPr>
            <p:spPr>
              <a:xfrm>
                <a:off x="10023840" y="5368680"/>
                <a:ext cx="2491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直接连接符 24"/>
              <p:cNvSpPr/>
              <p:nvPr/>
            </p:nvSpPr>
            <p:spPr>
              <a:xfrm>
                <a:off x="10273320" y="5367240"/>
                <a:ext cx="0" cy="5889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直接连接符 25"/>
              <p:cNvSpPr/>
              <p:nvPr/>
            </p:nvSpPr>
            <p:spPr>
              <a:xfrm>
                <a:off x="9857160" y="5954760"/>
                <a:ext cx="41580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直接连接符 26"/>
              <p:cNvSpPr/>
              <p:nvPr/>
            </p:nvSpPr>
            <p:spPr>
              <a:xfrm>
                <a:off x="9858600" y="5694480"/>
                <a:ext cx="0" cy="950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直接连接符 27"/>
              <p:cNvSpPr/>
              <p:nvPr/>
            </p:nvSpPr>
            <p:spPr>
              <a:xfrm>
                <a:off x="9855720" y="5786280"/>
                <a:ext cx="12384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直接连接符 28"/>
              <p:cNvSpPr/>
              <p:nvPr/>
            </p:nvSpPr>
            <p:spPr>
              <a:xfrm>
                <a:off x="9982440" y="5784840"/>
                <a:ext cx="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直接连接符 29"/>
              <p:cNvSpPr/>
              <p:nvPr/>
            </p:nvSpPr>
            <p:spPr>
              <a:xfrm>
                <a:off x="9858600" y="5805360"/>
                <a:ext cx="0" cy="1490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直接连接符 30"/>
              <p:cNvSpPr/>
              <p:nvPr/>
            </p:nvSpPr>
            <p:spPr>
              <a:xfrm flipH="1">
                <a:off x="9858240" y="5408640"/>
                <a:ext cx="120600" cy="2872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直接连接符 31"/>
              <p:cNvSpPr/>
              <p:nvPr/>
            </p:nvSpPr>
            <p:spPr>
              <a:xfrm>
                <a:off x="9855720" y="5803920"/>
                <a:ext cx="12384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弧形 32"/>
              <p:cNvSpPr/>
              <p:nvPr/>
            </p:nvSpPr>
            <p:spPr>
              <a:xfrm rot="16200000">
                <a:off x="9959400" y="5385600"/>
                <a:ext cx="133200" cy="102960"/>
              </a:xfrm>
              <a:custGeom>
                <a:avLst/>
                <a:gdLst>
                  <a:gd name="textAreaLeft" fmla="*/ 90720 w 133200"/>
                  <a:gd name="textAreaRight" fmla="*/ 133560 w 133200"/>
                  <a:gd name="textAreaTop" fmla="*/ 3240 h 102960"/>
                  <a:gd name="textAreaBottom" fmla="*/ 51480 h 102960"/>
                </a:gdLst>
                <a:ahLst/>
                <a:rect l="textAreaLeft" t="textAreaTop" r="textAreaRight" b="textAreaBottom"/>
                <a:pathLst>
                  <a:path stroke="0" w="201813" h="156153">
                    <a:moveTo>
                      <a:pt x="137599" y="5345"/>
                    </a:moveTo>
                    <a:lnTo>
                      <a:pt x="137599" y="5345"/>
                    </a:lnTo>
                    <a:arcTo wR="100907" hR="78077" stAng="-3793792" swAng="3793792"/>
                    <a:lnTo>
                      <a:pt x="100907" y="78077"/>
                    </a:lnTo>
                    <a:close/>
                  </a:path>
                  <a:path fill="none" w="201813" h="156153">
                    <a:moveTo>
                      <a:pt x="137599" y="5345"/>
                    </a:moveTo>
                    <a:lnTo>
                      <a:pt x="137599" y="5345"/>
                    </a:lnTo>
                    <a:arcTo wR="100907" hR="78077" stAng="-3793792" swAng="3793792"/>
                  </a:path>
                </a:pathLst>
              </a:cu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直接连接符 33"/>
              <p:cNvSpPr/>
              <p:nvPr/>
            </p:nvSpPr>
            <p:spPr>
              <a:xfrm>
                <a:off x="10144440" y="5368680"/>
                <a:ext cx="0" cy="5889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直接连接符 34"/>
              <p:cNvSpPr/>
              <p:nvPr/>
            </p:nvSpPr>
            <p:spPr>
              <a:xfrm flipH="1">
                <a:off x="10045800" y="5699160"/>
                <a:ext cx="98280" cy="936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直接连接符 35"/>
              <p:cNvSpPr/>
              <p:nvPr/>
            </p:nvSpPr>
            <p:spPr>
              <a:xfrm>
                <a:off x="10046160" y="5792760"/>
                <a:ext cx="98280" cy="950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直接连接符 36"/>
              <p:cNvSpPr/>
              <p:nvPr/>
            </p:nvSpPr>
            <p:spPr>
              <a:xfrm>
                <a:off x="8383680" y="6167520"/>
                <a:ext cx="36360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直接连接符 37"/>
              <p:cNvSpPr/>
              <p:nvPr/>
            </p:nvSpPr>
            <p:spPr>
              <a:xfrm>
                <a:off x="8747280" y="6167520"/>
                <a:ext cx="0" cy="166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直接连接符 38"/>
              <p:cNvSpPr/>
              <p:nvPr/>
            </p:nvSpPr>
            <p:spPr>
              <a:xfrm>
                <a:off x="8383680" y="6334200"/>
                <a:ext cx="36360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直接连接符 39"/>
              <p:cNvSpPr/>
              <p:nvPr/>
            </p:nvSpPr>
            <p:spPr>
              <a:xfrm>
                <a:off x="8346960" y="6237360"/>
                <a:ext cx="0" cy="28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直接连接符 40"/>
              <p:cNvSpPr/>
              <p:nvPr/>
            </p:nvSpPr>
            <p:spPr>
              <a:xfrm flipV="1">
                <a:off x="8346960" y="6165720"/>
                <a:ext cx="37800" cy="712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直接连接符 41"/>
              <p:cNvSpPr/>
              <p:nvPr/>
            </p:nvSpPr>
            <p:spPr>
              <a:xfrm>
                <a:off x="8346960" y="6265800"/>
                <a:ext cx="37800" cy="680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直接连接符 42"/>
              <p:cNvSpPr/>
              <p:nvPr/>
            </p:nvSpPr>
            <p:spPr>
              <a:xfrm>
                <a:off x="8346960" y="6265800"/>
                <a:ext cx="507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直接连接符 43"/>
              <p:cNvSpPr/>
              <p:nvPr/>
            </p:nvSpPr>
            <p:spPr>
              <a:xfrm>
                <a:off x="8397720" y="6237360"/>
                <a:ext cx="0" cy="28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直接连接符 44"/>
              <p:cNvSpPr/>
              <p:nvPr/>
            </p:nvSpPr>
            <p:spPr>
              <a:xfrm>
                <a:off x="8397720" y="6237360"/>
                <a:ext cx="489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直接连接符 45"/>
              <p:cNvSpPr/>
              <p:nvPr/>
            </p:nvSpPr>
            <p:spPr>
              <a:xfrm>
                <a:off x="8447040" y="6237360"/>
                <a:ext cx="0" cy="28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直接连接符 46"/>
              <p:cNvSpPr/>
              <p:nvPr/>
            </p:nvSpPr>
            <p:spPr>
              <a:xfrm>
                <a:off x="8645400" y="6265800"/>
                <a:ext cx="507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直接连接符 47"/>
              <p:cNvSpPr/>
              <p:nvPr/>
            </p:nvSpPr>
            <p:spPr>
              <a:xfrm>
                <a:off x="8696520" y="6237360"/>
                <a:ext cx="0" cy="28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直接连接符 48"/>
              <p:cNvSpPr/>
              <p:nvPr/>
            </p:nvSpPr>
            <p:spPr>
              <a:xfrm>
                <a:off x="8696520" y="6237360"/>
                <a:ext cx="507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直接连接符 49"/>
              <p:cNvSpPr/>
              <p:nvPr/>
            </p:nvSpPr>
            <p:spPr>
              <a:xfrm>
                <a:off x="8645400" y="6237360"/>
                <a:ext cx="0" cy="28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矩形 50"/>
              <p:cNvSpPr/>
              <p:nvPr/>
            </p:nvSpPr>
            <p:spPr>
              <a:xfrm>
                <a:off x="8447040" y="6237360"/>
                <a:ext cx="198360" cy="28440"/>
              </a:xfrm>
              <a:prstGeom prst="rect">
                <a:avLst/>
              </a:prstGeom>
              <a:solidFill>
                <a:srgbClr val="afabab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直接连接符 51"/>
              <p:cNvSpPr/>
              <p:nvPr/>
            </p:nvSpPr>
            <p:spPr>
              <a:xfrm>
                <a:off x="9050400" y="6167520"/>
                <a:ext cx="0" cy="166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52"/>
              <p:cNvSpPr/>
              <p:nvPr/>
            </p:nvSpPr>
            <p:spPr>
              <a:xfrm>
                <a:off x="9050400" y="6265800"/>
                <a:ext cx="507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直接连接符 53"/>
              <p:cNvSpPr/>
              <p:nvPr/>
            </p:nvSpPr>
            <p:spPr>
              <a:xfrm>
                <a:off x="9101160" y="6237360"/>
                <a:ext cx="0" cy="28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直接连接符 54"/>
              <p:cNvSpPr/>
              <p:nvPr/>
            </p:nvSpPr>
            <p:spPr>
              <a:xfrm>
                <a:off x="9101160" y="6237360"/>
                <a:ext cx="489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直接连接符 55"/>
              <p:cNvSpPr/>
              <p:nvPr/>
            </p:nvSpPr>
            <p:spPr>
              <a:xfrm>
                <a:off x="9150480" y="6237360"/>
                <a:ext cx="0" cy="28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直接连接符 56"/>
              <p:cNvSpPr/>
              <p:nvPr/>
            </p:nvSpPr>
            <p:spPr>
              <a:xfrm>
                <a:off x="9429840" y="6265800"/>
                <a:ext cx="489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直接连接符 57"/>
              <p:cNvSpPr/>
              <p:nvPr/>
            </p:nvSpPr>
            <p:spPr>
              <a:xfrm>
                <a:off x="9479160" y="6237360"/>
                <a:ext cx="0" cy="28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直接连接符 58"/>
              <p:cNvSpPr/>
              <p:nvPr/>
            </p:nvSpPr>
            <p:spPr>
              <a:xfrm>
                <a:off x="9479160" y="6237360"/>
                <a:ext cx="507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矩形 59"/>
              <p:cNvSpPr/>
              <p:nvPr/>
            </p:nvSpPr>
            <p:spPr>
              <a:xfrm>
                <a:off x="9147240" y="6237360"/>
                <a:ext cx="285480" cy="28440"/>
              </a:xfrm>
              <a:prstGeom prst="rect">
                <a:avLst/>
              </a:prstGeom>
              <a:solidFill>
                <a:srgbClr val="afabab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直接连接符 60"/>
              <p:cNvSpPr/>
              <p:nvPr/>
            </p:nvSpPr>
            <p:spPr>
              <a:xfrm>
                <a:off x="9529920" y="6237360"/>
                <a:ext cx="0" cy="28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直接连接符 61"/>
              <p:cNvSpPr/>
              <p:nvPr/>
            </p:nvSpPr>
            <p:spPr>
              <a:xfrm flipV="1">
                <a:off x="9529920" y="6165720"/>
                <a:ext cx="29880" cy="712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直接连接符 62"/>
              <p:cNvSpPr/>
              <p:nvPr/>
            </p:nvSpPr>
            <p:spPr>
              <a:xfrm>
                <a:off x="9529920" y="6265800"/>
                <a:ext cx="26640" cy="680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直接连接符 63"/>
              <p:cNvSpPr/>
              <p:nvPr/>
            </p:nvSpPr>
            <p:spPr>
              <a:xfrm>
                <a:off x="9050400" y="6167520"/>
                <a:ext cx="50940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直接连接符 64"/>
              <p:cNvSpPr/>
              <p:nvPr/>
            </p:nvSpPr>
            <p:spPr>
              <a:xfrm>
                <a:off x="9048960" y="6334200"/>
                <a:ext cx="50940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直接连接符 65"/>
              <p:cNvSpPr/>
              <p:nvPr/>
            </p:nvSpPr>
            <p:spPr>
              <a:xfrm>
                <a:off x="8307360" y="6251760"/>
                <a:ext cx="1416240" cy="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直接连接符 66"/>
              <p:cNvSpPr/>
              <p:nvPr/>
            </p:nvSpPr>
            <p:spPr>
              <a:xfrm>
                <a:off x="8307360" y="6167520"/>
                <a:ext cx="1522800" cy="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直接连接符 67"/>
              <p:cNvSpPr/>
              <p:nvPr/>
            </p:nvSpPr>
            <p:spPr>
              <a:xfrm>
                <a:off x="8307360" y="6334200"/>
                <a:ext cx="1522800" cy="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直接连接符 68"/>
              <p:cNvSpPr/>
              <p:nvPr/>
            </p:nvSpPr>
            <p:spPr>
              <a:xfrm flipH="1">
                <a:off x="8222760" y="5568840"/>
                <a:ext cx="104760" cy="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直接连接符 69"/>
              <p:cNvSpPr/>
              <p:nvPr/>
            </p:nvSpPr>
            <p:spPr>
              <a:xfrm flipH="1">
                <a:off x="8219520" y="5352840"/>
                <a:ext cx="793800" cy="24912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直接连接符 70"/>
              <p:cNvSpPr/>
              <p:nvPr/>
            </p:nvSpPr>
            <p:spPr>
              <a:xfrm>
                <a:off x="8190000" y="5379840"/>
                <a:ext cx="1501920" cy="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直接连接符 71"/>
              <p:cNvSpPr/>
              <p:nvPr/>
            </p:nvSpPr>
            <p:spPr>
              <a:xfrm>
                <a:off x="8223120" y="5910120"/>
                <a:ext cx="1501920" cy="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直接连接符 72"/>
              <p:cNvSpPr/>
              <p:nvPr/>
            </p:nvSpPr>
            <p:spPr>
              <a:xfrm>
                <a:off x="8331120" y="5295960"/>
                <a:ext cx="0" cy="66996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直接连接符 73"/>
              <p:cNvSpPr/>
              <p:nvPr/>
            </p:nvSpPr>
            <p:spPr>
              <a:xfrm>
                <a:off x="9549000" y="5295960"/>
                <a:ext cx="0" cy="66996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7" name="直接箭头连接符 74"/>
              <p:cNvCxnSpPr/>
              <p:nvPr/>
            </p:nvCxnSpPr>
            <p:spPr>
              <a:xfrm flipH="1" flipV="1">
                <a:off x="8276400" y="5566680"/>
                <a:ext cx="1080" cy="34524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cxnSp>
            <p:nvCxnSpPr>
              <p:cNvPr id="388" name="直接箭头连接符 75"/>
              <p:cNvCxnSpPr/>
              <p:nvPr/>
            </p:nvCxnSpPr>
            <p:spPr>
              <a:xfrm flipH="1" flipV="1">
                <a:off x="9616680" y="5382360"/>
                <a:ext cx="1080" cy="52308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cxnSp>
            <p:nvCxnSpPr>
              <p:cNvPr id="389" name="直接箭头连接符 76"/>
              <p:cNvCxnSpPr/>
              <p:nvPr/>
            </p:nvCxnSpPr>
            <p:spPr>
              <a:xfrm>
                <a:off x="8940960" y="5331960"/>
                <a:ext cx="606960" cy="108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sp>
            <p:nvSpPr>
              <p:cNvPr id="390" name="直接连接符 77"/>
              <p:cNvSpPr/>
              <p:nvPr/>
            </p:nvSpPr>
            <p:spPr>
              <a:xfrm flipH="1">
                <a:off x="8861400" y="5797440"/>
                <a:ext cx="77760" cy="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1" name="直接箭头连接符 78"/>
              <p:cNvCxnSpPr/>
              <p:nvPr/>
            </p:nvCxnSpPr>
            <p:spPr>
              <a:xfrm flipV="1">
                <a:off x="8907120" y="5704920"/>
                <a:ext cx="1080" cy="9576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triangle" w="sm"/>
                <a:tailEnd len="sm" type="triangle" w="sm"/>
              </a:ln>
            </p:spPr>
          </p:cxnSp>
          <p:cxnSp>
            <p:nvCxnSpPr>
              <p:cNvPr id="392" name="直接箭头连接符 79"/>
              <p:cNvCxnSpPr/>
              <p:nvPr/>
            </p:nvCxnSpPr>
            <p:spPr>
              <a:xfrm flipH="1" flipV="1">
                <a:off x="8907120" y="5801400"/>
                <a:ext cx="2160" cy="10836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triangle" w="sm"/>
                <a:tailEnd len="sm" type="triangle" w="sm"/>
              </a:ln>
            </p:spPr>
          </p:cxnSp>
          <p:sp>
            <p:nvSpPr>
              <p:cNvPr id="393" name="直接连接符 80"/>
              <p:cNvSpPr/>
              <p:nvPr/>
            </p:nvSpPr>
            <p:spPr>
              <a:xfrm>
                <a:off x="9063000" y="5818320"/>
                <a:ext cx="0" cy="7128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4" name="直接箭头连接符 81"/>
              <p:cNvCxnSpPr/>
              <p:nvPr/>
            </p:nvCxnSpPr>
            <p:spPr>
              <a:xfrm>
                <a:off x="8940960" y="5863680"/>
                <a:ext cx="119520" cy="108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triangle" w="sm"/>
                <a:tailEnd len="sm" type="triangle" w="sm"/>
              </a:ln>
            </p:spPr>
          </p:cxnSp>
          <p:sp>
            <p:nvSpPr>
              <p:cNvPr id="395" name="弧形 82"/>
              <p:cNvSpPr/>
              <p:nvPr/>
            </p:nvSpPr>
            <p:spPr>
              <a:xfrm rot="2880000">
                <a:off x="9109080" y="5365440"/>
                <a:ext cx="102960" cy="102960"/>
              </a:xfrm>
              <a:custGeom>
                <a:avLst/>
                <a:gdLst>
                  <a:gd name="textAreaLeft" fmla="*/ 51480 w 102960"/>
                  <a:gd name="textAreaRight" fmla="*/ 103320 w 102960"/>
                  <a:gd name="textAreaTop" fmla="*/ 0 h 102960"/>
                  <a:gd name="textAreaBottom" fmla="*/ 51480 h 102960"/>
                </a:gdLst>
                <a:ahLst/>
                <a:rect l="textAreaLeft" t="textAreaTop" r="textAreaRight" b="textAreaBottom"/>
                <a:pathLst>
                  <a:path stroke="0" w="156165" h="156154">
                    <a:moveTo>
                      <a:pt x="78083" y="0"/>
                    </a:moveTo>
                    <a:lnTo>
                      <a:pt x="78083" y="0"/>
                    </a:lnTo>
                    <a:arcTo wR="78083" hR="78077" stAng="-5400000" swAng="5400000"/>
                    <a:lnTo>
                      <a:pt x="78083" y="78077"/>
                    </a:lnTo>
                    <a:close/>
                  </a:path>
                  <a:path fill="none" w="156165" h="156154">
                    <a:moveTo>
                      <a:pt x="78083" y="0"/>
                    </a:moveTo>
                    <a:lnTo>
                      <a:pt x="78083" y="0"/>
                    </a:lnTo>
                    <a:arcTo wR="78083" hR="78077" stAng="-5400000" swAng="5400000"/>
                  </a:path>
                </a:pathLst>
              </a:custGeom>
              <a:noFill/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矩形 83"/>
              <p:cNvSpPr/>
              <p:nvPr/>
            </p:nvSpPr>
            <p:spPr>
              <a:xfrm>
                <a:off x="9115560" y="5564160"/>
                <a:ext cx="23760" cy="237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矩形 84"/>
              <p:cNvSpPr/>
              <p:nvPr/>
            </p:nvSpPr>
            <p:spPr>
              <a:xfrm>
                <a:off x="9115560" y="5748480"/>
                <a:ext cx="23760" cy="237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直接连接符 85"/>
              <p:cNvSpPr/>
              <p:nvPr/>
            </p:nvSpPr>
            <p:spPr>
              <a:xfrm>
                <a:off x="9125280" y="5572080"/>
                <a:ext cx="0" cy="19368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直接连接符 86"/>
              <p:cNvSpPr/>
              <p:nvPr/>
            </p:nvSpPr>
            <p:spPr>
              <a:xfrm>
                <a:off x="9866520" y="5368680"/>
                <a:ext cx="595440" cy="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直接连接符 87"/>
              <p:cNvSpPr/>
              <p:nvPr/>
            </p:nvSpPr>
            <p:spPr>
              <a:xfrm>
                <a:off x="10271520" y="5954760"/>
                <a:ext cx="190440" cy="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1" name="直接箭头连接符 88"/>
              <p:cNvCxnSpPr/>
              <p:nvPr/>
            </p:nvCxnSpPr>
            <p:spPr>
              <a:xfrm flipV="1">
                <a:off x="10407960" y="5366520"/>
                <a:ext cx="1080" cy="58644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sp>
            <p:nvSpPr>
              <p:cNvPr id="402" name="直接连接符 89"/>
              <p:cNvSpPr/>
              <p:nvPr/>
            </p:nvSpPr>
            <p:spPr>
              <a:xfrm>
                <a:off x="8346960" y="6080040"/>
                <a:ext cx="0" cy="29844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直接连接符 90"/>
              <p:cNvSpPr/>
              <p:nvPr/>
            </p:nvSpPr>
            <p:spPr>
              <a:xfrm>
                <a:off x="8745480" y="6080040"/>
                <a:ext cx="0" cy="29844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直接连接符 91"/>
              <p:cNvSpPr/>
              <p:nvPr/>
            </p:nvSpPr>
            <p:spPr>
              <a:xfrm>
                <a:off x="9050400" y="6080040"/>
                <a:ext cx="0" cy="29844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直接连接符 92"/>
              <p:cNvSpPr/>
              <p:nvPr/>
            </p:nvSpPr>
            <p:spPr>
              <a:xfrm>
                <a:off x="9531720" y="6153120"/>
                <a:ext cx="0" cy="22536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直接连接符 93"/>
              <p:cNvSpPr/>
              <p:nvPr/>
            </p:nvSpPr>
            <p:spPr>
              <a:xfrm>
                <a:off x="9560160" y="6080040"/>
                <a:ext cx="0" cy="29844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7" name="直接箭头连接符 94"/>
              <p:cNvCxnSpPr/>
              <p:nvPr/>
            </p:nvCxnSpPr>
            <p:spPr>
              <a:xfrm flipV="1">
                <a:off x="9779040" y="6165360"/>
                <a:ext cx="1080" cy="17208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cxnSp>
            <p:nvCxnSpPr>
              <p:cNvPr id="408" name="直接箭头连接符 95"/>
              <p:cNvCxnSpPr/>
              <p:nvPr/>
            </p:nvCxnSpPr>
            <p:spPr>
              <a:xfrm>
                <a:off x="8343720" y="6109920"/>
                <a:ext cx="405360" cy="108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cxnSp>
            <p:nvCxnSpPr>
              <p:cNvPr id="409" name="直接箭头连接符 96"/>
              <p:cNvCxnSpPr/>
              <p:nvPr/>
            </p:nvCxnSpPr>
            <p:spPr>
              <a:xfrm>
                <a:off x="9048960" y="6109920"/>
                <a:ext cx="511920" cy="108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sp>
            <p:nvSpPr>
              <p:cNvPr id="410" name="矩形 97"/>
              <p:cNvSpPr/>
              <p:nvPr/>
            </p:nvSpPr>
            <p:spPr>
              <a:xfrm>
                <a:off x="10170000" y="5651280"/>
                <a:ext cx="23760" cy="237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直接连接符 98"/>
              <p:cNvSpPr/>
              <p:nvPr/>
            </p:nvSpPr>
            <p:spPr>
              <a:xfrm>
                <a:off x="10146240" y="5952960"/>
                <a:ext cx="0" cy="8568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直接连接符 99"/>
              <p:cNvSpPr/>
              <p:nvPr/>
            </p:nvSpPr>
            <p:spPr>
              <a:xfrm>
                <a:off x="10273320" y="5952960"/>
                <a:ext cx="0" cy="8568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直接连接符 100"/>
              <p:cNvSpPr/>
              <p:nvPr/>
            </p:nvSpPr>
            <p:spPr>
              <a:xfrm>
                <a:off x="9855720" y="5796000"/>
                <a:ext cx="500040" cy="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4" name="直接箭头连接符 101"/>
              <p:cNvCxnSpPr/>
              <p:nvPr/>
            </p:nvCxnSpPr>
            <p:spPr>
              <a:xfrm flipV="1">
                <a:off x="10312560" y="5795280"/>
                <a:ext cx="1080" cy="15948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cxnSp>
            <p:nvCxnSpPr>
              <p:cNvPr id="415" name="直接箭头连接符 102"/>
              <p:cNvCxnSpPr/>
              <p:nvPr/>
            </p:nvCxnSpPr>
            <p:spPr>
              <a:xfrm flipH="1">
                <a:off x="10142280" y="6013080"/>
                <a:ext cx="129240" cy="108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sp>
            <p:nvSpPr>
              <p:cNvPr id="416" name="直接连接符 103"/>
              <p:cNvSpPr/>
              <p:nvPr/>
            </p:nvSpPr>
            <p:spPr>
              <a:xfrm>
                <a:off x="10047600" y="5776920"/>
                <a:ext cx="0" cy="14904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7" name="直接箭头连接符 104"/>
              <p:cNvCxnSpPr/>
              <p:nvPr/>
            </p:nvCxnSpPr>
            <p:spPr>
              <a:xfrm flipH="1">
                <a:off x="10043640" y="5901840"/>
                <a:ext cx="105480" cy="108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sp>
            <p:nvSpPr>
              <p:cNvPr id="418" name="直接连接符 105"/>
              <p:cNvSpPr/>
              <p:nvPr/>
            </p:nvSpPr>
            <p:spPr>
              <a:xfrm>
                <a:off x="10139760" y="5699160"/>
                <a:ext cx="71280" cy="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9" name="直接箭头连接符 106"/>
              <p:cNvCxnSpPr/>
              <p:nvPr/>
            </p:nvCxnSpPr>
            <p:spPr>
              <a:xfrm flipV="1">
                <a:off x="10177560" y="5700240"/>
                <a:ext cx="1080" cy="9576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</p:grpSp>
      </p:grpSp>
      <p:grpSp>
        <p:nvGrpSpPr>
          <p:cNvPr id="420" name="组合 166"/>
          <p:cNvGrpSpPr/>
          <p:nvPr/>
        </p:nvGrpSpPr>
        <p:grpSpPr>
          <a:xfrm>
            <a:off x="5722920" y="3568680"/>
            <a:ext cx="2378160" cy="3014640"/>
            <a:chOff x="5722920" y="3568680"/>
            <a:chExt cx="2378160" cy="3014640"/>
          </a:xfrm>
        </p:grpSpPr>
        <p:grpSp>
          <p:nvGrpSpPr>
            <p:cNvPr id="421" name="组合 167"/>
            <p:cNvGrpSpPr/>
            <p:nvPr/>
          </p:nvGrpSpPr>
          <p:grpSpPr>
            <a:xfrm>
              <a:off x="5722920" y="5906880"/>
              <a:ext cx="2378160" cy="676440"/>
              <a:chOff x="5722920" y="5906880"/>
              <a:chExt cx="2378160" cy="676440"/>
            </a:xfrm>
          </p:grpSpPr>
          <p:sp>
            <p:nvSpPr>
              <p:cNvPr id="422" name="矩形 212"/>
              <p:cNvSpPr/>
              <p:nvPr/>
            </p:nvSpPr>
            <p:spPr>
              <a:xfrm>
                <a:off x="6249960" y="6275160"/>
                <a:ext cx="712800" cy="108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矩形 213"/>
              <p:cNvSpPr/>
              <p:nvPr/>
            </p:nvSpPr>
            <p:spPr>
              <a:xfrm>
                <a:off x="7481880" y="6275160"/>
                <a:ext cx="584280" cy="108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直接连接符 214"/>
              <p:cNvSpPr/>
              <p:nvPr/>
            </p:nvSpPr>
            <p:spPr>
              <a:xfrm>
                <a:off x="6361200" y="6053040"/>
                <a:ext cx="1287360" cy="1206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任意多边形 215"/>
              <p:cNvSpPr/>
              <p:nvPr/>
            </p:nvSpPr>
            <p:spPr>
              <a:xfrm>
                <a:off x="5838480" y="6053040"/>
                <a:ext cx="522360" cy="236520"/>
              </a:xfrm>
              <a:custGeom>
                <a:avLst/>
                <a:gdLst/>
                <a:ahLst/>
                <a:rect l="l" t="t" r="r" b="b"/>
                <a:pathLst>
                  <a:path w="790872" h="358775">
                    <a:moveTo>
                      <a:pt x="297" y="358775"/>
                    </a:moveTo>
                    <a:cubicBezTo>
                      <a:pt x="-2746" y="327289"/>
                      <a:pt x="18156" y="300434"/>
                      <a:pt x="35222" y="276225"/>
                    </a:cubicBezTo>
                    <a:cubicBezTo>
                      <a:pt x="52288" y="252016"/>
                      <a:pt x="77555" y="233231"/>
                      <a:pt x="102691" y="213519"/>
                    </a:cubicBezTo>
                    <a:cubicBezTo>
                      <a:pt x="127827" y="193807"/>
                      <a:pt x="151375" y="181018"/>
                      <a:pt x="186035" y="157956"/>
                    </a:cubicBezTo>
                    <a:cubicBezTo>
                      <a:pt x="220034" y="135334"/>
                      <a:pt x="276257" y="109934"/>
                      <a:pt x="320972" y="92075"/>
                    </a:cubicBezTo>
                    <a:cubicBezTo>
                      <a:pt x="365687" y="74216"/>
                      <a:pt x="409872" y="64558"/>
                      <a:pt x="454322" y="50800"/>
                    </a:cubicBezTo>
                    <a:cubicBezTo>
                      <a:pt x="482897" y="43921"/>
                      <a:pt x="550630" y="24342"/>
                      <a:pt x="606722" y="15875"/>
                    </a:cubicBezTo>
                    <a:cubicBezTo>
                      <a:pt x="662814" y="7408"/>
                      <a:pt x="752508" y="3307"/>
                      <a:pt x="790872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弧形 216"/>
              <p:cNvSpPr/>
              <p:nvPr/>
            </p:nvSpPr>
            <p:spPr>
              <a:xfrm flipH="1" flipV="1">
                <a:off x="5838480" y="6144840"/>
                <a:ext cx="828720" cy="285840"/>
              </a:xfrm>
              <a:custGeom>
                <a:avLst/>
                <a:gdLst>
                  <a:gd name="textAreaLeft" fmla="*/ 414360 w 828720"/>
                  <a:gd name="textAreaRight" fmla="*/ 829080 w 828720"/>
                  <a:gd name="textAreaTop" fmla="*/ 360 h 285840"/>
                  <a:gd name="textAreaBottom" fmla="*/ 143280 h 285840"/>
                </a:gdLst>
                <a:ahLst/>
                <a:rect l="textAreaLeft" t="textAreaTop" r="textAreaRight" b="textAreaBottom"/>
                <a:pathLst>
                  <a:path stroke="0" w="1254629" h="432414">
                    <a:moveTo>
                      <a:pt x="627315" y="0"/>
                    </a:moveTo>
                    <a:lnTo>
                      <a:pt x="627315" y="0"/>
                    </a:lnTo>
                    <a:arcTo wR="627315" hR="216207" stAng="-5400000" swAng="5400005"/>
                    <a:lnTo>
                      <a:pt x="627315" y="216207"/>
                    </a:lnTo>
                    <a:close/>
                  </a:path>
                  <a:path fill="none" w="1254629" h="432414">
                    <a:moveTo>
                      <a:pt x="627315" y="0"/>
                    </a:moveTo>
                    <a:lnTo>
                      <a:pt x="627315" y="0"/>
                    </a:lnTo>
                    <a:arcTo wR="627315" hR="216207" stAng="-5400000" swAng="5400005"/>
                  </a:path>
                </a:pathLst>
              </a:cu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直接连接符 217"/>
              <p:cNvSpPr/>
              <p:nvPr/>
            </p:nvSpPr>
            <p:spPr>
              <a:xfrm>
                <a:off x="6253200" y="6431040"/>
                <a:ext cx="18129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直接连接符 218"/>
              <p:cNvSpPr/>
              <p:nvPr/>
            </p:nvSpPr>
            <p:spPr>
              <a:xfrm flipV="1">
                <a:off x="7645680" y="5928480"/>
                <a:ext cx="126720" cy="244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弧形 219"/>
              <p:cNvSpPr/>
              <p:nvPr/>
            </p:nvSpPr>
            <p:spPr>
              <a:xfrm flipH="1">
                <a:off x="7770240" y="5909760"/>
                <a:ext cx="68040" cy="61920"/>
              </a:xfrm>
              <a:custGeom>
                <a:avLst/>
                <a:gdLst>
                  <a:gd name="textAreaLeft" fmla="*/ 33840 w 68040"/>
                  <a:gd name="textAreaRight" fmla="*/ 66240 w 68040"/>
                  <a:gd name="textAreaTop" fmla="*/ 0 h 61920"/>
                  <a:gd name="textAreaBottom" fmla="*/ 21960 h 61920"/>
                </a:gdLst>
                <a:ahLst/>
                <a:rect l="textAreaLeft" t="textAreaTop" r="textAreaRight" b="textAreaBottom"/>
                <a:pathLst>
                  <a:path stroke="0" w="103350" h="93689">
                    <a:moveTo>
                      <a:pt x="51675" y="0"/>
                    </a:moveTo>
                    <a:lnTo>
                      <a:pt x="51675" y="0"/>
                    </a:lnTo>
                    <a:arcTo wR="51675" hR="46845" stAng="-5400000" swAng="4484669"/>
                    <a:lnTo>
                      <a:pt x="51675" y="46845"/>
                    </a:lnTo>
                    <a:close/>
                  </a:path>
                  <a:path fill="none" w="103350" h="93689">
                    <a:moveTo>
                      <a:pt x="51675" y="0"/>
                    </a:moveTo>
                    <a:lnTo>
                      <a:pt x="51675" y="0"/>
                    </a:lnTo>
                    <a:arcTo wR="51675" hR="46845" stAng="-5400000" swAng="4484669"/>
                  </a:path>
                </a:pathLst>
              </a:cu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直接连接符 220"/>
              <p:cNvSpPr/>
              <p:nvPr/>
            </p:nvSpPr>
            <p:spPr>
              <a:xfrm>
                <a:off x="7796520" y="5908320"/>
                <a:ext cx="2635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直接连接符 221"/>
              <p:cNvSpPr/>
              <p:nvPr/>
            </p:nvSpPr>
            <p:spPr>
              <a:xfrm>
                <a:off x="8066160" y="5906880"/>
                <a:ext cx="0" cy="5241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直接连接符 222"/>
              <p:cNvSpPr/>
              <p:nvPr/>
            </p:nvSpPr>
            <p:spPr>
              <a:xfrm>
                <a:off x="7940880" y="5906880"/>
                <a:ext cx="0" cy="5241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直接连接符 223"/>
              <p:cNvSpPr/>
              <p:nvPr/>
            </p:nvSpPr>
            <p:spPr>
              <a:xfrm flipH="1">
                <a:off x="5839920" y="6273720"/>
                <a:ext cx="22258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224"/>
              <p:cNvSpPr/>
              <p:nvPr/>
            </p:nvSpPr>
            <p:spPr>
              <a:xfrm flipH="1">
                <a:off x="5839920" y="6291000"/>
                <a:ext cx="22258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直接连接符 225"/>
              <p:cNvSpPr/>
              <p:nvPr/>
            </p:nvSpPr>
            <p:spPr>
              <a:xfrm flipH="1">
                <a:off x="7843680" y="6173640"/>
                <a:ext cx="96840" cy="982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直接连接符 226"/>
              <p:cNvSpPr/>
              <p:nvPr/>
            </p:nvSpPr>
            <p:spPr>
              <a:xfrm>
                <a:off x="7844040" y="6291000"/>
                <a:ext cx="98280" cy="871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矩形 227"/>
              <p:cNvSpPr/>
              <p:nvPr/>
            </p:nvSpPr>
            <p:spPr>
              <a:xfrm>
                <a:off x="5973480" y="6291000"/>
                <a:ext cx="18720" cy="6804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矩形 228"/>
              <p:cNvSpPr/>
              <p:nvPr/>
            </p:nvSpPr>
            <p:spPr>
              <a:xfrm>
                <a:off x="6311880" y="6291000"/>
                <a:ext cx="18720" cy="6804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矩形 229"/>
              <p:cNvSpPr/>
              <p:nvPr/>
            </p:nvSpPr>
            <p:spPr>
              <a:xfrm>
                <a:off x="7199280" y="6291000"/>
                <a:ext cx="18720" cy="6804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矩形 230"/>
              <p:cNvSpPr/>
              <p:nvPr/>
            </p:nvSpPr>
            <p:spPr>
              <a:xfrm>
                <a:off x="7693200" y="6291000"/>
                <a:ext cx="18720" cy="6804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矩形 231"/>
              <p:cNvSpPr/>
              <p:nvPr/>
            </p:nvSpPr>
            <p:spPr>
              <a:xfrm>
                <a:off x="6713640" y="6291000"/>
                <a:ext cx="18720" cy="6804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直接连接符 232"/>
              <p:cNvSpPr/>
              <p:nvPr/>
            </p:nvSpPr>
            <p:spPr>
              <a:xfrm>
                <a:off x="5722920" y="6053040"/>
                <a:ext cx="2378160" cy="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直接连接符 233"/>
              <p:cNvSpPr/>
              <p:nvPr/>
            </p:nvSpPr>
            <p:spPr>
              <a:xfrm>
                <a:off x="5722920" y="6431040"/>
                <a:ext cx="2378160" cy="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44" name="直接箭头连接符 234"/>
              <p:cNvCxnSpPr/>
              <p:nvPr/>
            </p:nvCxnSpPr>
            <p:spPr>
              <a:xfrm>
                <a:off x="5733360" y="6055920"/>
                <a:ext cx="1080" cy="37080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sp>
            <p:nvSpPr>
              <p:cNvPr id="445" name="直接连接符 235"/>
              <p:cNvSpPr/>
              <p:nvPr/>
            </p:nvSpPr>
            <p:spPr>
              <a:xfrm>
                <a:off x="5779800" y="6281640"/>
                <a:ext cx="53640" cy="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46" name="直接箭头连接符 236"/>
              <p:cNvCxnSpPr/>
              <p:nvPr/>
            </p:nvCxnSpPr>
            <p:spPr>
              <a:xfrm flipH="1">
                <a:off x="5830200" y="6516360"/>
                <a:ext cx="2237760" cy="108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sp>
            <p:nvSpPr>
              <p:cNvPr id="447" name="直接连接符 237"/>
              <p:cNvSpPr/>
              <p:nvPr/>
            </p:nvSpPr>
            <p:spPr>
              <a:xfrm>
                <a:off x="5833800" y="6028920"/>
                <a:ext cx="0" cy="55440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直接连接符 238"/>
              <p:cNvSpPr/>
              <p:nvPr/>
            </p:nvSpPr>
            <p:spPr>
              <a:xfrm>
                <a:off x="8067960" y="6423120"/>
                <a:ext cx="0" cy="160200"/>
              </a:xfrm>
              <a:prstGeom prst="line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49" name="直接箭头连接符 239"/>
              <p:cNvCxnSpPr/>
              <p:nvPr/>
            </p:nvCxnSpPr>
            <p:spPr>
              <a:xfrm>
                <a:off x="5800320" y="6282720"/>
                <a:ext cx="1080" cy="143640"/>
              </a:xfrm>
              <a:prstGeom prst="straightConnector1">
                <a:avLst/>
              </a:prstGeom>
              <a:ln w="6480">
                <a:solidFill>
                  <a:srgbClr val="ffffff">
                    <a:alpha val="50000"/>
                  </a:srgbClr>
                </a:solidFill>
                <a:miter/>
                <a:headEnd len="sm" type="arrow" w="sm"/>
                <a:tailEnd len="sm" type="arrow" w="sm"/>
              </a:ln>
            </p:spPr>
          </p:cxnSp>
          <p:sp>
            <p:nvSpPr>
              <p:cNvPr id="450" name="矩形 240"/>
              <p:cNvSpPr/>
              <p:nvPr/>
            </p:nvSpPr>
            <p:spPr>
              <a:xfrm>
                <a:off x="7769520" y="6124320"/>
                <a:ext cx="23760" cy="237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矩形 241"/>
              <p:cNvSpPr/>
              <p:nvPr/>
            </p:nvSpPr>
            <p:spPr>
              <a:xfrm>
                <a:off x="7969320" y="6124320"/>
                <a:ext cx="23760" cy="237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直接连接符 242"/>
              <p:cNvSpPr/>
              <p:nvPr/>
            </p:nvSpPr>
            <p:spPr>
              <a:xfrm>
                <a:off x="7778880" y="6135480"/>
                <a:ext cx="20304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组合 168"/>
            <p:cNvGrpSpPr/>
            <p:nvPr/>
          </p:nvGrpSpPr>
          <p:grpSpPr>
            <a:xfrm>
              <a:off x="5744520" y="3568680"/>
              <a:ext cx="2295720" cy="2368800"/>
              <a:chOff x="5744520" y="3568680"/>
              <a:chExt cx="2295720" cy="2368800"/>
            </a:xfrm>
          </p:grpSpPr>
          <p:sp>
            <p:nvSpPr>
              <p:cNvPr id="454" name="直接连接符 169"/>
              <p:cNvSpPr/>
              <p:nvPr/>
            </p:nvSpPr>
            <p:spPr>
              <a:xfrm>
                <a:off x="5884560" y="4659120"/>
                <a:ext cx="379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弧形 170"/>
              <p:cNvSpPr/>
              <p:nvPr/>
            </p:nvSpPr>
            <p:spPr>
              <a:xfrm flipH="1">
                <a:off x="5823360" y="4659120"/>
                <a:ext cx="145800" cy="187200"/>
              </a:xfrm>
              <a:custGeom>
                <a:avLst/>
                <a:gdLst>
                  <a:gd name="textAreaLeft" fmla="*/ 70920 w 145800"/>
                  <a:gd name="textAreaRight" fmla="*/ 145800 w 1458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stroke="0" w="109850" h="135850">
                    <a:moveTo>
                      <a:pt x="54925" y="0"/>
                    </a:moveTo>
                    <a:lnTo>
                      <a:pt x="54925" y="0"/>
                    </a:lnTo>
                    <a:arcTo wR="54925" hR="67925" stAng="-5400000" swAng="10856691"/>
                    <a:lnTo>
                      <a:pt x="54925" y="67925"/>
                    </a:lnTo>
                    <a:close/>
                  </a:path>
                  <a:path fill="none" w="109850" h="135850">
                    <a:moveTo>
                      <a:pt x="54925" y="0"/>
                    </a:moveTo>
                    <a:lnTo>
                      <a:pt x="54925" y="0"/>
                    </a:lnTo>
                    <a:arcTo wR="54925" hR="67925" stAng="-5400000" swAng="10856691"/>
                  </a:path>
                </a:pathLst>
              </a:cu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直接连接符 171"/>
              <p:cNvSpPr/>
              <p:nvPr/>
            </p:nvSpPr>
            <p:spPr>
              <a:xfrm>
                <a:off x="5884560" y="4846680"/>
                <a:ext cx="379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直接连接符 172"/>
              <p:cNvSpPr/>
              <p:nvPr/>
            </p:nvSpPr>
            <p:spPr>
              <a:xfrm>
                <a:off x="6264000" y="4656240"/>
                <a:ext cx="0" cy="1965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直接连接符 173"/>
              <p:cNvSpPr/>
              <p:nvPr/>
            </p:nvSpPr>
            <p:spPr>
              <a:xfrm flipV="1">
                <a:off x="6264000" y="3795120"/>
                <a:ext cx="180720" cy="8636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任意多边形 174"/>
              <p:cNvSpPr/>
              <p:nvPr/>
            </p:nvSpPr>
            <p:spPr>
              <a:xfrm>
                <a:off x="6445080" y="3568680"/>
                <a:ext cx="430200" cy="226800"/>
              </a:xfrm>
              <a:custGeom>
                <a:avLst/>
                <a:gdLst/>
                <a:ahLst/>
                <a:rect l="l" t="t" r="r" b="b"/>
                <a:pathLst>
                  <a:path w="323850" h="164484">
                    <a:moveTo>
                      <a:pt x="0" y="164484"/>
                    </a:moveTo>
                    <a:cubicBezTo>
                      <a:pt x="3473" y="149601"/>
                      <a:pt x="12701" y="120827"/>
                      <a:pt x="23813" y="100189"/>
                    </a:cubicBezTo>
                    <a:cubicBezTo>
                      <a:pt x="34925" y="79551"/>
                      <a:pt x="50799" y="54945"/>
                      <a:pt x="66674" y="40658"/>
                    </a:cubicBezTo>
                    <a:cubicBezTo>
                      <a:pt x="82549" y="26371"/>
                      <a:pt x="97630" y="20815"/>
                      <a:pt x="119061" y="14465"/>
                    </a:cubicBezTo>
                    <a:cubicBezTo>
                      <a:pt x="140492" y="8115"/>
                      <a:pt x="167878" y="4939"/>
                      <a:pt x="195262" y="2558"/>
                    </a:cubicBezTo>
                    <a:cubicBezTo>
                      <a:pt x="215503" y="971"/>
                      <a:pt x="254794" y="574"/>
                      <a:pt x="276225" y="177"/>
                    </a:cubicBezTo>
                    <a:cubicBezTo>
                      <a:pt x="297656" y="-220"/>
                      <a:pt x="307975" y="177"/>
                      <a:pt x="323850" y="17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直接连接符 175"/>
              <p:cNvSpPr/>
              <p:nvPr/>
            </p:nvSpPr>
            <p:spPr>
              <a:xfrm>
                <a:off x="6875280" y="3568680"/>
                <a:ext cx="79200" cy="11685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直接连接符 176"/>
              <p:cNvSpPr/>
              <p:nvPr/>
            </p:nvSpPr>
            <p:spPr>
              <a:xfrm>
                <a:off x="6954480" y="4638600"/>
                <a:ext cx="55080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直接连接符 177"/>
              <p:cNvSpPr/>
              <p:nvPr/>
            </p:nvSpPr>
            <p:spPr>
              <a:xfrm flipV="1">
                <a:off x="7470360" y="4176720"/>
                <a:ext cx="206280" cy="5601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任意多边形 178"/>
              <p:cNvSpPr/>
              <p:nvPr/>
            </p:nvSpPr>
            <p:spPr>
              <a:xfrm>
                <a:off x="7677000" y="4098960"/>
                <a:ext cx="353880" cy="77760"/>
              </a:xfrm>
              <a:custGeom>
                <a:avLst/>
                <a:gdLst/>
                <a:ahLst/>
                <a:rect l="l" t="t" r="r" b="b"/>
                <a:pathLst>
                  <a:path w="271463" h="54328">
                    <a:moveTo>
                      <a:pt x="0" y="54328"/>
                    </a:moveTo>
                    <a:cubicBezTo>
                      <a:pt x="5953" y="48871"/>
                      <a:pt x="15874" y="29721"/>
                      <a:pt x="28574" y="20990"/>
                    </a:cubicBezTo>
                    <a:cubicBezTo>
                      <a:pt x="41274" y="12259"/>
                      <a:pt x="62309" y="5910"/>
                      <a:pt x="76200" y="1941"/>
                    </a:cubicBezTo>
                    <a:cubicBezTo>
                      <a:pt x="116681" y="-2425"/>
                      <a:pt x="230783" y="1941"/>
                      <a:pt x="271463" y="19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直接连接符 179"/>
              <p:cNvSpPr/>
              <p:nvPr/>
            </p:nvSpPr>
            <p:spPr>
              <a:xfrm flipH="1">
                <a:off x="7961040" y="4100400"/>
                <a:ext cx="69840" cy="5223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直接连接符 180"/>
              <p:cNvSpPr/>
              <p:nvPr/>
            </p:nvSpPr>
            <p:spPr>
              <a:xfrm flipH="1">
                <a:off x="7900200" y="4619520"/>
                <a:ext cx="60120" cy="1173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6" name="组合 181"/>
              <p:cNvGrpSpPr/>
              <p:nvPr/>
            </p:nvGrpSpPr>
            <p:grpSpPr>
              <a:xfrm>
                <a:off x="5798160" y="4736160"/>
                <a:ext cx="2102040" cy="32760"/>
                <a:chOff x="5798160" y="4736160"/>
                <a:chExt cx="2102040" cy="32760"/>
              </a:xfrm>
            </p:grpSpPr>
            <p:sp>
              <p:nvSpPr>
                <p:cNvPr id="467" name="直接连接符 210"/>
                <p:cNvSpPr/>
                <p:nvPr/>
              </p:nvSpPr>
              <p:spPr>
                <a:xfrm>
                  <a:off x="5798160" y="4736160"/>
                  <a:ext cx="2102040" cy="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直接连接符 211"/>
                <p:cNvSpPr/>
                <p:nvPr/>
              </p:nvSpPr>
              <p:spPr>
                <a:xfrm>
                  <a:off x="5798160" y="4768920"/>
                  <a:ext cx="2102040" cy="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" name="直接连接符 182"/>
              <p:cNvSpPr/>
              <p:nvPr/>
            </p:nvSpPr>
            <p:spPr>
              <a:xfrm flipV="1">
                <a:off x="6764040" y="3743280"/>
                <a:ext cx="120600" cy="15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直接连接符 183"/>
              <p:cNvSpPr/>
              <p:nvPr/>
            </p:nvSpPr>
            <p:spPr>
              <a:xfrm flipV="1">
                <a:off x="6821280" y="4487400"/>
                <a:ext cx="120600" cy="140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直接连接符 184"/>
              <p:cNvSpPr/>
              <p:nvPr/>
            </p:nvSpPr>
            <p:spPr>
              <a:xfrm>
                <a:off x="6760800" y="3755880"/>
                <a:ext cx="56880" cy="7491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直接连接符 185"/>
              <p:cNvSpPr/>
              <p:nvPr/>
            </p:nvSpPr>
            <p:spPr>
              <a:xfrm>
                <a:off x="7638840" y="4271760"/>
                <a:ext cx="18540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直接连接符 186"/>
              <p:cNvSpPr/>
              <p:nvPr/>
            </p:nvSpPr>
            <p:spPr>
              <a:xfrm>
                <a:off x="7824600" y="4271760"/>
                <a:ext cx="0" cy="4618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直接连接符 187"/>
              <p:cNvSpPr/>
              <p:nvPr/>
            </p:nvSpPr>
            <p:spPr>
              <a:xfrm flipH="1">
                <a:off x="7754400" y="4533840"/>
                <a:ext cx="66600" cy="199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直接连接符 188"/>
              <p:cNvSpPr/>
              <p:nvPr/>
            </p:nvSpPr>
            <p:spPr>
              <a:xfrm>
                <a:off x="7894440" y="4734000"/>
                <a:ext cx="139680" cy="172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直接连接符 189"/>
              <p:cNvSpPr/>
              <p:nvPr/>
            </p:nvSpPr>
            <p:spPr>
              <a:xfrm flipV="1">
                <a:off x="7894440" y="4754520"/>
                <a:ext cx="145800" cy="15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直接连接符 190"/>
              <p:cNvSpPr/>
              <p:nvPr/>
            </p:nvSpPr>
            <p:spPr>
              <a:xfrm>
                <a:off x="5798880" y="4737240"/>
                <a:ext cx="0" cy="331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组合 191"/>
              <p:cNvGrpSpPr/>
              <p:nvPr/>
            </p:nvGrpSpPr>
            <p:grpSpPr>
              <a:xfrm>
                <a:off x="5744520" y="4566960"/>
                <a:ext cx="47160" cy="364320"/>
                <a:chOff x="5744520" y="4566960"/>
                <a:chExt cx="47160" cy="364320"/>
              </a:xfrm>
            </p:grpSpPr>
            <p:sp>
              <p:nvSpPr>
                <p:cNvPr id="479" name="任意多边形 208"/>
                <p:cNvSpPr/>
                <p:nvPr/>
              </p:nvSpPr>
              <p:spPr>
                <a:xfrm>
                  <a:off x="5744520" y="4566960"/>
                  <a:ext cx="47160" cy="176760"/>
                </a:xfrm>
                <a:custGeom>
                  <a:avLst/>
                  <a:gdLst/>
                  <a:ahLst/>
                  <a:rect l="l" t="t" r="r" b="b"/>
                  <a:pathLst>
                    <a:path w="35728" h="128588">
                      <a:moveTo>
                        <a:pt x="19061" y="128588"/>
                      </a:moveTo>
                      <a:cubicBezTo>
                        <a:pt x="14299" y="125413"/>
                        <a:pt x="407" y="83344"/>
                        <a:pt x="10" y="61913"/>
                      </a:cubicBezTo>
                      <a:cubicBezTo>
                        <a:pt x="-387" y="40482"/>
                        <a:pt x="10726" y="0"/>
                        <a:pt x="16679" y="0"/>
                      </a:cubicBezTo>
                      <a:cubicBezTo>
                        <a:pt x="22632" y="0"/>
                        <a:pt x="35331" y="40481"/>
                        <a:pt x="35728" y="61912"/>
                      </a:cubicBezTo>
                      <a:cubicBezTo>
                        <a:pt x="33744" y="79375"/>
                        <a:pt x="22633" y="124223"/>
                        <a:pt x="19061" y="128588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任意多边形 209"/>
                <p:cNvSpPr/>
                <p:nvPr/>
              </p:nvSpPr>
              <p:spPr>
                <a:xfrm>
                  <a:off x="5744520" y="4754520"/>
                  <a:ext cx="47160" cy="176760"/>
                </a:xfrm>
                <a:custGeom>
                  <a:avLst/>
                  <a:gdLst/>
                  <a:ahLst/>
                  <a:rect l="l" t="t" r="r" b="b"/>
                  <a:pathLst>
                    <a:path w="35728" h="128588">
                      <a:moveTo>
                        <a:pt x="19061" y="128588"/>
                      </a:moveTo>
                      <a:cubicBezTo>
                        <a:pt x="14299" y="125413"/>
                        <a:pt x="407" y="83344"/>
                        <a:pt x="10" y="61913"/>
                      </a:cubicBezTo>
                      <a:cubicBezTo>
                        <a:pt x="-387" y="40482"/>
                        <a:pt x="10726" y="0"/>
                        <a:pt x="16679" y="0"/>
                      </a:cubicBezTo>
                      <a:cubicBezTo>
                        <a:pt x="22632" y="0"/>
                        <a:pt x="35331" y="40481"/>
                        <a:pt x="35728" y="61912"/>
                      </a:cubicBezTo>
                      <a:cubicBezTo>
                        <a:pt x="33744" y="79375"/>
                        <a:pt x="22633" y="124223"/>
                        <a:pt x="19061" y="128588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1" name="直接连接符 192"/>
              <p:cNvSpPr/>
              <p:nvPr/>
            </p:nvSpPr>
            <p:spPr>
              <a:xfrm>
                <a:off x="5760720" y="4748040"/>
                <a:ext cx="41040" cy="28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2" name="组合 193"/>
              <p:cNvGrpSpPr/>
              <p:nvPr/>
            </p:nvGrpSpPr>
            <p:grpSpPr>
              <a:xfrm>
                <a:off x="6263640" y="4768200"/>
                <a:ext cx="1766520" cy="1169280"/>
                <a:chOff x="6263640" y="4768200"/>
                <a:chExt cx="1766520" cy="1169280"/>
              </a:xfrm>
            </p:grpSpPr>
            <p:sp>
              <p:nvSpPr>
                <p:cNvPr id="483" name="直接连接符 194"/>
                <p:cNvSpPr/>
                <p:nvPr/>
              </p:nvSpPr>
              <p:spPr>
                <a:xfrm>
                  <a:off x="6263640" y="4847760"/>
                  <a:ext cx="180720" cy="8629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任意多边形 195"/>
                <p:cNvSpPr/>
                <p:nvPr/>
              </p:nvSpPr>
              <p:spPr>
                <a:xfrm flipV="1">
                  <a:off x="6444360" y="5709960"/>
                  <a:ext cx="430200" cy="227160"/>
                </a:xfrm>
                <a:custGeom>
                  <a:avLst/>
                  <a:gdLst/>
                  <a:ahLst/>
                  <a:rect l="l" t="t" r="r" b="b"/>
                  <a:pathLst>
                    <a:path w="323850" h="164484">
                      <a:moveTo>
                        <a:pt x="0" y="164484"/>
                      </a:moveTo>
                      <a:cubicBezTo>
                        <a:pt x="3473" y="149601"/>
                        <a:pt x="12701" y="120827"/>
                        <a:pt x="23813" y="100189"/>
                      </a:cubicBezTo>
                      <a:cubicBezTo>
                        <a:pt x="34925" y="79551"/>
                        <a:pt x="50799" y="54945"/>
                        <a:pt x="66674" y="40658"/>
                      </a:cubicBezTo>
                      <a:cubicBezTo>
                        <a:pt x="82549" y="26371"/>
                        <a:pt x="97630" y="20815"/>
                        <a:pt x="119061" y="14465"/>
                      </a:cubicBezTo>
                      <a:cubicBezTo>
                        <a:pt x="140492" y="8115"/>
                        <a:pt x="167878" y="4939"/>
                        <a:pt x="195262" y="2558"/>
                      </a:cubicBezTo>
                      <a:cubicBezTo>
                        <a:pt x="215503" y="971"/>
                        <a:pt x="254794" y="574"/>
                        <a:pt x="276225" y="177"/>
                      </a:cubicBezTo>
                      <a:cubicBezTo>
                        <a:pt x="297656" y="-220"/>
                        <a:pt x="307975" y="177"/>
                        <a:pt x="323850" y="177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直接连接符 196"/>
                <p:cNvSpPr/>
                <p:nvPr/>
              </p:nvSpPr>
              <p:spPr>
                <a:xfrm flipV="1">
                  <a:off x="6874560" y="4768200"/>
                  <a:ext cx="79200" cy="11692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直接连接符 197"/>
                <p:cNvSpPr/>
                <p:nvPr/>
              </p:nvSpPr>
              <p:spPr>
                <a:xfrm>
                  <a:off x="6954120" y="4866480"/>
                  <a:ext cx="550800" cy="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直接连接符 198"/>
                <p:cNvSpPr/>
                <p:nvPr/>
              </p:nvSpPr>
              <p:spPr>
                <a:xfrm>
                  <a:off x="7470000" y="4768200"/>
                  <a:ext cx="206280" cy="5608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任意多边形 199"/>
                <p:cNvSpPr/>
                <p:nvPr/>
              </p:nvSpPr>
              <p:spPr>
                <a:xfrm flipV="1">
                  <a:off x="7676280" y="5329440"/>
                  <a:ext cx="353880" cy="79200"/>
                </a:xfrm>
                <a:custGeom>
                  <a:avLst/>
                  <a:gdLst/>
                  <a:ahLst/>
                  <a:rect l="l" t="t" r="r" b="b"/>
                  <a:pathLst>
                    <a:path w="271463" h="54328">
                      <a:moveTo>
                        <a:pt x="0" y="54328"/>
                      </a:moveTo>
                      <a:cubicBezTo>
                        <a:pt x="5953" y="48871"/>
                        <a:pt x="15874" y="29721"/>
                        <a:pt x="28574" y="20990"/>
                      </a:cubicBezTo>
                      <a:cubicBezTo>
                        <a:pt x="41274" y="12259"/>
                        <a:pt x="62309" y="5910"/>
                        <a:pt x="76200" y="1941"/>
                      </a:cubicBezTo>
                      <a:cubicBezTo>
                        <a:pt x="116681" y="-2425"/>
                        <a:pt x="230783" y="1941"/>
                        <a:pt x="271463" y="1941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直接连接符 200"/>
                <p:cNvSpPr/>
                <p:nvPr/>
              </p:nvSpPr>
              <p:spPr>
                <a:xfrm flipH="1" flipV="1">
                  <a:off x="7960320" y="4882680"/>
                  <a:ext cx="69840" cy="522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直接连接符 201"/>
                <p:cNvSpPr/>
                <p:nvPr/>
              </p:nvSpPr>
              <p:spPr>
                <a:xfrm flipH="1" flipV="1">
                  <a:off x="7899840" y="4768200"/>
                  <a:ext cx="60120" cy="117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直接连接符 202"/>
                <p:cNvSpPr/>
                <p:nvPr/>
              </p:nvSpPr>
              <p:spPr>
                <a:xfrm>
                  <a:off x="6763680" y="5747040"/>
                  <a:ext cx="120600" cy="158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直接连接符 203"/>
                <p:cNvSpPr/>
                <p:nvPr/>
              </p:nvSpPr>
              <p:spPr>
                <a:xfrm>
                  <a:off x="6820560" y="5005440"/>
                  <a:ext cx="120600" cy="12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直接连接符 204"/>
                <p:cNvSpPr/>
                <p:nvPr/>
              </p:nvSpPr>
              <p:spPr>
                <a:xfrm flipV="1">
                  <a:off x="6760440" y="5001840"/>
                  <a:ext cx="56880" cy="748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直接连接符 205"/>
                <p:cNvSpPr/>
                <p:nvPr/>
              </p:nvSpPr>
              <p:spPr>
                <a:xfrm>
                  <a:off x="7638120" y="5235120"/>
                  <a:ext cx="185400" cy="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直接连接符 206"/>
                <p:cNvSpPr/>
                <p:nvPr/>
              </p:nvSpPr>
              <p:spPr>
                <a:xfrm flipV="1">
                  <a:off x="7823880" y="4771080"/>
                  <a:ext cx="0" cy="464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直接连接符 207"/>
                <p:cNvSpPr/>
                <p:nvPr/>
              </p:nvSpPr>
              <p:spPr>
                <a:xfrm flipH="1" flipV="1">
                  <a:off x="7753680" y="4771440"/>
                  <a:ext cx="66600" cy="200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97" name="文本框 371" descr=""/>
          <p:cNvPicPr/>
          <p:nvPr/>
        </p:nvPicPr>
        <p:blipFill>
          <a:blip r:embed="rId1"/>
          <a:stretch/>
        </p:blipFill>
        <p:spPr>
          <a:xfrm>
            <a:off x="1365120" y="1341360"/>
            <a:ext cx="3097440" cy="1663920"/>
          </a:xfrm>
          <a:prstGeom prst="rect">
            <a:avLst/>
          </a:prstGeom>
          <a:ln w="0">
            <a:noFill/>
          </a:ln>
        </p:spPr>
      </p:pic>
      <p:sp>
        <p:nvSpPr>
          <p:cNvPr id="498" name="文本框 373"/>
          <p:cNvSpPr/>
          <p:nvPr/>
        </p:nvSpPr>
        <p:spPr>
          <a:xfrm rot="20903400">
            <a:off x="3087000" y="3121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0cece"/>
                </a:solidFill>
                <a:latin typeface="华文琥珀"/>
                <a:ea typeface="华文琥珀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组合 2"/>
          <p:cNvGrpSpPr/>
          <p:nvPr/>
        </p:nvGrpSpPr>
        <p:grpSpPr>
          <a:xfrm>
            <a:off x="10024920" y="2913120"/>
            <a:ext cx="1928880" cy="1461960"/>
            <a:chOff x="10024920" y="2913120"/>
            <a:chExt cx="1928880" cy="1461960"/>
          </a:xfrm>
        </p:grpSpPr>
        <p:pic>
          <p:nvPicPr>
            <p:cNvPr id="500" name="流程图: 离页连接符 506" descr=""/>
            <p:cNvPicPr/>
            <p:nvPr/>
          </p:nvPicPr>
          <p:blipFill>
            <a:blip r:embed="rId2"/>
            <a:stretch/>
          </p:blipFill>
          <p:spPr>
            <a:xfrm>
              <a:off x="10024920" y="3582720"/>
              <a:ext cx="17280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流程图: 离页连接符 370" descr=""/>
            <p:cNvPicPr/>
            <p:nvPr/>
          </p:nvPicPr>
          <p:blipFill>
            <a:blip r:embed="rId3"/>
            <a:stretch/>
          </p:blipFill>
          <p:spPr>
            <a:xfrm>
              <a:off x="10225800" y="2913120"/>
              <a:ext cx="1728000" cy="78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同心圆 505"/>
          <p:cNvSpPr/>
          <p:nvPr/>
        </p:nvSpPr>
        <p:spPr>
          <a:xfrm>
            <a:off x="10772640" y="3416400"/>
            <a:ext cx="425520" cy="425520"/>
          </a:xfrm>
          <a:custGeom>
            <a:avLst/>
            <a:gdLst>
              <a:gd name="textAreaLeft" fmla="*/ 62280 w 425520"/>
              <a:gd name="textAreaRight" fmla="*/ 363240 w 425520"/>
              <a:gd name="textAreaTop" fmla="*/ 62280 h 425520"/>
              <a:gd name="textAreaBottom" fmla="*/ 363240 h 425520"/>
            </a:gdLst>
            <a:ahLst/>
            <a:rect l="textAreaLeft" t="textAreaTop" r="textAreaRight" b="textAreaBottom"/>
            <a:pathLst>
              <a:path w="425450" h="425450">
                <a:moveTo>
                  <a:pt x="0" y="212725"/>
                </a:moveTo>
                <a:lnTo>
                  <a:pt x="0" y="212725"/>
                </a:lnTo>
                <a:arcTo wR="212725" hR="212725" stAng="10800000" swAng="5400000"/>
                <a:lnTo>
                  <a:pt x="212725" y="0"/>
                </a:lnTo>
                <a:arcTo wR="212725" hR="212725" stAng="-5400000" swAng="5400000"/>
                <a:lnTo>
                  <a:pt x="425450" y="212725"/>
                </a:lnTo>
                <a:arcTo wR="212725" hR="212725" stAng="0" swAng="5400000"/>
                <a:lnTo>
                  <a:pt x="212725" y="425450"/>
                </a:lnTo>
                <a:arcTo wR="212725" hR="212725" stAng="5400000" swAng="5400000"/>
                <a:close/>
                <a:moveTo>
                  <a:pt x="106363" y="212725"/>
                </a:moveTo>
                <a:lnTo>
                  <a:pt x="106363" y="212725"/>
                </a:lnTo>
                <a:arcTo wR="106363" hR="106363" stAng="10800000" swAng="-5400000"/>
                <a:lnTo>
                  <a:pt x="212726" y="319088"/>
                </a:lnTo>
                <a:arcTo wR="106363" hR="106363" stAng="5400000" swAng="-5400000"/>
                <a:lnTo>
                  <a:pt x="319089" y="212725"/>
                </a:lnTo>
                <a:arcTo wR="106363" hR="106363" stAng="0" swAng="-5400000"/>
                <a:lnTo>
                  <a:pt x="212726" y="106362"/>
                </a:lnTo>
                <a:arcTo wR="106363" hR="106363" stAng="-5400000" swAng="-5400000"/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7632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518"/>
          <p:cNvGrpSpPr/>
          <p:nvPr/>
        </p:nvGrpSpPr>
        <p:grpSpPr>
          <a:xfrm>
            <a:off x="4218840" y="348120"/>
            <a:ext cx="2341800" cy="1513800"/>
            <a:chOff x="4218840" y="348120"/>
            <a:chExt cx="2341800" cy="1513800"/>
          </a:xfrm>
        </p:grpSpPr>
        <p:pic>
          <p:nvPicPr>
            <p:cNvPr id="504" name="流程图: 离页连接符 519" descr=""/>
            <p:cNvPicPr/>
            <p:nvPr/>
          </p:nvPicPr>
          <p:blipFill>
            <a:blip r:embed="rId4"/>
            <a:stretch/>
          </p:blipFill>
          <p:spPr>
            <a:xfrm rot="21599400">
              <a:off x="4277880" y="1002240"/>
              <a:ext cx="228276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流程图: 离页连接符 520" descr=""/>
            <p:cNvPicPr/>
            <p:nvPr/>
          </p:nvPicPr>
          <p:blipFill>
            <a:blip r:embed="rId5"/>
            <a:stretch/>
          </p:blipFill>
          <p:spPr>
            <a:xfrm rot="21599400">
              <a:off x="4218840" y="348120"/>
              <a:ext cx="2282760" cy="85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6" name="同心圆 521"/>
          <p:cNvSpPr/>
          <p:nvPr/>
        </p:nvSpPr>
        <p:spPr>
          <a:xfrm>
            <a:off x="5159520" y="838080"/>
            <a:ext cx="425160" cy="425520"/>
          </a:xfrm>
          <a:custGeom>
            <a:avLst/>
            <a:gdLst>
              <a:gd name="textAreaLeft" fmla="*/ 62280 w 425160"/>
              <a:gd name="textAreaRight" fmla="*/ 362880 w 425160"/>
              <a:gd name="textAreaTop" fmla="*/ 62280 h 425520"/>
              <a:gd name="textAreaBottom" fmla="*/ 363240 h 425520"/>
            </a:gdLst>
            <a:ahLst/>
            <a:rect l="textAreaLeft" t="textAreaTop" r="textAreaRight" b="textAreaBottom"/>
            <a:pathLst>
              <a:path w="425450" h="425450">
                <a:moveTo>
                  <a:pt x="0" y="212725"/>
                </a:moveTo>
                <a:lnTo>
                  <a:pt x="0" y="212725"/>
                </a:lnTo>
                <a:arcTo wR="212725" hR="212725" stAng="10800000" swAng="5400000"/>
                <a:lnTo>
                  <a:pt x="212725" y="0"/>
                </a:lnTo>
                <a:arcTo wR="212725" hR="212725" stAng="-5400000" swAng="5400000"/>
                <a:lnTo>
                  <a:pt x="425450" y="212725"/>
                </a:lnTo>
                <a:arcTo wR="212725" hR="212725" stAng="0" swAng="5400000"/>
                <a:lnTo>
                  <a:pt x="212725" y="425450"/>
                </a:lnTo>
                <a:arcTo wR="212725" hR="212725" stAng="5400000" swAng="5400000"/>
                <a:close/>
                <a:moveTo>
                  <a:pt x="106363" y="212725"/>
                </a:moveTo>
                <a:lnTo>
                  <a:pt x="106363" y="212725"/>
                </a:lnTo>
                <a:arcTo wR="106363" hR="106363" stAng="10800000" swAng="-5400000"/>
                <a:lnTo>
                  <a:pt x="212726" y="319088"/>
                </a:lnTo>
                <a:arcTo wR="106363" hR="106363" stAng="5400000" swAng="-5400000"/>
                <a:lnTo>
                  <a:pt x="319089" y="212725"/>
                </a:lnTo>
                <a:arcTo wR="106363" hR="106363" stAng="0" swAng="-5400000"/>
                <a:lnTo>
                  <a:pt x="212726" y="106362"/>
                </a:lnTo>
                <a:arcTo wR="106363" hR="106363" stAng="-5400000" swAng="-5400000"/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7632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组合 526"/>
          <p:cNvGrpSpPr/>
          <p:nvPr/>
        </p:nvGrpSpPr>
        <p:grpSpPr>
          <a:xfrm>
            <a:off x="8372520" y="94680"/>
            <a:ext cx="1763640" cy="1483200"/>
            <a:chOff x="8372520" y="94680"/>
            <a:chExt cx="1763640" cy="1483200"/>
          </a:xfrm>
        </p:grpSpPr>
        <p:pic>
          <p:nvPicPr>
            <p:cNvPr id="508" name="流程图: 离页连接符 527" descr=""/>
            <p:cNvPicPr/>
            <p:nvPr/>
          </p:nvPicPr>
          <p:blipFill>
            <a:blip r:embed="rId6"/>
            <a:stretch/>
          </p:blipFill>
          <p:spPr>
            <a:xfrm rot="21599400">
              <a:off x="8372520" y="819720"/>
              <a:ext cx="1749240" cy="7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流程图: 离页连接符 528" descr=""/>
            <p:cNvPicPr/>
            <p:nvPr/>
          </p:nvPicPr>
          <p:blipFill>
            <a:blip r:embed="rId7"/>
            <a:stretch/>
          </p:blipFill>
          <p:spPr>
            <a:xfrm rot="21599400">
              <a:off x="8386920" y="94680"/>
              <a:ext cx="1749240" cy="75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" name="同心圆 529"/>
          <p:cNvSpPr/>
          <p:nvPr/>
        </p:nvSpPr>
        <p:spPr>
          <a:xfrm rot="20811000">
            <a:off x="9027720" y="609480"/>
            <a:ext cx="425520" cy="425520"/>
          </a:xfrm>
          <a:custGeom>
            <a:avLst/>
            <a:gdLst>
              <a:gd name="textAreaLeft" fmla="*/ 62280 w 425520"/>
              <a:gd name="textAreaRight" fmla="*/ 363240 w 425520"/>
              <a:gd name="textAreaTop" fmla="*/ 62280 h 425520"/>
              <a:gd name="textAreaBottom" fmla="*/ 363240 h 425520"/>
            </a:gdLst>
            <a:ahLst/>
            <a:rect l="textAreaLeft" t="textAreaTop" r="textAreaRight" b="textAreaBottom"/>
            <a:pathLst>
              <a:path w="425450" h="425450">
                <a:moveTo>
                  <a:pt x="0" y="212725"/>
                </a:moveTo>
                <a:lnTo>
                  <a:pt x="0" y="212725"/>
                </a:lnTo>
                <a:arcTo wR="212725" hR="212725" stAng="10800000" swAng="5400000"/>
                <a:lnTo>
                  <a:pt x="212725" y="0"/>
                </a:lnTo>
                <a:arcTo wR="212725" hR="212725" stAng="-5400000" swAng="5400000"/>
                <a:lnTo>
                  <a:pt x="425450" y="212725"/>
                </a:lnTo>
                <a:arcTo wR="212725" hR="212725" stAng="0" swAng="5400000"/>
                <a:lnTo>
                  <a:pt x="212725" y="425450"/>
                </a:lnTo>
                <a:arcTo wR="212725" hR="212725" stAng="5400000" swAng="5400000"/>
                <a:close/>
                <a:moveTo>
                  <a:pt x="106363" y="212725"/>
                </a:moveTo>
                <a:lnTo>
                  <a:pt x="106363" y="212725"/>
                </a:lnTo>
                <a:arcTo wR="106363" hR="106363" stAng="10800000" swAng="-5400000"/>
                <a:lnTo>
                  <a:pt x="212726" y="319088"/>
                </a:lnTo>
                <a:arcTo wR="106363" hR="106363" stAng="5400000" swAng="-5400000"/>
                <a:lnTo>
                  <a:pt x="319089" y="212725"/>
                </a:lnTo>
                <a:arcTo wR="106363" hR="106363" stAng="0" swAng="-5400000"/>
                <a:lnTo>
                  <a:pt x="212726" y="106362"/>
                </a:lnTo>
                <a:arcTo wR="106363" hR="106363" stAng="-5400000" swAng="-5400000"/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7632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530"/>
          <p:cNvSpPr/>
          <p:nvPr/>
        </p:nvSpPr>
        <p:spPr>
          <a:xfrm rot="20903400">
            <a:off x="2938320" y="3730680"/>
            <a:ext cx="11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cece"/>
                </a:solidFill>
                <a:latin typeface="华文琥珀"/>
                <a:ea typeface="华文琥珀"/>
              </a:rPr>
              <a:t>No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直接连接符 7"/>
          <p:cNvSpPr/>
          <p:nvPr/>
        </p:nvSpPr>
        <p:spPr>
          <a:xfrm>
            <a:off x="5522760" y="1201680"/>
            <a:ext cx="5249880" cy="2427480"/>
          </a:xfrm>
          <a:prstGeom prst="line">
            <a:avLst/>
          </a:prstGeom>
          <a:ln w="5724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631"/>
          <p:cNvSpPr/>
          <p:nvPr/>
        </p:nvSpPr>
        <p:spPr>
          <a:xfrm flipH="1">
            <a:off x="5584680" y="871560"/>
            <a:ext cx="3448080" cy="179280"/>
          </a:xfrm>
          <a:prstGeom prst="line">
            <a:avLst/>
          </a:prstGeom>
          <a:ln w="5724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组合 533" descr=""/>
          <p:cNvPicPr/>
          <p:nvPr/>
        </p:nvPicPr>
        <p:blipFill>
          <a:blip r:embed="rId8"/>
          <a:stretch/>
        </p:blipFill>
        <p:spPr>
          <a:xfrm>
            <a:off x="9485280" y="219240"/>
            <a:ext cx="2462400" cy="2554200"/>
          </a:xfrm>
          <a:prstGeom prst="rect">
            <a:avLst/>
          </a:prstGeom>
          <a:ln w="0">
            <a:noFill/>
          </a:ln>
        </p:spPr>
      </p:pic>
      <p:pic>
        <p:nvPicPr>
          <p:cNvPr id="515" name="组合 4" descr=""/>
          <p:cNvPicPr/>
          <p:nvPr/>
        </p:nvPicPr>
        <p:blipFill>
          <a:blip r:embed="rId9"/>
          <a:stretch/>
        </p:blipFill>
        <p:spPr>
          <a:xfrm>
            <a:off x="9485280" y="237960"/>
            <a:ext cx="2462400" cy="2651400"/>
          </a:xfrm>
          <a:prstGeom prst="rect">
            <a:avLst/>
          </a:prstGeom>
          <a:ln w="0">
            <a:noFill/>
          </a:ln>
        </p:spPr>
      </p:pic>
    </p:spTree>
  </p:cSld>
  <p:transition spd="slow" advTm="0">
    <p:push dir="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1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2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900"/>
                            </p:stCondLst>
                            <p:childTnLst>
                              <p:par>
                                <p:cTn id="50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3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00"/>
                            </p:stCondLst>
                            <p:childTnLst>
                              <p:par>
                                <p:cTn id="5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600"/>
                            </p:stCondLst>
                            <p:childTnLst>
                              <p:par>
                                <p:cTn id="5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4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4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4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4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indefinite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indefinite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indefinite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2" presetSubtype="2">
                                  <p:stCondLst>
                                    <p:cond delay="1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4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200"/>
                            </p:stCondLst>
                            <p:childTnLst>
                              <p:par>
                                <p:cTn id="5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4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4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600"/>
                            </p:stCondLst>
                            <p:childTnLst>
                              <p:par>
                                <p:cTn id="55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4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4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22" presetSubtype="8">
                                  <p:stCondLst>
                                    <p:cond delay="1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200"/>
                            </p:stCondLst>
                            <p:childTnLst>
                              <p:par>
                                <p:cTn id="5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4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4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4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7600"/>
                            </p:stCondLst>
                            <p:childTnLst>
                              <p:par>
                                <p:cTn id="58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4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4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8000"/>
                            </p:stCondLst>
                            <p:childTnLst>
                              <p:par>
                                <p:cTn id="5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8500"/>
                            </p:stCondLst>
                            <p:childTnLst>
                              <p:par>
                                <p:cTn id="602" nodeType="afterEffect" fill="hold" presetClass="emph" presetID="6" repeatCount="50000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03" dur="50" fill="hold"/>
                                        <p:tgtEl>
                                          <p:spTgt spid="514"/>
                                        </p:tgtEl>
                                      </p:cBhvr>
                                      <p:to x="100000" y="0"/>
                                    </p:animScale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95833E-006 -1.48148E-006 L -1.00482 0.5169 E">
                                      <p:cBhvr>
                                        <p:cTn id="605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95833E-006 -1.48148E-006 L -1.00586 0.5169 E">
                                      <p:cBhvr>
                                        <p:cTn id="607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1200000">
                                      <p:cBhvr>
                                        <p:cTn id="609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1200000">
                                      <p:cBhvr>
                                        <p:cTn id="611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3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3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矩形 12"/>
          <p:cNvSpPr/>
          <p:nvPr/>
        </p:nvSpPr>
        <p:spPr>
          <a:xfrm rot="4732800">
            <a:off x="1639440" y="1978200"/>
            <a:ext cx="4365720" cy="253800"/>
          </a:xfrm>
          <a:prstGeom prst="parallelogram">
            <a:avLst>
              <a:gd name="adj" fmla="val 209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平行四边形 4"/>
          <p:cNvSpPr/>
          <p:nvPr/>
        </p:nvSpPr>
        <p:spPr>
          <a:xfrm rot="20271600">
            <a:off x="3994200" y="2368440"/>
            <a:ext cx="8562960" cy="252360"/>
          </a:xfrm>
          <a:prstGeom prst="parallelogram">
            <a:avLst>
              <a:gd name="adj" fmla="val -1658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9"/>
          <p:cNvSpPr/>
          <p:nvPr/>
        </p:nvSpPr>
        <p:spPr>
          <a:xfrm rot="20243400">
            <a:off x="3981960" y="2187720"/>
            <a:ext cx="56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华文琥珀"/>
                <a:ea typeface="华文琥珀"/>
              </a:rPr>
              <a:t>“</a:t>
            </a:r>
            <a:r>
              <a:rPr b="1" lang="zh-CN" sz="4000" spc="-1" strike="noStrike">
                <a:solidFill>
                  <a:srgbClr val="ffc000"/>
                </a:solidFill>
                <a:latin typeface="华文琥珀"/>
                <a:ea typeface="华文琥珀"/>
              </a:rPr>
              <a:t>激扬北科，幻舞青春</a:t>
            </a:r>
            <a:r>
              <a:rPr b="1" lang="en-US" sz="4000" spc="-1" strike="noStrike">
                <a:solidFill>
                  <a:srgbClr val="ffc000"/>
                </a:solidFill>
                <a:latin typeface="华文琥珀"/>
                <a:ea typeface="华文琥珀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10"/>
          <p:cNvSpPr/>
          <p:nvPr/>
        </p:nvSpPr>
        <p:spPr>
          <a:xfrm rot="20280000">
            <a:off x="5179320" y="2944440"/>
            <a:ext cx="460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6dce5"/>
                </a:solidFill>
                <a:latin typeface="华文琥珀"/>
                <a:ea typeface="华文琥珀"/>
              </a:rPr>
              <a:t>北京科技大学</a:t>
            </a:r>
            <a:r>
              <a:rPr b="1" lang="en-US" sz="4000" spc="-1" strike="noStrike">
                <a:solidFill>
                  <a:srgbClr val="ffc000"/>
                </a:solidFill>
                <a:latin typeface="华文琥珀"/>
                <a:ea typeface="华文琥珀"/>
              </a:rPr>
              <a:t>PPT</a:t>
            </a:r>
            <a:r>
              <a:rPr b="1" lang="zh-CN" sz="4000" spc="-1" strike="noStrike">
                <a:solidFill>
                  <a:srgbClr val="ffc000"/>
                </a:solidFill>
                <a:latin typeface="华文琥珀"/>
                <a:ea typeface="华文琥珀"/>
              </a:rPr>
              <a:t>设计制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11"/>
          <p:cNvSpPr/>
          <p:nvPr/>
        </p:nvSpPr>
        <p:spPr>
          <a:xfrm>
            <a:off x="9405000" y="4716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44444"/>
                </a:solidFill>
                <a:latin typeface="Microsoft Yahei"/>
                <a:ea typeface="Microsoft Yahei"/>
              </a:rPr>
              <a:t>三等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文本框 12" descr=""/>
          <p:cNvPicPr/>
          <p:nvPr/>
        </p:nvPicPr>
        <p:blipFill>
          <a:blip r:embed="rId1"/>
          <a:stretch/>
        </p:blipFill>
        <p:spPr>
          <a:xfrm>
            <a:off x="6010200" y="2305080"/>
            <a:ext cx="2122560" cy="1260360"/>
          </a:xfrm>
          <a:prstGeom prst="rect">
            <a:avLst/>
          </a:prstGeom>
          <a:ln w="0">
            <a:noFill/>
          </a:ln>
        </p:spPr>
      </p:pic>
      <p:sp>
        <p:nvSpPr>
          <p:cNvPr id="522" name="矩形 38"/>
          <p:cNvSpPr/>
          <p:nvPr/>
        </p:nvSpPr>
        <p:spPr>
          <a:xfrm>
            <a:off x="5334840" y="4716360"/>
            <a:ext cx="33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44444"/>
                </a:solidFill>
                <a:latin typeface="Microsoft Yahei"/>
                <a:ea typeface="Microsoft Yahei"/>
              </a:rPr>
              <a:t>北科第三届</a:t>
            </a:r>
            <a:r>
              <a:rPr b="1" lang="en-US" sz="1800" spc="-1" strike="noStrike">
                <a:solidFill>
                  <a:srgbClr val="444444"/>
                </a:solidFill>
                <a:latin typeface="Microsoft Yahei"/>
                <a:ea typeface="Microsoft Yahei"/>
              </a:rPr>
              <a:t>PPT</a:t>
            </a:r>
            <a:r>
              <a:rPr b="1" lang="zh-CN" sz="1800" spc="-1" strike="noStrike">
                <a:solidFill>
                  <a:srgbClr val="444444"/>
                </a:solidFill>
                <a:latin typeface="Microsoft Yahei"/>
                <a:ea typeface="Microsoft Yahei"/>
              </a:rPr>
              <a:t>大赛</a:t>
            </a:r>
            <a:r>
              <a:rPr b="1" lang="en-US" sz="1800" spc="-1" strike="noStrike">
                <a:solidFill>
                  <a:srgbClr val="444444"/>
                </a:solidFill>
                <a:latin typeface="Microsoft Yahei"/>
                <a:ea typeface="Microsoft Yahei"/>
              </a:rPr>
              <a:t>7</a:t>
            </a:r>
            <a:r>
              <a:rPr b="1" lang="zh-CN" sz="1800" spc="-1" strike="noStrike">
                <a:solidFill>
                  <a:srgbClr val="444444"/>
                </a:solidFill>
                <a:latin typeface="Microsoft Yahei"/>
                <a:ea typeface="Microsoft Yahei"/>
              </a:rPr>
              <a:t>号作品</a:t>
            </a:r>
            <a:r>
              <a:rPr b="1" lang="en-US" sz="1800" spc="-1" strike="noStrike">
                <a:solidFill>
                  <a:srgbClr val="444444"/>
                </a:solidFill>
                <a:latin typeface="Microsoft Yahei"/>
                <a:ea typeface="Microsoft Yahei"/>
              </a:rPr>
              <a:t>-</a:t>
            </a:r>
            <a:r>
              <a:rPr b="1" lang="zh-CN" sz="1800" spc="-1" strike="noStrike">
                <a:solidFill>
                  <a:srgbClr val="444444"/>
                </a:solidFill>
                <a:latin typeface="Microsoft Yahei"/>
                <a:ea typeface="Microsoft Yahei"/>
              </a:rPr>
              <a:t>我的家乡安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等腰三角形 39"/>
          <p:cNvSpPr/>
          <p:nvPr/>
        </p:nvSpPr>
        <p:spPr>
          <a:xfrm rot="4246800">
            <a:off x="3675600" y="4056480"/>
            <a:ext cx="222120" cy="601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等腰三角形 40"/>
          <p:cNvSpPr/>
          <p:nvPr/>
        </p:nvSpPr>
        <p:spPr>
          <a:xfrm rot="1560000">
            <a:off x="3947760" y="4328640"/>
            <a:ext cx="222120" cy="600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2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4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5" dur="4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8" dur="2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2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4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5" nodeType="with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"/>
                            </p:stCondLst>
                            <p:childTnLst>
                              <p:par>
                                <p:cTn id="6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400"/>
                            </p:stCondLst>
                            <p:childTnLst>
                              <p:par>
                                <p:cTn id="6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9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2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矩形 6"/>
          <p:cNvSpPr/>
          <p:nvPr/>
        </p:nvSpPr>
        <p:spPr>
          <a:xfrm rot="20247600">
            <a:off x="896760" y="1137960"/>
            <a:ext cx="167652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8"/>
          <p:cNvSpPr/>
          <p:nvPr/>
        </p:nvSpPr>
        <p:spPr>
          <a:xfrm rot="4047600">
            <a:off x="1478520" y="335520"/>
            <a:ext cx="14000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9"/>
          <p:cNvSpPr/>
          <p:nvPr/>
        </p:nvSpPr>
        <p:spPr>
          <a:xfrm rot="20247600">
            <a:off x="1277640" y="1377720"/>
            <a:ext cx="8450280" cy="25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11"/>
          <p:cNvSpPr/>
          <p:nvPr/>
        </p:nvSpPr>
        <p:spPr>
          <a:xfrm rot="4047600">
            <a:off x="434520" y="2179440"/>
            <a:ext cx="19130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10"/>
          <p:cNvSpPr/>
          <p:nvPr/>
        </p:nvSpPr>
        <p:spPr>
          <a:xfrm rot="20247600">
            <a:off x="8624880" y="1752120"/>
            <a:ext cx="157320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2"/>
          <p:cNvSpPr/>
          <p:nvPr/>
        </p:nvSpPr>
        <p:spPr>
          <a:xfrm rot="4047600">
            <a:off x="8751600" y="728640"/>
            <a:ext cx="191268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13"/>
          <p:cNvSpPr/>
          <p:nvPr/>
        </p:nvSpPr>
        <p:spPr>
          <a:xfrm rot="5400000">
            <a:off x="6379200" y="4331520"/>
            <a:ext cx="477828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14"/>
          <p:cNvSpPr/>
          <p:nvPr/>
        </p:nvSpPr>
        <p:spPr>
          <a:xfrm rot="20243400">
            <a:off x="1184040" y="684720"/>
            <a:ext cx="552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000"/>
                </a:solidFill>
                <a:latin typeface="华文琥珀"/>
                <a:ea typeface="华文琥珀"/>
              </a:rPr>
              <a:t>智能车校内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5"/>
          <p:cNvSpPr/>
          <p:nvPr/>
        </p:nvSpPr>
        <p:spPr>
          <a:xfrm rot="20256600">
            <a:off x="8817480" y="2268360"/>
            <a:ext cx="180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d050"/>
                </a:solidFill>
                <a:latin typeface="华文琥珀"/>
                <a:ea typeface="华文琥珀"/>
              </a:rPr>
              <a:t>光电组</a:t>
            </a:r>
            <a:r>
              <a:rPr b="1" lang="en-US" sz="4000" spc="-1" strike="noStrike">
                <a:solidFill>
                  <a:srgbClr val="92d050"/>
                </a:solidFill>
                <a:latin typeface="华文琥珀"/>
                <a:ea typeface="华文琥珀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16"/>
          <p:cNvGrpSpPr/>
          <p:nvPr/>
        </p:nvGrpSpPr>
        <p:grpSpPr>
          <a:xfrm>
            <a:off x="2357280" y="1980360"/>
            <a:ext cx="5913720" cy="4788720"/>
            <a:chOff x="2357280" y="1980360"/>
            <a:chExt cx="5913720" cy="4788720"/>
          </a:xfrm>
        </p:grpSpPr>
        <p:sp>
          <p:nvSpPr>
            <p:cNvPr id="535" name="直接连接符 17"/>
            <p:cNvSpPr/>
            <p:nvPr/>
          </p:nvSpPr>
          <p:spPr>
            <a:xfrm flipV="1">
              <a:off x="4969080" y="4362120"/>
              <a:ext cx="3274920" cy="1746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直接连接符 18"/>
            <p:cNvSpPr/>
            <p:nvPr/>
          </p:nvSpPr>
          <p:spPr>
            <a:xfrm flipH="1">
              <a:off x="4951440" y="6108840"/>
              <a:ext cx="18720" cy="62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直接连接符 19"/>
            <p:cNvSpPr/>
            <p:nvPr/>
          </p:nvSpPr>
          <p:spPr>
            <a:xfrm>
              <a:off x="4970520" y="6110280"/>
              <a:ext cx="31680" cy="29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直接连接符 20"/>
            <p:cNvSpPr/>
            <p:nvPr/>
          </p:nvSpPr>
          <p:spPr>
            <a:xfrm flipH="1">
              <a:off x="4979880" y="6139080"/>
              <a:ext cx="20520" cy="6300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直接连接符 21"/>
            <p:cNvSpPr/>
            <p:nvPr/>
          </p:nvSpPr>
          <p:spPr>
            <a:xfrm flipV="1">
              <a:off x="4998960" y="4378320"/>
              <a:ext cx="3272040" cy="1758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直接连接符 22"/>
            <p:cNvSpPr/>
            <p:nvPr/>
          </p:nvSpPr>
          <p:spPr>
            <a:xfrm>
              <a:off x="8242560" y="4357440"/>
              <a:ext cx="28440" cy="23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直接连接符 23"/>
            <p:cNvSpPr/>
            <p:nvPr/>
          </p:nvSpPr>
          <p:spPr>
            <a:xfrm flipH="1">
              <a:off x="8250120" y="4379760"/>
              <a:ext cx="20520" cy="404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直接连接符 24"/>
            <p:cNvSpPr/>
            <p:nvPr/>
          </p:nvSpPr>
          <p:spPr>
            <a:xfrm flipV="1">
              <a:off x="4983120" y="4779720"/>
              <a:ext cx="3273480" cy="1986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直接连接符 25"/>
            <p:cNvSpPr/>
            <p:nvPr/>
          </p:nvSpPr>
          <p:spPr>
            <a:xfrm>
              <a:off x="4946760" y="6734160"/>
              <a:ext cx="31680" cy="29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直接连接符 26"/>
            <p:cNvSpPr/>
            <p:nvPr/>
          </p:nvSpPr>
          <p:spPr>
            <a:xfrm flipV="1">
              <a:off x="4784760" y="4371840"/>
              <a:ext cx="3346560" cy="1704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直接连接符 27"/>
            <p:cNvSpPr/>
            <p:nvPr/>
          </p:nvSpPr>
          <p:spPr>
            <a:xfrm>
              <a:off x="8123400" y="4373640"/>
              <a:ext cx="58680" cy="21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直接连接符 28"/>
            <p:cNvSpPr/>
            <p:nvPr/>
          </p:nvSpPr>
          <p:spPr>
            <a:xfrm>
              <a:off x="4786560" y="6077160"/>
              <a:ext cx="177480" cy="131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直接连接符 29"/>
            <p:cNvSpPr/>
            <p:nvPr/>
          </p:nvSpPr>
          <p:spPr>
            <a:xfrm>
              <a:off x="4789440" y="6105600"/>
              <a:ext cx="156960" cy="115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直接连接符 30"/>
            <p:cNvSpPr/>
            <p:nvPr/>
          </p:nvSpPr>
          <p:spPr>
            <a:xfrm flipH="1">
              <a:off x="4938480" y="6216840"/>
              <a:ext cx="4680" cy="176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直接连接符 31"/>
            <p:cNvSpPr/>
            <p:nvPr/>
          </p:nvSpPr>
          <p:spPr>
            <a:xfrm>
              <a:off x="4935600" y="6388200"/>
              <a:ext cx="26640" cy="1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直接连接符 32"/>
            <p:cNvSpPr/>
            <p:nvPr/>
          </p:nvSpPr>
          <p:spPr>
            <a:xfrm>
              <a:off x="4786560" y="6077160"/>
              <a:ext cx="4680" cy="31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直接连接符 33"/>
            <p:cNvSpPr/>
            <p:nvPr/>
          </p:nvSpPr>
          <p:spPr>
            <a:xfrm>
              <a:off x="4837320" y="4937040"/>
              <a:ext cx="1050840" cy="581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直接连接符 34"/>
            <p:cNvSpPr/>
            <p:nvPr/>
          </p:nvSpPr>
          <p:spPr>
            <a:xfrm>
              <a:off x="4832280" y="4959360"/>
              <a:ext cx="1022400" cy="569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直接连接符 35"/>
            <p:cNvSpPr/>
            <p:nvPr/>
          </p:nvSpPr>
          <p:spPr>
            <a:xfrm>
              <a:off x="4834080" y="4937040"/>
              <a:ext cx="0" cy="23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直接连接符 36"/>
            <p:cNvSpPr/>
            <p:nvPr/>
          </p:nvSpPr>
          <p:spPr>
            <a:xfrm flipV="1">
              <a:off x="4832280" y="4873680"/>
              <a:ext cx="145800" cy="63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37"/>
            <p:cNvSpPr/>
            <p:nvPr/>
          </p:nvSpPr>
          <p:spPr>
            <a:xfrm>
              <a:off x="4978440" y="4876920"/>
              <a:ext cx="1074600" cy="554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38"/>
            <p:cNvSpPr/>
            <p:nvPr/>
          </p:nvSpPr>
          <p:spPr>
            <a:xfrm>
              <a:off x="7069320" y="4637160"/>
              <a:ext cx="312480" cy="104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直接连接符 39"/>
            <p:cNvSpPr/>
            <p:nvPr/>
          </p:nvSpPr>
          <p:spPr>
            <a:xfrm>
              <a:off x="6963120" y="4503600"/>
              <a:ext cx="549000" cy="183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直接连接符 40"/>
            <p:cNvSpPr/>
            <p:nvPr/>
          </p:nvSpPr>
          <p:spPr>
            <a:xfrm>
              <a:off x="6415200" y="4421160"/>
              <a:ext cx="419040" cy="139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直接连接符 41"/>
            <p:cNvSpPr/>
            <p:nvPr/>
          </p:nvSpPr>
          <p:spPr>
            <a:xfrm>
              <a:off x="6429600" y="4579920"/>
              <a:ext cx="561960" cy="191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直接连接符 42"/>
            <p:cNvSpPr/>
            <p:nvPr/>
          </p:nvSpPr>
          <p:spPr>
            <a:xfrm>
              <a:off x="7148880" y="4817880"/>
              <a:ext cx="63360" cy="23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直接连接符 43"/>
            <p:cNvSpPr/>
            <p:nvPr/>
          </p:nvSpPr>
          <p:spPr>
            <a:xfrm flipV="1">
              <a:off x="7064640" y="4795560"/>
              <a:ext cx="110880" cy="74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直接连接符 44"/>
            <p:cNvSpPr/>
            <p:nvPr/>
          </p:nvSpPr>
          <p:spPr>
            <a:xfrm>
              <a:off x="6431040" y="4011480"/>
              <a:ext cx="635040" cy="861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直接连接符 45"/>
            <p:cNvSpPr/>
            <p:nvPr/>
          </p:nvSpPr>
          <p:spPr>
            <a:xfrm>
              <a:off x="6437520" y="3789360"/>
              <a:ext cx="739800" cy="1006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46"/>
            <p:cNvSpPr/>
            <p:nvPr/>
          </p:nvSpPr>
          <p:spPr>
            <a:xfrm flipH="1" flipV="1">
              <a:off x="6418440" y="4335120"/>
              <a:ext cx="320400" cy="104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直接连接符 47"/>
            <p:cNvSpPr/>
            <p:nvPr/>
          </p:nvSpPr>
          <p:spPr>
            <a:xfrm flipH="1">
              <a:off x="6410520" y="3713040"/>
              <a:ext cx="26640" cy="820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直接连接符 48"/>
            <p:cNvSpPr/>
            <p:nvPr/>
          </p:nvSpPr>
          <p:spPr>
            <a:xfrm>
              <a:off x="6409080" y="4527360"/>
              <a:ext cx="20520" cy="9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直接连接符 49"/>
            <p:cNvSpPr/>
            <p:nvPr/>
          </p:nvSpPr>
          <p:spPr>
            <a:xfrm>
              <a:off x="6431040" y="4541760"/>
              <a:ext cx="0" cy="142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50"/>
            <p:cNvSpPr/>
            <p:nvPr/>
          </p:nvSpPr>
          <p:spPr>
            <a:xfrm flipH="1">
              <a:off x="5557680" y="4527360"/>
              <a:ext cx="850680" cy="369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51"/>
            <p:cNvSpPr/>
            <p:nvPr/>
          </p:nvSpPr>
          <p:spPr>
            <a:xfrm flipH="1">
              <a:off x="5567040" y="4540320"/>
              <a:ext cx="863640" cy="372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接连接符 52"/>
            <p:cNvSpPr/>
            <p:nvPr/>
          </p:nvSpPr>
          <p:spPr>
            <a:xfrm flipH="1">
              <a:off x="5656320" y="4684680"/>
              <a:ext cx="777600" cy="355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直接连接符 53"/>
            <p:cNvSpPr/>
            <p:nvPr/>
          </p:nvSpPr>
          <p:spPr>
            <a:xfrm>
              <a:off x="5021280" y="4116240"/>
              <a:ext cx="820440" cy="1206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54"/>
            <p:cNvSpPr/>
            <p:nvPr/>
          </p:nvSpPr>
          <p:spPr>
            <a:xfrm>
              <a:off x="4945320" y="4262400"/>
              <a:ext cx="636480" cy="9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55"/>
            <p:cNvSpPr/>
            <p:nvPr/>
          </p:nvSpPr>
          <p:spPr>
            <a:xfrm flipH="1">
              <a:off x="4948200" y="4116240"/>
              <a:ext cx="69840" cy="145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直接连接符 56"/>
            <p:cNvSpPr/>
            <p:nvPr/>
          </p:nvSpPr>
          <p:spPr>
            <a:xfrm>
              <a:off x="4989600" y="4330800"/>
              <a:ext cx="26640" cy="566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接连接符 57"/>
            <p:cNvSpPr/>
            <p:nvPr/>
          </p:nvSpPr>
          <p:spPr>
            <a:xfrm>
              <a:off x="5127840" y="4521240"/>
              <a:ext cx="15840" cy="439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直接连接符 58"/>
            <p:cNvSpPr/>
            <p:nvPr/>
          </p:nvSpPr>
          <p:spPr>
            <a:xfrm>
              <a:off x="5154840" y="5138640"/>
              <a:ext cx="7920" cy="1332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直接连接符 59"/>
            <p:cNvSpPr/>
            <p:nvPr/>
          </p:nvSpPr>
          <p:spPr>
            <a:xfrm>
              <a:off x="5018040" y="5194440"/>
              <a:ext cx="141120" cy="75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直接连接符 60"/>
            <p:cNvSpPr/>
            <p:nvPr/>
          </p:nvSpPr>
          <p:spPr>
            <a:xfrm flipV="1">
              <a:off x="5162760" y="5211360"/>
              <a:ext cx="11556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直接连接符 61"/>
            <p:cNvSpPr/>
            <p:nvPr/>
          </p:nvSpPr>
          <p:spPr>
            <a:xfrm>
              <a:off x="5018040" y="5060880"/>
              <a:ext cx="2880" cy="137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62"/>
            <p:cNvSpPr/>
            <p:nvPr/>
          </p:nvSpPr>
          <p:spPr>
            <a:xfrm flipV="1">
              <a:off x="5459400" y="5095440"/>
              <a:ext cx="64800" cy="28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直接连接符 63"/>
            <p:cNvSpPr/>
            <p:nvPr/>
          </p:nvSpPr>
          <p:spPr>
            <a:xfrm flipV="1">
              <a:off x="5265720" y="4952520"/>
              <a:ext cx="161640" cy="68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直接连接符 64"/>
            <p:cNvSpPr/>
            <p:nvPr/>
          </p:nvSpPr>
          <p:spPr>
            <a:xfrm flipV="1">
              <a:off x="5289840" y="4971960"/>
              <a:ext cx="150480" cy="64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直接连接符 65"/>
            <p:cNvSpPr/>
            <p:nvPr/>
          </p:nvSpPr>
          <p:spPr>
            <a:xfrm>
              <a:off x="4980240" y="4098960"/>
              <a:ext cx="134640" cy="64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直接连接符 66"/>
            <p:cNvSpPr/>
            <p:nvPr/>
          </p:nvSpPr>
          <p:spPr>
            <a:xfrm>
              <a:off x="4978440" y="4093920"/>
              <a:ext cx="1440" cy="98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直接连接符 67"/>
            <p:cNvSpPr/>
            <p:nvPr/>
          </p:nvSpPr>
          <p:spPr>
            <a:xfrm>
              <a:off x="5113440" y="4159080"/>
              <a:ext cx="4680" cy="101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直接连接符 68"/>
            <p:cNvSpPr/>
            <p:nvPr/>
          </p:nvSpPr>
          <p:spPr>
            <a:xfrm flipV="1">
              <a:off x="5113440" y="4117680"/>
              <a:ext cx="147600" cy="44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直接连接符 69"/>
            <p:cNvSpPr/>
            <p:nvPr/>
          </p:nvSpPr>
          <p:spPr>
            <a:xfrm>
              <a:off x="5265720" y="4118040"/>
              <a:ext cx="10800" cy="3762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70"/>
            <p:cNvSpPr/>
            <p:nvPr/>
          </p:nvSpPr>
          <p:spPr>
            <a:xfrm>
              <a:off x="5278680" y="4476600"/>
              <a:ext cx="380880" cy="377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直接连接符 71"/>
            <p:cNvSpPr/>
            <p:nvPr/>
          </p:nvSpPr>
          <p:spPr>
            <a:xfrm flipH="1">
              <a:off x="6150240" y="4349520"/>
              <a:ext cx="149040" cy="29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直接连接符 72"/>
            <p:cNvSpPr/>
            <p:nvPr/>
          </p:nvSpPr>
          <p:spPr>
            <a:xfrm flipH="1">
              <a:off x="6306840" y="3763800"/>
              <a:ext cx="20520" cy="8110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直接连接符 73"/>
            <p:cNvSpPr/>
            <p:nvPr/>
          </p:nvSpPr>
          <p:spPr>
            <a:xfrm flipH="1">
              <a:off x="6294240" y="3754440"/>
              <a:ext cx="20520" cy="82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直接连接符 74"/>
            <p:cNvSpPr/>
            <p:nvPr/>
          </p:nvSpPr>
          <p:spPr>
            <a:xfrm flipV="1">
              <a:off x="6328080" y="3717360"/>
              <a:ext cx="106200" cy="45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直接连接符 75"/>
            <p:cNvSpPr/>
            <p:nvPr/>
          </p:nvSpPr>
          <p:spPr>
            <a:xfrm flipV="1">
              <a:off x="6315120" y="3714480"/>
              <a:ext cx="104760" cy="41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直接连接符 76"/>
            <p:cNvSpPr/>
            <p:nvPr/>
          </p:nvSpPr>
          <p:spPr>
            <a:xfrm>
              <a:off x="6418440" y="3713040"/>
              <a:ext cx="1872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直接连接符 77"/>
            <p:cNvSpPr/>
            <p:nvPr/>
          </p:nvSpPr>
          <p:spPr>
            <a:xfrm>
              <a:off x="6315120" y="3755880"/>
              <a:ext cx="14040" cy="9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直接连接符 78"/>
            <p:cNvSpPr/>
            <p:nvPr/>
          </p:nvSpPr>
          <p:spPr>
            <a:xfrm flipH="1">
              <a:off x="5989320" y="4092480"/>
              <a:ext cx="315720" cy="617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79"/>
            <p:cNvSpPr/>
            <p:nvPr/>
          </p:nvSpPr>
          <p:spPr>
            <a:xfrm>
              <a:off x="4749840" y="3967200"/>
              <a:ext cx="366480" cy="182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直接连接符 80"/>
            <p:cNvSpPr/>
            <p:nvPr/>
          </p:nvSpPr>
          <p:spPr>
            <a:xfrm flipV="1">
              <a:off x="5110200" y="4109760"/>
              <a:ext cx="129960" cy="39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直接连接符 81"/>
            <p:cNvSpPr/>
            <p:nvPr/>
          </p:nvSpPr>
          <p:spPr>
            <a:xfrm>
              <a:off x="5237280" y="4108320"/>
              <a:ext cx="28440" cy="9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直接连接符 82"/>
            <p:cNvSpPr/>
            <p:nvPr/>
          </p:nvSpPr>
          <p:spPr>
            <a:xfrm>
              <a:off x="4707000" y="3990960"/>
              <a:ext cx="1440" cy="141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弧形 83"/>
            <p:cNvSpPr/>
            <p:nvPr/>
          </p:nvSpPr>
          <p:spPr>
            <a:xfrm rot="16200000">
              <a:off x="4705200" y="3960360"/>
              <a:ext cx="102960" cy="112680"/>
            </a:xfrm>
            <a:custGeom>
              <a:avLst/>
              <a:gdLst>
                <a:gd name="textAreaLeft" fmla="*/ 70920 w 102960"/>
                <a:gd name="textAreaRight" fmla="*/ 102960 w 102960"/>
                <a:gd name="textAreaTop" fmla="*/ 3960 h 112680"/>
                <a:gd name="textAreaBottom" fmla="*/ 50400 h 112680"/>
              </a:gdLst>
              <a:ahLst/>
              <a:rect l="textAreaLeft" t="textAreaTop" r="textAreaRight" b="textAreaBottom"/>
              <a:pathLst>
                <a:path stroke="0" w="124143" h="132148">
                  <a:moveTo>
                    <a:pt x="85239" y="4775"/>
                  </a:moveTo>
                  <a:lnTo>
                    <a:pt x="85239" y="4775"/>
                  </a:lnTo>
                  <a:arcTo wR="62072" hR="66074" stAng="-4157802" swAng="3761073"/>
                  <a:lnTo>
                    <a:pt x="62072" y="66074"/>
                  </a:lnTo>
                  <a:close/>
                </a:path>
                <a:path fill="none" w="124143" h="132148">
                  <a:moveTo>
                    <a:pt x="85239" y="4775"/>
                  </a:moveTo>
                  <a:lnTo>
                    <a:pt x="85239" y="4775"/>
                  </a:lnTo>
                  <a:arcTo wR="62072" hR="66074" stAng="-4157802" swAng="3761073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直接连接符 84"/>
            <p:cNvSpPr/>
            <p:nvPr/>
          </p:nvSpPr>
          <p:spPr>
            <a:xfrm>
              <a:off x="4707000" y="4132080"/>
              <a:ext cx="237960" cy="126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5"/>
            <p:cNvSpPr/>
            <p:nvPr/>
          </p:nvSpPr>
          <p:spPr>
            <a:xfrm>
              <a:off x="5980320" y="3747960"/>
              <a:ext cx="326880" cy="131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直接连接符 86"/>
            <p:cNvSpPr/>
            <p:nvPr/>
          </p:nvSpPr>
          <p:spPr>
            <a:xfrm>
              <a:off x="6026400" y="3722400"/>
              <a:ext cx="280800" cy="95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7"/>
            <p:cNvSpPr/>
            <p:nvPr/>
          </p:nvSpPr>
          <p:spPr>
            <a:xfrm flipH="1" flipV="1">
              <a:off x="6064560" y="3598560"/>
              <a:ext cx="341280" cy="117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弧形 88"/>
            <p:cNvSpPr/>
            <p:nvPr/>
          </p:nvSpPr>
          <p:spPr>
            <a:xfrm rot="16200000">
              <a:off x="6027840" y="3593520"/>
              <a:ext cx="50760" cy="60120"/>
            </a:xfrm>
            <a:custGeom>
              <a:avLst/>
              <a:gdLst>
                <a:gd name="textAreaLeft" fmla="*/ 25560 w 50760"/>
                <a:gd name="textAreaRight" fmla="*/ 51120 w 50760"/>
                <a:gd name="textAreaTop" fmla="*/ 0 h 60120"/>
                <a:gd name="textAreaBottom" fmla="*/ 44640 h 60120"/>
              </a:gdLst>
              <a:ahLst/>
              <a:rect l="textAreaLeft" t="textAreaTop" r="textAreaRight" b="textAreaBottom"/>
              <a:pathLst>
                <a:path stroke="0" w="61116" h="70728">
                  <a:moveTo>
                    <a:pt x="30558" y="0"/>
                  </a:moveTo>
                  <a:lnTo>
                    <a:pt x="30558" y="0"/>
                  </a:lnTo>
                  <a:arcTo wR="30558" hR="35364" stAng="-5400000" swAng="7353189"/>
                  <a:lnTo>
                    <a:pt x="30558" y="35364"/>
                  </a:lnTo>
                  <a:close/>
                </a:path>
                <a:path fill="none" w="61116" h="70728">
                  <a:moveTo>
                    <a:pt x="30558" y="0"/>
                  </a:moveTo>
                  <a:lnTo>
                    <a:pt x="30558" y="0"/>
                  </a:lnTo>
                  <a:arcTo wR="30558" hR="35364" stAng="-5400000" swAng="7353189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9"/>
            <p:cNvSpPr/>
            <p:nvPr/>
          </p:nvSpPr>
          <p:spPr>
            <a:xfrm>
              <a:off x="6023160" y="3622680"/>
              <a:ext cx="1440" cy="101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直接连接符 90"/>
            <p:cNvSpPr/>
            <p:nvPr/>
          </p:nvSpPr>
          <p:spPr>
            <a:xfrm flipH="1">
              <a:off x="5892840" y="3724200"/>
              <a:ext cx="133200" cy="66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直接连接符 91"/>
            <p:cNvSpPr/>
            <p:nvPr/>
          </p:nvSpPr>
          <p:spPr>
            <a:xfrm>
              <a:off x="5811840" y="3924360"/>
              <a:ext cx="80640" cy="34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92"/>
            <p:cNvSpPr/>
            <p:nvPr/>
          </p:nvSpPr>
          <p:spPr>
            <a:xfrm flipV="1">
              <a:off x="5891400" y="3951000"/>
              <a:ext cx="419040" cy="7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直接连接符 93"/>
            <p:cNvSpPr/>
            <p:nvPr/>
          </p:nvSpPr>
          <p:spPr>
            <a:xfrm>
              <a:off x="5904000" y="3832200"/>
              <a:ext cx="87120" cy="28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 94"/>
            <p:cNvSpPr/>
            <p:nvPr/>
          </p:nvSpPr>
          <p:spPr>
            <a:xfrm flipH="1">
              <a:off x="5806800" y="3860640"/>
              <a:ext cx="177480" cy="63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 95"/>
            <p:cNvSpPr/>
            <p:nvPr/>
          </p:nvSpPr>
          <p:spPr>
            <a:xfrm flipV="1">
              <a:off x="5265720" y="4003200"/>
              <a:ext cx="318960" cy="115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直接连接符 96"/>
            <p:cNvSpPr/>
            <p:nvPr/>
          </p:nvSpPr>
          <p:spPr>
            <a:xfrm flipH="1">
              <a:off x="5270400" y="4124160"/>
              <a:ext cx="145800" cy="177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直接连接符 97"/>
            <p:cNvSpPr/>
            <p:nvPr/>
          </p:nvSpPr>
          <p:spPr>
            <a:xfrm flipH="1">
              <a:off x="5532120" y="4119480"/>
              <a:ext cx="12600" cy="609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直接连接符 98"/>
            <p:cNvSpPr/>
            <p:nvPr/>
          </p:nvSpPr>
          <p:spPr>
            <a:xfrm flipV="1">
              <a:off x="5545440" y="4026960"/>
              <a:ext cx="239400" cy="91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直接连接符 99"/>
            <p:cNvSpPr/>
            <p:nvPr/>
          </p:nvSpPr>
          <p:spPr>
            <a:xfrm flipV="1">
              <a:off x="5688000" y="3938040"/>
              <a:ext cx="90360" cy="34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100"/>
            <p:cNvSpPr/>
            <p:nvPr/>
          </p:nvSpPr>
          <p:spPr>
            <a:xfrm rot="20061600">
              <a:off x="3857400" y="4603320"/>
              <a:ext cx="453960" cy="76500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椭圆 101"/>
            <p:cNvSpPr/>
            <p:nvPr/>
          </p:nvSpPr>
          <p:spPr>
            <a:xfrm rot="20061600">
              <a:off x="3822840" y="4517640"/>
              <a:ext cx="549000" cy="9223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弧形 102"/>
            <p:cNvSpPr/>
            <p:nvPr/>
          </p:nvSpPr>
          <p:spPr>
            <a:xfrm rot="20040000">
              <a:off x="4109760" y="4351320"/>
              <a:ext cx="591840" cy="949320"/>
            </a:xfrm>
            <a:custGeom>
              <a:avLst/>
              <a:gdLst>
                <a:gd name="textAreaLeft" fmla="*/ 295920 w 591840"/>
                <a:gd name="textAreaRight" fmla="*/ 592200 w 591840"/>
                <a:gd name="textAreaTop" fmla="*/ 0 h 949320"/>
                <a:gd name="textAreaBottom" fmla="*/ 947880 h 949320"/>
              </a:gdLst>
              <a:ahLst/>
              <a:rect l="textAreaLeft" t="textAreaTop" r="textAreaRight" b="textAreaBottom"/>
              <a:pathLst>
                <a:path stroke="0" w="694246" h="1142107">
                  <a:moveTo>
                    <a:pt x="347124" y="0"/>
                  </a:moveTo>
                  <a:lnTo>
                    <a:pt x="347124" y="0"/>
                  </a:lnTo>
                  <a:arcTo wR="347123" hR="571054" stAng="-5399994" swAng="10633705"/>
                  <a:lnTo>
                    <a:pt x="347123" y="571054"/>
                  </a:lnTo>
                  <a:close/>
                </a:path>
                <a:path fill="none" w="694246" h="1142107">
                  <a:moveTo>
                    <a:pt x="347124" y="0"/>
                  </a:moveTo>
                  <a:lnTo>
                    <a:pt x="347124" y="0"/>
                  </a:lnTo>
                  <a:arcTo wR="347123" hR="571054" stAng="-5399994" swAng="10633705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直接连接符 103"/>
            <p:cNvSpPr/>
            <p:nvPr/>
          </p:nvSpPr>
          <p:spPr>
            <a:xfrm flipH="1">
              <a:off x="3913200" y="4398840"/>
              <a:ext cx="279360" cy="118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弧形 104"/>
            <p:cNvSpPr/>
            <p:nvPr/>
          </p:nvSpPr>
          <p:spPr>
            <a:xfrm flipV="1" rot="8784600">
              <a:off x="3801240" y="4509360"/>
              <a:ext cx="292320" cy="115560"/>
            </a:xfrm>
            <a:custGeom>
              <a:avLst/>
              <a:gdLst>
                <a:gd name="textAreaLeft" fmla="*/ 146160 w 292320"/>
                <a:gd name="textAreaRight" fmla="*/ 279360 w 292320"/>
                <a:gd name="textAreaTop" fmla="*/ -360 h 115560"/>
                <a:gd name="textAreaBottom" fmla="*/ 33480 h 115560"/>
              </a:gdLst>
              <a:ahLst/>
              <a:rect l="textAreaLeft" t="textAreaTop" r="textAreaRight" b="textAreaBottom"/>
              <a:pathLst>
                <a:path stroke="0" w="342470" h="139420">
                  <a:moveTo>
                    <a:pt x="171235" y="0"/>
                  </a:moveTo>
                  <a:lnTo>
                    <a:pt x="171235" y="0"/>
                  </a:lnTo>
                  <a:arcTo wR="171235" hR="69710" stAng="-5400000" swAng="4774834"/>
                  <a:lnTo>
                    <a:pt x="171235" y="69710"/>
                  </a:lnTo>
                  <a:close/>
                </a:path>
                <a:path fill="none" w="342470" h="139420">
                  <a:moveTo>
                    <a:pt x="171235" y="0"/>
                  </a:moveTo>
                  <a:lnTo>
                    <a:pt x="171235" y="0"/>
                  </a:lnTo>
                  <a:arcTo wR="171235" hR="69710" stAng="-5400000" swAng="4774834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直接连接符 105"/>
            <p:cNvSpPr/>
            <p:nvPr/>
          </p:nvSpPr>
          <p:spPr>
            <a:xfrm flipH="1">
              <a:off x="4316040" y="5240520"/>
              <a:ext cx="323640" cy="185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弧形 106"/>
            <p:cNvSpPr/>
            <p:nvPr/>
          </p:nvSpPr>
          <p:spPr>
            <a:xfrm flipV="1" rot="1771200">
              <a:off x="4200480" y="5304600"/>
              <a:ext cx="166680" cy="115560"/>
            </a:xfrm>
            <a:custGeom>
              <a:avLst/>
              <a:gdLst>
                <a:gd name="textAreaLeft" fmla="*/ 83160 w 166680"/>
                <a:gd name="textAreaRight" fmla="*/ 144720 w 166680"/>
                <a:gd name="textAreaTop" fmla="*/ 0 h 115560"/>
                <a:gd name="textAreaBottom" fmla="*/ 18360 h 115560"/>
              </a:gdLst>
              <a:ahLst/>
              <a:rect l="textAreaLeft" t="textAreaTop" r="textAreaRight" b="textAreaBottom"/>
              <a:pathLst>
                <a:path stroke="0" w="195432" h="139422">
                  <a:moveTo>
                    <a:pt x="97716" y="0"/>
                  </a:moveTo>
                  <a:lnTo>
                    <a:pt x="97716" y="0"/>
                  </a:lnTo>
                  <a:arcTo wR="97716" hR="69711" stAng="-5400000" swAng="3395734"/>
                  <a:lnTo>
                    <a:pt x="97716" y="69711"/>
                  </a:lnTo>
                  <a:close/>
                </a:path>
                <a:path fill="none" w="195432" h="139422">
                  <a:moveTo>
                    <a:pt x="97716" y="0"/>
                  </a:moveTo>
                  <a:lnTo>
                    <a:pt x="97716" y="0"/>
                  </a:lnTo>
                  <a:arcTo wR="97716" hR="69711" stAng="-5400000" swAng="3395734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107"/>
            <p:cNvSpPr/>
            <p:nvPr/>
          </p:nvSpPr>
          <p:spPr>
            <a:xfrm rot="20061600">
              <a:off x="4037040" y="4938840"/>
              <a:ext cx="77760" cy="1015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 108"/>
            <p:cNvSpPr/>
            <p:nvPr/>
          </p:nvSpPr>
          <p:spPr>
            <a:xfrm rot="20061600">
              <a:off x="3889080" y="4673160"/>
              <a:ext cx="376200" cy="637920"/>
            </a:xfrm>
            <a:custGeom>
              <a:avLst/>
              <a:gdLst/>
              <a:ahLst/>
              <a:rect l="l" t="t" r="r" b="b"/>
              <a:pathLst>
                <a:path w="441969" h="767374">
                  <a:moveTo>
                    <a:pt x="192717" y="498127"/>
                  </a:moveTo>
                  <a:lnTo>
                    <a:pt x="341623" y="705723"/>
                  </a:lnTo>
                  <a:lnTo>
                    <a:pt x="308082" y="737222"/>
                  </a:lnTo>
                  <a:cubicBezTo>
                    <a:pt x="281551" y="756637"/>
                    <a:pt x="252381" y="767374"/>
                    <a:pt x="221762" y="767374"/>
                  </a:cubicBezTo>
                  <a:cubicBezTo>
                    <a:pt x="160524" y="767374"/>
                    <a:pt x="105083" y="724428"/>
                    <a:pt x="64953" y="654994"/>
                  </a:cubicBezTo>
                  <a:lnTo>
                    <a:pt x="38033" y="598544"/>
                  </a:lnTo>
                  <a:close/>
                  <a:moveTo>
                    <a:pt x="2941" y="333217"/>
                  </a:moveTo>
                  <a:lnTo>
                    <a:pt x="97031" y="401902"/>
                  </a:lnTo>
                  <a:lnTo>
                    <a:pt x="12447" y="505278"/>
                  </a:lnTo>
                  <a:lnTo>
                    <a:pt x="4505" y="461014"/>
                  </a:lnTo>
                  <a:cubicBezTo>
                    <a:pt x="1551" y="436036"/>
                    <a:pt x="0" y="410175"/>
                    <a:pt x="0" y="383687"/>
                  </a:cubicBezTo>
                  <a:close/>
                  <a:moveTo>
                    <a:pt x="441969" y="410374"/>
                  </a:moveTo>
                  <a:lnTo>
                    <a:pt x="439019" y="461013"/>
                  </a:lnTo>
                  <a:cubicBezTo>
                    <a:pt x="433110" y="510967"/>
                    <a:pt x="421591" y="557385"/>
                    <a:pt x="405650" y="598210"/>
                  </a:cubicBezTo>
                  <a:lnTo>
                    <a:pt x="382618" y="646508"/>
                  </a:lnTo>
                  <a:lnTo>
                    <a:pt x="316874" y="443357"/>
                  </a:lnTo>
                  <a:close/>
                  <a:moveTo>
                    <a:pt x="305190" y="28599"/>
                  </a:moveTo>
                  <a:lnTo>
                    <a:pt x="308082" y="30152"/>
                  </a:lnTo>
                  <a:cubicBezTo>
                    <a:pt x="374410" y="78691"/>
                    <a:pt x="424248" y="181475"/>
                    <a:pt x="439019" y="306361"/>
                  </a:cubicBezTo>
                  <a:lnTo>
                    <a:pt x="439696" y="317982"/>
                  </a:lnTo>
                  <a:lnTo>
                    <a:pt x="297923" y="313282"/>
                  </a:lnTo>
                  <a:close/>
                  <a:moveTo>
                    <a:pt x="263524" y="7284"/>
                  </a:moveTo>
                  <a:lnTo>
                    <a:pt x="162053" y="287661"/>
                  </a:lnTo>
                  <a:lnTo>
                    <a:pt x="17052" y="236431"/>
                  </a:lnTo>
                  <a:lnTo>
                    <a:pt x="17427" y="234339"/>
                  </a:lnTo>
                  <a:cubicBezTo>
                    <a:pt x="51092" y="96628"/>
                    <a:pt x="129905" y="0"/>
                    <a:pt x="221762" y="0"/>
                  </a:cubicBez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直接连接符 109"/>
            <p:cNvSpPr/>
            <p:nvPr/>
          </p:nvSpPr>
          <p:spPr>
            <a:xfrm>
              <a:off x="3033720" y="4395600"/>
              <a:ext cx="579240" cy="296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弧形 110"/>
            <p:cNvSpPr/>
            <p:nvPr/>
          </p:nvSpPr>
          <p:spPr>
            <a:xfrm flipV="1" rot="1548000">
              <a:off x="3479760" y="4438440"/>
              <a:ext cx="366480" cy="261360"/>
            </a:xfrm>
            <a:custGeom>
              <a:avLst/>
              <a:gdLst>
                <a:gd name="textAreaLeft" fmla="*/ 183240 w 366480"/>
                <a:gd name="textAreaRight" fmla="*/ 348120 w 366480"/>
                <a:gd name="textAreaTop" fmla="*/ 0 h 261360"/>
                <a:gd name="textAreaBottom" fmla="*/ 73440 h 261360"/>
              </a:gdLst>
              <a:ahLst/>
              <a:rect l="textAreaLeft" t="textAreaTop" r="textAreaRight" b="textAreaBottom"/>
              <a:pathLst>
                <a:path stroke="0" w="429950" h="315130">
                  <a:moveTo>
                    <a:pt x="214975" y="0"/>
                  </a:moveTo>
                  <a:lnTo>
                    <a:pt x="214975" y="0"/>
                  </a:lnTo>
                  <a:arcTo wR="214975" hR="157565" stAng="-5400000" swAng="4220812"/>
                  <a:lnTo>
                    <a:pt x="214975" y="157565"/>
                  </a:lnTo>
                  <a:close/>
                </a:path>
                <a:path fill="none" w="429950" h="315130">
                  <a:moveTo>
                    <a:pt x="214975" y="0"/>
                  </a:moveTo>
                  <a:lnTo>
                    <a:pt x="214975" y="0"/>
                  </a:lnTo>
                  <a:arcTo wR="214975" hR="157565" stAng="-5400000" swAng="4220812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弧形 111"/>
            <p:cNvSpPr/>
            <p:nvPr/>
          </p:nvSpPr>
          <p:spPr>
            <a:xfrm rot="12710400">
              <a:off x="3018960" y="4288680"/>
              <a:ext cx="90360" cy="114120"/>
            </a:xfrm>
            <a:custGeom>
              <a:avLst/>
              <a:gdLst>
                <a:gd name="textAreaLeft" fmla="*/ 45360 w 90360"/>
                <a:gd name="textAreaRight" fmla="*/ 88920 w 90360"/>
                <a:gd name="textAreaTop" fmla="*/ 0 h 114120"/>
                <a:gd name="textAreaBottom" fmla="*/ 41760 h 114120"/>
              </a:gdLst>
              <a:ahLst/>
              <a:rect l="textAreaLeft" t="textAreaTop" r="textAreaRight" b="textAreaBottom"/>
              <a:pathLst>
                <a:path stroke="0" w="106092" h="137511">
                  <a:moveTo>
                    <a:pt x="53046" y="0"/>
                  </a:moveTo>
                  <a:lnTo>
                    <a:pt x="53046" y="0"/>
                  </a:lnTo>
                  <a:arcTo wR="53046" hR="68756" stAng="-5400000" swAng="4220788"/>
                  <a:lnTo>
                    <a:pt x="53046" y="68756"/>
                  </a:lnTo>
                  <a:close/>
                </a:path>
                <a:path fill="none" w="106092" h="137511">
                  <a:moveTo>
                    <a:pt x="53046" y="0"/>
                  </a:moveTo>
                  <a:lnTo>
                    <a:pt x="53046" y="0"/>
                  </a:lnTo>
                  <a:arcTo wR="53046" hR="68756" stAng="-5400000" swAng="4220788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直接连接符 112"/>
            <p:cNvSpPr/>
            <p:nvPr/>
          </p:nvSpPr>
          <p:spPr>
            <a:xfrm flipH="1">
              <a:off x="2866680" y="4336920"/>
              <a:ext cx="152280" cy="21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弧形 113"/>
            <p:cNvSpPr/>
            <p:nvPr/>
          </p:nvSpPr>
          <p:spPr>
            <a:xfrm flipV="1" rot="2004000">
              <a:off x="2793600" y="4294440"/>
              <a:ext cx="96840" cy="60120"/>
            </a:xfrm>
            <a:custGeom>
              <a:avLst/>
              <a:gdLst>
                <a:gd name="textAreaLeft" fmla="*/ 24120 w 96840"/>
                <a:gd name="textAreaRight" fmla="*/ 90720 w 96840"/>
                <a:gd name="textAreaTop" fmla="*/ -360 h 60120"/>
                <a:gd name="textAreaBottom" fmla="*/ 14760 h 60120"/>
              </a:gdLst>
              <a:ahLst/>
              <a:rect l="textAreaLeft" t="textAreaTop" r="textAreaRight" b="textAreaBottom"/>
              <a:pathLst>
                <a:path stroke="0" w="113537" h="72575">
                  <a:moveTo>
                    <a:pt x="28190" y="4934"/>
                  </a:moveTo>
                  <a:lnTo>
                    <a:pt x="28190" y="4934"/>
                  </a:lnTo>
                  <a:arcTo wR="56769" hR="36288" stAng="-7940940" swAng="6758686"/>
                  <a:lnTo>
                    <a:pt x="56769" y="36288"/>
                  </a:lnTo>
                  <a:close/>
                </a:path>
                <a:path fill="none" w="113537" h="72575">
                  <a:moveTo>
                    <a:pt x="28190" y="4934"/>
                  </a:moveTo>
                  <a:lnTo>
                    <a:pt x="28190" y="4934"/>
                  </a:lnTo>
                  <a:arcTo wR="56769" hR="36288" stAng="-7940940" swAng="6758686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直接连接符 114"/>
            <p:cNvSpPr/>
            <p:nvPr/>
          </p:nvSpPr>
          <p:spPr>
            <a:xfrm flipH="1">
              <a:off x="2805120" y="4290840"/>
              <a:ext cx="1440" cy="44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直接连接符 115"/>
            <p:cNvSpPr/>
            <p:nvPr/>
          </p:nvSpPr>
          <p:spPr>
            <a:xfrm>
              <a:off x="3024000" y="4092480"/>
              <a:ext cx="17280" cy="269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直接连接符 116"/>
            <p:cNvSpPr/>
            <p:nvPr/>
          </p:nvSpPr>
          <p:spPr>
            <a:xfrm>
              <a:off x="3090960" y="3986280"/>
              <a:ext cx="15840" cy="377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弧形 117"/>
            <p:cNvSpPr/>
            <p:nvPr/>
          </p:nvSpPr>
          <p:spPr>
            <a:xfrm flipV="1" rot="798000">
              <a:off x="3022560" y="4307760"/>
              <a:ext cx="95040" cy="61560"/>
            </a:xfrm>
            <a:custGeom>
              <a:avLst/>
              <a:gdLst>
                <a:gd name="textAreaLeft" fmla="*/ 27000 w 95040"/>
                <a:gd name="textAreaRight" fmla="*/ 89640 w 95040"/>
                <a:gd name="textAreaTop" fmla="*/ 0 h 61560"/>
                <a:gd name="textAreaBottom" fmla="*/ 16200 h 61560"/>
              </a:gdLst>
              <a:ahLst/>
              <a:rect l="textAreaLeft" t="textAreaTop" r="textAreaRight" b="textAreaBottom"/>
              <a:pathLst>
                <a:path stroke="0" w="111675" h="74486">
                  <a:moveTo>
                    <a:pt x="31876" y="3604"/>
                  </a:moveTo>
                  <a:lnTo>
                    <a:pt x="31876" y="3604"/>
                  </a:lnTo>
                  <a:arcTo wR="55838" hR="37243" stAng="-7527752" swAng="6345442"/>
                  <a:lnTo>
                    <a:pt x="55838" y="37243"/>
                  </a:lnTo>
                  <a:close/>
                </a:path>
                <a:path fill="none" w="111675" h="74486">
                  <a:moveTo>
                    <a:pt x="31876" y="3604"/>
                  </a:moveTo>
                  <a:lnTo>
                    <a:pt x="31876" y="3604"/>
                  </a:lnTo>
                  <a:arcTo wR="55838" hR="37243" stAng="-7527752" swAng="6345442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直接连接符 118"/>
            <p:cNvSpPr/>
            <p:nvPr/>
          </p:nvSpPr>
          <p:spPr>
            <a:xfrm flipV="1">
              <a:off x="4518000" y="4235040"/>
              <a:ext cx="384120" cy="115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直接连接符 119"/>
            <p:cNvSpPr/>
            <p:nvPr/>
          </p:nvSpPr>
          <p:spPr>
            <a:xfrm flipH="1" flipV="1">
              <a:off x="3433680" y="4255920"/>
              <a:ext cx="1079280" cy="95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直接连接符 120"/>
            <p:cNvSpPr/>
            <p:nvPr/>
          </p:nvSpPr>
          <p:spPr>
            <a:xfrm>
              <a:off x="3332160" y="4189320"/>
              <a:ext cx="104760" cy="66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直接连接符 121"/>
            <p:cNvSpPr/>
            <p:nvPr/>
          </p:nvSpPr>
          <p:spPr>
            <a:xfrm flipH="1">
              <a:off x="4513320" y="4244760"/>
              <a:ext cx="406080" cy="126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直接连接符 122"/>
            <p:cNvSpPr/>
            <p:nvPr/>
          </p:nvSpPr>
          <p:spPr>
            <a:xfrm>
              <a:off x="4514760" y="4351320"/>
              <a:ext cx="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直接连接符 123"/>
            <p:cNvSpPr/>
            <p:nvPr/>
          </p:nvSpPr>
          <p:spPr>
            <a:xfrm>
              <a:off x="3433680" y="4270320"/>
              <a:ext cx="1084320" cy="98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直接连接符 124"/>
            <p:cNvSpPr/>
            <p:nvPr/>
          </p:nvSpPr>
          <p:spPr>
            <a:xfrm flipH="1">
              <a:off x="3435480" y="425448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直接连接符 125"/>
            <p:cNvSpPr/>
            <p:nvPr/>
          </p:nvSpPr>
          <p:spPr>
            <a:xfrm>
              <a:off x="3328920" y="4205160"/>
              <a:ext cx="106200" cy="66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直接连接符 126"/>
            <p:cNvSpPr/>
            <p:nvPr/>
          </p:nvSpPr>
          <p:spPr>
            <a:xfrm flipH="1">
              <a:off x="3328560" y="4190760"/>
              <a:ext cx="4680" cy="17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直接连接符 127"/>
            <p:cNvSpPr/>
            <p:nvPr/>
          </p:nvSpPr>
          <p:spPr>
            <a:xfrm flipV="1">
              <a:off x="3333600" y="4118040"/>
              <a:ext cx="257040" cy="69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直接连接符 128"/>
            <p:cNvSpPr/>
            <p:nvPr/>
          </p:nvSpPr>
          <p:spPr>
            <a:xfrm>
              <a:off x="3584520" y="4021200"/>
              <a:ext cx="14040" cy="144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直接连接符 129"/>
            <p:cNvSpPr/>
            <p:nvPr/>
          </p:nvSpPr>
          <p:spPr>
            <a:xfrm>
              <a:off x="3598920" y="4163760"/>
              <a:ext cx="93600" cy="522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直接连接符 130"/>
            <p:cNvSpPr/>
            <p:nvPr/>
          </p:nvSpPr>
          <p:spPr>
            <a:xfrm>
              <a:off x="3675240" y="4064040"/>
              <a:ext cx="15840" cy="149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直接连接符 131"/>
            <p:cNvSpPr/>
            <p:nvPr/>
          </p:nvSpPr>
          <p:spPr>
            <a:xfrm flipV="1">
              <a:off x="3692520" y="4190760"/>
              <a:ext cx="87120" cy="23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直接连接符 132"/>
            <p:cNvSpPr/>
            <p:nvPr/>
          </p:nvSpPr>
          <p:spPr>
            <a:xfrm flipH="1" flipV="1">
              <a:off x="3772080" y="4084200"/>
              <a:ext cx="10800" cy="1062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直接连接符 133"/>
            <p:cNvSpPr/>
            <p:nvPr/>
          </p:nvSpPr>
          <p:spPr>
            <a:xfrm flipV="1">
              <a:off x="3684600" y="4082760"/>
              <a:ext cx="88560" cy="28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直接连接符 134"/>
            <p:cNvSpPr/>
            <p:nvPr/>
          </p:nvSpPr>
          <p:spPr>
            <a:xfrm>
              <a:off x="3589200" y="4064040"/>
              <a:ext cx="88560" cy="47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直接连接符 135"/>
            <p:cNvSpPr/>
            <p:nvPr/>
          </p:nvSpPr>
          <p:spPr>
            <a:xfrm>
              <a:off x="3749760" y="4037040"/>
              <a:ext cx="4680" cy="55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直接连接符 136"/>
            <p:cNvSpPr/>
            <p:nvPr/>
          </p:nvSpPr>
          <p:spPr>
            <a:xfrm>
              <a:off x="3583080" y="4017960"/>
              <a:ext cx="93600" cy="48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直接连接符 137"/>
            <p:cNvSpPr/>
            <p:nvPr/>
          </p:nvSpPr>
          <p:spPr>
            <a:xfrm flipV="1">
              <a:off x="3676680" y="4036680"/>
              <a:ext cx="74520" cy="29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直接连接符 138"/>
            <p:cNvSpPr/>
            <p:nvPr/>
          </p:nvSpPr>
          <p:spPr>
            <a:xfrm flipV="1">
              <a:off x="3584520" y="3995640"/>
              <a:ext cx="74520" cy="18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直接连接符 139"/>
            <p:cNvSpPr/>
            <p:nvPr/>
          </p:nvSpPr>
          <p:spPr>
            <a:xfrm>
              <a:off x="3711600" y="4011480"/>
              <a:ext cx="39600" cy="26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椭圆 140"/>
            <p:cNvSpPr/>
            <p:nvPr/>
          </p:nvSpPr>
          <p:spPr>
            <a:xfrm rot="20791800">
              <a:off x="2432160" y="3673080"/>
              <a:ext cx="245880" cy="67284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椭圆 141"/>
            <p:cNvSpPr/>
            <p:nvPr/>
          </p:nvSpPr>
          <p:spPr>
            <a:xfrm rot="20791800">
              <a:off x="2449440" y="3735360"/>
              <a:ext cx="203040" cy="5569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椭圆 142"/>
            <p:cNvSpPr/>
            <p:nvPr/>
          </p:nvSpPr>
          <p:spPr>
            <a:xfrm rot="20791800">
              <a:off x="2469960" y="3782520"/>
              <a:ext cx="158760" cy="46800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直接连接符 143"/>
            <p:cNvSpPr/>
            <p:nvPr/>
          </p:nvSpPr>
          <p:spPr>
            <a:xfrm flipV="1">
              <a:off x="2475000" y="3612960"/>
              <a:ext cx="268200" cy="69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直接连接符 144"/>
            <p:cNvSpPr/>
            <p:nvPr/>
          </p:nvSpPr>
          <p:spPr>
            <a:xfrm flipV="1">
              <a:off x="2635200" y="4293720"/>
              <a:ext cx="16956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直接连接符 145"/>
            <p:cNvSpPr/>
            <p:nvPr/>
          </p:nvSpPr>
          <p:spPr>
            <a:xfrm flipH="1">
              <a:off x="2866680" y="4282920"/>
              <a:ext cx="168120" cy="28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弧形 146"/>
            <p:cNvSpPr/>
            <p:nvPr/>
          </p:nvSpPr>
          <p:spPr>
            <a:xfrm flipV="1" rot="2004000">
              <a:off x="2793600" y="4246920"/>
              <a:ext cx="96840" cy="60120"/>
            </a:xfrm>
            <a:custGeom>
              <a:avLst/>
              <a:gdLst>
                <a:gd name="textAreaLeft" fmla="*/ 24120 w 96840"/>
                <a:gd name="textAreaRight" fmla="*/ 90720 w 96840"/>
                <a:gd name="textAreaTop" fmla="*/ -360 h 60120"/>
                <a:gd name="textAreaBottom" fmla="*/ 14760 h 60120"/>
              </a:gdLst>
              <a:ahLst/>
              <a:rect l="textAreaLeft" t="textAreaTop" r="textAreaRight" b="textAreaBottom"/>
              <a:pathLst>
                <a:path stroke="0" w="113537" h="72575">
                  <a:moveTo>
                    <a:pt x="28190" y="4934"/>
                  </a:moveTo>
                  <a:lnTo>
                    <a:pt x="28190" y="4934"/>
                  </a:lnTo>
                  <a:arcTo wR="56769" hR="36288" stAng="-7940940" swAng="6758686"/>
                  <a:lnTo>
                    <a:pt x="56769" y="36288"/>
                  </a:lnTo>
                  <a:close/>
                </a:path>
                <a:path fill="none" w="113537" h="72575">
                  <a:moveTo>
                    <a:pt x="28190" y="4934"/>
                  </a:moveTo>
                  <a:lnTo>
                    <a:pt x="28190" y="4934"/>
                  </a:lnTo>
                  <a:arcTo wR="56769" hR="36288" stAng="-7940940" swAng="6758686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直接连接符 147"/>
            <p:cNvSpPr/>
            <p:nvPr/>
          </p:nvSpPr>
          <p:spPr>
            <a:xfrm flipV="1">
              <a:off x="2806560" y="4205160"/>
              <a:ext cx="223560" cy="80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直接连接符 148"/>
            <p:cNvSpPr/>
            <p:nvPr/>
          </p:nvSpPr>
          <p:spPr>
            <a:xfrm flipV="1">
              <a:off x="3097080" y="4165200"/>
              <a:ext cx="26640" cy="12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直接连接符 149"/>
            <p:cNvSpPr/>
            <p:nvPr/>
          </p:nvSpPr>
          <p:spPr>
            <a:xfrm>
              <a:off x="3122640" y="4165560"/>
              <a:ext cx="72720" cy="48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直接连接符 150"/>
            <p:cNvSpPr/>
            <p:nvPr/>
          </p:nvSpPr>
          <p:spPr>
            <a:xfrm flipV="1">
              <a:off x="3102120" y="4215960"/>
              <a:ext cx="96840" cy="50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直接连接符 151"/>
            <p:cNvSpPr/>
            <p:nvPr/>
          </p:nvSpPr>
          <p:spPr>
            <a:xfrm>
              <a:off x="3197160" y="4216320"/>
              <a:ext cx="0" cy="69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弧形 152"/>
            <p:cNvSpPr/>
            <p:nvPr/>
          </p:nvSpPr>
          <p:spPr>
            <a:xfrm rot="20874600">
              <a:off x="2654280" y="3608280"/>
              <a:ext cx="301320" cy="587160"/>
            </a:xfrm>
            <a:custGeom>
              <a:avLst/>
              <a:gdLst>
                <a:gd name="textAreaLeft" fmla="*/ 150840 w 301320"/>
                <a:gd name="textAreaRight" fmla="*/ 301680 w 301320"/>
                <a:gd name="textAreaTop" fmla="*/ 0 h 587160"/>
                <a:gd name="textAreaBottom" fmla="*/ 299160 h 587160"/>
              </a:gdLst>
              <a:ahLst/>
              <a:rect l="textAreaLeft" t="textAreaTop" r="textAreaRight" b="textAreaBottom"/>
              <a:pathLst>
                <a:path stroke="0" w="353638" h="706655">
                  <a:moveTo>
                    <a:pt x="176819" y="0"/>
                  </a:moveTo>
                  <a:lnTo>
                    <a:pt x="176819" y="0"/>
                  </a:lnTo>
                  <a:arcTo wR="176819" hR="353328" stAng="-5400000" swAng="5529389"/>
                  <a:lnTo>
                    <a:pt x="176819" y="353328"/>
                  </a:lnTo>
                  <a:close/>
                </a:path>
                <a:path fill="none" w="353638" h="706655">
                  <a:moveTo>
                    <a:pt x="176819" y="0"/>
                  </a:moveTo>
                  <a:lnTo>
                    <a:pt x="176819" y="0"/>
                  </a:lnTo>
                  <a:arcTo wR="176819" hR="353328" stAng="-5400000" swAng="5529389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弧形 153"/>
            <p:cNvSpPr/>
            <p:nvPr/>
          </p:nvSpPr>
          <p:spPr>
            <a:xfrm rot="1294200">
              <a:off x="2736720" y="3976560"/>
              <a:ext cx="247320" cy="411120"/>
            </a:xfrm>
            <a:custGeom>
              <a:avLst/>
              <a:gdLst>
                <a:gd name="textAreaLeft" fmla="*/ 217800 w 247320"/>
                <a:gd name="textAreaRight" fmla="*/ 247680 w 247320"/>
                <a:gd name="textAreaTop" fmla="*/ 71640 h 411120"/>
                <a:gd name="textAreaBottom" fmla="*/ 205560 h 411120"/>
              </a:gdLst>
              <a:ahLst/>
              <a:rect l="textAreaLeft" t="textAreaTop" r="textAreaRight" b="textAreaBottom"/>
              <a:pathLst>
                <a:path stroke="0" w="290355" h="494658">
                  <a:moveTo>
                    <a:pt x="255481" y="86523"/>
                  </a:moveTo>
                  <a:lnTo>
                    <a:pt x="255481" y="86523"/>
                  </a:lnTo>
                  <a:arcTo wR="145178" hR="247329" stAng="-3333132" swAng="3333132"/>
                  <a:lnTo>
                    <a:pt x="145178" y="247329"/>
                  </a:lnTo>
                  <a:close/>
                </a:path>
                <a:path fill="none" w="290355" h="494658">
                  <a:moveTo>
                    <a:pt x="255481" y="86523"/>
                  </a:moveTo>
                  <a:lnTo>
                    <a:pt x="255481" y="86523"/>
                  </a:lnTo>
                  <a:arcTo wR="145178" hR="247329" stAng="-3333132" swAng="3333132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弧形 154"/>
            <p:cNvSpPr/>
            <p:nvPr/>
          </p:nvSpPr>
          <p:spPr>
            <a:xfrm rot="16200000">
              <a:off x="4794120" y="3976200"/>
              <a:ext cx="212400" cy="82440"/>
            </a:xfrm>
            <a:custGeom>
              <a:avLst/>
              <a:gdLst>
                <a:gd name="textAreaLeft" fmla="*/ 106200 w 212400"/>
                <a:gd name="textAreaRight" fmla="*/ 208800 w 212400"/>
                <a:gd name="textAreaTop" fmla="*/ 0 h 82440"/>
                <a:gd name="textAreaBottom" fmla="*/ 30240 h 82440"/>
              </a:gdLst>
              <a:ahLst/>
              <a:rect l="textAreaLeft" t="textAreaTop" r="textAreaRight" b="textAreaBottom"/>
              <a:pathLst>
                <a:path stroke="0" w="255924" h="96785">
                  <a:moveTo>
                    <a:pt x="127962" y="0"/>
                  </a:moveTo>
                  <a:lnTo>
                    <a:pt x="127962" y="0"/>
                  </a:lnTo>
                  <a:arcTo wR="127962" hR="48393" stAng="-5400000" swAng="5039441"/>
                  <a:lnTo>
                    <a:pt x="127962" y="48393"/>
                  </a:lnTo>
                  <a:close/>
                </a:path>
                <a:path fill="none" w="255924" h="96785">
                  <a:moveTo>
                    <a:pt x="127962" y="0"/>
                  </a:moveTo>
                  <a:lnTo>
                    <a:pt x="127962" y="0"/>
                  </a:lnTo>
                  <a:arcTo wR="127962" hR="48393" stAng="-5400000" swAng="5039441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5"/>
            <p:cNvSpPr/>
            <p:nvPr/>
          </p:nvSpPr>
          <p:spPr>
            <a:xfrm flipV="1">
              <a:off x="4889520" y="3849120"/>
              <a:ext cx="183960" cy="66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6"/>
            <p:cNvSpPr/>
            <p:nvPr/>
          </p:nvSpPr>
          <p:spPr>
            <a:xfrm flipV="1">
              <a:off x="5181840" y="3673440"/>
              <a:ext cx="480960" cy="141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直接连接符 157"/>
            <p:cNvSpPr/>
            <p:nvPr/>
          </p:nvSpPr>
          <p:spPr>
            <a:xfrm flipV="1">
              <a:off x="4878360" y="3963600"/>
              <a:ext cx="199800" cy="66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直接连接符 158"/>
            <p:cNvSpPr/>
            <p:nvPr/>
          </p:nvSpPr>
          <p:spPr>
            <a:xfrm flipV="1">
              <a:off x="5183280" y="3762000"/>
              <a:ext cx="529920" cy="168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59"/>
            <p:cNvSpPr/>
            <p:nvPr/>
          </p:nvSpPr>
          <p:spPr>
            <a:xfrm>
              <a:off x="5713560" y="3763800"/>
              <a:ext cx="79200" cy="29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弧形 160"/>
            <p:cNvSpPr/>
            <p:nvPr/>
          </p:nvSpPr>
          <p:spPr>
            <a:xfrm>
              <a:off x="5610240" y="3673440"/>
              <a:ext cx="102960" cy="180720"/>
            </a:xfrm>
            <a:custGeom>
              <a:avLst/>
              <a:gdLst>
                <a:gd name="textAreaLeft" fmla="*/ 51480 w 102960"/>
                <a:gd name="textAreaRight" fmla="*/ 103320 w 102960"/>
                <a:gd name="textAreaTop" fmla="*/ 0 h 180720"/>
                <a:gd name="textAreaBottom" fmla="*/ 90360 h 180720"/>
              </a:gdLst>
              <a:ahLst/>
              <a:rect l="textAreaLeft" t="textAreaTop" r="textAreaRight" b="textAreaBottom"/>
              <a:pathLst>
                <a:path stroke="0" w="120982" h="217726">
                  <a:moveTo>
                    <a:pt x="60491" y="0"/>
                  </a:moveTo>
                  <a:lnTo>
                    <a:pt x="60491" y="0"/>
                  </a:lnTo>
                  <a:arcTo wR="60491" hR="108863" stAng="-5400000" swAng="5400000"/>
                  <a:lnTo>
                    <a:pt x="60491" y="108863"/>
                  </a:lnTo>
                  <a:close/>
                </a:path>
                <a:path fill="none" w="120982" h="217726">
                  <a:moveTo>
                    <a:pt x="60491" y="0"/>
                  </a:moveTo>
                  <a:lnTo>
                    <a:pt x="60491" y="0"/>
                  </a:lnTo>
                  <a:arcTo wR="60491" hR="108863" stAng="-5400000" swAng="5400000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直接连接符 161"/>
            <p:cNvSpPr/>
            <p:nvPr/>
          </p:nvSpPr>
          <p:spPr>
            <a:xfrm>
              <a:off x="5062680" y="3557520"/>
              <a:ext cx="14040" cy="4950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直接连接符 162"/>
            <p:cNvSpPr/>
            <p:nvPr/>
          </p:nvSpPr>
          <p:spPr>
            <a:xfrm>
              <a:off x="5178600" y="3557520"/>
              <a:ext cx="7920" cy="4950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弧形 163"/>
            <p:cNvSpPr/>
            <p:nvPr/>
          </p:nvSpPr>
          <p:spPr>
            <a:xfrm flipV="1">
              <a:off x="5048280" y="3521880"/>
              <a:ext cx="142560" cy="44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4280"/>
                <a:gd name="textAreaBottom" fmla="*/ 37080 h 44280"/>
              </a:gdLst>
              <a:ahLst/>
              <a:rect l="textAreaLeft" t="textAreaTop" r="textAreaRight" b="textAreaBottom"/>
              <a:pathLst>
                <a:path stroke="0" w="167513" h="53477">
                  <a:moveTo>
                    <a:pt x="20496" y="44263"/>
                  </a:moveTo>
                  <a:lnTo>
                    <a:pt x="20495" y="44263"/>
                  </a:lnTo>
                  <a:arcTo wR="83757" hR="26739" stAng="9871001" swAng="12696831"/>
                  <a:lnTo>
                    <a:pt x="83757" y="26739"/>
                  </a:lnTo>
                  <a:close/>
                </a:path>
                <a:path fill="none" w="167513" h="53477">
                  <a:moveTo>
                    <a:pt x="20496" y="44263"/>
                  </a:moveTo>
                  <a:lnTo>
                    <a:pt x="20495" y="44263"/>
                  </a:lnTo>
                  <a:arcTo wR="83757" hR="26739" stAng="9871001" swAng="12696831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弧形 164"/>
            <p:cNvSpPr/>
            <p:nvPr/>
          </p:nvSpPr>
          <p:spPr>
            <a:xfrm flipV="1">
              <a:off x="5059440" y="4044240"/>
              <a:ext cx="144360" cy="45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-360 h 45720"/>
                <a:gd name="textAreaBottom" fmla="*/ 37800 h 45720"/>
              </a:gdLst>
              <a:ahLst/>
              <a:rect l="textAreaLeft" t="textAreaTop" r="textAreaRight" b="textAreaBottom"/>
              <a:pathLst>
                <a:path stroke="0" w="169373" h="55387">
                  <a:moveTo>
                    <a:pt x="20068" y="45594"/>
                  </a:moveTo>
                  <a:lnTo>
                    <a:pt x="20068" y="45594"/>
                  </a:lnTo>
                  <a:arcTo wR="84687" hR="27694" stAng="9871010" swAng="12696848"/>
                  <a:lnTo>
                    <a:pt x="84687" y="27694"/>
                  </a:lnTo>
                  <a:close/>
                </a:path>
                <a:path fill="none" w="169373" h="55387">
                  <a:moveTo>
                    <a:pt x="20068" y="45594"/>
                  </a:moveTo>
                  <a:lnTo>
                    <a:pt x="20068" y="45594"/>
                  </a:lnTo>
                  <a:arcTo wR="84687" hR="27694" stAng="9871010" swAng="12696848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弧形 165"/>
            <p:cNvSpPr/>
            <p:nvPr/>
          </p:nvSpPr>
          <p:spPr>
            <a:xfrm flipV="1">
              <a:off x="5052960" y="3480480"/>
              <a:ext cx="128520" cy="66600"/>
            </a:xfrm>
            <a:custGeom>
              <a:avLst/>
              <a:gdLst>
                <a:gd name="textAreaLeft" fmla="*/ 10800 w 128520"/>
                <a:gd name="textAreaRight" fmla="*/ 121680 w 128520"/>
                <a:gd name="textAreaTop" fmla="*/ 0 h 66600"/>
                <a:gd name="textAreaBottom" fmla="*/ 18360 h 66600"/>
              </a:gdLst>
              <a:ahLst/>
              <a:rect l="textAreaLeft" t="textAreaTop" r="textAreaRight" b="textAreaBottom"/>
              <a:pathLst>
                <a:path stroke="0" w="150761" h="80215">
                  <a:moveTo>
                    <a:pt x="12688" y="17838"/>
                  </a:moveTo>
                  <a:lnTo>
                    <a:pt x="12689" y="17838"/>
                  </a:lnTo>
                  <a:arcTo wR="75381" hR="40108" stAng="-9626645" swAng="8726448"/>
                  <a:lnTo>
                    <a:pt x="75381" y="40108"/>
                  </a:lnTo>
                  <a:close/>
                </a:path>
                <a:path fill="none" w="150761" h="80215">
                  <a:moveTo>
                    <a:pt x="12688" y="17838"/>
                  </a:moveTo>
                  <a:lnTo>
                    <a:pt x="12689" y="17838"/>
                  </a:lnTo>
                  <a:arcTo wR="75381" hR="40108" stAng="-9626645" swAng="8726448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直接连接符 166"/>
            <p:cNvSpPr/>
            <p:nvPr/>
          </p:nvSpPr>
          <p:spPr>
            <a:xfrm flipH="1">
              <a:off x="5796360" y="3373200"/>
              <a:ext cx="13320" cy="452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直接连接符 167"/>
            <p:cNvSpPr/>
            <p:nvPr/>
          </p:nvSpPr>
          <p:spPr>
            <a:xfrm flipH="1">
              <a:off x="5895000" y="3380040"/>
              <a:ext cx="21240" cy="4500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弧形 168"/>
            <p:cNvSpPr/>
            <p:nvPr/>
          </p:nvSpPr>
          <p:spPr>
            <a:xfrm flipV="1" rot="208200">
              <a:off x="5797800" y="3344400"/>
              <a:ext cx="131760" cy="410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360 h 41040"/>
                <a:gd name="textAreaBottom" fmla="*/ 34560 h 41040"/>
              </a:gdLst>
              <a:ahLst/>
              <a:rect l="textAreaLeft" t="textAreaTop" r="textAreaRight" b="textAreaBottom"/>
              <a:pathLst>
                <a:path stroke="0" w="154484" h="49657">
                  <a:moveTo>
                    <a:pt x="18730" y="41037"/>
                  </a:moveTo>
                  <a:lnTo>
                    <a:pt x="18730" y="41037"/>
                  </a:lnTo>
                  <a:arcTo wR="77242" hR="24829" stAng="9870972" swAng="12696867"/>
                  <a:lnTo>
                    <a:pt x="77242" y="24829"/>
                  </a:lnTo>
                  <a:close/>
                </a:path>
                <a:path fill="none" w="154484" h="49657">
                  <a:moveTo>
                    <a:pt x="18730" y="41037"/>
                  </a:moveTo>
                  <a:lnTo>
                    <a:pt x="18730" y="41037"/>
                  </a:lnTo>
                  <a:arcTo wR="77242" hR="24829" stAng="9870972" swAng="12696867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弧形 169"/>
            <p:cNvSpPr/>
            <p:nvPr/>
          </p:nvSpPr>
          <p:spPr>
            <a:xfrm flipV="1" rot="208200">
              <a:off x="5778720" y="3820680"/>
              <a:ext cx="131760" cy="410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360 h 41040"/>
                <a:gd name="textAreaBottom" fmla="*/ 34560 h 41040"/>
              </a:gdLst>
              <a:ahLst/>
              <a:rect l="textAreaLeft" t="textAreaTop" r="textAreaRight" b="textAreaBottom"/>
              <a:pathLst>
                <a:path stroke="0" w="154484" h="49657">
                  <a:moveTo>
                    <a:pt x="18730" y="41037"/>
                  </a:moveTo>
                  <a:lnTo>
                    <a:pt x="18730" y="41037"/>
                  </a:lnTo>
                  <a:arcTo wR="77242" hR="24829" stAng="9870972" swAng="12696867"/>
                  <a:lnTo>
                    <a:pt x="77242" y="24829"/>
                  </a:lnTo>
                  <a:close/>
                </a:path>
                <a:path fill="none" w="154484" h="49657">
                  <a:moveTo>
                    <a:pt x="18730" y="41037"/>
                  </a:moveTo>
                  <a:lnTo>
                    <a:pt x="18730" y="41037"/>
                  </a:lnTo>
                  <a:arcTo wR="77242" hR="24829" stAng="9870972" swAng="12696867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弧形 170"/>
            <p:cNvSpPr/>
            <p:nvPr/>
          </p:nvSpPr>
          <p:spPr>
            <a:xfrm flipV="1" rot="208200">
              <a:off x="5805360" y="3306600"/>
              <a:ext cx="115560" cy="61200"/>
            </a:xfrm>
            <a:custGeom>
              <a:avLst/>
              <a:gdLst>
                <a:gd name="textAreaLeft" fmla="*/ 9000 w 115560"/>
                <a:gd name="textAreaRight" fmla="*/ 109800 w 115560"/>
                <a:gd name="textAreaTop" fmla="*/ 360 h 61200"/>
                <a:gd name="textAreaBottom" fmla="*/ 17280 h 61200"/>
              </a:gdLst>
              <a:ahLst/>
              <a:rect l="textAreaLeft" t="textAreaTop" r="textAreaRight" b="textAreaBottom"/>
              <a:pathLst>
                <a:path stroke="0" w="135871" h="74485">
                  <a:moveTo>
                    <a:pt x="10922" y="16991"/>
                  </a:moveTo>
                  <a:lnTo>
                    <a:pt x="10922" y="16991"/>
                  </a:lnTo>
                  <a:arcTo wR="67936" hR="37243" stAng="-9626664" swAng="8726493"/>
                  <a:lnTo>
                    <a:pt x="67936" y="37243"/>
                  </a:lnTo>
                  <a:close/>
                </a:path>
                <a:path fill="none" w="135871" h="74485">
                  <a:moveTo>
                    <a:pt x="10922" y="16991"/>
                  </a:moveTo>
                  <a:lnTo>
                    <a:pt x="10922" y="16991"/>
                  </a:lnTo>
                  <a:arcTo wR="67936" hR="37243" stAng="-9626664" swAng="8726493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1"/>
            <p:cNvSpPr/>
            <p:nvPr/>
          </p:nvSpPr>
          <p:spPr>
            <a:xfrm>
              <a:off x="5108760" y="2952360"/>
              <a:ext cx="12600" cy="596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直接连接符 172"/>
            <p:cNvSpPr/>
            <p:nvPr/>
          </p:nvSpPr>
          <p:spPr>
            <a:xfrm>
              <a:off x="5064120" y="2981160"/>
              <a:ext cx="9360" cy="55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直接连接符 173"/>
            <p:cNvSpPr/>
            <p:nvPr/>
          </p:nvSpPr>
          <p:spPr>
            <a:xfrm>
              <a:off x="5157720" y="2873160"/>
              <a:ext cx="10800" cy="658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直接连接符 174"/>
            <p:cNvSpPr/>
            <p:nvPr/>
          </p:nvSpPr>
          <p:spPr>
            <a:xfrm flipH="1">
              <a:off x="5861160" y="2755800"/>
              <a:ext cx="17280" cy="609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直接连接符 175"/>
            <p:cNvSpPr/>
            <p:nvPr/>
          </p:nvSpPr>
          <p:spPr>
            <a:xfrm flipH="1">
              <a:off x="5818320" y="2712960"/>
              <a:ext cx="15840" cy="639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直接连接符 176"/>
            <p:cNvSpPr/>
            <p:nvPr/>
          </p:nvSpPr>
          <p:spPr>
            <a:xfrm flipH="1">
              <a:off x="5910480" y="2808000"/>
              <a:ext cx="17280" cy="544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椭圆 177"/>
            <p:cNvSpPr/>
            <p:nvPr/>
          </p:nvSpPr>
          <p:spPr>
            <a:xfrm rot="3087000">
              <a:off x="5265360" y="2835000"/>
              <a:ext cx="77760" cy="14436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78"/>
            <p:cNvSpPr/>
            <p:nvPr/>
          </p:nvSpPr>
          <p:spPr>
            <a:xfrm rot="3087000">
              <a:off x="5281920" y="2865240"/>
              <a:ext cx="41040" cy="7920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组合 179"/>
            <p:cNvGrpSpPr/>
            <p:nvPr/>
          </p:nvGrpSpPr>
          <p:grpSpPr>
            <a:xfrm>
              <a:off x="4967280" y="2857320"/>
              <a:ext cx="175680" cy="164160"/>
              <a:chOff x="4967280" y="2857320"/>
              <a:chExt cx="175680" cy="164160"/>
            </a:xfrm>
          </p:grpSpPr>
          <p:sp>
            <p:nvSpPr>
              <p:cNvPr id="698" name="椭圆 618"/>
              <p:cNvSpPr/>
              <p:nvPr/>
            </p:nvSpPr>
            <p:spPr>
              <a:xfrm rot="3087000">
                <a:off x="5012640" y="2860920"/>
                <a:ext cx="84960" cy="15696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椭圆 619"/>
              <p:cNvSpPr/>
              <p:nvPr/>
            </p:nvSpPr>
            <p:spPr>
              <a:xfrm rot="3087000">
                <a:off x="5029200" y="2893320"/>
                <a:ext cx="45000" cy="8712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组合 180"/>
            <p:cNvGrpSpPr/>
            <p:nvPr/>
          </p:nvGrpSpPr>
          <p:grpSpPr>
            <a:xfrm>
              <a:off x="4711680" y="2923560"/>
              <a:ext cx="162000" cy="151560"/>
              <a:chOff x="4711680" y="2923560"/>
              <a:chExt cx="162000" cy="151560"/>
            </a:xfrm>
          </p:grpSpPr>
          <p:sp>
            <p:nvSpPr>
              <p:cNvPr id="701" name="椭圆 616"/>
              <p:cNvSpPr/>
              <p:nvPr/>
            </p:nvSpPr>
            <p:spPr>
              <a:xfrm rot="3087000">
                <a:off x="4753440" y="2926440"/>
                <a:ext cx="78120" cy="14508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椭圆 617"/>
              <p:cNvSpPr/>
              <p:nvPr/>
            </p:nvSpPr>
            <p:spPr>
              <a:xfrm rot="3087000">
                <a:off x="4768560" y="2957040"/>
                <a:ext cx="41400" cy="7884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组合 181"/>
            <p:cNvGrpSpPr/>
            <p:nvPr/>
          </p:nvGrpSpPr>
          <p:grpSpPr>
            <a:xfrm>
              <a:off x="4471200" y="2945160"/>
              <a:ext cx="174960" cy="171000"/>
              <a:chOff x="4471200" y="2945160"/>
              <a:chExt cx="174960" cy="171000"/>
            </a:xfrm>
          </p:grpSpPr>
          <p:sp>
            <p:nvSpPr>
              <p:cNvPr id="704" name="椭圆 614"/>
              <p:cNvSpPr/>
              <p:nvPr/>
            </p:nvSpPr>
            <p:spPr>
              <a:xfrm rot="3087000">
                <a:off x="4503960" y="2962080"/>
                <a:ext cx="109440" cy="13680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椭圆 615"/>
              <p:cNvSpPr/>
              <p:nvPr/>
            </p:nvSpPr>
            <p:spPr>
              <a:xfrm rot="3087000">
                <a:off x="4525560" y="2990160"/>
                <a:ext cx="58680" cy="7380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组合 182"/>
            <p:cNvGrpSpPr/>
            <p:nvPr/>
          </p:nvGrpSpPr>
          <p:grpSpPr>
            <a:xfrm>
              <a:off x="5473440" y="2772360"/>
              <a:ext cx="160200" cy="148320"/>
              <a:chOff x="5473440" y="2772360"/>
              <a:chExt cx="160200" cy="148320"/>
            </a:xfrm>
          </p:grpSpPr>
          <p:sp>
            <p:nvSpPr>
              <p:cNvPr id="707" name="椭圆 612"/>
              <p:cNvSpPr/>
              <p:nvPr/>
            </p:nvSpPr>
            <p:spPr>
              <a:xfrm rot="3087000">
                <a:off x="5517360" y="2772720"/>
                <a:ext cx="72360" cy="14724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椭圆 613"/>
              <p:cNvSpPr/>
              <p:nvPr/>
            </p:nvSpPr>
            <p:spPr>
              <a:xfrm rot="3087000">
                <a:off x="5531400" y="2804040"/>
                <a:ext cx="37800" cy="8064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椭圆 183"/>
            <p:cNvSpPr/>
            <p:nvPr/>
          </p:nvSpPr>
          <p:spPr>
            <a:xfrm rot="2851200">
              <a:off x="5733720" y="2742840"/>
              <a:ext cx="75960" cy="12996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椭圆 184"/>
            <p:cNvSpPr/>
            <p:nvPr/>
          </p:nvSpPr>
          <p:spPr>
            <a:xfrm rot="2851200">
              <a:off x="5752080" y="2767680"/>
              <a:ext cx="39600" cy="6984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椭圆 185"/>
            <p:cNvSpPr/>
            <p:nvPr/>
          </p:nvSpPr>
          <p:spPr>
            <a:xfrm rot="2851200">
              <a:off x="5937840" y="2695680"/>
              <a:ext cx="74520" cy="12996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椭圆 186"/>
            <p:cNvSpPr/>
            <p:nvPr/>
          </p:nvSpPr>
          <p:spPr>
            <a:xfrm rot="2851200">
              <a:off x="5958000" y="2726640"/>
              <a:ext cx="37800" cy="6984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187"/>
            <p:cNvSpPr/>
            <p:nvPr/>
          </p:nvSpPr>
          <p:spPr>
            <a:xfrm rot="2601600">
              <a:off x="6147000" y="2666880"/>
              <a:ext cx="69840" cy="12528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188"/>
            <p:cNvSpPr/>
            <p:nvPr/>
          </p:nvSpPr>
          <p:spPr>
            <a:xfrm rot="2601600">
              <a:off x="6166080" y="2694960"/>
              <a:ext cx="31680" cy="6804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189"/>
            <p:cNvSpPr/>
            <p:nvPr/>
          </p:nvSpPr>
          <p:spPr>
            <a:xfrm rot="2601600">
              <a:off x="6372000" y="2620440"/>
              <a:ext cx="61560" cy="12348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椭圆 190"/>
            <p:cNvSpPr/>
            <p:nvPr/>
          </p:nvSpPr>
          <p:spPr>
            <a:xfrm rot="2601600">
              <a:off x="6391440" y="2648880"/>
              <a:ext cx="31680" cy="6804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91"/>
            <p:cNvSpPr/>
            <p:nvPr/>
          </p:nvSpPr>
          <p:spPr>
            <a:xfrm rot="2601600">
              <a:off x="6534000" y="2594880"/>
              <a:ext cx="69840" cy="11088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92"/>
            <p:cNvSpPr/>
            <p:nvPr/>
          </p:nvSpPr>
          <p:spPr>
            <a:xfrm rot="2601600">
              <a:off x="6553080" y="2619000"/>
              <a:ext cx="29880" cy="6156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93"/>
            <p:cNvSpPr/>
            <p:nvPr/>
          </p:nvSpPr>
          <p:spPr>
            <a:xfrm rot="2601600">
              <a:off x="6718680" y="2566440"/>
              <a:ext cx="69840" cy="11268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194"/>
            <p:cNvSpPr/>
            <p:nvPr/>
          </p:nvSpPr>
          <p:spPr>
            <a:xfrm rot="2601600">
              <a:off x="6737040" y="2591640"/>
              <a:ext cx="31680" cy="601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195"/>
            <p:cNvSpPr/>
            <p:nvPr/>
          </p:nvSpPr>
          <p:spPr>
            <a:xfrm rot="2601600">
              <a:off x="6885360" y="2523600"/>
              <a:ext cx="69840" cy="11268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196"/>
            <p:cNvSpPr/>
            <p:nvPr/>
          </p:nvSpPr>
          <p:spPr>
            <a:xfrm rot="2601600">
              <a:off x="6903720" y="2547720"/>
              <a:ext cx="29880" cy="6156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197"/>
            <p:cNvSpPr/>
            <p:nvPr/>
          </p:nvSpPr>
          <p:spPr>
            <a:xfrm rot="2601600">
              <a:off x="7032600" y="2501280"/>
              <a:ext cx="63360" cy="11268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椭圆 198"/>
            <p:cNvSpPr/>
            <p:nvPr/>
          </p:nvSpPr>
          <p:spPr>
            <a:xfrm rot="2601600">
              <a:off x="7048440" y="2523960"/>
              <a:ext cx="29880" cy="6156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椭圆 199"/>
            <p:cNvSpPr/>
            <p:nvPr/>
          </p:nvSpPr>
          <p:spPr>
            <a:xfrm rot="2601600">
              <a:off x="7178400" y="2468160"/>
              <a:ext cx="71280" cy="11268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椭圆 200"/>
            <p:cNvSpPr/>
            <p:nvPr/>
          </p:nvSpPr>
          <p:spPr>
            <a:xfrm rot="2601600">
              <a:off x="7200720" y="2488680"/>
              <a:ext cx="29880" cy="601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椭圆 201"/>
            <p:cNvSpPr/>
            <p:nvPr/>
          </p:nvSpPr>
          <p:spPr>
            <a:xfrm rot="2601600">
              <a:off x="7319880" y="2447280"/>
              <a:ext cx="64800" cy="10764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椭圆 202"/>
            <p:cNvSpPr/>
            <p:nvPr/>
          </p:nvSpPr>
          <p:spPr>
            <a:xfrm rot="2601600">
              <a:off x="7337160" y="2471400"/>
              <a:ext cx="29880" cy="5868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椭圆 203"/>
            <p:cNvSpPr/>
            <p:nvPr/>
          </p:nvSpPr>
          <p:spPr>
            <a:xfrm rot="2601600">
              <a:off x="7462800" y="2422080"/>
              <a:ext cx="61560" cy="9036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椭圆 204"/>
            <p:cNvSpPr/>
            <p:nvPr/>
          </p:nvSpPr>
          <p:spPr>
            <a:xfrm rot="2601600">
              <a:off x="7475400" y="2439720"/>
              <a:ext cx="29880" cy="5364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直接连接符 205"/>
            <p:cNvSpPr/>
            <p:nvPr/>
          </p:nvSpPr>
          <p:spPr>
            <a:xfrm flipV="1">
              <a:off x="4035600" y="2968200"/>
              <a:ext cx="372960" cy="68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直接连接符 206"/>
            <p:cNvSpPr/>
            <p:nvPr/>
          </p:nvSpPr>
          <p:spPr>
            <a:xfrm flipV="1">
              <a:off x="4805280" y="2884320"/>
              <a:ext cx="96840" cy="1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直接连接符 207"/>
            <p:cNvSpPr/>
            <p:nvPr/>
          </p:nvSpPr>
          <p:spPr>
            <a:xfrm flipH="1" flipV="1">
              <a:off x="4265280" y="2810880"/>
              <a:ext cx="239400" cy="260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直接连接符 208"/>
            <p:cNvSpPr/>
            <p:nvPr/>
          </p:nvSpPr>
          <p:spPr>
            <a:xfrm>
              <a:off x="4372200" y="2722320"/>
              <a:ext cx="239400" cy="266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弧形 209"/>
            <p:cNvSpPr/>
            <p:nvPr/>
          </p:nvSpPr>
          <p:spPr>
            <a:xfrm rot="18303600">
              <a:off x="4262400" y="2717280"/>
              <a:ext cx="149040" cy="145800"/>
            </a:xfrm>
            <a:custGeom>
              <a:avLst/>
              <a:gdLst>
                <a:gd name="textAreaLeft" fmla="*/ 14040 w 149040"/>
                <a:gd name="textAreaRight" fmla="*/ 148680 w 149040"/>
                <a:gd name="textAreaTop" fmla="*/ 0 h 145800"/>
                <a:gd name="textAreaBottom" fmla="*/ 63000 h 145800"/>
              </a:gdLst>
              <a:ahLst/>
              <a:rect l="textAreaLeft" t="textAreaTop" r="textAreaRight" b="textAreaBottom"/>
              <a:pathLst>
                <a:path stroke="0" w="179529" h="171235">
                  <a:moveTo>
                    <a:pt x="16967" y="35525"/>
                  </a:moveTo>
                  <a:lnTo>
                    <a:pt x="16967" y="35525"/>
                  </a:lnTo>
                  <a:arcTo wR="89765" hR="85618" stAng="-8728098" swAng="8289744"/>
                  <a:lnTo>
                    <a:pt x="89765" y="85618"/>
                  </a:lnTo>
                  <a:close/>
                </a:path>
                <a:path fill="none" w="179529" h="171235">
                  <a:moveTo>
                    <a:pt x="16967" y="35525"/>
                  </a:moveTo>
                  <a:lnTo>
                    <a:pt x="16967" y="35525"/>
                  </a:lnTo>
                  <a:arcTo wR="89765" hR="85618" stAng="-8728098" swAng="8289744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直接连接符 210"/>
            <p:cNvSpPr/>
            <p:nvPr/>
          </p:nvSpPr>
          <p:spPr>
            <a:xfrm>
              <a:off x="4572000" y="2865240"/>
              <a:ext cx="163440" cy="177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直接连接符 211"/>
            <p:cNvSpPr/>
            <p:nvPr/>
          </p:nvSpPr>
          <p:spPr>
            <a:xfrm flipH="1" flipV="1">
              <a:off x="4751280" y="2847240"/>
              <a:ext cx="98280" cy="107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直接连接符 212"/>
            <p:cNvSpPr/>
            <p:nvPr/>
          </p:nvSpPr>
          <p:spPr>
            <a:xfrm flipH="1" flipV="1">
              <a:off x="4809960" y="2782800"/>
              <a:ext cx="183960" cy="204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直接连接符 213"/>
            <p:cNvSpPr/>
            <p:nvPr/>
          </p:nvSpPr>
          <p:spPr>
            <a:xfrm flipH="1" flipV="1">
              <a:off x="4935600" y="2691720"/>
              <a:ext cx="180720" cy="199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弧形 214"/>
            <p:cNvSpPr/>
            <p:nvPr/>
          </p:nvSpPr>
          <p:spPr>
            <a:xfrm rot="19650600">
              <a:off x="4784400" y="2695320"/>
              <a:ext cx="166680" cy="85680"/>
            </a:xfrm>
            <a:custGeom>
              <a:avLst/>
              <a:gdLst>
                <a:gd name="textAreaLeft" fmla="*/ 83160 w 166680"/>
                <a:gd name="textAreaRight" fmla="*/ 166680 w 166680"/>
                <a:gd name="textAreaTop" fmla="*/ 0 h 85680"/>
                <a:gd name="textAreaBottom" fmla="*/ 42840 h 85680"/>
              </a:gdLst>
              <a:ahLst/>
              <a:rect l="textAreaLeft" t="textAreaTop" r="textAreaRight" b="textAreaBottom"/>
              <a:pathLst>
                <a:path stroke="0" w="195432" h="103133">
                  <a:moveTo>
                    <a:pt x="97716" y="0"/>
                  </a:moveTo>
                  <a:lnTo>
                    <a:pt x="97716" y="0"/>
                  </a:lnTo>
                  <a:arcTo wR="97716" hR="51567" stAng="-5400000" swAng="5400000"/>
                  <a:lnTo>
                    <a:pt x="97716" y="51567"/>
                  </a:lnTo>
                  <a:close/>
                </a:path>
                <a:path fill="none" w="195432" h="103133">
                  <a:moveTo>
                    <a:pt x="97716" y="0"/>
                  </a:moveTo>
                  <a:lnTo>
                    <a:pt x="97716" y="0"/>
                  </a:lnTo>
                  <a:arcTo wR="97716" hR="51567" stAng="-5400000" swAng="5400000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椭圆 215"/>
            <p:cNvSpPr/>
            <p:nvPr/>
          </p:nvSpPr>
          <p:spPr>
            <a:xfrm rot="2454000">
              <a:off x="4556160" y="2554200"/>
              <a:ext cx="263520" cy="35244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椭圆 216"/>
            <p:cNvSpPr/>
            <p:nvPr/>
          </p:nvSpPr>
          <p:spPr>
            <a:xfrm rot="2454000">
              <a:off x="4576320" y="2585880"/>
              <a:ext cx="220320" cy="29844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椭圆 217"/>
            <p:cNvSpPr/>
            <p:nvPr/>
          </p:nvSpPr>
          <p:spPr>
            <a:xfrm rot="2454000">
              <a:off x="5104080" y="2474640"/>
              <a:ext cx="245880" cy="33480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椭圆 218"/>
            <p:cNvSpPr/>
            <p:nvPr/>
          </p:nvSpPr>
          <p:spPr>
            <a:xfrm rot="2454000">
              <a:off x="5124240" y="2507760"/>
              <a:ext cx="206280" cy="28260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椭圆 219"/>
            <p:cNvSpPr/>
            <p:nvPr/>
          </p:nvSpPr>
          <p:spPr>
            <a:xfrm rot="2454000">
              <a:off x="5613120" y="2383920"/>
              <a:ext cx="193680" cy="33804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椭圆 220"/>
            <p:cNvSpPr/>
            <p:nvPr/>
          </p:nvSpPr>
          <p:spPr>
            <a:xfrm rot="2454000">
              <a:off x="5627520" y="2412720"/>
              <a:ext cx="160200" cy="28404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椭圆 221"/>
            <p:cNvSpPr/>
            <p:nvPr/>
          </p:nvSpPr>
          <p:spPr>
            <a:xfrm rot="2454000">
              <a:off x="6030720" y="2320560"/>
              <a:ext cx="180720" cy="315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222"/>
            <p:cNvSpPr/>
            <p:nvPr/>
          </p:nvSpPr>
          <p:spPr>
            <a:xfrm rot="2454000">
              <a:off x="6042240" y="2347560"/>
              <a:ext cx="152280" cy="26640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23"/>
            <p:cNvSpPr/>
            <p:nvPr/>
          </p:nvSpPr>
          <p:spPr>
            <a:xfrm rot="2454000">
              <a:off x="6443640" y="2252520"/>
              <a:ext cx="172800" cy="315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椭圆 224"/>
            <p:cNvSpPr/>
            <p:nvPr/>
          </p:nvSpPr>
          <p:spPr>
            <a:xfrm rot="2454000">
              <a:off x="6459840" y="2280600"/>
              <a:ext cx="142560" cy="25560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椭圆 225"/>
            <p:cNvSpPr/>
            <p:nvPr/>
          </p:nvSpPr>
          <p:spPr>
            <a:xfrm rot="2454000">
              <a:off x="6800760" y="2204280"/>
              <a:ext cx="158760" cy="29340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椭圆 226"/>
            <p:cNvSpPr/>
            <p:nvPr/>
          </p:nvSpPr>
          <p:spPr>
            <a:xfrm rot="2454000">
              <a:off x="6811920" y="2233080"/>
              <a:ext cx="128520" cy="24444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椭圆 227"/>
            <p:cNvSpPr/>
            <p:nvPr/>
          </p:nvSpPr>
          <p:spPr>
            <a:xfrm rot="2454000">
              <a:off x="7124400" y="2172960"/>
              <a:ext cx="139680" cy="26820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椭圆 228"/>
            <p:cNvSpPr/>
            <p:nvPr/>
          </p:nvSpPr>
          <p:spPr>
            <a:xfrm rot="2454000">
              <a:off x="7137360" y="2201400"/>
              <a:ext cx="109440" cy="21888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椭圆 229"/>
            <p:cNvSpPr/>
            <p:nvPr/>
          </p:nvSpPr>
          <p:spPr>
            <a:xfrm rot="2454000">
              <a:off x="7421400" y="2121840"/>
              <a:ext cx="122040" cy="26028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椭圆 230"/>
            <p:cNvSpPr/>
            <p:nvPr/>
          </p:nvSpPr>
          <p:spPr>
            <a:xfrm rot="2454000">
              <a:off x="7431480" y="2152440"/>
              <a:ext cx="96840" cy="21240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31"/>
            <p:cNvSpPr/>
            <p:nvPr/>
          </p:nvSpPr>
          <p:spPr>
            <a:xfrm>
              <a:off x="7391520" y="2022120"/>
              <a:ext cx="177480" cy="131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弧形 232"/>
            <p:cNvSpPr/>
            <p:nvPr/>
          </p:nvSpPr>
          <p:spPr>
            <a:xfrm rot="1560600">
              <a:off x="7238880" y="2016000"/>
              <a:ext cx="234720" cy="312480"/>
            </a:xfrm>
            <a:custGeom>
              <a:avLst/>
              <a:gdLst>
                <a:gd name="textAreaLeft" fmla="*/ 0 w 234720"/>
                <a:gd name="textAreaRight" fmla="*/ 85320 w 234720"/>
                <a:gd name="textAreaTop" fmla="*/ 5760 h 312480"/>
                <a:gd name="textAreaBottom" fmla="*/ 201240 h 312480"/>
              </a:gdLst>
              <a:ahLst/>
              <a:rect l="textAreaLeft" t="textAreaTop" r="textAreaRight" b="textAreaBottom"/>
              <a:pathLst>
                <a:path stroke="0" w="275465" h="376247">
                  <a:moveTo>
                    <a:pt x="5790" y="242096"/>
                  </a:moveTo>
                  <a:lnTo>
                    <a:pt x="5790" y="242096"/>
                  </a:lnTo>
                  <a:arcTo wR="137733" hR="188124" stAng="9465141" swAng="6034485"/>
                  <a:lnTo>
                    <a:pt x="137733" y="188124"/>
                  </a:lnTo>
                  <a:close/>
                </a:path>
                <a:path fill="none" w="275465" h="376247">
                  <a:moveTo>
                    <a:pt x="5790" y="242096"/>
                  </a:moveTo>
                  <a:lnTo>
                    <a:pt x="5790" y="242096"/>
                  </a:lnTo>
                  <a:arcTo wR="137733" hR="188124" stAng="9465141" swAng="6034485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33"/>
            <p:cNvSpPr/>
            <p:nvPr/>
          </p:nvSpPr>
          <p:spPr>
            <a:xfrm flipH="1">
              <a:off x="7156800" y="2077560"/>
              <a:ext cx="126720" cy="18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34"/>
            <p:cNvSpPr/>
            <p:nvPr/>
          </p:nvSpPr>
          <p:spPr>
            <a:xfrm flipH="1" flipV="1">
              <a:off x="7134480" y="2074680"/>
              <a:ext cx="150480" cy="131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35"/>
            <p:cNvSpPr/>
            <p:nvPr/>
          </p:nvSpPr>
          <p:spPr>
            <a:xfrm flipV="1">
              <a:off x="6853320" y="2117520"/>
              <a:ext cx="136440" cy="17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弧形 236"/>
            <p:cNvSpPr/>
            <p:nvPr/>
          </p:nvSpPr>
          <p:spPr>
            <a:xfrm rot="1560600">
              <a:off x="6948360" y="2057040"/>
              <a:ext cx="225360" cy="298440"/>
            </a:xfrm>
            <a:custGeom>
              <a:avLst/>
              <a:gdLst>
                <a:gd name="textAreaLeft" fmla="*/ 0 w 225360"/>
                <a:gd name="textAreaRight" fmla="*/ 117720 w 225360"/>
                <a:gd name="textAreaTop" fmla="*/ 0 h 298440"/>
                <a:gd name="textAreaBottom" fmla="*/ 202320 h 298440"/>
              </a:gdLst>
              <a:ahLst/>
              <a:rect l="textAreaLeft" t="textAreaTop" r="textAreaRight" b="textAreaBottom"/>
              <a:pathLst>
                <a:path stroke="0" w="264298" h="359057">
                  <a:moveTo>
                    <a:pt x="8606" y="243256"/>
                  </a:moveTo>
                  <a:lnTo>
                    <a:pt x="8606" y="243256"/>
                  </a:lnTo>
                  <a:arcTo wR="132149" hR="179529" stAng="9162842" swAng="7152145"/>
                  <a:lnTo>
                    <a:pt x="132149" y="179529"/>
                  </a:lnTo>
                  <a:close/>
                </a:path>
                <a:path fill="none" w="264298" h="359057">
                  <a:moveTo>
                    <a:pt x="8606" y="243256"/>
                  </a:moveTo>
                  <a:lnTo>
                    <a:pt x="8606" y="243256"/>
                  </a:lnTo>
                  <a:arcTo wR="132149" hR="179529" stAng="9162842" swAng="7152145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直接连接符 237"/>
            <p:cNvSpPr/>
            <p:nvPr/>
          </p:nvSpPr>
          <p:spPr>
            <a:xfrm>
              <a:off x="7296480" y="2266560"/>
              <a:ext cx="98280" cy="83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直接连接符 238"/>
            <p:cNvSpPr/>
            <p:nvPr/>
          </p:nvSpPr>
          <p:spPr>
            <a:xfrm flipH="1" flipV="1">
              <a:off x="6991200" y="2309040"/>
              <a:ext cx="114120" cy="98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直接连接符 239"/>
            <p:cNvSpPr/>
            <p:nvPr/>
          </p:nvSpPr>
          <p:spPr>
            <a:xfrm flipH="1" flipV="1">
              <a:off x="7440480" y="2351880"/>
              <a:ext cx="83880" cy="82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直接连接符 240"/>
            <p:cNvSpPr/>
            <p:nvPr/>
          </p:nvSpPr>
          <p:spPr>
            <a:xfrm flipH="1" flipV="1">
              <a:off x="7259400" y="2339280"/>
              <a:ext cx="129960" cy="122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直接连接符 241"/>
            <p:cNvSpPr/>
            <p:nvPr/>
          </p:nvSpPr>
          <p:spPr>
            <a:xfrm flipH="1" flipV="1">
              <a:off x="7269120" y="2324880"/>
              <a:ext cx="191880" cy="174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直接连接符 242"/>
            <p:cNvSpPr/>
            <p:nvPr/>
          </p:nvSpPr>
          <p:spPr>
            <a:xfrm flipH="1">
              <a:off x="6516720" y="2161800"/>
              <a:ext cx="142560" cy="17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弧形 243"/>
            <p:cNvSpPr/>
            <p:nvPr/>
          </p:nvSpPr>
          <p:spPr>
            <a:xfrm rot="1560600">
              <a:off x="6634080" y="2085840"/>
              <a:ext cx="225360" cy="299880"/>
            </a:xfrm>
            <a:custGeom>
              <a:avLst/>
              <a:gdLst>
                <a:gd name="textAreaLeft" fmla="*/ 0 w 225360"/>
                <a:gd name="textAreaRight" fmla="*/ 117720 w 225360"/>
                <a:gd name="textAreaTop" fmla="*/ 0 h 299880"/>
                <a:gd name="textAreaBottom" fmla="*/ 245880 h 299880"/>
              </a:gdLst>
              <a:ahLst/>
              <a:rect l="textAreaLeft" t="textAreaTop" r="textAreaRight" b="textAreaBottom"/>
              <a:pathLst>
                <a:path stroke="0" w="264298" h="360968">
                  <a:moveTo>
                    <a:pt x="30386" y="295628"/>
                  </a:moveTo>
                  <a:lnTo>
                    <a:pt x="30386" y="295628"/>
                  </a:lnTo>
                  <a:arcTo wR="132149" hR="180484" stAng="7888194" swAng="8426778"/>
                  <a:lnTo>
                    <a:pt x="132149" y="180484"/>
                  </a:lnTo>
                  <a:close/>
                </a:path>
                <a:path fill="none" w="264298" h="360968">
                  <a:moveTo>
                    <a:pt x="30386" y="295628"/>
                  </a:moveTo>
                  <a:lnTo>
                    <a:pt x="30386" y="295628"/>
                  </a:lnTo>
                  <a:arcTo wR="132149" hR="180484" stAng="7888194" swAng="8426778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直接连接符 244"/>
            <p:cNvSpPr/>
            <p:nvPr/>
          </p:nvSpPr>
          <p:spPr>
            <a:xfrm>
              <a:off x="6818400" y="2104560"/>
              <a:ext cx="160200" cy="136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直接连接符 245"/>
            <p:cNvSpPr/>
            <p:nvPr/>
          </p:nvSpPr>
          <p:spPr>
            <a:xfrm>
              <a:off x="6659640" y="2350800"/>
              <a:ext cx="122040" cy="110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46"/>
            <p:cNvSpPr/>
            <p:nvPr/>
          </p:nvSpPr>
          <p:spPr>
            <a:xfrm flipH="1" flipV="1">
              <a:off x="6481440" y="2145600"/>
              <a:ext cx="144360" cy="137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弧形 247"/>
            <p:cNvSpPr/>
            <p:nvPr/>
          </p:nvSpPr>
          <p:spPr>
            <a:xfrm rot="2591400">
              <a:off x="6273720" y="2117160"/>
              <a:ext cx="226800" cy="330120"/>
            </a:xfrm>
            <a:custGeom>
              <a:avLst/>
              <a:gdLst>
                <a:gd name="textAreaLeft" fmla="*/ 0 w 226800"/>
                <a:gd name="textAreaRight" fmla="*/ 122400 w 226800"/>
                <a:gd name="textAreaTop" fmla="*/ 288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stroke="0" w="266159" h="397255">
                  <a:moveTo>
                    <a:pt x="143480" y="396647"/>
                  </a:moveTo>
                  <a:lnTo>
                    <a:pt x="143480" y="396647"/>
                  </a:lnTo>
                  <a:arcTo wR="133080" hR="198628" stAng="5219598" swAng="10541217"/>
                  <a:lnTo>
                    <a:pt x="133080" y="198628"/>
                  </a:lnTo>
                  <a:close/>
                </a:path>
                <a:path fill="none" w="266159" h="397255">
                  <a:moveTo>
                    <a:pt x="143480" y="396647"/>
                  </a:moveTo>
                  <a:lnTo>
                    <a:pt x="143480" y="396647"/>
                  </a:lnTo>
                  <a:arcTo wR="133080" hR="198628" stAng="5219598" swAng="10541217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48"/>
            <p:cNvSpPr/>
            <p:nvPr/>
          </p:nvSpPr>
          <p:spPr>
            <a:xfrm>
              <a:off x="6278760" y="2409480"/>
              <a:ext cx="145800" cy="118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49"/>
            <p:cNvSpPr/>
            <p:nvPr/>
          </p:nvSpPr>
          <p:spPr>
            <a:xfrm flipV="1">
              <a:off x="6105600" y="2222280"/>
              <a:ext cx="185400" cy="252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50"/>
            <p:cNvSpPr/>
            <p:nvPr/>
          </p:nvSpPr>
          <p:spPr>
            <a:xfrm>
              <a:off x="6046920" y="2196720"/>
              <a:ext cx="180720" cy="161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弧形 251"/>
            <p:cNvSpPr/>
            <p:nvPr/>
          </p:nvSpPr>
          <p:spPr>
            <a:xfrm rot="2558400">
              <a:off x="5851440" y="2166480"/>
              <a:ext cx="206280" cy="315720"/>
            </a:xfrm>
            <a:custGeom>
              <a:avLst/>
              <a:gdLst>
                <a:gd name="textAreaLeft" fmla="*/ 0 w 206280"/>
                <a:gd name="textAreaRight" fmla="*/ 82800 w 206280"/>
                <a:gd name="textAreaTop" fmla="*/ 2880 h 315720"/>
                <a:gd name="textAreaBottom" fmla="*/ 308880 h 315720"/>
              </a:gdLst>
              <a:ahLst/>
              <a:rect l="textAreaLeft" t="textAreaTop" r="textAreaRight" b="textAreaBottom"/>
              <a:pathLst>
                <a:path stroke="0" w="241963" h="380065">
                  <a:moveTo>
                    <a:pt x="85224" y="371575"/>
                  </a:moveTo>
                  <a:lnTo>
                    <a:pt x="85224" y="371575"/>
                  </a:lnTo>
                  <a:arcTo wR="120982" hR="190033" stAng="6068547" swAng="9692253"/>
                  <a:lnTo>
                    <a:pt x="120982" y="190033"/>
                  </a:lnTo>
                  <a:close/>
                </a:path>
                <a:path fill="none" w="241963" h="380065">
                  <a:moveTo>
                    <a:pt x="85224" y="371575"/>
                  </a:moveTo>
                  <a:lnTo>
                    <a:pt x="85224" y="371575"/>
                  </a:lnTo>
                  <a:arcTo wR="120982" hR="190033" stAng="6068547" swAng="9692253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直接连接符 252"/>
            <p:cNvSpPr/>
            <p:nvPr/>
          </p:nvSpPr>
          <p:spPr>
            <a:xfrm flipH="1" flipV="1">
              <a:off x="5828040" y="2415960"/>
              <a:ext cx="187200" cy="180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直接连接符 253"/>
            <p:cNvSpPr/>
            <p:nvPr/>
          </p:nvSpPr>
          <p:spPr>
            <a:xfrm flipH="1" flipV="1">
              <a:off x="5640120" y="2262960"/>
              <a:ext cx="182520" cy="161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直接连接符 254"/>
            <p:cNvSpPr/>
            <p:nvPr/>
          </p:nvSpPr>
          <p:spPr>
            <a:xfrm flipH="1">
              <a:off x="5689440" y="2279520"/>
              <a:ext cx="166680" cy="21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弧形 255"/>
            <p:cNvSpPr/>
            <p:nvPr/>
          </p:nvSpPr>
          <p:spPr>
            <a:xfrm rot="2591400">
              <a:off x="5429520" y="2231280"/>
              <a:ext cx="225360" cy="328320"/>
            </a:xfrm>
            <a:custGeom>
              <a:avLst/>
              <a:gdLst>
                <a:gd name="textAreaLeft" fmla="*/ 0 w 225360"/>
                <a:gd name="textAreaRight" fmla="*/ 121680 w 225360"/>
                <a:gd name="textAreaTop" fmla="*/ 288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stroke="0" w="264298" h="395345">
                  <a:moveTo>
                    <a:pt x="142499" y="394738"/>
                  </a:moveTo>
                  <a:lnTo>
                    <a:pt x="142499" y="394738"/>
                  </a:lnTo>
                  <a:arcTo wR="132149" hR="197673" stAng="5219614" swAng="10541177"/>
                  <a:lnTo>
                    <a:pt x="132149" y="197673"/>
                  </a:lnTo>
                  <a:close/>
                </a:path>
                <a:path fill="none" w="264298" h="395345">
                  <a:moveTo>
                    <a:pt x="142499" y="394738"/>
                  </a:moveTo>
                  <a:lnTo>
                    <a:pt x="142499" y="394738"/>
                  </a:lnTo>
                  <a:arcTo wR="132149" hR="197673" stAng="5219614" swAng="10541177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直接连接符 256"/>
            <p:cNvSpPr/>
            <p:nvPr/>
          </p:nvSpPr>
          <p:spPr>
            <a:xfrm>
              <a:off x="5432400" y="2522160"/>
              <a:ext cx="163440" cy="158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直接连接符 257"/>
            <p:cNvSpPr/>
            <p:nvPr/>
          </p:nvSpPr>
          <p:spPr>
            <a:xfrm flipH="1">
              <a:off x="5205240" y="2342880"/>
              <a:ext cx="231480" cy="31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弧形 258"/>
            <p:cNvSpPr/>
            <p:nvPr/>
          </p:nvSpPr>
          <p:spPr>
            <a:xfrm rot="2591400">
              <a:off x="4933800" y="2289960"/>
              <a:ext cx="226800" cy="339480"/>
            </a:xfrm>
            <a:custGeom>
              <a:avLst/>
              <a:gdLst>
                <a:gd name="textAreaLeft" fmla="*/ 0 w 226800"/>
                <a:gd name="textAreaRight" fmla="*/ 122400 w 226800"/>
                <a:gd name="textAreaTop" fmla="*/ 288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stroke="0" w="266159" h="408714">
                  <a:moveTo>
                    <a:pt x="143778" y="408053"/>
                  </a:moveTo>
                  <a:lnTo>
                    <a:pt x="143778" y="408053"/>
                  </a:lnTo>
                  <a:arcTo wR="133080" hR="204357" stAng="5219600" swAng="10541215"/>
                  <a:lnTo>
                    <a:pt x="133080" y="204357"/>
                  </a:lnTo>
                  <a:close/>
                </a:path>
                <a:path fill="none" w="266159" h="408714">
                  <a:moveTo>
                    <a:pt x="143778" y="408053"/>
                  </a:moveTo>
                  <a:lnTo>
                    <a:pt x="143778" y="408053"/>
                  </a:lnTo>
                  <a:arcTo wR="133080" hR="204357" stAng="5219600" swAng="10541215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直接连接符 259"/>
            <p:cNvSpPr/>
            <p:nvPr/>
          </p:nvSpPr>
          <p:spPr>
            <a:xfrm>
              <a:off x="5148360" y="2323800"/>
              <a:ext cx="191880" cy="191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直接连接符 260"/>
            <p:cNvSpPr/>
            <p:nvPr/>
          </p:nvSpPr>
          <p:spPr>
            <a:xfrm>
              <a:off x="4935600" y="2589120"/>
              <a:ext cx="179280" cy="179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直接连接符 261"/>
            <p:cNvSpPr/>
            <p:nvPr/>
          </p:nvSpPr>
          <p:spPr>
            <a:xfrm flipH="1">
              <a:off x="4682880" y="2414160"/>
              <a:ext cx="260280" cy="34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62"/>
            <p:cNvSpPr/>
            <p:nvPr/>
          </p:nvSpPr>
          <p:spPr>
            <a:xfrm flipH="1" flipV="1">
              <a:off x="4652640" y="2418840"/>
              <a:ext cx="153720" cy="177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弧形 263"/>
            <p:cNvSpPr/>
            <p:nvPr/>
          </p:nvSpPr>
          <p:spPr>
            <a:xfrm rot="2591400">
              <a:off x="4387680" y="2374200"/>
              <a:ext cx="280800" cy="377640"/>
            </a:xfrm>
            <a:custGeom>
              <a:avLst/>
              <a:gdLst>
                <a:gd name="textAreaLeft" fmla="*/ 0 w 280800"/>
                <a:gd name="textAreaRight" fmla="*/ 150480 w 280800"/>
                <a:gd name="textAreaTop" fmla="*/ 36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stroke="0" w="329442" h="454551">
                  <a:moveTo>
                    <a:pt x="176627" y="453957"/>
                  </a:moveTo>
                  <a:lnTo>
                    <a:pt x="176627" y="453957"/>
                  </a:lnTo>
                  <a:arcTo wR="164721" hR="227276" stAng="5219605" swAng="10809484"/>
                  <a:lnTo>
                    <a:pt x="164721" y="227276"/>
                  </a:lnTo>
                  <a:close/>
                </a:path>
                <a:path fill="none" w="329442" h="454551">
                  <a:moveTo>
                    <a:pt x="176627" y="453957"/>
                  </a:moveTo>
                  <a:lnTo>
                    <a:pt x="176627" y="453957"/>
                  </a:lnTo>
                  <a:arcTo wR="164721" hR="227276" stAng="5219605" swAng="10809484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64"/>
            <p:cNvSpPr/>
            <p:nvPr/>
          </p:nvSpPr>
          <p:spPr>
            <a:xfrm>
              <a:off x="4403880" y="2707920"/>
              <a:ext cx="164880" cy="155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65"/>
            <p:cNvSpPr/>
            <p:nvPr/>
          </p:nvSpPr>
          <p:spPr>
            <a:xfrm flipV="1">
              <a:off x="4141800" y="2493360"/>
              <a:ext cx="261720" cy="34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66"/>
            <p:cNvSpPr/>
            <p:nvPr/>
          </p:nvSpPr>
          <p:spPr>
            <a:xfrm flipH="1">
              <a:off x="4030560" y="2528640"/>
              <a:ext cx="110880" cy="5140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67"/>
            <p:cNvSpPr/>
            <p:nvPr/>
          </p:nvSpPr>
          <p:spPr>
            <a:xfrm flipV="1">
              <a:off x="4564080" y="2927160"/>
              <a:ext cx="63360" cy="9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直接连接符 268"/>
            <p:cNvSpPr/>
            <p:nvPr/>
          </p:nvSpPr>
          <p:spPr>
            <a:xfrm flipV="1">
              <a:off x="5073840" y="2836800"/>
              <a:ext cx="58680" cy="7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直接连接符 269"/>
            <p:cNvSpPr/>
            <p:nvPr/>
          </p:nvSpPr>
          <p:spPr>
            <a:xfrm flipH="1" flipV="1">
              <a:off x="5057640" y="2766600"/>
              <a:ext cx="190440" cy="183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直接连接符 270"/>
            <p:cNvSpPr/>
            <p:nvPr/>
          </p:nvSpPr>
          <p:spPr>
            <a:xfrm flipH="1" flipV="1">
              <a:off x="5268600" y="2763360"/>
              <a:ext cx="91800" cy="98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直接连接符 271"/>
            <p:cNvSpPr/>
            <p:nvPr/>
          </p:nvSpPr>
          <p:spPr>
            <a:xfrm flipH="1" flipV="1">
              <a:off x="5338800" y="2707560"/>
              <a:ext cx="156960" cy="182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直接连接符 272"/>
            <p:cNvSpPr/>
            <p:nvPr/>
          </p:nvSpPr>
          <p:spPr>
            <a:xfrm flipH="1" flipV="1">
              <a:off x="5430960" y="2593440"/>
              <a:ext cx="180720" cy="207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直接连接符 273"/>
            <p:cNvSpPr/>
            <p:nvPr/>
          </p:nvSpPr>
          <p:spPr>
            <a:xfrm flipH="1" flipV="1">
              <a:off x="5538600" y="2664720"/>
              <a:ext cx="185400" cy="185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直接连接符 274"/>
            <p:cNvSpPr/>
            <p:nvPr/>
          </p:nvSpPr>
          <p:spPr>
            <a:xfrm flipH="1" flipV="1">
              <a:off x="5727600" y="2658600"/>
              <a:ext cx="91800" cy="1062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直接连接符 275"/>
            <p:cNvSpPr/>
            <p:nvPr/>
          </p:nvSpPr>
          <p:spPr>
            <a:xfrm flipH="1" flipV="1">
              <a:off x="5764320" y="2633400"/>
              <a:ext cx="163440" cy="171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直接连接符 276"/>
            <p:cNvSpPr/>
            <p:nvPr/>
          </p:nvSpPr>
          <p:spPr>
            <a:xfrm flipH="1" flipV="1">
              <a:off x="5837040" y="2523960"/>
              <a:ext cx="185400" cy="195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直接连接符 277"/>
            <p:cNvSpPr/>
            <p:nvPr/>
          </p:nvSpPr>
          <p:spPr>
            <a:xfrm flipH="1" flipV="1">
              <a:off x="5913360" y="2545560"/>
              <a:ext cx="223560" cy="230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78"/>
            <p:cNvSpPr/>
            <p:nvPr/>
          </p:nvSpPr>
          <p:spPr>
            <a:xfrm flipH="1" flipV="1">
              <a:off x="6131160" y="2585520"/>
              <a:ext cx="95040" cy="98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79"/>
            <p:cNvSpPr/>
            <p:nvPr/>
          </p:nvSpPr>
          <p:spPr>
            <a:xfrm flipH="1" flipV="1">
              <a:off x="6184800" y="2542680"/>
              <a:ext cx="174600" cy="185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80"/>
            <p:cNvSpPr/>
            <p:nvPr/>
          </p:nvSpPr>
          <p:spPr>
            <a:xfrm flipH="1" flipV="1">
              <a:off x="6287760" y="2487240"/>
              <a:ext cx="158760" cy="150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81"/>
            <p:cNvSpPr/>
            <p:nvPr/>
          </p:nvSpPr>
          <p:spPr>
            <a:xfrm flipH="1" flipV="1">
              <a:off x="6332760" y="2499840"/>
              <a:ext cx="196560" cy="191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82"/>
            <p:cNvSpPr/>
            <p:nvPr/>
          </p:nvSpPr>
          <p:spPr>
            <a:xfrm flipH="1" flipV="1">
              <a:off x="6521760" y="2528280"/>
              <a:ext cx="87120" cy="82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83"/>
            <p:cNvSpPr/>
            <p:nvPr/>
          </p:nvSpPr>
          <p:spPr>
            <a:xfrm flipH="1" flipV="1">
              <a:off x="6554520" y="2502720"/>
              <a:ext cx="158760" cy="1602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直接连接符 284"/>
            <p:cNvSpPr/>
            <p:nvPr/>
          </p:nvSpPr>
          <p:spPr>
            <a:xfrm flipH="1" flipV="1">
              <a:off x="6629760" y="2421720"/>
              <a:ext cx="163440" cy="1602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直接连接符 285"/>
            <p:cNvSpPr/>
            <p:nvPr/>
          </p:nvSpPr>
          <p:spPr>
            <a:xfrm flipH="1" flipV="1">
              <a:off x="6657840" y="2421720"/>
              <a:ext cx="222120" cy="198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直接连接符 286"/>
            <p:cNvSpPr/>
            <p:nvPr/>
          </p:nvSpPr>
          <p:spPr>
            <a:xfrm flipH="1" flipV="1">
              <a:off x="6866280" y="2458800"/>
              <a:ext cx="93600" cy="80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直接连接符 287"/>
            <p:cNvSpPr/>
            <p:nvPr/>
          </p:nvSpPr>
          <p:spPr>
            <a:xfrm flipH="1" flipV="1">
              <a:off x="6887880" y="2445840"/>
              <a:ext cx="136440" cy="152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直接连接符 288"/>
            <p:cNvSpPr/>
            <p:nvPr/>
          </p:nvSpPr>
          <p:spPr>
            <a:xfrm flipH="1" flipV="1">
              <a:off x="6964560" y="2370960"/>
              <a:ext cx="139680" cy="145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直接连接符 289"/>
            <p:cNvSpPr/>
            <p:nvPr/>
          </p:nvSpPr>
          <p:spPr>
            <a:xfrm flipH="1" flipV="1">
              <a:off x="6972480" y="2358360"/>
              <a:ext cx="203040" cy="206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直接连接符 290"/>
            <p:cNvSpPr/>
            <p:nvPr/>
          </p:nvSpPr>
          <p:spPr>
            <a:xfrm flipH="1" flipV="1">
              <a:off x="7175880" y="2406240"/>
              <a:ext cx="79200" cy="77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直接连接符 291"/>
            <p:cNvSpPr/>
            <p:nvPr/>
          </p:nvSpPr>
          <p:spPr>
            <a:xfrm flipH="1" flipV="1">
              <a:off x="7254720" y="2483640"/>
              <a:ext cx="52200" cy="522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直接连接符 292"/>
            <p:cNvSpPr/>
            <p:nvPr/>
          </p:nvSpPr>
          <p:spPr>
            <a:xfrm flipV="1">
              <a:off x="7359840" y="2430360"/>
              <a:ext cx="21960" cy="2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直接连接符 293"/>
            <p:cNvSpPr/>
            <p:nvPr/>
          </p:nvSpPr>
          <p:spPr>
            <a:xfrm>
              <a:off x="7074000" y="2482560"/>
              <a:ext cx="205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294"/>
            <p:cNvSpPr/>
            <p:nvPr/>
          </p:nvSpPr>
          <p:spPr>
            <a:xfrm flipV="1">
              <a:off x="6751800" y="2539440"/>
              <a:ext cx="36360" cy="4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295"/>
            <p:cNvSpPr/>
            <p:nvPr/>
          </p:nvSpPr>
          <p:spPr>
            <a:xfrm flipV="1">
              <a:off x="6924960" y="2505960"/>
              <a:ext cx="20520" cy="4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296"/>
            <p:cNvSpPr/>
            <p:nvPr/>
          </p:nvSpPr>
          <p:spPr>
            <a:xfrm flipV="1">
              <a:off x="6572520" y="2568240"/>
              <a:ext cx="45720" cy="7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297"/>
            <p:cNvSpPr/>
            <p:nvPr/>
          </p:nvSpPr>
          <p:spPr>
            <a:xfrm flipV="1">
              <a:off x="6410520" y="2598480"/>
              <a:ext cx="23760" cy="7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298"/>
            <p:cNvSpPr/>
            <p:nvPr/>
          </p:nvSpPr>
          <p:spPr>
            <a:xfrm flipV="1">
              <a:off x="6193080" y="2633400"/>
              <a:ext cx="75960" cy="10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299"/>
            <p:cNvSpPr/>
            <p:nvPr/>
          </p:nvSpPr>
          <p:spPr>
            <a:xfrm flipV="1">
              <a:off x="5983560" y="2674440"/>
              <a:ext cx="53640" cy="6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直接连接符 300"/>
            <p:cNvSpPr/>
            <p:nvPr/>
          </p:nvSpPr>
          <p:spPr>
            <a:xfrm flipV="1">
              <a:off x="5780160" y="2712960"/>
              <a:ext cx="55440" cy="7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直接连接符 301"/>
            <p:cNvSpPr/>
            <p:nvPr/>
          </p:nvSpPr>
          <p:spPr>
            <a:xfrm flipV="1">
              <a:off x="5573880" y="2747880"/>
              <a:ext cx="48960" cy="7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直接连接符 302"/>
            <p:cNvSpPr/>
            <p:nvPr/>
          </p:nvSpPr>
          <p:spPr>
            <a:xfrm flipV="1">
              <a:off x="5305680" y="2790360"/>
              <a:ext cx="101520" cy="14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弧形 303"/>
            <p:cNvSpPr/>
            <p:nvPr/>
          </p:nvSpPr>
          <p:spPr>
            <a:xfrm>
              <a:off x="6642360" y="2328480"/>
              <a:ext cx="82440" cy="104760"/>
            </a:xfrm>
            <a:custGeom>
              <a:avLst/>
              <a:gdLst>
                <a:gd name="textAreaLeft" fmla="*/ 0 w 82440"/>
                <a:gd name="textAreaRight" fmla="*/ 19800 w 82440"/>
                <a:gd name="textAreaTop" fmla="*/ 58680 h 104760"/>
                <a:gd name="textAreaBottom" fmla="*/ 97200 h 104760"/>
              </a:gdLst>
              <a:ahLst/>
              <a:rect l="textAreaLeft" t="textAreaTop" r="textAreaRight" b="textAreaBottom"/>
              <a:pathLst>
                <a:path stroke="0" w="96785" h="126052">
                  <a:moveTo>
                    <a:pt x="23202" y="116840"/>
                  </a:moveTo>
                  <a:lnTo>
                    <a:pt x="23202" y="116840"/>
                  </a:lnTo>
                  <a:arcTo wR="48393" hR="63026" stAng="6905040" swAng="3372717"/>
                  <a:lnTo>
                    <a:pt x="48393" y="63026"/>
                  </a:lnTo>
                  <a:close/>
                </a:path>
                <a:path fill="none" w="96785" h="126052">
                  <a:moveTo>
                    <a:pt x="23202" y="116840"/>
                  </a:moveTo>
                  <a:lnTo>
                    <a:pt x="23202" y="116840"/>
                  </a:lnTo>
                  <a:arcTo wR="48393" hR="63026" stAng="6905040" swAng="3372717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弧形 304"/>
            <p:cNvSpPr/>
            <p:nvPr/>
          </p:nvSpPr>
          <p:spPr>
            <a:xfrm>
              <a:off x="6309000" y="2352240"/>
              <a:ext cx="145800" cy="169560"/>
            </a:xfrm>
            <a:custGeom>
              <a:avLst/>
              <a:gdLst>
                <a:gd name="textAreaLeft" fmla="*/ 0 w 145800"/>
                <a:gd name="textAreaRight" fmla="*/ 25920 w 145800"/>
                <a:gd name="textAreaTop" fmla="*/ 79920 h 169560"/>
                <a:gd name="textAreaBottom" fmla="*/ 149760 h 169560"/>
              </a:gdLst>
              <a:ahLst/>
              <a:rect l="textAreaLeft" t="textAreaTop" r="textAreaRight" b="textAreaBottom"/>
              <a:pathLst>
                <a:path stroke="0" w="171235" h="204358">
                  <a:moveTo>
                    <a:pt x="30399" y="180267"/>
                  </a:moveTo>
                  <a:lnTo>
                    <a:pt x="30399" y="180267"/>
                  </a:lnTo>
                  <a:arcTo wR="85618" hR="102179" stAng="7515935" swAng="3518933"/>
                  <a:lnTo>
                    <a:pt x="85618" y="102179"/>
                  </a:lnTo>
                  <a:close/>
                </a:path>
                <a:path fill="none" w="171235" h="204358">
                  <a:moveTo>
                    <a:pt x="30399" y="180267"/>
                  </a:moveTo>
                  <a:lnTo>
                    <a:pt x="30399" y="180267"/>
                  </a:lnTo>
                  <a:arcTo wR="85618" hR="102179" stAng="7515935" swAng="3518933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弧形 305"/>
            <p:cNvSpPr/>
            <p:nvPr/>
          </p:nvSpPr>
          <p:spPr>
            <a:xfrm rot="20490000">
              <a:off x="6189480" y="2476080"/>
              <a:ext cx="102960" cy="61560"/>
            </a:xfrm>
            <a:custGeom>
              <a:avLst/>
              <a:gdLst>
                <a:gd name="textAreaLeft" fmla="*/ 49320 w 102960"/>
                <a:gd name="textAreaRight" fmla="*/ 102960 w 102960"/>
                <a:gd name="textAreaTop" fmla="*/ 0 h 61560"/>
                <a:gd name="textAreaBottom" fmla="*/ 28440 h 61560"/>
              </a:gdLst>
              <a:ahLst/>
              <a:rect l="textAreaLeft" t="textAreaTop" r="textAreaRight" b="textAreaBottom"/>
              <a:pathLst>
                <a:path stroke="0" w="120981" h="74486">
                  <a:moveTo>
                    <a:pt x="57777" y="37"/>
                  </a:moveTo>
                  <a:lnTo>
                    <a:pt x="57777" y="38"/>
                  </a:lnTo>
                  <a:arcTo wR="60491" hR="37243" stAng="-5650324" swAng="5484281"/>
                  <a:lnTo>
                    <a:pt x="60491" y="37243"/>
                  </a:lnTo>
                  <a:close/>
                </a:path>
                <a:path fill="none" w="120981" h="74486">
                  <a:moveTo>
                    <a:pt x="57777" y="37"/>
                  </a:moveTo>
                  <a:lnTo>
                    <a:pt x="57777" y="38"/>
                  </a:lnTo>
                  <a:arcTo wR="60491" hR="37243" stAng="-5650324" swAng="5484281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弧形 306"/>
            <p:cNvSpPr/>
            <p:nvPr/>
          </p:nvSpPr>
          <p:spPr>
            <a:xfrm>
              <a:off x="5913720" y="2500200"/>
              <a:ext cx="60120" cy="107640"/>
            </a:xfrm>
            <a:custGeom>
              <a:avLst/>
              <a:gdLst>
                <a:gd name="textAreaLeft" fmla="*/ 0 w 60120"/>
                <a:gd name="textAreaRight" fmla="*/ 10800 w 60120"/>
                <a:gd name="textAreaTop" fmla="*/ 12240 h 107640"/>
                <a:gd name="textAreaBottom" fmla="*/ 46080 h 107640"/>
              </a:gdLst>
              <a:ahLst/>
              <a:rect l="textAreaLeft" t="textAreaTop" r="textAreaRight" b="textAreaBottom"/>
              <a:pathLst>
                <a:path stroke="0" w="70728" h="129872">
                  <a:moveTo>
                    <a:pt x="356" y="55749"/>
                  </a:moveTo>
                  <a:lnTo>
                    <a:pt x="356" y="55749"/>
                  </a:lnTo>
                  <a:arcTo wR="35364" hR="64936" stAng="-9917741" swAng="3052282"/>
                  <a:lnTo>
                    <a:pt x="35364" y="64936"/>
                  </a:lnTo>
                  <a:close/>
                </a:path>
                <a:path fill="none" w="70728" h="129872">
                  <a:moveTo>
                    <a:pt x="356" y="55749"/>
                  </a:moveTo>
                  <a:lnTo>
                    <a:pt x="356" y="55749"/>
                  </a:lnTo>
                  <a:arcTo wR="35364" hR="64936" stAng="-9917741" swAng="3052282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弧形 307"/>
            <p:cNvSpPr/>
            <p:nvPr/>
          </p:nvSpPr>
          <p:spPr>
            <a:xfrm rot="19722000">
              <a:off x="5356440" y="2591640"/>
              <a:ext cx="83880" cy="50760"/>
            </a:xfrm>
            <a:custGeom>
              <a:avLst/>
              <a:gdLst>
                <a:gd name="textAreaLeft" fmla="*/ 27000 w 83880"/>
                <a:gd name="textAreaRight" fmla="*/ 84240 w 83880"/>
                <a:gd name="textAreaTop" fmla="*/ 0 h 50760"/>
                <a:gd name="textAreaBottom" fmla="*/ 25560 h 50760"/>
              </a:gdLst>
              <a:ahLst/>
              <a:rect l="textAreaLeft" t="textAreaTop" r="textAreaRight" b="textAreaBottom"/>
              <a:pathLst>
                <a:path stroke="0" w="98647" h="61116">
                  <a:moveTo>
                    <a:pt x="31960" y="1956"/>
                  </a:moveTo>
                  <a:lnTo>
                    <a:pt x="31960" y="1956"/>
                  </a:lnTo>
                  <a:arcTo wR="49324" hR="30558" stAng="-7275604" swAng="7275604"/>
                  <a:lnTo>
                    <a:pt x="49324" y="30558"/>
                  </a:lnTo>
                  <a:close/>
                </a:path>
                <a:path fill="none" w="98647" h="61116">
                  <a:moveTo>
                    <a:pt x="31960" y="1956"/>
                  </a:moveTo>
                  <a:lnTo>
                    <a:pt x="31960" y="1956"/>
                  </a:lnTo>
                  <a:arcTo wR="49324" hR="30558" stAng="-7275604" swAng="7275604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弧形 308"/>
            <p:cNvSpPr/>
            <p:nvPr/>
          </p:nvSpPr>
          <p:spPr>
            <a:xfrm rot="13888800">
              <a:off x="5512680" y="2610000"/>
              <a:ext cx="114120" cy="71280"/>
            </a:xfrm>
            <a:custGeom>
              <a:avLst/>
              <a:gdLst>
                <a:gd name="textAreaLeft" fmla="*/ 57240 w 114120"/>
                <a:gd name="textAreaRight" fmla="*/ 112320 w 114120"/>
                <a:gd name="textAreaTop" fmla="*/ 0 h 71280"/>
                <a:gd name="textAreaBottom" fmla="*/ 25920 h 71280"/>
              </a:gdLst>
              <a:ahLst/>
              <a:rect l="textAreaLeft" t="textAreaTop" r="textAreaRight" b="textAreaBottom"/>
              <a:pathLst>
                <a:path stroke="0" w="137511" h="83757">
                  <a:moveTo>
                    <a:pt x="68756" y="0"/>
                  </a:moveTo>
                  <a:lnTo>
                    <a:pt x="68756" y="0"/>
                  </a:lnTo>
                  <a:arcTo wR="68756" hR="41879" stAng="-5400000" swAng="4816177"/>
                  <a:lnTo>
                    <a:pt x="68756" y="41879"/>
                  </a:lnTo>
                  <a:close/>
                </a:path>
                <a:path fill="none" w="137511" h="83757">
                  <a:moveTo>
                    <a:pt x="68756" y="0"/>
                  </a:moveTo>
                  <a:lnTo>
                    <a:pt x="68756" y="0"/>
                  </a:lnTo>
                  <a:arcTo wR="68756" hR="41879" stAng="-5400000" swAng="4816177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弧形 309"/>
            <p:cNvSpPr/>
            <p:nvPr/>
          </p:nvSpPr>
          <p:spPr>
            <a:xfrm rot="1175400">
              <a:off x="5036760" y="2663280"/>
              <a:ext cx="134640" cy="122040"/>
            </a:xfrm>
            <a:custGeom>
              <a:avLst/>
              <a:gdLst>
                <a:gd name="textAreaLeft" fmla="*/ 0 w 134640"/>
                <a:gd name="textAreaRight" fmla="*/ 37800 w 134640"/>
                <a:gd name="textAreaTop" fmla="*/ 57960 h 122040"/>
                <a:gd name="textAreaBottom" fmla="*/ 115920 h 122040"/>
              </a:gdLst>
              <a:ahLst/>
              <a:rect l="textAreaLeft" t="textAreaTop" r="textAreaRight" b="textAreaBottom"/>
              <a:pathLst>
                <a:path stroke="0" w="158206" h="147061">
                  <a:moveTo>
                    <a:pt x="44581" y="139689"/>
                  </a:moveTo>
                  <a:lnTo>
                    <a:pt x="44581" y="139689"/>
                  </a:lnTo>
                  <a:arcTo wR="79103" hR="73531" stAng="7053343" swAng="3913071"/>
                  <a:lnTo>
                    <a:pt x="79103" y="73531"/>
                  </a:lnTo>
                  <a:close/>
                </a:path>
                <a:path fill="none" w="158206" h="147061">
                  <a:moveTo>
                    <a:pt x="44581" y="139689"/>
                  </a:moveTo>
                  <a:lnTo>
                    <a:pt x="44581" y="139689"/>
                  </a:lnTo>
                  <a:arcTo wR="79103" hR="73531" stAng="7053343" swAng="3913071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直接连接符 310"/>
            <p:cNvSpPr/>
            <p:nvPr/>
          </p:nvSpPr>
          <p:spPr>
            <a:xfrm flipV="1">
              <a:off x="3759120" y="4055760"/>
              <a:ext cx="698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11"/>
            <p:cNvSpPr/>
            <p:nvPr/>
          </p:nvSpPr>
          <p:spPr>
            <a:xfrm>
              <a:off x="3813120" y="3700440"/>
              <a:ext cx="14040" cy="368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12"/>
            <p:cNvSpPr/>
            <p:nvPr/>
          </p:nvSpPr>
          <p:spPr>
            <a:xfrm>
              <a:off x="3894120" y="3682800"/>
              <a:ext cx="14040" cy="357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13"/>
            <p:cNvSpPr/>
            <p:nvPr/>
          </p:nvSpPr>
          <p:spPr>
            <a:xfrm flipV="1">
              <a:off x="3710160" y="3555360"/>
              <a:ext cx="701640" cy="169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14"/>
            <p:cNvSpPr/>
            <p:nvPr/>
          </p:nvSpPr>
          <p:spPr>
            <a:xfrm>
              <a:off x="3827520" y="4066920"/>
              <a:ext cx="23760" cy="2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15"/>
            <p:cNvSpPr/>
            <p:nvPr/>
          </p:nvSpPr>
          <p:spPr>
            <a:xfrm flipV="1">
              <a:off x="3852720" y="4066920"/>
              <a:ext cx="36360" cy="2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16"/>
            <p:cNvSpPr/>
            <p:nvPr/>
          </p:nvSpPr>
          <p:spPr>
            <a:xfrm flipV="1">
              <a:off x="3894120" y="4038480"/>
              <a:ext cx="12600" cy="252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直接连接符 317"/>
            <p:cNvSpPr/>
            <p:nvPr/>
          </p:nvSpPr>
          <p:spPr>
            <a:xfrm>
              <a:off x="3836880" y="3698640"/>
              <a:ext cx="14040" cy="372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直接连接符 318"/>
            <p:cNvSpPr/>
            <p:nvPr/>
          </p:nvSpPr>
          <p:spPr>
            <a:xfrm>
              <a:off x="3873600" y="3684600"/>
              <a:ext cx="15840" cy="382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直接连接符 319"/>
            <p:cNvSpPr/>
            <p:nvPr/>
          </p:nvSpPr>
          <p:spPr>
            <a:xfrm>
              <a:off x="3807000" y="3636720"/>
              <a:ext cx="29880" cy="9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直接连接符 320"/>
            <p:cNvSpPr/>
            <p:nvPr/>
          </p:nvSpPr>
          <p:spPr>
            <a:xfrm flipV="1">
              <a:off x="3830760" y="3641040"/>
              <a:ext cx="42840" cy="4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直接连接符 321"/>
            <p:cNvSpPr/>
            <p:nvPr/>
          </p:nvSpPr>
          <p:spPr>
            <a:xfrm flipV="1">
              <a:off x="3871800" y="3614400"/>
              <a:ext cx="14040" cy="28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直接连接符 322"/>
            <p:cNvSpPr/>
            <p:nvPr/>
          </p:nvSpPr>
          <p:spPr>
            <a:xfrm flipH="1" flipV="1">
              <a:off x="3799080" y="3369960"/>
              <a:ext cx="7920" cy="266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直接连接符 323"/>
            <p:cNvSpPr/>
            <p:nvPr/>
          </p:nvSpPr>
          <p:spPr>
            <a:xfrm flipH="1" flipV="1">
              <a:off x="3822840" y="3381120"/>
              <a:ext cx="10800" cy="264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直接连接符 324"/>
            <p:cNvSpPr/>
            <p:nvPr/>
          </p:nvSpPr>
          <p:spPr>
            <a:xfrm flipH="1" flipV="1">
              <a:off x="3861000" y="3387240"/>
              <a:ext cx="9360" cy="253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直接连接符 325"/>
            <p:cNvSpPr/>
            <p:nvPr/>
          </p:nvSpPr>
          <p:spPr>
            <a:xfrm flipH="1" flipV="1">
              <a:off x="3878280" y="3368160"/>
              <a:ext cx="7920" cy="245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直接连接符 326"/>
            <p:cNvSpPr/>
            <p:nvPr/>
          </p:nvSpPr>
          <p:spPr>
            <a:xfrm>
              <a:off x="3951360" y="4114800"/>
              <a:ext cx="233280" cy="117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直接连接符 327"/>
            <p:cNvSpPr/>
            <p:nvPr/>
          </p:nvSpPr>
          <p:spPr>
            <a:xfrm flipV="1">
              <a:off x="3951360" y="3924000"/>
              <a:ext cx="0" cy="191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28"/>
            <p:cNvSpPr/>
            <p:nvPr/>
          </p:nvSpPr>
          <p:spPr>
            <a:xfrm>
              <a:off x="4184640" y="4037040"/>
              <a:ext cx="0" cy="195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29"/>
            <p:cNvSpPr/>
            <p:nvPr/>
          </p:nvSpPr>
          <p:spPr>
            <a:xfrm>
              <a:off x="3948120" y="3924360"/>
              <a:ext cx="239400" cy="115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30"/>
            <p:cNvSpPr/>
            <p:nvPr/>
          </p:nvSpPr>
          <p:spPr>
            <a:xfrm flipV="1">
              <a:off x="4186440" y="4221000"/>
              <a:ext cx="28440" cy="10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31"/>
            <p:cNvSpPr/>
            <p:nvPr/>
          </p:nvSpPr>
          <p:spPr>
            <a:xfrm flipV="1">
              <a:off x="4214880" y="4076280"/>
              <a:ext cx="0" cy="145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32"/>
            <p:cNvSpPr/>
            <p:nvPr/>
          </p:nvSpPr>
          <p:spPr>
            <a:xfrm flipV="1">
              <a:off x="4186440" y="4042800"/>
              <a:ext cx="144360" cy="36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33"/>
            <p:cNvSpPr/>
            <p:nvPr/>
          </p:nvSpPr>
          <p:spPr>
            <a:xfrm flipV="1">
              <a:off x="4183200" y="4003200"/>
              <a:ext cx="149040" cy="36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直接连接符 334"/>
            <p:cNvSpPr/>
            <p:nvPr/>
          </p:nvSpPr>
          <p:spPr>
            <a:xfrm>
              <a:off x="4329000" y="3949560"/>
              <a:ext cx="0" cy="222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直接连接符 335"/>
            <p:cNvSpPr/>
            <p:nvPr/>
          </p:nvSpPr>
          <p:spPr>
            <a:xfrm>
              <a:off x="4326120" y="3946320"/>
              <a:ext cx="28440" cy="18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直接连接符 336"/>
            <p:cNvSpPr/>
            <p:nvPr/>
          </p:nvSpPr>
          <p:spPr>
            <a:xfrm flipV="1">
              <a:off x="4357800" y="3940200"/>
              <a:ext cx="118800" cy="252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直接连接符 337"/>
            <p:cNvSpPr/>
            <p:nvPr/>
          </p:nvSpPr>
          <p:spPr>
            <a:xfrm>
              <a:off x="4354560" y="3965400"/>
              <a:ext cx="0" cy="226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直接连接符 338"/>
            <p:cNvSpPr/>
            <p:nvPr/>
          </p:nvSpPr>
          <p:spPr>
            <a:xfrm>
              <a:off x="4475160" y="3940200"/>
              <a:ext cx="0" cy="215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直接连接符 339"/>
            <p:cNvSpPr/>
            <p:nvPr/>
          </p:nvSpPr>
          <p:spPr>
            <a:xfrm>
              <a:off x="4326120" y="4171680"/>
              <a:ext cx="31680" cy="23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直接连接符 340"/>
            <p:cNvSpPr/>
            <p:nvPr/>
          </p:nvSpPr>
          <p:spPr>
            <a:xfrm flipV="1">
              <a:off x="4357800" y="4155840"/>
              <a:ext cx="120600" cy="39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直接连接符 341"/>
            <p:cNvSpPr/>
            <p:nvPr/>
          </p:nvSpPr>
          <p:spPr>
            <a:xfrm flipV="1">
              <a:off x="3952800" y="3892320"/>
              <a:ext cx="133200" cy="33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直接连接符 342"/>
            <p:cNvSpPr/>
            <p:nvPr/>
          </p:nvSpPr>
          <p:spPr>
            <a:xfrm>
              <a:off x="4086360" y="3875040"/>
              <a:ext cx="0" cy="31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直接连接符 343"/>
            <p:cNvSpPr/>
            <p:nvPr/>
          </p:nvSpPr>
          <p:spPr>
            <a:xfrm>
              <a:off x="4084560" y="3906720"/>
              <a:ext cx="123480" cy="60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直接连接符 344"/>
            <p:cNvSpPr/>
            <p:nvPr/>
          </p:nvSpPr>
          <p:spPr>
            <a:xfrm>
              <a:off x="4086360" y="3870360"/>
              <a:ext cx="122040" cy="61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45"/>
            <p:cNvSpPr/>
            <p:nvPr/>
          </p:nvSpPr>
          <p:spPr>
            <a:xfrm>
              <a:off x="4208400" y="3930480"/>
              <a:ext cx="0" cy="33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46"/>
            <p:cNvSpPr/>
            <p:nvPr/>
          </p:nvSpPr>
          <p:spPr>
            <a:xfrm flipV="1">
              <a:off x="4208400" y="3933720"/>
              <a:ext cx="156960" cy="33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47"/>
            <p:cNvSpPr/>
            <p:nvPr/>
          </p:nvSpPr>
          <p:spPr>
            <a:xfrm flipV="1">
              <a:off x="4208400" y="3895560"/>
              <a:ext cx="153720" cy="31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48"/>
            <p:cNvSpPr/>
            <p:nvPr/>
          </p:nvSpPr>
          <p:spPr>
            <a:xfrm flipV="1">
              <a:off x="4086360" y="3836880"/>
              <a:ext cx="152280" cy="33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49"/>
            <p:cNvSpPr/>
            <p:nvPr/>
          </p:nvSpPr>
          <p:spPr>
            <a:xfrm>
              <a:off x="4229280" y="3836880"/>
              <a:ext cx="13320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直接连接符 350"/>
            <p:cNvSpPr/>
            <p:nvPr/>
          </p:nvSpPr>
          <p:spPr>
            <a:xfrm flipV="1">
              <a:off x="3648240" y="3862080"/>
              <a:ext cx="33120" cy="168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直接连接符 351"/>
            <p:cNvSpPr/>
            <p:nvPr/>
          </p:nvSpPr>
          <p:spPr>
            <a:xfrm flipV="1">
              <a:off x="3683160" y="3668400"/>
              <a:ext cx="15840" cy="195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直接连接符 352"/>
            <p:cNvSpPr/>
            <p:nvPr/>
          </p:nvSpPr>
          <p:spPr>
            <a:xfrm flipV="1">
              <a:off x="3672000" y="3918960"/>
              <a:ext cx="15840" cy="112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直接连接符 353"/>
            <p:cNvSpPr/>
            <p:nvPr/>
          </p:nvSpPr>
          <p:spPr>
            <a:xfrm flipV="1">
              <a:off x="3691080" y="3674880"/>
              <a:ext cx="28440" cy="233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54"/>
            <p:cNvSpPr/>
            <p:nvPr/>
          </p:nvSpPr>
          <p:spPr>
            <a:xfrm>
              <a:off x="3668760" y="3676680"/>
              <a:ext cx="39600" cy="361800"/>
            </a:xfrm>
            <a:custGeom>
              <a:avLst/>
              <a:gdLst/>
              <a:ahLst/>
              <a:rect l="l" t="t" r="r" b="b"/>
              <a:pathLst>
                <a:path w="35814" h="411135">
                  <a:moveTo>
                    <a:pt x="0" y="0"/>
                  </a:moveTo>
                  <a:cubicBezTo>
                    <a:pt x="3439" y="73025"/>
                    <a:pt x="6879" y="146050"/>
                    <a:pt x="12700" y="212725"/>
                  </a:cubicBezTo>
                  <a:cubicBezTo>
                    <a:pt x="18521" y="279400"/>
                    <a:pt x="31750" y="370417"/>
                    <a:pt x="34925" y="400050"/>
                  </a:cubicBezTo>
                  <a:cubicBezTo>
                    <a:pt x="38100" y="429683"/>
                    <a:pt x="31750" y="390525"/>
                    <a:pt x="31750" y="390525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弧形 355"/>
            <p:cNvSpPr/>
            <p:nvPr/>
          </p:nvSpPr>
          <p:spPr>
            <a:xfrm>
              <a:off x="3656160" y="36669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6720 h 39600"/>
              </a:gdLst>
              <a:ahLst/>
              <a:rect l="textAreaLeft" t="textAreaTop" r="textAreaRight" b="textAreaBottom"/>
              <a:pathLst>
                <a:path stroke="0" w="93063" h="47748">
                  <a:moveTo>
                    <a:pt x="12611" y="40217"/>
                  </a:moveTo>
                  <a:lnTo>
                    <a:pt x="12611" y="40217"/>
                  </a:lnTo>
                  <a:arcTo wR="46532" hR="23874" stAng="9256486" swAng="14726047"/>
                  <a:lnTo>
                    <a:pt x="46532" y="23874"/>
                  </a:lnTo>
                  <a:close/>
                </a:path>
                <a:path fill="none" w="93063" h="47748">
                  <a:moveTo>
                    <a:pt x="12611" y="40217"/>
                  </a:moveTo>
                  <a:lnTo>
                    <a:pt x="12611" y="40217"/>
                  </a:lnTo>
                  <a:arcTo wR="46532" hR="23874" stAng="9256486" swAng="14726047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直接连接符 356"/>
            <p:cNvSpPr/>
            <p:nvPr/>
          </p:nvSpPr>
          <p:spPr>
            <a:xfrm flipH="1">
              <a:off x="3655800" y="3387600"/>
              <a:ext cx="44280" cy="2952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直接连接符 357"/>
            <p:cNvSpPr/>
            <p:nvPr/>
          </p:nvSpPr>
          <p:spPr>
            <a:xfrm flipV="1">
              <a:off x="3737160" y="3396600"/>
              <a:ext cx="33120" cy="29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58"/>
            <p:cNvSpPr/>
            <p:nvPr/>
          </p:nvSpPr>
          <p:spPr>
            <a:xfrm>
              <a:off x="4327560" y="2987640"/>
              <a:ext cx="444240" cy="1038240"/>
            </a:xfrm>
            <a:custGeom>
              <a:avLst/>
              <a:gdLst/>
              <a:ahLst/>
              <a:rect l="l" t="t" r="r" b="b"/>
              <a:pathLst>
                <a:path w="520957" h="1248569">
                  <a:moveTo>
                    <a:pt x="0" y="0"/>
                  </a:moveTo>
                  <a:cubicBezTo>
                    <a:pt x="7408" y="1058"/>
                    <a:pt x="15081" y="8467"/>
                    <a:pt x="26194" y="22225"/>
                  </a:cubicBezTo>
                  <a:cubicBezTo>
                    <a:pt x="37307" y="35983"/>
                    <a:pt x="53578" y="62971"/>
                    <a:pt x="66675" y="82550"/>
                  </a:cubicBezTo>
                  <a:cubicBezTo>
                    <a:pt x="79772" y="102129"/>
                    <a:pt x="97896" y="128588"/>
                    <a:pt x="104775" y="139700"/>
                  </a:cubicBezTo>
                  <a:cubicBezTo>
                    <a:pt x="116946" y="157692"/>
                    <a:pt x="131763" y="177800"/>
                    <a:pt x="139700" y="190500"/>
                  </a:cubicBezTo>
                  <a:cubicBezTo>
                    <a:pt x="156633" y="215371"/>
                    <a:pt x="187325" y="264054"/>
                    <a:pt x="206375" y="288925"/>
                  </a:cubicBezTo>
                  <a:cubicBezTo>
                    <a:pt x="225425" y="313796"/>
                    <a:pt x="240771" y="325438"/>
                    <a:pt x="254000" y="339725"/>
                  </a:cubicBezTo>
                  <a:cubicBezTo>
                    <a:pt x="267229" y="354013"/>
                    <a:pt x="274638" y="360363"/>
                    <a:pt x="285750" y="374650"/>
                  </a:cubicBezTo>
                  <a:cubicBezTo>
                    <a:pt x="296863" y="388938"/>
                    <a:pt x="306917" y="406400"/>
                    <a:pt x="320675" y="425450"/>
                  </a:cubicBezTo>
                  <a:cubicBezTo>
                    <a:pt x="334433" y="444500"/>
                    <a:pt x="357188" y="473075"/>
                    <a:pt x="368300" y="488950"/>
                  </a:cubicBezTo>
                  <a:cubicBezTo>
                    <a:pt x="379413" y="504825"/>
                    <a:pt x="379942" y="506942"/>
                    <a:pt x="387350" y="520700"/>
                  </a:cubicBezTo>
                  <a:cubicBezTo>
                    <a:pt x="394758" y="534458"/>
                    <a:pt x="400182" y="542925"/>
                    <a:pt x="412750" y="571500"/>
                  </a:cubicBezTo>
                  <a:cubicBezTo>
                    <a:pt x="425318" y="600075"/>
                    <a:pt x="448998" y="650875"/>
                    <a:pt x="462756" y="692150"/>
                  </a:cubicBezTo>
                  <a:cubicBezTo>
                    <a:pt x="476514" y="733425"/>
                    <a:pt x="485643" y="772054"/>
                    <a:pt x="495300" y="819150"/>
                  </a:cubicBezTo>
                  <a:cubicBezTo>
                    <a:pt x="504957" y="866246"/>
                    <a:pt x="523346" y="926042"/>
                    <a:pt x="520700" y="974725"/>
                  </a:cubicBezTo>
                  <a:cubicBezTo>
                    <a:pt x="518054" y="1023408"/>
                    <a:pt x="494242" y="1076325"/>
                    <a:pt x="479425" y="1111250"/>
                  </a:cubicBezTo>
                  <a:cubicBezTo>
                    <a:pt x="464608" y="1146175"/>
                    <a:pt x="449395" y="1161389"/>
                    <a:pt x="431800" y="1184275"/>
                  </a:cubicBezTo>
                  <a:cubicBezTo>
                    <a:pt x="414205" y="1207161"/>
                    <a:pt x="401903" y="1239044"/>
                    <a:pt x="373857" y="124856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59"/>
            <p:cNvSpPr/>
            <p:nvPr/>
          </p:nvSpPr>
          <p:spPr>
            <a:xfrm>
              <a:off x="4753080" y="3052440"/>
              <a:ext cx="225360" cy="831600"/>
            </a:xfrm>
            <a:custGeom>
              <a:avLst/>
              <a:gdLst/>
              <a:ahLst/>
              <a:rect l="l" t="t" r="r" b="b"/>
              <a:pathLst>
                <a:path w="263642" h="990600">
                  <a:moveTo>
                    <a:pt x="0" y="0"/>
                  </a:moveTo>
                  <a:cubicBezTo>
                    <a:pt x="4233" y="5292"/>
                    <a:pt x="8714" y="10394"/>
                    <a:pt x="12700" y="15875"/>
                  </a:cubicBezTo>
                  <a:cubicBezTo>
                    <a:pt x="17189" y="22047"/>
                    <a:pt x="21167" y="28575"/>
                    <a:pt x="25400" y="34925"/>
                  </a:cubicBezTo>
                  <a:lnTo>
                    <a:pt x="44450" y="63500"/>
                  </a:lnTo>
                  <a:cubicBezTo>
                    <a:pt x="53975" y="77258"/>
                    <a:pt x="74613" y="105304"/>
                    <a:pt x="82550" y="117475"/>
                  </a:cubicBezTo>
                  <a:cubicBezTo>
                    <a:pt x="94721" y="137583"/>
                    <a:pt x="109538" y="167746"/>
                    <a:pt x="117475" y="184150"/>
                  </a:cubicBezTo>
                  <a:cubicBezTo>
                    <a:pt x="125413" y="200554"/>
                    <a:pt x="122767" y="197908"/>
                    <a:pt x="130175" y="215900"/>
                  </a:cubicBezTo>
                  <a:cubicBezTo>
                    <a:pt x="137583" y="233892"/>
                    <a:pt x="151342" y="268288"/>
                    <a:pt x="161925" y="292100"/>
                  </a:cubicBezTo>
                  <a:cubicBezTo>
                    <a:pt x="172508" y="315912"/>
                    <a:pt x="181769" y="329142"/>
                    <a:pt x="193675" y="358775"/>
                  </a:cubicBezTo>
                  <a:cubicBezTo>
                    <a:pt x="205581" y="388408"/>
                    <a:pt x="223177" y="432329"/>
                    <a:pt x="233363" y="469900"/>
                  </a:cubicBezTo>
                  <a:cubicBezTo>
                    <a:pt x="243550" y="507471"/>
                    <a:pt x="251884" y="560388"/>
                    <a:pt x="254794" y="584200"/>
                  </a:cubicBezTo>
                  <a:cubicBezTo>
                    <a:pt x="258763" y="633412"/>
                    <a:pt x="260482" y="714375"/>
                    <a:pt x="261937" y="765175"/>
                  </a:cubicBezTo>
                  <a:cubicBezTo>
                    <a:pt x="263392" y="815975"/>
                    <a:pt x="263260" y="851429"/>
                    <a:pt x="263525" y="889000"/>
                  </a:cubicBezTo>
                  <a:cubicBezTo>
                    <a:pt x="263790" y="926571"/>
                    <a:pt x="263525" y="956733"/>
                    <a:pt x="263525" y="99060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任意多边形 360"/>
            <p:cNvSpPr/>
            <p:nvPr/>
          </p:nvSpPr>
          <p:spPr>
            <a:xfrm>
              <a:off x="5180040" y="2960640"/>
              <a:ext cx="101520" cy="733320"/>
            </a:xfrm>
            <a:custGeom>
              <a:avLst/>
              <a:gdLst/>
              <a:ahLst/>
              <a:rect l="l" t="t" r="r" b="b"/>
              <a:pathLst>
                <a:path w="120993" h="869861">
                  <a:moveTo>
                    <a:pt x="111468" y="0"/>
                  </a:moveTo>
                  <a:cubicBezTo>
                    <a:pt x="112526" y="5292"/>
                    <a:pt x="113223" y="10669"/>
                    <a:pt x="114643" y="15875"/>
                  </a:cubicBezTo>
                  <a:cubicBezTo>
                    <a:pt x="116404" y="22333"/>
                    <a:pt x="120993" y="34925"/>
                    <a:pt x="120993" y="34925"/>
                  </a:cubicBezTo>
                  <a:cubicBezTo>
                    <a:pt x="119935" y="65617"/>
                    <a:pt x="119476" y="96335"/>
                    <a:pt x="117818" y="127000"/>
                  </a:cubicBezTo>
                  <a:cubicBezTo>
                    <a:pt x="117357" y="135520"/>
                    <a:pt x="115251" y="143889"/>
                    <a:pt x="114643" y="152400"/>
                  </a:cubicBezTo>
                  <a:cubicBezTo>
                    <a:pt x="112075" y="188354"/>
                    <a:pt x="111468" y="227542"/>
                    <a:pt x="108293" y="260350"/>
                  </a:cubicBezTo>
                  <a:cubicBezTo>
                    <a:pt x="105118" y="293158"/>
                    <a:pt x="99826" y="279400"/>
                    <a:pt x="95593" y="349250"/>
                  </a:cubicBezTo>
                  <a:cubicBezTo>
                    <a:pt x="91360" y="419100"/>
                    <a:pt x="87126" y="569383"/>
                    <a:pt x="82893" y="679450"/>
                  </a:cubicBezTo>
                  <a:cubicBezTo>
                    <a:pt x="69135" y="765175"/>
                    <a:pt x="12171" y="837582"/>
                    <a:pt x="0" y="86986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任意多边形 361"/>
            <p:cNvSpPr/>
            <p:nvPr/>
          </p:nvSpPr>
          <p:spPr>
            <a:xfrm>
              <a:off x="5551560" y="2754000"/>
              <a:ext cx="96840" cy="954000"/>
            </a:xfrm>
            <a:custGeom>
              <a:avLst/>
              <a:gdLst/>
              <a:ahLst/>
              <a:rect l="l" t="t" r="r" b="b"/>
              <a:pathLst>
                <a:path w="112148" h="1133475">
                  <a:moveTo>
                    <a:pt x="79375" y="0"/>
                  </a:moveTo>
                  <a:cubicBezTo>
                    <a:pt x="142241" y="157165"/>
                    <a:pt x="98790" y="42643"/>
                    <a:pt x="79375" y="476250"/>
                  </a:cubicBezTo>
                  <a:cubicBezTo>
                    <a:pt x="76200" y="547158"/>
                    <a:pt x="83770" y="619374"/>
                    <a:pt x="69850" y="688975"/>
                  </a:cubicBezTo>
                  <a:cubicBezTo>
                    <a:pt x="67683" y="699812"/>
                    <a:pt x="64854" y="713068"/>
                    <a:pt x="63500" y="723900"/>
                  </a:cubicBezTo>
                  <a:cubicBezTo>
                    <a:pt x="62181" y="734454"/>
                    <a:pt x="61383" y="745067"/>
                    <a:pt x="60325" y="755650"/>
                  </a:cubicBezTo>
                  <a:cubicBezTo>
                    <a:pt x="59143" y="780462"/>
                    <a:pt x="59506" y="816893"/>
                    <a:pt x="53975" y="844550"/>
                  </a:cubicBezTo>
                  <a:cubicBezTo>
                    <a:pt x="53319" y="847832"/>
                    <a:pt x="51858" y="850900"/>
                    <a:pt x="50800" y="854075"/>
                  </a:cubicBezTo>
                  <a:cubicBezTo>
                    <a:pt x="49742" y="866775"/>
                    <a:pt x="49032" y="879509"/>
                    <a:pt x="47625" y="892175"/>
                  </a:cubicBezTo>
                  <a:cubicBezTo>
                    <a:pt x="44362" y="921538"/>
                    <a:pt x="45042" y="900730"/>
                    <a:pt x="41275" y="927100"/>
                  </a:cubicBezTo>
                  <a:cubicBezTo>
                    <a:pt x="35180" y="969764"/>
                    <a:pt x="41534" y="941937"/>
                    <a:pt x="34925" y="968375"/>
                  </a:cubicBezTo>
                  <a:cubicBezTo>
                    <a:pt x="29625" y="1016078"/>
                    <a:pt x="34276" y="978946"/>
                    <a:pt x="28575" y="1016000"/>
                  </a:cubicBezTo>
                  <a:cubicBezTo>
                    <a:pt x="24406" y="1043102"/>
                    <a:pt x="28000" y="1030426"/>
                    <a:pt x="22225" y="1047750"/>
                  </a:cubicBezTo>
                  <a:cubicBezTo>
                    <a:pt x="21167" y="1055158"/>
                    <a:pt x="20733" y="1062683"/>
                    <a:pt x="19050" y="1069975"/>
                  </a:cubicBezTo>
                  <a:cubicBezTo>
                    <a:pt x="17545" y="1076497"/>
                    <a:pt x="14817" y="1082675"/>
                    <a:pt x="12700" y="1089025"/>
                  </a:cubicBezTo>
                  <a:lnTo>
                    <a:pt x="6350" y="1108075"/>
                  </a:lnTo>
                  <a:cubicBezTo>
                    <a:pt x="5292" y="1111250"/>
                    <a:pt x="3831" y="1114318"/>
                    <a:pt x="3175" y="1117600"/>
                  </a:cubicBezTo>
                  <a:lnTo>
                    <a:pt x="0" y="1133475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62"/>
            <p:cNvSpPr/>
            <p:nvPr/>
          </p:nvSpPr>
          <p:spPr>
            <a:xfrm>
              <a:off x="3168720" y="3497040"/>
              <a:ext cx="495000" cy="210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63"/>
            <p:cNvSpPr/>
            <p:nvPr/>
          </p:nvSpPr>
          <p:spPr>
            <a:xfrm flipV="1">
              <a:off x="3166920" y="3488760"/>
              <a:ext cx="37800" cy="4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64"/>
            <p:cNvSpPr/>
            <p:nvPr/>
          </p:nvSpPr>
          <p:spPr>
            <a:xfrm>
              <a:off x="3201840" y="3384360"/>
              <a:ext cx="2880" cy="112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65"/>
            <p:cNvSpPr/>
            <p:nvPr/>
          </p:nvSpPr>
          <p:spPr>
            <a:xfrm>
              <a:off x="3208320" y="3497040"/>
              <a:ext cx="26640" cy="2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66"/>
            <p:cNvSpPr/>
            <p:nvPr/>
          </p:nvSpPr>
          <p:spPr>
            <a:xfrm flipV="1">
              <a:off x="3232080" y="3493440"/>
              <a:ext cx="31680" cy="6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直接连接符 367"/>
            <p:cNvSpPr/>
            <p:nvPr/>
          </p:nvSpPr>
          <p:spPr>
            <a:xfrm>
              <a:off x="3230640" y="3395520"/>
              <a:ext cx="2880" cy="102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直接连接符 368"/>
            <p:cNvSpPr/>
            <p:nvPr/>
          </p:nvSpPr>
          <p:spPr>
            <a:xfrm flipH="1" flipV="1">
              <a:off x="3260520" y="3380760"/>
              <a:ext cx="6120" cy="112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直接连接符 369"/>
            <p:cNvSpPr/>
            <p:nvPr/>
          </p:nvSpPr>
          <p:spPr>
            <a:xfrm>
              <a:off x="3198960" y="3384360"/>
              <a:ext cx="33120" cy="9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直接连接符 370"/>
            <p:cNvSpPr/>
            <p:nvPr/>
          </p:nvSpPr>
          <p:spPr>
            <a:xfrm flipV="1">
              <a:off x="3230640" y="3384360"/>
              <a:ext cx="29880" cy="9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直接连接符 371"/>
            <p:cNvSpPr/>
            <p:nvPr/>
          </p:nvSpPr>
          <p:spPr>
            <a:xfrm flipV="1">
              <a:off x="3201840" y="3373200"/>
              <a:ext cx="9360" cy="7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直接连接符 372"/>
            <p:cNvSpPr/>
            <p:nvPr/>
          </p:nvSpPr>
          <p:spPr>
            <a:xfrm flipH="1" flipV="1">
              <a:off x="3246120" y="3371760"/>
              <a:ext cx="14040" cy="9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直接连接符 373"/>
            <p:cNvSpPr/>
            <p:nvPr/>
          </p:nvSpPr>
          <p:spPr>
            <a:xfrm>
              <a:off x="3211560" y="3301920"/>
              <a:ext cx="0" cy="71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直接连接符 374"/>
            <p:cNvSpPr/>
            <p:nvPr/>
          </p:nvSpPr>
          <p:spPr>
            <a:xfrm flipH="1" flipV="1">
              <a:off x="3241440" y="3306600"/>
              <a:ext cx="4680" cy="64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椭圆 375"/>
            <p:cNvSpPr/>
            <p:nvPr/>
          </p:nvSpPr>
          <p:spPr>
            <a:xfrm>
              <a:off x="3211560" y="3294000"/>
              <a:ext cx="29880" cy="205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弧形 376"/>
            <p:cNvSpPr/>
            <p:nvPr/>
          </p:nvSpPr>
          <p:spPr>
            <a:xfrm flipV="1">
              <a:off x="3213000" y="3356640"/>
              <a:ext cx="31680" cy="205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0520"/>
                <a:gd name="textAreaBottom" fmla="*/ 10440 h 20520"/>
              </a:gdLst>
              <a:ahLst/>
              <a:rect l="textAreaLeft" t="textAreaTop" r="textAreaRight" b="textAreaBottom"/>
              <a:pathLst>
                <a:path stroke="0" w="37225" h="24828">
                  <a:moveTo>
                    <a:pt x="60" y="11419"/>
                  </a:moveTo>
                  <a:lnTo>
                    <a:pt x="-28265" y="13402"/>
                  </a:lnTo>
                  <a:arcTo wR="-14155" hR="12414" stAng="10559762" swAng="11040238"/>
                  <a:lnTo>
                    <a:pt x="18613" y="12414"/>
                  </a:lnTo>
                  <a:close/>
                </a:path>
                <a:path fill="none" w="37225" h="24828">
                  <a:moveTo>
                    <a:pt x="60" y="11419"/>
                  </a:moveTo>
                  <a:lnTo>
                    <a:pt x="-28265" y="13402"/>
                  </a:lnTo>
                  <a:arcTo wR="-14155" hR="12414" stAng="10559762" swAng="11040238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椭圆 377"/>
            <p:cNvSpPr/>
            <p:nvPr/>
          </p:nvSpPr>
          <p:spPr>
            <a:xfrm>
              <a:off x="3807000" y="3349440"/>
              <a:ext cx="60120" cy="2988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78"/>
            <p:cNvSpPr/>
            <p:nvPr/>
          </p:nvSpPr>
          <p:spPr>
            <a:xfrm>
              <a:off x="3799080" y="3371760"/>
              <a:ext cx="21960" cy="12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79"/>
            <p:cNvSpPr/>
            <p:nvPr/>
          </p:nvSpPr>
          <p:spPr>
            <a:xfrm flipV="1">
              <a:off x="3819600" y="3384360"/>
              <a:ext cx="4572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80"/>
            <p:cNvSpPr/>
            <p:nvPr/>
          </p:nvSpPr>
          <p:spPr>
            <a:xfrm flipV="1">
              <a:off x="3863880" y="3365280"/>
              <a:ext cx="10800" cy="18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81"/>
            <p:cNvSpPr/>
            <p:nvPr/>
          </p:nvSpPr>
          <p:spPr>
            <a:xfrm flipH="1" flipV="1">
              <a:off x="3858840" y="3354120"/>
              <a:ext cx="20520" cy="10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直接连接符 382"/>
            <p:cNvSpPr/>
            <p:nvPr/>
          </p:nvSpPr>
          <p:spPr>
            <a:xfrm flipV="1">
              <a:off x="3794040" y="3354120"/>
              <a:ext cx="21960" cy="1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直接连接符 383"/>
            <p:cNvSpPr/>
            <p:nvPr/>
          </p:nvSpPr>
          <p:spPr>
            <a:xfrm>
              <a:off x="3378240" y="3533760"/>
              <a:ext cx="79200" cy="36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直接连接符 384"/>
            <p:cNvSpPr/>
            <p:nvPr/>
          </p:nvSpPr>
          <p:spPr>
            <a:xfrm flipV="1">
              <a:off x="3457440" y="3523680"/>
              <a:ext cx="163440" cy="45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直接连接符 385"/>
            <p:cNvSpPr/>
            <p:nvPr/>
          </p:nvSpPr>
          <p:spPr>
            <a:xfrm>
              <a:off x="3452760" y="3429000"/>
              <a:ext cx="6120" cy="144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直接连接符 386"/>
            <p:cNvSpPr/>
            <p:nvPr/>
          </p:nvSpPr>
          <p:spPr>
            <a:xfrm>
              <a:off x="3373560" y="3394080"/>
              <a:ext cx="6120" cy="144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直接连接符 387"/>
            <p:cNvSpPr/>
            <p:nvPr/>
          </p:nvSpPr>
          <p:spPr>
            <a:xfrm>
              <a:off x="3616200" y="3381120"/>
              <a:ext cx="4680" cy="144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直接连接符 388"/>
            <p:cNvSpPr/>
            <p:nvPr/>
          </p:nvSpPr>
          <p:spPr>
            <a:xfrm flipV="1">
              <a:off x="3456000" y="3466440"/>
              <a:ext cx="163440" cy="45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直接连接符 389"/>
            <p:cNvSpPr/>
            <p:nvPr/>
          </p:nvSpPr>
          <p:spPr>
            <a:xfrm flipV="1">
              <a:off x="3452760" y="3387240"/>
              <a:ext cx="164880" cy="45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直接连接符 390"/>
            <p:cNvSpPr/>
            <p:nvPr/>
          </p:nvSpPr>
          <p:spPr>
            <a:xfrm>
              <a:off x="3378240" y="3476520"/>
              <a:ext cx="79200" cy="36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直接连接符 391"/>
            <p:cNvSpPr/>
            <p:nvPr/>
          </p:nvSpPr>
          <p:spPr>
            <a:xfrm>
              <a:off x="3371760" y="3395520"/>
              <a:ext cx="79200" cy="34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直接连接符 392"/>
            <p:cNvSpPr/>
            <p:nvPr/>
          </p:nvSpPr>
          <p:spPr>
            <a:xfrm flipV="1">
              <a:off x="3373560" y="3360240"/>
              <a:ext cx="158760" cy="34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直接连接符 393"/>
            <p:cNvSpPr/>
            <p:nvPr/>
          </p:nvSpPr>
          <p:spPr>
            <a:xfrm>
              <a:off x="3530520" y="3360600"/>
              <a:ext cx="82440" cy="23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394"/>
            <p:cNvSpPr/>
            <p:nvPr/>
          </p:nvSpPr>
          <p:spPr>
            <a:xfrm>
              <a:off x="3254400" y="3348000"/>
              <a:ext cx="44280" cy="28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395"/>
            <p:cNvSpPr/>
            <p:nvPr/>
          </p:nvSpPr>
          <p:spPr>
            <a:xfrm flipH="1">
              <a:off x="3254400" y="3348000"/>
              <a:ext cx="1440" cy="21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396"/>
            <p:cNvSpPr/>
            <p:nvPr/>
          </p:nvSpPr>
          <p:spPr>
            <a:xfrm>
              <a:off x="3300480" y="3376440"/>
              <a:ext cx="0" cy="152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397"/>
            <p:cNvSpPr/>
            <p:nvPr/>
          </p:nvSpPr>
          <p:spPr>
            <a:xfrm flipV="1">
              <a:off x="3300480" y="3512520"/>
              <a:ext cx="75960" cy="12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直接连接符 398"/>
            <p:cNvSpPr/>
            <p:nvPr/>
          </p:nvSpPr>
          <p:spPr>
            <a:xfrm>
              <a:off x="3267000" y="3498840"/>
              <a:ext cx="31680" cy="252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直接连接符 399"/>
            <p:cNvSpPr/>
            <p:nvPr/>
          </p:nvSpPr>
          <p:spPr>
            <a:xfrm flipV="1">
              <a:off x="3300480" y="3345840"/>
              <a:ext cx="150480" cy="29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直接连接符 400"/>
            <p:cNvSpPr/>
            <p:nvPr/>
          </p:nvSpPr>
          <p:spPr>
            <a:xfrm>
              <a:off x="3456000" y="3344760"/>
              <a:ext cx="0" cy="33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直接连接符 401"/>
            <p:cNvSpPr/>
            <p:nvPr/>
          </p:nvSpPr>
          <p:spPr>
            <a:xfrm flipV="1">
              <a:off x="3106800" y="4287240"/>
              <a:ext cx="95040" cy="44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直接连接符 402"/>
            <p:cNvSpPr/>
            <p:nvPr/>
          </p:nvSpPr>
          <p:spPr>
            <a:xfrm flipV="1">
              <a:off x="5542200" y="4630320"/>
              <a:ext cx="226800" cy="112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直接连接符 403"/>
            <p:cNvSpPr/>
            <p:nvPr/>
          </p:nvSpPr>
          <p:spPr>
            <a:xfrm flipH="1">
              <a:off x="5767560" y="4029120"/>
              <a:ext cx="17280" cy="600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直接连接符 404"/>
            <p:cNvSpPr/>
            <p:nvPr/>
          </p:nvSpPr>
          <p:spPr>
            <a:xfrm>
              <a:off x="5435640" y="4059000"/>
              <a:ext cx="109440" cy="63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直接连接符 405"/>
            <p:cNvSpPr/>
            <p:nvPr/>
          </p:nvSpPr>
          <p:spPr>
            <a:xfrm flipH="1" flipV="1">
              <a:off x="5689800" y="3987720"/>
              <a:ext cx="93600" cy="41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直接连接符 406"/>
            <p:cNvSpPr/>
            <p:nvPr/>
          </p:nvSpPr>
          <p:spPr>
            <a:xfrm>
              <a:off x="5558040" y="4039920"/>
              <a:ext cx="61560" cy="28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直接连接符 407"/>
            <p:cNvSpPr/>
            <p:nvPr/>
          </p:nvSpPr>
          <p:spPr>
            <a:xfrm flipV="1">
              <a:off x="5619960" y="4035240"/>
              <a:ext cx="90360" cy="33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直接连接符 408"/>
            <p:cNvSpPr/>
            <p:nvPr/>
          </p:nvSpPr>
          <p:spPr>
            <a:xfrm flipV="1">
              <a:off x="5554800" y="4003200"/>
              <a:ext cx="28440" cy="36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直接连接符 409"/>
            <p:cNvSpPr/>
            <p:nvPr/>
          </p:nvSpPr>
          <p:spPr>
            <a:xfrm flipV="1">
              <a:off x="5618160" y="4027320"/>
              <a:ext cx="1440" cy="39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直接连接符 410"/>
            <p:cNvSpPr/>
            <p:nvPr/>
          </p:nvSpPr>
          <p:spPr>
            <a:xfrm flipH="1" flipV="1">
              <a:off x="5689800" y="4010040"/>
              <a:ext cx="15840" cy="26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11"/>
            <p:cNvSpPr/>
            <p:nvPr/>
          </p:nvSpPr>
          <p:spPr>
            <a:xfrm>
              <a:off x="5583240" y="4002120"/>
              <a:ext cx="39600" cy="252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12"/>
            <p:cNvSpPr/>
            <p:nvPr/>
          </p:nvSpPr>
          <p:spPr>
            <a:xfrm flipV="1">
              <a:off x="5619960" y="4010040"/>
              <a:ext cx="71280" cy="18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13"/>
            <p:cNvSpPr/>
            <p:nvPr/>
          </p:nvSpPr>
          <p:spPr>
            <a:xfrm flipV="1">
              <a:off x="5589720" y="3939840"/>
              <a:ext cx="21960" cy="61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14"/>
            <p:cNvSpPr/>
            <p:nvPr/>
          </p:nvSpPr>
          <p:spPr>
            <a:xfrm flipV="1">
              <a:off x="5619960" y="3954240"/>
              <a:ext cx="14040" cy="72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直接连接符 415"/>
            <p:cNvSpPr/>
            <p:nvPr/>
          </p:nvSpPr>
          <p:spPr>
            <a:xfrm flipH="1" flipV="1">
              <a:off x="5682960" y="3949200"/>
              <a:ext cx="6120" cy="61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直接连接符 416"/>
            <p:cNvSpPr/>
            <p:nvPr/>
          </p:nvSpPr>
          <p:spPr>
            <a:xfrm>
              <a:off x="5612040" y="3940200"/>
              <a:ext cx="25200" cy="18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直接连接符 417"/>
            <p:cNvSpPr/>
            <p:nvPr/>
          </p:nvSpPr>
          <p:spPr>
            <a:xfrm flipV="1">
              <a:off x="5637240" y="3954240"/>
              <a:ext cx="44280" cy="2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弧形 418"/>
            <p:cNvSpPr/>
            <p:nvPr/>
          </p:nvSpPr>
          <p:spPr>
            <a:xfrm rot="19465800">
              <a:off x="6006960" y="3907800"/>
              <a:ext cx="153720" cy="420480"/>
            </a:xfrm>
            <a:custGeom>
              <a:avLst/>
              <a:gdLst>
                <a:gd name="textAreaLeft" fmla="*/ 115560 w 153720"/>
                <a:gd name="textAreaRight" fmla="*/ 154080 w 153720"/>
                <a:gd name="textAreaTop" fmla="*/ 47880 h 420480"/>
                <a:gd name="textAreaBottom" fmla="*/ 392400 h 420480"/>
              </a:gdLst>
              <a:ahLst/>
              <a:rect l="textAreaLeft" t="textAreaTop" r="textAreaRight" b="textAreaBottom"/>
              <a:pathLst>
                <a:path stroke="0" w="180542" h="506118">
                  <a:moveTo>
                    <a:pt x="147647" y="57692"/>
                  </a:moveTo>
                  <a:lnTo>
                    <a:pt x="147647" y="57692"/>
                  </a:lnTo>
                  <a:arcTo wR="90271" hR="253059" stAng="-4418002" swAng="9118502"/>
                  <a:lnTo>
                    <a:pt x="90271" y="253059"/>
                  </a:lnTo>
                  <a:close/>
                </a:path>
                <a:path fill="none" w="180542" h="506118">
                  <a:moveTo>
                    <a:pt x="147647" y="57692"/>
                  </a:moveTo>
                  <a:lnTo>
                    <a:pt x="147647" y="57692"/>
                  </a:lnTo>
                  <a:arcTo wR="90271" hR="253059" stAng="-4418002" swAng="9118502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弧形 419"/>
            <p:cNvSpPr/>
            <p:nvPr/>
          </p:nvSpPr>
          <p:spPr>
            <a:xfrm rot="19667400">
              <a:off x="5973480" y="3984120"/>
              <a:ext cx="153720" cy="414360"/>
            </a:xfrm>
            <a:custGeom>
              <a:avLst/>
              <a:gdLst>
                <a:gd name="textAreaLeft" fmla="*/ 77040 w 153720"/>
                <a:gd name="textAreaRight" fmla="*/ 154080 w 153720"/>
                <a:gd name="textAreaTop" fmla="*/ 0 h 414360"/>
                <a:gd name="textAreaBottom" fmla="*/ 396720 h 414360"/>
              </a:gdLst>
              <a:ahLst/>
              <a:rect l="textAreaLeft" t="textAreaTop" r="textAreaRight" b="textAreaBottom"/>
              <a:pathLst>
                <a:path stroke="0" w="180541" h="498479">
                  <a:moveTo>
                    <a:pt x="90494" y="1"/>
                  </a:moveTo>
                  <a:lnTo>
                    <a:pt x="90494" y="1"/>
                  </a:lnTo>
                  <a:arcTo wR="90271" hR="249240" stAng="-5396924" swAng="10249388"/>
                  <a:lnTo>
                    <a:pt x="90271" y="249240"/>
                  </a:lnTo>
                  <a:close/>
                </a:path>
                <a:path fill="none" w="180541" h="498479">
                  <a:moveTo>
                    <a:pt x="90494" y="1"/>
                  </a:moveTo>
                  <a:lnTo>
                    <a:pt x="90494" y="1"/>
                  </a:lnTo>
                  <a:arcTo wR="90271" hR="249240" stAng="-5396924" swAng="10249388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弧形 420"/>
            <p:cNvSpPr/>
            <p:nvPr/>
          </p:nvSpPr>
          <p:spPr>
            <a:xfrm rot="19857600">
              <a:off x="5942160" y="4049280"/>
              <a:ext cx="164880" cy="407880"/>
            </a:xfrm>
            <a:custGeom>
              <a:avLst/>
              <a:gdLst>
                <a:gd name="textAreaLeft" fmla="*/ 90000 w 164880"/>
                <a:gd name="textAreaRight" fmla="*/ 165240 w 164880"/>
                <a:gd name="textAreaTop" fmla="*/ 720 h 407880"/>
                <a:gd name="textAreaBottom" fmla="*/ 393120 h 407880"/>
              </a:gdLst>
              <a:ahLst/>
              <a:rect l="textAreaLeft" t="textAreaTop" r="textAreaRight" b="textAreaBottom"/>
              <a:pathLst>
                <a:path stroke="0" w="193570" h="490838">
                  <a:moveTo>
                    <a:pt x="105548" y="1008"/>
                  </a:moveTo>
                  <a:lnTo>
                    <a:pt x="105548" y="1008"/>
                  </a:lnTo>
                  <a:arcTo wR="96785" hR="245419" stAng="-5276797" swAng="10129256"/>
                  <a:lnTo>
                    <a:pt x="96785" y="245419"/>
                  </a:lnTo>
                  <a:close/>
                </a:path>
                <a:path fill="none" w="193570" h="490838">
                  <a:moveTo>
                    <a:pt x="105548" y="1008"/>
                  </a:moveTo>
                  <a:lnTo>
                    <a:pt x="105548" y="1008"/>
                  </a:lnTo>
                  <a:arcTo wR="96785" hR="245419" stAng="-5276797" swAng="10129256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直接连接符 421"/>
            <p:cNvSpPr/>
            <p:nvPr/>
          </p:nvSpPr>
          <p:spPr>
            <a:xfrm flipH="1">
              <a:off x="5865480" y="3957480"/>
              <a:ext cx="20520" cy="73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弧形 422"/>
            <p:cNvSpPr/>
            <p:nvPr/>
          </p:nvSpPr>
          <p:spPr>
            <a:xfrm flipV="1" rot="208200">
              <a:off x="5749920" y="4681080"/>
              <a:ext cx="131760" cy="410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360 h 41040"/>
                <a:gd name="textAreaBottom" fmla="*/ 34560 h 41040"/>
              </a:gdLst>
              <a:ahLst/>
              <a:rect l="textAreaLeft" t="textAreaTop" r="textAreaRight" b="textAreaBottom"/>
              <a:pathLst>
                <a:path stroke="0" w="154484" h="49657">
                  <a:moveTo>
                    <a:pt x="18730" y="41037"/>
                  </a:moveTo>
                  <a:lnTo>
                    <a:pt x="18730" y="41037"/>
                  </a:lnTo>
                  <a:arcTo wR="77242" hR="24829" stAng="9870972" swAng="12696867"/>
                  <a:lnTo>
                    <a:pt x="77242" y="24829"/>
                  </a:lnTo>
                  <a:close/>
                </a:path>
                <a:path fill="none" w="154484" h="49657">
                  <a:moveTo>
                    <a:pt x="18730" y="41037"/>
                  </a:moveTo>
                  <a:lnTo>
                    <a:pt x="18730" y="41037"/>
                  </a:lnTo>
                  <a:arcTo wR="77242" hR="24829" stAng="9870972" swAng="12696867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直接连接符 423"/>
            <p:cNvSpPr/>
            <p:nvPr/>
          </p:nvSpPr>
          <p:spPr>
            <a:xfrm flipH="1">
              <a:off x="5780160" y="3940200"/>
              <a:ext cx="2880" cy="91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直接连接符 424"/>
            <p:cNvSpPr/>
            <p:nvPr/>
          </p:nvSpPr>
          <p:spPr>
            <a:xfrm>
              <a:off x="5764320" y="4632120"/>
              <a:ext cx="0" cy="55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直接连接符 425"/>
            <p:cNvSpPr/>
            <p:nvPr/>
          </p:nvSpPr>
          <p:spPr>
            <a:xfrm>
              <a:off x="5356440" y="4086000"/>
              <a:ext cx="60120" cy="37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任意多边形 426"/>
            <p:cNvSpPr/>
            <p:nvPr/>
          </p:nvSpPr>
          <p:spPr>
            <a:xfrm>
              <a:off x="5639040" y="3894120"/>
              <a:ext cx="291960" cy="115560"/>
            </a:xfrm>
            <a:custGeom>
              <a:avLst/>
              <a:gdLst/>
              <a:ahLst/>
              <a:rect l="l" t="t" r="r" b="b"/>
              <a:pathLst>
                <a:path w="333375" h="138113">
                  <a:moveTo>
                    <a:pt x="0" y="50007"/>
                  </a:moveTo>
                  <a:cubicBezTo>
                    <a:pt x="3969" y="46038"/>
                    <a:pt x="8210" y="42324"/>
                    <a:pt x="11906" y="38100"/>
                  </a:cubicBezTo>
                  <a:cubicBezTo>
                    <a:pt x="13791" y="35946"/>
                    <a:pt x="14434" y="32745"/>
                    <a:pt x="16669" y="30957"/>
                  </a:cubicBezTo>
                  <a:cubicBezTo>
                    <a:pt x="18629" y="29389"/>
                    <a:pt x="21432" y="29369"/>
                    <a:pt x="23813" y="28575"/>
                  </a:cubicBezTo>
                  <a:cubicBezTo>
                    <a:pt x="34461" y="12603"/>
                    <a:pt x="21918" y="28250"/>
                    <a:pt x="35719" y="19050"/>
                  </a:cubicBezTo>
                  <a:cubicBezTo>
                    <a:pt x="52976" y="7546"/>
                    <a:pt x="31837" y="15365"/>
                    <a:pt x="52388" y="7144"/>
                  </a:cubicBezTo>
                  <a:cubicBezTo>
                    <a:pt x="57049" y="5280"/>
                    <a:pt x="61913" y="3969"/>
                    <a:pt x="66675" y="2382"/>
                  </a:cubicBezTo>
                  <a:lnTo>
                    <a:pt x="73819" y="0"/>
                  </a:lnTo>
                  <a:cubicBezTo>
                    <a:pt x="84138" y="1588"/>
                    <a:pt x="94494" y="2949"/>
                    <a:pt x="104775" y="4763"/>
                  </a:cubicBezTo>
                  <a:cubicBezTo>
                    <a:pt x="111129" y="5884"/>
                    <a:pt x="115495" y="7542"/>
                    <a:pt x="121444" y="9525"/>
                  </a:cubicBezTo>
                  <a:cubicBezTo>
                    <a:pt x="126206" y="12700"/>
                    <a:pt x="130301" y="17240"/>
                    <a:pt x="135731" y="19050"/>
                  </a:cubicBezTo>
                  <a:cubicBezTo>
                    <a:pt x="138112" y="19844"/>
                    <a:pt x="140630" y="20309"/>
                    <a:pt x="142875" y="21432"/>
                  </a:cubicBezTo>
                  <a:cubicBezTo>
                    <a:pt x="145435" y="22712"/>
                    <a:pt x="147534" y="24774"/>
                    <a:pt x="150019" y="26194"/>
                  </a:cubicBezTo>
                  <a:cubicBezTo>
                    <a:pt x="153101" y="27955"/>
                    <a:pt x="156462" y="29196"/>
                    <a:pt x="159544" y="30957"/>
                  </a:cubicBezTo>
                  <a:cubicBezTo>
                    <a:pt x="172466" y="38341"/>
                    <a:pt x="160737" y="33735"/>
                    <a:pt x="173831" y="38100"/>
                  </a:cubicBezTo>
                  <a:cubicBezTo>
                    <a:pt x="178122" y="42391"/>
                    <a:pt x="182318" y="47521"/>
                    <a:pt x="188119" y="50007"/>
                  </a:cubicBezTo>
                  <a:cubicBezTo>
                    <a:pt x="191127" y="51296"/>
                    <a:pt x="194469" y="51594"/>
                    <a:pt x="197644" y="52388"/>
                  </a:cubicBezTo>
                  <a:cubicBezTo>
                    <a:pt x="199231" y="54769"/>
                    <a:pt x="200171" y="57744"/>
                    <a:pt x="202406" y="59532"/>
                  </a:cubicBezTo>
                  <a:cubicBezTo>
                    <a:pt x="204366" y="61100"/>
                    <a:pt x="207775" y="60138"/>
                    <a:pt x="209550" y="61913"/>
                  </a:cubicBezTo>
                  <a:cubicBezTo>
                    <a:pt x="211325" y="63688"/>
                    <a:pt x="210156" y="67282"/>
                    <a:pt x="211931" y="69057"/>
                  </a:cubicBezTo>
                  <a:cubicBezTo>
                    <a:pt x="214441" y="71567"/>
                    <a:pt x="218446" y="71938"/>
                    <a:pt x="221456" y="73819"/>
                  </a:cubicBezTo>
                  <a:cubicBezTo>
                    <a:pt x="224822" y="75922"/>
                    <a:pt x="227730" y="78687"/>
                    <a:pt x="230981" y="80963"/>
                  </a:cubicBezTo>
                  <a:cubicBezTo>
                    <a:pt x="235670" y="84245"/>
                    <a:pt x="240506" y="87313"/>
                    <a:pt x="245269" y="90488"/>
                  </a:cubicBezTo>
                  <a:cubicBezTo>
                    <a:pt x="247650" y="92075"/>
                    <a:pt x="250124" y="93533"/>
                    <a:pt x="252413" y="95250"/>
                  </a:cubicBezTo>
                  <a:cubicBezTo>
                    <a:pt x="266518" y="105829"/>
                    <a:pt x="258634" y="100191"/>
                    <a:pt x="276225" y="111919"/>
                  </a:cubicBezTo>
                  <a:cubicBezTo>
                    <a:pt x="278606" y="113507"/>
                    <a:pt x="280654" y="115777"/>
                    <a:pt x="283369" y="116682"/>
                  </a:cubicBezTo>
                  <a:lnTo>
                    <a:pt x="290513" y="119063"/>
                  </a:lnTo>
                  <a:cubicBezTo>
                    <a:pt x="310977" y="132706"/>
                    <a:pt x="285088" y="116351"/>
                    <a:pt x="304800" y="126207"/>
                  </a:cubicBezTo>
                  <a:cubicBezTo>
                    <a:pt x="307360" y="127487"/>
                    <a:pt x="309329" y="129807"/>
                    <a:pt x="311944" y="130969"/>
                  </a:cubicBezTo>
                  <a:cubicBezTo>
                    <a:pt x="316531" y="133008"/>
                    <a:pt x="321469" y="134144"/>
                    <a:pt x="326231" y="135732"/>
                  </a:cubicBezTo>
                  <a:lnTo>
                    <a:pt x="333375" y="138113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任意多边形 427"/>
            <p:cNvSpPr/>
            <p:nvPr/>
          </p:nvSpPr>
          <p:spPr>
            <a:xfrm>
              <a:off x="5654880" y="3884400"/>
              <a:ext cx="277560" cy="145800"/>
            </a:xfrm>
            <a:custGeom>
              <a:avLst/>
              <a:gdLst/>
              <a:ahLst/>
              <a:rect l="l" t="t" r="r" b="b"/>
              <a:pathLst>
                <a:path w="326231" h="176407">
                  <a:moveTo>
                    <a:pt x="0" y="83344"/>
                  </a:moveTo>
                  <a:cubicBezTo>
                    <a:pt x="6350" y="61913"/>
                    <a:pt x="11123" y="39949"/>
                    <a:pt x="19050" y="19050"/>
                  </a:cubicBezTo>
                  <a:cubicBezTo>
                    <a:pt x="20065" y="16374"/>
                    <a:pt x="23995" y="16120"/>
                    <a:pt x="26194" y="14288"/>
                  </a:cubicBezTo>
                  <a:cubicBezTo>
                    <a:pt x="28781" y="12132"/>
                    <a:pt x="30598" y="9102"/>
                    <a:pt x="33338" y="7144"/>
                  </a:cubicBezTo>
                  <a:cubicBezTo>
                    <a:pt x="40044" y="2354"/>
                    <a:pt x="44716" y="1918"/>
                    <a:pt x="52388" y="0"/>
                  </a:cubicBezTo>
                  <a:cubicBezTo>
                    <a:pt x="68263" y="794"/>
                    <a:pt x="84173" y="1061"/>
                    <a:pt x="100013" y="2381"/>
                  </a:cubicBezTo>
                  <a:cubicBezTo>
                    <a:pt x="103274" y="2653"/>
                    <a:pt x="106403" y="3823"/>
                    <a:pt x="109538" y="4763"/>
                  </a:cubicBezTo>
                  <a:cubicBezTo>
                    <a:pt x="114346" y="6206"/>
                    <a:pt x="123825" y="9525"/>
                    <a:pt x="123825" y="9525"/>
                  </a:cubicBezTo>
                  <a:cubicBezTo>
                    <a:pt x="144705" y="30405"/>
                    <a:pt x="118214" y="4848"/>
                    <a:pt x="138113" y="21431"/>
                  </a:cubicBezTo>
                  <a:cubicBezTo>
                    <a:pt x="144986" y="27158"/>
                    <a:pt x="145338" y="28697"/>
                    <a:pt x="150019" y="35719"/>
                  </a:cubicBezTo>
                  <a:cubicBezTo>
                    <a:pt x="154573" y="49383"/>
                    <a:pt x="149138" y="36628"/>
                    <a:pt x="159544" y="50006"/>
                  </a:cubicBezTo>
                  <a:cubicBezTo>
                    <a:pt x="163058" y="54524"/>
                    <a:pt x="165894" y="59531"/>
                    <a:pt x="169069" y="64294"/>
                  </a:cubicBezTo>
                  <a:cubicBezTo>
                    <a:pt x="170656" y="66675"/>
                    <a:pt x="171807" y="69414"/>
                    <a:pt x="173831" y="71438"/>
                  </a:cubicBezTo>
                  <a:cubicBezTo>
                    <a:pt x="194683" y="92287"/>
                    <a:pt x="169176" y="65850"/>
                    <a:pt x="185738" y="85725"/>
                  </a:cubicBezTo>
                  <a:cubicBezTo>
                    <a:pt x="191469" y="92603"/>
                    <a:pt x="192998" y="92947"/>
                    <a:pt x="200025" y="97631"/>
                  </a:cubicBezTo>
                  <a:cubicBezTo>
                    <a:pt x="205386" y="113717"/>
                    <a:pt x="197951" y="96282"/>
                    <a:pt x="209550" y="109538"/>
                  </a:cubicBezTo>
                  <a:cubicBezTo>
                    <a:pt x="215830" y="116715"/>
                    <a:pt x="223243" y="134740"/>
                    <a:pt x="233363" y="138113"/>
                  </a:cubicBezTo>
                  <a:lnTo>
                    <a:pt x="240506" y="140494"/>
                  </a:lnTo>
                  <a:cubicBezTo>
                    <a:pt x="242094" y="142875"/>
                    <a:pt x="243245" y="145614"/>
                    <a:pt x="245269" y="147638"/>
                  </a:cubicBezTo>
                  <a:cubicBezTo>
                    <a:pt x="250750" y="153119"/>
                    <a:pt x="254652" y="152960"/>
                    <a:pt x="261938" y="154781"/>
                  </a:cubicBezTo>
                  <a:cubicBezTo>
                    <a:pt x="282403" y="168427"/>
                    <a:pt x="256513" y="152069"/>
                    <a:pt x="276225" y="161925"/>
                  </a:cubicBezTo>
                  <a:cubicBezTo>
                    <a:pt x="278785" y="163205"/>
                    <a:pt x="280754" y="165526"/>
                    <a:pt x="283369" y="166688"/>
                  </a:cubicBezTo>
                  <a:cubicBezTo>
                    <a:pt x="287956" y="168727"/>
                    <a:pt x="292894" y="169863"/>
                    <a:pt x="297656" y="171450"/>
                  </a:cubicBezTo>
                  <a:cubicBezTo>
                    <a:pt x="302168" y="172954"/>
                    <a:pt x="309845" y="175715"/>
                    <a:pt x="314325" y="176213"/>
                  </a:cubicBezTo>
                  <a:cubicBezTo>
                    <a:pt x="318269" y="176651"/>
                    <a:pt x="322262" y="176213"/>
                    <a:pt x="326231" y="176213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428"/>
            <p:cNvSpPr/>
            <p:nvPr/>
          </p:nvSpPr>
          <p:spPr>
            <a:xfrm>
              <a:off x="5629320" y="3882960"/>
              <a:ext cx="303120" cy="110880"/>
            </a:xfrm>
            <a:custGeom>
              <a:avLst/>
              <a:gdLst/>
              <a:ahLst/>
              <a:rect l="l" t="t" r="r" b="b"/>
              <a:pathLst>
                <a:path w="357187" h="133350">
                  <a:moveTo>
                    <a:pt x="0" y="73819"/>
                  </a:moveTo>
                  <a:lnTo>
                    <a:pt x="52387" y="14287"/>
                  </a:lnTo>
                  <a:cubicBezTo>
                    <a:pt x="54630" y="11775"/>
                    <a:pt x="56729" y="9012"/>
                    <a:pt x="59531" y="7144"/>
                  </a:cubicBezTo>
                  <a:cubicBezTo>
                    <a:pt x="61620" y="5752"/>
                    <a:pt x="64430" y="5885"/>
                    <a:pt x="66675" y="4762"/>
                  </a:cubicBezTo>
                  <a:cubicBezTo>
                    <a:pt x="69235" y="3482"/>
                    <a:pt x="71438" y="1587"/>
                    <a:pt x="73819" y="0"/>
                  </a:cubicBezTo>
                  <a:cubicBezTo>
                    <a:pt x="96044" y="794"/>
                    <a:pt x="118293" y="1075"/>
                    <a:pt x="140494" y="2381"/>
                  </a:cubicBezTo>
                  <a:cubicBezTo>
                    <a:pt x="145314" y="2664"/>
                    <a:pt x="150097" y="3591"/>
                    <a:pt x="154781" y="4762"/>
                  </a:cubicBezTo>
                  <a:cubicBezTo>
                    <a:pt x="159651" y="5980"/>
                    <a:pt x="169069" y="9525"/>
                    <a:pt x="169069" y="9525"/>
                  </a:cubicBezTo>
                  <a:lnTo>
                    <a:pt x="183356" y="23812"/>
                  </a:lnTo>
                  <a:cubicBezTo>
                    <a:pt x="185737" y="26193"/>
                    <a:pt x="188632" y="28154"/>
                    <a:pt x="190500" y="30956"/>
                  </a:cubicBezTo>
                  <a:lnTo>
                    <a:pt x="200025" y="45244"/>
                  </a:lnTo>
                  <a:cubicBezTo>
                    <a:pt x="201612" y="47625"/>
                    <a:pt x="202406" y="50800"/>
                    <a:pt x="204787" y="52387"/>
                  </a:cubicBezTo>
                  <a:lnTo>
                    <a:pt x="211931" y="57150"/>
                  </a:lnTo>
                  <a:cubicBezTo>
                    <a:pt x="218438" y="76673"/>
                    <a:pt x="207180" y="46447"/>
                    <a:pt x="228600" y="78581"/>
                  </a:cubicBezTo>
                  <a:cubicBezTo>
                    <a:pt x="230187" y="80962"/>
                    <a:pt x="231127" y="83937"/>
                    <a:pt x="233362" y="85725"/>
                  </a:cubicBezTo>
                  <a:cubicBezTo>
                    <a:pt x="235322" y="87293"/>
                    <a:pt x="238125" y="87312"/>
                    <a:pt x="240506" y="88106"/>
                  </a:cubicBezTo>
                  <a:cubicBezTo>
                    <a:pt x="242887" y="90487"/>
                    <a:pt x="244706" y="93615"/>
                    <a:pt x="247650" y="95250"/>
                  </a:cubicBezTo>
                  <a:cubicBezTo>
                    <a:pt x="252038" y="97688"/>
                    <a:pt x="261937" y="100012"/>
                    <a:pt x="261937" y="100012"/>
                  </a:cubicBezTo>
                  <a:cubicBezTo>
                    <a:pt x="264318" y="101600"/>
                    <a:pt x="266466" y="103613"/>
                    <a:pt x="269081" y="104775"/>
                  </a:cubicBezTo>
                  <a:cubicBezTo>
                    <a:pt x="273669" y="106814"/>
                    <a:pt x="278606" y="107949"/>
                    <a:pt x="283369" y="109537"/>
                  </a:cubicBezTo>
                  <a:lnTo>
                    <a:pt x="304800" y="116681"/>
                  </a:lnTo>
                  <a:cubicBezTo>
                    <a:pt x="304805" y="116683"/>
                    <a:pt x="319082" y="121440"/>
                    <a:pt x="319087" y="121444"/>
                  </a:cubicBezTo>
                  <a:cubicBezTo>
                    <a:pt x="330408" y="128990"/>
                    <a:pt x="323516" y="125301"/>
                    <a:pt x="340519" y="130969"/>
                  </a:cubicBezTo>
                  <a:cubicBezTo>
                    <a:pt x="342900" y="131763"/>
                    <a:pt x="345152" y="133350"/>
                    <a:pt x="347662" y="133350"/>
                  </a:cubicBezTo>
                  <a:lnTo>
                    <a:pt x="357187" y="13335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29"/>
            <p:cNvSpPr/>
            <p:nvPr/>
          </p:nvSpPr>
          <p:spPr>
            <a:xfrm flipV="1">
              <a:off x="5877000" y="4195440"/>
              <a:ext cx="90360" cy="50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30"/>
            <p:cNvSpPr/>
            <p:nvPr/>
          </p:nvSpPr>
          <p:spPr>
            <a:xfrm flipV="1">
              <a:off x="5867640" y="4404960"/>
              <a:ext cx="207720" cy="123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31"/>
            <p:cNvSpPr/>
            <p:nvPr/>
          </p:nvSpPr>
          <p:spPr>
            <a:xfrm flipH="1">
              <a:off x="5965920" y="4195800"/>
              <a:ext cx="2880" cy="164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直接连接符 432"/>
            <p:cNvSpPr/>
            <p:nvPr/>
          </p:nvSpPr>
          <p:spPr>
            <a:xfrm>
              <a:off x="5965920" y="4357440"/>
              <a:ext cx="45720" cy="23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直接连接符 433"/>
            <p:cNvSpPr/>
            <p:nvPr/>
          </p:nvSpPr>
          <p:spPr>
            <a:xfrm>
              <a:off x="6012000" y="4379760"/>
              <a:ext cx="0" cy="63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直接连接符 434"/>
            <p:cNvSpPr/>
            <p:nvPr/>
          </p:nvSpPr>
          <p:spPr>
            <a:xfrm flipV="1">
              <a:off x="6073920" y="4348080"/>
              <a:ext cx="0" cy="56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直接连接符 435"/>
            <p:cNvSpPr/>
            <p:nvPr/>
          </p:nvSpPr>
          <p:spPr>
            <a:xfrm flipV="1">
              <a:off x="6012000" y="4348080"/>
              <a:ext cx="63360" cy="33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直接连接符 436"/>
            <p:cNvSpPr/>
            <p:nvPr/>
          </p:nvSpPr>
          <p:spPr>
            <a:xfrm>
              <a:off x="5965920" y="4278240"/>
              <a:ext cx="109440" cy="69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直接连接符 437"/>
            <p:cNvSpPr/>
            <p:nvPr/>
          </p:nvSpPr>
          <p:spPr>
            <a:xfrm>
              <a:off x="5932800" y="3994200"/>
              <a:ext cx="0" cy="37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38"/>
            <p:cNvSpPr/>
            <p:nvPr/>
          </p:nvSpPr>
          <p:spPr>
            <a:xfrm>
              <a:off x="5776920" y="4027320"/>
              <a:ext cx="155520" cy="183960"/>
            </a:xfrm>
            <a:custGeom>
              <a:avLst/>
              <a:gdLst/>
              <a:ahLst/>
              <a:rect l="l" t="t" r="r" b="b"/>
              <a:pathLst>
                <a:path w="176212" h="200025">
                  <a:moveTo>
                    <a:pt x="0" y="200025"/>
                  </a:moveTo>
                  <a:cubicBezTo>
                    <a:pt x="37306" y="177800"/>
                    <a:pt x="75011" y="156232"/>
                    <a:pt x="111918" y="133350"/>
                  </a:cubicBezTo>
                  <a:cubicBezTo>
                    <a:pt x="114780" y="131575"/>
                    <a:pt x="116475" y="128362"/>
                    <a:pt x="119062" y="126206"/>
                  </a:cubicBezTo>
                  <a:cubicBezTo>
                    <a:pt x="121261" y="124374"/>
                    <a:pt x="123825" y="123031"/>
                    <a:pt x="126206" y="121444"/>
                  </a:cubicBezTo>
                  <a:cubicBezTo>
                    <a:pt x="129381" y="116681"/>
                    <a:pt x="132297" y="111735"/>
                    <a:pt x="135731" y="107156"/>
                  </a:cubicBezTo>
                  <a:cubicBezTo>
                    <a:pt x="146305" y="93058"/>
                    <a:pt x="140680" y="100925"/>
                    <a:pt x="152400" y="83344"/>
                  </a:cubicBezTo>
                  <a:lnTo>
                    <a:pt x="157162" y="76200"/>
                  </a:lnTo>
                  <a:lnTo>
                    <a:pt x="161925" y="69056"/>
                  </a:lnTo>
                  <a:lnTo>
                    <a:pt x="169068" y="47625"/>
                  </a:lnTo>
                  <a:cubicBezTo>
                    <a:pt x="169862" y="45244"/>
                    <a:pt x="170958" y="42942"/>
                    <a:pt x="171450" y="40481"/>
                  </a:cubicBezTo>
                  <a:cubicBezTo>
                    <a:pt x="174323" y="26114"/>
                    <a:pt x="172551" y="32415"/>
                    <a:pt x="176212" y="21431"/>
                  </a:cubicBezTo>
                  <a:lnTo>
                    <a:pt x="173831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39"/>
            <p:cNvSpPr/>
            <p:nvPr/>
          </p:nvSpPr>
          <p:spPr>
            <a:xfrm>
              <a:off x="5778720" y="4030560"/>
              <a:ext cx="144360" cy="158760"/>
            </a:xfrm>
            <a:custGeom>
              <a:avLst/>
              <a:gdLst/>
              <a:ahLst/>
              <a:rect l="l" t="t" r="r" b="b"/>
              <a:pathLst>
                <a:path w="159543" h="176213">
                  <a:moveTo>
                    <a:pt x="0" y="176213"/>
                  </a:moveTo>
                  <a:lnTo>
                    <a:pt x="71437" y="121444"/>
                  </a:lnTo>
                  <a:cubicBezTo>
                    <a:pt x="76016" y="118010"/>
                    <a:pt x="85725" y="111919"/>
                    <a:pt x="85725" y="111919"/>
                  </a:cubicBezTo>
                  <a:cubicBezTo>
                    <a:pt x="87312" y="109538"/>
                    <a:pt x="88333" y="106660"/>
                    <a:pt x="90487" y="104775"/>
                  </a:cubicBezTo>
                  <a:cubicBezTo>
                    <a:pt x="94795" y="101006"/>
                    <a:pt x="104775" y="95250"/>
                    <a:pt x="104775" y="95250"/>
                  </a:cubicBezTo>
                  <a:cubicBezTo>
                    <a:pt x="117474" y="76199"/>
                    <a:pt x="100806" y="99219"/>
                    <a:pt x="116681" y="83344"/>
                  </a:cubicBezTo>
                  <a:cubicBezTo>
                    <a:pt x="118705" y="81320"/>
                    <a:pt x="119611" y="78399"/>
                    <a:pt x="121443" y="76200"/>
                  </a:cubicBezTo>
                  <a:cubicBezTo>
                    <a:pt x="127173" y="69324"/>
                    <a:pt x="128706" y="68976"/>
                    <a:pt x="135731" y="64294"/>
                  </a:cubicBezTo>
                  <a:cubicBezTo>
                    <a:pt x="138112" y="61119"/>
                    <a:pt x="141100" y="58319"/>
                    <a:pt x="142875" y="54769"/>
                  </a:cubicBezTo>
                  <a:cubicBezTo>
                    <a:pt x="159870" y="20777"/>
                    <a:pt x="138394" y="54343"/>
                    <a:pt x="152400" y="33338"/>
                  </a:cubicBezTo>
                  <a:cubicBezTo>
                    <a:pt x="153194" y="30163"/>
                    <a:pt x="153841" y="26948"/>
                    <a:pt x="154781" y="23813"/>
                  </a:cubicBezTo>
                  <a:cubicBezTo>
                    <a:pt x="156223" y="19004"/>
                    <a:pt x="159543" y="14545"/>
                    <a:pt x="159543" y="9525"/>
                  </a:cubicBezTo>
                  <a:lnTo>
                    <a:pt x="159543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40"/>
            <p:cNvSpPr/>
            <p:nvPr/>
          </p:nvSpPr>
          <p:spPr>
            <a:xfrm>
              <a:off x="5783400" y="4029120"/>
              <a:ext cx="126720" cy="133200"/>
            </a:xfrm>
            <a:custGeom>
              <a:avLst/>
              <a:gdLst/>
              <a:ahLst/>
              <a:rect l="l" t="t" r="r" b="b"/>
              <a:pathLst>
                <a:path w="142881" h="147637">
                  <a:moveTo>
                    <a:pt x="0" y="147637"/>
                  </a:moveTo>
                  <a:cubicBezTo>
                    <a:pt x="32544" y="123825"/>
                    <a:pt x="79596" y="112267"/>
                    <a:pt x="97631" y="76200"/>
                  </a:cubicBezTo>
                  <a:cubicBezTo>
                    <a:pt x="99219" y="73025"/>
                    <a:pt x="100996" y="69938"/>
                    <a:pt x="102394" y="66675"/>
                  </a:cubicBezTo>
                  <a:cubicBezTo>
                    <a:pt x="103383" y="64368"/>
                    <a:pt x="103383" y="61620"/>
                    <a:pt x="104775" y="59531"/>
                  </a:cubicBezTo>
                  <a:cubicBezTo>
                    <a:pt x="112256" y="48310"/>
                    <a:pt x="111485" y="56934"/>
                    <a:pt x="116681" y="45243"/>
                  </a:cubicBezTo>
                  <a:cubicBezTo>
                    <a:pt x="118720" y="40656"/>
                    <a:pt x="118660" y="35133"/>
                    <a:pt x="121444" y="30956"/>
                  </a:cubicBezTo>
                  <a:cubicBezTo>
                    <a:pt x="123031" y="28575"/>
                    <a:pt x="124305" y="25951"/>
                    <a:pt x="126206" y="23812"/>
                  </a:cubicBezTo>
                  <a:cubicBezTo>
                    <a:pt x="130681" y="18778"/>
                    <a:pt x="140494" y="9525"/>
                    <a:pt x="140494" y="9525"/>
                  </a:cubicBezTo>
                  <a:cubicBezTo>
                    <a:pt x="143126" y="1628"/>
                    <a:pt x="142875" y="4891"/>
                    <a:pt x="142875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弧形 441"/>
            <p:cNvSpPr/>
            <p:nvPr/>
          </p:nvSpPr>
          <p:spPr>
            <a:xfrm rot="10800000">
              <a:off x="5771880" y="4182840"/>
              <a:ext cx="123480" cy="56880"/>
            </a:xfrm>
            <a:custGeom>
              <a:avLst/>
              <a:gdLst>
                <a:gd name="textAreaLeft" fmla="*/ 0 w 123480"/>
                <a:gd name="textAreaRight" fmla="*/ 119160 w 123480"/>
                <a:gd name="textAreaTop" fmla="*/ 0 h 56880"/>
                <a:gd name="textAreaBottom" fmla="*/ 46800 h 56880"/>
              </a:gdLst>
              <a:ahLst/>
              <a:rect l="textAreaLeft" t="textAreaTop" r="textAreaRight" b="textAreaBottom"/>
              <a:pathLst>
                <a:path stroke="0" w="145178" h="68756">
                  <a:moveTo>
                    <a:pt x="16761" y="56350"/>
                  </a:moveTo>
                  <a:lnTo>
                    <a:pt x="16761" y="56350"/>
                  </a:lnTo>
                  <a:arcTo wR="72589" hR="34378" stAng="9511025" swAng="11452582"/>
                  <a:lnTo>
                    <a:pt x="72589" y="34378"/>
                  </a:lnTo>
                  <a:close/>
                </a:path>
                <a:path fill="none" w="145178" h="68756">
                  <a:moveTo>
                    <a:pt x="16761" y="56350"/>
                  </a:moveTo>
                  <a:lnTo>
                    <a:pt x="16761" y="56350"/>
                  </a:lnTo>
                  <a:arcTo wR="72589" hR="34378" stAng="9511025" swAng="11452582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弧形 442"/>
            <p:cNvSpPr/>
            <p:nvPr/>
          </p:nvSpPr>
          <p:spPr>
            <a:xfrm rot="10800000">
              <a:off x="5771880" y="4200120"/>
              <a:ext cx="123480" cy="58680"/>
            </a:xfrm>
            <a:custGeom>
              <a:avLst/>
              <a:gdLst>
                <a:gd name="textAreaLeft" fmla="*/ 0 w 123480"/>
                <a:gd name="textAreaRight" fmla="*/ 119520 w 123480"/>
                <a:gd name="textAreaTop" fmla="*/ 0 h 58680"/>
                <a:gd name="textAreaBottom" fmla="*/ 39960 h 58680"/>
              </a:gdLst>
              <a:ahLst/>
              <a:rect l="textAreaLeft" t="textAreaTop" r="textAreaRight" b="textAreaBottom"/>
              <a:pathLst>
                <a:path stroke="0" w="145178" h="70666">
                  <a:moveTo>
                    <a:pt x="4695" y="47834"/>
                  </a:moveTo>
                  <a:lnTo>
                    <a:pt x="4695" y="47834"/>
                  </a:lnTo>
                  <a:arcTo wR="72589" hR="35333" stAng="10174035" swAng="10789558"/>
                  <a:lnTo>
                    <a:pt x="72589" y="35333"/>
                  </a:lnTo>
                  <a:close/>
                </a:path>
                <a:path fill="none" w="145178" h="70666">
                  <a:moveTo>
                    <a:pt x="4695" y="47834"/>
                  </a:moveTo>
                  <a:lnTo>
                    <a:pt x="4695" y="47834"/>
                  </a:lnTo>
                  <a:arcTo wR="72589" hR="35333" stAng="10174035" swAng="10789558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弧形 443"/>
            <p:cNvSpPr/>
            <p:nvPr/>
          </p:nvSpPr>
          <p:spPr>
            <a:xfrm rot="10800000">
              <a:off x="5775120" y="4215960"/>
              <a:ext cx="123480" cy="58680"/>
            </a:xfrm>
            <a:custGeom>
              <a:avLst/>
              <a:gdLst>
                <a:gd name="textAreaLeft" fmla="*/ 0 w 123480"/>
                <a:gd name="textAreaRight" fmla="*/ 119520 w 123480"/>
                <a:gd name="textAreaTop" fmla="*/ 0 h 58680"/>
                <a:gd name="textAreaBottom" fmla="*/ 37440 h 58680"/>
              </a:gdLst>
              <a:ahLst/>
              <a:rect l="textAreaLeft" t="textAreaTop" r="textAreaRight" b="textAreaBottom"/>
              <a:pathLst>
                <a:path stroke="0" w="145178" h="70666">
                  <a:moveTo>
                    <a:pt x="2800" y="45052"/>
                  </a:moveTo>
                  <a:lnTo>
                    <a:pt x="2800" y="45052"/>
                  </a:lnTo>
                  <a:arcTo wR="72589" hR="35333" stAng="10324310" swAng="10639283"/>
                  <a:lnTo>
                    <a:pt x="72589" y="35333"/>
                  </a:lnTo>
                  <a:close/>
                </a:path>
                <a:path fill="none" w="145178" h="70666">
                  <a:moveTo>
                    <a:pt x="2800" y="45052"/>
                  </a:moveTo>
                  <a:lnTo>
                    <a:pt x="2800" y="45052"/>
                  </a:lnTo>
                  <a:arcTo wR="72589" hR="35333" stAng="10324310" swAng="10639283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弧形 444"/>
            <p:cNvSpPr/>
            <p:nvPr/>
          </p:nvSpPr>
          <p:spPr>
            <a:xfrm rot="10800000">
              <a:off x="5770440" y="4263480"/>
              <a:ext cx="123480" cy="58680"/>
            </a:xfrm>
            <a:custGeom>
              <a:avLst/>
              <a:gdLst>
                <a:gd name="textAreaLeft" fmla="*/ 0 w 123480"/>
                <a:gd name="textAreaRight" fmla="*/ 119520 w 123480"/>
                <a:gd name="textAreaTop" fmla="*/ 0 h 58680"/>
                <a:gd name="textAreaBottom" fmla="*/ 47880 h 58680"/>
              </a:gdLst>
              <a:ahLst/>
              <a:rect l="textAreaLeft" t="textAreaTop" r="textAreaRight" b="textAreaBottom"/>
              <a:pathLst>
                <a:path stroke="0" w="145178" h="70666">
                  <a:moveTo>
                    <a:pt x="16143" y="57548"/>
                  </a:moveTo>
                  <a:lnTo>
                    <a:pt x="16143" y="57548"/>
                  </a:lnTo>
                  <a:arcTo wR="72589" hR="35333" stAng="9511037" swAng="11452565"/>
                  <a:lnTo>
                    <a:pt x="72589" y="35333"/>
                  </a:lnTo>
                  <a:close/>
                </a:path>
                <a:path fill="none" w="145178" h="70666">
                  <a:moveTo>
                    <a:pt x="16143" y="57548"/>
                  </a:moveTo>
                  <a:lnTo>
                    <a:pt x="16143" y="57548"/>
                  </a:lnTo>
                  <a:arcTo wR="72589" hR="35333" stAng="9511037" swAng="11452565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弧形 445"/>
            <p:cNvSpPr/>
            <p:nvPr/>
          </p:nvSpPr>
          <p:spPr>
            <a:xfrm rot="10800000">
              <a:off x="5770440" y="4282920"/>
              <a:ext cx="123480" cy="56880"/>
            </a:xfrm>
            <a:custGeom>
              <a:avLst/>
              <a:gdLst>
                <a:gd name="textAreaLeft" fmla="*/ 0 w 123480"/>
                <a:gd name="textAreaRight" fmla="*/ 119160 w 123480"/>
                <a:gd name="textAreaTop" fmla="*/ 0 h 56880"/>
                <a:gd name="textAreaBottom" fmla="*/ 38880 h 56880"/>
              </a:gdLst>
              <a:ahLst/>
              <a:rect l="textAreaLeft" t="textAreaTop" r="textAreaRight" b="textAreaBottom"/>
              <a:pathLst>
                <a:path stroke="0" w="145178" h="68756">
                  <a:moveTo>
                    <a:pt x="4933" y="46835"/>
                  </a:moveTo>
                  <a:lnTo>
                    <a:pt x="4933" y="46835"/>
                  </a:lnTo>
                  <a:arcTo wR="72589" hR="34378" stAng="10174044" swAng="10789555"/>
                  <a:lnTo>
                    <a:pt x="72589" y="34378"/>
                  </a:lnTo>
                  <a:close/>
                </a:path>
                <a:path fill="none" w="145178" h="68756">
                  <a:moveTo>
                    <a:pt x="4933" y="46835"/>
                  </a:moveTo>
                  <a:lnTo>
                    <a:pt x="4933" y="46835"/>
                  </a:lnTo>
                  <a:arcTo wR="72589" hR="34378" stAng="10174044" swAng="10789555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弧形 446"/>
            <p:cNvSpPr/>
            <p:nvPr/>
          </p:nvSpPr>
          <p:spPr>
            <a:xfrm rot="10800000">
              <a:off x="5771880" y="4298760"/>
              <a:ext cx="123480" cy="56880"/>
            </a:xfrm>
            <a:custGeom>
              <a:avLst/>
              <a:gdLst>
                <a:gd name="textAreaLeft" fmla="*/ 0 w 123480"/>
                <a:gd name="textAreaRight" fmla="*/ 119160 w 123480"/>
                <a:gd name="textAreaTop" fmla="*/ 0 h 56880"/>
                <a:gd name="textAreaBottom" fmla="*/ 36360 h 56880"/>
              </a:gdLst>
              <a:ahLst/>
              <a:rect l="textAreaLeft" t="textAreaTop" r="textAreaRight" b="textAreaBottom"/>
              <a:pathLst>
                <a:path stroke="0" w="145178" h="68756">
                  <a:moveTo>
                    <a:pt x="2948" y="44076"/>
                  </a:moveTo>
                  <a:lnTo>
                    <a:pt x="2948" y="44076"/>
                  </a:lnTo>
                  <a:arcTo wR="72589" hR="34378" stAng="10324329" swAng="10639270"/>
                  <a:lnTo>
                    <a:pt x="72589" y="34378"/>
                  </a:lnTo>
                  <a:close/>
                </a:path>
                <a:path fill="none" w="145178" h="68756">
                  <a:moveTo>
                    <a:pt x="2948" y="44076"/>
                  </a:moveTo>
                  <a:lnTo>
                    <a:pt x="2948" y="44076"/>
                  </a:lnTo>
                  <a:arcTo wR="72589" hR="34378" stAng="10324329" swAng="10639270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弧形 447"/>
            <p:cNvSpPr/>
            <p:nvPr/>
          </p:nvSpPr>
          <p:spPr>
            <a:xfrm rot="10800000">
              <a:off x="5768640" y="4348080"/>
              <a:ext cx="123480" cy="56880"/>
            </a:xfrm>
            <a:custGeom>
              <a:avLst/>
              <a:gdLst>
                <a:gd name="textAreaLeft" fmla="*/ 0 w 123480"/>
                <a:gd name="textAreaRight" fmla="*/ 119160 w 123480"/>
                <a:gd name="textAreaTop" fmla="*/ 0 h 56880"/>
                <a:gd name="textAreaBottom" fmla="*/ 46800 h 56880"/>
              </a:gdLst>
              <a:ahLst/>
              <a:rect l="textAreaLeft" t="textAreaTop" r="textAreaRight" b="textAreaBottom"/>
              <a:pathLst>
                <a:path stroke="0" w="145178" h="68756">
                  <a:moveTo>
                    <a:pt x="16761" y="56350"/>
                  </a:moveTo>
                  <a:lnTo>
                    <a:pt x="16761" y="56350"/>
                  </a:lnTo>
                  <a:arcTo wR="72589" hR="34378" stAng="9511025" swAng="11452582"/>
                  <a:lnTo>
                    <a:pt x="72589" y="34378"/>
                  </a:lnTo>
                  <a:close/>
                </a:path>
                <a:path fill="none" w="145178" h="68756">
                  <a:moveTo>
                    <a:pt x="16761" y="56350"/>
                  </a:moveTo>
                  <a:lnTo>
                    <a:pt x="16761" y="56350"/>
                  </a:lnTo>
                  <a:arcTo wR="72589" hR="34378" stAng="9511025" swAng="11452582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弧形 448"/>
            <p:cNvSpPr/>
            <p:nvPr/>
          </p:nvSpPr>
          <p:spPr>
            <a:xfrm rot="10800000">
              <a:off x="5768640" y="4365720"/>
              <a:ext cx="123480" cy="56880"/>
            </a:xfrm>
            <a:custGeom>
              <a:avLst/>
              <a:gdLst>
                <a:gd name="textAreaLeft" fmla="*/ 0 w 123480"/>
                <a:gd name="textAreaRight" fmla="*/ 119160 w 123480"/>
                <a:gd name="textAreaTop" fmla="*/ 0 h 56880"/>
                <a:gd name="textAreaBottom" fmla="*/ 38880 h 56880"/>
              </a:gdLst>
              <a:ahLst/>
              <a:rect l="textAreaLeft" t="textAreaTop" r="textAreaRight" b="textAreaBottom"/>
              <a:pathLst>
                <a:path stroke="0" w="145178" h="68756">
                  <a:moveTo>
                    <a:pt x="4933" y="46835"/>
                  </a:moveTo>
                  <a:lnTo>
                    <a:pt x="4933" y="46835"/>
                  </a:lnTo>
                  <a:arcTo wR="72589" hR="34378" stAng="10174044" swAng="10789555"/>
                  <a:lnTo>
                    <a:pt x="72589" y="34378"/>
                  </a:lnTo>
                  <a:close/>
                </a:path>
                <a:path fill="none" w="145178" h="68756">
                  <a:moveTo>
                    <a:pt x="4933" y="46835"/>
                  </a:moveTo>
                  <a:lnTo>
                    <a:pt x="4933" y="46835"/>
                  </a:lnTo>
                  <a:arcTo wR="72589" hR="34378" stAng="10174044" swAng="10789555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弧形 449"/>
            <p:cNvSpPr/>
            <p:nvPr/>
          </p:nvSpPr>
          <p:spPr>
            <a:xfrm rot="10800000">
              <a:off x="5770440" y="4381560"/>
              <a:ext cx="123480" cy="56880"/>
            </a:xfrm>
            <a:custGeom>
              <a:avLst/>
              <a:gdLst>
                <a:gd name="textAreaLeft" fmla="*/ 0 w 123480"/>
                <a:gd name="textAreaRight" fmla="*/ 119160 w 123480"/>
                <a:gd name="textAreaTop" fmla="*/ 0 h 56880"/>
                <a:gd name="textAreaBottom" fmla="*/ 36360 h 56880"/>
              </a:gdLst>
              <a:ahLst/>
              <a:rect l="textAreaLeft" t="textAreaTop" r="textAreaRight" b="textAreaBottom"/>
              <a:pathLst>
                <a:path stroke="0" w="145178" h="68756">
                  <a:moveTo>
                    <a:pt x="2948" y="44076"/>
                  </a:moveTo>
                  <a:lnTo>
                    <a:pt x="2948" y="44076"/>
                  </a:lnTo>
                  <a:arcTo wR="72589" hR="34378" stAng="10324329" swAng="10639270"/>
                  <a:lnTo>
                    <a:pt x="72589" y="34378"/>
                  </a:lnTo>
                  <a:close/>
                </a:path>
                <a:path fill="none" w="145178" h="68756">
                  <a:moveTo>
                    <a:pt x="2948" y="44076"/>
                  </a:moveTo>
                  <a:lnTo>
                    <a:pt x="2948" y="44076"/>
                  </a:lnTo>
                  <a:arcTo wR="72589" hR="34378" stAng="10324329" swAng="10639270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直接连接符 450"/>
            <p:cNvSpPr/>
            <p:nvPr/>
          </p:nvSpPr>
          <p:spPr>
            <a:xfrm flipH="1">
              <a:off x="5965560" y="4470480"/>
              <a:ext cx="6120" cy="249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弧形 451"/>
            <p:cNvSpPr/>
            <p:nvPr/>
          </p:nvSpPr>
          <p:spPr>
            <a:xfrm rot="2153400">
              <a:off x="5859720" y="4206600"/>
              <a:ext cx="295200" cy="407880"/>
            </a:xfrm>
            <a:custGeom>
              <a:avLst/>
              <a:gdLst>
                <a:gd name="textAreaLeft" fmla="*/ 228600 w 295200"/>
                <a:gd name="textAreaRight" fmla="*/ 283680 w 295200"/>
                <a:gd name="textAreaTop" fmla="*/ 283320 h 407880"/>
                <a:gd name="textAreaBottom" fmla="*/ 374760 h 407880"/>
              </a:gdLst>
              <a:ahLst/>
              <a:rect l="textAreaLeft" t="textAreaTop" r="textAreaRight" b="textAreaBottom"/>
              <a:pathLst>
                <a:path stroke="0" w="346193" h="490839">
                  <a:moveTo>
                    <a:pt x="332612" y="340710"/>
                  </a:moveTo>
                  <a:lnTo>
                    <a:pt x="332612" y="340710"/>
                  </a:lnTo>
                  <a:arcTo wR="173097" hR="245420" stAng="1851184" swAng="2062800"/>
                  <a:lnTo>
                    <a:pt x="173097" y="245420"/>
                  </a:lnTo>
                  <a:close/>
                </a:path>
                <a:path fill="none" w="346193" h="490839">
                  <a:moveTo>
                    <a:pt x="332612" y="340710"/>
                  </a:moveTo>
                  <a:lnTo>
                    <a:pt x="332612" y="340710"/>
                  </a:lnTo>
                  <a:arcTo wR="173097" hR="245420" stAng="1851184" swAng="2062800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52"/>
            <p:cNvSpPr/>
            <p:nvPr/>
          </p:nvSpPr>
          <p:spPr>
            <a:xfrm>
              <a:off x="5516640" y="2842920"/>
              <a:ext cx="88560" cy="874440"/>
            </a:xfrm>
            <a:custGeom>
              <a:avLst/>
              <a:gdLst/>
              <a:ahLst/>
              <a:rect l="l" t="t" r="r" b="b"/>
              <a:pathLst>
                <a:path w="103222" h="1034571">
                  <a:moveTo>
                    <a:pt x="103188" y="0"/>
                  </a:moveTo>
                  <a:cubicBezTo>
                    <a:pt x="104142" y="171295"/>
                    <a:pt x="84931" y="279001"/>
                    <a:pt x="79375" y="377346"/>
                  </a:cubicBezTo>
                  <a:cubicBezTo>
                    <a:pt x="73819" y="475691"/>
                    <a:pt x="83770" y="520470"/>
                    <a:pt x="69850" y="590071"/>
                  </a:cubicBezTo>
                  <a:cubicBezTo>
                    <a:pt x="67683" y="600908"/>
                    <a:pt x="64854" y="614164"/>
                    <a:pt x="63500" y="624996"/>
                  </a:cubicBezTo>
                  <a:cubicBezTo>
                    <a:pt x="62181" y="635550"/>
                    <a:pt x="61383" y="646163"/>
                    <a:pt x="60325" y="656746"/>
                  </a:cubicBezTo>
                  <a:cubicBezTo>
                    <a:pt x="59143" y="681558"/>
                    <a:pt x="59506" y="717989"/>
                    <a:pt x="53975" y="745646"/>
                  </a:cubicBezTo>
                  <a:cubicBezTo>
                    <a:pt x="53319" y="748928"/>
                    <a:pt x="51858" y="751996"/>
                    <a:pt x="50800" y="755171"/>
                  </a:cubicBezTo>
                  <a:cubicBezTo>
                    <a:pt x="49742" y="767871"/>
                    <a:pt x="49032" y="780605"/>
                    <a:pt x="47625" y="793271"/>
                  </a:cubicBezTo>
                  <a:cubicBezTo>
                    <a:pt x="44362" y="822634"/>
                    <a:pt x="45042" y="801826"/>
                    <a:pt x="41275" y="828196"/>
                  </a:cubicBezTo>
                  <a:cubicBezTo>
                    <a:pt x="35180" y="870860"/>
                    <a:pt x="41534" y="843033"/>
                    <a:pt x="34925" y="869471"/>
                  </a:cubicBezTo>
                  <a:cubicBezTo>
                    <a:pt x="29625" y="917174"/>
                    <a:pt x="34276" y="880042"/>
                    <a:pt x="28575" y="917096"/>
                  </a:cubicBezTo>
                  <a:cubicBezTo>
                    <a:pt x="24406" y="944198"/>
                    <a:pt x="28000" y="931522"/>
                    <a:pt x="22225" y="948846"/>
                  </a:cubicBezTo>
                  <a:cubicBezTo>
                    <a:pt x="21167" y="956254"/>
                    <a:pt x="20733" y="963779"/>
                    <a:pt x="19050" y="971071"/>
                  </a:cubicBezTo>
                  <a:cubicBezTo>
                    <a:pt x="17545" y="977593"/>
                    <a:pt x="14817" y="983771"/>
                    <a:pt x="12700" y="990121"/>
                  </a:cubicBezTo>
                  <a:lnTo>
                    <a:pt x="6350" y="1009171"/>
                  </a:lnTo>
                  <a:cubicBezTo>
                    <a:pt x="5292" y="1012346"/>
                    <a:pt x="3831" y="1015414"/>
                    <a:pt x="3175" y="1018696"/>
                  </a:cubicBezTo>
                  <a:lnTo>
                    <a:pt x="0" y="1034571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53"/>
            <p:cNvSpPr/>
            <p:nvPr/>
          </p:nvSpPr>
          <p:spPr>
            <a:xfrm>
              <a:off x="5486400" y="2869920"/>
              <a:ext cx="91800" cy="857160"/>
            </a:xfrm>
            <a:custGeom>
              <a:avLst/>
              <a:gdLst/>
              <a:ahLst/>
              <a:rect l="l" t="t" r="r" b="b"/>
              <a:pathLst>
                <a:path w="107950" h="1015732">
                  <a:moveTo>
                    <a:pt x="107950" y="0"/>
                  </a:moveTo>
                  <a:cubicBezTo>
                    <a:pt x="104141" y="171294"/>
                    <a:pt x="85725" y="263302"/>
                    <a:pt x="79375" y="358507"/>
                  </a:cubicBezTo>
                  <a:cubicBezTo>
                    <a:pt x="73025" y="453712"/>
                    <a:pt x="83770" y="501631"/>
                    <a:pt x="69850" y="571232"/>
                  </a:cubicBezTo>
                  <a:cubicBezTo>
                    <a:pt x="67683" y="582069"/>
                    <a:pt x="64854" y="595325"/>
                    <a:pt x="63500" y="606157"/>
                  </a:cubicBezTo>
                  <a:cubicBezTo>
                    <a:pt x="62181" y="616711"/>
                    <a:pt x="61383" y="627324"/>
                    <a:pt x="60325" y="637907"/>
                  </a:cubicBezTo>
                  <a:cubicBezTo>
                    <a:pt x="59143" y="662719"/>
                    <a:pt x="59506" y="699150"/>
                    <a:pt x="53975" y="726807"/>
                  </a:cubicBezTo>
                  <a:cubicBezTo>
                    <a:pt x="53319" y="730089"/>
                    <a:pt x="51858" y="733157"/>
                    <a:pt x="50800" y="736332"/>
                  </a:cubicBezTo>
                  <a:cubicBezTo>
                    <a:pt x="49742" y="749032"/>
                    <a:pt x="49032" y="761766"/>
                    <a:pt x="47625" y="774432"/>
                  </a:cubicBezTo>
                  <a:cubicBezTo>
                    <a:pt x="44362" y="803795"/>
                    <a:pt x="45042" y="782987"/>
                    <a:pt x="41275" y="809357"/>
                  </a:cubicBezTo>
                  <a:cubicBezTo>
                    <a:pt x="35180" y="852021"/>
                    <a:pt x="41534" y="824194"/>
                    <a:pt x="34925" y="850632"/>
                  </a:cubicBezTo>
                  <a:cubicBezTo>
                    <a:pt x="29625" y="898335"/>
                    <a:pt x="34276" y="861203"/>
                    <a:pt x="28575" y="898257"/>
                  </a:cubicBezTo>
                  <a:cubicBezTo>
                    <a:pt x="24406" y="925359"/>
                    <a:pt x="28000" y="912683"/>
                    <a:pt x="22225" y="930007"/>
                  </a:cubicBezTo>
                  <a:cubicBezTo>
                    <a:pt x="21167" y="937415"/>
                    <a:pt x="20733" y="944940"/>
                    <a:pt x="19050" y="952232"/>
                  </a:cubicBezTo>
                  <a:cubicBezTo>
                    <a:pt x="17545" y="958754"/>
                    <a:pt x="14817" y="964932"/>
                    <a:pt x="12700" y="971282"/>
                  </a:cubicBezTo>
                  <a:lnTo>
                    <a:pt x="6350" y="990332"/>
                  </a:lnTo>
                  <a:cubicBezTo>
                    <a:pt x="5292" y="993507"/>
                    <a:pt x="3831" y="996575"/>
                    <a:pt x="3175" y="999857"/>
                  </a:cubicBezTo>
                  <a:lnTo>
                    <a:pt x="0" y="1015732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54"/>
            <p:cNvSpPr/>
            <p:nvPr/>
          </p:nvSpPr>
          <p:spPr>
            <a:xfrm>
              <a:off x="5459400" y="2884320"/>
              <a:ext cx="93600" cy="847800"/>
            </a:xfrm>
            <a:custGeom>
              <a:avLst/>
              <a:gdLst/>
              <a:ahLst/>
              <a:rect l="l" t="t" r="r" b="b"/>
              <a:pathLst>
                <a:path w="108249" h="1003914">
                  <a:moveTo>
                    <a:pt x="107951" y="0"/>
                  </a:moveTo>
                  <a:cubicBezTo>
                    <a:pt x="111286" y="166585"/>
                    <a:pt x="85725" y="253453"/>
                    <a:pt x="79375" y="346689"/>
                  </a:cubicBezTo>
                  <a:cubicBezTo>
                    <a:pt x="73025" y="439925"/>
                    <a:pt x="83770" y="489813"/>
                    <a:pt x="69850" y="559414"/>
                  </a:cubicBezTo>
                  <a:cubicBezTo>
                    <a:pt x="67683" y="570251"/>
                    <a:pt x="64854" y="583507"/>
                    <a:pt x="63500" y="594339"/>
                  </a:cubicBezTo>
                  <a:cubicBezTo>
                    <a:pt x="62181" y="604893"/>
                    <a:pt x="61383" y="615506"/>
                    <a:pt x="60325" y="626089"/>
                  </a:cubicBezTo>
                  <a:cubicBezTo>
                    <a:pt x="59143" y="650901"/>
                    <a:pt x="59506" y="687332"/>
                    <a:pt x="53975" y="714989"/>
                  </a:cubicBezTo>
                  <a:cubicBezTo>
                    <a:pt x="53319" y="718271"/>
                    <a:pt x="51858" y="721339"/>
                    <a:pt x="50800" y="724514"/>
                  </a:cubicBezTo>
                  <a:cubicBezTo>
                    <a:pt x="49742" y="737214"/>
                    <a:pt x="49032" y="749948"/>
                    <a:pt x="47625" y="762614"/>
                  </a:cubicBezTo>
                  <a:cubicBezTo>
                    <a:pt x="44362" y="791977"/>
                    <a:pt x="45042" y="771169"/>
                    <a:pt x="41275" y="797539"/>
                  </a:cubicBezTo>
                  <a:cubicBezTo>
                    <a:pt x="35180" y="840203"/>
                    <a:pt x="41534" y="812376"/>
                    <a:pt x="34925" y="838814"/>
                  </a:cubicBezTo>
                  <a:cubicBezTo>
                    <a:pt x="29625" y="886517"/>
                    <a:pt x="34276" y="849385"/>
                    <a:pt x="28575" y="886439"/>
                  </a:cubicBezTo>
                  <a:cubicBezTo>
                    <a:pt x="24406" y="913541"/>
                    <a:pt x="28000" y="900865"/>
                    <a:pt x="22225" y="918189"/>
                  </a:cubicBezTo>
                  <a:cubicBezTo>
                    <a:pt x="21167" y="925597"/>
                    <a:pt x="20733" y="933122"/>
                    <a:pt x="19050" y="940414"/>
                  </a:cubicBezTo>
                  <a:cubicBezTo>
                    <a:pt x="17545" y="946936"/>
                    <a:pt x="14817" y="953114"/>
                    <a:pt x="12700" y="959464"/>
                  </a:cubicBezTo>
                  <a:lnTo>
                    <a:pt x="6350" y="978514"/>
                  </a:lnTo>
                  <a:cubicBezTo>
                    <a:pt x="5292" y="981689"/>
                    <a:pt x="3831" y="984757"/>
                    <a:pt x="3175" y="988039"/>
                  </a:cubicBezTo>
                  <a:lnTo>
                    <a:pt x="0" y="1003914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55"/>
            <p:cNvSpPr/>
            <p:nvPr/>
          </p:nvSpPr>
          <p:spPr>
            <a:xfrm>
              <a:off x="5408640" y="2893680"/>
              <a:ext cx="87120" cy="853920"/>
            </a:xfrm>
            <a:custGeom>
              <a:avLst/>
              <a:gdLst/>
              <a:ahLst/>
              <a:rect l="l" t="t" r="r" b="b"/>
              <a:pathLst>
                <a:path w="103188" h="1015732">
                  <a:moveTo>
                    <a:pt x="103188" y="0"/>
                  </a:moveTo>
                  <a:cubicBezTo>
                    <a:pt x="94616" y="173649"/>
                    <a:pt x="84931" y="263302"/>
                    <a:pt x="79375" y="358507"/>
                  </a:cubicBezTo>
                  <a:cubicBezTo>
                    <a:pt x="73819" y="453712"/>
                    <a:pt x="83770" y="501631"/>
                    <a:pt x="69850" y="571232"/>
                  </a:cubicBezTo>
                  <a:cubicBezTo>
                    <a:pt x="67683" y="582069"/>
                    <a:pt x="64854" y="595325"/>
                    <a:pt x="63500" y="606157"/>
                  </a:cubicBezTo>
                  <a:cubicBezTo>
                    <a:pt x="62181" y="616711"/>
                    <a:pt x="61383" y="627324"/>
                    <a:pt x="60325" y="637907"/>
                  </a:cubicBezTo>
                  <a:cubicBezTo>
                    <a:pt x="59143" y="662719"/>
                    <a:pt x="59506" y="699150"/>
                    <a:pt x="53975" y="726807"/>
                  </a:cubicBezTo>
                  <a:cubicBezTo>
                    <a:pt x="53319" y="730089"/>
                    <a:pt x="51858" y="733157"/>
                    <a:pt x="50800" y="736332"/>
                  </a:cubicBezTo>
                  <a:cubicBezTo>
                    <a:pt x="49742" y="749032"/>
                    <a:pt x="49032" y="761766"/>
                    <a:pt x="47625" y="774432"/>
                  </a:cubicBezTo>
                  <a:cubicBezTo>
                    <a:pt x="44362" y="803795"/>
                    <a:pt x="45042" y="782987"/>
                    <a:pt x="41275" y="809357"/>
                  </a:cubicBezTo>
                  <a:cubicBezTo>
                    <a:pt x="35180" y="852021"/>
                    <a:pt x="41534" y="824194"/>
                    <a:pt x="34925" y="850632"/>
                  </a:cubicBezTo>
                  <a:cubicBezTo>
                    <a:pt x="29625" y="898335"/>
                    <a:pt x="34276" y="861203"/>
                    <a:pt x="28575" y="898257"/>
                  </a:cubicBezTo>
                  <a:cubicBezTo>
                    <a:pt x="24406" y="925359"/>
                    <a:pt x="28000" y="912683"/>
                    <a:pt x="22225" y="930007"/>
                  </a:cubicBezTo>
                  <a:cubicBezTo>
                    <a:pt x="21167" y="937415"/>
                    <a:pt x="20733" y="944940"/>
                    <a:pt x="19050" y="952232"/>
                  </a:cubicBezTo>
                  <a:cubicBezTo>
                    <a:pt x="17545" y="958754"/>
                    <a:pt x="14817" y="964932"/>
                    <a:pt x="12700" y="971282"/>
                  </a:cubicBezTo>
                  <a:lnTo>
                    <a:pt x="6350" y="990332"/>
                  </a:lnTo>
                  <a:cubicBezTo>
                    <a:pt x="5292" y="993507"/>
                    <a:pt x="3831" y="996575"/>
                    <a:pt x="3175" y="999857"/>
                  </a:cubicBezTo>
                  <a:lnTo>
                    <a:pt x="0" y="1015732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56"/>
            <p:cNvSpPr/>
            <p:nvPr/>
          </p:nvSpPr>
          <p:spPr>
            <a:xfrm>
              <a:off x="5378400" y="2865240"/>
              <a:ext cx="93600" cy="890640"/>
            </a:xfrm>
            <a:custGeom>
              <a:avLst/>
              <a:gdLst/>
              <a:ahLst/>
              <a:rect l="l" t="t" r="r" b="b"/>
              <a:pathLst>
                <a:path w="110332" h="1058119">
                  <a:moveTo>
                    <a:pt x="110332" y="0"/>
                  </a:moveTo>
                  <a:cubicBezTo>
                    <a:pt x="106523" y="173648"/>
                    <a:pt x="86122" y="298624"/>
                    <a:pt x="79375" y="400894"/>
                  </a:cubicBezTo>
                  <a:cubicBezTo>
                    <a:pt x="72628" y="503164"/>
                    <a:pt x="83770" y="544018"/>
                    <a:pt x="69850" y="613619"/>
                  </a:cubicBezTo>
                  <a:cubicBezTo>
                    <a:pt x="67683" y="624456"/>
                    <a:pt x="64854" y="637712"/>
                    <a:pt x="63500" y="648544"/>
                  </a:cubicBezTo>
                  <a:cubicBezTo>
                    <a:pt x="62181" y="659098"/>
                    <a:pt x="61383" y="669711"/>
                    <a:pt x="60325" y="680294"/>
                  </a:cubicBezTo>
                  <a:cubicBezTo>
                    <a:pt x="59143" y="705106"/>
                    <a:pt x="59506" y="741537"/>
                    <a:pt x="53975" y="769194"/>
                  </a:cubicBezTo>
                  <a:cubicBezTo>
                    <a:pt x="53319" y="772476"/>
                    <a:pt x="51858" y="775544"/>
                    <a:pt x="50800" y="778719"/>
                  </a:cubicBezTo>
                  <a:cubicBezTo>
                    <a:pt x="49742" y="791419"/>
                    <a:pt x="49032" y="804153"/>
                    <a:pt x="47625" y="816819"/>
                  </a:cubicBezTo>
                  <a:cubicBezTo>
                    <a:pt x="44362" y="846182"/>
                    <a:pt x="45042" y="825374"/>
                    <a:pt x="41275" y="851744"/>
                  </a:cubicBezTo>
                  <a:cubicBezTo>
                    <a:pt x="35180" y="894408"/>
                    <a:pt x="41534" y="866581"/>
                    <a:pt x="34925" y="893019"/>
                  </a:cubicBezTo>
                  <a:cubicBezTo>
                    <a:pt x="29625" y="940722"/>
                    <a:pt x="34276" y="903590"/>
                    <a:pt x="28575" y="940644"/>
                  </a:cubicBezTo>
                  <a:cubicBezTo>
                    <a:pt x="24406" y="967746"/>
                    <a:pt x="28000" y="955070"/>
                    <a:pt x="22225" y="972394"/>
                  </a:cubicBezTo>
                  <a:cubicBezTo>
                    <a:pt x="21167" y="979802"/>
                    <a:pt x="20733" y="987327"/>
                    <a:pt x="19050" y="994619"/>
                  </a:cubicBezTo>
                  <a:cubicBezTo>
                    <a:pt x="17545" y="1001141"/>
                    <a:pt x="14817" y="1007319"/>
                    <a:pt x="12700" y="1013669"/>
                  </a:cubicBezTo>
                  <a:lnTo>
                    <a:pt x="6350" y="1032719"/>
                  </a:lnTo>
                  <a:cubicBezTo>
                    <a:pt x="5292" y="1035894"/>
                    <a:pt x="3831" y="1038962"/>
                    <a:pt x="3175" y="1042244"/>
                  </a:cubicBezTo>
                  <a:lnTo>
                    <a:pt x="0" y="1058119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57"/>
            <p:cNvSpPr/>
            <p:nvPr/>
          </p:nvSpPr>
          <p:spPr>
            <a:xfrm>
              <a:off x="5346720" y="2808000"/>
              <a:ext cx="88560" cy="963360"/>
            </a:xfrm>
            <a:custGeom>
              <a:avLst/>
              <a:gdLst/>
              <a:ahLst/>
              <a:rect l="l" t="t" r="r" b="b"/>
              <a:pathLst>
                <a:path w="104666" h="1145249">
                  <a:moveTo>
                    <a:pt x="88900" y="0"/>
                  </a:moveTo>
                  <a:cubicBezTo>
                    <a:pt x="127954" y="173649"/>
                    <a:pt x="82550" y="371233"/>
                    <a:pt x="79375" y="488024"/>
                  </a:cubicBezTo>
                  <a:cubicBezTo>
                    <a:pt x="76200" y="604815"/>
                    <a:pt x="83770" y="631148"/>
                    <a:pt x="69850" y="700749"/>
                  </a:cubicBezTo>
                  <a:cubicBezTo>
                    <a:pt x="67683" y="711586"/>
                    <a:pt x="64854" y="724842"/>
                    <a:pt x="63500" y="735674"/>
                  </a:cubicBezTo>
                  <a:cubicBezTo>
                    <a:pt x="62181" y="746228"/>
                    <a:pt x="61383" y="756841"/>
                    <a:pt x="60325" y="767424"/>
                  </a:cubicBezTo>
                  <a:cubicBezTo>
                    <a:pt x="59143" y="792236"/>
                    <a:pt x="59506" y="828667"/>
                    <a:pt x="53975" y="856324"/>
                  </a:cubicBezTo>
                  <a:cubicBezTo>
                    <a:pt x="53319" y="859606"/>
                    <a:pt x="51858" y="862674"/>
                    <a:pt x="50800" y="865849"/>
                  </a:cubicBezTo>
                  <a:cubicBezTo>
                    <a:pt x="49742" y="878549"/>
                    <a:pt x="49032" y="891283"/>
                    <a:pt x="47625" y="903949"/>
                  </a:cubicBezTo>
                  <a:cubicBezTo>
                    <a:pt x="44362" y="933312"/>
                    <a:pt x="45042" y="912504"/>
                    <a:pt x="41275" y="938874"/>
                  </a:cubicBezTo>
                  <a:cubicBezTo>
                    <a:pt x="35180" y="981538"/>
                    <a:pt x="41534" y="953711"/>
                    <a:pt x="34925" y="980149"/>
                  </a:cubicBezTo>
                  <a:cubicBezTo>
                    <a:pt x="29625" y="1027852"/>
                    <a:pt x="34276" y="990720"/>
                    <a:pt x="28575" y="1027774"/>
                  </a:cubicBezTo>
                  <a:cubicBezTo>
                    <a:pt x="24406" y="1054876"/>
                    <a:pt x="28000" y="1042200"/>
                    <a:pt x="22225" y="1059524"/>
                  </a:cubicBezTo>
                  <a:cubicBezTo>
                    <a:pt x="21167" y="1066932"/>
                    <a:pt x="20733" y="1074457"/>
                    <a:pt x="19050" y="1081749"/>
                  </a:cubicBezTo>
                  <a:cubicBezTo>
                    <a:pt x="17545" y="1088271"/>
                    <a:pt x="14817" y="1094449"/>
                    <a:pt x="12700" y="1100799"/>
                  </a:cubicBezTo>
                  <a:lnTo>
                    <a:pt x="6350" y="1119849"/>
                  </a:lnTo>
                  <a:cubicBezTo>
                    <a:pt x="5292" y="1123024"/>
                    <a:pt x="3831" y="1126092"/>
                    <a:pt x="3175" y="1129374"/>
                  </a:cubicBezTo>
                  <a:lnTo>
                    <a:pt x="0" y="1145249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任意多边形 458"/>
            <p:cNvSpPr/>
            <p:nvPr/>
          </p:nvSpPr>
          <p:spPr>
            <a:xfrm>
              <a:off x="5307120" y="2796840"/>
              <a:ext cx="98280" cy="979560"/>
            </a:xfrm>
            <a:custGeom>
              <a:avLst/>
              <a:gdLst/>
              <a:ahLst/>
              <a:rect l="l" t="t" r="r" b="b"/>
              <a:pathLst>
                <a:path w="115158" h="1166443">
                  <a:moveTo>
                    <a:pt x="88901" y="0"/>
                  </a:moveTo>
                  <a:cubicBezTo>
                    <a:pt x="144624" y="166583"/>
                    <a:pt x="94457" y="390857"/>
                    <a:pt x="93663" y="511573"/>
                  </a:cubicBezTo>
                  <a:cubicBezTo>
                    <a:pt x="92869" y="632289"/>
                    <a:pt x="87313" y="677731"/>
                    <a:pt x="84138" y="724298"/>
                  </a:cubicBezTo>
                  <a:cubicBezTo>
                    <a:pt x="80963" y="770865"/>
                    <a:pt x="77259" y="765044"/>
                    <a:pt x="74613" y="790973"/>
                  </a:cubicBezTo>
                  <a:cubicBezTo>
                    <a:pt x="71967" y="816902"/>
                    <a:pt x="70380" y="857119"/>
                    <a:pt x="68263" y="879873"/>
                  </a:cubicBezTo>
                  <a:cubicBezTo>
                    <a:pt x="66146" y="902627"/>
                    <a:pt x="65088" y="906861"/>
                    <a:pt x="61913" y="927498"/>
                  </a:cubicBezTo>
                  <a:cubicBezTo>
                    <a:pt x="58738" y="948136"/>
                    <a:pt x="53446" y="977769"/>
                    <a:pt x="49213" y="1003698"/>
                  </a:cubicBezTo>
                  <a:cubicBezTo>
                    <a:pt x="46038" y="1023806"/>
                    <a:pt x="44715" y="1055949"/>
                    <a:pt x="36513" y="1083073"/>
                  </a:cubicBezTo>
                  <a:cubicBezTo>
                    <a:pt x="29369" y="1102260"/>
                    <a:pt x="7607" y="1149074"/>
                    <a:pt x="0" y="1166443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任意多边形 459"/>
            <p:cNvSpPr/>
            <p:nvPr/>
          </p:nvSpPr>
          <p:spPr>
            <a:xfrm>
              <a:off x="5268960" y="2804760"/>
              <a:ext cx="107640" cy="985680"/>
            </a:xfrm>
            <a:custGeom>
              <a:avLst/>
              <a:gdLst/>
              <a:ahLst/>
              <a:rect l="l" t="t" r="r" b="b"/>
              <a:pathLst>
                <a:path w="125692" h="1173508">
                  <a:moveTo>
                    <a:pt x="103187" y="0"/>
                  </a:moveTo>
                  <a:cubicBezTo>
                    <a:pt x="151765" y="166584"/>
                    <a:pt x="106759" y="390857"/>
                    <a:pt x="105569" y="511573"/>
                  </a:cubicBezTo>
                  <a:cubicBezTo>
                    <a:pt x="104379" y="632289"/>
                    <a:pt x="98028" y="676946"/>
                    <a:pt x="96044" y="724298"/>
                  </a:cubicBezTo>
                  <a:cubicBezTo>
                    <a:pt x="94060" y="771650"/>
                    <a:pt x="96308" y="769754"/>
                    <a:pt x="93662" y="795683"/>
                  </a:cubicBezTo>
                  <a:cubicBezTo>
                    <a:pt x="91016" y="821612"/>
                    <a:pt x="90223" y="857511"/>
                    <a:pt x="87313" y="879873"/>
                  </a:cubicBezTo>
                  <a:cubicBezTo>
                    <a:pt x="84403" y="902235"/>
                    <a:pt x="79507" y="916095"/>
                    <a:pt x="76200" y="929853"/>
                  </a:cubicBezTo>
                  <a:cubicBezTo>
                    <a:pt x="72893" y="943611"/>
                    <a:pt x="72628" y="941786"/>
                    <a:pt x="67469" y="962423"/>
                  </a:cubicBezTo>
                  <a:cubicBezTo>
                    <a:pt x="62310" y="983060"/>
                    <a:pt x="56489" y="1018497"/>
                    <a:pt x="45244" y="1053678"/>
                  </a:cubicBezTo>
                  <a:cubicBezTo>
                    <a:pt x="33999" y="1088859"/>
                    <a:pt x="11410" y="1148053"/>
                    <a:pt x="0" y="117350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任意多边形 460"/>
            <p:cNvSpPr/>
            <p:nvPr/>
          </p:nvSpPr>
          <p:spPr>
            <a:xfrm>
              <a:off x="5181840" y="2949480"/>
              <a:ext cx="129960" cy="819000"/>
            </a:xfrm>
            <a:custGeom>
              <a:avLst/>
              <a:gdLst/>
              <a:ahLst/>
              <a:rect l="l" t="t" r="r" b="b"/>
              <a:pathLst>
                <a:path w="155232" h="921073">
                  <a:moveTo>
                    <a:pt x="145707" y="0"/>
                  </a:moveTo>
                  <a:cubicBezTo>
                    <a:pt x="146765" y="5292"/>
                    <a:pt x="147462" y="10669"/>
                    <a:pt x="148882" y="15875"/>
                  </a:cubicBezTo>
                  <a:cubicBezTo>
                    <a:pt x="150643" y="22333"/>
                    <a:pt x="155232" y="34925"/>
                    <a:pt x="155232" y="34925"/>
                  </a:cubicBezTo>
                  <a:cubicBezTo>
                    <a:pt x="154174" y="65617"/>
                    <a:pt x="153715" y="96335"/>
                    <a:pt x="152057" y="127000"/>
                  </a:cubicBezTo>
                  <a:cubicBezTo>
                    <a:pt x="151596" y="135520"/>
                    <a:pt x="149490" y="143889"/>
                    <a:pt x="148882" y="152400"/>
                  </a:cubicBezTo>
                  <a:cubicBezTo>
                    <a:pt x="146314" y="188354"/>
                    <a:pt x="145707" y="227542"/>
                    <a:pt x="142532" y="260350"/>
                  </a:cubicBezTo>
                  <a:cubicBezTo>
                    <a:pt x="139357" y="293158"/>
                    <a:pt x="134065" y="279400"/>
                    <a:pt x="129832" y="349250"/>
                  </a:cubicBezTo>
                  <a:cubicBezTo>
                    <a:pt x="125599" y="419100"/>
                    <a:pt x="121365" y="569383"/>
                    <a:pt x="117132" y="679450"/>
                  </a:cubicBezTo>
                  <a:cubicBezTo>
                    <a:pt x="103374" y="765175"/>
                    <a:pt x="12171" y="888794"/>
                    <a:pt x="0" y="921073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任意多边形 461"/>
            <p:cNvSpPr/>
            <p:nvPr/>
          </p:nvSpPr>
          <p:spPr>
            <a:xfrm>
              <a:off x="5219640" y="2928600"/>
              <a:ext cx="128520" cy="876240"/>
            </a:xfrm>
            <a:custGeom>
              <a:avLst/>
              <a:gdLst/>
              <a:ahLst/>
              <a:rect l="l" t="t" r="r" b="b"/>
              <a:pathLst>
                <a:path w="155232" h="1038895">
                  <a:moveTo>
                    <a:pt x="145707" y="0"/>
                  </a:moveTo>
                  <a:cubicBezTo>
                    <a:pt x="146765" y="5292"/>
                    <a:pt x="147462" y="10669"/>
                    <a:pt x="148882" y="15875"/>
                  </a:cubicBezTo>
                  <a:cubicBezTo>
                    <a:pt x="150643" y="22333"/>
                    <a:pt x="155232" y="34925"/>
                    <a:pt x="155232" y="34925"/>
                  </a:cubicBezTo>
                  <a:cubicBezTo>
                    <a:pt x="154174" y="65617"/>
                    <a:pt x="153715" y="96335"/>
                    <a:pt x="152057" y="127000"/>
                  </a:cubicBezTo>
                  <a:cubicBezTo>
                    <a:pt x="151596" y="135520"/>
                    <a:pt x="149490" y="143889"/>
                    <a:pt x="148882" y="152400"/>
                  </a:cubicBezTo>
                  <a:cubicBezTo>
                    <a:pt x="146314" y="188354"/>
                    <a:pt x="145707" y="227542"/>
                    <a:pt x="142532" y="260350"/>
                  </a:cubicBezTo>
                  <a:cubicBezTo>
                    <a:pt x="139357" y="293158"/>
                    <a:pt x="136511" y="262966"/>
                    <a:pt x="129832" y="349250"/>
                  </a:cubicBezTo>
                  <a:cubicBezTo>
                    <a:pt x="123153" y="435534"/>
                    <a:pt x="121364" y="679724"/>
                    <a:pt x="102458" y="778053"/>
                  </a:cubicBezTo>
                  <a:cubicBezTo>
                    <a:pt x="88700" y="863778"/>
                    <a:pt x="12171" y="1006616"/>
                    <a:pt x="0" y="1038895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任意多边形 462"/>
            <p:cNvSpPr/>
            <p:nvPr/>
          </p:nvSpPr>
          <p:spPr>
            <a:xfrm>
              <a:off x="5435640" y="2900160"/>
              <a:ext cx="90360" cy="841320"/>
            </a:xfrm>
            <a:custGeom>
              <a:avLst/>
              <a:gdLst/>
              <a:ahLst/>
              <a:rect l="l" t="t" r="r" b="b"/>
              <a:pathLst>
                <a:path w="105601" h="994809">
                  <a:moveTo>
                    <a:pt x="105570" y="0"/>
                  </a:moveTo>
                  <a:cubicBezTo>
                    <a:pt x="106524" y="171295"/>
                    <a:pt x="85328" y="245866"/>
                    <a:pt x="79375" y="337584"/>
                  </a:cubicBezTo>
                  <a:cubicBezTo>
                    <a:pt x="73422" y="429302"/>
                    <a:pt x="83770" y="480708"/>
                    <a:pt x="69850" y="550309"/>
                  </a:cubicBezTo>
                  <a:cubicBezTo>
                    <a:pt x="67683" y="561146"/>
                    <a:pt x="64854" y="574402"/>
                    <a:pt x="63500" y="585234"/>
                  </a:cubicBezTo>
                  <a:cubicBezTo>
                    <a:pt x="62181" y="595788"/>
                    <a:pt x="61383" y="606401"/>
                    <a:pt x="60325" y="616984"/>
                  </a:cubicBezTo>
                  <a:cubicBezTo>
                    <a:pt x="59143" y="641796"/>
                    <a:pt x="59506" y="678227"/>
                    <a:pt x="53975" y="705884"/>
                  </a:cubicBezTo>
                  <a:cubicBezTo>
                    <a:pt x="53319" y="709166"/>
                    <a:pt x="51858" y="712234"/>
                    <a:pt x="50800" y="715409"/>
                  </a:cubicBezTo>
                  <a:cubicBezTo>
                    <a:pt x="49742" y="728109"/>
                    <a:pt x="49032" y="740843"/>
                    <a:pt x="47625" y="753509"/>
                  </a:cubicBezTo>
                  <a:cubicBezTo>
                    <a:pt x="44362" y="782872"/>
                    <a:pt x="45042" y="762064"/>
                    <a:pt x="41275" y="788434"/>
                  </a:cubicBezTo>
                  <a:cubicBezTo>
                    <a:pt x="35180" y="831098"/>
                    <a:pt x="41534" y="803271"/>
                    <a:pt x="34925" y="829709"/>
                  </a:cubicBezTo>
                  <a:cubicBezTo>
                    <a:pt x="29625" y="877412"/>
                    <a:pt x="34276" y="840280"/>
                    <a:pt x="28575" y="877334"/>
                  </a:cubicBezTo>
                  <a:cubicBezTo>
                    <a:pt x="24406" y="904436"/>
                    <a:pt x="28000" y="891760"/>
                    <a:pt x="22225" y="909084"/>
                  </a:cubicBezTo>
                  <a:cubicBezTo>
                    <a:pt x="21167" y="916492"/>
                    <a:pt x="20733" y="924017"/>
                    <a:pt x="19050" y="931309"/>
                  </a:cubicBezTo>
                  <a:cubicBezTo>
                    <a:pt x="17545" y="937831"/>
                    <a:pt x="14817" y="944009"/>
                    <a:pt x="12700" y="950359"/>
                  </a:cubicBezTo>
                  <a:lnTo>
                    <a:pt x="6350" y="969409"/>
                  </a:lnTo>
                  <a:cubicBezTo>
                    <a:pt x="5292" y="972584"/>
                    <a:pt x="3831" y="975652"/>
                    <a:pt x="3175" y="978934"/>
                  </a:cubicBezTo>
                  <a:lnTo>
                    <a:pt x="0" y="994809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任意多边形 463"/>
            <p:cNvSpPr/>
            <p:nvPr/>
          </p:nvSpPr>
          <p:spPr>
            <a:xfrm>
              <a:off x="4708440" y="3016080"/>
              <a:ext cx="250560" cy="874440"/>
            </a:xfrm>
            <a:custGeom>
              <a:avLst/>
              <a:gdLst/>
              <a:ahLst/>
              <a:rect l="l" t="t" r="r" b="b"/>
              <a:pathLst>
                <a:path w="294598" h="1042488">
                  <a:moveTo>
                    <a:pt x="0" y="0"/>
                  </a:moveTo>
                  <a:cubicBezTo>
                    <a:pt x="4233" y="5292"/>
                    <a:pt x="34263" y="53294"/>
                    <a:pt x="43656" y="67763"/>
                  </a:cubicBezTo>
                  <a:cubicBezTo>
                    <a:pt x="53049" y="82232"/>
                    <a:pt x="52123" y="80463"/>
                    <a:pt x="56356" y="86813"/>
                  </a:cubicBezTo>
                  <a:lnTo>
                    <a:pt x="75406" y="115388"/>
                  </a:lnTo>
                  <a:cubicBezTo>
                    <a:pt x="84931" y="129146"/>
                    <a:pt x="105569" y="157192"/>
                    <a:pt x="113506" y="169363"/>
                  </a:cubicBezTo>
                  <a:cubicBezTo>
                    <a:pt x="125677" y="189471"/>
                    <a:pt x="140494" y="219634"/>
                    <a:pt x="148431" y="236038"/>
                  </a:cubicBezTo>
                  <a:cubicBezTo>
                    <a:pt x="156369" y="252442"/>
                    <a:pt x="153723" y="249796"/>
                    <a:pt x="161131" y="267788"/>
                  </a:cubicBezTo>
                  <a:cubicBezTo>
                    <a:pt x="168539" y="285780"/>
                    <a:pt x="182298" y="320176"/>
                    <a:pt x="192881" y="343988"/>
                  </a:cubicBezTo>
                  <a:cubicBezTo>
                    <a:pt x="203464" y="367800"/>
                    <a:pt x="212725" y="381030"/>
                    <a:pt x="224631" y="410663"/>
                  </a:cubicBezTo>
                  <a:cubicBezTo>
                    <a:pt x="236537" y="440296"/>
                    <a:pt x="254133" y="484217"/>
                    <a:pt x="264319" y="521788"/>
                  </a:cubicBezTo>
                  <a:cubicBezTo>
                    <a:pt x="274506" y="559359"/>
                    <a:pt x="282840" y="612276"/>
                    <a:pt x="285750" y="636088"/>
                  </a:cubicBezTo>
                  <a:cubicBezTo>
                    <a:pt x="289719" y="685300"/>
                    <a:pt x="291438" y="766263"/>
                    <a:pt x="292893" y="817063"/>
                  </a:cubicBezTo>
                  <a:cubicBezTo>
                    <a:pt x="294348" y="867863"/>
                    <a:pt x="294216" y="903317"/>
                    <a:pt x="294481" y="940888"/>
                  </a:cubicBezTo>
                  <a:cubicBezTo>
                    <a:pt x="294746" y="978459"/>
                    <a:pt x="294481" y="1008621"/>
                    <a:pt x="294481" y="104248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任意多边形 464"/>
            <p:cNvSpPr/>
            <p:nvPr/>
          </p:nvSpPr>
          <p:spPr>
            <a:xfrm>
              <a:off x="4627800" y="2928600"/>
              <a:ext cx="309240" cy="969840"/>
            </a:xfrm>
            <a:custGeom>
              <a:avLst/>
              <a:gdLst/>
              <a:ahLst/>
              <a:rect l="l" t="t" r="r" b="b"/>
              <a:pathLst>
                <a:path w="363654" h="1155700">
                  <a:moveTo>
                    <a:pt x="0" y="0"/>
                  </a:moveTo>
                  <a:cubicBezTo>
                    <a:pt x="4233" y="5292"/>
                    <a:pt x="91810" y="147638"/>
                    <a:pt x="112712" y="180975"/>
                  </a:cubicBezTo>
                  <a:cubicBezTo>
                    <a:pt x="133614" y="214312"/>
                    <a:pt x="121179" y="193675"/>
                    <a:pt x="125412" y="200025"/>
                  </a:cubicBezTo>
                  <a:lnTo>
                    <a:pt x="144462" y="228600"/>
                  </a:lnTo>
                  <a:cubicBezTo>
                    <a:pt x="153987" y="242358"/>
                    <a:pt x="174625" y="270404"/>
                    <a:pt x="182562" y="282575"/>
                  </a:cubicBezTo>
                  <a:cubicBezTo>
                    <a:pt x="194733" y="302683"/>
                    <a:pt x="209550" y="332846"/>
                    <a:pt x="217487" y="349250"/>
                  </a:cubicBezTo>
                  <a:cubicBezTo>
                    <a:pt x="225425" y="365654"/>
                    <a:pt x="222779" y="363008"/>
                    <a:pt x="230187" y="381000"/>
                  </a:cubicBezTo>
                  <a:cubicBezTo>
                    <a:pt x="237595" y="398992"/>
                    <a:pt x="251354" y="433388"/>
                    <a:pt x="261937" y="457200"/>
                  </a:cubicBezTo>
                  <a:cubicBezTo>
                    <a:pt x="272520" y="481012"/>
                    <a:pt x="281781" y="494242"/>
                    <a:pt x="293687" y="523875"/>
                  </a:cubicBezTo>
                  <a:cubicBezTo>
                    <a:pt x="305593" y="553508"/>
                    <a:pt x="323189" y="597429"/>
                    <a:pt x="333375" y="635000"/>
                  </a:cubicBezTo>
                  <a:cubicBezTo>
                    <a:pt x="343562" y="672571"/>
                    <a:pt x="351896" y="725488"/>
                    <a:pt x="354806" y="749300"/>
                  </a:cubicBezTo>
                  <a:cubicBezTo>
                    <a:pt x="358775" y="798512"/>
                    <a:pt x="360494" y="879475"/>
                    <a:pt x="361949" y="930275"/>
                  </a:cubicBezTo>
                  <a:cubicBezTo>
                    <a:pt x="363404" y="981075"/>
                    <a:pt x="363272" y="1016529"/>
                    <a:pt x="363537" y="1054100"/>
                  </a:cubicBezTo>
                  <a:cubicBezTo>
                    <a:pt x="363802" y="1091671"/>
                    <a:pt x="363537" y="1121833"/>
                    <a:pt x="363537" y="115570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465"/>
            <p:cNvSpPr/>
            <p:nvPr/>
          </p:nvSpPr>
          <p:spPr>
            <a:xfrm>
              <a:off x="4594320" y="2930400"/>
              <a:ext cx="322200" cy="976320"/>
            </a:xfrm>
            <a:custGeom>
              <a:avLst/>
              <a:gdLst/>
              <a:ahLst/>
              <a:rect l="l" t="t" r="r" b="b"/>
              <a:pathLst>
                <a:path w="377942" h="1162775">
                  <a:moveTo>
                    <a:pt x="0" y="0"/>
                  </a:moveTo>
                  <a:cubicBezTo>
                    <a:pt x="4233" y="5292"/>
                    <a:pt x="103717" y="153533"/>
                    <a:pt x="127000" y="188050"/>
                  </a:cubicBezTo>
                  <a:cubicBezTo>
                    <a:pt x="150283" y="222567"/>
                    <a:pt x="135467" y="200750"/>
                    <a:pt x="139700" y="207100"/>
                  </a:cubicBezTo>
                  <a:lnTo>
                    <a:pt x="158750" y="235675"/>
                  </a:lnTo>
                  <a:cubicBezTo>
                    <a:pt x="168275" y="249433"/>
                    <a:pt x="188913" y="277479"/>
                    <a:pt x="196850" y="289650"/>
                  </a:cubicBezTo>
                  <a:cubicBezTo>
                    <a:pt x="209021" y="309758"/>
                    <a:pt x="223838" y="339921"/>
                    <a:pt x="231775" y="356325"/>
                  </a:cubicBezTo>
                  <a:cubicBezTo>
                    <a:pt x="239713" y="372729"/>
                    <a:pt x="237067" y="370083"/>
                    <a:pt x="244475" y="388075"/>
                  </a:cubicBezTo>
                  <a:cubicBezTo>
                    <a:pt x="251883" y="406067"/>
                    <a:pt x="265642" y="440463"/>
                    <a:pt x="276225" y="464275"/>
                  </a:cubicBezTo>
                  <a:cubicBezTo>
                    <a:pt x="286808" y="488087"/>
                    <a:pt x="296069" y="501317"/>
                    <a:pt x="307975" y="530950"/>
                  </a:cubicBezTo>
                  <a:cubicBezTo>
                    <a:pt x="319881" y="560583"/>
                    <a:pt x="337477" y="604504"/>
                    <a:pt x="347663" y="642075"/>
                  </a:cubicBezTo>
                  <a:cubicBezTo>
                    <a:pt x="357850" y="679646"/>
                    <a:pt x="366184" y="732563"/>
                    <a:pt x="369094" y="756375"/>
                  </a:cubicBezTo>
                  <a:cubicBezTo>
                    <a:pt x="373063" y="805587"/>
                    <a:pt x="374782" y="886550"/>
                    <a:pt x="376237" y="937350"/>
                  </a:cubicBezTo>
                  <a:cubicBezTo>
                    <a:pt x="377692" y="988150"/>
                    <a:pt x="377560" y="1023604"/>
                    <a:pt x="377825" y="1061175"/>
                  </a:cubicBezTo>
                  <a:cubicBezTo>
                    <a:pt x="378090" y="1098746"/>
                    <a:pt x="377825" y="1128908"/>
                    <a:pt x="377825" y="1162775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任意多边形 466"/>
            <p:cNvSpPr/>
            <p:nvPr/>
          </p:nvSpPr>
          <p:spPr>
            <a:xfrm>
              <a:off x="4621320" y="3009600"/>
              <a:ext cx="274320" cy="920520"/>
            </a:xfrm>
            <a:custGeom>
              <a:avLst/>
              <a:gdLst/>
              <a:ahLst/>
              <a:rect l="l" t="t" r="r" b="b"/>
              <a:pathLst>
                <a:path w="314223" h="1077867">
                  <a:moveTo>
                    <a:pt x="0" y="0"/>
                  </a:moveTo>
                  <a:cubicBezTo>
                    <a:pt x="6284" y="15195"/>
                    <a:pt x="60062" y="102493"/>
                    <a:pt x="80170" y="136617"/>
                  </a:cubicBezTo>
                  <a:cubicBezTo>
                    <a:pt x="100278" y="170741"/>
                    <a:pt x="112714" y="192573"/>
                    <a:pt x="120651" y="204744"/>
                  </a:cubicBezTo>
                  <a:cubicBezTo>
                    <a:pt x="142611" y="241271"/>
                    <a:pt x="191427" y="319497"/>
                    <a:pt x="211932" y="355782"/>
                  </a:cubicBezTo>
                  <a:cubicBezTo>
                    <a:pt x="232437" y="392067"/>
                    <a:pt x="231776" y="392824"/>
                    <a:pt x="243682" y="422457"/>
                  </a:cubicBezTo>
                  <a:cubicBezTo>
                    <a:pt x="255588" y="452090"/>
                    <a:pt x="273184" y="496011"/>
                    <a:pt x="283370" y="533582"/>
                  </a:cubicBezTo>
                  <a:cubicBezTo>
                    <a:pt x="293557" y="571153"/>
                    <a:pt x="301891" y="624070"/>
                    <a:pt x="304801" y="647882"/>
                  </a:cubicBezTo>
                  <a:cubicBezTo>
                    <a:pt x="308770" y="697094"/>
                    <a:pt x="310489" y="778057"/>
                    <a:pt x="311944" y="828857"/>
                  </a:cubicBezTo>
                  <a:cubicBezTo>
                    <a:pt x="313399" y="879657"/>
                    <a:pt x="315252" y="911180"/>
                    <a:pt x="313532" y="952682"/>
                  </a:cubicBezTo>
                  <a:cubicBezTo>
                    <a:pt x="311812" y="994184"/>
                    <a:pt x="320675" y="1044000"/>
                    <a:pt x="301625" y="10778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任意多边形 467"/>
            <p:cNvSpPr/>
            <p:nvPr/>
          </p:nvSpPr>
          <p:spPr>
            <a:xfrm>
              <a:off x="4362480" y="2981160"/>
              <a:ext cx="425160" cy="1044360"/>
            </a:xfrm>
            <a:custGeom>
              <a:avLst/>
              <a:gdLst/>
              <a:ahLst/>
              <a:rect l="l" t="t" r="r" b="b"/>
              <a:pathLst>
                <a:path w="489637" h="1252434">
                  <a:moveTo>
                    <a:pt x="0" y="0"/>
                  </a:moveTo>
                  <a:cubicBezTo>
                    <a:pt x="17859" y="17198"/>
                    <a:pt x="56500" y="79864"/>
                    <a:pt x="74015" y="103939"/>
                  </a:cubicBezTo>
                  <a:cubicBezTo>
                    <a:pt x="91530" y="128014"/>
                    <a:pt x="98210" y="133341"/>
                    <a:pt x="105089" y="144453"/>
                  </a:cubicBezTo>
                  <a:cubicBezTo>
                    <a:pt x="117260" y="162445"/>
                    <a:pt x="136761" y="189683"/>
                    <a:pt x="144698" y="202383"/>
                  </a:cubicBezTo>
                  <a:cubicBezTo>
                    <a:pt x="161631" y="227254"/>
                    <a:pt x="181393" y="269995"/>
                    <a:pt x="197320" y="293678"/>
                  </a:cubicBezTo>
                  <a:cubicBezTo>
                    <a:pt x="213247" y="317361"/>
                    <a:pt x="227813" y="330191"/>
                    <a:pt x="240261" y="344478"/>
                  </a:cubicBezTo>
                  <a:cubicBezTo>
                    <a:pt x="252710" y="358766"/>
                    <a:pt x="260899" y="365116"/>
                    <a:pt x="272011" y="379403"/>
                  </a:cubicBezTo>
                  <a:cubicBezTo>
                    <a:pt x="283124" y="393691"/>
                    <a:pt x="293178" y="411153"/>
                    <a:pt x="306936" y="430203"/>
                  </a:cubicBezTo>
                  <a:cubicBezTo>
                    <a:pt x="320694" y="449253"/>
                    <a:pt x="343449" y="477828"/>
                    <a:pt x="354561" y="493703"/>
                  </a:cubicBezTo>
                  <a:cubicBezTo>
                    <a:pt x="365674" y="509578"/>
                    <a:pt x="366203" y="511695"/>
                    <a:pt x="373611" y="525453"/>
                  </a:cubicBezTo>
                  <a:cubicBezTo>
                    <a:pt x="381019" y="539211"/>
                    <a:pt x="386443" y="547678"/>
                    <a:pt x="399011" y="576253"/>
                  </a:cubicBezTo>
                  <a:cubicBezTo>
                    <a:pt x="411579" y="604828"/>
                    <a:pt x="435259" y="655628"/>
                    <a:pt x="449017" y="696903"/>
                  </a:cubicBezTo>
                  <a:cubicBezTo>
                    <a:pt x="462775" y="738178"/>
                    <a:pt x="475079" y="776410"/>
                    <a:pt x="481561" y="823903"/>
                  </a:cubicBezTo>
                  <a:cubicBezTo>
                    <a:pt x="488043" y="871396"/>
                    <a:pt x="492144" y="933574"/>
                    <a:pt x="487911" y="981860"/>
                  </a:cubicBezTo>
                  <a:cubicBezTo>
                    <a:pt x="483678" y="1030146"/>
                    <a:pt x="468596" y="1079093"/>
                    <a:pt x="456161" y="1113621"/>
                  </a:cubicBezTo>
                  <a:cubicBezTo>
                    <a:pt x="443726" y="1148149"/>
                    <a:pt x="429703" y="1166935"/>
                    <a:pt x="413299" y="1189028"/>
                  </a:cubicBezTo>
                  <a:cubicBezTo>
                    <a:pt x="396895" y="1211121"/>
                    <a:pt x="377051" y="1235859"/>
                    <a:pt x="357736" y="1246178"/>
                  </a:cubicBezTo>
                  <a:cubicBezTo>
                    <a:pt x="338421" y="1256497"/>
                    <a:pt x="333394" y="1250940"/>
                    <a:pt x="297411" y="125094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任意多边形 468"/>
            <p:cNvSpPr/>
            <p:nvPr/>
          </p:nvSpPr>
          <p:spPr>
            <a:xfrm>
              <a:off x="4384800" y="2970000"/>
              <a:ext cx="422280" cy="996840"/>
            </a:xfrm>
            <a:custGeom>
              <a:avLst/>
              <a:gdLst/>
              <a:ahLst/>
              <a:rect l="l" t="t" r="r" b="b"/>
              <a:pathLst>
                <a:path w="495716" h="1200944">
                  <a:moveTo>
                    <a:pt x="0" y="0"/>
                  </a:moveTo>
                  <a:cubicBezTo>
                    <a:pt x="7408" y="1058"/>
                    <a:pt x="18256" y="21564"/>
                    <a:pt x="30956" y="38894"/>
                  </a:cubicBezTo>
                  <a:cubicBezTo>
                    <a:pt x="43656" y="56224"/>
                    <a:pt x="61515" y="84402"/>
                    <a:pt x="76200" y="103981"/>
                  </a:cubicBezTo>
                  <a:cubicBezTo>
                    <a:pt x="90885" y="123560"/>
                    <a:pt x="112184" y="145257"/>
                    <a:pt x="119063" y="156369"/>
                  </a:cubicBezTo>
                  <a:cubicBezTo>
                    <a:pt x="131234" y="174361"/>
                    <a:pt x="143669" y="199232"/>
                    <a:pt x="151606" y="211932"/>
                  </a:cubicBezTo>
                  <a:cubicBezTo>
                    <a:pt x="168539" y="236803"/>
                    <a:pt x="190764" y="282442"/>
                    <a:pt x="211137" y="312737"/>
                  </a:cubicBezTo>
                  <a:cubicBezTo>
                    <a:pt x="231510" y="343032"/>
                    <a:pt x="256778" y="372136"/>
                    <a:pt x="273844" y="393700"/>
                  </a:cubicBezTo>
                  <a:cubicBezTo>
                    <a:pt x="290910" y="415264"/>
                    <a:pt x="299377" y="421878"/>
                    <a:pt x="313532" y="442119"/>
                  </a:cubicBezTo>
                  <a:cubicBezTo>
                    <a:pt x="327687" y="462360"/>
                    <a:pt x="344223" y="489215"/>
                    <a:pt x="358775" y="515144"/>
                  </a:cubicBezTo>
                  <a:cubicBezTo>
                    <a:pt x="373327" y="541073"/>
                    <a:pt x="384704" y="565018"/>
                    <a:pt x="400844" y="597694"/>
                  </a:cubicBezTo>
                  <a:cubicBezTo>
                    <a:pt x="416984" y="630370"/>
                    <a:pt x="441061" y="670719"/>
                    <a:pt x="455613" y="711200"/>
                  </a:cubicBezTo>
                  <a:cubicBezTo>
                    <a:pt x="470165" y="751681"/>
                    <a:pt x="481675" y="791501"/>
                    <a:pt x="488157" y="840581"/>
                  </a:cubicBezTo>
                  <a:cubicBezTo>
                    <a:pt x="494639" y="889661"/>
                    <a:pt x="497550" y="957791"/>
                    <a:pt x="494507" y="1005681"/>
                  </a:cubicBezTo>
                  <a:cubicBezTo>
                    <a:pt x="491464" y="1053571"/>
                    <a:pt x="480748" y="1095375"/>
                    <a:pt x="469900" y="1127919"/>
                  </a:cubicBezTo>
                  <a:cubicBezTo>
                    <a:pt x="459052" y="1160463"/>
                    <a:pt x="446220" y="1179248"/>
                    <a:pt x="429419" y="120094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任意多边形 469"/>
            <p:cNvSpPr/>
            <p:nvPr/>
          </p:nvSpPr>
          <p:spPr>
            <a:xfrm>
              <a:off x="4502160" y="3078000"/>
              <a:ext cx="322200" cy="896760"/>
            </a:xfrm>
            <a:custGeom>
              <a:avLst/>
              <a:gdLst/>
              <a:ahLst/>
              <a:rect l="l" t="t" r="r" b="b"/>
              <a:pathLst>
                <a:path w="376414" h="1080294">
                  <a:moveTo>
                    <a:pt x="0" y="0"/>
                  </a:moveTo>
                  <a:cubicBezTo>
                    <a:pt x="12171" y="17992"/>
                    <a:pt x="36513" y="64294"/>
                    <a:pt x="44450" y="76994"/>
                  </a:cubicBezTo>
                  <a:cubicBezTo>
                    <a:pt x="61383" y="101865"/>
                    <a:pt x="90487" y="150548"/>
                    <a:pt x="106362" y="175419"/>
                  </a:cubicBezTo>
                  <a:cubicBezTo>
                    <a:pt x="122237" y="200290"/>
                    <a:pt x="128852" y="211932"/>
                    <a:pt x="139700" y="226219"/>
                  </a:cubicBezTo>
                  <a:cubicBezTo>
                    <a:pt x="150548" y="240506"/>
                    <a:pt x="160338" y="246857"/>
                    <a:pt x="171450" y="261144"/>
                  </a:cubicBezTo>
                  <a:cubicBezTo>
                    <a:pt x="182563" y="275432"/>
                    <a:pt x="193807" y="292100"/>
                    <a:pt x="206375" y="311944"/>
                  </a:cubicBezTo>
                  <a:cubicBezTo>
                    <a:pt x="218943" y="331788"/>
                    <a:pt x="231907" y="354277"/>
                    <a:pt x="246856" y="380206"/>
                  </a:cubicBezTo>
                  <a:cubicBezTo>
                    <a:pt x="261805" y="406135"/>
                    <a:pt x="279929" y="433255"/>
                    <a:pt x="296069" y="467518"/>
                  </a:cubicBezTo>
                  <a:cubicBezTo>
                    <a:pt x="312209" y="501781"/>
                    <a:pt x="331126" y="544909"/>
                    <a:pt x="343694" y="585787"/>
                  </a:cubicBezTo>
                  <a:cubicBezTo>
                    <a:pt x="356262" y="626665"/>
                    <a:pt x="366183" y="664502"/>
                    <a:pt x="371475" y="712788"/>
                  </a:cubicBezTo>
                  <a:cubicBezTo>
                    <a:pt x="376767" y="761074"/>
                    <a:pt x="377296" y="827220"/>
                    <a:pt x="375444" y="875506"/>
                  </a:cubicBezTo>
                  <a:cubicBezTo>
                    <a:pt x="373592" y="923792"/>
                    <a:pt x="370020" y="968375"/>
                    <a:pt x="360363" y="1002506"/>
                  </a:cubicBezTo>
                  <a:cubicBezTo>
                    <a:pt x="350706" y="1036637"/>
                    <a:pt x="334698" y="1059392"/>
                    <a:pt x="317500" y="108029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任意多边形 470"/>
            <p:cNvSpPr/>
            <p:nvPr/>
          </p:nvSpPr>
          <p:spPr>
            <a:xfrm>
              <a:off x="4538880" y="3090600"/>
              <a:ext cx="296640" cy="900000"/>
            </a:xfrm>
            <a:custGeom>
              <a:avLst/>
              <a:gdLst/>
              <a:ahLst/>
              <a:rect l="l" t="t" r="r" b="b"/>
              <a:pathLst>
                <a:path w="346637" h="1082675">
                  <a:moveTo>
                    <a:pt x="0" y="0"/>
                  </a:moveTo>
                  <a:cubicBezTo>
                    <a:pt x="12171" y="17992"/>
                    <a:pt x="22226" y="47625"/>
                    <a:pt x="30163" y="60325"/>
                  </a:cubicBezTo>
                  <a:cubicBezTo>
                    <a:pt x="47096" y="85196"/>
                    <a:pt x="84005" y="137583"/>
                    <a:pt x="103981" y="168275"/>
                  </a:cubicBezTo>
                  <a:cubicBezTo>
                    <a:pt x="123957" y="198967"/>
                    <a:pt x="136525" y="223309"/>
                    <a:pt x="150019" y="244475"/>
                  </a:cubicBezTo>
                  <a:cubicBezTo>
                    <a:pt x="163513" y="265641"/>
                    <a:pt x="171979" y="276225"/>
                    <a:pt x="184944" y="295275"/>
                  </a:cubicBezTo>
                  <a:cubicBezTo>
                    <a:pt x="197909" y="314325"/>
                    <a:pt x="213255" y="334037"/>
                    <a:pt x="227807" y="358776"/>
                  </a:cubicBezTo>
                  <a:cubicBezTo>
                    <a:pt x="242359" y="383515"/>
                    <a:pt x="256910" y="409047"/>
                    <a:pt x="272256" y="443707"/>
                  </a:cubicBezTo>
                  <a:cubicBezTo>
                    <a:pt x="287602" y="478367"/>
                    <a:pt x="307710" y="523875"/>
                    <a:pt x="319881" y="566737"/>
                  </a:cubicBezTo>
                  <a:cubicBezTo>
                    <a:pt x="332052" y="609599"/>
                    <a:pt x="342106" y="631825"/>
                    <a:pt x="345281" y="700881"/>
                  </a:cubicBezTo>
                  <a:cubicBezTo>
                    <a:pt x="348456" y="769937"/>
                    <a:pt x="345943" y="917443"/>
                    <a:pt x="338932" y="981075"/>
                  </a:cubicBezTo>
                  <a:cubicBezTo>
                    <a:pt x="331921" y="1044707"/>
                    <a:pt x="320411" y="1060979"/>
                    <a:pt x="303213" y="1082675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任意多边形 471"/>
            <p:cNvSpPr/>
            <p:nvPr/>
          </p:nvSpPr>
          <p:spPr>
            <a:xfrm>
              <a:off x="4611600" y="3055680"/>
              <a:ext cx="266400" cy="903240"/>
            </a:xfrm>
            <a:custGeom>
              <a:avLst/>
              <a:gdLst/>
              <a:ahLst/>
              <a:rect l="l" t="t" r="r" b="b"/>
              <a:pathLst>
                <a:path w="314223" h="1077867">
                  <a:moveTo>
                    <a:pt x="0" y="0"/>
                  </a:moveTo>
                  <a:cubicBezTo>
                    <a:pt x="6284" y="15195"/>
                    <a:pt x="60062" y="102493"/>
                    <a:pt x="80170" y="136617"/>
                  </a:cubicBezTo>
                  <a:cubicBezTo>
                    <a:pt x="100278" y="170741"/>
                    <a:pt x="112714" y="192573"/>
                    <a:pt x="120651" y="204744"/>
                  </a:cubicBezTo>
                  <a:cubicBezTo>
                    <a:pt x="142611" y="241271"/>
                    <a:pt x="191427" y="319497"/>
                    <a:pt x="211932" y="355782"/>
                  </a:cubicBezTo>
                  <a:cubicBezTo>
                    <a:pt x="232437" y="392067"/>
                    <a:pt x="231776" y="392824"/>
                    <a:pt x="243682" y="422457"/>
                  </a:cubicBezTo>
                  <a:cubicBezTo>
                    <a:pt x="255588" y="452090"/>
                    <a:pt x="273184" y="496011"/>
                    <a:pt x="283370" y="533582"/>
                  </a:cubicBezTo>
                  <a:cubicBezTo>
                    <a:pt x="293557" y="571153"/>
                    <a:pt x="301891" y="624070"/>
                    <a:pt x="304801" y="647882"/>
                  </a:cubicBezTo>
                  <a:cubicBezTo>
                    <a:pt x="308770" y="697094"/>
                    <a:pt x="310489" y="778057"/>
                    <a:pt x="311944" y="828857"/>
                  </a:cubicBezTo>
                  <a:cubicBezTo>
                    <a:pt x="313399" y="879657"/>
                    <a:pt x="315252" y="911180"/>
                    <a:pt x="313532" y="952682"/>
                  </a:cubicBezTo>
                  <a:cubicBezTo>
                    <a:pt x="311812" y="994184"/>
                    <a:pt x="320675" y="1044000"/>
                    <a:pt x="301625" y="10778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任意多边形 472"/>
            <p:cNvSpPr/>
            <p:nvPr/>
          </p:nvSpPr>
          <p:spPr>
            <a:xfrm>
              <a:off x="4562640" y="3089160"/>
              <a:ext cx="290520" cy="917640"/>
            </a:xfrm>
            <a:custGeom>
              <a:avLst/>
              <a:gdLst/>
              <a:ahLst/>
              <a:rect l="l" t="t" r="r" b="b"/>
              <a:pathLst>
                <a:path w="323404" h="1094621">
                  <a:moveTo>
                    <a:pt x="0" y="0"/>
                  </a:moveTo>
                  <a:cubicBezTo>
                    <a:pt x="12171" y="17992"/>
                    <a:pt x="29248" y="52346"/>
                    <a:pt x="37185" y="65046"/>
                  </a:cubicBezTo>
                  <a:cubicBezTo>
                    <a:pt x="54118" y="89917"/>
                    <a:pt x="75679" y="130469"/>
                    <a:pt x="94821" y="161171"/>
                  </a:cubicBezTo>
                  <a:cubicBezTo>
                    <a:pt x="113963" y="191873"/>
                    <a:pt x="138565" y="226503"/>
                    <a:pt x="152038" y="249257"/>
                  </a:cubicBezTo>
                  <a:cubicBezTo>
                    <a:pt x="165512" y="272011"/>
                    <a:pt x="163014" y="277452"/>
                    <a:pt x="175662" y="297696"/>
                  </a:cubicBezTo>
                  <a:cubicBezTo>
                    <a:pt x="188310" y="317940"/>
                    <a:pt x="214049" y="345983"/>
                    <a:pt x="227928" y="370722"/>
                  </a:cubicBezTo>
                  <a:cubicBezTo>
                    <a:pt x="241807" y="395461"/>
                    <a:pt x="247418" y="413055"/>
                    <a:pt x="258936" y="446128"/>
                  </a:cubicBezTo>
                  <a:cubicBezTo>
                    <a:pt x="270454" y="479201"/>
                    <a:pt x="286453" y="526296"/>
                    <a:pt x="297036" y="569158"/>
                  </a:cubicBezTo>
                  <a:cubicBezTo>
                    <a:pt x="307619" y="612020"/>
                    <a:pt x="319261" y="634246"/>
                    <a:pt x="322436" y="703302"/>
                  </a:cubicBezTo>
                  <a:cubicBezTo>
                    <a:pt x="325611" y="772358"/>
                    <a:pt x="320320" y="918276"/>
                    <a:pt x="316087" y="983496"/>
                  </a:cubicBezTo>
                  <a:cubicBezTo>
                    <a:pt x="311854" y="1048716"/>
                    <a:pt x="309474" y="1061019"/>
                    <a:pt x="297038" y="109462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任意多边形 473"/>
            <p:cNvSpPr/>
            <p:nvPr/>
          </p:nvSpPr>
          <p:spPr>
            <a:xfrm>
              <a:off x="4587840" y="3081240"/>
              <a:ext cx="277560" cy="896760"/>
            </a:xfrm>
            <a:custGeom>
              <a:avLst/>
              <a:gdLst/>
              <a:ahLst/>
              <a:rect l="l" t="t" r="r" b="b"/>
              <a:pathLst>
                <a:path w="323920" h="1073150">
                  <a:moveTo>
                    <a:pt x="0" y="0"/>
                  </a:moveTo>
                  <a:cubicBezTo>
                    <a:pt x="12171" y="17992"/>
                    <a:pt x="46038" y="64294"/>
                    <a:pt x="53975" y="76994"/>
                  </a:cubicBezTo>
                  <a:cubicBezTo>
                    <a:pt x="70908" y="101865"/>
                    <a:pt x="95515" y="150680"/>
                    <a:pt x="113506" y="182562"/>
                  </a:cubicBezTo>
                  <a:cubicBezTo>
                    <a:pt x="131498" y="214444"/>
                    <a:pt x="148034" y="244740"/>
                    <a:pt x="161924" y="268288"/>
                  </a:cubicBezTo>
                  <a:cubicBezTo>
                    <a:pt x="175814" y="291836"/>
                    <a:pt x="183488" y="303609"/>
                    <a:pt x="196849" y="323850"/>
                  </a:cubicBezTo>
                  <a:cubicBezTo>
                    <a:pt x="210210" y="344091"/>
                    <a:pt x="228335" y="364993"/>
                    <a:pt x="242093" y="389732"/>
                  </a:cubicBezTo>
                  <a:cubicBezTo>
                    <a:pt x="255851" y="414471"/>
                    <a:pt x="267625" y="438019"/>
                    <a:pt x="279399" y="472282"/>
                  </a:cubicBezTo>
                  <a:cubicBezTo>
                    <a:pt x="291173" y="506545"/>
                    <a:pt x="305329" y="552450"/>
                    <a:pt x="312737" y="595312"/>
                  </a:cubicBezTo>
                  <a:cubicBezTo>
                    <a:pt x="320145" y="638174"/>
                    <a:pt x="323055" y="660400"/>
                    <a:pt x="323849" y="729456"/>
                  </a:cubicBezTo>
                  <a:cubicBezTo>
                    <a:pt x="324643" y="798512"/>
                    <a:pt x="318558" y="952368"/>
                    <a:pt x="317500" y="1009650"/>
                  </a:cubicBezTo>
                  <a:cubicBezTo>
                    <a:pt x="316442" y="1066932"/>
                    <a:pt x="320409" y="1037167"/>
                    <a:pt x="317499" y="10731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直接连接符 474"/>
            <p:cNvSpPr/>
            <p:nvPr/>
          </p:nvSpPr>
          <p:spPr>
            <a:xfrm>
              <a:off x="4491000" y="4228920"/>
              <a:ext cx="85680" cy="37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直接连接符 475"/>
            <p:cNvSpPr/>
            <p:nvPr/>
          </p:nvSpPr>
          <p:spPr>
            <a:xfrm flipV="1">
              <a:off x="4579920" y="4107960"/>
              <a:ext cx="0" cy="158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直接连接符 476"/>
            <p:cNvSpPr/>
            <p:nvPr/>
          </p:nvSpPr>
          <p:spPr>
            <a:xfrm flipV="1">
              <a:off x="4579920" y="4063680"/>
              <a:ext cx="12996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直接连接符 477"/>
            <p:cNvSpPr/>
            <p:nvPr/>
          </p:nvSpPr>
          <p:spPr>
            <a:xfrm flipV="1">
              <a:off x="4576680" y="4187520"/>
              <a:ext cx="233280" cy="82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直接连接符 478"/>
            <p:cNvSpPr/>
            <p:nvPr/>
          </p:nvSpPr>
          <p:spPr>
            <a:xfrm flipV="1">
              <a:off x="4491000" y="4066920"/>
              <a:ext cx="0" cy="163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直接连接符 479"/>
            <p:cNvSpPr/>
            <p:nvPr/>
          </p:nvSpPr>
          <p:spPr>
            <a:xfrm>
              <a:off x="4492800" y="4064040"/>
              <a:ext cx="90360" cy="44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直接连接符 480"/>
            <p:cNvSpPr/>
            <p:nvPr/>
          </p:nvSpPr>
          <p:spPr>
            <a:xfrm flipV="1">
              <a:off x="4491000" y="4052520"/>
              <a:ext cx="36360" cy="14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直接连接符 481"/>
            <p:cNvSpPr/>
            <p:nvPr/>
          </p:nvSpPr>
          <p:spPr>
            <a:xfrm flipV="1">
              <a:off x="4584600" y="4005000"/>
              <a:ext cx="85680" cy="252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直接连接符 482"/>
            <p:cNvSpPr/>
            <p:nvPr/>
          </p:nvSpPr>
          <p:spPr>
            <a:xfrm flipV="1">
              <a:off x="4579920" y="3971880"/>
              <a:ext cx="115560" cy="33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直接连接符 483"/>
            <p:cNvSpPr/>
            <p:nvPr/>
          </p:nvSpPr>
          <p:spPr>
            <a:xfrm>
              <a:off x="4583160" y="4006800"/>
              <a:ext cx="0" cy="72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直接连接符 484"/>
            <p:cNvSpPr/>
            <p:nvPr/>
          </p:nvSpPr>
          <p:spPr>
            <a:xfrm flipV="1">
              <a:off x="4583160" y="4043160"/>
              <a:ext cx="123480" cy="41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直接连接符 485"/>
            <p:cNvSpPr/>
            <p:nvPr/>
          </p:nvSpPr>
          <p:spPr>
            <a:xfrm flipH="1" flipV="1">
              <a:off x="4525560" y="4053960"/>
              <a:ext cx="53640" cy="28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直接连接符 486"/>
            <p:cNvSpPr/>
            <p:nvPr/>
          </p:nvSpPr>
          <p:spPr>
            <a:xfrm flipV="1">
              <a:off x="4525920" y="3974760"/>
              <a:ext cx="0" cy="83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直接连接符 487"/>
            <p:cNvSpPr/>
            <p:nvPr/>
          </p:nvSpPr>
          <p:spPr>
            <a:xfrm flipH="1" flipV="1">
              <a:off x="4525560" y="3974760"/>
              <a:ext cx="60120" cy="34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直接连接符 488"/>
            <p:cNvSpPr/>
            <p:nvPr/>
          </p:nvSpPr>
          <p:spPr>
            <a:xfrm flipV="1">
              <a:off x="4524480" y="3911400"/>
              <a:ext cx="212400" cy="63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任意多边形 489"/>
            <p:cNvSpPr/>
            <p:nvPr/>
          </p:nvSpPr>
          <p:spPr>
            <a:xfrm>
              <a:off x="4368960" y="3106440"/>
              <a:ext cx="50760" cy="857160"/>
            </a:xfrm>
            <a:custGeom>
              <a:avLst/>
              <a:gdLst/>
              <a:ahLst/>
              <a:rect l="l" t="t" r="r" b="b"/>
              <a:pathLst>
                <a:path w="34770" h="984049">
                  <a:moveTo>
                    <a:pt x="34770" y="0"/>
                  </a:moveTo>
                  <a:cubicBezTo>
                    <a:pt x="33182" y="171450"/>
                    <a:pt x="33066" y="359666"/>
                    <a:pt x="30007" y="493512"/>
                  </a:cubicBezTo>
                  <a:cubicBezTo>
                    <a:pt x="26948" y="627358"/>
                    <a:pt x="21418" y="721318"/>
                    <a:pt x="16417" y="803074"/>
                  </a:cubicBezTo>
                  <a:cubicBezTo>
                    <a:pt x="11416" y="884830"/>
                    <a:pt x="5988" y="946346"/>
                    <a:pt x="0" y="98404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任意多边形 490"/>
            <p:cNvSpPr/>
            <p:nvPr/>
          </p:nvSpPr>
          <p:spPr>
            <a:xfrm>
              <a:off x="4395960" y="3139920"/>
              <a:ext cx="42840" cy="815760"/>
            </a:xfrm>
            <a:custGeom>
              <a:avLst/>
              <a:gdLst/>
              <a:ahLst/>
              <a:rect l="l" t="t" r="r" b="b"/>
              <a:pathLst>
                <a:path w="34770" h="953949">
                  <a:moveTo>
                    <a:pt x="34770" y="0"/>
                  </a:moveTo>
                  <a:cubicBezTo>
                    <a:pt x="33182" y="171450"/>
                    <a:pt x="33066" y="334583"/>
                    <a:pt x="30007" y="463412"/>
                  </a:cubicBezTo>
                  <a:cubicBezTo>
                    <a:pt x="26948" y="592241"/>
                    <a:pt x="21418" y="691218"/>
                    <a:pt x="16417" y="772974"/>
                  </a:cubicBezTo>
                  <a:cubicBezTo>
                    <a:pt x="11416" y="854730"/>
                    <a:pt x="5988" y="916246"/>
                    <a:pt x="0" y="95394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任意多边形 491"/>
            <p:cNvSpPr/>
            <p:nvPr/>
          </p:nvSpPr>
          <p:spPr>
            <a:xfrm>
              <a:off x="4416480" y="3160440"/>
              <a:ext cx="37800" cy="788760"/>
            </a:xfrm>
            <a:custGeom>
              <a:avLst/>
              <a:gdLst/>
              <a:ahLst/>
              <a:rect l="l" t="t" r="r" b="b"/>
              <a:pathLst>
                <a:path w="31440" h="923849">
                  <a:moveTo>
                    <a:pt x="31440" y="0"/>
                  </a:moveTo>
                  <a:cubicBezTo>
                    <a:pt x="29852" y="171450"/>
                    <a:pt x="32511" y="309500"/>
                    <a:pt x="30007" y="433312"/>
                  </a:cubicBezTo>
                  <a:cubicBezTo>
                    <a:pt x="27503" y="557124"/>
                    <a:pt x="21418" y="661118"/>
                    <a:pt x="16417" y="742874"/>
                  </a:cubicBezTo>
                  <a:cubicBezTo>
                    <a:pt x="11416" y="824630"/>
                    <a:pt x="5988" y="886146"/>
                    <a:pt x="0" y="92384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任意多边形 492"/>
            <p:cNvSpPr/>
            <p:nvPr/>
          </p:nvSpPr>
          <p:spPr>
            <a:xfrm>
              <a:off x="4437000" y="3193920"/>
              <a:ext cx="37800" cy="755640"/>
            </a:xfrm>
            <a:custGeom>
              <a:avLst/>
              <a:gdLst/>
              <a:ahLst/>
              <a:rect l="l" t="t" r="r" b="b"/>
              <a:pathLst>
                <a:path w="27142" h="875225">
                  <a:moveTo>
                    <a:pt x="26445" y="0"/>
                  </a:moveTo>
                  <a:cubicBezTo>
                    <a:pt x="24857" y="171450"/>
                    <a:pt x="28348" y="268980"/>
                    <a:pt x="26677" y="384688"/>
                  </a:cubicBezTo>
                  <a:cubicBezTo>
                    <a:pt x="25006" y="500396"/>
                    <a:pt x="20863" y="612494"/>
                    <a:pt x="16417" y="694250"/>
                  </a:cubicBezTo>
                  <a:cubicBezTo>
                    <a:pt x="11971" y="776006"/>
                    <a:pt x="5988" y="837522"/>
                    <a:pt x="0" y="875225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直接连接符 493"/>
            <p:cNvSpPr/>
            <p:nvPr/>
          </p:nvSpPr>
          <p:spPr>
            <a:xfrm flipH="1" flipV="1">
              <a:off x="4446720" y="3919320"/>
              <a:ext cx="26640" cy="1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直接连接符 494"/>
            <p:cNvSpPr/>
            <p:nvPr/>
          </p:nvSpPr>
          <p:spPr>
            <a:xfrm>
              <a:off x="4365720" y="3892320"/>
              <a:ext cx="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直接连接符 495"/>
            <p:cNvSpPr/>
            <p:nvPr/>
          </p:nvSpPr>
          <p:spPr>
            <a:xfrm>
              <a:off x="3176640" y="3902040"/>
              <a:ext cx="261720" cy="93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直接连接符 496"/>
            <p:cNvSpPr/>
            <p:nvPr/>
          </p:nvSpPr>
          <p:spPr>
            <a:xfrm flipV="1">
              <a:off x="3456000" y="3948120"/>
              <a:ext cx="214200" cy="56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直接连接符 497"/>
            <p:cNvSpPr/>
            <p:nvPr/>
          </p:nvSpPr>
          <p:spPr>
            <a:xfrm flipV="1">
              <a:off x="3900600" y="3760200"/>
              <a:ext cx="492120" cy="123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直接连接符 498"/>
            <p:cNvSpPr/>
            <p:nvPr/>
          </p:nvSpPr>
          <p:spPr>
            <a:xfrm flipV="1">
              <a:off x="4465800" y="3713040"/>
              <a:ext cx="95040" cy="252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弧形 499"/>
            <p:cNvSpPr/>
            <p:nvPr/>
          </p:nvSpPr>
          <p:spPr>
            <a:xfrm rot="1216800">
              <a:off x="3279240" y="3989160"/>
              <a:ext cx="249120" cy="196560"/>
            </a:xfrm>
            <a:custGeom>
              <a:avLst/>
              <a:gdLst>
                <a:gd name="textAreaLeft" fmla="*/ 124560 w 249120"/>
                <a:gd name="textAreaRight" fmla="*/ 239760 w 249120"/>
                <a:gd name="textAreaTop" fmla="*/ 0 h 196560"/>
                <a:gd name="textAreaBottom" fmla="*/ 60480 h 196560"/>
              </a:gdLst>
              <a:ahLst/>
              <a:rect l="textAreaLeft" t="textAreaTop" r="textAreaRight" b="textAreaBottom"/>
              <a:pathLst>
                <a:path stroke="0" w="292217" h="236825">
                  <a:moveTo>
                    <a:pt x="146109" y="0"/>
                  </a:moveTo>
                  <a:lnTo>
                    <a:pt x="146109" y="0"/>
                  </a:lnTo>
                  <a:arcTo wR="146109" hR="118413" stAng="-5400000" swAng="4279347"/>
                  <a:lnTo>
                    <a:pt x="146109" y="118413"/>
                  </a:lnTo>
                  <a:close/>
                </a:path>
                <a:path fill="none" w="292217" h="236825">
                  <a:moveTo>
                    <a:pt x="146109" y="0"/>
                  </a:moveTo>
                  <a:lnTo>
                    <a:pt x="146109" y="0"/>
                  </a:lnTo>
                  <a:arcTo wR="146109" hR="118413" stAng="-5400000" swAng="4279347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弧形 500"/>
            <p:cNvSpPr/>
            <p:nvPr/>
          </p:nvSpPr>
          <p:spPr>
            <a:xfrm rot="1176000">
              <a:off x="3398400" y="4224240"/>
              <a:ext cx="101520" cy="126720"/>
            </a:xfrm>
            <a:custGeom>
              <a:avLst/>
              <a:gdLst>
                <a:gd name="textAreaLeft" fmla="*/ 70560 w 101520"/>
                <a:gd name="textAreaRight" fmla="*/ 101880 w 101520"/>
                <a:gd name="textAreaTop" fmla="*/ 33120 h 126720"/>
                <a:gd name="textAreaBottom" fmla="*/ 122040 h 126720"/>
              </a:gdLst>
              <a:ahLst/>
              <a:rect l="textAreaLeft" t="textAreaTop" r="textAreaRight" b="textAreaBottom"/>
              <a:pathLst>
                <a:path stroke="0" w="119120" h="152790">
                  <a:moveTo>
                    <a:pt x="111998" y="40169"/>
                  </a:moveTo>
                  <a:lnTo>
                    <a:pt x="111998" y="40169"/>
                  </a:lnTo>
                  <a:arcTo wR="59560" hR="76395" stAng="-2078284" swAng="6381799"/>
                  <a:lnTo>
                    <a:pt x="59560" y="76395"/>
                  </a:lnTo>
                  <a:close/>
                </a:path>
                <a:path fill="none" w="119120" h="152790">
                  <a:moveTo>
                    <a:pt x="111998" y="40169"/>
                  </a:moveTo>
                  <a:lnTo>
                    <a:pt x="111998" y="40169"/>
                  </a:lnTo>
                  <a:arcTo wR="59560" hR="76395" stAng="-2078284" swAng="6381799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直接连接符 501"/>
            <p:cNvSpPr/>
            <p:nvPr/>
          </p:nvSpPr>
          <p:spPr>
            <a:xfrm flipH="1">
              <a:off x="3524400" y="4092480"/>
              <a:ext cx="1440" cy="47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直接连接符 502"/>
            <p:cNvSpPr/>
            <p:nvPr/>
          </p:nvSpPr>
          <p:spPr>
            <a:xfrm>
              <a:off x="3203640" y="4248000"/>
              <a:ext cx="244440" cy="101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直接连接符 503"/>
            <p:cNvSpPr/>
            <p:nvPr/>
          </p:nvSpPr>
          <p:spPr>
            <a:xfrm flipH="1" flipV="1">
              <a:off x="2922120" y="4058640"/>
              <a:ext cx="98280" cy="34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直接连接符 504"/>
            <p:cNvSpPr/>
            <p:nvPr/>
          </p:nvSpPr>
          <p:spPr>
            <a:xfrm flipH="1" flipV="1">
              <a:off x="2944800" y="3956040"/>
              <a:ext cx="85680" cy="31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弧形 505"/>
            <p:cNvSpPr/>
            <p:nvPr/>
          </p:nvSpPr>
          <p:spPr>
            <a:xfrm flipV="1" rot="798000">
              <a:off x="3004920" y="3933360"/>
              <a:ext cx="96840" cy="60120"/>
            </a:xfrm>
            <a:custGeom>
              <a:avLst/>
              <a:gdLst>
                <a:gd name="textAreaLeft" fmla="*/ 28440 w 96840"/>
                <a:gd name="textAreaRight" fmla="*/ 90720 w 96840"/>
                <a:gd name="textAreaTop" fmla="*/ -360 h 60120"/>
                <a:gd name="textAreaBottom" fmla="*/ 14760 h 60120"/>
              </a:gdLst>
              <a:ahLst/>
              <a:rect l="textAreaLeft" t="textAreaTop" r="textAreaRight" b="textAreaBottom"/>
              <a:pathLst>
                <a:path stroke="0" w="113536" h="72575">
                  <a:moveTo>
                    <a:pt x="33244" y="3262"/>
                  </a:moveTo>
                  <a:lnTo>
                    <a:pt x="33244" y="3262"/>
                  </a:lnTo>
                  <a:arcTo wR="56768" hR="36288" stAng="-7527707" swAng="6345431"/>
                  <a:lnTo>
                    <a:pt x="56768" y="36288"/>
                  </a:lnTo>
                  <a:close/>
                </a:path>
                <a:path fill="none" w="113536" h="72575">
                  <a:moveTo>
                    <a:pt x="33244" y="3262"/>
                  </a:moveTo>
                  <a:lnTo>
                    <a:pt x="33244" y="3262"/>
                  </a:lnTo>
                  <a:arcTo wR="56768" hR="36288" stAng="-7527707" swAng="6345431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直接连接符 506"/>
            <p:cNvSpPr/>
            <p:nvPr/>
          </p:nvSpPr>
          <p:spPr>
            <a:xfrm flipH="1" flipV="1">
              <a:off x="3077640" y="3890520"/>
              <a:ext cx="12600" cy="96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直接连接符 507"/>
            <p:cNvSpPr/>
            <p:nvPr/>
          </p:nvSpPr>
          <p:spPr>
            <a:xfrm flipV="1">
              <a:off x="3073320" y="3860640"/>
              <a:ext cx="85680" cy="33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直接连接符 508"/>
            <p:cNvSpPr/>
            <p:nvPr/>
          </p:nvSpPr>
          <p:spPr>
            <a:xfrm flipV="1">
              <a:off x="2927160" y="3785760"/>
              <a:ext cx="296640" cy="104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弧形 509"/>
            <p:cNvSpPr/>
            <p:nvPr/>
          </p:nvSpPr>
          <p:spPr>
            <a:xfrm rot="12704400">
              <a:off x="2917440" y="3878280"/>
              <a:ext cx="131760" cy="93600"/>
            </a:xfrm>
            <a:custGeom>
              <a:avLst/>
              <a:gdLst>
                <a:gd name="textAreaLeft" fmla="*/ 76320 w 131760"/>
                <a:gd name="textAreaRight" fmla="*/ 132120 w 131760"/>
                <a:gd name="textAreaTop" fmla="*/ 360 h 93600"/>
                <a:gd name="textAreaBottom" fmla="*/ 46800 h 93600"/>
              </a:gdLst>
              <a:ahLst/>
              <a:rect l="textAreaLeft" t="textAreaTop" r="textAreaRight" b="textAreaBottom"/>
              <a:pathLst>
                <a:path stroke="0" w="154484" h="112682">
                  <a:moveTo>
                    <a:pt x="89426" y="705"/>
                  </a:moveTo>
                  <a:lnTo>
                    <a:pt x="89426" y="705"/>
                  </a:lnTo>
                  <a:arcTo wR="77242" hR="56341" stAng="-4658851" swAng="4658851"/>
                  <a:lnTo>
                    <a:pt x="77242" y="56341"/>
                  </a:lnTo>
                  <a:close/>
                </a:path>
                <a:path fill="none" w="154484" h="112682">
                  <a:moveTo>
                    <a:pt x="89426" y="705"/>
                  </a:moveTo>
                  <a:lnTo>
                    <a:pt x="89426" y="705"/>
                  </a:lnTo>
                  <a:arcTo wR="77242" hR="56341" stAng="-4658851" swAng="4658851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直接连接符 510"/>
            <p:cNvSpPr/>
            <p:nvPr/>
          </p:nvSpPr>
          <p:spPr>
            <a:xfrm>
              <a:off x="2921040" y="3911400"/>
              <a:ext cx="6120" cy="147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弧形 511"/>
            <p:cNvSpPr/>
            <p:nvPr/>
          </p:nvSpPr>
          <p:spPr>
            <a:xfrm rot="20616600">
              <a:off x="3151080" y="3684240"/>
              <a:ext cx="711000" cy="414360"/>
            </a:xfrm>
            <a:custGeom>
              <a:avLst/>
              <a:gdLst>
                <a:gd name="textAreaLeft" fmla="*/ 3960 w 711000"/>
                <a:gd name="textAreaRight" fmla="*/ 483840 w 711000"/>
                <a:gd name="textAreaTop" fmla="*/ 0 h 414360"/>
                <a:gd name="textAreaBottom" fmla="*/ 174960 h 414360"/>
              </a:gdLst>
              <a:ahLst/>
              <a:rect l="textAreaLeft" t="textAreaTop" r="textAreaRight" b="textAreaBottom"/>
              <a:pathLst>
                <a:path stroke="0" w="833840" h="498478">
                  <a:moveTo>
                    <a:pt x="5057" y="210536"/>
                  </a:moveTo>
                  <a:lnTo>
                    <a:pt x="5057" y="210536"/>
                  </a:lnTo>
                  <a:arcTo wR="416920" hR="249239" stAng="-10477899" swAng="7053632"/>
                  <a:lnTo>
                    <a:pt x="416920" y="249239"/>
                  </a:lnTo>
                  <a:close/>
                </a:path>
                <a:path fill="none" w="833840" h="498478">
                  <a:moveTo>
                    <a:pt x="5057" y="210536"/>
                  </a:moveTo>
                  <a:lnTo>
                    <a:pt x="5057" y="210536"/>
                  </a:lnTo>
                  <a:arcTo wR="416920" hR="249239" stAng="-10477899" swAng="7053632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弧形 512"/>
            <p:cNvSpPr/>
            <p:nvPr/>
          </p:nvSpPr>
          <p:spPr>
            <a:xfrm rot="20616600">
              <a:off x="3122280" y="3674520"/>
              <a:ext cx="723600" cy="417240"/>
            </a:xfrm>
            <a:custGeom>
              <a:avLst/>
              <a:gdLst>
                <a:gd name="textAreaLeft" fmla="*/ 2160 w 723600"/>
                <a:gd name="textAreaRight" fmla="*/ 491400 w 723600"/>
                <a:gd name="textAreaTop" fmla="*/ 0 h 417240"/>
                <a:gd name="textAreaBottom" fmla="*/ 184320 h 417240"/>
              </a:gdLst>
              <a:ahLst/>
              <a:rect l="textAreaLeft" t="textAreaTop" r="textAreaRight" b="textAreaBottom"/>
              <a:pathLst>
                <a:path stroke="0" w="848730" h="502297">
                  <a:moveTo>
                    <a:pt x="2845" y="222117"/>
                  </a:moveTo>
                  <a:lnTo>
                    <a:pt x="2845" y="222117"/>
                  </a:lnTo>
                  <a:arcTo wR="424365" hR="251149" stAng="-10563600" swAng="7139333"/>
                  <a:lnTo>
                    <a:pt x="424365" y="251149"/>
                  </a:lnTo>
                  <a:close/>
                </a:path>
                <a:path fill="none" w="848730" h="502297">
                  <a:moveTo>
                    <a:pt x="2845" y="222117"/>
                  </a:moveTo>
                  <a:lnTo>
                    <a:pt x="2845" y="222117"/>
                  </a:lnTo>
                  <a:arcTo wR="424365" hR="251149" stAng="-10563600" swAng="7139333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弧形 513"/>
            <p:cNvSpPr/>
            <p:nvPr/>
          </p:nvSpPr>
          <p:spPr>
            <a:xfrm>
              <a:off x="3095640" y="3911400"/>
              <a:ext cx="95040" cy="475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stroke="0" w="111675" h="57296">
                  <a:moveTo>
                    <a:pt x="80298" y="2895"/>
                  </a:moveTo>
                  <a:lnTo>
                    <a:pt x="80298" y="2895"/>
                  </a:lnTo>
                  <a:arcTo wR="55838" hR="28648" stAng="-2788503" swAng="17928718"/>
                  <a:lnTo>
                    <a:pt x="55838" y="28648"/>
                  </a:lnTo>
                  <a:close/>
                </a:path>
                <a:path fill="none" w="111675" h="57296">
                  <a:moveTo>
                    <a:pt x="80298" y="2895"/>
                  </a:moveTo>
                  <a:lnTo>
                    <a:pt x="80298" y="2895"/>
                  </a:lnTo>
                  <a:arcTo wR="55838" hR="28648" stAng="-2788503" swAng="17928718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直接连接符 514"/>
            <p:cNvSpPr/>
            <p:nvPr/>
          </p:nvSpPr>
          <p:spPr>
            <a:xfrm>
              <a:off x="3190680" y="3933720"/>
              <a:ext cx="55440" cy="161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直接连接符 515"/>
            <p:cNvSpPr/>
            <p:nvPr/>
          </p:nvSpPr>
          <p:spPr>
            <a:xfrm flipH="1">
              <a:off x="3092400" y="3941640"/>
              <a:ext cx="1440" cy="37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直接连接符 516"/>
            <p:cNvSpPr/>
            <p:nvPr/>
          </p:nvSpPr>
          <p:spPr>
            <a:xfrm flipV="1">
              <a:off x="3135240" y="3781080"/>
              <a:ext cx="528480" cy="129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517"/>
            <p:cNvSpPr/>
            <p:nvPr/>
          </p:nvSpPr>
          <p:spPr>
            <a:xfrm flipH="1">
              <a:off x="3230280" y="3983040"/>
              <a:ext cx="52200" cy="163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直接连接符 518"/>
            <p:cNvSpPr/>
            <p:nvPr/>
          </p:nvSpPr>
          <p:spPr>
            <a:xfrm>
              <a:off x="3208320" y="3514680"/>
              <a:ext cx="9360" cy="266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直接连接符 519"/>
            <p:cNvSpPr/>
            <p:nvPr/>
          </p:nvSpPr>
          <p:spPr>
            <a:xfrm>
              <a:off x="3233880" y="3522600"/>
              <a:ext cx="12600" cy="247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直接连接符 520"/>
            <p:cNvSpPr/>
            <p:nvPr/>
          </p:nvSpPr>
          <p:spPr>
            <a:xfrm>
              <a:off x="3263760" y="3536640"/>
              <a:ext cx="10800" cy="212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弧形 521"/>
            <p:cNvSpPr/>
            <p:nvPr/>
          </p:nvSpPr>
          <p:spPr>
            <a:xfrm rot="20090400">
              <a:off x="2979720" y="3595320"/>
              <a:ext cx="199800" cy="253800"/>
            </a:xfrm>
            <a:custGeom>
              <a:avLst/>
              <a:gdLst>
                <a:gd name="textAreaLeft" fmla="*/ 45360 w 199800"/>
                <a:gd name="textAreaRight" fmla="*/ 200160 w 199800"/>
                <a:gd name="textAreaTop" fmla="*/ 0 h 253800"/>
                <a:gd name="textAreaBottom" fmla="*/ 235080 h 253800"/>
              </a:gdLst>
              <a:ahLst/>
              <a:rect l="textAreaLeft" t="textAreaTop" r="textAreaRight" b="textAreaBottom"/>
              <a:pathLst>
                <a:path stroke="0" w="234518" h="305580">
                  <a:moveTo>
                    <a:pt x="53366" y="24674"/>
                  </a:moveTo>
                  <a:lnTo>
                    <a:pt x="53366" y="24674"/>
                  </a:lnTo>
                  <a:arcTo wR="117259" hR="152790" stAng="-6990359" swAng="10871662"/>
                  <a:lnTo>
                    <a:pt x="117259" y="152790"/>
                  </a:lnTo>
                  <a:close/>
                </a:path>
                <a:path fill="none" w="234518" h="305580">
                  <a:moveTo>
                    <a:pt x="53366" y="24674"/>
                  </a:moveTo>
                  <a:lnTo>
                    <a:pt x="53366" y="24674"/>
                  </a:lnTo>
                  <a:arcTo wR="117259" hR="152790" stAng="-6990359" swAng="10871662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任意多边形 522"/>
            <p:cNvSpPr/>
            <p:nvPr/>
          </p:nvSpPr>
          <p:spPr>
            <a:xfrm>
              <a:off x="2854440" y="3178080"/>
              <a:ext cx="474480" cy="622080"/>
            </a:xfrm>
            <a:custGeom>
              <a:avLst/>
              <a:gdLst/>
              <a:ahLst/>
              <a:rect l="l" t="t" r="r" b="b"/>
              <a:pathLst>
                <a:path w="555625" h="748950">
                  <a:moveTo>
                    <a:pt x="374650" y="748950"/>
                  </a:moveTo>
                  <a:cubicBezTo>
                    <a:pt x="343958" y="732017"/>
                    <a:pt x="307446" y="714025"/>
                    <a:pt x="282575" y="698150"/>
                  </a:cubicBezTo>
                  <a:cubicBezTo>
                    <a:pt x="257704" y="682275"/>
                    <a:pt x="236537" y="662696"/>
                    <a:pt x="225425" y="653700"/>
                  </a:cubicBezTo>
                  <a:cubicBezTo>
                    <a:pt x="209021" y="639942"/>
                    <a:pt x="200025" y="634121"/>
                    <a:pt x="184150" y="615600"/>
                  </a:cubicBezTo>
                  <a:cubicBezTo>
                    <a:pt x="168275" y="597079"/>
                    <a:pt x="153458" y="580146"/>
                    <a:pt x="130175" y="542575"/>
                  </a:cubicBezTo>
                  <a:cubicBezTo>
                    <a:pt x="106892" y="505004"/>
                    <a:pt x="65087" y="434096"/>
                    <a:pt x="44450" y="390175"/>
                  </a:cubicBezTo>
                  <a:cubicBezTo>
                    <a:pt x="23813" y="346254"/>
                    <a:pt x="13758" y="310271"/>
                    <a:pt x="6350" y="279050"/>
                  </a:cubicBezTo>
                  <a:cubicBezTo>
                    <a:pt x="-1058" y="247829"/>
                    <a:pt x="3175" y="221900"/>
                    <a:pt x="0" y="202850"/>
                  </a:cubicBezTo>
                  <a:cubicBezTo>
                    <a:pt x="1058" y="190150"/>
                    <a:pt x="1491" y="177382"/>
                    <a:pt x="3175" y="164750"/>
                  </a:cubicBezTo>
                  <a:cubicBezTo>
                    <a:pt x="4513" y="154716"/>
                    <a:pt x="8467" y="147817"/>
                    <a:pt x="19050" y="136175"/>
                  </a:cubicBezTo>
                  <a:cubicBezTo>
                    <a:pt x="29633" y="124533"/>
                    <a:pt x="39688" y="110775"/>
                    <a:pt x="66675" y="94900"/>
                  </a:cubicBezTo>
                  <a:cubicBezTo>
                    <a:pt x="93663" y="79025"/>
                    <a:pt x="141288" y="56271"/>
                    <a:pt x="180975" y="40925"/>
                  </a:cubicBezTo>
                  <a:cubicBezTo>
                    <a:pt x="220662" y="25579"/>
                    <a:pt x="263525" y="8646"/>
                    <a:pt x="304800" y="2825"/>
                  </a:cubicBezTo>
                  <a:cubicBezTo>
                    <a:pt x="346075" y="-2996"/>
                    <a:pt x="394758" y="1238"/>
                    <a:pt x="428625" y="6000"/>
                  </a:cubicBezTo>
                  <a:cubicBezTo>
                    <a:pt x="462492" y="10762"/>
                    <a:pt x="487363" y="14996"/>
                    <a:pt x="508000" y="31400"/>
                  </a:cubicBezTo>
                  <a:cubicBezTo>
                    <a:pt x="528637" y="47804"/>
                    <a:pt x="544513" y="83788"/>
                    <a:pt x="552450" y="104425"/>
                  </a:cubicBezTo>
                  <a:lnTo>
                    <a:pt x="555625" y="155225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任意多边形 523"/>
            <p:cNvSpPr/>
            <p:nvPr/>
          </p:nvSpPr>
          <p:spPr>
            <a:xfrm>
              <a:off x="2830320" y="3163680"/>
              <a:ext cx="529920" cy="650880"/>
            </a:xfrm>
            <a:custGeom>
              <a:avLst/>
              <a:gdLst/>
              <a:ahLst/>
              <a:rect l="l" t="t" r="r" b="b"/>
              <a:pathLst>
                <a:path w="499504" h="747979">
                  <a:moveTo>
                    <a:pt x="298139" y="747979"/>
                  </a:moveTo>
                  <a:cubicBezTo>
                    <a:pt x="267447" y="731046"/>
                    <a:pt x="241130" y="711159"/>
                    <a:pt x="221357" y="694905"/>
                  </a:cubicBezTo>
                  <a:cubicBezTo>
                    <a:pt x="201584" y="678651"/>
                    <a:pt x="190611" y="659451"/>
                    <a:pt x="179499" y="650455"/>
                  </a:cubicBezTo>
                  <a:cubicBezTo>
                    <a:pt x="163095" y="636697"/>
                    <a:pt x="160047" y="632897"/>
                    <a:pt x="148420" y="615387"/>
                  </a:cubicBezTo>
                  <a:cubicBezTo>
                    <a:pt x="136793" y="597877"/>
                    <a:pt x="127073" y="578416"/>
                    <a:pt x="109737" y="545394"/>
                  </a:cubicBezTo>
                  <a:cubicBezTo>
                    <a:pt x="92401" y="512372"/>
                    <a:pt x="62276" y="465787"/>
                    <a:pt x="44403" y="417252"/>
                  </a:cubicBezTo>
                  <a:cubicBezTo>
                    <a:pt x="26530" y="368717"/>
                    <a:pt x="6733" y="312689"/>
                    <a:pt x="2500" y="254184"/>
                  </a:cubicBezTo>
                  <a:cubicBezTo>
                    <a:pt x="816" y="201743"/>
                    <a:pt x="-2730" y="181750"/>
                    <a:pt x="3710" y="157189"/>
                  </a:cubicBezTo>
                  <a:cubicBezTo>
                    <a:pt x="10150" y="132628"/>
                    <a:pt x="18824" y="125218"/>
                    <a:pt x="41139" y="106816"/>
                  </a:cubicBezTo>
                  <a:cubicBezTo>
                    <a:pt x="63454" y="88414"/>
                    <a:pt x="103433" y="63639"/>
                    <a:pt x="137598" y="46777"/>
                  </a:cubicBezTo>
                  <a:cubicBezTo>
                    <a:pt x="171763" y="29915"/>
                    <a:pt x="207830" y="12982"/>
                    <a:pt x="246131" y="5645"/>
                  </a:cubicBezTo>
                  <a:cubicBezTo>
                    <a:pt x="284433" y="-1692"/>
                    <a:pt x="333965" y="-997"/>
                    <a:pt x="367407" y="2755"/>
                  </a:cubicBezTo>
                  <a:cubicBezTo>
                    <a:pt x="400849" y="6507"/>
                    <a:pt x="426145" y="11751"/>
                    <a:pt x="446782" y="28155"/>
                  </a:cubicBezTo>
                  <a:cubicBezTo>
                    <a:pt x="467419" y="44559"/>
                    <a:pt x="483295" y="80543"/>
                    <a:pt x="491232" y="101180"/>
                  </a:cubicBezTo>
                  <a:lnTo>
                    <a:pt x="499504" y="167141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直接连接符 524"/>
            <p:cNvSpPr/>
            <p:nvPr/>
          </p:nvSpPr>
          <p:spPr>
            <a:xfrm flipV="1">
              <a:off x="3257640" y="3338280"/>
              <a:ext cx="36360" cy="7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直接连接符 525"/>
            <p:cNvSpPr/>
            <p:nvPr/>
          </p:nvSpPr>
          <p:spPr>
            <a:xfrm flipH="1">
              <a:off x="3279240" y="3301920"/>
              <a:ext cx="34920" cy="56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直接连接符 526"/>
            <p:cNvSpPr/>
            <p:nvPr/>
          </p:nvSpPr>
          <p:spPr>
            <a:xfrm>
              <a:off x="3378240" y="3290760"/>
              <a:ext cx="36360" cy="44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直接连接符 527"/>
            <p:cNvSpPr/>
            <p:nvPr/>
          </p:nvSpPr>
          <p:spPr>
            <a:xfrm flipH="1" flipV="1">
              <a:off x="3406320" y="3330360"/>
              <a:ext cx="44280" cy="18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弧形 528"/>
            <p:cNvSpPr/>
            <p:nvPr/>
          </p:nvSpPr>
          <p:spPr>
            <a:xfrm>
              <a:off x="3314520" y="3273120"/>
              <a:ext cx="60120" cy="37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4320 h 37800"/>
                <a:gd name="textAreaBottom" fmla="*/ 37800 h 37800"/>
              </a:gdLst>
              <a:ahLst/>
              <a:rect l="textAreaLeft" t="textAreaTop" r="textAreaRight" b="textAreaBottom"/>
              <a:pathLst>
                <a:path stroke="0" w="70728" h="45837">
                  <a:moveTo>
                    <a:pt x="58308" y="5478"/>
                  </a:moveTo>
                  <a:lnTo>
                    <a:pt x="58308" y="5478"/>
                  </a:lnTo>
                  <a:arcTo wR="35364" hR="22919" stAng="-2234333" swAng="13717078"/>
                  <a:lnTo>
                    <a:pt x="35364" y="22919"/>
                  </a:lnTo>
                  <a:close/>
                </a:path>
                <a:path fill="none" w="70728" h="45837">
                  <a:moveTo>
                    <a:pt x="58308" y="5478"/>
                  </a:moveTo>
                  <a:lnTo>
                    <a:pt x="58308" y="5478"/>
                  </a:lnTo>
                  <a:arcTo wR="35364" hR="22919" stAng="-2234333" swAng="13717078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弧形 529"/>
            <p:cNvSpPr/>
            <p:nvPr/>
          </p:nvSpPr>
          <p:spPr>
            <a:xfrm rot="20090400">
              <a:off x="2971440" y="3615840"/>
              <a:ext cx="199800" cy="252360"/>
            </a:xfrm>
            <a:custGeom>
              <a:avLst/>
              <a:gdLst>
                <a:gd name="textAreaLeft" fmla="*/ 0 w 199800"/>
                <a:gd name="textAreaRight" fmla="*/ 37080 w 199800"/>
                <a:gd name="textAreaTop" fmla="*/ 27720 h 252360"/>
                <a:gd name="textAreaBottom" fmla="*/ 215280 h 252360"/>
              </a:gdLst>
              <a:ahLst/>
              <a:rect l="textAreaLeft" t="textAreaTop" r="textAreaRight" b="textAreaBottom"/>
              <a:pathLst>
                <a:path stroke="0" w="234518" h="303671">
                  <a:moveTo>
                    <a:pt x="34081" y="258857"/>
                  </a:moveTo>
                  <a:lnTo>
                    <a:pt x="34081" y="258857"/>
                  </a:lnTo>
                  <a:arcTo wR="117259" hR="151836" stAng="7671271" swAng="6614482"/>
                  <a:lnTo>
                    <a:pt x="117259" y="151836"/>
                  </a:lnTo>
                  <a:close/>
                </a:path>
                <a:path fill="none" w="234518" h="303671">
                  <a:moveTo>
                    <a:pt x="34081" y="258857"/>
                  </a:moveTo>
                  <a:lnTo>
                    <a:pt x="34081" y="258857"/>
                  </a:lnTo>
                  <a:arcTo wR="117259" hR="151836" stAng="7671271" swAng="6614482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弧形 530"/>
            <p:cNvSpPr/>
            <p:nvPr/>
          </p:nvSpPr>
          <p:spPr>
            <a:xfrm rot="20465400">
              <a:off x="3159000" y="3561840"/>
              <a:ext cx="195120" cy="245880"/>
            </a:xfrm>
            <a:custGeom>
              <a:avLst/>
              <a:gdLst>
                <a:gd name="textAreaLeft" fmla="*/ 12240 w 195120"/>
                <a:gd name="textAreaRight" fmla="*/ 94680 w 195120"/>
                <a:gd name="textAreaTop" fmla="*/ 0 h 245880"/>
                <a:gd name="textAreaBottom" fmla="*/ 62640 h 245880"/>
              </a:gdLst>
              <a:ahLst/>
              <a:rect l="textAreaLeft" t="textAreaTop" r="textAreaRight" b="textAreaBottom"/>
              <a:pathLst>
                <a:path stroke="0" w="228934" h="296032">
                  <a:moveTo>
                    <a:pt x="14639" y="75590"/>
                  </a:moveTo>
                  <a:lnTo>
                    <a:pt x="14639" y="75590"/>
                  </a:lnTo>
                  <a:arcTo wR="114467" hR="148016" stAng="-8642329" swAng="3163853"/>
                  <a:lnTo>
                    <a:pt x="114467" y="148016"/>
                  </a:lnTo>
                  <a:close/>
                </a:path>
                <a:path fill="none" w="228934" h="296032">
                  <a:moveTo>
                    <a:pt x="14639" y="75590"/>
                  </a:moveTo>
                  <a:lnTo>
                    <a:pt x="14639" y="75590"/>
                  </a:lnTo>
                  <a:arcTo wR="114467" hR="148016" stAng="-8642329" swAng="3163853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弧形 531"/>
            <p:cNvSpPr/>
            <p:nvPr/>
          </p:nvSpPr>
          <p:spPr>
            <a:xfrm rot="21280800">
              <a:off x="3157200" y="3573360"/>
              <a:ext cx="195120" cy="247320"/>
            </a:xfrm>
            <a:custGeom>
              <a:avLst/>
              <a:gdLst>
                <a:gd name="textAreaLeft" fmla="*/ 120240 w 195120"/>
                <a:gd name="textAreaRight" fmla="*/ 195480 w 195120"/>
                <a:gd name="textAreaTop" fmla="*/ 3240 h 247320"/>
                <a:gd name="textAreaBottom" fmla="*/ 146880 h 247320"/>
              </a:gdLst>
              <a:ahLst/>
              <a:rect l="textAreaLeft" t="textAreaTop" r="textAreaRight" b="textAreaBottom"/>
              <a:pathLst>
                <a:path stroke="0" w="228933" h="297941">
                  <a:moveTo>
                    <a:pt x="141102" y="4089"/>
                  </a:moveTo>
                  <a:lnTo>
                    <a:pt x="141102" y="4089"/>
                  </a:lnTo>
                  <a:arcTo wR="114467" hR="148971" stAng="-4774963" swAng="5615439"/>
                  <a:lnTo>
                    <a:pt x="114467" y="148971"/>
                  </a:lnTo>
                  <a:close/>
                </a:path>
                <a:path fill="none" w="228933" h="297941">
                  <a:moveTo>
                    <a:pt x="141102" y="4089"/>
                  </a:moveTo>
                  <a:lnTo>
                    <a:pt x="141102" y="4089"/>
                  </a:lnTo>
                  <a:arcTo wR="114467" hR="148971" stAng="-4774963" swAng="5615439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弧形 532"/>
            <p:cNvSpPr/>
            <p:nvPr/>
          </p:nvSpPr>
          <p:spPr>
            <a:xfrm rot="20090400">
              <a:off x="2976120" y="3617640"/>
              <a:ext cx="155520" cy="218880"/>
            </a:xfrm>
            <a:custGeom>
              <a:avLst/>
              <a:gdLst>
                <a:gd name="textAreaLeft" fmla="*/ 47520 w 155520"/>
                <a:gd name="textAreaRight" fmla="*/ 155880 w 155520"/>
                <a:gd name="textAreaTop" fmla="*/ 0 h 218880"/>
                <a:gd name="textAreaBottom" fmla="*/ 189360 h 218880"/>
              </a:gdLst>
              <a:ahLst/>
              <a:rect l="textAreaLeft" t="textAreaTop" r="textAreaRight" b="textAreaBottom"/>
              <a:pathLst>
                <a:path stroke="0" w="182403" h="263563">
                  <a:moveTo>
                    <a:pt x="55774" y="10349"/>
                  </a:moveTo>
                  <a:lnTo>
                    <a:pt x="55774" y="10349"/>
                  </a:lnTo>
                  <a:arcTo wR="91202" hR="131782" stAng="-6375848" swAng="9798848"/>
                  <a:lnTo>
                    <a:pt x="91202" y="131782"/>
                  </a:lnTo>
                  <a:close/>
                </a:path>
                <a:path fill="none" w="182403" h="263563">
                  <a:moveTo>
                    <a:pt x="55774" y="10349"/>
                  </a:moveTo>
                  <a:lnTo>
                    <a:pt x="55774" y="10349"/>
                  </a:lnTo>
                  <a:arcTo wR="91202" hR="131782" stAng="-6375848" swAng="9798848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直接连接符 533"/>
            <p:cNvSpPr/>
            <p:nvPr/>
          </p:nvSpPr>
          <p:spPr>
            <a:xfrm>
              <a:off x="4056120" y="3530520"/>
              <a:ext cx="93600" cy="39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直接连接符 534"/>
            <p:cNvSpPr/>
            <p:nvPr/>
          </p:nvSpPr>
          <p:spPr>
            <a:xfrm flipV="1">
              <a:off x="4148280" y="3520800"/>
              <a:ext cx="203040" cy="48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直接连接符 535"/>
            <p:cNvSpPr/>
            <p:nvPr/>
          </p:nvSpPr>
          <p:spPr>
            <a:xfrm flipV="1">
              <a:off x="4346640" y="3233520"/>
              <a:ext cx="4680" cy="288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直接连接符 536"/>
            <p:cNvSpPr/>
            <p:nvPr/>
          </p:nvSpPr>
          <p:spPr>
            <a:xfrm flipV="1">
              <a:off x="4154400" y="3285720"/>
              <a:ext cx="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直接连接符 537"/>
            <p:cNvSpPr/>
            <p:nvPr/>
          </p:nvSpPr>
          <p:spPr>
            <a:xfrm flipV="1">
              <a:off x="4151520" y="3231720"/>
              <a:ext cx="203040" cy="50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直接连接符 538"/>
            <p:cNvSpPr/>
            <p:nvPr/>
          </p:nvSpPr>
          <p:spPr>
            <a:xfrm flipH="1" flipV="1">
              <a:off x="4055760" y="3247560"/>
              <a:ext cx="98280" cy="36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直接连接符 539"/>
            <p:cNvSpPr/>
            <p:nvPr/>
          </p:nvSpPr>
          <p:spPr>
            <a:xfrm flipH="1" flipV="1">
              <a:off x="4054320" y="3243240"/>
              <a:ext cx="4680" cy="288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直接连接符 540"/>
            <p:cNvSpPr/>
            <p:nvPr/>
          </p:nvSpPr>
          <p:spPr>
            <a:xfrm>
              <a:off x="4241880" y="3203280"/>
              <a:ext cx="109440" cy="29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直接连接符 541"/>
            <p:cNvSpPr/>
            <p:nvPr/>
          </p:nvSpPr>
          <p:spPr>
            <a:xfrm>
              <a:off x="4237200" y="3200040"/>
              <a:ext cx="1440" cy="61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直接连接符 542"/>
            <p:cNvSpPr/>
            <p:nvPr/>
          </p:nvSpPr>
          <p:spPr>
            <a:xfrm flipV="1">
              <a:off x="4641840" y="3655440"/>
              <a:ext cx="102960" cy="34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任意多边形 543"/>
            <p:cNvSpPr/>
            <p:nvPr/>
          </p:nvSpPr>
          <p:spPr>
            <a:xfrm>
              <a:off x="4492800" y="3211200"/>
              <a:ext cx="160200" cy="650880"/>
            </a:xfrm>
            <a:custGeom>
              <a:avLst/>
              <a:gdLst/>
              <a:ahLst/>
              <a:rect l="l" t="t" r="r" b="b"/>
              <a:pathLst>
                <a:path w="188119" h="742950">
                  <a:moveTo>
                    <a:pt x="0" y="0"/>
                  </a:moveTo>
                  <a:cubicBezTo>
                    <a:pt x="7438" y="190916"/>
                    <a:pt x="6351" y="152401"/>
                    <a:pt x="14288" y="204788"/>
                  </a:cubicBezTo>
                  <a:cubicBezTo>
                    <a:pt x="22225" y="257175"/>
                    <a:pt x="36513" y="283369"/>
                    <a:pt x="47625" y="314325"/>
                  </a:cubicBezTo>
                  <a:cubicBezTo>
                    <a:pt x="58737" y="345281"/>
                    <a:pt x="66676" y="375841"/>
                    <a:pt x="76201" y="400050"/>
                  </a:cubicBezTo>
                  <a:cubicBezTo>
                    <a:pt x="85726" y="424259"/>
                    <a:pt x="95647" y="438943"/>
                    <a:pt x="104775" y="459581"/>
                  </a:cubicBezTo>
                  <a:cubicBezTo>
                    <a:pt x="113903" y="480219"/>
                    <a:pt x="120650" y="496888"/>
                    <a:pt x="130969" y="523876"/>
                  </a:cubicBezTo>
                  <a:cubicBezTo>
                    <a:pt x="141288" y="550864"/>
                    <a:pt x="157163" y="584995"/>
                    <a:pt x="166688" y="621507"/>
                  </a:cubicBezTo>
                  <a:cubicBezTo>
                    <a:pt x="176213" y="658019"/>
                    <a:pt x="183654" y="717650"/>
                    <a:pt x="188119" y="7429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直接连接符 544"/>
            <p:cNvSpPr/>
            <p:nvPr/>
          </p:nvSpPr>
          <p:spPr>
            <a:xfrm flipV="1">
              <a:off x="3616200" y="3403080"/>
              <a:ext cx="18720" cy="6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直接连接符 545"/>
            <p:cNvSpPr/>
            <p:nvPr/>
          </p:nvSpPr>
          <p:spPr>
            <a:xfrm flipV="1">
              <a:off x="3884760" y="3468600"/>
              <a:ext cx="101520" cy="252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直接连接符 546"/>
            <p:cNvSpPr/>
            <p:nvPr/>
          </p:nvSpPr>
          <p:spPr>
            <a:xfrm>
              <a:off x="3987720" y="3466800"/>
              <a:ext cx="1440" cy="128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直接连接符 547"/>
            <p:cNvSpPr/>
            <p:nvPr/>
          </p:nvSpPr>
          <p:spPr>
            <a:xfrm flipV="1">
              <a:off x="3889440" y="3590280"/>
              <a:ext cx="104760" cy="21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直接连接符 548"/>
            <p:cNvSpPr/>
            <p:nvPr/>
          </p:nvSpPr>
          <p:spPr>
            <a:xfrm flipH="1" flipV="1">
              <a:off x="3922560" y="3438000"/>
              <a:ext cx="64800" cy="29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弧形 549"/>
            <p:cNvSpPr/>
            <p:nvPr/>
          </p:nvSpPr>
          <p:spPr>
            <a:xfrm rot="684600">
              <a:off x="3700080" y="3376440"/>
              <a:ext cx="71280" cy="48960"/>
            </a:xfrm>
            <a:custGeom>
              <a:avLst/>
              <a:gdLst>
                <a:gd name="textAreaLeft" fmla="*/ 0 w 71280"/>
                <a:gd name="textAreaRight" fmla="*/ 69480 w 71280"/>
                <a:gd name="textAreaTop" fmla="*/ 0 h 48960"/>
                <a:gd name="textAreaBottom" fmla="*/ 25200 h 48960"/>
              </a:gdLst>
              <a:ahLst/>
              <a:rect l="textAreaLeft" t="textAreaTop" r="textAreaRight" b="textAreaBottom"/>
              <a:pathLst>
                <a:path stroke="0" w="83756" h="59206">
                  <a:moveTo>
                    <a:pt x="11" y="30268"/>
                  </a:moveTo>
                  <a:lnTo>
                    <a:pt x="11" y="30268"/>
                  </a:lnTo>
                  <a:arcTo wR="41878" hR="29603" stAng="10745401" swAng="10061484"/>
                  <a:lnTo>
                    <a:pt x="41878" y="29603"/>
                  </a:lnTo>
                  <a:close/>
                </a:path>
                <a:path fill="none" w="83756" h="59206">
                  <a:moveTo>
                    <a:pt x="11" y="30268"/>
                  </a:moveTo>
                  <a:lnTo>
                    <a:pt x="11" y="30268"/>
                  </a:lnTo>
                  <a:arcTo wR="41878" hR="29603" stAng="10745401" swAng="10061484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任意多边形 550"/>
            <p:cNvSpPr/>
            <p:nvPr/>
          </p:nvSpPr>
          <p:spPr>
            <a:xfrm>
              <a:off x="3751200" y="3328920"/>
              <a:ext cx="163440" cy="123480"/>
            </a:xfrm>
            <a:custGeom>
              <a:avLst/>
              <a:gdLst/>
              <a:ahLst/>
              <a:rect l="l" t="t" r="r" b="b"/>
              <a:pathLst>
                <a:path w="190500" h="149701">
                  <a:moveTo>
                    <a:pt x="0" y="59214"/>
                  </a:moveTo>
                  <a:cubicBezTo>
                    <a:pt x="4763" y="23495"/>
                    <a:pt x="38497" y="13175"/>
                    <a:pt x="59531" y="4444"/>
                  </a:cubicBezTo>
                  <a:cubicBezTo>
                    <a:pt x="80565" y="-4287"/>
                    <a:pt x="108347" y="1667"/>
                    <a:pt x="126206" y="6826"/>
                  </a:cubicBezTo>
                  <a:cubicBezTo>
                    <a:pt x="144065" y="11985"/>
                    <a:pt x="156368" y="19129"/>
                    <a:pt x="166687" y="35401"/>
                  </a:cubicBezTo>
                  <a:cubicBezTo>
                    <a:pt x="177006" y="51673"/>
                    <a:pt x="182166" y="83819"/>
                    <a:pt x="188119" y="104457"/>
                  </a:cubicBezTo>
                  <a:lnTo>
                    <a:pt x="190500" y="149701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任意多边形 551"/>
            <p:cNvSpPr/>
            <p:nvPr/>
          </p:nvSpPr>
          <p:spPr>
            <a:xfrm>
              <a:off x="3735360" y="3323880"/>
              <a:ext cx="161640" cy="125280"/>
            </a:xfrm>
            <a:custGeom>
              <a:avLst/>
              <a:gdLst/>
              <a:ahLst/>
              <a:rect l="l" t="t" r="r" b="b"/>
              <a:pathLst>
                <a:path w="190500" h="149701">
                  <a:moveTo>
                    <a:pt x="0" y="59214"/>
                  </a:moveTo>
                  <a:cubicBezTo>
                    <a:pt x="4763" y="23495"/>
                    <a:pt x="38497" y="13175"/>
                    <a:pt x="59531" y="4444"/>
                  </a:cubicBezTo>
                  <a:cubicBezTo>
                    <a:pt x="80565" y="-4287"/>
                    <a:pt x="108347" y="1667"/>
                    <a:pt x="126206" y="6826"/>
                  </a:cubicBezTo>
                  <a:cubicBezTo>
                    <a:pt x="144065" y="11985"/>
                    <a:pt x="156368" y="19129"/>
                    <a:pt x="166687" y="35401"/>
                  </a:cubicBezTo>
                  <a:cubicBezTo>
                    <a:pt x="177006" y="51673"/>
                    <a:pt x="182166" y="83819"/>
                    <a:pt x="188119" y="104457"/>
                  </a:cubicBezTo>
                  <a:lnTo>
                    <a:pt x="190500" y="149701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任意多边形 552"/>
            <p:cNvSpPr/>
            <p:nvPr/>
          </p:nvSpPr>
          <p:spPr>
            <a:xfrm>
              <a:off x="3718080" y="3328920"/>
              <a:ext cx="141120" cy="48960"/>
            </a:xfrm>
            <a:custGeom>
              <a:avLst/>
              <a:gdLst/>
              <a:ahLst/>
              <a:rect l="l" t="t" r="r" b="b"/>
              <a:pathLst>
                <a:path w="166687" h="59214">
                  <a:moveTo>
                    <a:pt x="0" y="59214"/>
                  </a:moveTo>
                  <a:cubicBezTo>
                    <a:pt x="4763" y="23495"/>
                    <a:pt x="38497" y="13175"/>
                    <a:pt x="59531" y="4444"/>
                  </a:cubicBezTo>
                  <a:cubicBezTo>
                    <a:pt x="80565" y="-4287"/>
                    <a:pt x="108347" y="1667"/>
                    <a:pt x="126206" y="6826"/>
                  </a:cubicBezTo>
                  <a:cubicBezTo>
                    <a:pt x="144065" y="11985"/>
                    <a:pt x="156368" y="19129"/>
                    <a:pt x="166687" y="3540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直接连接符 553"/>
            <p:cNvSpPr/>
            <p:nvPr/>
          </p:nvSpPr>
          <p:spPr>
            <a:xfrm>
              <a:off x="3627360" y="3232080"/>
              <a:ext cx="7920" cy="195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直接连接符 554"/>
            <p:cNvSpPr/>
            <p:nvPr/>
          </p:nvSpPr>
          <p:spPr>
            <a:xfrm>
              <a:off x="3635280" y="3425760"/>
              <a:ext cx="55440" cy="23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直接连接符 555"/>
            <p:cNvSpPr/>
            <p:nvPr/>
          </p:nvSpPr>
          <p:spPr>
            <a:xfrm>
              <a:off x="3762360" y="3476520"/>
              <a:ext cx="34920" cy="1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直接连接符 556"/>
            <p:cNvSpPr/>
            <p:nvPr/>
          </p:nvSpPr>
          <p:spPr>
            <a:xfrm>
              <a:off x="3625920" y="3232080"/>
              <a:ext cx="222120" cy="98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直接连接符 557"/>
            <p:cNvSpPr/>
            <p:nvPr/>
          </p:nvSpPr>
          <p:spPr>
            <a:xfrm flipV="1">
              <a:off x="3886200" y="3296880"/>
              <a:ext cx="169560" cy="48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直接连接符 558"/>
            <p:cNvSpPr/>
            <p:nvPr/>
          </p:nvSpPr>
          <p:spPr>
            <a:xfrm flipV="1">
              <a:off x="4127400" y="3244680"/>
              <a:ext cx="114120" cy="31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直接连接符 559"/>
            <p:cNvSpPr/>
            <p:nvPr/>
          </p:nvSpPr>
          <p:spPr>
            <a:xfrm flipH="1" flipV="1">
              <a:off x="4035240" y="3160080"/>
              <a:ext cx="206280" cy="60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直接连接符 560"/>
            <p:cNvSpPr/>
            <p:nvPr/>
          </p:nvSpPr>
          <p:spPr>
            <a:xfrm flipV="1">
              <a:off x="3627360" y="3162240"/>
              <a:ext cx="411120" cy="69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任意多边形 561"/>
            <p:cNvSpPr/>
            <p:nvPr/>
          </p:nvSpPr>
          <p:spPr>
            <a:xfrm>
              <a:off x="3728880" y="3187440"/>
              <a:ext cx="457200" cy="122040"/>
            </a:xfrm>
            <a:custGeom>
              <a:avLst/>
              <a:gdLst/>
              <a:ahLst/>
              <a:rect l="l" t="t" r="r" b="b"/>
              <a:pathLst>
                <a:path w="535781" h="147638">
                  <a:moveTo>
                    <a:pt x="364331" y="0"/>
                  </a:moveTo>
                  <a:lnTo>
                    <a:pt x="535781" y="59531"/>
                  </a:lnTo>
                  <a:lnTo>
                    <a:pt x="422402" y="87876"/>
                  </a:lnTo>
                  <a:lnTo>
                    <a:pt x="380999" y="70963"/>
                  </a:lnTo>
                  <a:lnTo>
                    <a:pt x="380999" y="98227"/>
                  </a:lnTo>
                  <a:lnTo>
                    <a:pt x="373856" y="100013"/>
                  </a:lnTo>
                  <a:lnTo>
                    <a:pt x="173831" y="147638"/>
                  </a:lnTo>
                  <a:lnTo>
                    <a:pt x="0" y="7620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任意多边形 562"/>
            <p:cNvSpPr/>
            <p:nvPr/>
          </p:nvSpPr>
          <p:spPr>
            <a:xfrm>
              <a:off x="4514760" y="3241440"/>
              <a:ext cx="160200" cy="636480"/>
            </a:xfrm>
            <a:custGeom>
              <a:avLst/>
              <a:gdLst/>
              <a:ahLst/>
              <a:rect l="l" t="t" r="r" b="b"/>
              <a:pathLst>
                <a:path w="188119" h="742950">
                  <a:moveTo>
                    <a:pt x="0" y="0"/>
                  </a:moveTo>
                  <a:cubicBezTo>
                    <a:pt x="7438" y="190916"/>
                    <a:pt x="6351" y="152401"/>
                    <a:pt x="14288" y="204788"/>
                  </a:cubicBezTo>
                  <a:cubicBezTo>
                    <a:pt x="22225" y="257175"/>
                    <a:pt x="36513" y="283369"/>
                    <a:pt x="47625" y="314325"/>
                  </a:cubicBezTo>
                  <a:cubicBezTo>
                    <a:pt x="58737" y="345281"/>
                    <a:pt x="66676" y="375841"/>
                    <a:pt x="76201" y="400050"/>
                  </a:cubicBezTo>
                  <a:cubicBezTo>
                    <a:pt x="85726" y="424259"/>
                    <a:pt x="95647" y="438943"/>
                    <a:pt x="104775" y="459581"/>
                  </a:cubicBezTo>
                  <a:cubicBezTo>
                    <a:pt x="113903" y="480219"/>
                    <a:pt x="120650" y="496888"/>
                    <a:pt x="130969" y="523876"/>
                  </a:cubicBezTo>
                  <a:cubicBezTo>
                    <a:pt x="141288" y="550864"/>
                    <a:pt x="157163" y="584995"/>
                    <a:pt x="166688" y="621507"/>
                  </a:cubicBezTo>
                  <a:cubicBezTo>
                    <a:pt x="176213" y="658019"/>
                    <a:pt x="183654" y="717650"/>
                    <a:pt x="188119" y="7429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任意多边形 563"/>
            <p:cNvSpPr/>
            <p:nvPr/>
          </p:nvSpPr>
          <p:spPr>
            <a:xfrm>
              <a:off x="4529160" y="3259080"/>
              <a:ext cx="160200" cy="610920"/>
            </a:xfrm>
            <a:custGeom>
              <a:avLst/>
              <a:gdLst/>
              <a:ahLst/>
              <a:rect l="l" t="t" r="r" b="b"/>
              <a:pathLst>
                <a:path w="188119" h="742950">
                  <a:moveTo>
                    <a:pt x="0" y="0"/>
                  </a:moveTo>
                  <a:cubicBezTo>
                    <a:pt x="7438" y="190916"/>
                    <a:pt x="6351" y="152401"/>
                    <a:pt x="14288" y="204788"/>
                  </a:cubicBezTo>
                  <a:cubicBezTo>
                    <a:pt x="22225" y="257175"/>
                    <a:pt x="36513" y="283369"/>
                    <a:pt x="47625" y="314325"/>
                  </a:cubicBezTo>
                  <a:cubicBezTo>
                    <a:pt x="58737" y="345281"/>
                    <a:pt x="66676" y="375841"/>
                    <a:pt x="76201" y="400050"/>
                  </a:cubicBezTo>
                  <a:cubicBezTo>
                    <a:pt x="85726" y="424259"/>
                    <a:pt x="95647" y="438943"/>
                    <a:pt x="104775" y="459581"/>
                  </a:cubicBezTo>
                  <a:cubicBezTo>
                    <a:pt x="113903" y="480219"/>
                    <a:pt x="120650" y="496888"/>
                    <a:pt x="130969" y="523876"/>
                  </a:cubicBezTo>
                  <a:cubicBezTo>
                    <a:pt x="141288" y="550864"/>
                    <a:pt x="157163" y="584995"/>
                    <a:pt x="166688" y="621507"/>
                  </a:cubicBezTo>
                  <a:cubicBezTo>
                    <a:pt x="176213" y="658019"/>
                    <a:pt x="183654" y="717650"/>
                    <a:pt x="188119" y="7429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任意多边形 564"/>
            <p:cNvSpPr/>
            <p:nvPr/>
          </p:nvSpPr>
          <p:spPr>
            <a:xfrm>
              <a:off x="4481640" y="3197160"/>
              <a:ext cx="147600" cy="652320"/>
            </a:xfrm>
            <a:custGeom>
              <a:avLst/>
              <a:gdLst/>
              <a:ahLst/>
              <a:rect l="l" t="t" r="r" b="b"/>
              <a:pathLst>
                <a:path w="188119" h="742950">
                  <a:moveTo>
                    <a:pt x="0" y="0"/>
                  </a:moveTo>
                  <a:cubicBezTo>
                    <a:pt x="7438" y="190916"/>
                    <a:pt x="6351" y="152401"/>
                    <a:pt x="14288" y="204788"/>
                  </a:cubicBezTo>
                  <a:cubicBezTo>
                    <a:pt x="22225" y="257175"/>
                    <a:pt x="36513" y="283369"/>
                    <a:pt x="47625" y="314325"/>
                  </a:cubicBezTo>
                  <a:cubicBezTo>
                    <a:pt x="58737" y="345281"/>
                    <a:pt x="66676" y="375841"/>
                    <a:pt x="76201" y="400050"/>
                  </a:cubicBezTo>
                  <a:cubicBezTo>
                    <a:pt x="85726" y="424259"/>
                    <a:pt x="95647" y="438943"/>
                    <a:pt x="104775" y="459581"/>
                  </a:cubicBezTo>
                  <a:cubicBezTo>
                    <a:pt x="113903" y="480219"/>
                    <a:pt x="120650" y="496888"/>
                    <a:pt x="130969" y="523876"/>
                  </a:cubicBezTo>
                  <a:cubicBezTo>
                    <a:pt x="141288" y="550864"/>
                    <a:pt x="157163" y="584995"/>
                    <a:pt x="166688" y="621507"/>
                  </a:cubicBezTo>
                  <a:cubicBezTo>
                    <a:pt x="176213" y="658019"/>
                    <a:pt x="183654" y="717650"/>
                    <a:pt x="188119" y="7429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任意多边形 565"/>
            <p:cNvSpPr/>
            <p:nvPr/>
          </p:nvSpPr>
          <p:spPr>
            <a:xfrm>
              <a:off x="4476960" y="3187440"/>
              <a:ext cx="129960" cy="650880"/>
            </a:xfrm>
            <a:custGeom>
              <a:avLst/>
              <a:gdLst/>
              <a:ahLst/>
              <a:rect l="l" t="t" r="r" b="b"/>
              <a:pathLst>
                <a:path w="188119" h="742950">
                  <a:moveTo>
                    <a:pt x="0" y="0"/>
                  </a:moveTo>
                  <a:cubicBezTo>
                    <a:pt x="7438" y="190916"/>
                    <a:pt x="6351" y="152401"/>
                    <a:pt x="14288" y="204788"/>
                  </a:cubicBezTo>
                  <a:cubicBezTo>
                    <a:pt x="22225" y="257175"/>
                    <a:pt x="36513" y="283369"/>
                    <a:pt x="47625" y="314325"/>
                  </a:cubicBezTo>
                  <a:cubicBezTo>
                    <a:pt x="58737" y="345281"/>
                    <a:pt x="66676" y="375841"/>
                    <a:pt x="76201" y="400050"/>
                  </a:cubicBezTo>
                  <a:cubicBezTo>
                    <a:pt x="85726" y="424259"/>
                    <a:pt x="95647" y="438943"/>
                    <a:pt x="104775" y="459581"/>
                  </a:cubicBezTo>
                  <a:cubicBezTo>
                    <a:pt x="113903" y="480219"/>
                    <a:pt x="120650" y="496888"/>
                    <a:pt x="130969" y="523876"/>
                  </a:cubicBezTo>
                  <a:cubicBezTo>
                    <a:pt x="141288" y="550864"/>
                    <a:pt x="157163" y="584995"/>
                    <a:pt x="166688" y="621507"/>
                  </a:cubicBezTo>
                  <a:cubicBezTo>
                    <a:pt x="176213" y="658019"/>
                    <a:pt x="183654" y="717650"/>
                    <a:pt x="188119" y="7429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任意多边形 566"/>
            <p:cNvSpPr/>
            <p:nvPr/>
          </p:nvSpPr>
          <p:spPr>
            <a:xfrm>
              <a:off x="4478400" y="3187440"/>
              <a:ext cx="107640" cy="639720"/>
            </a:xfrm>
            <a:custGeom>
              <a:avLst/>
              <a:gdLst/>
              <a:ahLst/>
              <a:rect l="l" t="t" r="r" b="b"/>
              <a:pathLst>
                <a:path w="188119" h="742950">
                  <a:moveTo>
                    <a:pt x="0" y="0"/>
                  </a:moveTo>
                  <a:cubicBezTo>
                    <a:pt x="7438" y="190916"/>
                    <a:pt x="6351" y="152401"/>
                    <a:pt x="14288" y="204788"/>
                  </a:cubicBezTo>
                  <a:cubicBezTo>
                    <a:pt x="22225" y="257175"/>
                    <a:pt x="36513" y="283369"/>
                    <a:pt x="47625" y="314325"/>
                  </a:cubicBezTo>
                  <a:cubicBezTo>
                    <a:pt x="58737" y="345281"/>
                    <a:pt x="66676" y="375841"/>
                    <a:pt x="76201" y="400050"/>
                  </a:cubicBezTo>
                  <a:cubicBezTo>
                    <a:pt x="85726" y="424259"/>
                    <a:pt x="95647" y="438943"/>
                    <a:pt x="104775" y="459581"/>
                  </a:cubicBezTo>
                  <a:cubicBezTo>
                    <a:pt x="113903" y="480219"/>
                    <a:pt x="120650" y="496888"/>
                    <a:pt x="130969" y="523876"/>
                  </a:cubicBezTo>
                  <a:cubicBezTo>
                    <a:pt x="141288" y="550864"/>
                    <a:pt x="157163" y="584995"/>
                    <a:pt x="166688" y="621507"/>
                  </a:cubicBezTo>
                  <a:cubicBezTo>
                    <a:pt x="176213" y="658019"/>
                    <a:pt x="183654" y="717650"/>
                    <a:pt x="188119" y="7429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直接连接符 567"/>
            <p:cNvSpPr/>
            <p:nvPr/>
          </p:nvSpPr>
          <p:spPr>
            <a:xfrm flipV="1">
              <a:off x="4456080" y="3817800"/>
              <a:ext cx="115560" cy="39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直接连接符 568"/>
            <p:cNvSpPr/>
            <p:nvPr/>
          </p:nvSpPr>
          <p:spPr>
            <a:xfrm>
              <a:off x="4565880" y="3814560"/>
              <a:ext cx="171360" cy="96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直接连接符 569"/>
            <p:cNvSpPr/>
            <p:nvPr/>
          </p:nvSpPr>
          <p:spPr>
            <a:xfrm flipV="1">
              <a:off x="4675320" y="3838320"/>
              <a:ext cx="91800" cy="39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直接连接符 570"/>
            <p:cNvSpPr/>
            <p:nvPr/>
          </p:nvSpPr>
          <p:spPr>
            <a:xfrm flipV="1">
              <a:off x="4483080" y="3531960"/>
              <a:ext cx="39600" cy="9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直接连接符 571"/>
            <p:cNvSpPr/>
            <p:nvPr/>
          </p:nvSpPr>
          <p:spPr>
            <a:xfrm flipV="1">
              <a:off x="4570560" y="3488760"/>
              <a:ext cx="120600" cy="28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直接连接符 572"/>
            <p:cNvSpPr/>
            <p:nvPr/>
          </p:nvSpPr>
          <p:spPr>
            <a:xfrm flipV="1">
              <a:off x="4950000" y="3414240"/>
              <a:ext cx="47520" cy="14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直接连接符 573"/>
            <p:cNvSpPr/>
            <p:nvPr/>
          </p:nvSpPr>
          <p:spPr>
            <a:xfrm flipH="1" flipV="1">
              <a:off x="4926240" y="3374640"/>
              <a:ext cx="72720" cy="36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直接连接符 574"/>
            <p:cNvSpPr/>
            <p:nvPr/>
          </p:nvSpPr>
          <p:spPr>
            <a:xfrm>
              <a:off x="4372200" y="3144600"/>
              <a:ext cx="0" cy="210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直接连接符 575"/>
            <p:cNvSpPr/>
            <p:nvPr/>
          </p:nvSpPr>
          <p:spPr>
            <a:xfrm>
              <a:off x="4245120" y="3120840"/>
              <a:ext cx="128520" cy="23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直接连接符 576"/>
            <p:cNvSpPr/>
            <p:nvPr/>
          </p:nvSpPr>
          <p:spPr>
            <a:xfrm>
              <a:off x="4403880" y="3120840"/>
              <a:ext cx="0" cy="223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直接连接符 577"/>
            <p:cNvSpPr/>
            <p:nvPr/>
          </p:nvSpPr>
          <p:spPr>
            <a:xfrm flipV="1">
              <a:off x="4372200" y="3340080"/>
              <a:ext cx="31680" cy="1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直接连接符 578"/>
            <p:cNvSpPr/>
            <p:nvPr/>
          </p:nvSpPr>
          <p:spPr>
            <a:xfrm flipH="1" flipV="1">
              <a:off x="4346280" y="3345840"/>
              <a:ext cx="21960" cy="6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直接连接符 579"/>
            <p:cNvSpPr/>
            <p:nvPr/>
          </p:nvSpPr>
          <p:spPr>
            <a:xfrm>
              <a:off x="4248360" y="3120840"/>
              <a:ext cx="0" cy="838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直接连接符 580"/>
            <p:cNvSpPr/>
            <p:nvPr/>
          </p:nvSpPr>
          <p:spPr>
            <a:xfrm flipV="1">
              <a:off x="4368960" y="3125520"/>
              <a:ext cx="34920" cy="18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弧形 581"/>
            <p:cNvSpPr/>
            <p:nvPr/>
          </p:nvSpPr>
          <p:spPr>
            <a:xfrm>
              <a:off x="4257720" y="2971440"/>
              <a:ext cx="144360" cy="183960"/>
            </a:xfrm>
            <a:custGeom>
              <a:avLst/>
              <a:gdLst>
                <a:gd name="textAreaLeft" fmla="*/ 0 w 144360"/>
                <a:gd name="textAreaRight" fmla="*/ 30960 w 144360"/>
                <a:gd name="textAreaTop" fmla="*/ 16200 h 183960"/>
                <a:gd name="textAreaBottom" fmla="*/ 157320 h 183960"/>
              </a:gdLst>
              <a:ahLst/>
              <a:rect l="textAreaLeft" t="textAreaTop" r="textAreaRight" b="textAreaBottom"/>
              <a:pathLst>
                <a:path stroke="0" w="169374" h="221546">
                  <a:moveTo>
                    <a:pt x="24949" y="189291"/>
                  </a:moveTo>
                  <a:lnTo>
                    <a:pt x="24949" y="189291"/>
                  </a:lnTo>
                  <a:arcTo wR="84687" hR="110773" stAng="7635874" swAng="6884251"/>
                  <a:lnTo>
                    <a:pt x="84687" y="110773"/>
                  </a:lnTo>
                  <a:close/>
                </a:path>
                <a:path fill="none" w="169374" h="221546">
                  <a:moveTo>
                    <a:pt x="24949" y="189291"/>
                  </a:moveTo>
                  <a:lnTo>
                    <a:pt x="24949" y="189291"/>
                  </a:lnTo>
                  <a:arcTo wR="84687" hR="110773" stAng="7635874" swAng="6884251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弧形 582"/>
            <p:cNvSpPr/>
            <p:nvPr/>
          </p:nvSpPr>
          <p:spPr>
            <a:xfrm>
              <a:off x="4275360" y="2960640"/>
              <a:ext cx="104760" cy="183960"/>
            </a:xfrm>
            <a:custGeom>
              <a:avLst/>
              <a:gdLst>
                <a:gd name="textAreaLeft" fmla="*/ 0 w 104760"/>
                <a:gd name="textAreaRight" fmla="*/ 19800 w 104760"/>
                <a:gd name="textAreaTop" fmla="*/ 25920 h 183960"/>
                <a:gd name="textAreaBottom" fmla="*/ 164520 h 183960"/>
              </a:gdLst>
              <a:ahLst/>
              <a:rect l="textAreaLeft" t="textAreaTop" r="textAreaRight" b="textAreaBottom"/>
              <a:pathLst>
                <a:path stroke="0" w="122843" h="221546">
                  <a:moveTo>
                    <a:pt x="23502" y="197916"/>
                  </a:moveTo>
                  <a:lnTo>
                    <a:pt x="23502" y="197916"/>
                  </a:lnTo>
                  <a:arcTo wR="61422" hR="110773" stAng="6810934" swAng="7686725"/>
                  <a:lnTo>
                    <a:pt x="61422" y="110773"/>
                  </a:lnTo>
                  <a:close/>
                </a:path>
                <a:path fill="none" w="122843" h="221546">
                  <a:moveTo>
                    <a:pt x="23502" y="197916"/>
                  </a:moveTo>
                  <a:lnTo>
                    <a:pt x="23502" y="197916"/>
                  </a:lnTo>
                  <a:arcTo wR="61422" hR="110773" stAng="6810934" swAng="7686725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弧形 583"/>
            <p:cNvSpPr/>
            <p:nvPr/>
          </p:nvSpPr>
          <p:spPr>
            <a:xfrm>
              <a:off x="4292640" y="2960640"/>
              <a:ext cx="118800" cy="183960"/>
            </a:xfrm>
            <a:custGeom>
              <a:avLst/>
              <a:gdLst>
                <a:gd name="textAreaLeft" fmla="*/ 0 w 118800"/>
                <a:gd name="textAreaRight" fmla="*/ 30600 w 118800"/>
                <a:gd name="textAreaTop" fmla="*/ 28080 h 183960"/>
                <a:gd name="textAreaBottom" fmla="*/ 172800 h 183960"/>
              </a:gdLst>
              <a:ahLst/>
              <a:rect l="textAreaLeft" t="textAreaTop" r="textAreaRight" b="textAreaBottom"/>
              <a:pathLst>
                <a:path stroke="0" w="139594" h="221546">
                  <a:moveTo>
                    <a:pt x="36163" y="207837"/>
                  </a:moveTo>
                  <a:lnTo>
                    <a:pt x="36163" y="207836"/>
                  </a:lnTo>
                  <a:arcTo wR="69797" hR="110773" stAng="6546714" swAng="7667447"/>
                  <a:lnTo>
                    <a:pt x="69797" y="110773"/>
                  </a:lnTo>
                  <a:close/>
                </a:path>
                <a:path fill="none" w="139594" h="221546">
                  <a:moveTo>
                    <a:pt x="36163" y="207837"/>
                  </a:moveTo>
                  <a:lnTo>
                    <a:pt x="36163" y="207836"/>
                  </a:lnTo>
                  <a:arcTo wR="69797" hR="110773" stAng="6546714" swAng="7667447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弧形 584"/>
            <p:cNvSpPr/>
            <p:nvPr/>
          </p:nvSpPr>
          <p:spPr>
            <a:xfrm>
              <a:off x="4313160" y="2962080"/>
              <a:ext cx="118800" cy="183960"/>
            </a:xfrm>
            <a:custGeom>
              <a:avLst/>
              <a:gdLst>
                <a:gd name="textAreaLeft" fmla="*/ 0 w 118800"/>
                <a:gd name="textAreaRight" fmla="*/ 30600 w 118800"/>
                <a:gd name="textAreaTop" fmla="*/ 28080 h 183960"/>
                <a:gd name="textAreaBottom" fmla="*/ 172800 h 183960"/>
              </a:gdLst>
              <a:ahLst/>
              <a:rect l="textAreaLeft" t="textAreaTop" r="textAreaRight" b="textAreaBottom"/>
              <a:pathLst>
                <a:path stroke="0" w="139593" h="221546">
                  <a:moveTo>
                    <a:pt x="36163" y="207837"/>
                  </a:moveTo>
                  <a:lnTo>
                    <a:pt x="36163" y="207836"/>
                  </a:lnTo>
                  <a:arcTo wR="69797" hR="110773" stAng="6546714" swAng="7667447"/>
                  <a:lnTo>
                    <a:pt x="69797" y="110773"/>
                  </a:lnTo>
                  <a:close/>
                </a:path>
                <a:path fill="none" w="139593" h="221546">
                  <a:moveTo>
                    <a:pt x="36163" y="207837"/>
                  </a:moveTo>
                  <a:lnTo>
                    <a:pt x="36163" y="207836"/>
                  </a:lnTo>
                  <a:arcTo wR="69797" hR="110773" stAng="6546714" swAng="7667447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弧形 585"/>
            <p:cNvSpPr/>
            <p:nvPr/>
          </p:nvSpPr>
          <p:spPr>
            <a:xfrm>
              <a:off x="4337280" y="2970000"/>
              <a:ext cx="118800" cy="183960"/>
            </a:xfrm>
            <a:custGeom>
              <a:avLst/>
              <a:gdLst>
                <a:gd name="textAreaLeft" fmla="*/ 0 w 118800"/>
                <a:gd name="textAreaRight" fmla="*/ 29520 w 118800"/>
                <a:gd name="textAreaTop" fmla="*/ 42480 h 183960"/>
                <a:gd name="textAreaBottom" fmla="*/ 171720 h 183960"/>
              </a:gdLst>
              <a:ahLst/>
              <a:rect l="textAreaLeft" t="textAreaTop" r="textAreaRight" b="textAreaBottom"/>
              <a:pathLst>
                <a:path stroke="0" w="139594" h="221546">
                  <a:moveTo>
                    <a:pt x="34591" y="206422"/>
                  </a:moveTo>
                  <a:lnTo>
                    <a:pt x="34591" y="206422"/>
                  </a:lnTo>
                  <a:arcTo wR="69797" hR="110773" stAng="6612444" swAng="6905620"/>
                  <a:lnTo>
                    <a:pt x="69797" y="110773"/>
                  </a:lnTo>
                  <a:close/>
                </a:path>
                <a:path fill="none" w="139594" h="221546">
                  <a:moveTo>
                    <a:pt x="34591" y="206422"/>
                  </a:moveTo>
                  <a:lnTo>
                    <a:pt x="34591" y="206422"/>
                  </a:lnTo>
                  <a:arcTo wR="69797" hR="110773" stAng="6612444" swAng="6905620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直接连接符 586"/>
            <p:cNvSpPr/>
            <p:nvPr/>
          </p:nvSpPr>
          <p:spPr>
            <a:xfrm flipH="1" flipV="1">
              <a:off x="4346640" y="3109320"/>
              <a:ext cx="56880" cy="14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直接连接符 587"/>
            <p:cNvSpPr/>
            <p:nvPr/>
          </p:nvSpPr>
          <p:spPr>
            <a:xfrm flipV="1">
              <a:off x="4248360" y="3111480"/>
              <a:ext cx="21960" cy="9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直接连接符 588"/>
            <p:cNvSpPr/>
            <p:nvPr/>
          </p:nvSpPr>
          <p:spPr>
            <a:xfrm>
              <a:off x="5281560" y="4748040"/>
              <a:ext cx="12600" cy="255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直接连接符 589"/>
            <p:cNvSpPr/>
            <p:nvPr/>
          </p:nvSpPr>
          <p:spPr>
            <a:xfrm flipV="1">
              <a:off x="4835520" y="3157200"/>
              <a:ext cx="45720" cy="9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直接连接符 590"/>
            <p:cNvSpPr/>
            <p:nvPr/>
          </p:nvSpPr>
          <p:spPr>
            <a:xfrm flipH="1" flipV="1">
              <a:off x="4883040" y="3155400"/>
              <a:ext cx="4680" cy="122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直接连接符 591"/>
            <p:cNvSpPr/>
            <p:nvPr/>
          </p:nvSpPr>
          <p:spPr>
            <a:xfrm>
              <a:off x="4594320" y="3587760"/>
              <a:ext cx="145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直接连接符 592"/>
            <p:cNvSpPr/>
            <p:nvPr/>
          </p:nvSpPr>
          <p:spPr>
            <a:xfrm flipV="1">
              <a:off x="3897360" y="3606120"/>
              <a:ext cx="511200" cy="129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直接连接符 593"/>
            <p:cNvSpPr/>
            <p:nvPr/>
          </p:nvSpPr>
          <p:spPr>
            <a:xfrm flipV="1">
              <a:off x="4475160" y="3577680"/>
              <a:ext cx="55440" cy="14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任意多边形 594"/>
            <p:cNvSpPr/>
            <p:nvPr/>
          </p:nvSpPr>
          <p:spPr>
            <a:xfrm>
              <a:off x="4840200" y="3039840"/>
              <a:ext cx="223560" cy="120600"/>
            </a:xfrm>
            <a:custGeom>
              <a:avLst/>
              <a:gdLst/>
              <a:ahLst/>
              <a:rect l="l" t="t" r="r" b="b"/>
              <a:pathLst>
                <a:path w="263525" h="145230">
                  <a:moveTo>
                    <a:pt x="0" y="145230"/>
                  </a:moveTo>
                  <a:cubicBezTo>
                    <a:pt x="4233" y="108188"/>
                    <a:pt x="1058" y="57918"/>
                    <a:pt x="12700" y="34105"/>
                  </a:cubicBezTo>
                  <a:cubicBezTo>
                    <a:pt x="24342" y="10292"/>
                    <a:pt x="46567" y="7118"/>
                    <a:pt x="69850" y="2355"/>
                  </a:cubicBezTo>
                  <a:cubicBezTo>
                    <a:pt x="93133" y="-2408"/>
                    <a:pt x="128588" y="768"/>
                    <a:pt x="152400" y="5530"/>
                  </a:cubicBezTo>
                  <a:cubicBezTo>
                    <a:pt x="176212" y="10292"/>
                    <a:pt x="194204" y="19818"/>
                    <a:pt x="212725" y="30930"/>
                  </a:cubicBezTo>
                  <a:cubicBezTo>
                    <a:pt x="231246" y="42043"/>
                    <a:pt x="252942" y="63606"/>
                    <a:pt x="263525" y="72205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任意多边形 595"/>
            <p:cNvSpPr/>
            <p:nvPr/>
          </p:nvSpPr>
          <p:spPr>
            <a:xfrm>
              <a:off x="5160960" y="3187440"/>
              <a:ext cx="34920" cy="141120"/>
            </a:xfrm>
            <a:custGeom>
              <a:avLst/>
              <a:gdLst/>
              <a:ahLst/>
              <a:rect l="l" t="t" r="r" b="b"/>
              <a:pathLst>
                <a:path w="31781" h="175638">
                  <a:moveTo>
                    <a:pt x="0" y="0"/>
                  </a:moveTo>
                  <a:cubicBezTo>
                    <a:pt x="10583" y="32808"/>
                    <a:pt x="30766" y="69152"/>
                    <a:pt x="31750" y="98425"/>
                  </a:cubicBezTo>
                  <a:cubicBezTo>
                    <a:pt x="32734" y="127698"/>
                    <a:pt x="10137" y="161880"/>
                    <a:pt x="5904" y="1756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任意多边形 596"/>
            <p:cNvSpPr/>
            <p:nvPr/>
          </p:nvSpPr>
          <p:spPr>
            <a:xfrm>
              <a:off x="5031000" y="3441600"/>
              <a:ext cx="39600" cy="80640"/>
            </a:xfrm>
            <a:custGeom>
              <a:avLst/>
              <a:gdLst/>
              <a:ahLst/>
              <a:rect l="l" t="t" r="r" b="b"/>
              <a:pathLst>
                <a:path w="38100" h="127000">
                  <a:moveTo>
                    <a:pt x="38100" y="0"/>
                  </a:moveTo>
                  <a:lnTo>
                    <a:pt x="3175" y="98425"/>
                  </a:lnTo>
                  <a:cubicBezTo>
                    <a:pt x="2061" y="101581"/>
                    <a:pt x="0" y="104603"/>
                    <a:pt x="0" y="107950"/>
                  </a:cubicBezTo>
                  <a:lnTo>
                    <a:pt x="0" y="12700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任意多边形 597"/>
            <p:cNvSpPr/>
            <p:nvPr/>
          </p:nvSpPr>
          <p:spPr>
            <a:xfrm>
              <a:off x="5200920" y="3300120"/>
              <a:ext cx="53640" cy="177480"/>
            </a:xfrm>
            <a:custGeom>
              <a:avLst/>
              <a:gdLst/>
              <a:ahLst/>
              <a:rect l="l" t="t" r="r" b="b"/>
              <a:pathLst>
                <a:path w="66675" h="225425">
                  <a:moveTo>
                    <a:pt x="0" y="0"/>
                  </a:moveTo>
                  <a:cubicBezTo>
                    <a:pt x="13758" y="40217"/>
                    <a:pt x="28677" y="80055"/>
                    <a:pt x="41275" y="120650"/>
                  </a:cubicBezTo>
                  <a:cubicBezTo>
                    <a:pt x="47742" y="141488"/>
                    <a:pt x="52578" y="162816"/>
                    <a:pt x="57150" y="184150"/>
                  </a:cubicBezTo>
                  <a:cubicBezTo>
                    <a:pt x="58938" y="192493"/>
                    <a:pt x="58406" y="201236"/>
                    <a:pt x="60325" y="209550"/>
                  </a:cubicBezTo>
                  <a:cubicBezTo>
                    <a:pt x="61607" y="215103"/>
                    <a:pt x="66675" y="225425"/>
                    <a:pt x="66675" y="225425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直接连接符 598"/>
            <p:cNvSpPr/>
            <p:nvPr/>
          </p:nvSpPr>
          <p:spPr>
            <a:xfrm>
              <a:off x="5018040" y="3514680"/>
              <a:ext cx="0" cy="131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直接连接符 599"/>
            <p:cNvSpPr/>
            <p:nvPr/>
          </p:nvSpPr>
          <p:spPr>
            <a:xfrm>
              <a:off x="5016600" y="3520800"/>
              <a:ext cx="48960" cy="9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直接连接符 600"/>
            <p:cNvSpPr/>
            <p:nvPr/>
          </p:nvSpPr>
          <p:spPr>
            <a:xfrm>
              <a:off x="5021280" y="3646440"/>
              <a:ext cx="41040" cy="21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任意多边形 601"/>
            <p:cNvSpPr/>
            <p:nvPr/>
          </p:nvSpPr>
          <p:spPr>
            <a:xfrm>
              <a:off x="4818240" y="3016080"/>
              <a:ext cx="245880" cy="122040"/>
            </a:xfrm>
            <a:custGeom>
              <a:avLst/>
              <a:gdLst/>
              <a:ahLst/>
              <a:rect l="l" t="t" r="r" b="b"/>
              <a:pathLst>
                <a:path w="263525" h="145230">
                  <a:moveTo>
                    <a:pt x="0" y="145230"/>
                  </a:moveTo>
                  <a:cubicBezTo>
                    <a:pt x="4233" y="108188"/>
                    <a:pt x="1058" y="57918"/>
                    <a:pt x="12700" y="34105"/>
                  </a:cubicBezTo>
                  <a:cubicBezTo>
                    <a:pt x="24342" y="10292"/>
                    <a:pt x="46567" y="7118"/>
                    <a:pt x="69850" y="2355"/>
                  </a:cubicBezTo>
                  <a:cubicBezTo>
                    <a:pt x="93133" y="-2408"/>
                    <a:pt x="128588" y="768"/>
                    <a:pt x="152400" y="5530"/>
                  </a:cubicBezTo>
                  <a:cubicBezTo>
                    <a:pt x="176212" y="10292"/>
                    <a:pt x="194204" y="19818"/>
                    <a:pt x="212725" y="30930"/>
                  </a:cubicBezTo>
                  <a:cubicBezTo>
                    <a:pt x="231246" y="42043"/>
                    <a:pt x="252942" y="63606"/>
                    <a:pt x="263525" y="72205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任意多边形 602"/>
            <p:cNvSpPr/>
            <p:nvPr/>
          </p:nvSpPr>
          <p:spPr>
            <a:xfrm>
              <a:off x="5058000" y="3473280"/>
              <a:ext cx="14040" cy="52200"/>
            </a:xfrm>
            <a:custGeom>
              <a:avLst/>
              <a:gdLst/>
              <a:ahLst/>
              <a:rect l="l" t="t" r="r" b="b"/>
              <a:pathLst>
                <a:path w="38100" h="127000">
                  <a:moveTo>
                    <a:pt x="38100" y="0"/>
                  </a:moveTo>
                  <a:lnTo>
                    <a:pt x="3175" y="98425"/>
                  </a:lnTo>
                  <a:cubicBezTo>
                    <a:pt x="2061" y="101581"/>
                    <a:pt x="0" y="104603"/>
                    <a:pt x="0" y="107950"/>
                  </a:cubicBezTo>
                  <a:lnTo>
                    <a:pt x="0" y="12700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任意多边形 603"/>
            <p:cNvSpPr/>
            <p:nvPr/>
          </p:nvSpPr>
          <p:spPr>
            <a:xfrm>
              <a:off x="5166000" y="3170160"/>
              <a:ext cx="39600" cy="185400"/>
            </a:xfrm>
            <a:custGeom>
              <a:avLst/>
              <a:gdLst/>
              <a:ahLst/>
              <a:rect l="l" t="t" r="r" b="b"/>
              <a:pathLst>
                <a:path w="31750" h="183444">
                  <a:moveTo>
                    <a:pt x="0" y="0"/>
                  </a:moveTo>
                  <a:cubicBezTo>
                    <a:pt x="10583" y="32808"/>
                    <a:pt x="31563" y="67851"/>
                    <a:pt x="31750" y="98425"/>
                  </a:cubicBezTo>
                  <a:cubicBezTo>
                    <a:pt x="31937" y="128999"/>
                    <a:pt x="5355" y="169686"/>
                    <a:pt x="1122" y="18344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任意多边形 604"/>
            <p:cNvSpPr/>
            <p:nvPr/>
          </p:nvSpPr>
          <p:spPr>
            <a:xfrm>
              <a:off x="5202360" y="3281040"/>
              <a:ext cx="52200" cy="123480"/>
            </a:xfrm>
            <a:custGeom>
              <a:avLst/>
              <a:gdLst/>
              <a:ahLst/>
              <a:rect l="l" t="t" r="r" b="b"/>
              <a:pathLst>
                <a:path w="66675" h="225425">
                  <a:moveTo>
                    <a:pt x="0" y="0"/>
                  </a:moveTo>
                  <a:cubicBezTo>
                    <a:pt x="13758" y="40217"/>
                    <a:pt x="28677" y="80055"/>
                    <a:pt x="41275" y="120650"/>
                  </a:cubicBezTo>
                  <a:cubicBezTo>
                    <a:pt x="47742" y="141488"/>
                    <a:pt x="52578" y="162816"/>
                    <a:pt x="57150" y="184150"/>
                  </a:cubicBezTo>
                  <a:cubicBezTo>
                    <a:pt x="58938" y="192493"/>
                    <a:pt x="58406" y="201236"/>
                    <a:pt x="60325" y="209550"/>
                  </a:cubicBezTo>
                  <a:cubicBezTo>
                    <a:pt x="61607" y="215103"/>
                    <a:pt x="66675" y="225425"/>
                    <a:pt x="66675" y="225425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弧形 605"/>
            <p:cNvSpPr/>
            <p:nvPr/>
          </p:nvSpPr>
          <p:spPr>
            <a:xfrm rot="583800">
              <a:off x="4838760" y="3104640"/>
              <a:ext cx="234720" cy="63360"/>
            </a:xfrm>
            <a:custGeom>
              <a:avLst/>
              <a:gdLst>
                <a:gd name="textAreaLeft" fmla="*/ 4680 w 234720"/>
                <a:gd name="textAreaRight" fmla="*/ 228600 w 234720"/>
                <a:gd name="textAreaTop" fmla="*/ 0 h 63360"/>
                <a:gd name="textAreaBottom" fmla="*/ 22680 h 63360"/>
              </a:gdLst>
              <a:ahLst/>
              <a:rect l="textAreaLeft" t="textAreaTop" r="textAreaRight" b="textAreaBottom"/>
              <a:pathLst>
                <a:path stroke="0" w="275465" h="76395">
                  <a:moveTo>
                    <a:pt x="5686" y="27336"/>
                  </a:moveTo>
                  <a:lnTo>
                    <a:pt x="5686" y="27336"/>
                  </a:lnTo>
                  <a:arcTo wR="137733" hR="38198" stAng="-10517851" swAng="10191441"/>
                  <a:lnTo>
                    <a:pt x="137733" y="38198"/>
                  </a:lnTo>
                  <a:close/>
                </a:path>
                <a:path fill="none" w="275465" h="76395">
                  <a:moveTo>
                    <a:pt x="5686" y="27336"/>
                  </a:moveTo>
                  <a:lnTo>
                    <a:pt x="5686" y="27336"/>
                  </a:lnTo>
                  <a:arcTo wR="137733" hR="38198" stAng="-10517851" swAng="10191441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弧形 606"/>
            <p:cNvSpPr/>
            <p:nvPr/>
          </p:nvSpPr>
          <p:spPr>
            <a:xfrm rot="583800">
              <a:off x="4838760" y="3121920"/>
              <a:ext cx="234720" cy="63360"/>
            </a:xfrm>
            <a:custGeom>
              <a:avLst/>
              <a:gdLst>
                <a:gd name="textAreaLeft" fmla="*/ 4680 w 234720"/>
                <a:gd name="textAreaRight" fmla="*/ 228600 w 234720"/>
                <a:gd name="textAreaTop" fmla="*/ 0 h 63360"/>
                <a:gd name="textAreaBottom" fmla="*/ 22680 h 63360"/>
              </a:gdLst>
              <a:ahLst/>
              <a:rect l="textAreaLeft" t="textAreaTop" r="textAreaRight" b="textAreaBottom"/>
              <a:pathLst>
                <a:path stroke="0" w="275465" h="76395">
                  <a:moveTo>
                    <a:pt x="5686" y="27336"/>
                  </a:moveTo>
                  <a:lnTo>
                    <a:pt x="5686" y="27336"/>
                  </a:lnTo>
                  <a:arcTo wR="137733" hR="38198" stAng="-10517851" swAng="10191441"/>
                  <a:lnTo>
                    <a:pt x="137733" y="38198"/>
                  </a:lnTo>
                  <a:close/>
                </a:path>
                <a:path fill="none" w="275465" h="76395">
                  <a:moveTo>
                    <a:pt x="5686" y="27336"/>
                  </a:moveTo>
                  <a:lnTo>
                    <a:pt x="5686" y="27336"/>
                  </a:lnTo>
                  <a:arcTo wR="137733" hR="38198" stAng="-10517851" swAng="10191441"/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直接连接符 607"/>
            <p:cNvSpPr/>
            <p:nvPr/>
          </p:nvSpPr>
          <p:spPr>
            <a:xfrm>
              <a:off x="4745160" y="4865760"/>
              <a:ext cx="19836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直接连接符 608"/>
            <p:cNvSpPr/>
            <p:nvPr/>
          </p:nvSpPr>
          <p:spPr>
            <a:xfrm>
              <a:off x="3905280" y="4314600"/>
              <a:ext cx="10800" cy="204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直接连接符 609"/>
            <p:cNvSpPr/>
            <p:nvPr/>
          </p:nvSpPr>
          <p:spPr>
            <a:xfrm>
              <a:off x="3927600" y="4314600"/>
              <a:ext cx="7920" cy="195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直接连接符 610"/>
            <p:cNvSpPr/>
            <p:nvPr/>
          </p:nvSpPr>
          <p:spPr>
            <a:xfrm>
              <a:off x="3865680" y="4311720"/>
              <a:ext cx="9360" cy="234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直接连接符 611"/>
            <p:cNvSpPr/>
            <p:nvPr/>
          </p:nvSpPr>
          <p:spPr>
            <a:xfrm flipH="1" flipV="1">
              <a:off x="3843360" y="4306680"/>
              <a:ext cx="10800" cy="264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直接连接符 631"/>
          <p:cNvSpPr/>
          <p:nvPr/>
        </p:nvSpPr>
        <p:spPr>
          <a:xfrm>
            <a:off x="2509920" y="4735440"/>
            <a:ext cx="1566720" cy="874800"/>
          </a:xfrm>
          <a:prstGeom prst="line">
            <a:avLst/>
          </a:prstGeom>
          <a:ln w="7632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直接连接符 638"/>
          <p:cNvSpPr/>
          <p:nvPr/>
        </p:nvSpPr>
        <p:spPr>
          <a:xfrm flipH="1">
            <a:off x="4492800" y="4700520"/>
            <a:ext cx="2157120" cy="976320"/>
          </a:xfrm>
          <a:prstGeom prst="line">
            <a:avLst/>
          </a:prstGeom>
          <a:ln w="76320">
            <a:solidFill>
              <a:srgbClr val="92d05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0" name="矩形 1" descr=""/>
          <p:cNvPicPr/>
          <p:nvPr/>
        </p:nvPicPr>
        <p:blipFill>
          <a:blip r:embed="rId1"/>
          <a:stretch/>
        </p:blipFill>
        <p:spPr>
          <a:xfrm>
            <a:off x="2182680" y="987480"/>
            <a:ext cx="3108600" cy="592200"/>
          </a:xfrm>
          <a:prstGeom prst="rect">
            <a:avLst/>
          </a:prstGeom>
          <a:ln w="0">
            <a:noFill/>
          </a:ln>
        </p:spPr>
      </p:pic>
      <p:sp>
        <p:nvSpPr>
          <p:cNvPr id="1141" name="矩形 2"/>
          <p:cNvSpPr/>
          <p:nvPr/>
        </p:nvSpPr>
        <p:spPr>
          <a:xfrm rot="20285400">
            <a:off x="8820720" y="2927520"/>
            <a:ext cx="17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d050"/>
                </a:solidFill>
                <a:latin typeface="华文琥珀"/>
                <a:ea typeface="华文琥珀"/>
              </a:rPr>
              <a:t>三等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直接连接符 648"/>
          <p:cNvSpPr/>
          <p:nvPr/>
        </p:nvSpPr>
        <p:spPr>
          <a:xfrm>
            <a:off x="2324160" y="4165560"/>
            <a:ext cx="2705040" cy="1816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直接连接符 649"/>
          <p:cNvSpPr/>
          <p:nvPr/>
        </p:nvSpPr>
        <p:spPr>
          <a:xfrm flipH="1">
            <a:off x="5016600" y="4749840"/>
            <a:ext cx="3301920" cy="2019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直接连接符 655"/>
          <p:cNvSpPr/>
          <p:nvPr/>
        </p:nvSpPr>
        <p:spPr>
          <a:xfrm flipH="1">
            <a:off x="5003280" y="4381560"/>
            <a:ext cx="3264120" cy="172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直接连接符 657"/>
          <p:cNvSpPr/>
          <p:nvPr/>
        </p:nvSpPr>
        <p:spPr>
          <a:xfrm flipH="1">
            <a:off x="4114800" y="2006640"/>
            <a:ext cx="3378240" cy="495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直接连接符 660"/>
          <p:cNvSpPr/>
          <p:nvPr/>
        </p:nvSpPr>
        <p:spPr>
          <a:xfrm flipH="1">
            <a:off x="4039920" y="2489040"/>
            <a:ext cx="3476520" cy="6987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组合 632"/>
          <p:cNvGrpSpPr/>
          <p:nvPr/>
        </p:nvGrpSpPr>
        <p:grpSpPr>
          <a:xfrm>
            <a:off x="0" y="4354560"/>
            <a:ext cx="4578480" cy="504720"/>
            <a:chOff x="0" y="4354560"/>
            <a:chExt cx="4578480" cy="504720"/>
          </a:xfrm>
        </p:grpSpPr>
        <p:sp>
          <p:nvSpPr>
            <p:cNvPr id="1148" name="圆角矩形 633"/>
            <p:cNvSpPr/>
            <p:nvPr/>
          </p:nvSpPr>
          <p:spPr>
            <a:xfrm>
              <a:off x="2438280" y="4362120"/>
              <a:ext cx="2140200" cy="491760"/>
            </a:xfrm>
            <a:prstGeom prst="roundRect">
              <a:avLst>
                <a:gd name="adj" fmla="val 16667"/>
              </a:avLst>
            </a:prstGeom>
            <a:solidFill>
              <a:srgbClr val="70ad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d7d31"/>
                  </a:solidFill>
                  <a:latin typeface="幼圆"/>
                  <a:ea typeface="幼圆"/>
                </a:rPr>
                <a:t>机械结构设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9" name="圆角矩形 634" descr=""/>
            <p:cNvPicPr/>
            <p:nvPr/>
          </p:nvPicPr>
          <p:blipFill>
            <a:blip r:embed="rId2"/>
            <a:stretch/>
          </p:blipFill>
          <p:spPr>
            <a:xfrm>
              <a:off x="0" y="4354560"/>
              <a:ext cx="21553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0" name="组合 635"/>
          <p:cNvGrpSpPr/>
          <p:nvPr/>
        </p:nvGrpSpPr>
        <p:grpSpPr>
          <a:xfrm>
            <a:off x="4537080" y="4133880"/>
            <a:ext cx="4886280" cy="514440"/>
            <a:chOff x="4537080" y="4133880"/>
            <a:chExt cx="4886280" cy="514440"/>
          </a:xfrm>
        </p:grpSpPr>
        <p:sp>
          <p:nvSpPr>
            <p:cNvPr id="1151" name="圆角矩形 636"/>
            <p:cNvSpPr/>
            <p:nvPr/>
          </p:nvSpPr>
          <p:spPr>
            <a:xfrm>
              <a:off x="7283520" y="4133880"/>
              <a:ext cx="2139840" cy="496440"/>
            </a:xfrm>
            <a:prstGeom prst="roundRect">
              <a:avLst>
                <a:gd name="adj" fmla="val 16667"/>
              </a:avLst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幼圆"/>
                  <a:ea typeface="幼圆"/>
                </a:rPr>
                <a:t>调试软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2" name="圆角矩形 637" descr=""/>
            <p:cNvPicPr/>
            <p:nvPr/>
          </p:nvPicPr>
          <p:blipFill>
            <a:blip r:embed="rId3"/>
            <a:stretch/>
          </p:blipFill>
          <p:spPr>
            <a:xfrm>
              <a:off x="4537080" y="4138920"/>
              <a:ext cx="2154600" cy="50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3" name="同心圆 639"/>
          <p:cNvSpPr/>
          <p:nvPr/>
        </p:nvSpPr>
        <p:spPr>
          <a:xfrm>
            <a:off x="2004840" y="4316400"/>
            <a:ext cx="570240" cy="568440"/>
          </a:xfrm>
          <a:custGeom>
            <a:avLst/>
            <a:gdLst>
              <a:gd name="textAreaLeft" fmla="*/ 83520 w 570240"/>
              <a:gd name="textAreaRight" fmla="*/ 486720 w 570240"/>
              <a:gd name="textAreaTop" fmla="*/ 83160 h 568440"/>
              <a:gd name="textAreaBottom" fmla="*/ 485280 h 568440"/>
            </a:gdLst>
            <a:ahLst/>
            <a:rect l="textAreaLeft" t="textAreaTop" r="textAreaRight" b="textAreaBottom"/>
            <a:pathLst>
              <a:path w="569912" h="568325">
                <a:moveTo>
                  <a:pt x="0" y="284163"/>
                </a:moveTo>
                <a:lnTo>
                  <a:pt x="0" y="284163"/>
                </a:lnTo>
                <a:arcTo wR="284956" hR="284163" stAng="10800000" swAng="5400000"/>
                <a:lnTo>
                  <a:pt x="284956" y="0"/>
                </a:lnTo>
                <a:arcTo wR="284956" hR="284163" stAng="-5400000" swAng="5400000"/>
                <a:lnTo>
                  <a:pt x="569912" y="284163"/>
                </a:lnTo>
                <a:arcTo wR="284956" hR="284163" stAng="0" swAng="5400000"/>
                <a:lnTo>
                  <a:pt x="284956" y="568326"/>
                </a:lnTo>
                <a:arcTo wR="284956" hR="284163" stAng="5400000" swAng="5400000"/>
                <a:close/>
                <a:moveTo>
                  <a:pt x="142081" y="284163"/>
                </a:moveTo>
                <a:lnTo>
                  <a:pt x="142081" y="284163"/>
                </a:lnTo>
                <a:arcTo wR="142875" hR="142081" stAng="10800000" swAng="-5400000"/>
                <a:lnTo>
                  <a:pt x="284956" y="426244"/>
                </a:lnTo>
                <a:arcTo wR="142875" hR="142081" stAng="5400000" swAng="-5400000"/>
                <a:lnTo>
                  <a:pt x="427831" y="284163"/>
                </a:lnTo>
                <a:arcTo wR="142875" hR="142081" stAng="0" swAng="-5400000"/>
                <a:lnTo>
                  <a:pt x="284956" y="142082"/>
                </a:lnTo>
                <a:arcTo wR="142875" hR="142081" stAng="-5400000" swAng="-5400000"/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7632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同心圆 640"/>
          <p:cNvSpPr/>
          <p:nvPr/>
        </p:nvSpPr>
        <p:spPr>
          <a:xfrm>
            <a:off x="4057560" y="5459400"/>
            <a:ext cx="435240" cy="434880"/>
          </a:xfrm>
          <a:custGeom>
            <a:avLst/>
            <a:gdLst>
              <a:gd name="textAreaLeft" fmla="*/ 63720 w 435240"/>
              <a:gd name="textAreaRight" fmla="*/ 371520 w 435240"/>
              <a:gd name="textAreaTop" fmla="*/ 63720 h 434880"/>
              <a:gd name="textAreaBottom" fmla="*/ 371160 h 434880"/>
            </a:gdLst>
            <a:ahLst/>
            <a:rect l="textAreaLeft" t="textAreaTop" r="textAreaRight" b="textAreaBottom"/>
            <a:pathLst>
              <a:path w="434975" h="434975">
                <a:moveTo>
                  <a:pt x="0" y="217488"/>
                </a:moveTo>
                <a:lnTo>
                  <a:pt x="0" y="217488"/>
                </a:lnTo>
                <a:arcTo wR="217488" hR="217488" stAng="10800000" swAng="5400000"/>
                <a:lnTo>
                  <a:pt x="217488" y="0"/>
                </a:lnTo>
                <a:arcTo wR="217488" hR="217488" stAng="-5400000" swAng="5400000"/>
                <a:lnTo>
                  <a:pt x="434976" y="217488"/>
                </a:lnTo>
                <a:arcTo wR="217488" hR="217488" stAng="0" swAng="5400000"/>
                <a:lnTo>
                  <a:pt x="217488" y="434976"/>
                </a:lnTo>
                <a:arcTo wR="217488" hR="217488" stAng="5400000" swAng="5400000"/>
                <a:close/>
                <a:moveTo>
                  <a:pt x="108744" y="217488"/>
                </a:moveTo>
                <a:lnTo>
                  <a:pt x="108744" y="217488"/>
                </a:lnTo>
                <a:arcTo wR="108744" hR="108744" stAng="10800000" swAng="-5400000"/>
                <a:lnTo>
                  <a:pt x="217488" y="326232"/>
                </a:lnTo>
                <a:arcTo wR="108744" hR="108744" stAng="5400000" swAng="-5400000"/>
                <a:lnTo>
                  <a:pt x="326232" y="217488"/>
                </a:lnTo>
                <a:arcTo wR="108744" hR="108744" stAng="0" swAng="-5400000"/>
                <a:lnTo>
                  <a:pt x="217488" y="108744"/>
                </a:lnTo>
                <a:arcTo wR="108744" hR="108744" stAng="-540000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同心圆 641"/>
          <p:cNvSpPr/>
          <p:nvPr/>
        </p:nvSpPr>
        <p:spPr>
          <a:xfrm>
            <a:off x="6516720" y="3929040"/>
            <a:ext cx="904680" cy="905040"/>
          </a:xfrm>
          <a:custGeom>
            <a:avLst/>
            <a:gdLst>
              <a:gd name="textAreaLeft" fmla="*/ 132480 w 904680"/>
              <a:gd name="textAreaRight" fmla="*/ 772200 w 904680"/>
              <a:gd name="textAreaTop" fmla="*/ 132480 h 905040"/>
              <a:gd name="textAreaBottom" fmla="*/ 772560 h 905040"/>
            </a:gdLst>
            <a:ahLst/>
            <a:rect l="textAreaLeft" t="textAreaTop" r="textAreaRight" b="textAreaBottom"/>
            <a:pathLst>
              <a:path w="904875" h="904875">
                <a:moveTo>
                  <a:pt x="0" y="452438"/>
                </a:moveTo>
                <a:lnTo>
                  <a:pt x="0" y="452438"/>
                </a:lnTo>
                <a:arcTo wR="452438" hR="452438" stAng="-10799992" swAng="5400000"/>
                <a:lnTo>
                  <a:pt x="452439" y="1"/>
                </a:lnTo>
                <a:arcTo wR="452438" hR="452438" stAng="-5399992" swAng="5400000"/>
                <a:lnTo>
                  <a:pt x="904876" y="452440"/>
                </a:lnTo>
                <a:arcTo wR="452438" hR="452438" stAng="0" swAng="5400000"/>
                <a:lnTo>
                  <a:pt x="452438" y="904878"/>
                </a:lnTo>
                <a:arcTo wR="452438" hR="452438" stAng="5400000" swAng="5400008"/>
                <a:close/>
                <a:moveTo>
                  <a:pt x="226219" y="452438"/>
                </a:moveTo>
                <a:lnTo>
                  <a:pt x="226219" y="452438"/>
                </a:lnTo>
                <a:arcTo wR="226219" hR="226219" stAng="10800000" swAng="-5400000"/>
                <a:lnTo>
                  <a:pt x="452438" y="678657"/>
                </a:lnTo>
                <a:arcTo wR="226219" hR="226219" stAng="5400000" swAng="-5400000"/>
                <a:lnTo>
                  <a:pt x="678657" y="452438"/>
                </a:lnTo>
                <a:arcTo wR="226219" hR="226219" stAng="0" swAng="-5400000"/>
                <a:lnTo>
                  <a:pt x="452438" y="226219"/>
                </a:lnTo>
                <a:arcTo wR="226219" hR="226219" stAng="-5400000" swAng="-5400000"/>
                <a:close/>
              </a:path>
            </a:pathLst>
          </a:custGeom>
          <a:solidFill>
            <a:srgbClr val="2e75b6"/>
          </a:solidFill>
          <a:ln w="0">
            <a:noFill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组合 642"/>
          <p:cNvGrpSpPr/>
          <p:nvPr/>
        </p:nvGrpSpPr>
        <p:grpSpPr>
          <a:xfrm>
            <a:off x="2019240" y="5421240"/>
            <a:ext cx="4508640" cy="504720"/>
            <a:chOff x="2019240" y="5421240"/>
            <a:chExt cx="4508640" cy="504720"/>
          </a:xfrm>
        </p:grpSpPr>
        <p:sp>
          <p:nvSpPr>
            <p:cNvPr id="1157" name="圆角矩形 643"/>
            <p:cNvSpPr/>
            <p:nvPr/>
          </p:nvSpPr>
          <p:spPr>
            <a:xfrm>
              <a:off x="4388400" y="5428800"/>
              <a:ext cx="2139480" cy="491760"/>
            </a:xfrm>
            <a:prstGeom prst="roundRect">
              <a:avLst>
                <a:gd name="adj" fmla="val 16667"/>
              </a:avLst>
            </a:prstGeom>
            <a:solidFill>
              <a:srgbClr val="7030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2d050"/>
                  </a:solidFill>
                  <a:latin typeface="幼圆"/>
                  <a:ea typeface="幼圆"/>
                </a:rPr>
                <a:t>构造电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8" name="圆角矩形 644" descr=""/>
            <p:cNvPicPr/>
            <p:nvPr/>
          </p:nvPicPr>
          <p:blipFill>
            <a:blip r:embed="rId4"/>
            <a:stretch/>
          </p:blipFill>
          <p:spPr>
            <a:xfrm>
              <a:off x="2019240" y="5421240"/>
              <a:ext cx="2154240" cy="5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9" name="矩形 645"/>
          <p:cNvSpPr/>
          <p:nvPr/>
        </p:nvSpPr>
        <p:spPr>
          <a:xfrm rot="20247600">
            <a:off x="-177480" y="341280"/>
            <a:ext cx="237816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push dir="l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1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"/>
                            </p:stCondLst>
                            <p:childTnLst>
                              <p:par>
                                <p:cTn id="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1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3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700"/>
                            </p:stCondLst>
                            <p:childTnLst>
                              <p:par>
                                <p:cTn id="6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1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800"/>
                            </p:stCondLst>
                            <p:childTnLst>
                              <p:par>
                                <p:cTn id="6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9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3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400"/>
                            </p:stCondLst>
                            <p:childTnLst>
                              <p:par>
                                <p:cTn id="70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3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3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3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7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22" presetSubtype="4">
                                  <p:stCondLst>
                                    <p:cond delay="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8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22" presetSubtype="4">
                                  <p:stCondLst>
                                    <p:cond delay="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1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22" presetSubtype="4">
                                  <p:stCondLst>
                                    <p:cond delay="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22" presetSubtype="4">
                                  <p:stCondLst>
                                    <p:cond delay="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22" presetSubtype="4">
                                  <p:stCondLst>
                                    <p:cond delay="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0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400"/>
                            </p:stCondLst>
                            <p:childTnLst>
                              <p:par>
                                <p:cTn id="7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900"/>
                            </p:stCondLst>
                            <p:childTnLst>
                              <p:par>
                                <p:cTn id="74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2" dur="250" autoRev="1" fill="hold"/>
                                        <p:tgtEl>
                                          <p:spTgt spid="1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6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5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mph" presetID="26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8" dur="250" autoRev="1" fill="hold"/>
                                        <p:tgtEl>
                                          <p:spTgt spid="1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1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4" dur="250" autoRev="1" fill="hold"/>
                                        <p:tgtEl>
                                          <p:spTgt spid="1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3700"/>
                            </p:stCondLst>
                            <p:childTnLst>
                              <p:par>
                                <p:cTn id="7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3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3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3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3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8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300"/>
                            </p:stCondLst>
                            <p:childTnLst>
                              <p:par>
                                <p:cTn id="78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3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3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3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600"/>
                            </p:stCondLst>
                            <p:childTnLst>
                              <p:par>
                                <p:cTn id="7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6200"/>
                            </p:stCondLst>
                            <p:childTnLst>
                              <p:par>
                                <p:cTn id="8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矩形 8"/>
          <p:cNvSpPr/>
          <p:nvPr/>
        </p:nvSpPr>
        <p:spPr>
          <a:xfrm rot="5400000">
            <a:off x="9373680" y="2768400"/>
            <a:ext cx="25128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9"/>
          <p:cNvSpPr/>
          <p:nvPr/>
        </p:nvSpPr>
        <p:spPr>
          <a:xfrm>
            <a:off x="3471840" y="3903840"/>
            <a:ext cx="7284960" cy="25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11"/>
          <p:cNvSpPr/>
          <p:nvPr/>
        </p:nvSpPr>
        <p:spPr>
          <a:xfrm>
            <a:off x="8845560" y="1638360"/>
            <a:ext cx="19112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矩形 10"/>
          <p:cNvSpPr/>
          <p:nvPr/>
        </p:nvSpPr>
        <p:spPr>
          <a:xfrm rot="5400000">
            <a:off x="7811280" y="812160"/>
            <a:ext cx="1906560" cy="25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矩形 12"/>
          <p:cNvSpPr/>
          <p:nvPr/>
        </p:nvSpPr>
        <p:spPr>
          <a:xfrm rot="5400000">
            <a:off x="2116440" y="5255280"/>
            <a:ext cx="295416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13"/>
          <p:cNvSpPr/>
          <p:nvPr/>
        </p:nvSpPr>
        <p:spPr>
          <a:xfrm>
            <a:off x="4546440" y="1857240"/>
            <a:ext cx="592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THER HONO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矩形 1"/>
          <p:cNvSpPr/>
          <p:nvPr/>
        </p:nvSpPr>
        <p:spPr>
          <a:xfrm>
            <a:off x="3683160" y="4286160"/>
            <a:ext cx="6119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b183"/>
                </a:solidFill>
                <a:latin typeface="华文琥珀"/>
                <a:ea typeface="华文琥珀"/>
              </a:rPr>
              <a:t>第六届影中北科摄影大赛献礼</a:t>
            </a:r>
            <a:r>
              <a:rPr b="1" lang="en-US" sz="2400" spc="-1" strike="noStrike">
                <a:solidFill>
                  <a:srgbClr val="f4b183"/>
                </a:solidFill>
                <a:latin typeface="华文琥珀"/>
                <a:ea typeface="华文琥珀"/>
              </a:rPr>
              <a:t>60</a:t>
            </a:r>
            <a:r>
              <a:rPr b="1" lang="zh-CN" sz="2400" spc="-1" strike="noStrike">
                <a:solidFill>
                  <a:srgbClr val="f4b183"/>
                </a:solidFill>
                <a:latin typeface="华文琥珀"/>
                <a:ea typeface="华文琥珀"/>
              </a:rPr>
              <a:t>周年特别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矩形 16"/>
          <p:cNvSpPr/>
          <p:nvPr/>
        </p:nvSpPr>
        <p:spPr>
          <a:xfrm>
            <a:off x="7632720" y="3479760"/>
            <a:ext cx="2730600" cy="30492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d7ee"/>
                </a:solidFill>
                <a:latin typeface="华文琥珀"/>
                <a:ea typeface="华文琥珀"/>
              </a:rPr>
              <a:t>OTHER HON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矩形 18"/>
          <p:cNvSpPr/>
          <p:nvPr/>
        </p:nvSpPr>
        <p:spPr>
          <a:xfrm>
            <a:off x="7632720" y="2819520"/>
            <a:ext cx="2730600" cy="30456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d7ee"/>
                </a:solidFill>
                <a:latin typeface="华文琥珀"/>
                <a:ea typeface="华文琥珀"/>
              </a:rPr>
              <a:t>OTHER HON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等腰三角形 19"/>
          <p:cNvSpPr/>
          <p:nvPr/>
        </p:nvSpPr>
        <p:spPr>
          <a:xfrm rot="7800000">
            <a:off x="3205440" y="3319560"/>
            <a:ext cx="222120" cy="601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等腰三角形 20"/>
          <p:cNvSpPr/>
          <p:nvPr/>
        </p:nvSpPr>
        <p:spPr>
          <a:xfrm rot="5040000">
            <a:off x="3020400" y="3732120"/>
            <a:ext cx="222120" cy="600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矩形 22"/>
          <p:cNvSpPr/>
          <p:nvPr/>
        </p:nvSpPr>
        <p:spPr>
          <a:xfrm>
            <a:off x="7632720" y="3149640"/>
            <a:ext cx="273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d7ee"/>
                </a:solidFill>
                <a:latin typeface="华文琥珀"/>
                <a:ea typeface="华文琥珀"/>
              </a:rPr>
              <a:t>OTHER HON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矩形 23"/>
          <p:cNvSpPr/>
          <p:nvPr/>
        </p:nvSpPr>
        <p:spPr>
          <a:xfrm>
            <a:off x="3683160" y="4788000"/>
            <a:ext cx="6119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183"/>
                </a:solidFill>
                <a:latin typeface="华文琥珀"/>
                <a:ea typeface="华文琥珀"/>
              </a:rPr>
              <a:t>2010</a:t>
            </a:r>
            <a:r>
              <a:rPr b="1" lang="zh-CN" sz="2400" spc="-1" strike="noStrike">
                <a:solidFill>
                  <a:srgbClr val="f4b183"/>
                </a:solidFill>
                <a:latin typeface="华文琥珀"/>
                <a:ea typeface="华文琥珀"/>
              </a:rPr>
              <a:t>年暑期社会实践“社会实践优秀个人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矩形 24"/>
          <p:cNvSpPr/>
          <p:nvPr/>
        </p:nvSpPr>
        <p:spPr>
          <a:xfrm>
            <a:off x="3683160" y="5289480"/>
            <a:ext cx="6119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b183"/>
                </a:solidFill>
                <a:latin typeface="华文琥珀"/>
                <a:ea typeface="华文琥珀"/>
              </a:rPr>
              <a:t>北京科技大学</a:t>
            </a:r>
            <a:r>
              <a:rPr b="1" lang="en-US" sz="2400" spc="-1" strike="noStrike">
                <a:solidFill>
                  <a:srgbClr val="f4b183"/>
                </a:solidFill>
                <a:latin typeface="华文琥珀"/>
                <a:ea typeface="华文琥珀"/>
              </a:rPr>
              <a:t>2010-2011</a:t>
            </a:r>
            <a:r>
              <a:rPr b="1" lang="zh-CN" sz="2400" spc="-1" strike="noStrike">
                <a:solidFill>
                  <a:srgbClr val="f4b183"/>
                </a:solidFill>
                <a:latin typeface="华文琥珀"/>
                <a:ea typeface="华文琥珀"/>
              </a:rPr>
              <a:t>年度“百优志愿者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同心圆 21"/>
          <p:cNvSpPr/>
          <p:nvPr/>
        </p:nvSpPr>
        <p:spPr>
          <a:xfrm>
            <a:off x="4013280" y="2120760"/>
            <a:ext cx="673200" cy="673200"/>
          </a:xfrm>
          <a:custGeom>
            <a:avLst/>
            <a:gdLst>
              <a:gd name="textAreaLeft" fmla="*/ 98640 w 673200"/>
              <a:gd name="textAreaRight" fmla="*/ 574560 w 673200"/>
              <a:gd name="textAreaTop" fmla="*/ 98640 h 673200"/>
              <a:gd name="textAreaBottom" fmla="*/ 574560 h 673200"/>
            </a:gdLst>
            <a:ahLst/>
            <a:rect l="textAreaLeft" t="textAreaTop" r="textAreaRight" b="textAreaBottom"/>
            <a:pathLst>
              <a:path w="673100" h="673100">
                <a:moveTo>
                  <a:pt x="0" y="336550"/>
                </a:moveTo>
                <a:lnTo>
                  <a:pt x="0" y="336550"/>
                </a:lnTo>
                <a:arcTo wR="336550" hR="336550" stAng="10800000" swAng="5400010"/>
                <a:lnTo>
                  <a:pt x="336551" y="0"/>
                </a:lnTo>
                <a:arcTo wR="336550" hR="336550" stAng="-5400000" swAng="5400010"/>
                <a:lnTo>
                  <a:pt x="673101" y="336551"/>
                </a:lnTo>
                <a:arcTo wR="336550" hR="336550" stAng="0" swAng="5400000"/>
                <a:lnTo>
                  <a:pt x="336551" y="673101"/>
                </a:lnTo>
                <a:arcTo wR="336550" hR="336550" stAng="5400000" swAng="5400000"/>
                <a:close/>
                <a:moveTo>
                  <a:pt x="201634" y="336550"/>
                </a:moveTo>
                <a:lnTo>
                  <a:pt x="201634" y="336550"/>
                </a:lnTo>
                <a:arcTo wR="134916" hR="134916" stAng="10800000" swAng="-5400000"/>
                <a:lnTo>
                  <a:pt x="336550" y="471466"/>
                </a:lnTo>
                <a:arcTo wR="134916" hR="134916" stAng="5400000" swAng="-5400000"/>
                <a:lnTo>
                  <a:pt x="471466" y="336550"/>
                </a:lnTo>
                <a:arcTo wR="134916" hR="134916" stAng="0" swAng="-5400000"/>
                <a:lnTo>
                  <a:pt x="336550" y="201634"/>
                </a:lnTo>
                <a:arcTo wR="134916" hR="134916" stAng="-540000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1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1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300"/>
                            </p:stCondLst>
                            <p:childTnLst>
                              <p:par>
                                <p:cTn id="8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8" dur="3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600"/>
                            </p:stCondLst>
                            <p:childTnLst>
                              <p:par>
                                <p:cTn id="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2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5" dur="2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2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1" dur="250" autoRev="1" fill="hold"/>
                                        <p:tgtEl>
                                          <p:spTgt spid="1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4" dur="250" autoRev="1" fill="hold"/>
                                        <p:tgtEl>
                                          <p:spTgt spid="1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100"/>
                            </p:stCondLst>
                            <p:childTnLst>
                              <p:par>
                                <p:cTn id="84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48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400"/>
                            </p:stCondLst>
                            <p:childTnLst>
                              <p:par>
                                <p:cTn id="8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9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400"/>
                            </p:stCondLst>
                            <p:childTnLst>
                              <p:par>
                                <p:cTn id="8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0023 L -8.33333E-007 0.00093 C 0.01172 -0.00069 0.0556 -0.00069 0.07266 -0.00439 C 0.09089 -0.00856 0.10208 -0.01921 0.10951 -0.02407 C 0.1194 -0.03264 0.12761 -0.04676 0.13268 -0.05578 C 0.13451 -0.06157 0.13724 -0.07083 0.1388 -0.07893 C 0.13906 -0.08078 0.14102 -0.10139 0.14102 -0.10439 C 0.14063 -0.11921 0.14037 -0.13379 0.13776 -0.14884 C 0.13425 -0.16666 0.1263 -0.19583 0.12096 -0.20856 C 0.11159 -0.225 0.09714 -0.23773 0.08229 -0.2449 C 0.06497 -0.25046 0.0487 -0.25046 0.03151 -0.25578 C 0.01224 -0.25578 -0.03633 -0.25578 -0.06159 -0.24861 C -0.08698 -0.24305 -0.10273 -0.23287 -0.1207 -0.21574 C -0.1388 -0.1993 -0.15781 -0.1743 -0.16992 -0.14652 C -0.175 -0.13564 -0.18906 -0.1118 -0.19792 -0.08356 C -0.20351 -0.06273 -0.21914 -0.01296 -0.225 0.02755 C -0.22904 0.05811 -0.23255 0.10834 -0.23216 0.15023 C -0.22904 0.17801 -0.225 0.2088 -0.21133 0.23241 C -0.20091 0.25811 -0.17904 0.27176 -0.16159 0.28357 C -0.14427 0.29537 -0.12226 0.29792 -0.10729 0.30348 C -0.0862 0.30787 -0.04922 0.30625 -0.0332 0.30741 E">
                                      <p:cBhvr>
                                        <p:cTn id="868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4400"/>
                            </p:stCondLst>
                            <p:childTnLst>
                              <p:par>
                                <p:cTn id="8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2 0.30741 L 0.46042 0.30741 E">
                                      <p:cBhvr>
                                        <p:cTn id="871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6400"/>
                            </p:stCondLst>
                            <p:childTnLst>
                              <p:par>
                                <p:cTn id="8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042 0.30741 L -0.03255 0.37639 E">
                                      <p:cBhvr>
                                        <p:cTn id="877" dur="5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6900"/>
                            </p:stCondLst>
                            <p:childTnLst>
                              <p:par>
                                <p:cTn id="87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3 0.37639 L 0.45807 0.375 E">
                                      <p:cBhvr>
                                        <p:cTn id="880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8900"/>
                            </p:stCondLst>
                            <p:childTnLst>
                              <p:par>
                                <p:cTn id="88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86 0.375 L -0.03099 0.45 E">
                                      <p:cBhvr>
                                        <p:cTn id="886" dur="5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9400"/>
                            </p:stCondLst>
                            <p:childTnLst>
                              <p:par>
                                <p:cTn id="88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99 0.45 L 0.46693 0.45 E">
                                      <p:cBhvr>
                                        <p:cTn id="889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矩形 804"/>
          <p:cNvSpPr/>
          <p:nvPr/>
        </p:nvSpPr>
        <p:spPr>
          <a:xfrm rot="5400000">
            <a:off x="2063160" y="1404720"/>
            <a:ext cx="306072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386"/>
          <p:cNvSpPr/>
          <p:nvPr/>
        </p:nvSpPr>
        <p:spPr>
          <a:xfrm>
            <a:off x="3303720" y="1846440"/>
            <a:ext cx="11160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827"/>
          <p:cNvSpPr/>
          <p:nvPr/>
        </p:nvSpPr>
        <p:spPr>
          <a:xfrm>
            <a:off x="3713040" y="1955880"/>
            <a:ext cx="12733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矩形 828"/>
          <p:cNvSpPr/>
          <p:nvPr/>
        </p:nvSpPr>
        <p:spPr>
          <a:xfrm>
            <a:off x="4971960" y="2928960"/>
            <a:ext cx="76068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圆角矩形 829"/>
          <p:cNvSpPr/>
          <p:nvPr/>
        </p:nvSpPr>
        <p:spPr>
          <a:xfrm>
            <a:off x="5702400" y="2916360"/>
            <a:ext cx="642960" cy="1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圆角矩形 831"/>
          <p:cNvSpPr/>
          <p:nvPr/>
        </p:nvSpPr>
        <p:spPr>
          <a:xfrm>
            <a:off x="5702400" y="1982880"/>
            <a:ext cx="642960" cy="1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圆角矩形 832"/>
          <p:cNvSpPr/>
          <p:nvPr/>
        </p:nvSpPr>
        <p:spPr>
          <a:xfrm>
            <a:off x="5715000" y="2425680"/>
            <a:ext cx="585720" cy="1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圆角矩形 833"/>
          <p:cNvSpPr/>
          <p:nvPr/>
        </p:nvSpPr>
        <p:spPr>
          <a:xfrm rot="5400000">
            <a:off x="5252400" y="2430360"/>
            <a:ext cx="1106640" cy="2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矩形 834"/>
          <p:cNvSpPr/>
          <p:nvPr/>
        </p:nvSpPr>
        <p:spPr>
          <a:xfrm>
            <a:off x="3692520" y="1582560"/>
            <a:ext cx="273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d7ee"/>
                </a:solidFill>
                <a:latin typeface="Broadway"/>
                <a:ea typeface="华文琥珀"/>
              </a:rPr>
              <a:t>FIRST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同心圆 835"/>
          <p:cNvSpPr/>
          <p:nvPr/>
        </p:nvSpPr>
        <p:spPr>
          <a:xfrm>
            <a:off x="6767640" y="1658880"/>
            <a:ext cx="1347840" cy="1347840"/>
          </a:xfrm>
          <a:custGeom>
            <a:avLst/>
            <a:gdLst>
              <a:gd name="textAreaLeft" fmla="*/ 197280 w 1347840"/>
              <a:gd name="textAreaRight" fmla="*/ 1150560 w 1347840"/>
              <a:gd name="textAreaTop" fmla="*/ 197280 h 1347840"/>
              <a:gd name="textAreaBottom" fmla="*/ 1150560 h 1347840"/>
            </a:gdLst>
            <a:ahLst/>
            <a:rect l="textAreaLeft" t="textAreaTop" r="textAreaRight" b="textAreaBottom"/>
            <a:pathLst>
              <a:path w="1347787" h="1347787">
                <a:moveTo>
                  <a:pt x="0" y="673894"/>
                </a:moveTo>
                <a:lnTo>
                  <a:pt x="0" y="673894"/>
                </a:lnTo>
                <a:arcTo wR="673894" hR="673894" stAng="-10799995" swAng="5400000"/>
                <a:lnTo>
                  <a:pt x="673895" y="1"/>
                </a:lnTo>
                <a:arcTo wR="673894" hR="673894" stAng="-5399995" swAng="5400000"/>
                <a:lnTo>
                  <a:pt x="1347788" y="673896"/>
                </a:lnTo>
                <a:arcTo wR="673894" hR="673894" stAng="0" swAng="5400000"/>
                <a:lnTo>
                  <a:pt x="673894" y="1347790"/>
                </a:lnTo>
                <a:arcTo wR="673894" hR="673894" stAng="5400000" swAng="5400005"/>
                <a:close/>
                <a:moveTo>
                  <a:pt x="336947" y="673894"/>
                </a:moveTo>
                <a:lnTo>
                  <a:pt x="336947" y="673894"/>
                </a:lnTo>
                <a:arcTo wR="336947" hR="336947" stAng="10800000" swAng="-5400000"/>
                <a:lnTo>
                  <a:pt x="673894" y="1010841"/>
                </a:lnTo>
                <a:arcTo wR="336947" hR="336947" stAng="5400000" swAng="-5400000"/>
                <a:lnTo>
                  <a:pt x="1010841" y="673894"/>
                </a:lnTo>
                <a:arcTo wR="336947" hR="336947" stAng="0" swAng="-5400000"/>
                <a:lnTo>
                  <a:pt x="673894" y="336947"/>
                </a:lnTo>
                <a:arcTo wR="336947" hR="336947" stAng="-5400000" swAng="-5400000"/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7632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矩形 836"/>
          <p:cNvSpPr/>
          <p:nvPr/>
        </p:nvSpPr>
        <p:spPr>
          <a:xfrm>
            <a:off x="6951600" y="1827360"/>
            <a:ext cx="979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dd7ee"/>
                </a:solidFill>
                <a:latin typeface="Impact"/>
                <a:ea typeface="华文琥珀"/>
              </a:rPr>
              <a:t>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矩形 837"/>
          <p:cNvSpPr/>
          <p:nvPr/>
        </p:nvSpPr>
        <p:spPr>
          <a:xfrm>
            <a:off x="7773840" y="2217600"/>
            <a:ext cx="30481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Broadway"/>
                <a:ea typeface="华文琥珀"/>
              </a:rPr>
              <a:t>设备与工艺工程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同心圆 838"/>
          <p:cNvSpPr/>
          <p:nvPr/>
        </p:nvSpPr>
        <p:spPr>
          <a:xfrm>
            <a:off x="6767640" y="3255840"/>
            <a:ext cx="1347840" cy="1347840"/>
          </a:xfrm>
          <a:custGeom>
            <a:avLst/>
            <a:gdLst>
              <a:gd name="textAreaLeft" fmla="*/ 197280 w 1347840"/>
              <a:gd name="textAreaRight" fmla="*/ 1150560 w 1347840"/>
              <a:gd name="textAreaTop" fmla="*/ 197280 h 1347840"/>
              <a:gd name="textAreaBottom" fmla="*/ 1150560 h 1347840"/>
            </a:gdLst>
            <a:ahLst/>
            <a:rect l="textAreaLeft" t="textAreaTop" r="textAreaRight" b="textAreaBottom"/>
            <a:pathLst>
              <a:path w="1347787" h="1347787">
                <a:moveTo>
                  <a:pt x="0" y="673894"/>
                </a:moveTo>
                <a:lnTo>
                  <a:pt x="0" y="673894"/>
                </a:lnTo>
                <a:arcTo wR="673894" hR="673894" stAng="-10799995" swAng="5400000"/>
                <a:lnTo>
                  <a:pt x="673895" y="1"/>
                </a:lnTo>
                <a:arcTo wR="673894" hR="673894" stAng="-5399995" swAng="5400000"/>
                <a:lnTo>
                  <a:pt x="1347788" y="673896"/>
                </a:lnTo>
                <a:arcTo wR="673894" hR="673894" stAng="0" swAng="5400000"/>
                <a:lnTo>
                  <a:pt x="673894" y="1347790"/>
                </a:lnTo>
                <a:arcTo wR="673894" hR="673894" stAng="5400000" swAng="5400005"/>
                <a:close/>
                <a:moveTo>
                  <a:pt x="336947" y="673894"/>
                </a:moveTo>
                <a:lnTo>
                  <a:pt x="336947" y="673894"/>
                </a:lnTo>
                <a:arcTo wR="336947" hR="336947" stAng="10800000" swAng="-5400000"/>
                <a:lnTo>
                  <a:pt x="673894" y="1010841"/>
                </a:lnTo>
                <a:arcTo wR="336947" hR="336947" stAng="5400000" swAng="-5400000"/>
                <a:lnTo>
                  <a:pt x="1010841" y="673894"/>
                </a:lnTo>
                <a:arcTo wR="336947" hR="336947" stAng="0" swAng="-5400000"/>
                <a:lnTo>
                  <a:pt x="673894" y="336947"/>
                </a:lnTo>
                <a:arcTo wR="336947" hR="336947" stAng="-5400000" swAng="-5400000"/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7632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矩形 839"/>
          <p:cNvSpPr/>
          <p:nvPr/>
        </p:nvSpPr>
        <p:spPr>
          <a:xfrm>
            <a:off x="6951600" y="3425760"/>
            <a:ext cx="979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dd7ee"/>
                </a:solidFill>
                <a:latin typeface="Impact"/>
                <a:ea typeface="华文琥珀"/>
              </a:rPr>
              <a:t>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矩形 840"/>
          <p:cNvSpPr/>
          <p:nvPr/>
        </p:nvSpPr>
        <p:spPr>
          <a:xfrm>
            <a:off x="7773840" y="3587760"/>
            <a:ext cx="3319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Broadway"/>
                <a:ea typeface="华文琥珀"/>
              </a:rPr>
              <a:t>设备维护</a:t>
            </a:r>
            <a:r>
              <a:rPr b="1" lang="en-US" sz="2800" spc="-1" strike="noStrike">
                <a:solidFill>
                  <a:srgbClr val="ffc000"/>
                </a:solidFill>
                <a:latin typeface="Broadway"/>
                <a:ea typeface="华文琥珀"/>
              </a:rPr>
              <a:t>&amp;</a:t>
            </a:r>
            <a:r>
              <a:rPr b="1" lang="zh-CN" sz="2800" spc="-1" strike="noStrike">
                <a:solidFill>
                  <a:srgbClr val="ffc000"/>
                </a:solidFill>
                <a:latin typeface="Broadway"/>
                <a:ea typeface="华文琥珀"/>
              </a:rPr>
              <a:t>保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Broadway"/>
                <a:ea typeface="华文琥珀"/>
              </a:rPr>
              <a:t>检测设备软件调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同心圆 841"/>
          <p:cNvSpPr/>
          <p:nvPr/>
        </p:nvSpPr>
        <p:spPr>
          <a:xfrm>
            <a:off x="6767640" y="4854600"/>
            <a:ext cx="1347840" cy="1347840"/>
          </a:xfrm>
          <a:custGeom>
            <a:avLst/>
            <a:gdLst>
              <a:gd name="textAreaLeft" fmla="*/ 197280 w 1347840"/>
              <a:gd name="textAreaRight" fmla="*/ 1150560 w 1347840"/>
              <a:gd name="textAreaTop" fmla="*/ 197280 h 1347840"/>
              <a:gd name="textAreaBottom" fmla="*/ 1150560 h 1347840"/>
            </a:gdLst>
            <a:ahLst/>
            <a:rect l="textAreaLeft" t="textAreaTop" r="textAreaRight" b="textAreaBottom"/>
            <a:pathLst>
              <a:path w="1347787" h="1347788">
                <a:moveTo>
                  <a:pt x="0" y="673894"/>
                </a:moveTo>
                <a:lnTo>
                  <a:pt x="0" y="673894"/>
                </a:lnTo>
                <a:arcTo wR="673894" hR="673894" stAng="-10799995" swAng="5400000"/>
                <a:lnTo>
                  <a:pt x="673895" y="1"/>
                </a:lnTo>
                <a:arcTo wR="673894" hR="673894" stAng="-5399995" swAng="5400000"/>
                <a:lnTo>
                  <a:pt x="1347788" y="673896"/>
                </a:lnTo>
                <a:arcTo wR="673894" hR="673894" stAng="0" swAng="5400000"/>
                <a:lnTo>
                  <a:pt x="673894" y="1347790"/>
                </a:lnTo>
                <a:arcTo wR="673894" hR="673894" stAng="5400000" swAng="5400005"/>
                <a:close/>
                <a:moveTo>
                  <a:pt x="336947" y="673894"/>
                </a:moveTo>
                <a:lnTo>
                  <a:pt x="336947" y="673894"/>
                </a:lnTo>
                <a:arcTo wR="336947" hR="336947" stAng="10800000" swAng="-5400000"/>
                <a:lnTo>
                  <a:pt x="673894" y="1010841"/>
                </a:lnTo>
                <a:arcTo wR="336947" hR="336947" stAng="5400000" swAng="-5400000"/>
                <a:lnTo>
                  <a:pt x="1010841" y="673894"/>
                </a:lnTo>
                <a:arcTo wR="336947" hR="336947" stAng="0" swAng="-5400000"/>
                <a:lnTo>
                  <a:pt x="673894" y="336947"/>
                </a:lnTo>
                <a:arcTo wR="336947" hR="336947" stAng="-5400000" swAng="-5400000"/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7632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矩形 842"/>
          <p:cNvSpPr/>
          <p:nvPr/>
        </p:nvSpPr>
        <p:spPr>
          <a:xfrm>
            <a:off x="6951600" y="5022720"/>
            <a:ext cx="97956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d7ee"/>
                </a:solidFill>
                <a:latin typeface="Impact"/>
                <a:ea typeface="华文琥珀"/>
              </a:rPr>
              <a:t>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矩形 843"/>
          <p:cNvSpPr/>
          <p:nvPr/>
        </p:nvSpPr>
        <p:spPr>
          <a:xfrm>
            <a:off x="7763040" y="5327640"/>
            <a:ext cx="3606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Broadway"/>
                <a:ea typeface="华文琥珀"/>
              </a:rPr>
              <a:t>Tw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Broadway"/>
                <a:ea typeface="华文琥珀"/>
              </a:rPr>
              <a:t>Technica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矩形 26"/>
          <p:cNvSpPr/>
          <p:nvPr/>
        </p:nvSpPr>
        <p:spPr>
          <a:xfrm>
            <a:off x="3692520" y="3111480"/>
            <a:ext cx="273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d7ee"/>
                </a:solidFill>
                <a:latin typeface="Adobe 黑体 Std R"/>
                <a:ea typeface="Adobe 黑体 Std R"/>
              </a:rPr>
              <a:t>TFT</a:t>
            </a:r>
            <a:r>
              <a:rPr b="0" lang="zh-CN" sz="2000" spc="-1" strike="noStrike">
                <a:solidFill>
                  <a:srgbClr val="bdd7ee"/>
                </a:solidFill>
                <a:latin typeface="Adobe 黑体 Std R"/>
                <a:ea typeface="Adobe 黑体 Std R"/>
              </a:rPr>
              <a:t>液晶显示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组合 24"/>
          <p:cNvGrpSpPr/>
          <p:nvPr/>
        </p:nvGrpSpPr>
        <p:grpSpPr>
          <a:xfrm>
            <a:off x="2155680" y="3708000"/>
            <a:ext cx="4189680" cy="2730960"/>
            <a:chOff x="2155680" y="3708000"/>
            <a:chExt cx="4189680" cy="2730960"/>
          </a:xfrm>
        </p:grpSpPr>
        <p:grpSp>
          <p:nvGrpSpPr>
            <p:cNvPr id="1195" name="组合 25"/>
            <p:cNvGrpSpPr/>
            <p:nvPr/>
          </p:nvGrpSpPr>
          <p:grpSpPr>
            <a:xfrm>
              <a:off x="3637440" y="5212800"/>
              <a:ext cx="62640" cy="812880"/>
              <a:chOff x="3637440" y="5212800"/>
              <a:chExt cx="62640" cy="812880"/>
            </a:xfrm>
          </p:grpSpPr>
          <p:sp>
            <p:nvSpPr>
              <p:cNvPr id="1196" name="矩形 753"/>
              <p:cNvSpPr/>
              <p:nvPr/>
            </p:nvSpPr>
            <p:spPr>
              <a:xfrm flipH="1">
                <a:off x="3637440" y="5212800"/>
                <a:ext cx="62640" cy="81288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矩形 754"/>
              <p:cNvSpPr/>
              <p:nvPr/>
            </p:nvSpPr>
            <p:spPr>
              <a:xfrm flipH="1">
                <a:off x="3667680" y="5212800"/>
                <a:ext cx="20160" cy="81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矩形 755"/>
              <p:cNvSpPr/>
              <p:nvPr/>
            </p:nvSpPr>
            <p:spPr>
              <a:xfrm flipH="1">
                <a:off x="3667680" y="5344560"/>
                <a:ext cx="20160" cy="230040"/>
              </a:xfrm>
              <a:prstGeom prst="rect">
                <a:avLst/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矩形 756"/>
              <p:cNvSpPr/>
              <p:nvPr/>
            </p:nvSpPr>
            <p:spPr>
              <a:xfrm flipH="1">
                <a:off x="3637440" y="5276160"/>
                <a:ext cx="2016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矩形 757"/>
              <p:cNvSpPr/>
              <p:nvPr/>
            </p:nvSpPr>
            <p:spPr>
              <a:xfrm flipH="1">
                <a:off x="3637440" y="5466600"/>
                <a:ext cx="20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矩形 758"/>
              <p:cNvSpPr/>
              <p:nvPr/>
            </p:nvSpPr>
            <p:spPr>
              <a:xfrm flipH="1">
                <a:off x="3637440" y="5657400"/>
                <a:ext cx="20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组合 27"/>
            <p:cNvGrpSpPr/>
            <p:nvPr/>
          </p:nvGrpSpPr>
          <p:grpSpPr>
            <a:xfrm>
              <a:off x="2516760" y="5212800"/>
              <a:ext cx="62640" cy="812880"/>
              <a:chOff x="2516760" y="5212800"/>
              <a:chExt cx="62640" cy="812880"/>
            </a:xfrm>
          </p:grpSpPr>
          <p:sp>
            <p:nvSpPr>
              <p:cNvPr id="1203" name="矩形 747"/>
              <p:cNvSpPr/>
              <p:nvPr/>
            </p:nvSpPr>
            <p:spPr>
              <a:xfrm>
                <a:off x="2516760" y="5212800"/>
                <a:ext cx="62640" cy="81288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矩形 748"/>
              <p:cNvSpPr/>
              <p:nvPr/>
            </p:nvSpPr>
            <p:spPr>
              <a:xfrm>
                <a:off x="2529000" y="5212800"/>
                <a:ext cx="20160" cy="81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矩形 749"/>
              <p:cNvSpPr/>
              <p:nvPr/>
            </p:nvSpPr>
            <p:spPr>
              <a:xfrm>
                <a:off x="2529000" y="5344560"/>
                <a:ext cx="20160" cy="230040"/>
              </a:xfrm>
              <a:prstGeom prst="rect">
                <a:avLst/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矩形 750"/>
              <p:cNvSpPr/>
              <p:nvPr/>
            </p:nvSpPr>
            <p:spPr>
              <a:xfrm>
                <a:off x="2559240" y="5276160"/>
                <a:ext cx="2016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矩形 751"/>
              <p:cNvSpPr/>
              <p:nvPr/>
            </p:nvSpPr>
            <p:spPr>
              <a:xfrm>
                <a:off x="2559240" y="5466600"/>
                <a:ext cx="20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矩形 752"/>
              <p:cNvSpPr/>
              <p:nvPr/>
            </p:nvSpPr>
            <p:spPr>
              <a:xfrm>
                <a:off x="2559240" y="5657400"/>
                <a:ext cx="20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9" name="矩形 28"/>
            <p:cNvSpPr/>
            <p:nvPr/>
          </p:nvSpPr>
          <p:spPr>
            <a:xfrm>
              <a:off x="3625920" y="4025880"/>
              <a:ext cx="104760" cy="63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29"/>
            <p:cNvSpPr/>
            <p:nvPr/>
          </p:nvSpPr>
          <p:spPr>
            <a:xfrm>
              <a:off x="3673440" y="4025880"/>
              <a:ext cx="9360" cy="824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1" name="组合 818"/>
            <p:cNvGrpSpPr/>
            <p:nvPr/>
          </p:nvGrpSpPr>
          <p:grpSpPr>
            <a:xfrm>
              <a:off x="5074200" y="3983040"/>
              <a:ext cx="41400" cy="51840"/>
              <a:chOff x="5074200" y="3983040"/>
              <a:chExt cx="41400" cy="51840"/>
            </a:xfrm>
          </p:grpSpPr>
          <p:sp>
            <p:nvSpPr>
              <p:cNvPr id="1212" name="椭圆 819"/>
              <p:cNvSpPr/>
              <p:nvPr/>
            </p:nvSpPr>
            <p:spPr>
              <a:xfrm>
                <a:off x="5074200" y="3983040"/>
                <a:ext cx="41400" cy="41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矩形 820"/>
              <p:cNvSpPr/>
              <p:nvPr/>
            </p:nvSpPr>
            <p:spPr>
              <a:xfrm>
                <a:off x="5085360" y="4014360"/>
                <a:ext cx="2052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4" name="矩形 31"/>
            <p:cNvSpPr/>
            <p:nvPr/>
          </p:nvSpPr>
          <p:spPr>
            <a:xfrm rot="1200000">
              <a:off x="2495160" y="4081320"/>
              <a:ext cx="207720" cy="41040"/>
            </a:xfrm>
            <a:prstGeom prst="rect">
              <a:avLst/>
            </a:prstGeom>
            <a:gradFill rotWithShape="0">
              <a:gsLst>
                <a:gs pos="0">
                  <a:srgbClr val="6b7d8d"/>
                </a:gs>
                <a:gs pos="100000">
                  <a:srgbClr val="bad7f2"/>
                </a:gs>
              </a:gsLst>
              <a:lin ang="1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直角三角形 32"/>
            <p:cNvSpPr/>
            <p:nvPr/>
          </p:nvSpPr>
          <p:spPr>
            <a:xfrm>
              <a:off x="3727440" y="4066920"/>
              <a:ext cx="52200" cy="26640"/>
            </a:xfrm>
            <a:prstGeom prst="rtTriangl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直角三角形 33"/>
            <p:cNvSpPr/>
            <p:nvPr/>
          </p:nvSpPr>
          <p:spPr>
            <a:xfrm flipH="1">
              <a:off x="3571200" y="4066920"/>
              <a:ext cx="52200" cy="26640"/>
            </a:xfrm>
            <a:prstGeom prst="rtTriangl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矩形 34"/>
            <p:cNvSpPr/>
            <p:nvPr/>
          </p:nvSpPr>
          <p:spPr>
            <a:xfrm>
              <a:off x="3571920" y="4089240"/>
              <a:ext cx="210960" cy="104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矩形 35"/>
            <p:cNvSpPr/>
            <p:nvPr/>
          </p:nvSpPr>
          <p:spPr>
            <a:xfrm>
              <a:off x="3571920" y="4194000"/>
              <a:ext cx="210960" cy="4284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9" name="组合 36"/>
            <p:cNvGrpSpPr/>
            <p:nvPr/>
          </p:nvGrpSpPr>
          <p:grpSpPr>
            <a:xfrm>
              <a:off x="3720240" y="4173120"/>
              <a:ext cx="51840" cy="51840"/>
              <a:chOff x="3720240" y="4173120"/>
              <a:chExt cx="51840" cy="51840"/>
            </a:xfrm>
          </p:grpSpPr>
          <p:sp>
            <p:nvSpPr>
              <p:cNvPr id="1220" name="椭圆 743"/>
              <p:cNvSpPr/>
              <p:nvPr/>
            </p:nvSpPr>
            <p:spPr>
              <a:xfrm>
                <a:off x="3720240" y="4173120"/>
                <a:ext cx="51840" cy="51840"/>
              </a:xfrm>
              <a:prstGeom prst="ellipse">
                <a:avLst/>
              </a:prstGeom>
              <a:solidFill>
                <a:srgbClr val="7f7f7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椭圆 744"/>
              <p:cNvSpPr/>
              <p:nvPr/>
            </p:nvSpPr>
            <p:spPr>
              <a:xfrm>
                <a:off x="3729960" y="4183920"/>
                <a:ext cx="3240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2" name="椭圆 37"/>
            <p:cNvSpPr/>
            <p:nvPr/>
          </p:nvSpPr>
          <p:spPr>
            <a:xfrm>
              <a:off x="3657600" y="5780160"/>
              <a:ext cx="187200" cy="1872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组合 38"/>
            <p:cNvGrpSpPr/>
            <p:nvPr/>
          </p:nvGrpSpPr>
          <p:grpSpPr>
            <a:xfrm>
              <a:off x="2578320" y="5124600"/>
              <a:ext cx="528480" cy="951120"/>
              <a:chOff x="2578320" y="5124600"/>
              <a:chExt cx="528480" cy="951120"/>
            </a:xfrm>
          </p:grpSpPr>
          <p:sp>
            <p:nvSpPr>
              <p:cNvPr id="1224" name="矩形 722"/>
              <p:cNvSpPr/>
              <p:nvPr/>
            </p:nvSpPr>
            <p:spPr>
              <a:xfrm>
                <a:off x="2578320" y="5124600"/>
                <a:ext cx="528480" cy="951120"/>
              </a:xfrm>
              <a:prstGeom prst="rect">
                <a:avLst/>
              </a:prstGeom>
              <a:solidFill>
                <a:srgbClr val="bdd7ee">
                  <a:alpha val="65000"/>
                </a:srgbClr>
              </a:soli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椭圆 723"/>
              <p:cNvSpPr/>
              <p:nvPr/>
            </p:nvSpPr>
            <p:spPr>
              <a:xfrm>
                <a:off x="2633760" y="5342040"/>
                <a:ext cx="417600" cy="416160"/>
              </a:xfrm>
              <a:prstGeom prst="ellipse">
                <a:avLst/>
              </a:prstGeom>
              <a:noFill/>
              <a:ln w="76320">
                <a:solidFill>
                  <a:srgbClr val="9dc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椭圆 724"/>
              <p:cNvSpPr/>
              <p:nvPr/>
            </p:nvSpPr>
            <p:spPr>
              <a:xfrm>
                <a:off x="2654280" y="5362560"/>
                <a:ext cx="376200" cy="374760"/>
              </a:xfrm>
              <a:prstGeom prst="ellipse">
                <a:avLst/>
              </a:prstGeom>
              <a:solidFill>
                <a:srgbClr val="bdd7ee">
                  <a:alpha val="65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7" name="组合 711"/>
              <p:cNvGrpSpPr/>
              <p:nvPr/>
            </p:nvGrpSpPr>
            <p:grpSpPr>
              <a:xfrm>
                <a:off x="2832480" y="5331960"/>
                <a:ext cx="20520" cy="437760"/>
                <a:chOff x="2832480" y="5331960"/>
                <a:chExt cx="20520" cy="437760"/>
              </a:xfrm>
            </p:grpSpPr>
            <p:sp>
              <p:nvSpPr>
                <p:cNvPr id="1228" name="椭圆 741"/>
                <p:cNvSpPr/>
                <p:nvPr/>
              </p:nvSpPr>
              <p:spPr>
                <a:xfrm>
                  <a:off x="2832480" y="5331960"/>
                  <a:ext cx="2052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椭圆 742"/>
                <p:cNvSpPr/>
                <p:nvPr/>
              </p:nvSpPr>
              <p:spPr>
                <a:xfrm>
                  <a:off x="2832480" y="5749200"/>
                  <a:ext cx="2052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组合 714"/>
              <p:cNvGrpSpPr/>
              <p:nvPr/>
            </p:nvGrpSpPr>
            <p:grpSpPr>
              <a:xfrm>
                <a:off x="2725200" y="5357160"/>
                <a:ext cx="235440" cy="389520"/>
                <a:chOff x="2725200" y="5357160"/>
                <a:chExt cx="235440" cy="389520"/>
              </a:xfrm>
            </p:grpSpPr>
            <p:sp>
              <p:nvSpPr>
                <p:cNvPr id="1231" name="椭圆 739"/>
                <p:cNvSpPr/>
                <p:nvPr/>
              </p:nvSpPr>
              <p:spPr>
                <a:xfrm rot="1800000">
                  <a:off x="2936880" y="5360400"/>
                  <a:ext cx="1980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椭圆 740"/>
                <p:cNvSpPr/>
                <p:nvPr/>
              </p:nvSpPr>
              <p:spPr>
                <a:xfrm rot="1800000">
                  <a:off x="2728800" y="5722200"/>
                  <a:ext cx="1980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3" name="组合 717"/>
              <p:cNvGrpSpPr/>
              <p:nvPr/>
            </p:nvGrpSpPr>
            <p:grpSpPr>
              <a:xfrm>
                <a:off x="2648520" y="5437440"/>
                <a:ext cx="389520" cy="236520"/>
                <a:chOff x="2648520" y="5437440"/>
                <a:chExt cx="389520" cy="236520"/>
              </a:xfrm>
            </p:grpSpPr>
            <p:sp>
              <p:nvSpPr>
                <p:cNvPr id="1234" name="椭圆 737"/>
                <p:cNvSpPr/>
                <p:nvPr/>
              </p:nvSpPr>
              <p:spPr>
                <a:xfrm rot="3600000">
                  <a:off x="3013560" y="5441040"/>
                  <a:ext cx="2052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椭圆 738"/>
                <p:cNvSpPr/>
                <p:nvPr/>
              </p:nvSpPr>
              <p:spPr>
                <a:xfrm rot="3600000">
                  <a:off x="2652120" y="5649480"/>
                  <a:ext cx="2052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6" name="组合 720"/>
              <p:cNvGrpSpPr/>
              <p:nvPr/>
            </p:nvGrpSpPr>
            <p:grpSpPr>
              <a:xfrm>
                <a:off x="2624040" y="5547960"/>
                <a:ext cx="437760" cy="20520"/>
                <a:chOff x="2624040" y="5547960"/>
                <a:chExt cx="437760" cy="20520"/>
              </a:xfrm>
            </p:grpSpPr>
            <p:sp>
              <p:nvSpPr>
                <p:cNvPr id="1237" name="椭圆 735"/>
                <p:cNvSpPr/>
                <p:nvPr/>
              </p:nvSpPr>
              <p:spPr>
                <a:xfrm rot="5400000">
                  <a:off x="3041280" y="5547960"/>
                  <a:ext cx="2052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椭圆 736"/>
                <p:cNvSpPr/>
                <p:nvPr/>
              </p:nvSpPr>
              <p:spPr>
                <a:xfrm rot="5400000">
                  <a:off x="2624040" y="5547960"/>
                  <a:ext cx="2052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9" name="组合 723"/>
              <p:cNvGrpSpPr/>
              <p:nvPr/>
            </p:nvGrpSpPr>
            <p:grpSpPr>
              <a:xfrm>
                <a:off x="2718360" y="5357520"/>
                <a:ext cx="236880" cy="388440"/>
                <a:chOff x="2718360" y="5357520"/>
                <a:chExt cx="236880" cy="388440"/>
              </a:xfrm>
            </p:grpSpPr>
            <p:sp>
              <p:nvSpPr>
                <p:cNvPr id="1240" name="椭圆 733"/>
                <p:cNvSpPr/>
                <p:nvPr/>
              </p:nvSpPr>
              <p:spPr>
                <a:xfrm flipH="1" rot="19800000">
                  <a:off x="2721960" y="5361120"/>
                  <a:ext cx="20160" cy="2016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椭圆 734"/>
                <p:cNvSpPr/>
                <p:nvPr/>
              </p:nvSpPr>
              <p:spPr>
                <a:xfrm flipH="1" rot="19800000">
                  <a:off x="2931120" y="5722200"/>
                  <a:ext cx="20160" cy="2016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2" name="组合 726"/>
              <p:cNvGrpSpPr/>
              <p:nvPr/>
            </p:nvGrpSpPr>
            <p:grpSpPr>
              <a:xfrm>
                <a:off x="2642040" y="5437440"/>
                <a:ext cx="389160" cy="236520"/>
                <a:chOff x="2642040" y="5437440"/>
                <a:chExt cx="389160" cy="236520"/>
              </a:xfrm>
            </p:grpSpPr>
            <p:sp>
              <p:nvSpPr>
                <p:cNvPr id="1243" name="椭圆 731"/>
                <p:cNvSpPr/>
                <p:nvPr/>
              </p:nvSpPr>
              <p:spPr>
                <a:xfrm flipH="1" rot="18000000">
                  <a:off x="2645280" y="5441040"/>
                  <a:ext cx="2016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椭圆 732"/>
                <p:cNvSpPr/>
                <p:nvPr/>
              </p:nvSpPr>
              <p:spPr>
                <a:xfrm flipH="1" rot="18000000">
                  <a:off x="3006720" y="5649840"/>
                  <a:ext cx="2016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5" name="组合 39"/>
            <p:cNvGrpSpPr/>
            <p:nvPr/>
          </p:nvGrpSpPr>
          <p:grpSpPr>
            <a:xfrm>
              <a:off x="3107160" y="5124600"/>
              <a:ext cx="528480" cy="951120"/>
              <a:chOff x="3107160" y="5124600"/>
              <a:chExt cx="528480" cy="951120"/>
            </a:xfrm>
          </p:grpSpPr>
          <p:sp>
            <p:nvSpPr>
              <p:cNvPr id="1246" name="矩形 701"/>
              <p:cNvSpPr/>
              <p:nvPr/>
            </p:nvSpPr>
            <p:spPr>
              <a:xfrm>
                <a:off x="3107160" y="5124600"/>
                <a:ext cx="528480" cy="951120"/>
              </a:xfrm>
              <a:prstGeom prst="rect">
                <a:avLst/>
              </a:prstGeom>
              <a:solidFill>
                <a:srgbClr val="bdd7ee">
                  <a:alpha val="65000"/>
                </a:srgbClr>
              </a:soli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椭圆 702"/>
              <p:cNvSpPr/>
              <p:nvPr/>
            </p:nvSpPr>
            <p:spPr>
              <a:xfrm>
                <a:off x="3162600" y="5342040"/>
                <a:ext cx="417600" cy="416160"/>
              </a:xfrm>
              <a:prstGeom prst="ellipse">
                <a:avLst/>
              </a:prstGeom>
              <a:noFill/>
              <a:ln w="76320">
                <a:solidFill>
                  <a:srgbClr val="9dc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椭圆 703"/>
              <p:cNvSpPr/>
              <p:nvPr/>
            </p:nvSpPr>
            <p:spPr>
              <a:xfrm>
                <a:off x="3183120" y="5362560"/>
                <a:ext cx="376200" cy="374760"/>
              </a:xfrm>
              <a:prstGeom prst="ellipse">
                <a:avLst/>
              </a:prstGeom>
              <a:solidFill>
                <a:srgbClr val="bdd7ee">
                  <a:alpha val="65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9" name="组合 711"/>
              <p:cNvGrpSpPr/>
              <p:nvPr/>
            </p:nvGrpSpPr>
            <p:grpSpPr>
              <a:xfrm>
                <a:off x="3361320" y="5331960"/>
                <a:ext cx="20520" cy="437760"/>
                <a:chOff x="3361320" y="5331960"/>
                <a:chExt cx="20520" cy="437760"/>
              </a:xfrm>
            </p:grpSpPr>
            <p:sp>
              <p:nvSpPr>
                <p:cNvPr id="1250" name="椭圆 720"/>
                <p:cNvSpPr/>
                <p:nvPr/>
              </p:nvSpPr>
              <p:spPr>
                <a:xfrm>
                  <a:off x="3361320" y="5331960"/>
                  <a:ext cx="2052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椭圆 721"/>
                <p:cNvSpPr/>
                <p:nvPr/>
              </p:nvSpPr>
              <p:spPr>
                <a:xfrm>
                  <a:off x="3361320" y="5749200"/>
                  <a:ext cx="2052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2" name="组合 714"/>
              <p:cNvGrpSpPr/>
              <p:nvPr/>
            </p:nvGrpSpPr>
            <p:grpSpPr>
              <a:xfrm>
                <a:off x="3254040" y="5357160"/>
                <a:ext cx="235440" cy="389520"/>
                <a:chOff x="3254040" y="5357160"/>
                <a:chExt cx="235440" cy="389520"/>
              </a:xfrm>
            </p:grpSpPr>
            <p:sp>
              <p:nvSpPr>
                <p:cNvPr id="1253" name="椭圆 718"/>
                <p:cNvSpPr/>
                <p:nvPr/>
              </p:nvSpPr>
              <p:spPr>
                <a:xfrm rot="1800000">
                  <a:off x="3465720" y="5360400"/>
                  <a:ext cx="1980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椭圆 719"/>
                <p:cNvSpPr/>
                <p:nvPr/>
              </p:nvSpPr>
              <p:spPr>
                <a:xfrm rot="1800000">
                  <a:off x="3257640" y="5722200"/>
                  <a:ext cx="1980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5" name="组合 717"/>
              <p:cNvGrpSpPr/>
              <p:nvPr/>
            </p:nvGrpSpPr>
            <p:grpSpPr>
              <a:xfrm>
                <a:off x="3177360" y="5437440"/>
                <a:ext cx="389520" cy="236520"/>
                <a:chOff x="3177360" y="5437440"/>
                <a:chExt cx="389520" cy="236520"/>
              </a:xfrm>
            </p:grpSpPr>
            <p:sp>
              <p:nvSpPr>
                <p:cNvPr id="1256" name="椭圆 716"/>
                <p:cNvSpPr/>
                <p:nvPr/>
              </p:nvSpPr>
              <p:spPr>
                <a:xfrm rot="3600000">
                  <a:off x="3542400" y="5441040"/>
                  <a:ext cx="2052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椭圆 717"/>
                <p:cNvSpPr/>
                <p:nvPr/>
              </p:nvSpPr>
              <p:spPr>
                <a:xfrm rot="3600000">
                  <a:off x="3180960" y="5649480"/>
                  <a:ext cx="2052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8" name="组合 720"/>
              <p:cNvGrpSpPr/>
              <p:nvPr/>
            </p:nvGrpSpPr>
            <p:grpSpPr>
              <a:xfrm>
                <a:off x="3152880" y="5547960"/>
                <a:ext cx="437760" cy="20520"/>
                <a:chOff x="3152880" y="5547960"/>
                <a:chExt cx="437760" cy="20520"/>
              </a:xfrm>
            </p:grpSpPr>
            <p:sp>
              <p:nvSpPr>
                <p:cNvPr id="1259" name="椭圆 714"/>
                <p:cNvSpPr/>
                <p:nvPr/>
              </p:nvSpPr>
              <p:spPr>
                <a:xfrm rot="5400000">
                  <a:off x="3570120" y="5547960"/>
                  <a:ext cx="2052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椭圆 715"/>
                <p:cNvSpPr/>
                <p:nvPr/>
              </p:nvSpPr>
              <p:spPr>
                <a:xfrm rot="5400000">
                  <a:off x="3152880" y="5547960"/>
                  <a:ext cx="2052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1" name="组合 723"/>
              <p:cNvGrpSpPr/>
              <p:nvPr/>
            </p:nvGrpSpPr>
            <p:grpSpPr>
              <a:xfrm>
                <a:off x="3246840" y="5357520"/>
                <a:ext cx="236880" cy="388440"/>
                <a:chOff x="3246840" y="5357520"/>
                <a:chExt cx="236880" cy="388440"/>
              </a:xfrm>
            </p:grpSpPr>
            <p:sp>
              <p:nvSpPr>
                <p:cNvPr id="1262" name="椭圆 712"/>
                <p:cNvSpPr/>
                <p:nvPr/>
              </p:nvSpPr>
              <p:spPr>
                <a:xfrm flipH="1" rot="19800000">
                  <a:off x="3250440" y="5361120"/>
                  <a:ext cx="20160" cy="2016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椭圆 713"/>
                <p:cNvSpPr/>
                <p:nvPr/>
              </p:nvSpPr>
              <p:spPr>
                <a:xfrm flipH="1" rot="19800000">
                  <a:off x="3459600" y="5722200"/>
                  <a:ext cx="20160" cy="2016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4" name="组合 726"/>
              <p:cNvGrpSpPr/>
              <p:nvPr/>
            </p:nvGrpSpPr>
            <p:grpSpPr>
              <a:xfrm>
                <a:off x="3170880" y="5437440"/>
                <a:ext cx="389160" cy="236520"/>
                <a:chOff x="3170880" y="5437440"/>
                <a:chExt cx="389160" cy="236520"/>
              </a:xfrm>
            </p:grpSpPr>
            <p:sp>
              <p:nvSpPr>
                <p:cNvPr id="1265" name="椭圆 710"/>
                <p:cNvSpPr/>
                <p:nvPr/>
              </p:nvSpPr>
              <p:spPr>
                <a:xfrm flipH="1" rot="18000000">
                  <a:off x="3174120" y="5441040"/>
                  <a:ext cx="2016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椭圆 711"/>
                <p:cNvSpPr/>
                <p:nvPr/>
              </p:nvSpPr>
              <p:spPr>
                <a:xfrm flipH="1" rot="18000000">
                  <a:off x="3535560" y="5649840"/>
                  <a:ext cx="20160" cy="20520"/>
                </a:xfrm>
                <a:prstGeom prst="ellipse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7" name="圆角矩形 40"/>
            <p:cNvSpPr/>
            <p:nvPr/>
          </p:nvSpPr>
          <p:spPr>
            <a:xfrm rot="5400000">
              <a:off x="3357720" y="5508000"/>
              <a:ext cx="58680" cy="771480"/>
            </a:xfrm>
            <a:custGeom>
              <a:avLst/>
              <a:gdLst>
                <a:gd name="textAreaLeft" fmla="*/ 8280 w 58680"/>
                <a:gd name="textAreaRight" fmla="*/ 50400 w 58680"/>
                <a:gd name="textAreaTop" fmla="*/ 8280 h 771480"/>
                <a:gd name="textAreaBottom" fmla="*/ 763200 h 771480"/>
              </a:gdLst>
              <a:ahLst/>
              <a:rect l="textAreaLeft" t="textAreaTop" r="textAreaRight" b="textAreaBottom"/>
              <a:pathLst>
                <a:path w="21600" h="282380">
                  <a:moveTo>
                    <a:pt x="10353" y="0"/>
                  </a:moveTo>
                  <a:arcTo wR="10353" hR="10353" stAng="16200000" swAng="-5400000"/>
                  <a:lnTo>
                    <a:pt x="0" y="272027"/>
                  </a:lnTo>
                  <a:arcTo wR="10353" hR="10353" stAng="10800000" swAng="-5400000"/>
                  <a:lnTo>
                    <a:pt x="11247" y="282380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组合 41"/>
            <p:cNvGrpSpPr/>
            <p:nvPr/>
          </p:nvGrpSpPr>
          <p:grpSpPr>
            <a:xfrm>
              <a:off x="2529000" y="5801040"/>
              <a:ext cx="513360" cy="228960"/>
              <a:chOff x="2529000" y="5801040"/>
              <a:chExt cx="513360" cy="228960"/>
            </a:xfrm>
          </p:grpSpPr>
          <p:sp>
            <p:nvSpPr>
              <p:cNvPr id="1269" name="矩形 695"/>
              <p:cNvSpPr/>
              <p:nvPr/>
            </p:nvSpPr>
            <p:spPr>
              <a:xfrm>
                <a:off x="2958480" y="5846760"/>
                <a:ext cx="83880" cy="137520"/>
              </a:xfrm>
              <a:prstGeom prst="rect">
                <a:avLst/>
              </a:prstGeom>
              <a:solidFill>
                <a:srgbClr val="52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矩形 696"/>
              <p:cNvSpPr/>
              <p:nvPr/>
            </p:nvSpPr>
            <p:spPr>
              <a:xfrm>
                <a:off x="2581560" y="5801040"/>
                <a:ext cx="293040" cy="228960"/>
              </a:xfrm>
              <a:prstGeom prst="rect">
                <a:avLst/>
              </a:prstGeom>
              <a:solidFill>
                <a:srgbClr val="76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流程图: 手动操作 697"/>
              <p:cNvSpPr/>
              <p:nvPr/>
            </p:nvSpPr>
            <p:spPr>
              <a:xfrm rot="5400000">
                <a:off x="2445120" y="5884560"/>
                <a:ext cx="228960" cy="61560"/>
              </a:xfrm>
              <a:prstGeom prst="flowChartManualOperation">
                <a:avLst/>
              </a:prstGeom>
              <a:solidFill>
                <a:srgbClr val="76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矩形 698"/>
              <p:cNvSpPr/>
              <p:nvPr/>
            </p:nvSpPr>
            <p:spPr>
              <a:xfrm>
                <a:off x="2874600" y="5824440"/>
                <a:ext cx="42480" cy="183240"/>
              </a:xfrm>
              <a:prstGeom prst="rect">
                <a:avLst/>
              </a:prstGeom>
              <a:solidFill>
                <a:srgbClr val="76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矩形 699"/>
              <p:cNvSpPr/>
              <p:nvPr/>
            </p:nvSpPr>
            <p:spPr>
              <a:xfrm>
                <a:off x="2917440" y="5801040"/>
                <a:ext cx="20520" cy="228960"/>
              </a:xfrm>
              <a:prstGeom prst="rect">
                <a:avLst/>
              </a:prstGeom>
              <a:solidFill>
                <a:srgbClr val="76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矩形 700"/>
              <p:cNvSpPr/>
              <p:nvPr/>
            </p:nvSpPr>
            <p:spPr>
              <a:xfrm>
                <a:off x="2937960" y="5801040"/>
                <a:ext cx="20520" cy="228960"/>
              </a:xfrm>
              <a:prstGeom prst="rect">
                <a:avLst/>
              </a:prstGeom>
              <a:solidFill>
                <a:srgbClr val="52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5" name="圆角矩形 42"/>
            <p:cNvSpPr/>
            <p:nvPr/>
          </p:nvSpPr>
          <p:spPr>
            <a:xfrm rot="10800000">
              <a:off x="2366640" y="4490640"/>
              <a:ext cx="26640" cy="207720"/>
            </a:xfrm>
            <a:custGeom>
              <a:avLst/>
              <a:gdLst/>
              <a:ahLst/>
              <a:rect l="l" t="t" r="r" b="b"/>
              <a:pathLst>
                <a:path w="21600" h="166464">
                  <a:moveTo>
                    <a:pt x="81" y="0"/>
                  </a:moveTo>
                  <a:arcTo wR="81" hR="81" stAng="16200000" swAng="-5400000"/>
                  <a:lnTo>
                    <a:pt x="0" y="166383"/>
                  </a:lnTo>
                  <a:arcTo wR="81" hR="81" stAng="10800000" swAng="-5400000"/>
                  <a:lnTo>
                    <a:pt x="21519" y="166464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圆角矩形 43"/>
            <p:cNvSpPr/>
            <p:nvPr/>
          </p:nvSpPr>
          <p:spPr>
            <a:xfrm rot="10800000">
              <a:off x="2473200" y="4490640"/>
              <a:ext cx="25200" cy="207720"/>
            </a:xfrm>
            <a:custGeom>
              <a:avLst/>
              <a:gdLst/>
              <a:ahLst/>
              <a:rect l="l" t="t" r="r" b="b"/>
              <a:pathLst>
                <a:path w="21600" h="175842">
                  <a:moveTo>
                    <a:pt x="81" y="0"/>
                  </a:moveTo>
                  <a:arcTo wR="81" hR="81" stAng="16200000" swAng="-5400000"/>
                  <a:lnTo>
                    <a:pt x="0" y="175761"/>
                  </a:lnTo>
                  <a:arcTo wR="81" hR="81" stAng="10800000" swAng="-5400000"/>
                  <a:lnTo>
                    <a:pt x="21519" y="175842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椭圆 44"/>
            <p:cNvSpPr/>
            <p:nvPr/>
          </p:nvSpPr>
          <p:spPr>
            <a:xfrm>
              <a:off x="5203800" y="5464080"/>
              <a:ext cx="83880" cy="82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8" name="组合 45" descr=""/>
            <p:cNvPicPr/>
            <p:nvPr/>
          </p:nvPicPr>
          <p:blipFill>
            <a:blip r:embed="rId1"/>
            <a:stretch/>
          </p:blipFill>
          <p:spPr>
            <a:xfrm>
              <a:off x="5870520" y="5663160"/>
              <a:ext cx="127800" cy="2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组合 46" descr=""/>
            <p:cNvPicPr/>
            <p:nvPr/>
          </p:nvPicPr>
          <p:blipFill>
            <a:blip r:embed="rId2"/>
            <a:stretch/>
          </p:blipFill>
          <p:spPr>
            <a:xfrm>
              <a:off x="5553720" y="5663160"/>
              <a:ext cx="12780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剪去同侧角的矩形 47"/>
            <p:cNvSpPr/>
            <p:nvPr/>
          </p:nvSpPr>
          <p:spPr>
            <a:xfrm flipV="1">
              <a:off x="4735440" y="4637880"/>
              <a:ext cx="573120" cy="42840"/>
            </a:xfrm>
            <a:custGeom>
              <a:avLst/>
              <a:gdLst>
                <a:gd name="textAreaLeft" fmla="*/ 10440 w 573120"/>
                <a:gd name="textAreaRight" fmla="*/ 562680 w 573120"/>
                <a:gd name="textAreaTop" fmla="*/ 1044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989741" h="74039">
                  <a:moveTo>
                    <a:pt x="37020" y="0"/>
                  </a:moveTo>
                  <a:lnTo>
                    <a:pt x="952722" y="0"/>
                  </a:lnTo>
                  <a:lnTo>
                    <a:pt x="989741" y="37020"/>
                  </a:lnTo>
                  <a:lnTo>
                    <a:pt x="989741" y="74039"/>
                  </a:lnTo>
                  <a:lnTo>
                    <a:pt x="989741" y="74039"/>
                  </a:lnTo>
                  <a:lnTo>
                    <a:pt x="0" y="74039"/>
                  </a:lnTo>
                  <a:lnTo>
                    <a:pt x="0" y="74039"/>
                  </a:lnTo>
                  <a:lnTo>
                    <a:pt x="0" y="3702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1" name="组合 48" descr=""/>
            <p:cNvPicPr/>
            <p:nvPr/>
          </p:nvPicPr>
          <p:blipFill>
            <a:blip r:embed="rId3"/>
            <a:stretch/>
          </p:blipFill>
          <p:spPr>
            <a:xfrm>
              <a:off x="2340720" y="3998880"/>
              <a:ext cx="85320" cy="1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2" name="圆角矩形 49"/>
            <p:cNvSpPr/>
            <p:nvPr/>
          </p:nvSpPr>
          <p:spPr>
            <a:xfrm rot="5400000">
              <a:off x="2255400" y="5837400"/>
              <a:ext cx="58680" cy="249120"/>
            </a:xfrm>
            <a:custGeom>
              <a:avLst/>
              <a:gdLst>
                <a:gd name="textAreaLeft" fmla="*/ 8280 w 58680"/>
                <a:gd name="textAreaRight" fmla="*/ 50400 w 58680"/>
                <a:gd name="textAreaTop" fmla="*/ 8280 h 249120"/>
                <a:gd name="textAreaBottom" fmla="*/ 240840 h 249120"/>
              </a:gdLst>
              <a:ahLst/>
              <a:rect l="textAreaLeft" t="textAreaTop" r="textAreaRight" b="textAreaBottom"/>
              <a:pathLst>
                <a:path w="21600" h="91273">
                  <a:moveTo>
                    <a:pt x="10353" y="0"/>
                  </a:moveTo>
                  <a:arcTo wR="10353" hR="10353" stAng="16200000" swAng="-5400000"/>
                  <a:lnTo>
                    <a:pt x="0" y="80920"/>
                  </a:lnTo>
                  <a:arcTo wR="10353" hR="10353" stAng="10800000" swAng="-5400000"/>
                  <a:lnTo>
                    <a:pt x="11247" y="91273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3" name="组合 50"/>
            <p:cNvGrpSpPr/>
            <p:nvPr/>
          </p:nvGrpSpPr>
          <p:grpSpPr>
            <a:xfrm>
              <a:off x="3466080" y="5843520"/>
              <a:ext cx="147960" cy="52920"/>
              <a:chOff x="3466080" y="5843520"/>
              <a:chExt cx="147960" cy="52920"/>
            </a:xfrm>
          </p:grpSpPr>
          <p:sp>
            <p:nvSpPr>
              <p:cNvPr id="1284" name="矩形 681"/>
              <p:cNvSpPr/>
              <p:nvPr/>
            </p:nvSpPr>
            <p:spPr>
              <a:xfrm rot="5400000">
                <a:off x="3526200" y="5783040"/>
                <a:ext cx="27360" cy="1479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矩形 682"/>
              <p:cNvSpPr/>
              <p:nvPr/>
            </p:nvSpPr>
            <p:spPr>
              <a:xfrm rot="5400000">
                <a:off x="3506760" y="5862240"/>
                <a:ext cx="25560" cy="4284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6" name="圆角矩形 51"/>
            <p:cNvSpPr/>
            <p:nvPr/>
          </p:nvSpPr>
          <p:spPr>
            <a:xfrm rot="5400000">
              <a:off x="4014360" y="5483160"/>
              <a:ext cx="58680" cy="915840"/>
            </a:xfrm>
            <a:custGeom>
              <a:avLst/>
              <a:gdLst>
                <a:gd name="textAreaLeft" fmla="*/ 8280 w 58680"/>
                <a:gd name="textAreaRight" fmla="*/ 50400 w 58680"/>
                <a:gd name="textAreaTop" fmla="*/ 8280 h 915840"/>
                <a:gd name="textAreaBottom" fmla="*/ 907560 h 915840"/>
              </a:gdLst>
              <a:ahLst/>
              <a:rect l="textAreaLeft" t="textAreaTop" r="textAreaRight" b="textAreaBottom"/>
              <a:pathLst>
                <a:path w="21600" h="335195">
                  <a:moveTo>
                    <a:pt x="10353" y="0"/>
                  </a:moveTo>
                  <a:arcTo wR="10353" hR="10353" stAng="16200000" swAng="-5400000"/>
                  <a:lnTo>
                    <a:pt x="0" y="324842"/>
                  </a:lnTo>
                  <a:arcTo wR="10353" hR="10353" stAng="10800000" swAng="-5400000"/>
                  <a:lnTo>
                    <a:pt x="11247" y="335195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矩形 52"/>
            <p:cNvSpPr/>
            <p:nvPr/>
          </p:nvSpPr>
          <p:spPr>
            <a:xfrm>
              <a:off x="6108840" y="5019840"/>
              <a:ext cx="85680" cy="83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圆角矩形 53"/>
            <p:cNvSpPr/>
            <p:nvPr/>
          </p:nvSpPr>
          <p:spPr>
            <a:xfrm rot="10800000">
              <a:off x="5862960" y="4487760"/>
              <a:ext cx="26640" cy="395280"/>
            </a:xfrm>
            <a:custGeom>
              <a:avLst/>
              <a:gdLst/>
              <a:ahLst/>
              <a:rect l="l" t="t" r="r" b="b"/>
              <a:pathLst>
                <a:path w="21600" h="316512">
                  <a:moveTo>
                    <a:pt x="81" y="0"/>
                  </a:moveTo>
                  <a:arcTo wR="81" hR="81" stAng="16200000" swAng="-5400000"/>
                  <a:lnTo>
                    <a:pt x="0" y="316431"/>
                  </a:lnTo>
                  <a:arcTo wR="81" hR="81" stAng="10800000" swAng="-5400000"/>
                  <a:lnTo>
                    <a:pt x="21519" y="316512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圆角矩形 54"/>
            <p:cNvSpPr/>
            <p:nvPr/>
          </p:nvSpPr>
          <p:spPr>
            <a:xfrm rot="10800000">
              <a:off x="5884920" y="4487760"/>
              <a:ext cx="25200" cy="395280"/>
            </a:xfrm>
            <a:custGeom>
              <a:avLst/>
              <a:gdLst/>
              <a:ahLst/>
              <a:rect l="l" t="t" r="r" b="b"/>
              <a:pathLst>
                <a:path w="21600" h="334344">
                  <a:moveTo>
                    <a:pt x="81" y="0"/>
                  </a:moveTo>
                  <a:arcTo wR="81" hR="81" stAng="16200000" swAng="-5400000"/>
                  <a:lnTo>
                    <a:pt x="0" y="334263"/>
                  </a:lnTo>
                  <a:arcTo wR="81" hR="81" stAng="10800000" swAng="-5400000"/>
                  <a:lnTo>
                    <a:pt x="21519" y="334344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bdd7ee"/>
            </a:solidFill>
            <a:ln w="3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椭圆 55"/>
            <p:cNvSpPr/>
            <p:nvPr/>
          </p:nvSpPr>
          <p:spPr>
            <a:xfrm>
              <a:off x="5855040" y="4849920"/>
              <a:ext cx="410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椭圆 56"/>
            <p:cNvSpPr/>
            <p:nvPr/>
          </p:nvSpPr>
          <p:spPr>
            <a:xfrm>
              <a:off x="5896080" y="484992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椭圆 57"/>
            <p:cNvSpPr/>
            <p:nvPr/>
          </p:nvSpPr>
          <p:spPr>
            <a:xfrm>
              <a:off x="5877000" y="4807080"/>
              <a:ext cx="410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圆角矩形 58"/>
            <p:cNvSpPr/>
            <p:nvPr/>
          </p:nvSpPr>
          <p:spPr>
            <a:xfrm rot="5940000">
              <a:off x="5968800" y="4747680"/>
              <a:ext cx="25200" cy="187200"/>
            </a:xfrm>
            <a:custGeom>
              <a:avLst/>
              <a:gdLst>
                <a:gd name="textAreaLeft" fmla="*/ 3240 w 25200"/>
                <a:gd name="textAreaRight" fmla="*/ 21960 w 25200"/>
                <a:gd name="textAreaTop" fmla="*/ 3240 h 187200"/>
                <a:gd name="textAreaBottom" fmla="*/ 183960 h 187200"/>
              </a:gdLst>
              <a:ahLst/>
              <a:rect l="textAreaLeft" t="textAreaTop" r="textAreaRight" b="textAreaBottom"/>
              <a:pathLst>
                <a:path w="21600" h="158501">
                  <a:moveTo>
                    <a:pt x="10353" y="0"/>
                  </a:moveTo>
                  <a:arcTo wR="10353" hR="10353" stAng="16200000" swAng="-5400000"/>
                  <a:lnTo>
                    <a:pt x="0" y="148148"/>
                  </a:lnTo>
                  <a:arcTo wR="10353" hR="10353" stAng="10800000" swAng="-5400000"/>
                  <a:lnTo>
                    <a:pt x="11247" y="158501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圆角矩形 59"/>
            <p:cNvSpPr/>
            <p:nvPr/>
          </p:nvSpPr>
          <p:spPr>
            <a:xfrm rot="5400000">
              <a:off x="5964120" y="4762080"/>
              <a:ext cx="26640" cy="220680"/>
            </a:xfrm>
            <a:custGeom>
              <a:avLst/>
              <a:gdLst>
                <a:gd name="textAreaLeft" fmla="*/ 3600 w 26640"/>
                <a:gd name="textAreaRight" fmla="*/ 23040 w 26640"/>
                <a:gd name="textAreaTop" fmla="*/ 3600 h 220680"/>
                <a:gd name="textAreaBottom" fmla="*/ 217080 h 220680"/>
              </a:gdLst>
              <a:ahLst/>
              <a:rect l="textAreaLeft" t="textAreaTop" r="textAreaRight" b="textAreaBottom"/>
              <a:pathLst>
                <a:path w="21600" h="176832">
                  <a:moveTo>
                    <a:pt x="10353" y="0"/>
                  </a:moveTo>
                  <a:arcTo wR="10353" hR="10353" stAng="16200000" swAng="-5400000"/>
                  <a:lnTo>
                    <a:pt x="0" y="166479"/>
                  </a:lnTo>
                  <a:arcTo wR="10353" hR="10353" stAng="10800000" swAng="-5400000"/>
                  <a:lnTo>
                    <a:pt x="11247" y="176832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圆角矩形 60"/>
            <p:cNvSpPr/>
            <p:nvPr/>
          </p:nvSpPr>
          <p:spPr>
            <a:xfrm rot="5400000">
              <a:off x="5991120" y="4779720"/>
              <a:ext cx="26640" cy="166680"/>
            </a:xfrm>
            <a:custGeom>
              <a:avLst/>
              <a:gdLst>
                <a:gd name="textAreaLeft" fmla="*/ 3600 w 26640"/>
                <a:gd name="textAreaRight" fmla="*/ 23040 w 26640"/>
                <a:gd name="textAreaTop" fmla="*/ 3600 h 166680"/>
                <a:gd name="textAreaBottom" fmla="*/ 163080 h 166680"/>
              </a:gdLst>
              <a:ahLst/>
              <a:rect l="textAreaLeft" t="textAreaTop" r="textAreaRight" b="textAreaBottom"/>
              <a:pathLst>
                <a:path w="21600" h="133632">
                  <a:moveTo>
                    <a:pt x="10353" y="0"/>
                  </a:moveTo>
                  <a:arcTo wR="10353" hR="10353" stAng="16200000" swAng="-5400000"/>
                  <a:lnTo>
                    <a:pt x="0" y="123279"/>
                  </a:lnTo>
                  <a:arcTo wR="10353" hR="10353" stAng="10800000" swAng="-5400000"/>
                  <a:lnTo>
                    <a:pt x="11247" y="133632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bdd7ee"/>
            </a:solidFill>
            <a:ln w="3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矩形 61"/>
            <p:cNvSpPr/>
            <p:nvPr/>
          </p:nvSpPr>
          <p:spPr>
            <a:xfrm>
              <a:off x="4524480" y="5124600"/>
              <a:ext cx="528480" cy="950760"/>
            </a:xfrm>
            <a:prstGeom prst="rect">
              <a:avLst/>
            </a:prstGeom>
            <a:solidFill>
              <a:srgbClr val="bdd7ee">
                <a:alpha val="65000"/>
              </a:srgbClr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椭圆 62"/>
            <p:cNvSpPr/>
            <p:nvPr/>
          </p:nvSpPr>
          <p:spPr>
            <a:xfrm>
              <a:off x="4579920" y="5342040"/>
              <a:ext cx="415800" cy="417240"/>
            </a:xfrm>
            <a:prstGeom prst="ellipse">
              <a:avLst/>
            </a:prstGeom>
            <a:noFill/>
            <a:ln w="76320">
              <a:solidFill>
                <a:srgbClr val="9dc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矩形 63"/>
            <p:cNvSpPr/>
            <p:nvPr/>
          </p:nvSpPr>
          <p:spPr>
            <a:xfrm>
              <a:off x="5140440" y="5399280"/>
              <a:ext cx="41040" cy="6760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9" name="组合 64" descr=""/>
            <p:cNvPicPr/>
            <p:nvPr/>
          </p:nvPicPr>
          <p:blipFill>
            <a:blip r:embed="rId4"/>
            <a:stretch/>
          </p:blipFill>
          <p:spPr>
            <a:xfrm>
              <a:off x="5279400" y="5394960"/>
              <a:ext cx="11556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椭圆 65"/>
            <p:cNvSpPr/>
            <p:nvPr/>
          </p:nvSpPr>
          <p:spPr>
            <a:xfrm>
              <a:off x="5369040" y="5881680"/>
              <a:ext cx="125280" cy="12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1" name="组合 66" descr=""/>
            <p:cNvPicPr/>
            <p:nvPr/>
          </p:nvPicPr>
          <p:blipFill>
            <a:blip r:embed="rId5"/>
            <a:stretch/>
          </p:blipFill>
          <p:spPr>
            <a:xfrm>
              <a:off x="5474520" y="4017240"/>
              <a:ext cx="54720" cy="14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2" name="组合 67"/>
            <p:cNvGrpSpPr/>
            <p:nvPr/>
          </p:nvGrpSpPr>
          <p:grpSpPr>
            <a:xfrm>
              <a:off x="5614560" y="3983040"/>
              <a:ext cx="41400" cy="51840"/>
              <a:chOff x="5614560" y="3983040"/>
              <a:chExt cx="41400" cy="51840"/>
            </a:xfrm>
          </p:grpSpPr>
          <p:sp>
            <p:nvSpPr>
              <p:cNvPr id="1303" name="椭圆 675"/>
              <p:cNvSpPr/>
              <p:nvPr/>
            </p:nvSpPr>
            <p:spPr>
              <a:xfrm>
                <a:off x="5614560" y="3983040"/>
                <a:ext cx="41400" cy="41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矩形 676"/>
              <p:cNvSpPr/>
              <p:nvPr/>
            </p:nvSpPr>
            <p:spPr>
              <a:xfrm>
                <a:off x="5625720" y="4014360"/>
                <a:ext cx="2088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68"/>
            <p:cNvGrpSpPr/>
            <p:nvPr/>
          </p:nvGrpSpPr>
          <p:grpSpPr>
            <a:xfrm>
              <a:off x="5877000" y="3983040"/>
              <a:ext cx="41400" cy="51840"/>
              <a:chOff x="5877000" y="3983040"/>
              <a:chExt cx="41400" cy="51840"/>
            </a:xfrm>
          </p:grpSpPr>
          <p:sp>
            <p:nvSpPr>
              <p:cNvPr id="1306" name="椭圆 673"/>
              <p:cNvSpPr/>
              <p:nvPr/>
            </p:nvSpPr>
            <p:spPr>
              <a:xfrm>
                <a:off x="5877000" y="3983040"/>
                <a:ext cx="41400" cy="41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矩形 674"/>
              <p:cNvSpPr/>
              <p:nvPr/>
            </p:nvSpPr>
            <p:spPr>
              <a:xfrm>
                <a:off x="5888160" y="4014360"/>
                <a:ext cx="2052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08" name="组合 69" descr=""/>
            <p:cNvPicPr/>
            <p:nvPr/>
          </p:nvPicPr>
          <p:blipFill>
            <a:blip r:embed="rId6"/>
            <a:stretch/>
          </p:blipFill>
          <p:spPr>
            <a:xfrm>
              <a:off x="6065640" y="4023360"/>
              <a:ext cx="91440" cy="1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等腰三角形 70"/>
            <p:cNvSpPr/>
            <p:nvPr/>
          </p:nvSpPr>
          <p:spPr>
            <a:xfrm rot="16200000">
              <a:off x="6046200" y="3960720"/>
              <a:ext cx="83880" cy="85680"/>
            </a:xfrm>
            <a:prstGeom prst="triangle">
              <a:avLst>
                <a:gd name="adj" fmla="val 1088"/>
              </a:avLst>
            </a:prstGeom>
            <a:solidFill>
              <a:srgbClr val="bdd7e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矩形 71"/>
            <p:cNvSpPr/>
            <p:nvPr/>
          </p:nvSpPr>
          <p:spPr>
            <a:xfrm>
              <a:off x="6045480" y="4046400"/>
              <a:ext cx="85680" cy="838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矩形 72"/>
            <p:cNvSpPr/>
            <p:nvPr/>
          </p:nvSpPr>
          <p:spPr>
            <a:xfrm>
              <a:off x="6131160" y="3962160"/>
              <a:ext cx="41040" cy="295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2" name="矩形 73"/>
            <p:cNvGrpSpPr/>
            <p:nvPr/>
          </p:nvGrpSpPr>
          <p:grpSpPr>
            <a:xfrm>
              <a:off x="2316240" y="4230360"/>
              <a:ext cx="859320" cy="182880"/>
              <a:chOff x="2316240" y="4230360"/>
              <a:chExt cx="859320" cy="182880"/>
            </a:xfrm>
          </p:grpSpPr>
          <p:pic>
            <p:nvPicPr>
              <p:cNvPr id="1313" name="矩形 73" descr=""/>
              <p:cNvPicPr/>
              <p:nvPr/>
            </p:nvPicPr>
            <p:blipFill>
              <a:blip r:embed="rId7"/>
              <a:stretch/>
            </p:blipFill>
            <p:spPr>
              <a:xfrm>
                <a:off x="2316240" y="4230360"/>
                <a:ext cx="859320" cy="18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4" name=""/>
              <p:cNvSpPr/>
              <p:nvPr/>
            </p:nvSpPr>
            <p:spPr>
              <a:xfrm rot="16200000">
                <a:off x="2662560" y="3898080"/>
                <a:ext cx="169200" cy="84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5" name="矩形 74"/>
            <p:cNvSpPr/>
            <p:nvPr/>
          </p:nvSpPr>
          <p:spPr>
            <a:xfrm rot="16200000">
              <a:off x="4779000" y="3402360"/>
              <a:ext cx="147600" cy="971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6" name="矩形 75"/>
            <p:cNvGrpSpPr/>
            <p:nvPr/>
          </p:nvGrpSpPr>
          <p:grpSpPr>
            <a:xfrm>
              <a:off x="4383000" y="4230360"/>
              <a:ext cx="896040" cy="182880"/>
              <a:chOff x="4383000" y="4230360"/>
              <a:chExt cx="896040" cy="182880"/>
            </a:xfrm>
          </p:grpSpPr>
          <p:pic>
            <p:nvPicPr>
              <p:cNvPr id="1317" name="矩形 75" descr=""/>
              <p:cNvPicPr/>
              <p:nvPr/>
            </p:nvPicPr>
            <p:blipFill>
              <a:blip r:embed="rId8"/>
              <a:stretch/>
            </p:blipFill>
            <p:spPr>
              <a:xfrm>
                <a:off x="4383000" y="4230360"/>
                <a:ext cx="896040" cy="18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6200000">
                <a:off x="4747320" y="3876120"/>
                <a:ext cx="168120" cy="88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9" name="矩形 76"/>
            <p:cNvSpPr/>
            <p:nvPr/>
          </p:nvSpPr>
          <p:spPr>
            <a:xfrm rot="16200000">
              <a:off x="5720760" y="3412080"/>
              <a:ext cx="147600" cy="9525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矩形 77"/>
            <p:cNvSpPr/>
            <p:nvPr/>
          </p:nvSpPr>
          <p:spPr>
            <a:xfrm>
              <a:off x="5893200" y="4173480"/>
              <a:ext cx="83880" cy="63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矩形 78"/>
            <p:cNvSpPr/>
            <p:nvPr/>
          </p:nvSpPr>
          <p:spPr>
            <a:xfrm>
              <a:off x="5662800" y="4173480"/>
              <a:ext cx="82440" cy="63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矩形 79"/>
            <p:cNvSpPr/>
            <p:nvPr/>
          </p:nvSpPr>
          <p:spPr>
            <a:xfrm>
              <a:off x="5527800" y="4173480"/>
              <a:ext cx="82440" cy="63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3" name="矩形 80"/>
            <p:cNvGrpSpPr/>
            <p:nvPr/>
          </p:nvGrpSpPr>
          <p:grpSpPr>
            <a:xfrm>
              <a:off x="5273280" y="4230360"/>
              <a:ext cx="1005840" cy="182880"/>
              <a:chOff x="5273280" y="4230360"/>
              <a:chExt cx="1005840" cy="182880"/>
            </a:xfrm>
          </p:grpSpPr>
          <p:pic>
            <p:nvPicPr>
              <p:cNvPr id="1324" name="矩形 80" descr=""/>
              <p:cNvPicPr/>
              <p:nvPr/>
            </p:nvPicPr>
            <p:blipFill>
              <a:blip r:embed="rId9"/>
              <a:stretch/>
            </p:blipFill>
            <p:spPr>
              <a:xfrm>
                <a:off x="5273280" y="4230360"/>
                <a:ext cx="1005840" cy="18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5" name=""/>
              <p:cNvSpPr/>
              <p:nvPr/>
            </p:nvSpPr>
            <p:spPr>
              <a:xfrm rot="16200000">
                <a:off x="5689440" y="3823200"/>
                <a:ext cx="168120" cy="99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6" name="矩形 81"/>
            <p:cNvSpPr/>
            <p:nvPr/>
          </p:nvSpPr>
          <p:spPr>
            <a:xfrm>
              <a:off x="6164640" y="3728880"/>
              <a:ext cx="104760" cy="27100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矩形 82"/>
            <p:cNvSpPr/>
            <p:nvPr/>
          </p:nvSpPr>
          <p:spPr>
            <a:xfrm>
              <a:off x="4325760" y="3728880"/>
              <a:ext cx="104760" cy="27100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8" name="组合 17"/>
            <p:cNvGrpSpPr/>
            <p:nvPr/>
          </p:nvGrpSpPr>
          <p:grpSpPr>
            <a:xfrm>
              <a:off x="5424480" y="4498920"/>
              <a:ext cx="416880" cy="414360"/>
              <a:chOff x="5424480" y="4498920"/>
              <a:chExt cx="416880" cy="414360"/>
            </a:xfrm>
          </p:grpSpPr>
          <p:sp>
            <p:nvSpPr>
              <p:cNvPr id="1329" name="矩形 662"/>
              <p:cNvSpPr/>
              <p:nvPr/>
            </p:nvSpPr>
            <p:spPr>
              <a:xfrm>
                <a:off x="5424480" y="4499280"/>
                <a:ext cx="416880" cy="3538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矩形 663"/>
              <p:cNvSpPr/>
              <p:nvPr/>
            </p:nvSpPr>
            <p:spPr>
              <a:xfrm>
                <a:off x="5424480" y="4499280"/>
                <a:ext cx="61920" cy="35388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矩形 664"/>
              <p:cNvSpPr/>
              <p:nvPr/>
            </p:nvSpPr>
            <p:spPr>
              <a:xfrm>
                <a:off x="5779440" y="4499280"/>
                <a:ext cx="61920" cy="35388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矩形 665"/>
              <p:cNvSpPr/>
              <p:nvPr/>
            </p:nvSpPr>
            <p:spPr>
              <a:xfrm rot="16200000">
                <a:off x="5601960" y="4321080"/>
                <a:ext cx="61560" cy="41688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梯形 666"/>
              <p:cNvSpPr/>
              <p:nvPr/>
            </p:nvSpPr>
            <p:spPr>
              <a:xfrm flipV="1">
                <a:off x="5424480" y="4849920"/>
                <a:ext cx="416880" cy="63360"/>
              </a:xfrm>
              <a:custGeom>
                <a:avLst/>
                <a:gdLst>
                  <a:gd name="textAreaLeft" fmla="*/ 36360 w 416880"/>
                  <a:gd name="textAreaRight" fmla="*/ 380520 w 416880"/>
                  <a:gd name="textAreaTop" fmla="*/ 540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18318" h="109686">
                    <a:moveTo>
                      <a:pt x="0" y="109686"/>
                    </a:moveTo>
                    <a:lnTo>
                      <a:pt x="94186" y="0"/>
                    </a:lnTo>
                    <a:lnTo>
                      <a:pt x="624132" y="0"/>
                    </a:lnTo>
                    <a:lnTo>
                      <a:pt x="718318" y="10968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椭圆 667"/>
              <p:cNvSpPr/>
              <p:nvPr/>
            </p:nvSpPr>
            <p:spPr>
              <a:xfrm>
                <a:off x="5529240" y="4599000"/>
                <a:ext cx="208440" cy="20952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5" name="组合 12"/>
              <p:cNvGrpSpPr/>
              <p:nvPr/>
            </p:nvGrpSpPr>
            <p:grpSpPr>
              <a:xfrm>
                <a:off x="5608080" y="4679280"/>
                <a:ext cx="50040" cy="49680"/>
                <a:chOff x="5608080" y="4679280"/>
                <a:chExt cx="50040" cy="49680"/>
              </a:xfrm>
            </p:grpSpPr>
            <p:sp>
              <p:nvSpPr>
                <p:cNvPr id="1336" name="椭圆 669"/>
                <p:cNvSpPr/>
                <p:nvPr/>
              </p:nvSpPr>
              <p:spPr>
                <a:xfrm>
                  <a:off x="5608080" y="4679280"/>
                  <a:ext cx="50040" cy="49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椭圆 14"/>
                <p:cNvSpPr/>
                <p:nvPr/>
              </p:nvSpPr>
              <p:spPr>
                <a:xfrm>
                  <a:off x="5620320" y="4691520"/>
                  <a:ext cx="25200" cy="2484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8" name="直接连接符 16"/>
            <p:cNvSpPr/>
            <p:nvPr/>
          </p:nvSpPr>
          <p:spPr>
            <a:xfrm flipV="1">
              <a:off x="5302440" y="3709800"/>
              <a:ext cx="0" cy="69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19"/>
            <p:cNvSpPr/>
            <p:nvPr/>
          </p:nvSpPr>
          <p:spPr>
            <a:xfrm rot="16200000">
              <a:off x="5250600" y="2719440"/>
              <a:ext cx="104760" cy="20844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椭圆 86"/>
            <p:cNvSpPr/>
            <p:nvPr/>
          </p:nvSpPr>
          <p:spPr>
            <a:xfrm>
              <a:off x="5604120" y="4290840"/>
              <a:ext cx="58680" cy="5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1" name="组合 87"/>
            <p:cNvGrpSpPr/>
            <p:nvPr/>
          </p:nvGrpSpPr>
          <p:grpSpPr>
            <a:xfrm>
              <a:off x="5649120" y="4236840"/>
              <a:ext cx="49680" cy="49680"/>
              <a:chOff x="5649120" y="4236840"/>
              <a:chExt cx="49680" cy="49680"/>
            </a:xfrm>
          </p:grpSpPr>
          <p:sp>
            <p:nvSpPr>
              <p:cNvPr id="1342" name="椭圆 660"/>
              <p:cNvSpPr/>
              <p:nvPr/>
            </p:nvSpPr>
            <p:spPr>
              <a:xfrm>
                <a:off x="5649120" y="4236840"/>
                <a:ext cx="49680" cy="49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椭圆 661"/>
              <p:cNvSpPr/>
              <p:nvPr/>
            </p:nvSpPr>
            <p:spPr>
              <a:xfrm>
                <a:off x="5661360" y="4249440"/>
                <a:ext cx="24840" cy="2412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组合 88"/>
            <p:cNvGrpSpPr/>
            <p:nvPr/>
          </p:nvGrpSpPr>
          <p:grpSpPr>
            <a:xfrm>
              <a:off x="5860800" y="4292280"/>
              <a:ext cx="49680" cy="49680"/>
              <a:chOff x="5860800" y="4292280"/>
              <a:chExt cx="49680" cy="49680"/>
            </a:xfrm>
          </p:grpSpPr>
          <p:sp>
            <p:nvSpPr>
              <p:cNvPr id="1345" name="椭圆 658"/>
              <p:cNvSpPr/>
              <p:nvPr/>
            </p:nvSpPr>
            <p:spPr>
              <a:xfrm>
                <a:off x="5860800" y="4292280"/>
                <a:ext cx="49680" cy="49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椭圆 659"/>
              <p:cNvSpPr/>
              <p:nvPr/>
            </p:nvSpPr>
            <p:spPr>
              <a:xfrm>
                <a:off x="5873400" y="4304880"/>
                <a:ext cx="24120" cy="2412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7" name="直接连接符 89"/>
            <p:cNvSpPr/>
            <p:nvPr/>
          </p:nvSpPr>
          <p:spPr>
            <a:xfrm flipV="1">
              <a:off x="5631840" y="4292640"/>
              <a:ext cx="252360" cy="5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8" name="组合 90"/>
            <p:cNvGrpSpPr/>
            <p:nvPr/>
          </p:nvGrpSpPr>
          <p:grpSpPr>
            <a:xfrm>
              <a:off x="6241320" y="4232520"/>
              <a:ext cx="49680" cy="49680"/>
              <a:chOff x="6241320" y="4232520"/>
              <a:chExt cx="49680" cy="49680"/>
            </a:xfrm>
          </p:grpSpPr>
          <p:sp>
            <p:nvSpPr>
              <p:cNvPr id="1349" name="椭圆 656"/>
              <p:cNvSpPr/>
              <p:nvPr/>
            </p:nvSpPr>
            <p:spPr>
              <a:xfrm>
                <a:off x="6241320" y="4232520"/>
                <a:ext cx="49680" cy="49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椭圆 657"/>
              <p:cNvSpPr/>
              <p:nvPr/>
            </p:nvSpPr>
            <p:spPr>
              <a:xfrm>
                <a:off x="6253560" y="4244760"/>
                <a:ext cx="24840" cy="24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1" name="直接连接符 36"/>
            <p:cNvSpPr/>
            <p:nvPr/>
          </p:nvSpPr>
          <p:spPr>
            <a:xfrm flipV="1">
              <a:off x="5884920" y="4282920"/>
              <a:ext cx="3808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直接连接符 37"/>
            <p:cNvSpPr/>
            <p:nvPr/>
          </p:nvSpPr>
          <p:spPr>
            <a:xfrm flipV="1">
              <a:off x="5632560" y="4285800"/>
              <a:ext cx="410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3" name="组合 38"/>
            <p:cNvGrpSpPr/>
            <p:nvPr/>
          </p:nvGrpSpPr>
          <p:grpSpPr>
            <a:xfrm>
              <a:off x="5382000" y="4232520"/>
              <a:ext cx="51840" cy="51840"/>
              <a:chOff x="5382000" y="4232520"/>
              <a:chExt cx="51840" cy="51840"/>
            </a:xfrm>
          </p:grpSpPr>
          <p:sp>
            <p:nvSpPr>
              <p:cNvPr id="1354" name="椭圆 39"/>
              <p:cNvSpPr/>
              <p:nvPr/>
            </p:nvSpPr>
            <p:spPr>
              <a:xfrm>
                <a:off x="5382000" y="4232520"/>
                <a:ext cx="51840" cy="5184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椭圆 40"/>
              <p:cNvSpPr/>
              <p:nvPr/>
            </p:nvSpPr>
            <p:spPr>
              <a:xfrm>
                <a:off x="5394600" y="4245120"/>
                <a:ext cx="26640" cy="266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6" name="直接连接符 41"/>
            <p:cNvSpPr/>
            <p:nvPr/>
          </p:nvSpPr>
          <p:spPr>
            <a:xfrm flipV="1">
              <a:off x="5408640" y="4236840"/>
              <a:ext cx="264960" cy="4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7" name="组合 95"/>
            <p:cNvGrpSpPr/>
            <p:nvPr/>
          </p:nvGrpSpPr>
          <p:grpSpPr>
            <a:xfrm>
              <a:off x="5911200" y="4173120"/>
              <a:ext cx="51840" cy="51840"/>
              <a:chOff x="5911200" y="4173120"/>
              <a:chExt cx="51840" cy="51840"/>
            </a:xfrm>
          </p:grpSpPr>
          <p:sp>
            <p:nvSpPr>
              <p:cNvPr id="1358" name="椭圆 652"/>
              <p:cNvSpPr/>
              <p:nvPr/>
            </p:nvSpPr>
            <p:spPr>
              <a:xfrm>
                <a:off x="5911200" y="417312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椭圆 653"/>
              <p:cNvSpPr/>
              <p:nvPr/>
            </p:nvSpPr>
            <p:spPr>
              <a:xfrm>
                <a:off x="5920920" y="4183920"/>
                <a:ext cx="3240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0" name="组合 96"/>
            <p:cNvGrpSpPr/>
            <p:nvPr/>
          </p:nvGrpSpPr>
          <p:grpSpPr>
            <a:xfrm>
              <a:off x="5678640" y="4173120"/>
              <a:ext cx="51840" cy="51840"/>
              <a:chOff x="5678640" y="4173120"/>
              <a:chExt cx="51840" cy="51840"/>
            </a:xfrm>
          </p:grpSpPr>
          <p:sp>
            <p:nvSpPr>
              <p:cNvPr id="1361" name="椭圆 650"/>
              <p:cNvSpPr/>
              <p:nvPr/>
            </p:nvSpPr>
            <p:spPr>
              <a:xfrm>
                <a:off x="5678640" y="417312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椭圆 651"/>
              <p:cNvSpPr/>
              <p:nvPr/>
            </p:nvSpPr>
            <p:spPr>
              <a:xfrm>
                <a:off x="5689440" y="418392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3" name="组合 97"/>
            <p:cNvGrpSpPr/>
            <p:nvPr/>
          </p:nvGrpSpPr>
          <p:grpSpPr>
            <a:xfrm>
              <a:off x="5816520" y="4173120"/>
              <a:ext cx="51840" cy="51840"/>
              <a:chOff x="5816520" y="4173120"/>
              <a:chExt cx="51840" cy="51840"/>
            </a:xfrm>
          </p:grpSpPr>
          <p:sp>
            <p:nvSpPr>
              <p:cNvPr id="1364" name="椭圆 648"/>
              <p:cNvSpPr/>
              <p:nvPr/>
            </p:nvSpPr>
            <p:spPr>
              <a:xfrm>
                <a:off x="5816520" y="4173120"/>
                <a:ext cx="51840" cy="51840"/>
              </a:xfrm>
              <a:prstGeom prst="ellipse">
                <a:avLst/>
              </a:prstGeom>
              <a:solidFill>
                <a:srgbClr val="7f7f7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椭圆 649"/>
              <p:cNvSpPr/>
              <p:nvPr/>
            </p:nvSpPr>
            <p:spPr>
              <a:xfrm>
                <a:off x="5827320" y="418392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6" name="组合 98"/>
            <p:cNvGrpSpPr/>
            <p:nvPr/>
          </p:nvGrpSpPr>
          <p:grpSpPr>
            <a:xfrm>
              <a:off x="6049080" y="4173120"/>
              <a:ext cx="51840" cy="51840"/>
              <a:chOff x="6049080" y="4173120"/>
              <a:chExt cx="51840" cy="51840"/>
            </a:xfrm>
          </p:grpSpPr>
          <p:sp>
            <p:nvSpPr>
              <p:cNvPr id="1367" name="椭圆 646"/>
              <p:cNvSpPr/>
              <p:nvPr/>
            </p:nvSpPr>
            <p:spPr>
              <a:xfrm>
                <a:off x="6049080" y="4173120"/>
                <a:ext cx="51840" cy="51840"/>
              </a:xfrm>
              <a:prstGeom prst="ellipse">
                <a:avLst/>
              </a:prstGeom>
              <a:solidFill>
                <a:srgbClr val="7f7f7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椭圆 647"/>
              <p:cNvSpPr/>
              <p:nvPr/>
            </p:nvSpPr>
            <p:spPr>
              <a:xfrm>
                <a:off x="6059880" y="418392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9" name="椭圆 99"/>
            <p:cNvSpPr/>
            <p:nvPr/>
          </p:nvSpPr>
          <p:spPr>
            <a:xfrm>
              <a:off x="5759640" y="4194000"/>
              <a:ext cx="23760" cy="2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椭圆 100"/>
            <p:cNvSpPr/>
            <p:nvPr/>
          </p:nvSpPr>
          <p:spPr>
            <a:xfrm>
              <a:off x="5994720" y="4194000"/>
              <a:ext cx="25200" cy="2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椭圆 101"/>
            <p:cNvSpPr/>
            <p:nvPr/>
          </p:nvSpPr>
          <p:spPr>
            <a:xfrm>
              <a:off x="6143760" y="4194000"/>
              <a:ext cx="23760" cy="2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2" name="组合 102"/>
            <p:cNvGrpSpPr/>
            <p:nvPr/>
          </p:nvGrpSpPr>
          <p:grpSpPr>
            <a:xfrm>
              <a:off x="4287240" y="3904560"/>
              <a:ext cx="37440" cy="120600"/>
              <a:chOff x="4287240" y="3904560"/>
              <a:chExt cx="37440" cy="120600"/>
            </a:xfrm>
          </p:grpSpPr>
          <p:sp>
            <p:nvSpPr>
              <p:cNvPr id="1373" name="矩形 644"/>
              <p:cNvSpPr/>
              <p:nvPr/>
            </p:nvSpPr>
            <p:spPr>
              <a:xfrm>
                <a:off x="4287240" y="3904560"/>
                <a:ext cx="37440" cy="120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矩形 645"/>
              <p:cNvSpPr/>
              <p:nvPr/>
            </p:nvSpPr>
            <p:spPr>
              <a:xfrm>
                <a:off x="4291920" y="3931560"/>
                <a:ext cx="2772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5" name="直接连接符 103"/>
            <p:cNvSpPr/>
            <p:nvPr/>
          </p:nvSpPr>
          <p:spPr>
            <a:xfrm flipV="1">
              <a:off x="5388840" y="4198680"/>
              <a:ext cx="14040" cy="4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6" name="组合 104"/>
            <p:cNvGrpSpPr/>
            <p:nvPr/>
          </p:nvGrpSpPr>
          <p:grpSpPr>
            <a:xfrm>
              <a:off x="5403240" y="4173120"/>
              <a:ext cx="51840" cy="51840"/>
              <a:chOff x="5403240" y="4173120"/>
              <a:chExt cx="51840" cy="51840"/>
            </a:xfrm>
          </p:grpSpPr>
          <p:sp>
            <p:nvSpPr>
              <p:cNvPr id="1377" name="椭圆 642"/>
              <p:cNvSpPr/>
              <p:nvPr/>
            </p:nvSpPr>
            <p:spPr>
              <a:xfrm>
                <a:off x="5403240" y="4173120"/>
                <a:ext cx="51840" cy="51840"/>
              </a:xfrm>
              <a:prstGeom prst="ellipse">
                <a:avLst/>
              </a:prstGeom>
              <a:solidFill>
                <a:srgbClr val="7f7f7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椭圆 643"/>
              <p:cNvSpPr/>
              <p:nvPr/>
            </p:nvSpPr>
            <p:spPr>
              <a:xfrm>
                <a:off x="5412960" y="4183920"/>
                <a:ext cx="3240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9" name="组合 105"/>
            <p:cNvGrpSpPr/>
            <p:nvPr/>
          </p:nvGrpSpPr>
          <p:grpSpPr>
            <a:xfrm>
              <a:off x="6206760" y="4173120"/>
              <a:ext cx="51840" cy="51840"/>
              <a:chOff x="6206760" y="4173120"/>
              <a:chExt cx="51840" cy="51840"/>
            </a:xfrm>
          </p:grpSpPr>
          <p:sp>
            <p:nvSpPr>
              <p:cNvPr id="1380" name="椭圆 640"/>
              <p:cNvSpPr/>
              <p:nvPr/>
            </p:nvSpPr>
            <p:spPr>
              <a:xfrm>
                <a:off x="6206760" y="4173120"/>
                <a:ext cx="51840" cy="51840"/>
              </a:xfrm>
              <a:prstGeom prst="ellipse">
                <a:avLst/>
              </a:prstGeom>
              <a:solidFill>
                <a:srgbClr val="7f7f7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椭圆 641"/>
              <p:cNvSpPr/>
              <p:nvPr/>
            </p:nvSpPr>
            <p:spPr>
              <a:xfrm>
                <a:off x="6216480" y="4183920"/>
                <a:ext cx="3240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2" name="直接连接符 106"/>
            <p:cNvSpPr/>
            <p:nvPr/>
          </p:nvSpPr>
          <p:spPr>
            <a:xfrm>
              <a:off x="5566680" y="4173480"/>
              <a:ext cx="137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直接连接符 68"/>
            <p:cNvSpPr/>
            <p:nvPr/>
          </p:nvSpPr>
          <p:spPr>
            <a:xfrm>
              <a:off x="5955840" y="4181400"/>
              <a:ext cx="428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直接连接符 108"/>
            <p:cNvSpPr/>
            <p:nvPr/>
          </p:nvSpPr>
          <p:spPr>
            <a:xfrm>
              <a:off x="5723280" y="4181400"/>
              <a:ext cx="396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直接连接符 109"/>
            <p:cNvSpPr/>
            <p:nvPr/>
          </p:nvSpPr>
          <p:spPr>
            <a:xfrm flipV="1">
              <a:off x="5780160" y="4181040"/>
              <a:ext cx="396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直接连接符 110"/>
            <p:cNvSpPr/>
            <p:nvPr/>
          </p:nvSpPr>
          <p:spPr>
            <a:xfrm>
              <a:off x="5842080" y="4173480"/>
              <a:ext cx="9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直接连接符 111"/>
            <p:cNvSpPr/>
            <p:nvPr/>
          </p:nvSpPr>
          <p:spPr>
            <a:xfrm flipV="1">
              <a:off x="6017040" y="4181040"/>
              <a:ext cx="396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直接连接符 112"/>
            <p:cNvSpPr/>
            <p:nvPr/>
          </p:nvSpPr>
          <p:spPr>
            <a:xfrm>
              <a:off x="6092280" y="4181400"/>
              <a:ext cx="536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直接连接符 74"/>
            <p:cNvSpPr/>
            <p:nvPr/>
          </p:nvSpPr>
          <p:spPr>
            <a:xfrm flipV="1">
              <a:off x="6164640" y="4181040"/>
              <a:ext cx="4896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直接连接符 114"/>
            <p:cNvSpPr/>
            <p:nvPr/>
          </p:nvSpPr>
          <p:spPr>
            <a:xfrm>
              <a:off x="6258240" y="4198680"/>
              <a:ext cx="25200" cy="4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直接连接符 115"/>
            <p:cNvSpPr/>
            <p:nvPr/>
          </p:nvSpPr>
          <p:spPr>
            <a:xfrm flipH="1" flipV="1">
              <a:off x="5604120" y="4319280"/>
              <a:ext cx="288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直接连接符 116"/>
            <p:cNvSpPr/>
            <p:nvPr/>
          </p:nvSpPr>
          <p:spPr>
            <a:xfrm flipV="1">
              <a:off x="5658120" y="4319280"/>
              <a:ext cx="468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3" name="组合 117"/>
            <p:cNvGrpSpPr/>
            <p:nvPr/>
          </p:nvGrpSpPr>
          <p:grpSpPr>
            <a:xfrm>
              <a:off x="5540760" y="4173120"/>
              <a:ext cx="51840" cy="51840"/>
              <a:chOff x="5540760" y="4173120"/>
              <a:chExt cx="51840" cy="51840"/>
            </a:xfrm>
          </p:grpSpPr>
          <p:sp>
            <p:nvSpPr>
              <p:cNvPr id="1394" name="椭圆 638"/>
              <p:cNvSpPr/>
              <p:nvPr/>
            </p:nvSpPr>
            <p:spPr>
              <a:xfrm>
                <a:off x="5540760" y="417312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椭圆 639"/>
              <p:cNvSpPr/>
              <p:nvPr/>
            </p:nvSpPr>
            <p:spPr>
              <a:xfrm>
                <a:off x="5551560" y="418392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6" name="矩形 118"/>
            <p:cNvSpPr/>
            <p:nvPr/>
          </p:nvSpPr>
          <p:spPr>
            <a:xfrm>
              <a:off x="5578560" y="4300560"/>
              <a:ext cx="109440" cy="410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椭圆 119"/>
            <p:cNvSpPr/>
            <p:nvPr/>
          </p:nvSpPr>
          <p:spPr>
            <a:xfrm>
              <a:off x="5488200" y="4194000"/>
              <a:ext cx="25200" cy="2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直接连接符 120"/>
            <p:cNvSpPr/>
            <p:nvPr/>
          </p:nvSpPr>
          <p:spPr>
            <a:xfrm>
              <a:off x="5447880" y="4181400"/>
              <a:ext cx="428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直接连接符 121"/>
            <p:cNvSpPr/>
            <p:nvPr/>
          </p:nvSpPr>
          <p:spPr>
            <a:xfrm flipV="1">
              <a:off x="5508720" y="4181040"/>
              <a:ext cx="396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矩形 122"/>
            <p:cNvSpPr/>
            <p:nvPr/>
          </p:nvSpPr>
          <p:spPr>
            <a:xfrm>
              <a:off x="5527800" y="4109760"/>
              <a:ext cx="82440" cy="63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矩形 123"/>
            <p:cNvSpPr/>
            <p:nvPr/>
          </p:nvSpPr>
          <p:spPr>
            <a:xfrm>
              <a:off x="5662800" y="4109760"/>
              <a:ext cx="82440" cy="63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矩形 124"/>
            <p:cNvSpPr/>
            <p:nvPr/>
          </p:nvSpPr>
          <p:spPr>
            <a:xfrm>
              <a:off x="5893200" y="4109760"/>
              <a:ext cx="83880" cy="63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3" name="组合 125"/>
            <p:cNvGrpSpPr/>
            <p:nvPr/>
          </p:nvGrpSpPr>
          <p:grpSpPr>
            <a:xfrm>
              <a:off x="5911200" y="4116600"/>
              <a:ext cx="51840" cy="51840"/>
              <a:chOff x="5911200" y="4116600"/>
              <a:chExt cx="51840" cy="51840"/>
            </a:xfrm>
          </p:grpSpPr>
          <p:sp>
            <p:nvSpPr>
              <p:cNvPr id="1404" name="椭圆 636"/>
              <p:cNvSpPr/>
              <p:nvPr/>
            </p:nvSpPr>
            <p:spPr>
              <a:xfrm>
                <a:off x="5911200" y="411660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椭圆 637"/>
              <p:cNvSpPr/>
              <p:nvPr/>
            </p:nvSpPr>
            <p:spPr>
              <a:xfrm>
                <a:off x="5920920" y="4127400"/>
                <a:ext cx="3240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6" name="组合 126"/>
            <p:cNvGrpSpPr/>
            <p:nvPr/>
          </p:nvGrpSpPr>
          <p:grpSpPr>
            <a:xfrm>
              <a:off x="5678640" y="4116600"/>
              <a:ext cx="51840" cy="51840"/>
              <a:chOff x="5678640" y="4116600"/>
              <a:chExt cx="51840" cy="51840"/>
            </a:xfrm>
          </p:grpSpPr>
          <p:sp>
            <p:nvSpPr>
              <p:cNvPr id="1407" name="椭圆 634"/>
              <p:cNvSpPr/>
              <p:nvPr/>
            </p:nvSpPr>
            <p:spPr>
              <a:xfrm>
                <a:off x="5678640" y="411660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椭圆 635"/>
              <p:cNvSpPr/>
              <p:nvPr/>
            </p:nvSpPr>
            <p:spPr>
              <a:xfrm>
                <a:off x="5689440" y="412740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组合 127"/>
            <p:cNvGrpSpPr/>
            <p:nvPr/>
          </p:nvGrpSpPr>
          <p:grpSpPr>
            <a:xfrm>
              <a:off x="5540760" y="4116600"/>
              <a:ext cx="51840" cy="51840"/>
              <a:chOff x="5540760" y="4116600"/>
              <a:chExt cx="51840" cy="51840"/>
            </a:xfrm>
          </p:grpSpPr>
          <p:sp>
            <p:nvSpPr>
              <p:cNvPr id="1410" name="椭圆 632"/>
              <p:cNvSpPr/>
              <p:nvPr/>
            </p:nvSpPr>
            <p:spPr>
              <a:xfrm>
                <a:off x="5540760" y="411660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椭圆 633"/>
              <p:cNvSpPr/>
              <p:nvPr/>
            </p:nvSpPr>
            <p:spPr>
              <a:xfrm>
                <a:off x="5551560" y="412740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2" name="组合 128"/>
            <p:cNvGrpSpPr/>
            <p:nvPr/>
          </p:nvGrpSpPr>
          <p:grpSpPr>
            <a:xfrm>
              <a:off x="6275160" y="3904560"/>
              <a:ext cx="37440" cy="120600"/>
              <a:chOff x="6275160" y="3904560"/>
              <a:chExt cx="37440" cy="120600"/>
            </a:xfrm>
          </p:grpSpPr>
          <p:sp>
            <p:nvSpPr>
              <p:cNvPr id="1413" name="矩形 134"/>
              <p:cNvSpPr/>
              <p:nvPr/>
            </p:nvSpPr>
            <p:spPr>
              <a:xfrm>
                <a:off x="6275160" y="3904560"/>
                <a:ext cx="37440" cy="120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矩形 631"/>
              <p:cNvSpPr/>
              <p:nvPr/>
            </p:nvSpPr>
            <p:spPr>
              <a:xfrm>
                <a:off x="6279840" y="3931560"/>
                <a:ext cx="2772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椭圆 129"/>
            <p:cNvSpPr/>
            <p:nvPr/>
          </p:nvSpPr>
          <p:spPr>
            <a:xfrm>
              <a:off x="5615280" y="3855960"/>
              <a:ext cx="489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椭圆 130"/>
            <p:cNvSpPr/>
            <p:nvPr/>
          </p:nvSpPr>
          <p:spPr>
            <a:xfrm>
              <a:off x="5783400" y="38559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椭圆 131"/>
            <p:cNvSpPr/>
            <p:nvPr/>
          </p:nvSpPr>
          <p:spPr>
            <a:xfrm>
              <a:off x="5864400" y="38559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椭圆 132"/>
            <p:cNvSpPr/>
            <p:nvPr/>
          </p:nvSpPr>
          <p:spPr>
            <a:xfrm>
              <a:off x="5480280" y="3855960"/>
              <a:ext cx="489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椭圆 133"/>
            <p:cNvSpPr/>
            <p:nvPr/>
          </p:nvSpPr>
          <p:spPr>
            <a:xfrm>
              <a:off x="5965920" y="38559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134"/>
            <p:cNvSpPr/>
            <p:nvPr/>
          </p:nvSpPr>
          <p:spPr>
            <a:xfrm>
              <a:off x="5973840" y="4363920"/>
              <a:ext cx="42840" cy="4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矩形 135"/>
            <p:cNvSpPr/>
            <p:nvPr/>
          </p:nvSpPr>
          <p:spPr>
            <a:xfrm>
              <a:off x="6066000" y="4363920"/>
              <a:ext cx="41040" cy="4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圆角矩形 136"/>
            <p:cNvSpPr/>
            <p:nvPr/>
          </p:nvSpPr>
          <p:spPr>
            <a:xfrm>
              <a:off x="5624640" y="3835080"/>
              <a:ext cx="26640" cy="63360"/>
            </a:xfrm>
            <a:custGeom>
              <a:avLst/>
              <a:gdLst>
                <a:gd name="textAreaLeft" fmla="*/ 3600 w 26640"/>
                <a:gd name="textAreaRight" fmla="*/ 23040 w 26640"/>
                <a:gd name="textAreaTop" fmla="*/ 3600 h 63360"/>
                <a:gd name="textAreaBottom" fmla="*/ 59760 h 63360"/>
              </a:gdLst>
              <a:ahLst/>
              <a:rect l="textAreaLeft" t="textAreaTop" r="textAreaRight" b="textAreaBottom"/>
              <a:pathLst>
                <a:path w="21600" h="50976">
                  <a:moveTo>
                    <a:pt x="10524" y="0"/>
                  </a:moveTo>
                  <a:arcTo wR="10524" hR="10524" stAng="16200000" swAng="-5400000"/>
                  <a:lnTo>
                    <a:pt x="0" y="40452"/>
                  </a:lnTo>
                  <a:arcTo wR="10524" hR="10524" stAng="10800000" swAng="-5400000"/>
                  <a:lnTo>
                    <a:pt x="11076" y="50976"/>
                  </a:lnTo>
                  <a:arcTo wR="10524" hR="10524" stAng="5400000" swAng="-5400000"/>
                  <a:lnTo>
                    <a:pt x="21600" y="10524"/>
                  </a:lnTo>
                  <a:arcTo wR="10524" hR="10524" stAng="0" swAng="-5400000"/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圆角矩形 137"/>
            <p:cNvSpPr/>
            <p:nvPr/>
          </p:nvSpPr>
          <p:spPr>
            <a:xfrm rot="5400000">
              <a:off x="5770080" y="3700800"/>
              <a:ext cx="26640" cy="295200"/>
            </a:xfrm>
            <a:custGeom>
              <a:avLst/>
              <a:gdLst>
                <a:gd name="textAreaLeft" fmla="*/ 3600 w 26640"/>
                <a:gd name="textAreaRight" fmla="*/ 23040 w 26640"/>
                <a:gd name="textAreaTop" fmla="*/ 3600 h 295200"/>
                <a:gd name="textAreaBottom" fmla="*/ 291600 h 295200"/>
              </a:gdLst>
              <a:ahLst/>
              <a:rect l="textAreaLeft" t="textAreaTop" r="textAreaRight" b="textAreaBottom"/>
              <a:pathLst>
                <a:path w="21600" h="236448">
                  <a:moveTo>
                    <a:pt x="10800" y="0"/>
                  </a:moveTo>
                  <a:arcTo wR="10800" hR="10800" stAng="16200000" swAng="-5400000"/>
                  <a:lnTo>
                    <a:pt x="0" y="225648"/>
                  </a:lnTo>
                  <a:arcTo wR="10800" hR="10800" stAng="10800000" swAng="-5400000"/>
                  <a:lnTo>
                    <a:pt x="10800" y="23644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弧形 138"/>
            <p:cNvSpPr/>
            <p:nvPr/>
          </p:nvSpPr>
          <p:spPr>
            <a:xfrm>
              <a:off x="5847120" y="3846240"/>
              <a:ext cx="145800" cy="144360"/>
            </a:xfrm>
            <a:custGeom>
              <a:avLst/>
              <a:gdLst>
                <a:gd name="textAreaLeft" fmla="*/ 73080 w 145800"/>
                <a:gd name="textAreaRight" fmla="*/ 146160 w 145800"/>
                <a:gd name="textAreaTop" fmla="*/ 0 h 144360"/>
                <a:gd name="textAreaBottom" fmla="*/ 72360 h 144360"/>
              </a:gdLst>
              <a:ahLst/>
              <a:rect l="textAreaLeft" t="textAreaTop" r="textAreaRight" b="textAreaBottom"/>
              <a:pathLst>
                <a:path stroke="0" w="252234" h="249536">
                  <a:moveTo>
                    <a:pt x="126117" y="0"/>
                  </a:moveTo>
                  <a:lnTo>
                    <a:pt x="126117" y="0"/>
                  </a:lnTo>
                  <a:arcTo wR="126117" hR="124768" stAng="-5400000" swAng="5400000"/>
                  <a:lnTo>
                    <a:pt x="126117" y="124768"/>
                  </a:lnTo>
                  <a:close/>
                </a:path>
                <a:path fill="none" w="252234" h="249536">
                  <a:moveTo>
                    <a:pt x="126117" y="0"/>
                  </a:moveTo>
                  <a:lnTo>
                    <a:pt x="126117" y="0"/>
                  </a:lnTo>
                  <a:arcTo wR="126117" hR="124768" stAng="-5400000" swAng="5400000"/>
                </a:path>
              </a:pathLst>
            </a:custGeom>
            <a:noFill/>
            <a:ln w="44280">
              <a:solidFill>
                <a:srgbClr val="bdd7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圆角矩形 139"/>
            <p:cNvSpPr/>
            <p:nvPr/>
          </p:nvSpPr>
          <p:spPr>
            <a:xfrm rot="10800000">
              <a:off x="5983560" y="3903480"/>
              <a:ext cx="25200" cy="458640"/>
            </a:xfrm>
            <a:custGeom>
              <a:avLst/>
              <a:gdLst/>
              <a:ahLst/>
              <a:rect l="l" t="t" r="r" b="b"/>
              <a:pathLst>
                <a:path w="21600" h="387887">
                  <a:moveTo>
                    <a:pt x="81" y="0"/>
                  </a:moveTo>
                  <a:arcTo wR="81" hR="81" stAng="16200000" swAng="-5400000"/>
                  <a:lnTo>
                    <a:pt x="0" y="387806"/>
                  </a:lnTo>
                  <a:arcTo wR="81" hR="81" stAng="10800000" swAng="-5400000"/>
                  <a:lnTo>
                    <a:pt x="21519" y="387887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圆角矩形 140"/>
            <p:cNvSpPr/>
            <p:nvPr/>
          </p:nvSpPr>
          <p:spPr>
            <a:xfrm rot="5040000">
              <a:off x="5945040" y="3795480"/>
              <a:ext cx="29880" cy="150480"/>
            </a:xfrm>
            <a:custGeom>
              <a:avLst/>
              <a:gdLst>
                <a:gd name="textAreaLeft" fmla="*/ 4320 w 29880"/>
                <a:gd name="textAreaRight" fmla="*/ 25560 w 29880"/>
                <a:gd name="textAreaTop" fmla="*/ 4320 h 150480"/>
                <a:gd name="textAreaBottom" fmla="*/ 146160 h 150480"/>
              </a:gdLst>
              <a:ahLst/>
              <a:rect l="textAreaLeft" t="textAreaTop" r="textAreaRight" b="textAreaBottom"/>
              <a:pathLst>
                <a:path w="21600" h="107743">
                  <a:moveTo>
                    <a:pt x="10800" y="0"/>
                  </a:moveTo>
                  <a:arcTo wR="10800" hR="10800" stAng="16200000" swAng="-5400000"/>
                  <a:lnTo>
                    <a:pt x="0" y="96943"/>
                  </a:lnTo>
                  <a:arcTo wR="10800" hR="10800" stAng="10800000" swAng="-5400000"/>
                  <a:lnTo>
                    <a:pt x="10800" y="10774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弧形 141"/>
            <p:cNvSpPr/>
            <p:nvPr/>
          </p:nvSpPr>
          <p:spPr>
            <a:xfrm>
              <a:off x="5940720" y="3862080"/>
              <a:ext cx="145800" cy="145800"/>
            </a:xfrm>
            <a:custGeom>
              <a:avLst/>
              <a:gdLst>
                <a:gd name="textAreaLeft" fmla="*/ 73080 w 145800"/>
                <a:gd name="textAreaRight" fmla="*/ 146160 w 145800"/>
                <a:gd name="textAreaTop" fmla="*/ 0 h 145800"/>
                <a:gd name="textAreaBottom" fmla="*/ 73080 h 145800"/>
              </a:gdLst>
              <a:ahLst/>
              <a:rect l="textAreaLeft" t="textAreaTop" r="textAreaRight" b="textAreaBottom"/>
              <a:pathLst>
                <a:path stroke="0" w="252234" h="252279">
                  <a:moveTo>
                    <a:pt x="126117" y="0"/>
                  </a:moveTo>
                  <a:lnTo>
                    <a:pt x="126117" y="0"/>
                  </a:lnTo>
                  <a:arcTo wR="126117" hR="126140" stAng="-5400000" swAng="5400000"/>
                  <a:lnTo>
                    <a:pt x="126117" y="126140"/>
                  </a:lnTo>
                  <a:close/>
                </a:path>
                <a:path fill="none" w="252234" h="252279">
                  <a:moveTo>
                    <a:pt x="126117" y="0"/>
                  </a:moveTo>
                  <a:lnTo>
                    <a:pt x="126117" y="0"/>
                  </a:lnTo>
                  <a:arcTo wR="126117" hR="126140" stAng="-5400000" swAng="5400000"/>
                </a:path>
              </a:pathLst>
            </a:custGeom>
            <a:noFill/>
            <a:ln w="44280">
              <a:solidFill>
                <a:srgbClr val="bdd7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圆角矩形 142"/>
            <p:cNvSpPr/>
            <p:nvPr/>
          </p:nvSpPr>
          <p:spPr>
            <a:xfrm rot="10800000">
              <a:off x="6073920" y="3923640"/>
              <a:ext cx="26640" cy="438120"/>
            </a:xfrm>
            <a:custGeom>
              <a:avLst/>
              <a:gdLst/>
              <a:ahLst/>
              <a:rect l="l" t="t" r="r" b="b"/>
              <a:pathLst>
                <a:path w="21600" h="350784">
                  <a:moveTo>
                    <a:pt x="81" y="0"/>
                  </a:moveTo>
                  <a:arcTo wR="81" hR="81" stAng="16200000" swAng="-5400000"/>
                  <a:lnTo>
                    <a:pt x="0" y="350703"/>
                  </a:lnTo>
                  <a:arcTo wR="81" hR="81" stAng="10800000" swAng="-5400000"/>
                  <a:lnTo>
                    <a:pt x="21519" y="350784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圆角矩形 143"/>
            <p:cNvSpPr/>
            <p:nvPr/>
          </p:nvSpPr>
          <p:spPr>
            <a:xfrm rot="8700000">
              <a:off x="5668920" y="3809520"/>
              <a:ext cx="26640" cy="646200"/>
            </a:xfrm>
            <a:custGeom>
              <a:avLst/>
              <a:gdLst>
                <a:gd name="textAreaLeft" fmla="*/ 3600 w 26640"/>
                <a:gd name="textAreaRight" fmla="*/ 23040 w 26640"/>
                <a:gd name="textAreaTop" fmla="*/ 3600 h 646200"/>
                <a:gd name="textAreaBottom" fmla="*/ 642600 h 646200"/>
              </a:gdLst>
              <a:ahLst/>
              <a:rect l="textAreaLeft" t="textAreaTop" r="textAreaRight" b="textAreaBottom"/>
              <a:pathLst>
                <a:path w="21600" h="517248">
                  <a:moveTo>
                    <a:pt x="10353" y="0"/>
                  </a:moveTo>
                  <a:arcTo wR="10353" hR="10353" stAng="16200000" swAng="-5400000"/>
                  <a:lnTo>
                    <a:pt x="0" y="506895"/>
                  </a:lnTo>
                  <a:arcTo wR="10353" hR="10353" stAng="10800000" swAng="-5400000"/>
                  <a:lnTo>
                    <a:pt x="11247" y="517248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圆角矩形 144"/>
            <p:cNvSpPr/>
            <p:nvPr/>
          </p:nvSpPr>
          <p:spPr>
            <a:xfrm flipH="1" rot="8520000">
              <a:off x="5827680" y="3858840"/>
              <a:ext cx="26640" cy="128160"/>
            </a:xfrm>
            <a:custGeom>
              <a:avLst/>
              <a:gdLst>
                <a:gd name="textAreaLeft" fmla="*/ 3600 w 26640"/>
                <a:gd name="textAreaRight" fmla="*/ 23040 w 26640"/>
                <a:gd name="textAreaTop" fmla="*/ 3600 h 128160"/>
                <a:gd name="textAreaBottom" fmla="*/ 124560 h 128160"/>
              </a:gdLst>
              <a:ahLst/>
              <a:rect l="textAreaLeft" t="textAreaTop" r="textAreaRight" b="textAreaBottom"/>
              <a:pathLst>
                <a:path w="21600" h="102816">
                  <a:moveTo>
                    <a:pt x="10353" y="0"/>
                  </a:moveTo>
                  <a:arcTo wR="10353" hR="10353" stAng="16200000" swAng="-5400000"/>
                  <a:lnTo>
                    <a:pt x="0" y="92463"/>
                  </a:lnTo>
                  <a:arcTo wR="10353" hR="10353" stAng="10800000" swAng="-5400000"/>
                  <a:lnTo>
                    <a:pt x="11247" y="102816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圆角矩形 145"/>
            <p:cNvSpPr/>
            <p:nvPr/>
          </p:nvSpPr>
          <p:spPr>
            <a:xfrm rot="10800000">
              <a:off x="5869080" y="3962160"/>
              <a:ext cx="25200" cy="441360"/>
            </a:xfrm>
            <a:custGeom>
              <a:avLst/>
              <a:gdLst/>
              <a:ahLst/>
              <a:rect l="l" t="t" r="r" b="b"/>
              <a:pathLst>
                <a:path w="21600" h="373285">
                  <a:moveTo>
                    <a:pt x="81" y="0"/>
                  </a:moveTo>
                  <a:arcTo wR="81" hR="81" stAng="16200000" swAng="-5400000"/>
                  <a:lnTo>
                    <a:pt x="0" y="373204"/>
                  </a:lnTo>
                  <a:arcTo wR="81" hR="81" stAng="10800000" swAng="-5400000"/>
                  <a:lnTo>
                    <a:pt x="21519" y="373285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圆角矩形 146"/>
            <p:cNvSpPr/>
            <p:nvPr/>
          </p:nvSpPr>
          <p:spPr>
            <a:xfrm rot="11160000">
              <a:off x="5891400" y="3962160"/>
              <a:ext cx="26640" cy="441360"/>
            </a:xfrm>
            <a:custGeom>
              <a:avLst/>
              <a:gdLst/>
              <a:ahLst/>
              <a:rect l="l" t="t" r="r" b="b"/>
              <a:pathLst>
                <a:path w="21600" h="353376">
                  <a:moveTo>
                    <a:pt x="81" y="0"/>
                  </a:moveTo>
                  <a:arcTo wR="81" hR="81" stAng="16200000" swAng="-5400000"/>
                  <a:lnTo>
                    <a:pt x="0" y="353295"/>
                  </a:lnTo>
                  <a:arcTo wR="81" hR="81" stAng="10800000" swAng="-5400000"/>
                  <a:lnTo>
                    <a:pt x="21519" y="353376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圆角矩形 147"/>
            <p:cNvSpPr/>
            <p:nvPr/>
          </p:nvSpPr>
          <p:spPr>
            <a:xfrm flipH="1" rot="12960000">
              <a:off x="5944320" y="3858120"/>
              <a:ext cx="26640" cy="128160"/>
            </a:xfrm>
            <a:custGeom>
              <a:avLst/>
              <a:gdLst>
                <a:gd name="textAreaLeft" fmla="*/ 3600 w 26640"/>
                <a:gd name="textAreaRight" fmla="*/ 23040 w 26640"/>
                <a:gd name="textAreaTop" fmla="*/ 3600 h 128160"/>
                <a:gd name="textAreaBottom" fmla="*/ 124560 h 128160"/>
              </a:gdLst>
              <a:ahLst/>
              <a:rect l="textAreaLeft" t="textAreaTop" r="textAreaRight" b="textAreaBottom"/>
              <a:pathLst>
                <a:path w="21600" h="102816">
                  <a:moveTo>
                    <a:pt x="10353" y="0"/>
                  </a:moveTo>
                  <a:arcTo wR="10353" hR="10353" stAng="16200000" swAng="-5400000"/>
                  <a:lnTo>
                    <a:pt x="0" y="92463"/>
                  </a:lnTo>
                  <a:arcTo wR="10353" hR="10353" stAng="10800000" swAng="-5400000"/>
                  <a:lnTo>
                    <a:pt x="11247" y="102816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圆角矩形 148"/>
            <p:cNvSpPr/>
            <p:nvPr/>
          </p:nvSpPr>
          <p:spPr>
            <a:xfrm rot="10800000">
              <a:off x="5983560" y="4487400"/>
              <a:ext cx="25200" cy="207720"/>
            </a:xfrm>
            <a:custGeom>
              <a:avLst/>
              <a:gdLst/>
              <a:ahLst/>
              <a:rect l="l" t="t" r="r" b="b"/>
              <a:pathLst>
                <a:path w="21600" h="175842">
                  <a:moveTo>
                    <a:pt x="81" y="0"/>
                  </a:moveTo>
                  <a:arcTo wR="81" hR="81" stAng="16200000" swAng="-5400000"/>
                  <a:lnTo>
                    <a:pt x="0" y="175761"/>
                  </a:lnTo>
                  <a:arcTo wR="81" hR="81" stAng="10800000" swAng="-5400000"/>
                  <a:lnTo>
                    <a:pt x="21519" y="175842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圆角矩形 149"/>
            <p:cNvSpPr/>
            <p:nvPr/>
          </p:nvSpPr>
          <p:spPr>
            <a:xfrm rot="10800000">
              <a:off x="6073920" y="4487760"/>
              <a:ext cx="26640" cy="1122480"/>
            </a:xfrm>
            <a:custGeom>
              <a:avLst/>
              <a:gdLst/>
              <a:ahLst/>
              <a:rect l="l" t="t" r="r" b="b"/>
              <a:pathLst>
                <a:path w="21600" h="898272">
                  <a:moveTo>
                    <a:pt x="81" y="0"/>
                  </a:moveTo>
                  <a:arcTo wR="81" hR="81" stAng="16200000" swAng="-5400000"/>
                  <a:lnTo>
                    <a:pt x="0" y="898191"/>
                  </a:lnTo>
                  <a:arcTo wR="81" hR="81" stAng="10800000" swAng="-5400000"/>
                  <a:lnTo>
                    <a:pt x="21519" y="898272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矩形 150"/>
            <p:cNvSpPr/>
            <p:nvPr/>
          </p:nvSpPr>
          <p:spPr>
            <a:xfrm>
              <a:off x="4705560" y="4173480"/>
              <a:ext cx="82440" cy="63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矩形 151"/>
            <p:cNvSpPr/>
            <p:nvPr/>
          </p:nvSpPr>
          <p:spPr>
            <a:xfrm>
              <a:off x="4578480" y="4173480"/>
              <a:ext cx="82440" cy="63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矩形 152"/>
            <p:cNvSpPr/>
            <p:nvPr/>
          </p:nvSpPr>
          <p:spPr>
            <a:xfrm>
              <a:off x="4451400" y="4173480"/>
              <a:ext cx="82440" cy="63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9" name="组合 153"/>
            <p:cNvGrpSpPr/>
            <p:nvPr/>
          </p:nvGrpSpPr>
          <p:grpSpPr>
            <a:xfrm>
              <a:off x="4722480" y="4173120"/>
              <a:ext cx="51840" cy="51840"/>
              <a:chOff x="4722480" y="4173120"/>
              <a:chExt cx="51840" cy="51840"/>
            </a:xfrm>
          </p:grpSpPr>
          <p:sp>
            <p:nvSpPr>
              <p:cNvPr id="1440" name="椭圆 628"/>
              <p:cNvSpPr/>
              <p:nvPr/>
            </p:nvSpPr>
            <p:spPr>
              <a:xfrm>
                <a:off x="4722480" y="417312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椭圆 629"/>
              <p:cNvSpPr/>
              <p:nvPr/>
            </p:nvSpPr>
            <p:spPr>
              <a:xfrm>
                <a:off x="4733280" y="418392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2" name="组合 154"/>
            <p:cNvGrpSpPr/>
            <p:nvPr/>
          </p:nvGrpSpPr>
          <p:grpSpPr>
            <a:xfrm>
              <a:off x="4593600" y="4173120"/>
              <a:ext cx="51840" cy="51840"/>
              <a:chOff x="4593600" y="4173120"/>
              <a:chExt cx="51840" cy="51840"/>
            </a:xfrm>
          </p:grpSpPr>
          <p:sp>
            <p:nvSpPr>
              <p:cNvPr id="1443" name="椭圆 626"/>
              <p:cNvSpPr/>
              <p:nvPr/>
            </p:nvSpPr>
            <p:spPr>
              <a:xfrm>
                <a:off x="4593600" y="417312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椭圆 627"/>
              <p:cNvSpPr/>
              <p:nvPr/>
            </p:nvSpPr>
            <p:spPr>
              <a:xfrm>
                <a:off x="4603320" y="4183920"/>
                <a:ext cx="3240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组合 155"/>
            <p:cNvGrpSpPr/>
            <p:nvPr/>
          </p:nvGrpSpPr>
          <p:grpSpPr>
            <a:xfrm>
              <a:off x="4464720" y="4173120"/>
              <a:ext cx="51840" cy="51840"/>
              <a:chOff x="4464720" y="4173120"/>
              <a:chExt cx="51840" cy="51840"/>
            </a:xfrm>
          </p:grpSpPr>
          <p:sp>
            <p:nvSpPr>
              <p:cNvPr id="1446" name="椭圆 624"/>
              <p:cNvSpPr/>
              <p:nvPr/>
            </p:nvSpPr>
            <p:spPr>
              <a:xfrm>
                <a:off x="4464720" y="417312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椭圆 625"/>
              <p:cNvSpPr/>
              <p:nvPr/>
            </p:nvSpPr>
            <p:spPr>
              <a:xfrm>
                <a:off x="4475520" y="418392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8" name="矩形 156"/>
            <p:cNvSpPr/>
            <p:nvPr/>
          </p:nvSpPr>
          <p:spPr>
            <a:xfrm>
              <a:off x="4451400" y="4109760"/>
              <a:ext cx="82440" cy="63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矩形 157"/>
            <p:cNvSpPr/>
            <p:nvPr/>
          </p:nvSpPr>
          <p:spPr>
            <a:xfrm>
              <a:off x="4578480" y="4109760"/>
              <a:ext cx="82440" cy="63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矩形 158"/>
            <p:cNvSpPr/>
            <p:nvPr/>
          </p:nvSpPr>
          <p:spPr>
            <a:xfrm>
              <a:off x="4705560" y="4109760"/>
              <a:ext cx="82440" cy="63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组合 159"/>
            <p:cNvGrpSpPr/>
            <p:nvPr/>
          </p:nvGrpSpPr>
          <p:grpSpPr>
            <a:xfrm>
              <a:off x="4722480" y="4116600"/>
              <a:ext cx="51840" cy="51840"/>
              <a:chOff x="4722480" y="4116600"/>
              <a:chExt cx="51840" cy="51840"/>
            </a:xfrm>
          </p:grpSpPr>
          <p:sp>
            <p:nvSpPr>
              <p:cNvPr id="1452" name="椭圆 622"/>
              <p:cNvSpPr/>
              <p:nvPr/>
            </p:nvSpPr>
            <p:spPr>
              <a:xfrm>
                <a:off x="4722480" y="411660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椭圆 623"/>
              <p:cNvSpPr/>
              <p:nvPr/>
            </p:nvSpPr>
            <p:spPr>
              <a:xfrm>
                <a:off x="4733280" y="412740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组合 160"/>
            <p:cNvGrpSpPr/>
            <p:nvPr/>
          </p:nvGrpSpPr>
          <p:grpSpPr>
            <a:xfrm>
              <a:off x="4593600" y="4116600"/>
              <a:ext cx="51840" cy="51840"/>
              <a:chOff x="4593600" y="4116600"/>
              <a:chExt cx="51840" cy="51840"/>
            </a:xfrm>
          </p:grpSpPr>
          <p:sp>
            <p:nvSpPr>
              <p:cNvPr id="1455" name="椭圆 620"/>
              <p:cNvSpPr/>
              <p:nvPr/>
            </p:nvSpPr>
            <p:spPr>
              <a:xfrm>
                <a:off x="4593600" y="411660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椭圆 621"/>
              <p:cNvSpPr/>
              <p:nvPr/>
            </p:nvSpPr>
            <p:spPr>
              <a:xfrm>
                <a:off x="4603320" y="4127400"/>
                <a:ext cx="3240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7" name="组合 161"/>
            <p:cNvGrpSpPr/>
            <p:nvPr/>
          </p:nvGrpSpPr>
          <p:grpSpPr>
            <a:xfrm>
              <a:off x="4464720" y="4116600"/>
              <a:ext cx="51840" cy="51840"/>
              <a:chOff x="4464720" y="4116600"/>
              <a:chExt cx="51840" cy="51840"/>
            </a:xfrm>
          </p:grpSpPr>
          <p:sp>
            <p:nvSpPr>
              <p:cNvPr id="1458" name="椭圆 618"/>
              <p:cNvSpPr/>
              <p:nvPr/>
            </p:nvSpPr>
            <p:spPr>
              <a:xfrm>
                <a:off x="4464720" y="411660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椭圆 619"/>
              <p:cNvSpPr/>
              <p:nvPr/>
            </p:nvSpPr>
            <p:spPr>
              <a:xfrm>
                <a:off x="4475520" y="412740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0" name="矩形 162"/>
            <p:cNvSpPr/>
            <p:nvPr/>
          </p:nvSpPr>
          <p:spPr>
            <a:xfrm>
              <a:off x="4465800" y="4363920"/>
              <a:ext cx="42840" cy="4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矩形 163"/>
            <p:cNvSpPr/>
            <p:nvPr/>
          </p:nvSpPr>
          <p:spPr>
            <a:xfrm>
              <a:off x="4578480" y="4363920"/>
              <a:ext cx="41040" cy="4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矩形 164"/>
            <p:cNvSpPr/>
            <p:nvPr/>
          </p:nvSpPr>
          <p:spPr>
            <a:xfrm>
              <a:off x="4957920" y="4173480"/>
              <a:ext cx="83880" cy="63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3" name="组合 165"/>
            <p:cNvGrpSpPr/>
            <p:nvPr/>
          </p:nvGrpSpPr>
          <p:grpSpPr>
            <a:xfrm>
              <a:off x="4976280" y="4173120"/>
              <a:ext cx="51840" cy="51840"/>
              <a:chOff x="4976280" y="4173120"/>
              <a:chExt cx="51840" cy="51840"/>
            </a:xfrm>
          </p:grpSpPr>
          <p:sp>
            <p:nvSpPr>
              <p:cNvPr id="1464" name="椭圆 616"/>
              <p:cNvSpPr/>
              <p:nvPr/>
            </p:nvSpPr>
            <p:spPr>
              <a:xfrm>
                <a:off x="4976280" y="417312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椭圆 617"/>
              <p:cNvSpPr/>
              <p:nvPr/>
            </p:nvSpPr>
            <p:spPr>
              <a:xfrm>
                <a:off x="4987080" y="418392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矩形 166"/>
            <p:cNvSpPr/>
            <p:nvPr/>
          </p:nvSpPr>
          <p:spPr>
            <a:xfrm>
              <a:off x="4957920" y="4109760"/>
              <a:ext cx="83880" cy="63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7" name="组合 167"/>
            <p:cNvGrpSpPr/>
            <p:nvPr/>
          </p:nvGrpSpPr>
          <p:grpSpPr>
            <a:xfrm>
              <a:off x="4976280" y="4116600"/>
              <a:ext cx="51840" cy="51840"/>
              <a:chOff x="4976280" y="4116600"/>
              <a:chExt cx="51840" cy="51840"/>
            </a:xfrm>
          </p:grpSpPr>
          <p:sp>
            <p:nvSpPr>
              <p:cNvPr id="1468" name="椭圆 614"/>
              <p:cNvSpPr/>
              <p:nvPr/>
            </p:nvSpPr>
            <p:spPr>
              <a:xfrm>
                <a:off x="4976280" y="411660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椭圆 615"/>
              <p:cNvSpPr/>
              <p:nvPr/>
            </p:nvSpPr>
            <p:spPr>
              <a:xfrm>
                <a:off x="4987080" y="412740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0" name="矩形 168"/>
            <p:cNvSpPr/>
            <p:nvPr/>
          </p:nvSpPr>
          <p:spPr>
            <a:xfrm>
              <a:off x="5200920" y="4173480"/>
              <a:ext cx="83880" cy="63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1" name="组合 242"/>
            <p:cNvGrpSpPr/>
            <p:nvPr/>
          </p:nvGrpSpPr>
          <p:grpSpPr>
            <a:xfrm>
              <a:off x="5218920" y="4173120"/>
              <a:ext cx="51840" cy="51840"/>
              <a:chOff x="5218920" y="4173120"/>
              <a:chExt cx="51840" cy="51840"/>
            </a:xfrm>
          </p:grpSpPr>
          <p:sp>
            <p:nvSpPr>
              <p:cNvPr id="1472" name="椭圆 612"/>
              <p:cNvSpPr/>
              <p:nvPr/>
            </p:nvSpPr>
            <p:spPr>
              <a:xfrm>
                <a:off x="5218920" y="417312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椭圆 613"/>
              <p:cNvSpPr/>
              <p:nvPr/>
            </p:nvSpPr>
            <p:spPr>
              <a:xfrm>
                <a:off x="5229720" y="418392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4" name="矩形 170"/>
            <p:cNvSpPr/>
            <p:nvPr/>
          </p:nvSpPr>
          <p:spPr>
            <a:xfrm>
              <a:off x="5200920" y="4109760"/>
              <a:ext cx="83880" cy="63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5" name="组合 246"/>
            <p:cNvGrpSpPr/>
            <p:nvPr/>
          </p:nvGrpSpPr>
          <p:grpSpPr>
            <a:xfrm>
              <a:off x="5218920" y="4116600"/>
              <a:ext cx="51840" cy="51840"/>
              <a:chOff x="5218920" y="4116600"/>
              <a:chExt cx="51840" cy="51840"/>
            </a:xfrm>
          </p:grpSpPr>
          <p:sp>
            <p:nvSpPr>
              <p:cNvPr id="1476" name="椭圆 610"/>
              <p:cNvSpPr/>
              <p:nvPr/>
            </p:nvSpPr>
            <p:spPr>
              <a:xfrm>
                <a:off x="5218920" y="411660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椭圆 611"/>
              <p:cNvSpPr/>
              <p:nvPr/>
            </p:nvSpPr>
            <p:spPr>
              <a:xfrm>
                <a:off x="5229720" y="412740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8" name="组合 172"/>
            <p:cNvGrpSpPr/>
            <p:nvPr/>
          </p:nvGrpSpPr>
          <p:grpSpPr>
            <a:xfrm>
              <a:off x="5096880" y="4121280"/>
              <a:ext cx="51840" cy="51840"/>
              <a:chOff x="5096880" y="4121280"/>
              <a:chExt cx="51840" cy="51840"/>
            </a:xfrm>
          </p:grpSpPr>
          <p:sp>
            <p:nvSpPr>
              <p:cNvPr id="1479" name="椭圆 608"/>
              <p:cNvSpPr/>
              <p:nvPr/>
            </p:nvSpPr>
            <p:spPr>
              <a:xfrm>
                <a:off x="5096880" y="412128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椭圆 609"/>
              <p:cNvSpPr/>
              <p:nvPr/>
            </p:nvSpPr>
            <p:spPr>
              <a:xfrm>
                <a:off x="5106600" y="4132080"/>
                <a:ext cx="3240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1" name="组合 173"/>
            <p:cNvGrpSpPr/>
            <p:nvPr/>
          </p:nvGrpSpPr>
          <p:grpSpPr>
            <a:xfrm>
              <a:off x="4810680" y="4026960"/>
              <a:ext cx="124920" cy="124920"/>
              <a:chOff x="4810680" y="4026960"/>
              <a:chExt cx="124920" cy="124920"/>
            </a:xfrm>
          </p:grpSpPr>
          <p:sp>
            <p:nvSpPr>
              <p:cNvPr id="1482" name="矩形 604"/>
              <p:cNvSpPr/>
              <p:nvPr/>
            </p:nvSpPr>
            <p:spPr>
              <a:xfrm>
                <a:off x="4811040" y="4030560"/>
                <a:ext cx="122400" cy="1170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3" name="组合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10680" y="4026960"/>
                <a:ext cx="124920" cy="12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4" name="组合 174"/>
            <p:cNvGrpSpPr/>
            <p:nvPr/>
          </p:nvGrpSpPr>
          <p:grpSpPr>
            <a:xfrm>
              <a:off x="5058720" y="4174920"/>
              <a:ext cx="124920" cy="124920"/>
              <a:chOff x="5058720" y="4174920"/>
              <a:chExt cx="124920" cy="124920"/>
            </a:xfrm>
          </p:grpSpPr>
          <p:sp>
            <p:nvSpPr>
              <p:cNvPr id="1485" name="矩形 600"/>
              <p:cNvSpPr/>
              <p:nvPr/>
            </p:nvSpPr>
            <p:spPr>
              <a:xfrm>
                <a:off x="5063760" y="4179960"/>
                <a:ext cx="115560" cy="1170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6" name="组合 7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058720" y="4174920"/>
                <a:ext cx="124920" cy="12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7" name="组合 175"/>
            <p:cNvGrpSpPr/>
            <p:nvPr/>
          </p:nvGrpSpPr>
          <p:grpSpPr>
            <a:xfrm>
              <a:off x="5140080" y="4068720"/>
              <a:ext cx="83160" cy="83160"/>
              <a:chOff x="5140080" y="4068720"/>
              <a:chExt cx="83160" cy="83160"/>
            </a:xfrm>
          </p:grpSpPr>
          <p:sp>
            <p:nvSpPr>
              <p:cNvPr id="1488" name="椭圆 597"/>
              <p:cNvSpPr/>
              <p:nvPr/>
            </p:nvSpPr>
            <p:spPr>
              <a:xfrm>
                <a:off x="5140080" y="4068720"/>
                <a:ext cx="83160" cy="8316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矩形 598"/>
              <p:cNvSpPr/>
              <p:nvPr/>
            </p:nvSpPr>
            <p:spPr>
              <a:xfrm rot="1320000">
                <a:off x="5155560" y="4084200"/>
                <a:ext cx="51120" cy="518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椭圆 599"/>
              <p:cNvSpPr/>
              <p:nvPr/>
            </p:nvSpPr>
            <p:spPr>
              <a:xfrm>
                <a:off x="5165640" y="4095360"/>
                <a:ext cx="32040" cy="2988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1" name="矩形 176"/>
            <p:cNvSpPr/>
            <p:nvPr/>
          </p:nvSpPr>
          <p:spPr>
            <a:xfrm>
              <a:off x="4789440" y="4146480"/>
              <a:ext cx="168120" cy="2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矩形 177"/>
            <p:cNvSpPr/>
            <p:nvPr/>
          </p:nvSpPr>
          <p:spPr>
            <a:xfrm>
              <a:off x="4810320" y="4173480"/>
              <a:ext cx="126720" cy="14760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矩形 178"/>
            <p:cNvSpPr/>
            <p:nvPr/>
          </p:nvSpPr>
          <p:spPr>
            <a:xfrm rot="5400000">
              <a:off x="4713840" y="4255200"/>
              <a:ext cx="190440" cy="2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矩形 179"/>
            <p:cNvSpPr/>
            <p:nvPr/>
          </p:nvSpPr>
          <p:spPr>
            <a:xfrm rot="5400000">
              <a:off x="4839120" y="4255200"/>
              <a:ext cx="190440" cy="2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矩形 180"/>
            <p:cNvSpPr/>
            <p:nvPr/>
          </p:nvSpPr>
          <p:spPr>
            <a:xfrm>
              <a:off x="4810320" y="4316400"/>
              <a:ext cx="126720" cy="25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6" name="圆角矩形 181"/>
            <p:cNvGrpSpPr/>
            <p:nvPr/>
          </p:nvGrpSpPr>
          <p:grpSpPr>
            <a:xfrm>
              <a:off x="4821840" y="4267080"/>
              <a:ext cx="97200" cy="54720"/>
              <a:chOff x="4821840" y="4267080"/>
              <a:chExt cx="97200" cy="54720"/>
            </a:xfrm>
          </p:grpSpPr>
          <p:pic>
            <p:nvPicPr>
              <p:cNvPr id="1497" name="圆角矩形 181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21840" y="4267080"/>
                <a:ext cx="97200" cy="5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8" name=""/>
              <p:cNvSpPr/>
              <p:nvPr/>
            </p:nvSpPr>
            <p:spPr>
              <a:xfrm>
                <a:off x="4831200" y="4272840"/>
                <a:ext cx="80280" cy="3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9" name="椭圆 182"/>
            <p:cNvSpPr/>
            <p:nvPr/>
          </p:nvSpPr>
          <p:spPr>
            <a:xfrm>
              <a:off x="4460760" y="3855960"/>
              <a:ext cx="489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0" name="组合 183"/>
            <p:cNvGrpSpPr/>
            <p:nvPr/>
          </p:nvGrpSpPr>
          <p:grpSpPr>
            <a:xfrm>
              <a:off x="4471920" y="3877200"/>
              <a:ext cx="26640" cy="484200"/>
              <a:chOff x="4471920" y="3877200"/>
              <a:chExt cx="26640" cy="484200"/>
            </a:xfrm>
          </p:grpSpPr>
          <p:sp>
            <p:nvSpPr>
              <p:cNvPr id="1501" name="圆角矩形 595"/>
              <p:cNvSpPr/>
              <p:nvPr/>
            </p:nvSpPr>
            <p:spPr>
              <a:xfrm>
                <a:off x="4472280" y="3877200"/>
                <a:ext cx="26280" cy="63360"/>
              </a:xfrm>
              <a:custGeom>
                <a:avLst/>
                <a:gdLst>
                  <a:gd name="textAreaLeft" fmla="*/ 3600 w 26280"/>
                  <a:gd name="textAreaRight" fmla="*/ 22680 w 26280"/>
                  <a:gd name="textAreaTop" fmla="*/ 3600 h 63360"/>
                  <a:gd name="textAreaBottom" fmla="*/ 59760 h 63360"/>
                </a:gdLst>
                <a:ahLst/>
                <a:rect l="textAreaLeft" t="textAreaTop" r="textAreaRight" b="textAreaBottom"/>
                <a:pathLst>
                  <a:path w="21600" h="51665">
                    <a:moveTo>
                      <a:pt x="10524" y="0"/>
                    </a:moveTo>
                    <a:arcTo wR="10524" hR="10524" stAng="16200000" swAng="-5400000"/>
                    <a:lnTo>
                      <a:pt x="0" y="41141"/>
                    </a:lnTo>
                    <a:arcTo wR="10524" hR="10524" stAng="10800000" swAng="-5400000"/>
                    <a:lnTo>
                      <a:pt x="11076" y="51665"/>
                    </a:lnTo>
                    <a:arcTo wR="10524" hR="10524" stAng="5400000" swAng="-5400000"/>
                    <a:lnTo>
                      <a:pt x="21600" y="10524"/>
                    </a:lnTo>
                    <a:arcTo wR="10524" hR="10524" stAng="0" swAng="-5400000"/>
                    <a:close/>
                  </a:path>
                </a:pathLst>
              </a:cu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圆角矩形 596"/>
              <p:cNvSpPr/>
              <p:nvPr/>
            </p:nvSpPr>
            <p:spPr>
              <a:xfrm rot="10800000">
                <a:off x="4471920" y="3919680"/>
                <a:ext cx="26280" cy="441720"/>
              </a:xfrm>
              <a:custGeom>
                <a:avLst/>
                <a:gdLst/>
                <a:ahLst/>
                <a:rect l="l" t="t" r="r" b="b"/>
                <a:pathLst>
                  <a:path w="21600" h="358443">
                    <a:moveTo>
                      <a:pt x="81" y="0"/>
                    </a:moveTo>
                    <a:arcTo wR="81" hR="81" stAng="16200000" swAng="-5400000"/>
                    <a:lnTo>
                      <a:pt x="0" y="358362"/>
                    </a:lnTo>
                    <a:arcTo wR="81" hR="81" stAng="10800000" swAng="-5400000"/>
                    <a:lnTo>
                      <a:pt x="21519" y="358443"/>
                    </a:lnTo>
                    <a:arcTo wR="81" hR="81" stAng="5400000" swAng="-5400000"/>
                    <a:lnTo>
                      <a:pt x="21600" y="81"/>
                    </a:lnTo>
                    <a:arcTo wR="81" hR="81" stAng="0" swAng="-5400000"/>
                    <a:close/>
                  </a:path>
                </a:pathLst>
              </a:cu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3" name="椭圆 184"/>
            <p:cNvSpPr/>
            <p:nvPr/>
          </p:nvSpPr>
          <p:spPr>
            <a:xfrm>
              <a:off x="4575240" y="3855960"/>
              <a:ext cx="489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4" name="组合 185"/>
            <p:cNvGrpSpPr/>
            <p:nvPr/>
          </p:nvGrpSpPr>
          <p:grpSpPr>
            <a:xfrm>
              <a:off x="4585680" y="3877200"/>
              <a:ext cx="26640" cy="484200"/>
              <a:chOff x="4585680" y="3877200"/>
              <a:chExt cx="26640" cy="484200"/>
            </a:xfrm>
          </p:grpSpPr>
          <p:sp>
            <p:nvSpPr>
              <p:cNvPr id="1505" name="圆角矩形 287"/>
              <p:cNvSpPr/>
              <p:nvPr/>
            </p:nvSpPr>
            <p:spPr>
              <a:xfrm>
                <a:off x="4586040" y="3877200"/>
                <a:ext cx="26280" cy="63360"/>
              </a:xfrm>
              <a:custGeom>
                <a:avLst/>
                <a:gdLst>
                  <a:gd name="textAreaLeft" fmla="*/ 3600 w 26280"/>
                  <a:gd name="textAreaRight" fmla="*/ 22680 w 26280"/>
                  <a:gd name="textAreaTop" fmla="*/ 3600 h 63360"/>
                  <a:gd name="textAreaBottom" fmla="*/ 59760 h 63360"/>
                </a:gdLst>
                <a:ahLst/>
                <a:rect l="textAreaLeft" t="textAreaTop" r="textAreaRight" b="textAreaBottom"/>
                <a:pathLst>
                  <a:path w="21600" h="51665">
                    <a:moveTo>
                      <a:pt x="10524" y="0"/>
                    </a:moveTo>
                    <a:arcTo wR="10524" hR="10524" stAng="16200000" swAng="-5400000"/>
                    <a:lnTo>
                      <a:pt x="0" y="41141"/>
                    </a:lnTo>
                    <a:arcTo wR="10524" hR="10524" stAng="10800000" swAng="-5400000"/>
                    <a:lnTo>
                      <a:pt x="11076" y="51665"/>
                    </a:lnTo>
                    <a:arcTo wR="10524" hR="10524" stAng="5400000" swAng="-5400000"/>
                    <a:lnTo>
                      <a:pt x="21600" y="10524"/>
                    </a:lnTo>
                    <a:arcTo wR="10524" hR="10524" stAng="0" swAng="-5400000"/>
                    <a:close/>
                  </a:path>
                </a:pathLst>
              </a:cu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圆角矩形 594"/>
              <p:cNvSpPr/>
              <p:nvPr/>
            </p:nvSpPr>
            <p:spPr>
              <a:xfrm rot="10800000">
                <a:off x="4585680" y="3919680"/>
                <a:ext cx="26280" cy="441720"/>
              </a:xfrm>
              <a:custGeom>
                <a:avLst/>
                <a:gdLst/>
                <a:ahLst/>
                <a:rect l="l" t="t" r="r" b="b"/>
                <a:pathLst>
                  <a:path w="21600" h="358443">
                    <a:moveTo>
                      <a:pt x="81" y="0"/>
                    </a:moveTo>
                    <a:arcTo wR="81" hR="81" stAng="16200000" swAng="-5400000"/>
                    <a:lnTo>
                      <a:pt x="0" y="358362"/>
                    </a:lnTo>
                    <a:arcTo wR="81" hR="81" stAng="10800000" swAng="-5400000"/>
                    <a:lnTo>
                      <a:pt x="21519" y="358443"/>
                    </a:lnTo>
                    <a:arcTo wR="81" hR="81" stAng="5400000" swAng="-5400000"/>
                    <a:lnTo>
                      <a:pt x="21600" y="81"/>
                    </a:lnTo>
                    <a:arcTo wR="81" hR="81" stAng="0" swAng="-5400000"/>
                    <a:close/>
                  </a:path>
                </a:pathLst>
              </a:cu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7" name="矩形 186"/>
            <p:cNvSpPr/>
            <p:nvPr/>
          </p:nvSpPr>
          <p:spPr>
            <a:xfrm>
              <a:off x="5040360" y="4300560"/>
              <a:ext cx="168120" cy="2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矩形 187"/>
            <p:cNvSpPr/>
            <p:nvPr/>
          </p:nvSpPr>
          <p:spPr>
            <a:xfrm rot="5400000">
              <a:off x="5034960" y="4342680"/>
              <a:ext cx="56880" cy="2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矩形 188"/>
            <p:cNvSpPr/>
            <p:nvPr/>
          </p:nvSpPr>
          <p:spPr>
            <a:xfrm rot="5400000">
              <a:off x="5156280" y="4343400"/>
              <a:ext cx="56880" cy="25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矩形 189"/>
            <p:cNvSpPr/>
            <p:nvPr/>
          </p:nvSpPr>
          <p:spPr>
            <a:xfrm rot="16200000">
              <a:off x="2667960" y="3470040"/>
              <a:ext cx="147600" cy="8334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矩形 190"/>
            <p:cNvSpPr/>
            <p:nvPr/>
          </p:nvSpPr>
          <p:spPr>
            <a:xfrm rot="16200000">
              <a:off x="3582720" y="3368520"/>
              <a:ext cx="147600" cy="10364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矩形 191"/>
            <p:cNvSpPr/>
            <p:nvPr/>
          </p:nvSpPr>
          <p:spPr>
            <a:xfrm>
              <a:off x="3954240" y="4171680"/>
              <a:ext cx="82440" cy="63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矩形 192"/>
            <p:cNvSpPr/>
            <p:nvPr/>
          </p:nvSpPr>
          <p:spPr>
            <a:xfrm>
              <a:off x="3421080" y="4171680"/>
              <a:ext cx="82440" cy="63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4" name="矩形 193"/>
            <p:cNvGrpSpPr/>
            <p:nvPr/>
          </p:nvGrpSpPr>
          <p:grpSpPr>
            <a:xfrm>
              <a:off x="3230640" y="4230360"/>
              <a:ext cx="853560" cy="182880"/>
              <a:chOff x="3230640" y="4230360"/>
              <a:chExt cx="853560" cy="182880"/>
            </a:xfrm>
          </p:grpSpPr>
          <p:pic>
            <p:nvPicPr>
              <p:cNvPr id="1515" name="矩形 193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30640" y="4230360"/>
                <a:ext cx="853560" cy="18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6" name=""/>
              <p:cNvSpPr/>
              <p:nvPr/>
            </p:nvSpPr>
            <p:spPr>
              <a:xfrm rot="16200000">
                <a:off x="3571200" y="3898440"/>
                <a:ext cx="168120" cy="84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7" name="矩形 194"/>
            <p:cNvSpPr/>
            <p:nvPr/>
          </p:nvSpPr>
          <p:spPr>
            <a:xfrm>
              <a:off x="4060800" y="3727080"/>
              <a:ext cx="104760" cy="27100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矩形 195"/>
            <p:cNvSpPr/>
            <p:nvPr/>
          </p:nvSpPr>
          <p:spPr>
            <a:xfrm rot="16200000">
              <a:off x="3145320" y="2718000"/>
              <a:ext cx="104760" cy="20844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椭圆 196"/>
            <p:cNvSpPr/>
            <p:nvPr/>
          </p:nvSpPr>
          <p:spPr>
            <a:xfrm>
              <a:off x="3400200" y="4289400"/>
              <a:ext cx="56880" cy="5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0" name="组合 197"/>
            <p:cNvGrpSpPr/>
            <p:nvPr/>
          </p:nvGrpSpPr>
          <p:grpSpPr>
            <a:xfrm>
              <a:off x="3426840" y="4235400"/>
              <a:ext cx="49680" cy="49680"/>
              <a:chOff x="3426840" y="4235400"/>
              <a:chExt cx="49680" cy="49680"/>
            </a:xfrm>
          </p:grpSpPr>
          <p:sp>
            <p:nvSpPr>
              <p:cNvPr id="1521" name="椭圆 591"/>
              <p:cNvSpPr/>
              <p:nvPr/>
            </p:nvSpPr>
            <p:spPr>
              <a:xfrm>
                <a:off x="3426840" y="4235400"/>
                <a:ext cx="49680" cy="49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椭圆 592"/>
              <p:cNvSpPr/>
              <p:nvPr/>
            </p:nvSpPr>
            <p:spPr>
              <a:xfrm>
                <a:off x="3439440" y="4248000"/>
                <a:ext cx="24120" cy="2412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3" name="组合 198"/>
            <p:cNvGrpSpPr/>
            <p:nvPr/>
          </p:nvGrpSpPr>
          <p:grpSpPr>
            <a:xfrm>
              <a:off x="3606840" y="4290840"/>
              <a:ext cx="49680" cy="49680"/>
              <a:chOff x="3606840" y="4290840"/>
              <a:chExt cx="49680" cy="49680"/>
            </a:xfrm>
          </p:grpSpPr>
          <p:sp>
            <p:nvSpPr>
              <p:cNvPr id="1524" name="椭圆 589"/>
              <p:cNvSpPr/>
              <p:nvPr/>
            </p:nvSpPr>
            <p:spPr>
              <a:xfrm>
                <a:off x="3606840" y="4290840"/>
                <a:ext cx="49680" cy="49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椭圆 590"/>
              <p:cNvSpPr/>
              <p:nvPr/>
            </p:nvSpPr>
            <p:spPr>
              <a:xfrm>
                <a:off x="3619080" y="4303080"/>
                <a:ext cx="24840" cy="24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6" name="直接连接符 199"/>
            <p:cNvSpPr/>
            <p:nvPr/>
          </p:nvSpPr>
          <p:spPr>
            <a:xfrm flipV="1">
              <a:off x="3429000" y="4298760"/>
              <a:ext cx="18072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7" name="组合 200"/>
            <p:cNvGrpSpPr/>
            <p:nvPr/>
          </p:nvGrpSpPr>
          <p:grpSpPr>
            <a:xfrm>
              <a:off x="4145760" y="4231080"/>
              <a:ext cx="49680" cy="49680"/>
              <a:chOff x="4145760" y="4231080"/>
              <a:chExt cx="49680" cy="49680"/>
            </a:xfrm>
          </p:grpSpPr>
          <p:sp>
            <p:nvSpPr>
              <p:cNvPr id="1528" name="椭圆 587"/>
              <p:cNvSpPr/>
              <p:nvPr/>
            </p:nvSpPr>
            <p:spPr>
              <a:xfrm>
                <a:off x="4145760" y="4231080"/>
                <a:ext cx="49680" cy="49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椭圆 588"/>
              <p:cNvSpPr/>
              <p:nvPr/>
            </p:nvSpPr>
            <p:spPr>
              <a:xfrm>
                <a:off x="4158360" y="4243320"/>
                <a:ext cx="24120" cy="24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直接连接符 201"/>
            <p:cNvSpPr/>
            <p:nvPr/>
          </p:nvSpPr>
          <p:spPr>
            <a:xfrm flipV="1">
              <a:off x="3631320" y="4281480"/>
              <a:ext cx="5382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直接连接符 202"/>
            <p:cNvSpPr/>
            <p:nvPr/>
          </p:nvSpPr>
          <p:spPr>
            <a:xfrm flipV="1">
              <a:off x="3428280" y="4284000"/>
              <a:ext cx="219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直接连接符 203"/>
            <p:cNvSpPr/>
            <p:nvPr/>
          </p:nvSpPr>
          <p:spPr>
            <a:xfrm flipV="1">
              <a:off x="2869200" y="4242960"/>
              <a:ext cx="563400" cy="45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3" name="组合 204"/>
            <p:cNvGrpSpPr/>
            <p:nvPr/>
          </p:nvGrpSpPr>
          <p:grpSpPr>
            <a:xfrm>
              <a:off x="3971880" y="4171680"/>
              <a:ext cx="51840" cy="51840"/>
              <a:chOff x="3971880" y="4171680"/>
              <a:chExt cx="51840" cy="51840"/>
            </a:xfrm>
          </p:grpSpPr>
          <p:sp>
            <p:nvSpPr>
              <p:cNvPr id="1534" name="椭圆 585"/>
              <p:cNvSpPr/>
              <p:nvPr/>
            </p:nvSpPr>
            <p:spPr>
              <a:xfrm>
                <a:off x="3971880" y="417168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椭圆 586"/>
              <p:cNvSpPr/>
              <p:nvPr/>
            </p:nvSpPr>
            <p:spPr>
              <a:xfrm>
                <a:off x="3982680" y="418248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组合 205"/>
            <p:cNvGrpSpPr/>
            <p:nvPr/>
          </p:nvGrpSpPr>
          <p:grpSpPr>
            <a:xfrm>
              <a:off x="3593520" y="4171680"/>
              <a:ext cx="51840" cy="51840"/>
              <a:chOff x="3593520" y="4171680"/>
              <a:chExt cx="51840" cy="51840"/>
            </a:xfrm>
          </p:grpSpPr>
          <p:sp>
            <p:nvSpPr>
              <p:cNvPr id="1537" name="椭圆 583"/>
              <p:cNvSpPr/>
              <p:nvPr/>
            </p:nvSpPr>
            <p:spPr>
              <a:xfrm>
                <a:off x="3593520" y="4171680"/>
                <a:ext cx="51840" cy="51840"/>
              </a:xfrm>
              <a:prstGeom prst="ellipse">
                <a:avLst/>
              </a:prstGeom>
              <a:solidFill>
                <a:srgbClr val="7f7f7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椭圆 584"/>
              <p:cNvSpPr/>
              <p:nvPr/>
            </p:nvSpPr>
            <p:spPr>
              <a:xfrm>
                <a:off x="3603240" y="4182480"/>
                <a:ext cx="3240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9" name="组合 206"/>
            <p:cNvGrpSpPr/>
            <p:nvPr/>
          </p:nvGrpSpPr>
          <p:grpSpPr>
            <a:xfrm>
              <a:off x="3846960" y="4173120"/>
              <a:ext cx="51840" cy="51840"/>
              <a:chOff x="3846960" y="4173120"/>
              <a:chExt cx="51840" cy="51840"/>
            </a:xfrm>
          </p:grpSpPr>
          <p:sp>
            <p:nvSpPr>
              <p:cNvPr id="1540" name="椭圆 581"/>
              <p:cNvSpPr/>
              <p:nvPr/>
            </p:nvSpPr>
            <p:spPr>
              <a:xfrm>
                <a:off x="3846960" y="4173120"/>
                <a:ext cx="51840" cy="51840"/>
              </a:xfrm>
              <a:prstGeom prst="ellipse">
                <a:avLst/>
              </a:prstGeom>
              <a:solidFill>
                <a:srgbClr val="7f7f7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椭圆 582"/>
              <p:cNvSpPr/>
              <p:nvPr/>
            </p:nvSpPr>
            <p:spPr>
              <a:xfrm>
                <a:off x="3857760" y="418392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2" name="椭圆 207"/>
            <p:cNvSpPr/>
            <p:nvPr/>
          </p:nvSpPr>
          <p:spPr>
            <a:xfrm>
              <a:off x="3525840" y="4186080"/>
              <a:ext cx="25200" cy="2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椭圆 208"/>
            <p:cNvSpPr/>
            <p:nvPr/>
          </p:nvSpPr>
          <p:spPr>
            <a:xfrm>
              <a:off x="3797280" y="4186080"/>
              <a:ext cx="25200" cy="2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椭圆 209"/>
            <p:cNvSpPr/>
            <p:nvPr/>
          </p:nvSpPr>
          <p:spPr>
            <a:xfrm>
              <a:off x="4048200" y="4186080"/>
              <a:ext cx="25200" cy="2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5" name="组合 210"/>
            <p:cNvGrpSpPr/>
            <p:nvPr/>
          </p:nvGrpSpPr>
          <p:grpSpPr>
            <a:xfrm>
              <a:off x="2172960" y="3902760"/>
              <a:ext cx="37440" cy="120600"/>
              <a:chOff x="2172960" y="3902760"/>
              <a:chExt cx="37440" cy="120600"/>
            </a:xfrm>
          </p:grpSpPr>
          <p:sp>
            <p:nvSpPr>
              <p:cNvPr id="1546" name="矩形 579"/>
              <p:cNvSpPr/>
              <p:nvPr/>
            </p:nvSpPr>
            <p:spPr>
              <a:xfrm>
                <a:off x="2172960" y="3902760"/>
                <a:ext cx="37440" cy="120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矩形 580"/>
              <p:cNvSpPr/>
              <p:nvPr/>
            </p:nvSpPr>
            <p:spPr>
              <a:xfrm>
                <a:off x="2179080" y="3929760"/>
                <a:ext cx="2520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8" name="直接连接符 211"/>
            <p:cNvSpPr/>
            <p:nvPr/>
          </p:nvSpPr>
          <p:spPr>
            <a:xfrm flipV="1">
              <a:off x="3251160" y="4171320"/>
              <a:ext cx="7272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9" name="组合 212"/>
            <p:cNvGrpSpPr/>
            <p:nvPr/>
          </p:nvGrpSpPr>
          <p:grpSpPr>
            <a:xfrm>
              <a:off x="3297240" y="4171680"/>
              <a:ext cx="51840" cy="51840"/>
              <a:chOff x="3297240" y="4171680"/>
              <a:chExt cx="51840" cy="51840"/>
            </a:xfrm>
          </p:grpSpPr>
          <p:sp>
            <p:nvSpPr>
              <p:cNvPr id="1550" name="椭圆 577"/>
              <p:cNvSpPr/>
              <p:nvPr/>
            </p:nvSpPr>
            <p:spPr>
              <a:xfrm>
                <a:off x="3297240" y="4171680"/>
                <a:ext cx="51840" cy="51840"/>
              </a:xfrm>
              <a:prstGeom prst="ellipse">
                <a:avLst/>
              </a:prstGeom>
              <a:solidFill>
                <a:srgbClr val="7f7f7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椭圆 578"/>
              <p:cNvSpPr/>
              <p:nvPr/>
            </p:nvSpPr>
            <p:spPr>
              <a:xfrm>
                <a:off x="3308040" y="418248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2" name="组合 213"/>
            <p:cNvGrpSpPr/>
            <p:nvPr/>
          </p:nvGrpSpPr>
          <p:grpSpPr>
            <a:xfrm>
              <a:off x="4111200" y="4171680"/>
              <a:ext cx="51840" cy="51840"/>
              <a:chOff x="4111200" y="4171680"/>
              <a:chExt cx="51840" cy="51840"/>
            </a:xfrm>
          </p:grpSpPr>
          <p:sp>
            <p:nvSpPr>
              <p:cNvPr id="1553" name="椭圆 575"/>
              <p:cNvSpPr/>
              <p:nvPr/>
            </p:nvSpPr>
            <p:spPr>
              <a:xfrm>
                <a:off x="4111200" y="4171680"/>
                <a:ext cx="51840" cy="51840"/>
              </a:xfrm>
              <a:prstGeom prst="ellipse">
                <a:avLst/>
              </a:prstGeom>
              <a:solidFill>
                <a:srgbClr val="7f7f7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椭圆 576"/>
              <p:cNvSpPr/>
              <p:nvPr/>
            </p:nvSpPr>
            <p:spPr>
              <a:xfrm>
                <a:off x="4122000" y="418248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5" name="直接连接符 214"/>
            <p:cNvSpPr/>
            <p:nvPr/>
          </p:nvSpPr>
          <p:spPr>
            <a:xfrm>
              <a:off x="3764880" y="4181400"/>
              <a:ext cx="3492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直接连接符 215"/>
            <p:cNvSpPr/>
            <p:nvPr/>
          </p:nvSpPr>
          <p:spPr>
            <a:xfrm>
              <a:off x="3477960" y="4179600"/>
              <a:ext cx="52200" cy="28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直接连接符 216"/>
            <p:cNvSpPr/>
            <p:nvPr/>
          </p:nvSpPr>
          <p:spPr>
            <a:xfrm flipV="1">
              <a:off x="3547800" y="4179240"/>
              <a:ext cx="48960" cy="28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直接连接符 217"/>
            <p:cNvSpPr/>
            <p:nvPr/>
          </p:nvSpPr>
          <p:spPr>
            <a:xfrm flipV="1">
              <a:off x="3873600" y="417168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直接连接符 218"/>
            <p:cNvSpPr/>
            <p:nvPr/>
          </p:nvSpPr>
          <p:spPr>
            <a:xfrm>
              <a:off x="4015440" y="4179600"/>
              <a:ext cx="34920" cy="28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直接连接符 219"/>
            <p:cNvSpPr/>
            <p:nvPr/>
          </p:nvSpPr>
          <p:spPr>
            <a:xfrm flipV="1">
              <a:off x="4068000" y="4179240"/>
              <a:ext cx="50760" cy="28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直接连接符 220"/>
            <p:cNvSpPr/>
            <p:nvPr/>
          </p:nvSpPr>
          <p:spPr>
            <a:xfrm>
              <a:off x="4164120" y="4197240"/>
              <a:ext cx="23760" cy="4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2" name="组合 221"/>
            <p:cNvGrpSpPr/>
            <p:nvPr/>
          </p:nvGrpSpPr>
          <p:grpSpPr>
            <a:xfrm>
              <a:off x="3085920" y="4364280"/>
              <a:ext cx="49680" cy="49680"/>
              <a:chOff x="3085920" y="4364280"/>
              <a:chExt cx="49680" cy="49680"/>
            </a:xfrm>
          </p:grpSpPr>
          <p:sp>
            <p:nvSpPr>
              <p:cNvPr id="1563" name="椭圆 573"/>
              <p:cNvSpPr/>
              <p:nvPr/>
            </p:nvSpPr>
            <p:spPr>
              <a:xfrm>
                <a:off x="3085920" y="4364280"/>
                <a:ext cx="49680" cy="496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椭圆 574"/>
              <p:cNvSpPr/>
              <p:nvPr/>
            </p:nvSpPr>
            <p:spPr>
              <a:xfrm>
                <a:off x="3098520" y="4376520"/>
                <a:ext cx="24120" cy="24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5" name="组合 222"/>
            <p:cNvGrpSpPr/>
            <p:nvPr/>
          </p:nvGrpSpPr>
          <p:grpSpPr>
            <a:xfrm>
              <a:off x="3434040" y="4171680"/>
              <a:ext cx="51840" cy="51840"/>
              <a:chOff x="3434040" y="4171680"/>
              <a:chExt cx="51840" cy="51840"/>
            </a:xfrm>
          </p:grpSpPr>
          <p:sp>
            <p:nvSpPr>
              <p:cNvPr id="1566" name="椭圆 571"/>
              <p:cNvSpPr/>
              <p:nvPr/>
            </p:nvSpPr>
            <p:spPr>
              <a:xfrm>
                <a:off x="3434040" y="417168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椭圆 572"/>
              <p:cNvSpPr/>
              <p:nvPr/>
            </p:nvSpPr>
            <p:spPr>
              <a:xfrm>
                <a:off x="3444840" y="418248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8" name="直接连接符 223"/>
            <p:cNvSpPr/>
            <p:nvPr/>
          </p:nvSpPr>
          <p:spPr>
            <a:xfrm>
              <a:off x="3334320" y="4171680"/>
              <a:ext cx="128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矩形 224"/>
            <p:cNvSpPr/>
            <p:nvPr/>
          </p:nvSpPr>
          <p:spPr>
            <a:xfrm>
              <a:off x="3421080" y="4108320"/>
              <a:ext cx="82440" cy="63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矩形 225"/>
            <p:cNvSpPr/>
            <p:nvPr/>
          </p:nvSpPr>
          <p:spPr>
            <a:xfrm>
              <a:off x="3954240" y="4108320"/>
              <a:ext cx="82440" cy="63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1" name="组合 226"/>
            <p:cNvGrpSpPr/>
            <p:nvPr/>
          </p:nvGrpSpPr>
          <p:grpSpPr>
            <a:xfrm>
              <a:off x="3971880" y="4115160"/>
              <a:ext cx="51840" cy="51840"/>
              <a:chOff x="3971880" y="4115160"/>
              <a:chExt cx="51840" cy="51840"/>
            </a:xfrm>
          </p:grpSpPr>
          <p:sp>
            <p:nvSpPr>
              <p:cNvPr id="1572" name="椭圆 569"/>
              <p:cNvSpPr/>
              <p:nvPr/>
            </p:nvSpPr>
            <p:spPr>
              <a:xfrm>
                <a:off x="3971880" y="411516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椭圆 570"/>
              <p:cNvSpPr/>
              <p:nvPr/>
            </p:nvSpPr>
            <p:spPr>
              <a:xfrm>
                <a:off x="3982680" y="412596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4" name="组合 227"/>
            <p:cNvGrpSpPr/>
            <p:nvPr/>
          </p:nvGrpSpPr>
          <p:grpSpPr>
            <a:xfrm>
              <a:off x="3434040" y="4115160"/>
              <a:ext cx="51840" cy="51840"/>
              <a:chOff x="3434040" y="4115160"/>
              <a:chExt cx="51840" cy="51840"/>
            </a:xfrm>
          </p:grpSpPr>
          <p:sp>
            <p:nvSpPr>
              <p:cNvPr id="1575" name="椭圆 567"/>
              <p:cNvSpPr/>
              <p:nvPr/>
            </p:nvSpPr>
            <p:spPr>
              <a:xfrm>
                <a:off x="3434040" y="4115160"/>
                <a:ext cx="51840" cy="51840"/>
              </a:xfrm>
              <a:prstGeom prst="ellipse">
                <a:avLst/>
              </a:prstGeom>
              <a:solidFill>
                <a:srgbClr val="8497b0"/>
              </a:solidFill>
              <a:ln w="6480">
                <a:solidFill>
                  <a:srgbClr val="8497b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椭圆 568"/>
              <p:cNvSpPr/>
              <p:nvPr/>
            </p:nvSpPr>
            <p:spPr>
              <a:xfrm>
                <a:off x="3444840" y="412596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7" name="组合 228"/>
            <p:cNvGrpSpPr/>
            <p:nvPr/>
          </p:nvGrpSpPr>
          <p:grpSpPr>
            <a:xfrm>
              <a:off x="4179240" y="3902760"/>
              <a:ext cx="37440" cy="120600"/>
              <a:chOff x="4179240" y="3902760"/>
              <a:chExt cx="37440" cy="120600"/>
            </a:xfrm>
          </p:grpSpPr>
          <p:sp>
            <p:nvSpPr>
              <p:cNvPr id="1578" name="矩形 565"/>
              <p:cNvSpPr/>
              <p:nvPr/>
            </p:nvSpPr>
            <p:spPr>
              <a:xfrm>
                <a:off x="4179240" y="3902760"/>
                <a:ext cx="37440" cy="120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矩形 566"/>
              <p:cNvSpPr/>
              <p:nvPr/>
            </p:nvSpPr>
            <p:spPr>
              <a:xfrm>
                <a:off x="4183920" y="3929760"/>
                <a:ext cx="2772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0" name="椭圆 229"/>
            <p:cNvSpPr/>
            <p:nvPr/>
          </p:nvSpPr>
          <p:spPr>
            <a:xfrm>
              <a:off x="3444840" y="3870000"/>
              <a:ext cx="50760" cy="4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圆角矩形 230"/>
            <p:cNvSpPr/>
            <p:nvPr/>
          </p:nvSpPr>
          <p:spPr>
            <a:xfrm rot="10800000">
              <a:off x="3457440" y="4383000"/>
              <a:ext cx="25200" cy="333360"/>
            </a:xfrm>
            <a:custGeom>
              <a:avLst/>
              <a:gdLst/>
              <a:ahLst/>
              <a:rect l="l" t="t" r="r" b="b"/>
              <a:pathLst>
                <a:path w="21600" h="282017">
                  <a:moveTo>
                    <a:pt x="81" y="0"/>
                  </a:moveTo>
                  <a:arcTo wR="81" hR="81" stAng="16200000" swAng="-5400000"/>
                  <a:lnTo>
                    <a:pt x="0" y="281936"/>
                  </a:lnTo>
                  <a:arcTo wR="81" hR="81" stAng="10800000" swAng="-5400000"/>
                  <a:lnTo>
                    <a:pt x="21519" y="282017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圆角矩形 231"/>
            <p:cNvSpPr/>
            <p:nvPr/>
          </p:nvSpPr>
          <p:spPr>
            <a:xfrm rot="10800000">
              <a:off x="3749760" y="4487400"/>
              <a:ext cx="25200" cy="207720"/>
            </a:xfrm>
            <a:custGeom>
              <a:avLst/>
              <a:gdLst/>
              <a:ahLst/>
              <a:rect l="l" t="t" r="r" b="b"/>
              <a:pathLst>
                <a:path w="21600" h="175842">
                  <a:moveTo>
                    <a:pt x="81" y="0"/>
                  </a:moveTo>
                  <a:arcTo wR="81" hR="81" stAng="16200000" swAng="-5400000"/>
                  <a:lnTo>
                    <a:pt x="0" y="175761"/>
                  </a:lnTo>
                  <a:arcTo wR="81" hR="81" stAng="10800000" swAng="-5400000"/>
                  <a:lnTo>
                    <a:pt x="21519" y="175842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圆角矩形 232"/>
            <p:cNvSpPr/>
            <p:nvPr/>
          </p:nvSpPr>
          <p:spPr>
            <a:xfrm rot="10800000">
              <a:off x="3873600" y="4487400"/>
              <a:ext cx="26640" cy="207720"/>
            </a:xfrm>
            <a:custGeom>
              <a:avLst/>
              <a:gdLst/>
              <a:ahLst/>
              <a:rect l="l" t="t" r="r" b="b"/>
              <a:pathLst>
                <a:path w="21600" h="166464">
                  <a:moveTo>
                    <a:pt x="81" y="0"/>
                  </a:moveTo>
                  <a:arcTo wR="81" hR="81" stAng="16200000" swAng="-5400000"/>
                  <a:lnTo>
                    <a:pt x="0" y="166383"/>
                  </a:lnTo>
                  <a:arcTo wR="81" hR="81" stAng="10800000" swAng="-5400000"/>
                  <a:lnTo>
                    <a:pt x="21519" y="166464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4" name="组合 233"/>
            <p:cNvGrpSpPr/>
            <p:nvPr/>
          </p:nvGrpSpPr>
          <p:grpSpPr>
            <a:xfrm>
              <a:off x="2848320" y="4108320"/>
              <a:ext cx="83160" cy="126720"/>
              <a:chOff x="2848320" y="4108320"/>
              <a:chExt cx="83160" cy="126720"/>
            </a:xfrm>
          </p:grpSpPr>
          <p:sp>
            <p:nvSpPr>
              <p:cNvPr id="1585" name="矩形 557"/>
              <p:cNvSpPr/>
              <p:nvPr/>
            </p:nvSpPr>
            <p:spPr>
              <a:xfrm>
                <a:off x="2848320" y="4171680"/>
                <a:ext cx="83160" cy="6336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6" name="组合 423"/>
              <p:cNvGrpSpPr/>
              <p:nvPr/>
            </p:nvGrpSpPr>
            <p:grpSpPr>
              <a:xfrm>
                <a:off x="2864520" y="4171680"/>
                <a:ext cx="51480" cy="51840"/>
                <a:chOff x="2864520" y="4171680"/>
                <a:chExt cx="51480" cy="51840"/>
              </a:xfrm>
            </p:grpSpPr>
            <p:sp>
              <p:nvSpPr>
                <p:cNvPr id="1587" name="椭圆 563"/>
                <p:cNvSpPr/>
                <p:nvPr/>
              </p:nvSpPr>
              <p:spPr>
                <a:xfrm>
                  <a:off x="2864520" y="4171680"/>
                  <a:ext cx="51480" cy="51840"/>
                </a:xfrm>
                <a:prstGeom prst="ellipse">
                  <a:avLst/>
                </a:prstGeom>
                <a:solidFill>
                  <a:srgbClr val="8497b0"/>
                </a:solidFill>
                <a:ln w="6480">
                  <a:solidFill>
                    <a:srgbClr val="8497b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椭圆 564"/>
                <p:cNvSpPr/>
                <p:nvPr/>
              </p:nvSpPr>
              <p:spPr>
                <a:xfrm>
                  <a:off x="2875320" y="4182480"/>
                  <a:ext cx="29520" cy="29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9" name="矩形 559"/>
              <p:cNvSpPr/>
              <p:nvPr/>
            </p:nvSpPr>
            <p:spPr>
              <a:xfrm>
                <a:off x="2848320" y="4108320"/>
                <a:ext cx="83160" cy="633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0" name="组合 435"/>
              <p:cNvGrpSpPr/>
              <p:nvPr/>
            </p:nvGrpSpPr>
            <p:grpSpPr>
              <a:xfrm>
                <a:off x="2864520" y="4114800"/>
                <a:ext cx="51480" cy="51840"/>
                <a:chOff x="2864520" y="4114800"/>
                <a:chExt cx="51480" cy="51840"/>
              </a:xfrm>
            </p:grpSpPr>
            <p:sp>
              <p:nvSpPr>
                <p:cNvPr id="1591" name="椭圆 561"/>
                <p:cNvSpPr/>
                <p:nvPr/>
              </p:nvSpPr>
              <p:spPr>
                <a:xfrm>
                  <a:off x="2864520" y="4114800"/>
                  <a:ext cx="51480" cy="51840"/>
                </a:xfrm>
                <a:prstGeom prst="ellipse">
                  <a:avLst/>
                </a:prstGeom>
                <a:solidFill>
                  <a:srgbClr val="8497b0"/>
                </a:solidFill>
                <a:ln w="6480">
                  <a:solidFill>
                    <a:srgbClr val="8497b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椭圆 562"/>
                <p:cNvSpPr/>
                <p:nvPr/>
              </p:nvSpPr>
              <p:spPr>
                <a:xfrm>
                  <a:off x="2875320" y="4125600"/>
                  <a:ext cx="29520" cy="29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3" name="组合 234"/>
            <p:cNvGrpSpPr/>
            <p:nvPr/>
          </p:nvGrpSpPr>
          <p:grpSpPr>
            <a:xfrm>
              <a:off x="2795760" y="4477680"/>
              <a:ext cx="416880" cy="414360"/>
              <a:chOff x="2795760" y="4477680"/>
              <a:chExt cx="416880" cy="414360"/>
            </a:xfrm>
          </p:grpSpPr>
          <p:sp>
            <p:nvSpPr>
              <p:cNvPr id="1594" name="矩形 548"/>
              <p:cNvSpPr/>
              <p:nvPr/>
            </p:nvSpPr>
            <p:spPr>
              <a:xfrm>
                <a:off x="2795760" y="4478040"/>
                <a:ext cx="416880" cy="3538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矩形 549"/>
              <p:cNvSpPr/>
              <p:nvPr/>
            </p:nvSpPr>
            <p:spPr>
              <a:xfrm>
                <a:off x="2795760" y="4478040"/>
                <a:ext cx="61560" cy="35388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矩形 550"/>
              <p:cNvSpPr/>
              <p:nvPr/>
            </p:nvSpPr>
            <p:spPr>
              <a:xfrm>
                <a:off x="3151080" y="4478040"/>
                <a:ext cx="61560" cy="35388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矩形 551"/>
              <p:cNvSpPr/>
              <p:nvPr/>
            </p:nvSpPr>
            <p:spPr>
              <a:xfrm rot="16200000">
                <a:off x="2973240" y="4299840"/>
                <a:ext cx="61560" cy="41688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梯形 552"/>
              <p:cNvSpPr/>
              <p:nvPr/>
            </p:nvSpPr>
            <p:spPr>
              <a:xfrm flipV="1">
                <a:off x="2795760" y="4828680"/>
                <a:ext cx="416880" cy="63360"/>
              </a:xfrm>
              <a:custGeom>
                <a:avLst/>
                <a:gdLst>
                  <a:gd name="textAreaLeft" fmla="*/ 36000 w 416880"/>
                  <a:gd name="textAreaRight" fmla="*/ 380880 w 416880"/>
                  <a:gd name="textAreaTop" fmla="*/ 540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21059" h="109686">
                    <a:moveTo>
                      <a:pt x="0" y="109686"/>
                    </a:moveTo>
                    <a:lnTo>
                      <a:pt x="94186" y="0"/>
                    </a:lnTo>
                    <a:lnTo>
                      <a:pt x="626873" y="0"/>
                    </a:lnTo>
                    <a:lnTo>
                      <a:pt x="721059" y="10968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椭圆 553"/>
              <p:cNvSpPr/>
              <p:nvPr/>
            </p:nvSpPr>
            <p:spPr>
              <a:xfrm>
                <a:off x="2900160" y="4577760"/>
                <a:ext cx="207720" cy="20952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0" name="组合 12"/>
              <p:cNvGrpSpPr/>
              <p:nvPr/>
            </p:nvGrpSpPr>
            <p:grpSpPr>
              <a:xfrm>
                <a:off x="2979360" y="4657320"/>
                <a:ext cx="49680" cy="49680"/>
                <a:chOff x="2979360" y="4657320"/>
                <a:chExt cx="49680" cy="49680"/>
              </a:xfrm>
            </p:grpSpPr>
            <p:sp>
              <p:nvSpPr>
                <p:cNvPr id="1601" name="椭圆 555"/>
                <p:cNvSpPr/>
                <p:nvPr/>
              </p:nvSpPr>
              <p:spPr>
                <a:xfrm>
                  <a:off x="2979360" y="4657320"/>
                  <a:ext cx="49680" cy="49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椭圆 556"/>
                <p:cNvSpPr/>
                <p:nvPr/>
              </p:nvSpPr>
              <p:spPr>
                <a:xfrm>
                  <a:off x="2991960" y="4669560"/>
                  <a:ext cx="24120" cy="2484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3" name="直接连接符 235"/>
            <p:cNvSpPr/>
            <p:nvPr/>
          </p:nvSpPr>
          <p:spPr>
            <a:xfrm flipH="1" flipV="1">
              <a:off x="2916000" y="4389120"/>
              <a:ext cx="6336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直接连接符 236"/>
            <p:cNvSpPr/>
            <p:nvPr/>
          </p:nvSpPr>
          <p:spPr>
            <a:xfrm flipV="1">
              <a:off x="3028680" y="4389120"/>
              <a:ext cx="5688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矩形 237"/>
            <p:cNvSpPr/>
            <p:nvPr/>
          </p:nvSpPr>
          <p:spPr>
            <a:xfrm>
              <a:off x="3375000" y="4298760"/>
              <a:ext cx="109440" cy="42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6" name="组合 238"/>
            <p:cNvGrpSpPr/>
            <p:nvPr/>
          </p:nvGrpSpPr>
          <p:grpSpPr>
            <a:xfrm>
              <a:off x="3139560" y="4173120"/>
              <a:ext cx="51840" cy="51840"/>
              <a:chOff x="3139560" y="4173120"/>
              <a:chExt cx="51840" cy="51840"/>
            </a:xfrm>
          </p:grpSpPr>
          <p:sp>
            <p:nvSpPr>
              <p:cNvPr id="1607" name="椭圆 546"/>
              <p:cNvSpPr/>
              <p:nvPr/>
            </p:nvSpPr>
            <p:spPr>
              <a:xfrm>
                <a:off x="3139560" y="4173120"/>
                <a:ext cx="51840" cy="51840"/>
              </a:xfrm>
              <a:prstGeom prst="ellipse">
                <a:avLst/>
              </a:prstGeom>
              <a:solidFill>
                <a:srgbClr val="7f7f7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椭圆 547"/>
              <p:cNvSpPr/>
              <p:nvPr/>
            </p:nvSpPr>
            <p:spPr>
              <a:xfrm>
                <a:off x="3150360" y="418392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9" name="椭圆 239"/>
            <p:cNvSpPr/>
            <p:nvPr/>
          </p:nvSpPr>
          <p:spPr>
            <a:xfrm>
              <a:off x="3230280" y="4186080"/>
              <a:ext cx="25200" cy="2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直接连接符 240"/>
            <p:cNvSpPr/>
            <p:nvPr/>
          </p:nvSpPr>
          <p:spPr>
            <a:xfrm flipH="1" flipV="1">
              <a:off x="3184200" y="4181400"/>
              <a:ext cx="4896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直接连接符 241"/>
            <p:cNvSpPr/>
            <p:nvPr/>
          </p:nvSpPr>
          <p:spPr>
            <a:xfrm>
              <a:off x="3619440" y="4171680"/>
              <a:ext cx="126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直接连接符 242"/>
            <p:cNvSpPr/>
            <p:nvPr/>
          </p:nvSpPr>
          <p:spPr>
            <a:xfrm flipV="1">
              <a:off x="3817080" y="4181400"/>
              <a:ext cx="3636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矩形 243"/>
            <p:cNvSpPr/>
            <p:nvPr/>
          </p:nvSpPr>
          <p:spPr>
            <a:xfrm>
              <a:off x="3857400" y="4384440"/>
              <a:ext cx="63360" cy="205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4" name="组合 244"/>
            <p:cNvGrpSpPr/>
            <p:nvPr/>
          </p:nvGrpSpPr>
          <p:grpSpPr>
            <a:xfrm>
              <a:off x="3867840" y="3835080"/>
              <a:ext cx="42120" cy="570240"/>
              <a:chOff x="3867840" y="3835080"/>
              <a:chExt cx="42120" cy="570240"/>
            </a:xfrm>
          </p:grpSpPr>
          <p:grpSp>
            <p:nvGrpSpPr>
              <p:cNvPr id="1615" name="组合 509"/>
              <p:cNvGrpSpPr/>
              <p:nvPr/>
            </p:nvGrpSpPr>
            <p:grpSpPr>
              <a:xfrm>
                <a:off x="3867840" y="3835080"/>
                <a:ext cx="42120" cy="570240"/>
                <a:chOff x="3867840" y="3835080"/>
                <a:chExt cx="42120" cy="570240"/>
              </a:xfrm>
            </p:grpSpPr>
            <p:sp>
              <p:nvSpPr>
                <p:cNvPr id="1616" name="圆角矩形 544"/>
                <p:cNvSpPr/>
                <p:nvPr/>
              </p:nvSpPr>
              <p:spPr>
                <a:xfrm rot="10800000">
                  <a:off x="3876120" y="3859920"/>
                  <a:ext cx="2592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448570">
                      <a:moveTo>
                        <a:pt x="81" y="0"/>
                      </a:moveTo>
                      <a:arcTo wR="81" hR="81" stAng="16200000" swAng="-5400000"/>
                      <a:lnTo>
                        <a:pt x="0" y="448489"/>
                      </a:lnTo>
                      <a:arcTo wR="81" hR="81" stAng="10800000" swAng="-5400000"/>
                      <a:lnTo>
                        <a:pt x="21519" y="448570"/>
                      </a:lnTo>
                      <a:arcTo wR="81" hR="81" stAng="5400000" swAng="-5400000"/>
                      <a:lnTo>
                        <a:pt x="21600" y="81"/>
                      </a:lnTo>
                      <a:arcTo wR="81" hR="81" stAng="0" swAng="-5400000"/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圆角矩形 545"/>
                <p:cNvSpPr/>
                <p:nvPr/>
              </p:nvSpPr>
              <p:spPr>
                <a:xfrm rot="10800000">
                  <a:off x="3867840" y="3835080"/>
                  <a:ext cx="42120" cy="61920"/>
                </a:xfrm>
                <a:custGeom>
                  <a:avLst/>
                  <a:gdLst>
                    <a:gd name="textAreaLeft" fmla="*/ 6120 w 42120"/>
                    <a:gd name="textAreaRight" fmla="*/ 36000 w 42120"/>
                    <a:gd name="textAreaTop" fmla="*/ 6120 h 61920"/>
                    <a:gd name="textAreaBottom" fmla="*/ 55800 h 61920"/>
                  </a:gdLst>
                  <a:ahLst/>
                  <a:rect l="textAreaLeft" t="textAreaTop" r="textAreaRight" b="textAreaBottom"/>
                  <a:pathLst>
                    <a:path w="21600" h="31668">
                      <a:moveTo>
                        <a:pt x="10800" y="0"/>
                      </a:moveTo>
                      <a:arcTo wR="10800" hR="10800" stAng="16200000" swAng="-5400000"/>
                      <a:lnTo>
                        <a:pt x="0" y="20868"/>
                      </a:lnTo>
                      <a:arcTo wR="10800" hR="10800" stAng="10800000" swAng="-5400000"/>
                      <a:lnTo>
                        <a:pt x="10800" y="3166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a6a6a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8" name="矩形 541"/>
              <p:cNvSpPr/>
              <p:nvPr/>
            </p:nvSpPr>
            <p:spPr>
              <a:xfrm>
                <a:off x="3868200" y="3882600"/>
                <a:ext cx="41760" cy="26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直接连接符 542"/>
              <p:cNvSpPr/>
              <p:nvPr/>
            </p:nvSpPr>
            <p:spPr>
              <a:xfrm>
                <a:off x="3895560" y="3882600"/>
                <a:ext cx="1440" cy="2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直接连接符 543"/>
              <p:cNvSpPr/>
              <p:nvPr/>
            </p:nvSpPr>
            <p:spPr>
              <a:xfrm>
                <a:off x="3879360" y="3882600"/>
                <a:ext cx="1440" cy="2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1" name="矩形 245"/>
            <p:cNvSpPr/>
            <p:nvPr/>
          </p:nvSpPr>
          <p:spPr>
            <a:xfrm>
              <a:off x="3730680" y="4384440"/>
              <a:ext cx="63360" cy="205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2" name="组合 246"/>
            <p:cNvGrpSpPr/>
            <p:nvPr/>
          </p:nvGrpSpPr>
          <p:grpSpPr>
            <a:xfrm>
              <a:off x="3741120" y="3835080"/>
              <a:ext cx="42120" cy="570240"/>
              <a:chOff x="3741120" y="3835080"/>
              <a:chExt cx="42120" cy="570240"/>
            </a:xfrm>
          </p:grpSpPr>
          <p:grpSp>
            <p:nvGrpSpPr>
              <p:cNvPr id="1623" name="组合 509"/>
              <p:cNvGrpSpPr/>
              <p:nvPr/>
            </p:nvGrpSpPr>
            <p:grpSpPr>
              <a:xfrm>
                <a:off x="3741120" y="3835080"/>
                <a:ext cx="42120" cy="570240"/>
                <a:chOff x="3741120" y="3835080"/>
                <a:chExt cx="42120" cy="570240"/>
              </a:xfrm>
            </p:grpSpPr>
            <p:sp>
              <p:nvSpPr>
                <p:cNvPr id="1624" name="圆角矩形 538"/>
                <p:cNvSpPr/>
                <p:nvPr/>
              </p:nvSpPr>
              <p:spPr>
                <a:xfrm rot="10800000">
                  <a:off x="3749400" y="3859920"/>
                  <a:ext cx="2592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448570">
                      <a:moveTo>
                        <a:pt x="81" y="0"/>
                      </a:moveTo>
                      <a:arcTo wR="81" hR="81" stAng="16200000" swAng="-5400000"/>
                      <a:lnTo>
                        <a:pt x="0" y="448489"/>
                      </a:lnTo>
                      <a:arcTo wR="81" hR="81" stAng="10800000" swAng="-5400000"/>
                      <a:lnTo>
                        <a:pt x="21519" y="448570"/>
                      </a:lnTo>
                      <a:arcTo wR="81" hR="81" stAng="5400000" swAng="-5400000"/>
                      <a:lnTo>
                        <a:pt x="21600" y="81"/>
                      </a:lnTo>
                      <a:arcTo wR="81" hR="81" stAng="0" swAng="-5400000"/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圆角矩形 539"/>
                <p:cNvSpPr/>
                <p:nvPr/>
              </p:nvSpPr>
              <p:spPr>
                <a:xfrm rot="10800000">
                  <a:off x="3741120" y="3835080"/>
                  <a:ext cx="42120" cy="61920"/>
                </a:xfrm>
                <a:custGeom>
                  <a:avLst/>
                  <a:gdLst>
                    <a:gd name="textAreaLeft" fmla="*/ 6120 w 42120"/>
                    <a:gd name="textAreaRight" fmla="*/ 36000 w 42120"/>
                    <a:gd name="textAreaTop" fmla="*/ 6120 h 61920"/>
                    <a:gd name="textAreaBottom" fmla="*/ 55800 h 61920"/>
                  </a:gdLst>
                  <a:ahLst/>
                  <a:rect l="textAreaLeft" t="textAreaTop" r="textAreaRight" b="textAreaBottom"/>
                  <a:pathLst>
                    <a:path w="21600" h="31668">
                      <a:moveTo>
                        <a:pt x="10800" y="0"/>
                      </a:moveTo>
                      <a:arcTo wR="10800" hR="10800" stAng="16200000" swAng="-5400000"/>
                      <a:lnTo>
                        <a:pt x="0" y="20868"/>
                      </a:lnTo>
                      <a:arcTo wR="10800" hR="10800" stAng="10800000" swAng="-5400000"/>
                      <a:lnTo>
                        <a:pt x="10800" y="3166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a6a6a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6" name="矩形 535"/>
              <p:cNvSpPr/>
              <p:nvPr/>
            </p:nvSpPr>
            <p:spPr>
              <a:xfrm>
                <a:off x="3741480" y="3882600"/>
                <a:ext cx="41760" cy="26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直接连接符 536"/>
              <p:cNvSpPr/>
              <p:nvPr/>
            </p:nvSpPr>
            <p:spPr>
              <a:xfrm>
                <a:off x="3768840" y="3882600"/>
                <a:ext cx="1440" cy="2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直接连接符 537"/>
              <p:cNvSpPr/>
              <p:nvPr/>
            </p:nvSpPr>
            <p:spPr>
              <a:xfrm>
                <a:off x="3752640" y="3882600"/>
                <a:ext cx="1440" cy="2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9" name="组合 247"/>
            <p:cNvGrpSpPr/>
            <p:nvPr/>
          </p:nvGrpSpPr>
          <p:grpSpPr>
            <a:xfrm>
              <a:off x="3276000" y="3835080"/>
              <a:ext cx="42120" cy="570240"/>
              <a:chOff x="3276000" y="3835080"/>
              <a:chExt cx="42120" cy="570240"/>
            </a:xfrm>
          </p:grpSpPr>
          <p:grpSp>
            <p:nvGrpSpPr>
              <p:cNvPr id="1630" name="组合 509"/>
              <p:cNvGrpSpPr/>
              <p:nvPr/>
            </p:nvGrpSpPr>
            <p:grpSpPr>
              <a:xfrm>
                <a:off x="3276000" y="3835080"/>
                <a:ext cx="42120" cy="570240"/>
                <a:chOff x="3276000" y="3835080"/>
                <a:chExt cx="42120" cy="570240"/>
              </a:xfrm>
            </p:grpSpPr>
            <p:sp>
              <p:nvSpPr>
                <p:cNvPr id="1631" name="圆角矩形 532"/>
                <p:cNvSpPr/>
                <p:nvPr/>
              </p:nvSpPr>
              <p:spPr>
                <a:xfrm rot="10800000">
                  <a:off x="3284280" y="3859920"/>
                  <a:ext cx="2592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448570">
                      <a:moveTo>
                        <a:pt x="81" y="0"/>
                      </a:moveTo>
                      <a:arcTo wR="81" hR="81" stAng="16200000" swAng="-5400000"/>
                      <a:lnTo>
                        <a:pt x="0" y="448489"/>
                      </a:lnTo>
                      <a:arcTo wR="81" hR="81" stAng="10800000" swAng="-5400000"/>
                      <a:lnTo>
                        <a:pt x="21519" y="448570"/>
                      </a:lnTo>
                      <a:arcTo wR="81" hR="81" stAng="5400000" swAng="-5400000"/>
                      <a:lnTo>
                        <a:pt x="21600" y="81"/>
                      </a:lnTo>
                      <a:arcTo wR="81" hR="81" stAng="0" swAng="-5400000"/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圆角矩形 533"/>
                <p:cNvSpPr/>
                <p:nvPr/>
              </p:nvSpPr>
              <p:spPr>
                <a:xfrm rot="10800000">
                  <a:off x="3276000" y="3835080"/>
                  <a:ext cx="42120" cy="61920"/>
                </a:xfrm>
                <a:custGeom>
                  <a:avLst/>
                  <a:gdLst>
                    <a:gd name="textAreaLeft" fmla="*/ 6120 w 42120"/>
                    <a:gd name="textAreaRight" fmla="*/ 36000 w 42120"/>
                    <a:gd name="textAreaTop" fmla="*/ 6120 h 61920"/>
                    <a:gd name="textAreaBottom" fmla="*/ 55800 h 61920"/>
                  </a:gdLst>
                  <a:ahLst/>
                  <a:rect l="textAreaLeft" t="textAreaTop" r="textAreaRight" b="textAreaBottom"/>
                  <a:pathLst>
                    <a:path w="21600" h="31668">
                      <a:moveTo>
                        <a:pt x="10800" y="0"/>
                      </a:moveTo>
                      <a:arcTo wR="10800" hR="10800" stAng="16200000" swAng="-5400000"/>
                      <a:lnTo>
                        <a:pt x="0" y="20868"/>
                      </a:lnTo>
                      <a:arcTo wR="10800" hR="10800" stAng="10800000" swAng="-5400000"/>
                      <a:lnTo>
                        <a:pt x="10800" y="3166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a6a6a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3" name="矩形 529"/>
              <p:cNvSpPr/>
              <p:nvPr/>
            </p:nvSpPr>
            <p:spPr>
              <a:xfrm>
                <a:off x="3276360" y="3882600"/>
                <a:ext cx="41760" cy="26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直接连接符 530"/>
              <p:cNvSpPr/>
              <p:nvPr/>
            </p:nvSpPr>
            <p:spPr>
              <a:xfrm>
                <a:off x="3303720" y="3882600"/>
                <a:ext cx="1440" cy="2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直接连接符 531"/>
              <p:cNvSpPr/>
              <p:nvPr/>
            </p:nvSpPr>
            <p:spPr>
              <a:xfrm>
                <a:off x="3287520" y="3882600"/>
                <a:ext cx="1440" cy="2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6" name="圆角矩形 248"/>
            <p:cNvSpPr/>
            <p:nvPr/>
          </p:nvSpPr>
          <p:spPr>
            <a:xfrm rot="10800000">
              <a:off x="3292200" y="4487400"/>
              <a:ext cx="25200" cy="207720"/>
            </a:xfrm>
            <a:custGeom>
              <a:avLst/>
              <a:gdLst/>
              <a:ahLst/>
              <a:rect l="l" t="t" r="r" b="b"/>
              <a:pathLst>
                <a:path w="21600" h="175842">
                  <a:moveTo>
                    <a:pt x="81" y="0"/>
                  </a:moveTo>
                  <a:arcTo wR="81" hR="81" stAng="16200000" swAng="-5400000"/>
                  <a:lnTo>
                    <a:pt x="0" y="175761"/>
                  </a:lnTo>
                  <a:arcTo wR="81" hR="81" stAng="10800000" swAng="-5400000"/>
                  <a:lnTo>
                    <a:pt x="21519" y="175842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椭圆 249"/>
            <p:cNvSpPr/>
            <p:nvPr/>
          </p:nvSpPr>
          <p:spPr>
            <a:xfrm>
              <a:off x="3571920" y="3870000"/>
              <a:ext cx="50760" cy="4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圆角矩形 250"/>
            <p:cNvSpPr/>
            <p:nvPr/>
          </p:nvSpPr>
          <p:spPr>
            <a:xfrm rot="10800000">
              <a:off x="3584520" y="3885480"/>
              <a:ext cx="25200" cy="541080"/>
            </a:xfrm>
            <a:custGeom>
              <a:avLst/>
              <a:gdLst>
                <a:gd name="textAreaLeft" fmla="*/ 3240 w 25200"/>
                <a:gd name="textAreaRight" fmla="*/ 21960 w 25200"/>
                <a:gd name="textAreaTop" fmla="*/ 3240 h 541080"/>
                <a:gd name="textAreaBottom" fmla="*/ 537840 h 541080"/>
              </a:gdLst>
              <a:ahLst/>
              <a:rect l="textAreaLeft" t="textAreaTop" r="textAreaRight" b="textAreaBottom"/>
              <a:pathLst>
                <a:path w="21600" h="457555">
                  <a:moveTo>
                    <a:pt x="10353" y="0"/>
                  </a:moveTo>
                  <a:arcTo wR="10353" hR="10353" stAng="16200000" swAng="-5400000"/>
                  <a:lnTo>
                    <a:pt x="0" y="447202"/>
                  </a:lnTo>
                  <a:arcTo wR="10353" hR="10353" stAng="10800000" swAng="-5400000"/>
                  <a:lnTo>
                    <a:pt x="11247" y="457555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bdd7e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圆角矩形 251"/>
            <p:cNvSpPr/>
            <p:nvPr/>
          </p:nvSpPr>
          <p:spPr>
            <a:xfrm rot="10800000">
              <a:off x="3584520" y="4467240"/>
              <a:ext cx="25200" cy="249120"/>
            </a:xfrm>
            <a:custGeom>
              <a:avLst/>
              <a:gdLst/>
              <a:ahLst/>
              <a:rect l="l" t="t" r="r" b="b"/>
              <a:pathLst>
                <a:path w="21600" h="210828">
                  <a:moveTo>
                    <a:pt x="81" y="0"/>
                  </a:moveTo>
                  <a:arcTo wR="81" hR="81" stAng="16200000" swAng="-5400000"/>
                  <a:lnTo>
                    <a:pt x="0" y="210747"/>
                  </a:lnTo>
                  <a:arcTo wR="81" hR="81" stAng="10800000" swAng="-5400000"/>
                  <a:lnTo>
                    <a:pt x="21519" y="210828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bdd7e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0" name="组合 252"/>
            <p:cNvGrpSpPr/>
            <p:nvPr/>
          </p:nvGrpSpPr>
          <p:grpSpPr>
            <a:xfrm>
              <a:off x="2866680" y="4364280"/>
              <a:ext cx="49680" cy="49680"/>
              <a:chOff x="2866680" y="4364280"/>
              <a:chExt cx="49680" cy="49680"/>
            </a:xfrm>
          </p:grpSpPr>
          <p:sp>
            <p:nvSpPr>
              <p:cNvPr id="1641" name="椭圆 526"/>
              <p:cNvSpPr/>
              <p:nvPr/>
            </p:nvSpPr>
            <p:spPr>
              <a:xfrm>
                <a:off x="2866680" y="4364280"/>
                <a:ext cx="49680" cy="496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椭圆 527"/>
              <p:cNvSpPr/>
              <p:nvPr/>
            </p:nvSpPr>
            <p:spPr>
              <a:xfrm>
                <a:off x="2879280" y="4376520"/>
                <a:ext cx="24120" cy="24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3" name="组合 253"/>
            <p:cNvGrpSpPr/>
            <p:nvPr/>
          </p:nvGrpSpPr>
          <p:grpSpPr>
            <a:xfrm>
              <a:off x="2596320" y="4173120"/>
              <a:ext cx="51840" cy="51840"/>
              <a:chOff x="2596320" y="4173120"/>
              <a:chExt cx="51840" cy="51840"/>
            </a:xfrm>
          </p:grpSpPr>
          <p:sp>
            <p:nvSpPr>
              <p:cNvPr id="1644" name="椭圆 524"/>
              <p:cNvSpPr/>
              <p:nvPr/>
            </p:nvSpPr>
            <p:spPr>
              <a:xfrm>
                <a:off x="2596320" y="4173120"/>
                <a:ext cx="51840" cy="51840"/>
              </a:xfrm>
              <a:prstGeom prst="ellipse">
                <a:avLst/>
              </a:prstGeom>
              <a:solidFill>
                <a:srgbClr val="7f7f7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椭圆 525"/>
              <p:cNvSpPr/>
              <p:nvPr/>
            </p:nvSpPr>
            <p:spPr>
              <a:xfrm>
                <a:off x="2606040" y="4183920"/>
                <a:ext cx="3240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6" name="组合 254"/>
            <p:cNvGrpSpPr/>
            <p:nvPr/>
          </p:nvGrpSpPr>
          <p:grpSpPr>
            <a:xfrm>
              <a:off x="3012480" y="4173120"/>
              <a:ext cx="51840" cy="51840"/>
              <a:chOff x="3012480" y="4173120"/>
              <a:chExt cx="51840" cy="51840"/>
            </a:xfrm>
          </p:grpSpPr>
          <p:sp>
            <p:nvSpPr>
              <p:cNvPr id="1647" name="椭圆 522"/>
              <p:cNvSpPr/>
              <p:nvPr/>
            </p:nvSpPr>
            <p:spPr>
              <a:xfrm>
                <a:off x="3012480" y="4173120"/>
                <a:ext cx="51840" cy="51840"/>
              </a:xfrm>
              <a:prstGeom prst="ellipse">
                <a:avLst/>
              </a:prstGeom>
              <a:solidFill>
                <a:srgbClr val="7f7f7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椭圆 523"/>
              <p:cNvSpPr/>
              <p:nvPr/>
            </p:nvSpPr>
            <p:spPr>
              <a:xfrm>
                <a:off x="3023280" y="418392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9" name="圆角矩形 255"/>
            <p:cNvSpPr/>
            <p:nvPr/>
          </p:nvSpPr>
          <p:spPr>
            <a:xfrm rot="10800000">
              <a:off x="3457440" y="3885480"/>
              <a:ext cx="25200" cy="541080"/>
            </a:xfrm>
            <a:custGeom>
              <a:avLst/>
              <a:gdLst>
                <a:gd name="textAreaLeft" fmla="*/ 3240 w 25200"/>
                <a:gd name="textAreaRight" fmla="*/ 21960 w 25200"/>
                <a:gd name="textAreaTop" fmla="*/ 3240 h 541080"/>
                <a:gd name="textAreaBottom" fmla="*/ 537840 h 541080"/>
              </a:gdLst>
              <a:ahLst/>
              <a:rect l="textAreaLeft" t="textAreaTop" r="textAreaRight" b="textAreaBottom"/>
              <a:pathLst>
                <a:path w="21600" h="457555">
                  <a:moveTo>
                    <a:pt x="10353" y="0"/>
                  </a:moveTo>
                  <a:arcTo wR="10353" hR="10353" stAng="16200000" swAng="-5400000"/>
                  <a:lnTo>
                    <a:pt x="0" y="447202"/>
                  </a:lnTo>
                  <a:arcTo wR="10353" hR="10353" stAng="10800000" swAng="-5400000"/>
                  <a:lnTo>
                    <a:pt x="11247" y="457555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矩形 256"/>
            <p:cNvSpPr/>
            <p:nvPr/>
          </p:nvSpPr>
          <p:spPr>
            <a:xfrm>
              <a:off x="5261040" y="3792240"/>
              <a:ext cx="79200" cy="6192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椭圆 257"/>
            <p:cNvSpPr/>
            <p:nvPr/>
          </p:nvSpPr>
          <p:spPr>
            <a:xfrm>
              <a:off x="2955600" y="4186080"/>
              <a:ext cx="23760" cy="2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直接连接符 258"/>
            <p:cNvSpPr/>
            <p:nvPr/>
          </p:nvSpPr>
          <p:spPr>
            <a:xfrm>
              <a:off x="3039840" y="4173480"/>
              <a:ext cx="125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直接连接符 259"/>
            <p:cNvSpPr/>
            <p:nvPr/>
          </p:nvSpPr>
          <p:spPr>
            <a:xfrm flipH="1">
              <a:off x="2976120" y="4181400"/>
              <a:ext cx="4428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直接连接符 260"/>
            <p:cNvSpPr/>
            <p:nvPr/>
          </p:nvSpPr>
          <p:spPr>
            <a:xfrm>
              <a:off x="2908080" y="4179600"/>
              <a:ext cx="50760" cy="28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直接连接符 261"/>
            <p:cNvSpPr/>
            <p:nvPr/>
          </p:nvSpPr>
          <p:spPr>
            <a:xfrm flipH="1">
              <a:off x="2844720" y="4196520"/>
              <a:ext cx="18720" cy="6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6" name="组合 262"/>
            <p:cNvGrpSpPr/>
            <p:nvPr/>
          </p:nvGrpSpPr>
          <p:grpSpPr>
            <a:xfrm>
              <a:off x="2844720" y="4236840"/>
              <a:ext cx="51840" cy="51840"/>
              <a:chOff x="2844720" y="4236840"/>
              <a:chExt cx="51840" cy="51840"/>
            </a:xfrm>
          </p:grpSpPr>
          <p:sp>
            <p:nvSpPr>
              <p:cNvPr id="1657" name="椭圆 520"/>
              <p:cNvSpPr/>
              <p:nvPr/>
            </p:nvSpPr>
            <p:spPr>
              <a:xfrm>
                <a:off x="2844720" y="4236840"/>
                <a:ext cx="51840" cy="5184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椭圆 521"/>
              <p:cNvSpPr/>
              <p:nvPr/>
            </p:nvSpPr>
            <p:spPr>
              <a:xfrm>
                <a:off x="2857320" y="4249440"/>
                <a:ext cx="26640" cy="266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9" name="直接连接符 263"/>
            <p:cNvSpPr/>
            <p:nvPr/>
          </p:nvSpPr>
          <p:spPr>
            <a:xfrm flipV="1">
              <a:off x="3111480" y="4348080"/>
              <a:ext cx="31752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0" name="组合 264"/>
            <p:cNvGrpSpPr/>
            <p:nvPr/>
          </p:nvGrpSpPr>
          <p:grpSpPr>
            <a:xfrm>
              <a:off x="2466000" y="4173120"/>
              <a:ext cx="51840" cy="51840"/>
              <a:chOff x="2466000" y="4173120"/>
              <a:chExt cx="51840" cy="51840"/>
            </a:xfrm>
          </p:grpSpPr>
          <p:sp>
            <p:nvSpPr>
              <p:cNvPr id="1661" name="椭圆 518"/>
              <p:cNvSpPr/>
              <p:nvPr/>
            </p:nvSpPr>
            <p:spPr>
              <a:xfrm>
                <a:off x="2466000" y="4173120"/>
                <a:ext cx="51840" cy="51840"/>
              </a:xfrm>
              <a:prstGeom prst="ellipse">
                <a:avLst/>
              </a:prstGeom>
              <a:solidFill>
                <a:srgbClr val="7f7f7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椭圆 519"/>
              <p:cNvSpPr/>
              <p:nvPr/>
            </p:nvSpPr>
            <p:spPr>
              <a:xfrm>
                <a:off x="2475720" y="4183920"/>
                <a:ext cx="3240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3" name="组合 265"/>
            <p:cNvGrpSpPr/>
            <p:nvPr/>
          </p:nvGrpSpPr>
          <p:grpSpPr>
            <a:xfrm>
              <a:off x="2336040" y="4173120"/>
              <a:ext cx="51840" cy="51840"/>
              <a:chOff x="2336040" y="4173120"/>
              <a:chExt cx="51840" cy="51840"/>
            </a:xfrm>
          </p:grpSpPr>
          <p:sp>
            <p:nvSpPr>
              <p:cNvPr id="1664" name="椭圆 516"/>
              <p:cNvSpPr/>
              <p:nvPr/>
            </p:nvSpPr>
            <p:spPr>
              <a:xfrm>
                <a:off x="2336040" y="4173120"/>
                <a:ext cx="51840" cy="51840"/>
              </a:xfrm>
              <a:prstGeom prst="ellipse">
                <a:avLst/>
              </a:prstGeom>
              <a:solidFill>
                <a:srgbClr val="7f7f7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椭圆 517"/>
              <p:cNvSpPr/>
              <p:nvPr/>
            </p:nvSpPr>
            <p:spPr>
              <a:xfrm>
                <a:off x="2345760" y="4183920"/>
                <a:ext cx="3240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6" name="组合 266"/>
            <p:cNvGrpSpPr/>
            <p:nvPr/>
          </p:nvGrpSpPr>
          <p:grpSpPr>
            <a:xfrm>
              <a:off x="2726280" y="4173120"/>
              <a:ext cx="51840" cy="51840"/>
              <a:chOff x="2726280" y="4173120"/>
              <a:chExt cx="51840" cy="51840"/>
            </a:xfrm>
          </p:grpSpPr>
          <p:sp>
            <p:nvSpPr>
              <p:cNvPr id="1667" name="椭圆 514"/>
              <p:cNvSpPr/>
              <p:nvPr/>
            </p:nvSpPr>
            <p:spPr>
              <a:xfrm>
                <a:off x="2726280" y="4173120"/>
                <a:ext cx="51840" cy="51840"/>
              </a:xfrm>
              <a:prstGeom prst="ellipse">
                <a:avLst/>
              </a:prstGeom>
              <a:solidFill>
                <a:srgbClr val="7f7f7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椭圆 515"/>
              <p:cNvSpPr/>
              <p:nvPr/>
            </p:nvSpPr>
            <p:spPr>
              <a:xfrm>
                <a:off x="2736000" y="4183920"/>
                <a:ext cx="32400" cy="29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9" name="组合 267"/>
            <p:cNvGrpSpPr/>
            <p:nvPr/>
          </p:nvGrpSpPr>
          <p:grpSpPr>
            <a:xfrm>
              <a:off x="2747520" y="4236840"/>
              <a:ext cx="51840" cy="51840"/>
              <a:chOff x="2747520" y="4236840"/>
              <a:chExt cx="51840" cy="51840"/>
            </a:xfrm>
          </p:grpSpPr>
          <p:sp>
            <p:nvSpPr>
              <p:cNvPr id="1670" name="椭圆 512"/>
              <p:cNvSpPr/>
              <p:nvPr/>
            </p:nvSpPr>
            <p:spPr>
              <a:xfrm>
                <a:off x="2747520" y="4236840"/>
                <a:ext cx="51840" cy="5184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椭圆 513"/>
              <p:cNvSpPr/>
              <p:nvPr/>
            </p:nvSpPr>
            <p:spPr>
              <a:xfrm>
                <a:off x="2760120" y="4249440"/>
                <a:ext cx="26640" cy="266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2" name="直接连接符 268"/>
            <p:cNvSpPr/>
            <p:nvPr/>
          </p:nvSpPr>
          <p:spPr>
            <a:xfrm>
              <a:off x="2777760" y="4198680"/>
              <a:ext cx="14040" cy="45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椭圆 269"/>
            <p:cNvSpPr/>
            <p:nvPr/>
          </p:nvSpPr>
          <p:spPr>
            <a:xfrm>
              <a:off x="2674800" y="4186080"/>
              <a:ext cx="25200" cy="2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椭圆 270"/>
            <p:cNvSpPr/>
            <p:nvPr/>
          </p:nvSpPr>
          <p:spPr>
            <a:xfrm>
              <a:off x="2414160" y="4186080"/>
              <a:ext cx="25200" cy="2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直接连接符 271"/>
            <p:cNvSpPr/>
            <p:nvPr/>
          </p:nvSpPr>
          <p:spPr>
            <a:xfrm flipV="1">
              <a:off x="2696040" y="4181400"/>
              <a:ext cx="3636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直接连接符 272"/>
            <p:cNvSpPr/>
            <p:nvPr/>
          </p:nvSpPr>
          <p:spPr>
            <a:xfrm flipH="1" flipV="1">
              <a:off x="2640960" y="4181040"/>
              <a:ext cx="4572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直接连接符 273"/>
            <p:cNvSpPr/>
            <p:nvPr/>
          </p:nvSpPr>
          <p:spPr>
            <a:xfrm flipH="1">
              <a:off x="2491920" y="4173480"/>
              <a:ext cx="129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直接连接符 274"/>
            <p:cNvSpPr/>
            <p:nvPr/>
          </p:nvSpPr>
          <p:spPr>
            <a:xfrm flipH="1">
              <a:off x="2436120" y="4181400"/>
              <a:ext cx="3636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直接连接符 275"/>
            <p:cNvSpPr/>
            <p:nvPr/>
          </p:nvSpPr>
          <p:spPr>
            <a:xfrm flipH="1" flipV="1">
              <a:off x="2380680" y="4181400"/>
              <a:ext cx="3636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椭圆 276"/>
            <p:cNvSpPr/>
            <p:nvPr/>
          </p:nvSpPr>
          <p:spPr>
            <a:xfrm>
              <a:off x="2557080" y="4289400"/>
              <a:ext cx="58680" cy="5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直接连接符 277"/>
            <p:cNvSpPr/>
            <p:nvPr/>
          </p:nvSpPr>
          <p:spPr>
            <a:xfrm flipV="1">
              <a:off x="2586600" y="4286160"/>
              <a:ext cx="2196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矩形 278"/>
            <p:cNvSpPr/>
            <p:nvPr/>
          </p:nvSpPr>
          <p:spPr>
            <a:xfrm>
              <a:off x="2533320" y="4298760"/>
              <a:ext cx="107640" cy="42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3" name="组合 279"/>
            <p:cNvGrpSpPr/>
            <p:nvPr/>
          </p:nvGrpSpPr>
          <p:grpSpPr>
            <a:xfrm>
              <a:off x="2578320" y="4236840"/>
              <a:ext cx="49680" cy="49680"/>
              <a:chOff x="2578320" y="4236840"/>
              <a:chExt cx="49680" cy="49680"/>
            </a:xfrm>
          </p:grpSpPr>
          <p:sp>
            <p:nvSpPr>
              <p:cNvPr id="1684" name="椭圆 510"/>
              <p:cNvSpPr/>
              <p:nvPr/>
            </p:nvSpPr>
            <p:spPr>
              <a:xfrm>
                <a:off x="2578320" y="4236840"/>
                <a:ext cx="49680" cy="49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椭圆 511"/>
              <p:cNvSpPr/>
              <p:nvPr/>
            </p:nvSpPr>
            <p:spPr>
              <a:xfrm>
                <a:off x="2590560" y="4249440"/>
                <a:ext cx="24840" cy="2412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6" name="直接连接符 280"/>
            <p:cNvSpPr/>
            <p:nvPr/>
          </p:nvSpPr>
          <p:spPr>
            <a:xfrm flipH="1" flipV="1">
              <a:off x="2587320" y="4348080"/>
              <a:ext cx="30456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直接连接符 281"/>
            <p:cNvSpPr/>
            <p:nvPr/>
          </p:nvSpPr>
          <p:spPr>
            <a:xfrm>
              <a:off x="2586600" y="4289400"/>
              <a:ext cx="84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直接连接符 282"/>
            <p:cNvSpPr/>
            <p:nvPr/>
          </p:nvSpPr>
          <p:spPr>
            <a:xfrm flipH="1">
              <a:off x="2324880" y="4236120"/>
              <a:ext cx="27756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矩形 283"/>
            <p:cNvSpPr/>
            <p:nvPr/>
          </p:nvSpPr>
          <p:spPr>
            <a:xfrm>
              <a:off x="2365200" y="4363920"/>
              <a:ext cx="41040" cy="4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椭圆 284"/>
            <p:cNvSpPr/>
            <p:nvPr/>
          </p:nvSpPr>
          <p:spPr>
            <a:xfrm>
              <a:off x="2570040" y="38559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组合 285"/>
            <p:cNvGrpSpPr/>
            <p:nvPr/>
          </p:nvGrpSpPr>
          <p:grpSpPr>
            <a:xfrm>
              <a:off x="2370600" y="3940560"/>
              <a:ext cx="26640" cy="420840"/>
              <a:chOff x="2370600" y="3940560"/>
              <a:chExt cx="26640" cy="420840"/>
            </a:xfrm>
          </p:grpSpPr>
          <p:sp>
            <p:nvSpPr>
              <p:cNvPr id="1692" name="圆角矩形 508"/>
              <p:cNvSpPr/>
              <p:nvPr/>
            </p:nvSpPr>
            <p:spPr>
              <a:xfrm>
                <a:off x="2370960" y="3940560"/>
                <a:ext cx="26280" cy="55080"/>
              </a:xfrm>
              <a:custGeom>
                <a:avLst/>
                <a:gdLst>
                  <a:gd name="textAreaLeft" fmla="*/ 3600 w 26280"/>
                  <a:gd name="textAreaRight" fmla="*/ 22680 w 26280"/>
                  <a:gd name="textAreaTop" fmla="*/ 3600 h 55080"/>
                  <a:gd name="textAreaBottom" fmla="*/ 51480 h 55080"/>
                </a:gdLst>
                <a:ahLst/>
                <a:rect l="textAreaLeft" t="textAreaTop" r="textAreaRight" b="textAreaBottom"/>
                <a:pathLst>
                  <a:path w="21600" h="44951">
                    <a:moveTo>
                      <a:pt x="10524" y="0"/>
                    </a:moveTo>
                    <a:arcTo wR="10524" hR="10524" stAng="16200000" swAng="-5400000"/>
                    <a:lnTo>
                      <a:pt x="0" y="34427"/>
                    </a:lnTo>
                    <a:arcTo wR="10524" hR="10524" stAng="10800000" swAng="-5400000"/>
                    <a:lnTo>
                      <a:pt x="11076" y="44951"/>
                    </a:lnTo>
                    <a:arcTo wR="10524" hR="10524" stAng="5400000" swAng="-5400000"/>
                    <a:lnTo>
                      <a:pt x="21600" y="10524"/>
                    </a:lnTo>
                    <a:arcTo wR="10524" hR="10524" stAng="0" swAng="-5400000"/>
                    <a:close/>
                  </a:path>
                </a:pathLst>
              </a:cu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圆角矩形 509"/>
              <p:cNvSpPr/>
              <p:nvPr/>
            </p:nvSpPr>
            <p:spPr>
              <a:xfrm rot="10800000">
                <a:off x="2370600" y="3976920"/>
                <a:ext cx="26280" cy="384480"/>
              </a:xfrm>
              <a:custGeom>
                <a:avLst/>
                <a:gdLst/>
                <a:ahLst/>
                <a:rect l="l" t="t" r="r" b="b"/>
                <a:pathLst>
                  <a:path w="21600" h="312032">
                    <a:moveTo>
                      <a:pt x="81" y="0"/>
                    </a:moveTo>
                    <a:arcTo wR="81" hR="81" stAng="16200000" swAng="-5400000"/>
                    <a:lnTo>
                      <a:pt x="0" y="311951"/>
                    </a:lnTo>
                    <a:arcTo wR="81" hR="81" stAng="10800000" swAng="-5400000"/>
                    <a:lnTo>
                      <a:pt x="21519" y="312032"/>
                    </a:lnTo>
                    <a:arcTo wR="81" hR="81" stAng="5400000" swAng="-5400000"/>
                    <a:lnTo>
                      <a:pt x="21600" y="81"/>
                    </a:lnTo>
                    <a:arcTo wR="81" hR="81" stAng="0" swAng="-5400000"/>
                    <a:close/>
                  </a:path>
                </a:pathLst>
              </a:cu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矩形 286"/>
            <p:cNvSpPr/>
            <p:nvPr/>
          </p:nvSpPr>
          <p:spPr>
            <a:xfrm>
              <a:off x="2469960" y="4363920"/>
              <a:ext cx="42840" cy="4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椭圆 287"/>
            <p:cNvSpPr/>
            <p:nvPr/>
          </p:nvSpPr>
          <p:spPr>
            <a:xfrm>
              <a:off x="2676240" y="38559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6" name="组合 652"/>
            <p:cNvGrpSpPr/>
            <p:nvPr/>
          </p:nvGrpSpPr>
          <p:grpSpPr>
            <a:xfrm>
              <a:off x="2476440" y="3961800"/>
              <a:ext cx="26640" cy="399960"/>
              <a:chOff x="2476440" y="3961800"/>
              <a:chExt cx="26640" cy="399960"/>
            </a:xfrm>
          </p:grpSpPr>
          <p:sp>
            <p:nvSpPr>
              <p:cNvPr id="1697" name="圆角矩形 506"/>
              <p:cNvSpPr/>
              <p:nvPr/>
            </p:nvSpPr>
            <p:spPr>
              <a:xfrm>
                <a:off x="2476800" y="3961800"/>
                <a:ext cx="26280" cy="52200"/>
              </a:xfrm>
              <a:custGeom>
                <a:avLst/>
                <a:gdLst>
                  <a:gd name="textAreaLeft" fmla="*/ 3600 w 26280"/>
                  <a:gd name="textAreaRight" fmla="*/ 22680 w 26280"/>
                  <a:gd name="textAreaTop" fmla="*/ 3600 h 52200"/>
                  <a:gd name="textAreaBottom" fmla="*/ 48600 h 52200"/>
                </a:gdLst>
                <a:ahLst/>
                <a:rect l="textAreaLeft" t="textAreaTop" r="textAreaRight" b="textAreaBottom"/>
                <a:pathLst>
                  <a:path w="21600" h="42616">
                    <a:moveTo>
                      <a:pt x="10524" y="0"/>
                    </a:moveTo>
                    <a:arcTo wR="10524" hR="10524" stAng="16200000" swAng="-5400000"/>
                    <a:lnTo>
                      <a:pt x="0" y="32092"/>
                    </a:lnTo>
                    <a:arcTo wR="10524" hR="10524" stAng="10800000" swAng="-5400000"/>
                    <a:lnTo>
                      <a:pt x="11076" y="42616"/>
                    </a:lnTo>
                    <a:arcTo wR="10524" hR="10524" stAng="5400000" swAng="-5400000"/>
                    <a:lnTo>
                      <a:pt x="21600" y="10524"/>
                    </a:lnTo>
                    <a:arcTo wR="10524" hR="10524" stAng="0" swAng="-5400000"/>
                    <a:close/>
                  </a:path>
                </a:pathLst>
              </a:cu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圆角矩形 507"/>
              <p:cNvSpPr/>
              <p:nvPr/>
            </p:nvSpPr>
            <p:spPr>
              <a:xfrm rot="10800000">
                <a:off x="2476440" y="3996720"/>
                <a:ext cx="26280" cy="365040"/>
              </a:xfrm>
              <a:custGeom>
                <a:avLst/>
                <a:gdLst/>
                <a:ahLst/>
                <a:rect l="l" t="t" r="r" b="b"/>
                <a:pathLst>
                  <a:path w="21600" h="296270">
                    <a:moveTo>
                      <a:pt x="81" y="0"/>
                    </a:moveTo>
                    <a:arcTo wR="81" hR="81" stAng="16200000" swAng="-5400000"/>
                    <a:lnTo>
                      <a:pt x="0" y="296189"/>
                    </a:lnTo>
                    <a:arcTo wR="81" hR="81" stAng="10800000" swAng="-5400000"/>
                    <a:lnTo>
                      <a:pt x="21519" y="296270"/>
                    </a:lnTo>
                    <a:arcTo wR="81" hR="81" stAng="5400000" swAng="-5400000"/>
                    <a:lnTo>
                      <a:pt x="21600" y="81"/>
                    </a:lnTo>
                    <a:arcTo wR="81" hR="81" stAng="0" swAng="-5400000"/>
                    <a:close/>
                  </a:path>
                </a:pathLst>
              </a:cu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9" name="弧形 289"/>
            <p:cNvSpPr/>
            <p:nvPr/>
          </p:nvSpPr>
          <p:spPr>
            <a:xfrm flipH="1">
              <a:off x="2386440" y="3877920"/>
              <a:ext cx="145800" cy="144360"/>
            </a:xfrm>
            <a:custGeom>
              <a:avLst/>
              <a:gdLst>
                <a:gd name="textAreaLeft" fmla="*/ 73080 w 145800"/>
                <a:gd name="textAreaRight" fmla="*/ 146160 w 145800"/>
                <a:gd name="textAreaTop" fmla="*/ 0 h 144360"/>
                <a:gd name="textAreaBottom" fmla="*/ 72360 h 144360"/>
              </a:gdLst>
              <a:ahLst/>
              <a:rect l="textAreaLeft" t="textAreaTop" r="textAreaRight" b="textAreaBottom"/>
              <a:pathLst>
                <a:path stroke="0" w="252234" h="249536">
                  <a:moveTo>
                    <a:pt x="126117" y="0"/>
                  </a:moveTo>
                  <a:lnTo>
                    <a:pt x="126117" y="0"/>
                  </a:lnTo>
                  <a:arcTo wR="126117" hR="124768" stAng="-5400000" swAng="5400000"/>
                  <a:lnTo>
                    <a:pt x="126117" y="124768"/>
                  </a:lnTo>
                  <a:close/>
                </a:path>
                <a:path fill="none" w="252234" h="249536">
                  <a:moveTo>
                    <a:pt x="126117" y="0"/>
                  </a:moveTo>
                  <a:lnTo>
                    <a:pt x="126117" y="0"/>
                  </a:lnTo>
                  <a:arcTo wR="126117" hR="124768" stAng="-5400000" swAng="5400000"/>
                </a:path>
              </a:pathLst>
            </a:custGeom>
            <a:noFill/>
            <a:ln w="44280">
              <a:solidFill>
                <a:srgbClr val="bdd7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弧形 290"/>
            <p:cNvSpPr/>
            <p:nvPr/>
          </p:nvSpPr>
          <p:spPr>
            <a:xfrm flipH="1">
              <a:off x="2488320" y="3898800"/>
              <a:ext cx="145800" cy="145800"/>
            </a:xfrm>
            <a:custGeom>
              <a:avLst/>
              <a:gdLst>
                <a:gd name="textAreaLeft" fmla="*/ 73080 w 145800"/>
                <a:gd name="textAreaRight" fmla="*/ 146160 w 145800"/>
                <a:gd name="textAreaTop" fmla="*/ 0 h 145800"/>
                <a:gd name="textAreaBottom" fmla="*/ 73080 h 145800"/>
              </a:gdLst>
              <a:ahLst/>
              <a:rect l="textAreaLeft" t="textAreaTop" r="textAreaRight" b="textAreaBottom"/>
              <a:pathLst>
                <a:path stroke="0" w="252234" h="252279">
                  <a:moveTo>
                    <a:pt x="126117" y="0"/>
                  </a:moveTo>
                  <a:lnTo>
                    <a:pt x="126117" y="0"/>
                  </a:lnTo>
                  <a:arcTo wR="126117" hR="126140" stAng="-5400000" swAng="5400000"/>
                  <a:lnTo>
                    <a:pt x="126117" y="126140"/>
                  </a:lnTo>
                  <a:close/>
                </a:path>
                <a:path fill="none" w="252234" h="252279">
                  <a:moveTo>
                    <a:pt x="126117" y="0"/>
                  </a:moveTo>
                  <a:lnTo>
                    <a:pt x="126117" y="0"/>
                  </a:lnTo>
                  <a:arcTo wR="126117" hR="126140" stAng="-5400000" swAng="5400000"/>
                </a:path>
              </a:pathLst>
            </a:custGeom>
            <a:noFill/>
            <a:ln w="44280">
              <a:solidFill>
                <a:srgbClr val="bdd7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1" name="组合 652"/>
            <p:cNvGrpSpPr/>
            <p:nvPr/>
          </p:nvGrpSpPr>
          <p:grpSpPr>
            <a:xfrm>
              <a:off x="2444040" y="3863160"/>
              <a:ext cx="166680" cy="26640"/>
              <a:chOff x="2444040" y="3863160"/>
              <a:chExt cx="166680" cy="26640"/>
            </a:xfrm>
          </p:grpSpPr>
          <p:sp>
            <p:nvSpPr>
              <p:cNvPr id="1702" name="圆角矩形 504"/>
              <p:cNvSpPr/>
              <p:nvPr/>
            </p:nvSpPr>
            <p:spPr>
              <a:xfrm rot="5400000">
                <a:off x="2527560" y="3806640"/>
                <a:ext cx="26280" cy="139680"/>
              </a:xfrm>
              <a:custGeom>
                <a:avLst/>
                <a:gdLst>
                  <a:gd name="textAreaLeft" fmla="*/ 3600 w 26280"/>
                  <a:gd name="textAreaRight" fmla="*/ 22680 w 26280"/>
                  <a:gd name="textAreaTop" fmla="*/ 3600 h 139680"/>
                  <a:gd name="textAreaBottom" fmla="*/ 136080 h 139680"/>
                </a:gdLst>
                <a:ahLst/>
                <a:rect l="textAreaLeft" t="textAreaTop" r="textAreaRight" b="textAreaBottom"/>
                <a:pathLst>
                  <a:path w="21600" h="113546">
                    <a:moveTo>
                      <a:pt x="10524" y="0"/>
                    </a:moveTo>
                    <a:arcTo wR="10524" hR="10524" stAng="16200000" swAng="-5400000"/>
                    <a:lnTo>
                      <a:pt x="0" y="103022"/>
                    </a:lnTo>
                    <a:arcTo wR="10524" hR="10524" stAng="10800000" swAng="-5400000"/>
                    <a:lnTo>
                      <a:pt x="11076" y="113546"/>
                    </a:lnTo>
                    <a:arcTo wR="10524" hR="10524" stAng="5400000" swAng="-5400000"/>
                    <a:lnTo>
                      <a:pt x="21600" y="10524"/>
                    </a:lnTo>
                    <a:arcTo wR="10524" hR="10524" stAng="0" swAng="-5400000"/>
                    <a:close/>
                  </a:path>
                </a:pathLst>
              </a:cu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圆角矩形 505"/>
              <p:cNvSpPr/>
              <p:nvPr/>
            </p:nvSpPr>
            <p:spPr>
              <a:xfrm rot="16200000">
                <a:off x="2507760" y="3799080"/>
                <a:ext cx="26280" cy="154080"/>
              </a:xfrm>
              <a:custGeom>
                <a:avLst/>
                <a:gdLst/>
                <a:ahLst/>
                <a:rect l="l" t="t" r="r" b="b"/>
                <a:pathLst>
                  <a:path w="21600" h="125222">
                    <a:moveTo>
                      <a:pt x="81" y="0"/>
                    </a:moveTo>
                    <a:arcTo wR="81" hR="81" stAng="16200000" swAng="-5400000"/>
                    <a:lnTo>
                      <a:pt x="0" y="125141"/>
                    </a:lnTo>
                    <a:arcTo wR="81" hR="81" stAng="10800000" swAng="-5400000"/>
                    <a:lnTo>
                      <a:pt x="21519" y="125222"/>
                    </a:lnTo>
                    <a:arcTo wR="81" hR="81" stAng="5400000" swAng="-5400000"/>
                    <a:lnTo>
                      <a:pt x="21600" y="81"/>
                    </a:lnTo>
                    <a:arcTo wR="81" hR="81" stAng="0" swAng="-5400000"/>
                    <a:close/>
                  </a:path>
                </a:pathLst>
              </a:cu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4" name="组合 652"/>
            <p:cNvGrpSpPr/>
            <p:nvPr/>
          </p:nvGrpSpPr>
          <p:grpSpPr>
            <a:xfrm>
              <a:off x="2563200" y="3868560"/>
              <a:ext cx="149400" cy="39240"/>
              <a:chOff x="2563200" y="3868560"/>
              <a:chExt cx="149400" cy="39240"/>
            </a:xfrm>
          </p:grpSpPr>
          <p:sp>
            <p:nvSpPr>
              <p:cNvPr id="1705" name="圆角矩形 502"/>
              <p:cNvSpPr/>
              <p:nvPr/>
            </p:nvSpPr>
            <p:spPr>
              <a:xfrm rot="5100000">
                <a:off x="2665440" y="3851280"/>
                <a:ext cx="25920" cy="65880"/>
              </a:xfrm>
              <a:custGeom>
                <a:avLst/>
                <a:gdLst>
                  <a:gd name="textAreaLeft" fmla="*/ 3600 w 25920"/>
                  <a:gd name="textAreaRight" fmla="*/ 22320 w 25920"/>
                  <a:gd name="textAreaTop" fmla="*/ 3600 h 65880"/>
                  <a:gd name="textAreaBottom" fmla="*/ 62280 h 65880"/>
                </a:gdLst>
                <a:ahLst/>
                <a:rect l="textAreaLeft" t="textAreaTop" r="textAreaRight" b="textAreaBottom"/>
                <a:pathLst>
                  <a:path w="21600" h="54444">
                    <a:moveTo>
                      <a:pt x="10524" y="0"/>
                    </a:moveTo>
                    <a:arcTo wR="10524" hR="10524" stAng="16200000" swAng="-5400000"/>
                    <a:lnTo>
                      <a:pt x="0" y="43920"/>
                    </a:lnTo>
                    <a:arcTo wR="10524" hR="10524" stAng="10800000" swAng="-5400000"/>
                    <a:lnTo>
                      <a:pt x="11076" y="54444"/>
                    </a:lnTo>
                    <a:arcTo wR="10524" hR="10524" stAng="5400000" swAng="-5400000"/>
                    <a:lnTo>
                      <a:pt x="21600" y="10524"/>
                    </a:lnTo>
                    <a:arcTo wR="10524" hR="10524" stAng="0" swAng="-5400000"/>
                    <a:close/>
                  </a:path>
                </a:pathLst>
              </a:cu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圆角矩形 503"/>
              <p:cNvSpPr/>
              <p:nvPr/>
            </p:nvSpPr>
            <p:spPr>
              <a:xfrm rot="15900000">
                <a:off x="2619360" y="3820320"/>
                <a:ext cx="25920" cy="136800"/>
              </a:xfrm>
              <a:custGeom>
                <a:avLst/>
                <a:gdLst/>
                <a:ahLst/>
                <a:rect l="l" t="t" r="r" b="b"/>
                <a:pathLst>
                  <a:path w="21600" h="112734">
                    <a:moveTo>
                      <a:pt x="81" y="0"/>
                    </a:moveTo>
                    <a:arcTo wR="81" hR="81" stAng="16200000" swAng="-5400000"/>
                    <a:lnTo>
                      <a:pt x="0" y="112653"/>
                    </a:lnTo>
                    <a:arcTo wR="81" hR="81" stAng="10800000" swAng="-5400000"/>
                    <a:lnTo>
                      <a:pt x="21519" y="112734"/>
                    </a:lnTo>
                    <a:arcTo wR="81" hR="81" stAng="5400000" swAng="-5400000"/>
                    <a:lnTo>
                      <a:pt x="21600" y="81"/>
                    </a:lnTo>
                    <a:arcTo wR="81" hR="81" stAng="0" swAng="-5400000"/>
                    <a:close/>
                  </a:path>
                </a:pathLst>
              </a:cu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7" name="矩形 293"/>
            <p:cNvSpPr/>
            <p:nvPr/>
          </p:nvSpPr>
          <p:spPr>
            <a:xfrm>
              <a:off x="3155760" y="3813120"/>
              <a:ext cx="83880" cy="5922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8" name="组合 294"/>
            <p:cNvGrpSpPr/>
            <p:nvPr/>
          </p:nvGrpSpPr>
          <p:grpSpPr>
            <a:xfrm>
              <a:off x="2155680" y="3801240"/>
              <a:ext cx="4186440" cy="604440"/>
              <a:chOff x="2155680" y="3801240"/>
              <a:chExt cx="4186440" cy="604440"/>
            </a:xfrm>
          </p:grpSpPr>
          <p:sp>
            <p:nvSpPr>
              <p:cNvPr id="1709" name="矩形 498"/>
              <p:cNvSpPr/>
              <p:nvPr/>
            </p:nvSpPr>
            <p:spPr>
              <a:xfrm>
                <a:off x="2155680" y="3801240"/>
                <a:ext cx="1049400" cy="604440"/>
              </a:xfrm>
              <a:prstGeom prst="rect">
                <a:avLst/>
              </a:prstGeom>
              <a:gradFill rotWithShape="0">
                <a:gsLst>
                  <a:gs pos="0">
                    <a:srgbClr val="f2f2f2">
                      <a:alpha val="39215"/>
                    </a:srgbClr>
                  </a:gs>
                  <a:gs pos="100000">
                    <a:srgbClr val="e1ecfb">
                      <a:alpha val="3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矩形 499"/>
              <p:cNvSpPr/>
              <p:nvPr/>
            </p:nvSpPr>
            <p:spPr>
              <a:xfrm>
                <a:off x="3192120" y="3801240"/>
                <a:ext cx="1047600" cy="604440"/>
              </a:xfrm>
              <a:prstGeom prst="rect">
                <a:avLst/>
              </a:prstGeom>
              <a:gradFill rotWithShape="0">
                <a:gsLst>
                  <a:gs pos="0">
                    <a:srgbClr val="f2f2f2">
                      <a:alpha val="39215"/>
                    </a:srgbClr>
                  </a:gs>
                  <a:gs pos="100000">
                    <a:srgbClr val="e1ecfb">
                      <a:alpha val="3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矩形 500"/>
              <p:cNvSpPr/>
              <p:nvPr/>
            </p:nvSpPr>
            <p:spPr>
              <a:xfrm>
                <a:off x="4257720" y="3801240"/>
                <a:ext cx="1047600" cy="604440"/>
              </a:xfrm>
              <a:prstGeom prst="rect">
                <a:avLst/>
              </a:prstGeom>
              <a:gradFill rotWithShape="0">
                <a:gsLst>
                  <a:gs pos="0">
                    <a:srgbClr val="f2f2f2">
                      <a:alpha val="39215"/>
                    </a:srgbClr>
                  </a:gs>
                  <a:gs pos="100000">
                    <a:srgbClr val="e1ecfb">
                      <a:alpha val="3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矩形 501"/>
              <p:cNvSpPr/>
              <p:nvPr/>
            </p:nvSpPr>
            <p:spPr>
              <a:xfrm>
                <a:off x="5292720" y="3801240"/>
                <a:ext cx="1049400" cy="604440"/>
              </a:xfrm>
              <a:prstGeom prst="rect">
                <a:avLst/>
              </a:prstGeom>
              <a:gradFill rotWithShape="0">
                <a:gsLst>
                  <a:gs pos="0">
                    <a:srgbClr val="f2f2f2">
                      <a:alpha val="39215"/>
                    </a:srgbClr>
                  </a:gs>
                  <a:gs pos="100000">
                    <a:srgbClr val="e1ecfb">
                      <a:alpha val="3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3" name="组合 416" descr=""/>
            <p:cNvPicPr/>
            <p:nvPr/>
          </p:nvPicPr>
          <p:blipFill>
            <a:blip r:embed="rId14"/>
            <a:stretch/>
          </p:blipFill>
          <p:spPr>
            <a:xfrm>
              <a:off x="5809680" y="4011120"/>
              <a:ext cx="4860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4" name="矩形 296"/>
            <p:cNvSpPr/>
            <p:nvPr/>
          </p:nvSpPr>
          <p:spPr>
            <a:xfrm>
              <a:off x="5813640" y="3962160"/>
              <a:ext cx="42840" cy="1476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等腰三角形 297"/>
            <p:cNvSpPr/>
            <p:nvPr/>
          </p:nvSpPr>
          <p:spPr>
            <a:xfrm rot="16200000">
              <a:off x="5708160" y="4004280"/>
              <a:ext cx="147600" cy="63360"/>
            </a:xfrm>
            <a:prstGeom prst="triangle">
              <a:avLst>
                <a:gd name="adj" fmla="val 1088"/>
              </a:avLst>
            </a:prstGeom>
            <a:solidFill>
              <a:srgbClr val="bdd7e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矩形 432"/>
            <p:cNvSpPr/>
            <p:nvPr/>
          </p:nvSpPr>
          <p:spPr>
            <a:xfrm>
              <a:off x="5478480" y="3962160"/>
              <a:ext cx="42840" cy="1476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圆角矩形 299"/>
            <p:cNvSpPr/>
            <p:nvPr/>
          </p:nvSpPr>
          <p:spPr>
            <a:xfrm rot="5400000">
              <a:off x="5219640" y="3922560"/>
              <a:ext cx="25200" cy="1542960"/>
            </a:xfrm>
            <a:custGeom>
              <a:avLst/>
              <a:gdLst>
                <a:gd name="textAreaLeft" fmla="*/ 3240 w 25200"/>
                <a:gd name="textAreaRight" fmla="*/ 21960 w 25200"/>
                <a:gd name="textAreaTop" fmla="*/ 3240 h 1542960"/>
                <a:gd name="textAreaBottom" fmla="*/ 1539720 h 1542960"/>
              </a:gdLst>
              <a:ahLst/>
              <a:rect l="textAreaLeft" t="textAreaTop" r="textAreaRight" b="textAreaBottom"/>
              <a:pathLst>
                <a:path w="21600" h="1304214">
                  <a:moveTo>
                    <a:pt x="10353" y="0"/>
                  </a:moveTo>
                  <a:arcTo wR="10353" hR="10353" stAng="16200000" swAng="-5400000"/>
                  <a:lnTo>
                    <a:pt x="0" y="1293861"/>
                  </a:lnTo>
                  <a:arcTo wR="10353" hR="10353" stAng="10800000" swAng="-5400000"/>
                  <a:lnTo>
                    <a:pt x="11247" y="1304214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矩形 300"/>
            <p:cNvSpPr/>
            <p:nvPr/>
          </p:nvSpPr>
          <p:spPr>
            <a:xfrm>
              <a:off x="4425840" y="6159600"/>
              <a:ext cx="1733760" cy="10296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矩形 301"/>
            <p:cNvSpPr/>
            <p:nvPr/>
          </p:nvSpPr>
          <p:spPr>
            <a:xfrm>
              <a:off x="6067800" y="4807080"/>
              <a:ext cx="41040" cy="21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矩形 302"/>
            <p:cNvSpPr/>
            <p:nvPr/>
          </p:nvSpPr>
          <p:spPr>
            <a:xfrm>
              <a:off x="6044040" y="5019840"/>
              <a:ext cx="61920" cy="82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矩形 303"/>
            <p:cNvSpPr/>
            <p:nvPr/>
          </p:nvSpPr>
          <p:spPr>
            <a:xfrm>
              <a:off x="6019920" y="4821120"/>
              <a:ext cx="25200" cy="1252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矩形 304"/>
            <p:cNvSpPr/>
            <p:nvPr/>
          </p:nvSpPr>
          <p:spPr>
            <a:xfrm>
              <a:off x="6045480" y="4860720"/>
              <a:ext cx="26640" cy="410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矩形 305"/>
            <p:cNvSpPr/>
            <p:nvPr/>
          </p:nvSpPr>
          <p:spPr>
            <a:xfrm>
              <a:off x="6058080" y="5124600"/>
              <a:ext cx="633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矩形 306"/>
            <p:cNvSpPr/>
            <p:nvPr/>
          </p:nvSpPr>
          <p:spPr>
            <a:xfrm>
              <a:off x="6046920" y="5154480"/>
              <a:ext cx="8244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矩形 307"/>
            <p:cNvSpPr/>
            <p:nvPr/>
          </p:nvSpPr>
          <p:spPr>
            <a:xfrm>
              <a:off x="6067800" y="5442120"/>
              <a:ext cx="4104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矩形 308"/>
            <p:cNvSpPr/>
            <p:nvPr/>
          </p:nvSpPr>
          <p:spPr>
            <a:xfrm>
              <a:off x="6058080" y="5505480"/>
              <a:ext cx="63360" cy="82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矩形 309"/>
            <p:cNvSpPr/>
            <p:nvPr/>
          </p:nvSpPr>
          <p:spPr>
            <a:xfrm>
              <a:off x="6058080" y="5613480"/>
              <a:ext cx="63360" cy="298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8" name="组合 310"/>
            <p:cNvGrpSpPr/>
            <p:nvPr/>
          </p:nvGrpSpPr>
          <p:grpSpPr>
            <a:xfrm>
              <a:off x="6037920" y="5643000"/>
              <a:ext cx="104040" cy="136080"/>
              <a:chOff x="6037920" y="5643000"/>
              <a:chExt cx="104040" cy="136080"/>
            </a:xfrm>
          </p:grpSpPr>
          <p:sp>
            <p:nvSpPr>
              <p:cNvPr id="1729" name="矩形 493"/>
              <p:cNvSpPr/>
              <p:nvPr/>
            </p:nvSpPr>
            <p:spPr>
              <a:xfrm>
                <a:off x="6037920" y="5643000"/>
                <a:ext cx="104040" cy="4104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矩形 494"/>
              <p:cNvSpPr/>
              <p:nvPr/>
            </p:nvSpPr>
            <p:spPr>
              <a:xfrm>
                <a:off x="6037920" y="5674680"/>
                <a:ext cx="104040" cy="6156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矩形 495"/>
              <p:cNvSpPr/>
              <p:nvPr/>
            </p:nvSpPr>
            <p:spPr>
              <a:xfrm>
                <a:off x="6037920" y="5738040"/>
                <a:ext cx="104040" cy="4104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2" name="矩形 311"/>
            <p:cNvSpPr/>
            <p:nvPr/>
          </p:nvSpPr>
          <p:spPr>
            <a:xfrm>
              <a:off x="5983560" y="5610240"/>
              <a:ext cx="25200" cy="1490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矩形 312"/>
            <p:cNvSpPr/>
            <p:nvPr/>
          </p:nvSpPr>
          <p:spPr>
            <a:xfrm>
              <a:off x="6008760" y="5685120"/>
              <a:ext cx="26640" cy="428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矩形 313"/>
            <p:cNvSpPr/>
            <p:nvPr/>
          </p:nvSpPr>
          <p:spPr>
            <a:xfrm>
              <a:off x="6058080" y="5770800"/>
              <a:ext cx="63360" cy="298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圆角矩形 314"/>
            <p:cNvSpPr/>
            <p:nvPr/>
          </p:nvSpPr>
          <p:spPr>
            <a:xfrm rot="5400000">
              <a:off x="5990400" y="5849280"/>
              <a:ext cx="58680" cy="187200"/>
            </a:xfrm>
            <a:custGeom>
              <a:avLst/>
              <a:gdLst>
                <a:gd name="textAreaLeft" fmla="*/ 8280 w 58680"/>
                <a:gd name="textAreaRight" fmla="*/ 50400 w 58680"/>
                <a:gd name="textAreaTop" fmla="*/ 8280 h 187200"/>
                <a:gd name="textAreaBottom" fmla="*/ 178920 h 187200"/>
              </a:gdLst>
              <a:ahLst/>
              <a:rect l="textAreaLeft" t="textAreaTop" r="textAreaRight" b="textAreaBottom"/>
              <a:pathLst>
                <a:path w="21600" h="68620">
                  <a:moveTo>
                    <a:pt x="10353" y="0"/>
                  </a:moveTo>
                  <a:arcTo wR="10353" hR="10353" stAng="16200000" swAng="-5400000"/>
                  <a:lnTo>
                    <a:pt x="0" y="58267"/>
                  </a:lnTo>
                  <a:arcTo wR="10353" hR="10353" stAng="10800000" swAng="-5400000"/>
                  <a:lnTo>
                    <a:pt x="11247" y="68620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矩形 315"/>
            <p:cNvSpPr/>
            <p:nvPr/>
          </p:nvSpPr>
          <p:spPr>
            <a:xfrm>
              <a:off x="6062760" y="5800680"/>
              <a:ext cx="55440" cy="14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矩形 316"/>
            <p:cNvSpPr/>
            <p:nvPr/>
          </p:nvSpPr>
          <p:spPr>
            <a:xfrm rot="5400000">
              <a:off x="5893560" y="5928840"/>
              <a:ext cx="8244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矩形 317"/>
            <p:cNvSpPr/>
            <p:nvPr/>
          </p:nvSpPr>
          <p:spPr>
            <a:xfrm rot="5400000">
              <a:off x="5872320" y="5927760"/>
              <a:ext cx="8244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矩形 318"/>
            <p:cNvSpPr/>
            <p:nvPr/>
          </p:nvSpPr>
          <p:spPr>
            <a:xfrm rot="5400000">
              <a:off x="5586840" y="5928840"/>
              <a:ext cx="82440" cy="2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矩形 319"/>
            <p:cNvSpPr/>
            <p:nvPr/>
          </p:nvSpPr>
          <p:spPr>
            <a:xfrm>
              <a:off x="5643720" y="5864400"/>
              <a:ext cx="25380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右箭头 320"/>
            <p:cNvSpPr/>
            <p:nvPr/>
          </p:nvSpPr>
          <p:spPr>
            <a:xfrm>
              <a:off x="5729400" y="5951520"/>
              <a:ext cx="104760" cy="63360"/>
            </a:xfrm>
            <a:prstGeom prst="rightArrow">
              <a:avLst>
                <a:gd name="adj1" fmla="val 50000"/>
                <a:gd name="adj2" fmla="val 50115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矩形 321"/>
            <p:cNvSpPr/>
            <p:nvPr/>
          </p:nvSpPr>
          <p:spPr>
            <a:xfrm>
              <a:off x="5518440" y="5803920"/>
              <a:ext cx="485640" cy="83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矩形 322"/>
            <p:cNvSpPr/>
            <p:nvPr/>
          </p:nvSpPr>
          <p:spPr>
            <a:xfrm>
              <a:off x="5977080" y="5888160"/>
              <a:ext cx="26640" cy="2095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矩形 323"/>
            <p:cNvSpPr/>
            <p:nvPr/>
          </p:nvSpPr>
          <p:spPr>
            <a:xfrm rot="5400000">
              <a:off x="5565960" y="5927760"/>
              <a:ext cx="8244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矩形 324"/>
            <p:cNvSpPr/>
            <p:nvPr/>
          </p:nvSpPr>
          <p:spPr>
            <a:xfrm>
              <a:off x="5686560" y="5442120"/>
              <a:ext cx="169560" cy="35856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矩形 325"/>
            <p:cNvSpPr/>
            <p:nvPr/>
          </p:nvSpPr>
          <p:spPr>
            <a:xfrm>
              <a:off x="5718240" y="5399280"/>
              <a:ext cx="10620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7" name="组合 326"/>
            <p:cNvGrpSpPr/>
            <p:nvPr/>
          </p:nvGrpSpPr>
          <p:grpSpPr>
            <a:xfrm>
              <a:off x="5401080" y="5833080"/>
              <a:ext cx="62280" cy="52920"/>
              <a:chOff x="5401080" y="5833080"/>
              <a:chExt cx="62280" cy="52920"/>
            </a:xfrm>
          </p:grpSpPr>
          <p:sp>
            <p:nvSpPr>
              <p:cNvPr id="1748" name="矩形 491"/>
              <p:cNvSpPr/>
              <p:nvPr/>
            </p:nvSpPr>
            <p:spPr>
              <a:xfrm rot="5400000">
                <a:off x="5418720" y="5815080"/>
                <a:ext cx="26640" cy="622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矩形 492"/>
              <p:cNvSpPr/>
              <p:nvPr/>
            </p:nvSpPr>
            <p:spPr>
              <a:xfrm rot="5400000">
                <a:off x="5418360" y="5851800"/>
                <a:ext cx="26280" cy="4212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0" name="椭圆 327"/>
            <p:cNvSpPr/>
            <p:nvPr/>
          </p:nvSpPr>
          <p:spPr>
            <a:xfrm>
              <a:off x="5389560" y="5900760"/>
              <a:ext cx="83880" cy="838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圆角矩形 328"/>
            <p:cNvSpPr/>
            <p:nvPr/>
          </p:nvSpPr>
          <p:spPr>
            <a:xfrm rot="5400000">
              <a:off x="5489280" y="5839200"/>
              <a:ext cx="58680" cy="207720"/>
            </a:xfrm>
            <a:custGeom>
              <a:avLst/>
              <a:gdLst>
                <a:gd name="textAreaLeft" fmla="*/ 8280 w 58680"/>
                <a:gd name="textAreaRight" fmla="*/ 50400 w 58680"/>
                <a:gd name="textAreaTop" fmla="*/ 8280 h 207720"/>
                <a:gd name="textAreaBottom" fmla="*/ 199440 h 207720"/>
              </a:gdLst>
              <a:ahLst/>
              <a:rect l="textAreaLeft" t="textAreaTop" r="textAreaRight" b="textAreaBottom"/>
              <a:pathLst>
                <a:path w="21600" h="76127">
                  <a:moveTo>
                    <a:pt x="10353" y="0"/>
                  </a:moveTo>
                  <a:arcTo wR="10353" hR="10353" stAng="16200000" swAng="-5400000"/>
                  <a:lnTo>
                    <a:pt x="0" y="65774"/>
                  </a:lnTo>
                  <a:arcTo wR="10353" hR="10353" stAng="10800000" swAng="-5400000"/>
                  <a:lnTo>
                    <a:pt x="11247" y="76127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2" name="组合 329"/>
            <p:cNvGrpSpPr/>
            <p:nvPr/>
          </p:nvGrpSpPr>
          <p:grpSpPr>
            <a:xfrm>
              <a:off x="5665320" y="5315040"/>
              <a:ext cx="211680" cy="486000"/>
              <a:chOff x="5665320" y="5315040"/>
              <a:chExt cx="211680" cy="486000"/>
            </a:xfrm>
          </p:grpSpPr>
          <p:sp>
            <p:nvSpPr>
              <p:cNvPr id="1753" name="矩形 484"/>
              <p:cNvSpPr/>
              <p:nvPr/>
            </p:nvSpPr>
            <p:spPr>
              <a:xfrm>
                <a:off x="5754960" y="5315040"/>
                <a:ext cx="3312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4" name="组合 801"/>
              <p:cNvGrpSpPr/>
              <p:nvPr/>
            </p:nvGrpSpPr>
            <p:grpSpPr>
              <a:xfrm>
                <a:off x="5665320" y="5330520"/>
                <a:ext cx="211680" cy="470520"/>
                <a:chOff x="5665320" y="5330520"/>
                <a:chExt cx="211680" cy="470520"/>
              </a:xfrm>
            </p:grpSpPr>
            <p:sp>
              <p:nvSpPr>
                <p:cNvPr id="1755" name="矩形 486"/>
                <p:cNvSpPr/>
                <p:nvPr/>
              </p:nvSpPr>
              <p:spPr>
                <a:xfrm>
                  <a:off x="5750280" y="5357520"/>
                  <a:ext cx="42840" cy="25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矩形 487"/>
                <p:cNvSpPr/>
                <p:nvPr/>
              </p:nvSpPr>
              <p:spPr>
                <a:xfrm>
                  <a:off x="5761080" y="5330520"/>
                  <a:ext cx="2052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7" name="组合 481"/>
                <p:cNvGrpSpPr/>
                <p:nvPr/>
              </p:nvGrpSpPr>
              <p:grpSpPr>
                <a:xfrm>
                  <a:off x="5665320" y="5378040"/>
                  <a:ext cx="211680" cy="423000"/>
                  <a:chOff x="5665320" y="5378040"/>
                  <a:chExt cx="211680" cy="423000"/>
                </a:xfrm>
              </p:grpSpPr>
              <p:sp>
                <p:nvSpPr>
                  <p:cNvPr id="1758" name="矩形 489"/>
                  <p:cNvSpPr/>
                  <p:nvPr/>
                </p:nvSpPr>
                <p:spPr>
                  <a:xfrm>
                    <a:off x="5665680" y="5462280"/>
                    <a:ext cx="211320" cy="338760"/>
                  </a:xfrm>
                  <a:prstGeom prst="rect">
                    <a:avLst/>
                  </a:prstGeom>
                  <a:solidFill>
                    <a:srgbClr val="f2f2f2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弦形 490"/>
                  <p:cNvSpPr/>
                  <p:nvPr/>
                </p:nvSpPr>
                <p:spPr>
                  <a:xfrm rot="5400000">
                    <a:off x="5686560" y="5356440"/>
                    <a:ext cx="168480" cy="211320"/>
                  </a:xfrm>
                  <a:custGeom>
                    <a:avLst/>
                    <a:gdLst>
                      <a:gd name="textAreaLeft" fmla="*/ 24480 w 168480"/>
                      <a:gd name="textAreaRight" fmla="*/ 144000 w 168480"/>
                      <a:gd name="textAreaTop" fmla="*/ 30960 h 211320"/>
                      <a:gd name="textAreaBottom" fmla="*/ 180360 h 211320"/>
                    </a:gdLst>
                    <a:ahLst/>
                    <a:rect l="textAreaLeft" t="textAreaTop" r="textAreaRight" b="textAreaBottom"/>
                    <a:pathLst>
                      <a:path w="290669" h="364640">
                        <a:moveTo>
                          <a:pt x="144793" y="364639"/>
                        </a:moveTo>
                        <a:lnTo>
                          <a:pt x="144793" y="364639"/>
                        </a:lnTo>
                        <a:arcTo wR="145335" hR="182320" stAng="5410220" swAng="10789780"/>
                        <a:close/>
                      </a:path>
                    </a:pathLst>
                  </a:custGeom>
                  <a:solidFill>
                    <a:srgbClr val="f2f2f2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60" name="圆角矩形 330"/>
            <p:cNvSpPr/>
            <p:nvPr/>
          </p:nvSpPr>
          <p:spPr>
            <a:xfrm rot="5400000">
              <a:off x="5124960" y="5390280"/>
              <a:ext cx="41040" cy="230040"/>
            </a:xfrm>
            <a:custGeom>
              <a:avLst/>
              <a:gdLst>
                <a:gd name="textAreaLeft" fmla="*/ 5760 w 41040"/>
                <a:gd name="textAreaRight" fmla="*/ 35280 w 41040"/>
                <a:gd name="textAreaTop" fmla="*/ 5760 h 230040"/>
                <a:gd name="textAreaBottom" fmla="*/ 224280 h 230040"/>
              </a:gdLst>
              <a:ahLst/>
              <a:rect l="textAreaLeft" t="textAreaTop" r="textAreaRight" b="textAreaBottom"/>
              <a:pathLst>
                <a:path w="21600" h="120209">
                  <a:moveTo>
                    <a:pt x="10353" y="0"/>
                  </a:moveTo>
                  <a:arcTo wR="10353" hR="10353" stAng="16200000" swAng="-5400000"/>
                  <a:lnTo>
                    <a:pt x="0" y="109856"/>
                  </a:lnTo>
                  <a:arcTo wR="10353" hR="10353" stAng="10800000" swAng="-5400000"/>
                  <a:lnTo>
                    <a:pt x="11247" y="120209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1" name="组合 331"/>
            <p:cNvGrpSpPr/>
            <p:nvPr/>
          </p:nvGrpSpPr>
          <p:grpSpPr>
            <a:xfrm>
              <a:off x="5213880" y="5801040"/>
              <a:ext cx="62280" cy="52920"/>
              <a:chOff x="5213880" y="5801040"/>
              <a:chExt cx="62280" cy="52920"/>
            </a:xfrm>
          </p:grpSpPr>
          <p:sp>
            <p:nvSpPr>
              <p:cNvPr id="1762" name="矩形 482"/>
              <p:cNvSpPr/>
              <p:nvPr/>
            </p:nvSpPr>
            <p:spPr>
              <a:xfrm rot="5400000">
                <a:off x="5231880" y="5783040"/>
                <a:ext cx="26280" cy="622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矩形 483"/>
              <p:cNvSpPr/>
              <p:nvPr/>
            </p:nvSpPr>
            <p:spPr>
              <a:xfrm rot="5400000">
                <a:off x="5234040" y="5819760"/>
                <a:ext cx="26280" cy="417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4" name="椭圆 332"/>
            <p:cNvSpPr/>
            <p:nvPr/>
          </p:nvSpPr>
          <p:spPr>
            <a:xfrm>
              <a:off x="5203800" y="5848560"/>
              <a:ext cx="83880" cy="838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圆角矩形 333"/>
            <p:cNvSpPr/>
            <p:nvPr/>
          </p:nvSpPr>
          <p:spPr>
            <a:xfrm rot="5400000">
              <a:off x="5066280" y="5712480"/>
              <a:ext cx="41040" cy="353880"/>
            </a:xfrm>
            <a:custGeom>
              <a:avLst/>
              <a:gdLst>
                <a:gd name="textAreaLeft" fmla="*/ 5760 w 41040"/>
                <a:gd name="textAreaRight" fmla="*/ 35280 w 41040"/>
                <a:gd name="textAreaTop" fmla="*/ 5760 h 353880"/>
                <a:gd name="textAreaBottom" fmla="*/ 348120 h 353880"/>
              </a:gdLst>
              <a:ahLst/>
              <a:rect l="textAreaLeft" t="textAreaTop" r="textAreaRight" b="textAreaBottom"/>
              <a:pathLst>
                <a:path w="21600" h="184821">
                  <a:moveTo>
                    <a:pt x="10353" y="0"/>
                  </a:moveTo>
                  <a:arcTo wR="10353" hR="10353" stAng="16200000" swAng="-5400000"/>
                  <a:lnTo>
                    <a:pt x="0" y="174468"/>
                  </a:lnTo>
                  <a:arcTo wR="10353" hR="10353" stAng="10800000" swAng="-5400000"/>
                  <a:lnTo>
                    <a:pt x="11247" y="184821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矩形 334"/>
            <p:cNvSpPr/>
            <p:nvPr/>
          </p:nvSpPr>
          <p:spPr>
            <a:xfrm>
              <a:off x="5153040" y="5473800"/>
              <a:ext cx="252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矩形 335"/>
            <p:cNvSpPr/>
            <p:nvPr/>
          </p:nvSpPr>
          <p:spPr>
            <a:xfrm>
              <a:off x="4524480" y="5800680"/>
              <a:ext cx="442800" cy="210960"/>
            </a:xfrm>
            <a:prstGeom prst="rect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椭圆 336"/>
            <p:cNvSpPr/>
            <p:nvPr/>
          </p:nvSpPr>
          <p:spPr>
            <a:xfrm>
              <a:off x="4600440" y="5362560"/>
              <a:ext cx="374400" cy="374400"/>
            </a:xfrm>
            <a:prstGeom prst="ellipse">
              <a:avLst/>
            </a:prstGeom>
            <a:solidFill>
              <a:srgbClr val="bdd7ee">
                <a:alpha val="65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矩形 337"/>
            <p:cNvSpPr/>
            <p:nvPr/>
          </p:nvSpPr>
          <p:spPr>
            <a:xfrm>
              <a:off x="5097600" y="5823000"/>
              <a:ext cx="63360" cy="12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矩形 338"/>
            <p:cNvSpPr/>
            <p:nvPr/>
          </p:nvSpPr>
          <p:spPr>
            <a:xfrm>
              <a:off x="4713480" y="5884920"/>
              <a:ext cx="106200" cy="106200"/>
            </a:xfrm>
            <a:prstGeom prst="rect">
              <a:avLst/>
            </a:prstGeom>
            <a:solidFill>
              <a:srgbClr val="525252"/>
            </a:solidFill>
            <a:ln w="0">
              <a:noFill/>
            </a:ln>
            <a:effectLst>
              <a:outerShdw dist="38160" dir="162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矩形 339"/>
            <p:cNvSpPr/>
            <p:nvPr/>
          </p:nvSpPr>
          <p:spPr>
            <a:xfrm>
              <a:off x="4524480" y="5794560"/>
              <a:ext cx="63360" cy="231480"/>
            </a:xfrm>
            <a:prstGeom prst="rect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2" name="组合 340"/>
            <p:cNvGrpSpPr/>
            <p:nvPr/>
          </p:nvGrpSpPr>
          <p:grpSpPr>
            <a:xfrm>
              <a:off x="4777560" y="5331960"/>
              <a:ext cx="20520" cy="437400"/>
              <a:chOff x="4777560" y="5331960"/>
              <a:chExt cx="20520" cy="437400"/>
            </a:xfrm>
          </p:grpSpPr>
          <p:sp>
            <p:nvSpPr>
              <p:cNvPr id="1773" name="椭圆 480"/>
              <p:cNvSpPr/>
              <p:nvPr/>
            </p:nvSpPr>
            <p:spPr>
              <a:xfrm>
                <a:off x="4777560" y="5331960"/>
                <a:ext cx="20520" cy="20520"/>
              </a:xfrm>
              <a:prstGeom prst="ellipse">
                <a:avLst/>
              </a:pr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椭圆 481"/>
              <p:cNvSpPr/>
              <p:nvPr/>
            </p:nvSpPr>
            <p:spPr>
              <a:xfrm>
                <a:off x="4777560" y="5748840"/>
                <a:ext cx="20520" cy="20520"/>
              </a:xfrm>
              <a:prstGeom prst="ellipse">
                <a:avLst/>
              </a:pr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组合 341"/>
            <p:cNvGrpSpPr/>
            <p:nvPr/>
          </p:nvGrpSpPr>
          <p:grpSpPr>
            <a:xfrm>
              <a:off x="4670280" y="5357160"/>
              <a:ext cx="235080" cy="389160"/>
              <a:chOff x="4670280" y="5357160"/>
              <a:chExt cx="235080" cy="389160"/>
            </a:xfrm>
          </p:grpSpPr>
          <p:sp>
            <p:nvSpPr>
              <p:cNvPr id="1776" name="椭圆 478"/>
              <p:cNvSpPr/>
              <p:nvPr/>
            </p:nvSpPr>
            <p:spPr>
              <a:xfrm rot="1800000">
                <a:off x="4881600" y="5360400"/>
                <a:ext cx="19800" cy="20520"/>
              </a:xfrm>
              <a:prstGeom prst="ellipse">
                <a:avLst/>
              </a:pr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椭圆 569"/>
              <p:cNvSpPr/>
              <p:nvPr/>
            </p:nvSpPr>
            <p:spPr>
              <a:xfrm rot="1800000">
                <a:off x="4673880" y="5721840"/>
                <a:ext cx="19800" cy="20520"/>
              </a:xfrm>
              <a:prstGeom prst="ellipse">
                <a:avLst/>
              </a:pr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8" name="组合 342"/>
            <p:cNvGrpSpPr/>
            <p:nvPr/>
          </p:nvGrpSpPr>
          <p:grpSpPr>
            <a:xfrm>
              <a:off x="4593600" y="5437440"/>
              <a:ext cx="389160" cy="236520"/>
              <a:chOff x="4593600" y="5437440"/>
              <a:chExt cx="389160" cy="236520"/>
            </a:xfrm>
          </p:grpSpPr>
          <p:sp>
            <p:nvSpPr>
              <p:cNvPr id="1779" name="椭圆 476"/>
              <p:cNvSpPr/>
              <p:nvPr/>
            </p:nvSpPr>
            <p:spPr>
              <a:xfrm rot="3600000">
                <a:off x="4958640" y="5440680"/>
                <a:ext cx="20160" cy="20520"/>
              </a:xfrm>
              <a:prstGeom prst="ellipse">
                <a:avLst/>
              </a:pr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椭圆 477"/>
              <p:cNvSpPr/>
              <p:nvPr/>
            </p:nvSpPr>
            <p:spPr>
              <a:xfrm rot="3600000">
                <a:off x="4597200" y="5649480"/>
                <a:ext cx="20160" cy="20520"/>
              </a:xfrm>
              <a:prstGeom prst="ellipse">
                <a:avLst/>
              </a:pr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1" name="组合 343"/>
            <p:cNvGrpSpPr/>
            <p:nvPr/>
          </p:nvGrpSpPr>
          <p:grpSpPr>
            <a:xfrm>
              <a:off x="4569120" y="5547960"/>
              <a:ext cx="437760" cy="20520"/>
              <a:chOff x="4569120" y="5547960"/>
              <a:chExt cx="437760" cy="20520"/>
            </a:xfrm>
          </p:grpSpPr>
          <p:sp>
            <p:nvSpPr>
              <p:cNvPr id="1782" name="椭圆 474"/>
              <p:cNvSpPr/>
              <p:nvPr/>
            </p:nvSpPr>
            <p:spPr>
              <a:xfrm rot="5400000">
                <a:off x="4986360" y="5547960"/>
                <a:ext cx="20520" cy="20520"/>
              </a:xfrm>
              <a:prstGeom prst="ellipse">
                <a:avLst/>
              </a:pr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椭圆 475"/>
              <p:cNvSpPr/>
              <p:nvPr/>
            </p:nvSpPr>
            <p:spPr>
              <a:xfrm rot="5400000">
                <a:off x="4569120" y="5547960"/>
                <a:ext cx="20520" cy="20520"/>
              </a:xfrm>
              <a:prstGeom prst="ellipse">
                <a:avLst/>
              </a:pr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4" name="组合 344"/>
            <p:cNvGrpSpPr/>
            <p:nvPr/>
          </p:nvGrpSpPr>
          <p:grpSpPr>
            <a:xfrm>
              <a:off x="4663800" y="5357160"/>
              <a:ext cx="235440" cy="389160"/>
              <a:chOff x="4663800" y="5357160"/>
              <a:chExt cx="235440" cy="389160"/>
            </a:xfrm>
          </p:grpSpPr>
          <p:sp>
            <p:nvSpPr>
              <p:cNvPr id="1785" name="椭圆 472"/>
              <p:cNvSpPr/>
              <p:nvPr/>
            </p:nvSpPr>
            <p:spPr>
              <a:xfrm flipH="1" rot="19800000">
                <a:off x="4667040" y="5360760"/>
                <a:ext cx="20160" cy="20520"/>
              </a:xfrm>
              <a:prstGeom prst="ellipse">
                <a:avLst/>
              </a:pr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椭圆 473"/>
              <p:cNvSpPr/>
              <p:nvPr/>
            </p:nvSpPr>
            <p:spPr>
              <a:xfrm flipH="1" rot="19800000">
                <a:off x="4874760" y="5722200"/>
                <a:ext cx="20160" cy="20520"/>
              </a:xfrm>
              <a:prstGeom prst="ellipse">
                <a:avLst/>
              </a:pr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7" name="组合 345"/>
            <p:cNvGrpSpPr/>
            <p:nvPr/>
          </p:nvGrpSpPr>
          <p:grpSpPr>
            <a:xfrm>
              <a:off x="4587120" y="5437440"/>
              <a:ext cx="389160" cy="236520"/>
              <a:chOff x="4587120" y="5437440"/>
              <a:chExt cx="389160" cy="236520"/>
            </a:xfrm>
          </p:grpSpPr>
          <p:sp>
            <p:nvSpPr>
              <p:cNvPr id="1788" name="椭圆 470"/>
              <p:cNvSpPr/>
              <p:nvPr/>
            </p:nvSpPr>
            <p:spPr>
              <a:xfrm flipH="1" rot="18000000">
                <a:off x="4590360" y="5441040"/>
                <a:ext cx="20160" cy="20520"/>
              </a:xfrm>
              <a:prstGeom prst="ellipse">
                <a:avLst/>
              </a:pr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椭圆 471"/>
              <p:cNvSpPr/>
              <p:nvPr/>
            </p:nvSpPr>
            <p:spPr>
              <a:xfrm flipH="1" rot="18000000">
                <a:off x="4951800" y="5649840"/>
                <a:ext cx="20160" cy="20520"/>
              </a:xfrm>
              <a:prstGeom prst="ellipse">
                <a:avLst/>
              </a:pr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0" name="圆角矩形 346"/>
            <p:cNvSpPr/>
            <p:nvPr/>
          </p:nvSpPr>
          <p:spPr>
            <a:xfrm>
              <a:off x="4448160" y="5589720"/>
              <a:ext cx="56880" cy="353880"/>
            </a:xfrm>
            <a:custGeom>
              <a:avLst/>
              <a:gdLst>
                <a:gd name="textAreaLeft" fmla="*/ 7920 w 56880"/>
                <a:gd name="textAreaRight" fmla="*/ 48960 w 56880"/>
                <a:gd name="textAreaTop" fmla="*/ 7920 h 353880"/>
                <a:gd name="textAreaBottom" fmla="*/ 345960 h 353880"/>
              </a:gdLst>
              <a:ahLst/>
              <a:rect l="textAreaLeft" t="textAreaTop" r="textAreaRight" b="textAreaBottom"/>
              <a:pathLst>
                <a:path w="21600" h="133675">
                  <a:moveTo>
                    <a:pt x="10353" y="0"/>
                  </a:moveTo>
                  <a:arcTo wR="10353" hR="10353" stAng="16200000" swAng="-5400000"/>
                  <a:lnTo>
                    <a:pt x="0" y="123322"/>
                  </a:lnTo>
                  <a:arcTo wR="10353" hR="10353" stAng="10800000" swAng="-5400000"/>
                  <a:lnTo>
                    <a:pt x="11247" y="133675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矩形 347"/>
            <p:cNvSpPr/>
            <p:nvPr/>
          </p:nvSpPr>
          <p:spPr>
            <a:xfrm>
              <a:off x="4438800" y="5800680"/>
              <a:ext cx="7596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圆角矩形 348"/>
            <p:cNvSpPr/>
            <p:nvPr/>
          </p:nvSpPr>
          <p:spPr>
            <a:xfrm rot="10800000">
              <a:off x="4460760" y="4694040"/>
              <a:ext cx="25200" cy="915840"/>
            </a:xfrm>
            <a:custGeom>
              <a:avLst/>
              <a:gdLst>
                <a:gd name="textAreaLeft" fmla="*/ 3240 w 25200"/>
                <a:gd name="textAreaRight" fmla="*/ 21960 w 25200"/>
                <a:gd name="textAreaTop" fmla="*/ 3240 h 915840"/>
                <a:gd name="textAreaBottom" fmla="*/ 912600 h 915840"/>
              </a:gdLst>
              <a:ahLst/>
              <a:rect l="textAreaLeft" t="textAreaTop" r="textAreaRight" b="textAreaBottom"/>
              <a:pathLst>
                <a:path w="21600" h="774254">
                  <a:moveTo>
                    <a:pt x="10353" y="0"/>
                  </a:moveTo>
                  <a:arcTo wR="10353" hR="10353" stAng="16200000" swAng="-5400000"/>
                  <a:lnTo>
                    <a:pt x="0" y="763901"/>
                  </a:lnTo>
                  <a:arcTo wR="10353" hR="10353" stAng="10800000" swAng="-5400000"/>
                  <a:lnTo>
                    <a:pt x="11247" y="774254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3" name="组合 349"/>
            <p:cNvGrpSpPr/>
            <p:nvPr/>
          </p:nvGrpSpPr>
          <p:grpSpPr>
            <a:xfrm>
              <a:off x="4491720" y="4913280"/>
              <a:ext cx="52920" cy="147960"/>
              <a:chOff x="4491720" y="4913280"/>
              <a:chExt cx="52920" cy="147960"/>
            </a:xfrm>
          </p:grpSpPr>
          <p:sp>
            <p:nvSpPr>
              <p:cNvPr id="1794" name="矩形 468"/>
              <p:cNvSpPr/>
              <p:nvPr/>
            </p:nvSpPr>
            <p:spPr>
              <a:xfrm flipH="1">
                <a:off x="4518720" y="4913280"/>
                <a:ext cx="25560" cy="1479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矩形 469"/>
              <p:cNvSpPr/>
              <p:nvPr/>
            </p:nvSpPr>
            <p:spPr>
              <a:xfrm flipH="1">
                <a:off x="4491720" y="4965840"/>
                <a:ext cx="27360" cy="4284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6" name="矩形 350"/>
            <p:cNvSpPr/>
            <p:nvPr/>
          </p:nvSpPr>
          <p:spPr>
            <a:xfrm>
              <a:off x="4456080" y="4914720"/>
              <a:ext cx="41040" cy="16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矩形 351"/>
            <p:cNvSpPr/>
            <p:nvPr/>
          </p:nvSpPr>
          <p:spPr>
            <a:xfrm>
              <a:off x="2331720" y="6159600"/>
              <a:ext cx="1733760" cy="10296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矩形 352"/>
            <p:cNvSpPr/>
            <p:nvPr/>
          </p:nvSpPr>
          <p:spPr>
            <a:xfrm>
              <a:off x="2331720" y="6075720"/>
              <a:ext cx="1733760" cy="1047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弧形 353"/>
            <p:cNvSpPr/>
            <p:nvPr/>
          </p:nvSpPr>
          <p:spPr>
            <a:xfrm>
              <a:off x="5496120" y="5378400"/>
              <a:ext cx="380880" cy="401400"/>
            </a:xfrm>
            <a:custGeom>
              <a:avLst/>
              <a:gdLst>
                <a:gd name="textAreaLeft" fmla="*/ 0 w 380880"/>
                <a:gd name="textAreaRight" fmla="*/ 180720 w 380880"/>
                <a:gd name="textAreaTop" fmla="*/ 29160 h 401400"/>
                <a:gd name="textAreaBottom" fmla="*/ 401400 h 401400"/>
              </a:gdLst>
              <a:ahLst/>
              <a:rect l="textAreaLeft" t="textAreaTop" r="textAreaRight" b="textAreaBottom"/>
              <a:pathLst>
                <a:path stroke="0" w="658000" h="693767">
                  <a:moveTo>
                    <a:pt x="312127" y="693311"/>
                  </a:moveTo>
                  <a:lnTo>
                    <a:pt x="312127" y="693311"/>
                  </a:lnTo>
                  <a:arcTo wR="329000" hR="346884" stAng="5567305" swAng="8833842"/>
                  <a:lnTo>
                    <a:pt x="329000" y="346884"/>
                  </a:lnTo>
                  <a:close/>
                </a:path>
                <a:path fill="none" w="658000" h="693767">
                  <a:moveTo>
                    <a:pt x="312127" y="693311"/>
                  </a:moveTo>
                  <a:lnTo>
                    <a:pt x="312127" y="693311"/>
                  </a:lnTo>
                  <a:arcTo wR="329000" hR="346884" stAng="5567305" swAng="8833842"/>
                </a:path>
              </a:pathLst>
            </a:custGeom>
            <a:noFill/>
            <a:ln w="9360">
              <a:solidFill>
                <a:srgbClr val="deeb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直接连接符 354"/>
            <p:cNvSpPr/>
            <p:nvPr/>
          </p:nvSpPr>
          <p:spPr>
            <a:xfrm flipV="1">
              <a:off x="5588280" y="5327640"/>
              <a:ext cx="166680" cy="79200"/>
            </a:xfrm>
            <a:prstGeom prst="line">
              <a:avLst/>
            </a:prstGeom>
            <a:ln w="9360">
              <a:solidFill>
                <a:srgbClr val="deeb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1" name="组合 355"/>
            <p:cNvGrpSpPr/>
            <p:nvPr/>
          </p:nvGrpSpPr>
          <p:grpSpPr>
            <a:xfrm>
              <a:off x="3702960" y="5843520"/>
              <a:ext cx="147960" cy="52920"/>
              <a:chOff x="3702960" y="5843520"/>
              <a:chExt cx="147960" cy="52920"/>
            </a:xfrm>
          </p:grpSpPr>
          <p:sp>
            <p:nvSpPr>
              <p:cNvPr id="1802" name="矩形 466"/>
              <p:cNvSpPr/>
              <p:nvPr/>
            </p:nvSpPr>
            <p:spPr>
              <a:xfrm rot="5400000">
                <a:off x="3763080" y="5783040"/>
                <a:ext cx="27360" cy="1479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矩形 467"/>
              <p:cNvSpPr/>
              <p:nvPr/>
            </p:nvSpPr>
            <p:spPr>
              <a:xfrm rot="5400000">
                <a:off x="3743640" y="5862240"/>
                <a:ext cx="25560" cy="4284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4" name="矩形 356"/>
            <p:cNvSpPr/>
            <p:nvPr/>
          </p:nvSpPr>
          <p:spPr>
            <a:xfrm rot="5400000">
              <a:off x="3573360" y="5927760"/>
              <a:ext cx="8244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矩形 357"/>
            <p:cNvSpPr/>
            <p:nvPr/>
          </p:nvSpPr>
          <p:spPr>
            <a:xfrm rot="5400000">
              <a:off x="3541320" y="5927760"/>
              <a:ext cx="8244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矩形 358"/>
            <p:cNvSpPr/>
            <p:nvPr/>
          </p:nvSpPr>
          <p:spPr>
            <a:xfrm rot="5400000">
              <a:off x="3256200" y="5928840"/>
              <a:ext cx="82440" cy="2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右箭头 359"/>
            <p:cNvSpPr/>
            <p:nvPr/>
          </p:nvSpPr>
          <p:spPr>
            <a:xfrm>
              <a:off x="3398760" y="5951520"/>
              <a:ext cx="104760" cy="63360"/>
            </a:xfrm>
            <a:prstGeom prst="rightArrow">
              <a:avLst>
                <a:gd name="adj1" fmla="val 50000"/>
                <a:gd name="adj2" fmla="val 50115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矩形 360"/>
            <p:cNvSpPr/>
            <p:nvPr/>
          </p:nvSpPr>
          <p:spPr>
            <a:xfrm rot="5400000">
              <a:off x="3234960" y="5927760"/>
              <a:ext cx="8244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矩形 361"/>
            <p:cNvSpPr/>
            <p:nvPr/>
          </p:nvSpPr>
          <p:spPr>
            <a:xfrm>
              <a:off x="3355920" y="5442120"/>
              <a:ext cx="168120" cy="35856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矩形 362"/>
            <p:cNvSpPr/>
            <p:nvPr/>
          </p:nvSpPr>
          <p:spPr>
            <a:xfrm>
              <a:off x="3387600" y="5399280"/>
              <a:ext cx="1047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矩形 363"/>
            <p:cNvSpPr/>
            <p:nvPr/>
          </p:nvSpPr>
          <p:spPr>
            <a:xfrm>
              <a:off x="3419280" y="5357880"/>
              <a:ext cx="4104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圆角矩形 364"/>
            <p:cNvSpPr/>
            <p:nvPr/>
          </p:nvSpPr>
          <p:spPr>
            <a:xfrm rot="5400000">
              <a:off x="3137040" y="5817600"/>
              <a:ext cx="58680" cy="250560"/>
            </a:xfrm>
            <a:custGeom>
              <a:avLst/>
              <a:gdLst>
                <a:gd name="textAreaLeft" fmla="*/ 8280 w 58680"/>
                <a:gd name="textAreaRight" fmla="*/ 50400 w 58680"/>
                <a:gd name="textAreaTop" fmla="*/ 8280 h 250560"/>
                <a:gd name="textAreaBottom" fmla="*/ 242280 h 250560"/>
              </a:gdLst>
              <a:ahLst/>
              <a:rect l="textAreaLeft" t="textAreaTop" r="textAreaRight" b="textAreaBottom"/>
              <a:pathLst>
                <a:path w="21600" h="91800">
                  <a:moveTo>
                    <a:pt x="10353" y="0"/>
                  </a:moveTo>
                  <a:arcTo wR="10353" hR="10353" stAng="16200000" swAng="-5400000"/>
                  <a:lnTo>
                    <a:pt x="0" y="81447"/>
                  </a:lnTo>
                  <a:arcTo wR="10353" hR="10353" stAng="10800000" swAng="-5400000"/>
                  <a:lnTo>
                    <a:pt x="11247" y="91800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3" name="组合 365"/>
            <p:cNvGrpSpPr/>
            <p:nvPr/>
          </p:nvGrpSpPr>
          <p:grpSpPr>
            <a:xfrm>
              <a:off x="3165480" y="5315040"/>
              <a:ext cx="401400" cy="761040"/>
              <a:chOff x="3165480" y="5315040"/>
              <a:chExt cx="401400" cy="761040"/>
            </a:xfrm>
          </p:grpSpPr>
          <p:sp>
            <p:nvSpPr>
              <p:cNvPr id="1814" name="矩形 457"/>
              <p:cNvSpPr/>
              <p:nvPr/>
            </p:nvSpPr>
            <p:spPr>
              <a:xfrm>
                <a:off x="3313080" y="5864760"/>
                <a:ext cx="253800" cy="21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矩形 458"/>
              <p:cNvSpPr/>
              <p:nvPr/>
            </p:nvSpPr>
            <p:spPr>
              <a:xfrm>
                <a:off x="3424320" y="5315040"/>
                <a:ext cx="3312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矩形 459"/>
              <p:cNvSpPr/>
              <p:nvPr/>
            </p:nvSpPr>
            <p:spPr>
              <a:xfrm>
                <a:off x="3430440" y="5330880"/>
                <a:ext cx="2052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7" name="组合 460"/>
              <p:cNvGrpSpPr/>
              <p:nvPr/>
            </p:nvGrpSpPr>
            <p:grpSpPr>
              <a:xfrm>
                <a:off x="3334320" y="5378400"/>
                <a:ext cx="211680" cy="423000"/>
                <a:chOff x="3334320" y="5378400"/>
                <a:chExt cx="211680" cy="423000"/>
              </a:xfrm>
            </p:grpSpPr>
            <p:sp>
              <p:nvSpPr>
                <p:cNvPr id="1818" name="矩形 464"/>
                <p:cNvSpPr/>
                <p:nvPr/>
              </p:nvSpPr>
              <p:spPr>
                <a:xfrm>
                  <a:off x="3334680" y="5462640"/>
                  <a:ext cx="211320" cy="338760"/>
                </a:xfrm>
                <a:prstGeom prst="rect">
                  <a:avLst/>
                </a:prstGeom>
                <a:solidFill>
                  <a:srgbClr val="f2f2f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弦形 465"/>
                <p:cNvSpPr/>
                <p:nvPr/>
              </p:nvSpPr>
              <p:spPr>
                <a:xfrm rot="5400000">
                  <a:off x="3355560" y="5356800"/>
                  <a:ext cx="168480" cy="211320"/>
                </a:xfrm>
                <a:custGeom>
                  <a:avLst/>
                  <a:gdLst>
                    <a:gd name="textAreaLeft" fmla="*/ 24480 w 168480"/>
                    <a:gd name="textAreaRight" fmla="*/ 144000 w 168480"/>
                    <a:gd name="textAreaTop" fmla="*/ 30960 h 211320"/>
                    <a:gd name="textAreaBottom" fmla="*/ 180360 h 211320"/>
                  </a:gdLst>
                  <a:ahLst/>
                  <a:rect l="textAreaLeft" t="textAreaTop" r="textAreaRight" b="textAreaBottom"/>
                  <a:pathLst>
                    <a:path w="290668" h="364640">
                      <a:moveTo>
                        <a:pt x="144792" y="364639"/>
                      </a:moveTo>
                      <a:lnTo>
                        <a:pt x="144792" y="364639"/>
                      </a:lnTo>
                      <a:arcTo wR="145334" hR="182320" stAng="5410220" swAng="10789780"/>
                      <a:close/>
                    </a:path>
                  </a:pathLst>
                </a:custGeom>
                <a:solidFill>
                  <a:srgbClr val="f2f2f2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0" name="弧形 461"/>
              <p:cNvSpPr/>
              <p:nvPr/>
            </p:nvSpPr>
            <p:spPr>
              <a:xfrm>
                <a:off x="3165480" y="5378400"/>
                <a:ext cx="380880" cy="402120"/>
              </a:xfrm>
              <a:custGeom>
                <a:avLst/>
                <a:gdLst>
                  <a:gd name="textAreaLeft" fmla="*/ 0 w 380880"/>
                  <a:gd name="textAreaRight" fmla="*/ 180720 w 380880"/>
                  <a:gd name="textAreaTop" fmla="*/ 29160 h 402120"/>
                  <a:gd name="textAreaBottom" fmla="*/ 402120 h 402120"/>
                </a:gdLst>
                <a:ahLst/>
                <a:rect l="textAreaLeft" t="textAreaTop" r="textAreaRight" b="textAreaBottom"/>
                <a:pathLst>
                  <a:path stroke="0" w="658000" h="693767">
                    <a:moveTo>
                      <a:pt x="312127" y="693311"/>
                    </a:moveTo>
                    <a:lnTo>
                      <a:pt x="312127" y="693311"/>
                    </a:lnTo>
                    <a:arcTo wR="329000" hR="346884" stAng="5567305" swAng="8833842"/>
                    <a:lnTo>
                      <a:pt x="329000" y="346884"/>
                    </a:lnTo>
                    <a:close/>
                  </a:path>
                  <a:path fill="none" w="658000" h="693767">
                    <a:moveTo>
                      <a:pt x="312127" y="693311"/>
                    </a:moveTo>
                    <a:lnTo>
                      <a:pt x="312127" y="693311"/>
                    </a:lnTo>
                    <a:arcTo wR="329000" hR="346884" stAng="5567305" swAng="8833842"/>
                  </a:path>
                </a:pathLst>
              </a:custGeom>
              <a:noFill/>
              <a:ln w="9360">
                <a:solidFill>
                  <a:srgbClr val="deeb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直接连接符 462"/>
              <p:cNvSpPr/>
              <p:nvPr/>
            </p:nvSpPr>
            <p:spPr>
              <a:xfrm flipV="1">
                <a:off x="3257280" y="5327640"/>
                <a:ext cx="166680" cy="79200"/>
              </a:xfrm>
              <a:prstGeom prst="line">
                <a:avLst/>
              </a:prstGeom>
              <a:ln w="9360">
                <a:solidFill>
                  <a:srgbClr val="deeb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矩形 463"/>
              <p:cNvSpPr/>
              <p:nvPr/>
            </p:nvSpPr>
            <p:spPr>
              <a:xfrm>
                <a:off x="3324240" y="5801400"/>
                <a:ext cx="231840" cy="63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3" name="矩形 366"/>
            <p:cNvSpPr/>
            <p:nvPr/>
          </p:nvSpPr>
          <p:spPr>
            <a:xfrm rot="5400000">
              <a:off x="3660480" y="5921280"/>
              <a:ext cx="10476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矩形 367"/>
            <p:cNvSpPr/>
            <p:nvPr/>
          </p:nvSpPr>
          <p:spPr>
            <a:xfrm rot="5400000">
              <a:off x="3636720" y="5927760"/>
              <a:ext cx="8244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矩形 368"/>
            <p:cNvSpPr/>
            <p:nvPr/>
          </p:nvSpPr>
          <p:spPr>
            <a:xfrm rot="5400000">
              <a:off x="3706560" y="5910120"/>
              <a:ext cx="104760" cy="63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矩形 369"/>
            <p:cNvSpPr/>
            <p:nvPr/>
          </p:nvSpPr>
          <p:spPr>
            <a:xfrm rot="5400000">
              <a:off x="3756240" y="5920560"/>
              <a:ext cx="10476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7" name="组合 370"/>
            <p:cNvGrpSpPr/>
            <p:nvPr/>
          </p:nvGrpSpPr>
          <p:grpSpPr>
            <a:xfrm>
              <a:off x="3890160" y="5863320"/>
              <a:ext cx="129240" cy="145800"/>
              <a:chOff x="3890160" y="5863320"/>
              <a:chExt cx="129240" cy="145800"/>
            </a:xfrm>
          </p:grpSpPr>
          <p:pic>
            <p:nvPicPr>
              <p:cNvPr id="1828" name="组合 703" descr=""/>
              <p:cNvPicPr/>
              <p:nvPr/>
            </p:nvPicPr>
            <p:blipFill>
              <a:blip r:embed="rId15"/>
              <a:stretch/>
            </p:blipFill>
            <p:spPr>
              <a:xfrm>
                <a:off x="3890160" y="5863320"/>
                <a:ext cx="67320" cy="14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9" name="组合 704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52080" y="5863320"/>
                <a:ext cx="67320" cy="14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30" name="圆角矩形 371"/>
            <p:cNvSpPr/>
            <p:nvPr/>
          </p:nvSpPr>
          <p:spPr>
            <a:xfrm>
              <a:off x="3022560" y="5508720"/>
              <a:ext cx="58680" cy="458640"/>
            </a:xfrm>
            <a:custGeom>
              <a:avLst/>
              <a:gdLst>
                <a:gd name="textAreaLeft" fmla="*/ 8280 w 58680"/>
                <a:gd name="textAreaRight" fmla="*/ 50400 w 58680"/>
                <a:gd name="textAreaTop" fmla="*/ 8280 h 458640"/>
                <a:gd name="textAreaBottom" fmla="*/ 450360 h 458640"/>
              </a:gdLst>
              <a:ahLst/>
              <a:rect l="textAreaLeft" t="textAreaTop" r="textAreaRight" b="textAreaBottom"/>
              <a:pathLst>
                <a:path w="21600" h="167927">
                  <a:moveTo>
                    <a:pt x="10353" y="0"/>
                  </a:moveTo>
                  <a:arcTo wR="10353" hR="10353" stAng="16200000" swAng="-5400000"/>
                  <a:lnTo>
                    <a:pt x="0" y="157574"/>
                  </a:lnTo>
                  <a:arcTo wR="10353" hR="10353" stAng="10800000" swAng="-5400000"/>
                  <a:lnTo>
                    <a:pt x="11247" y="167927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1" name="组合 372"/>
            <p:cNvGrpSpPr/>
            <p:nvPr/>
          </p:nvGrpSpPr>
          <p:grpSpPr>
            <a:xfrm>
              <a:off x="3001320" y="5695560"/>
              <a:ext cx="104040" cy="136080"/>
              <a:chOff x="3001320" y="5695560"/>
              <a:chExt cx="104040" cy="136080"/>
            </a:xfrm>
          </p:grpSpPr>
          <p:sp>
            <p:nvSpPr>
              <p:cNvPr id="1832" name="矩形 448"/>
              <p:cNvSpPr/>
              <p:nvPr/>
            </p:nvSpPr>
            <p:spPr>
              <a:xfrm>
                <a:off x="3001320" y="5695560"/>
                <a:ext cx="104040" cy="4104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矩形 449"/>
              <p:cNvSpPr/>
              <p:nvPr/>
            </p:nvSpPr>
            <p:spPr>
              <a:xfrm>
                <a:off x="3001320" y="5727240"/>
                <a:ext cx="104040" cy="6156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矩形 450"/>
              <p:cNvSpPr/>
              <p:nvPr/>
            </p:nvSpPr>
            <p:spPr>
              <a:xfrm>
                <a:off x="3001320" y="5790600"/>
                <a:ext cx="104040" cy="4104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5" name="组合 373"/>
            <p:cNvGrpSpPr/>
            <p:nvPr/>
          </p:nvGrpSpPr>
          <p:grpSpPr>
            <a:xfrm>
              <a:off x="3022560" y="5695560"/>
              <a:ext cx="62280" cy="165240"/>
              <a:chOff x="3022560" y="5695560"/>
              <a:chExt cx="62280" cy="165240"/>
            </a:xfrm>
          </p:grpSpPr>
          <p:pic>
            <p:nvPicPr>
              <p:cNvPr id="1836" name="组合 755" descr=""/>
              <p:cNvPicPr/>
              <p:nvPr/>
            </p:nvPicPr>
            <p:blipFill>
              <a:blip r:embed="rId17"/>
              <a:stretch/>
            </p:blipFill>
            <p:spPr>
              <a:xfrm>
                <a:off x="3022560" y="5695560"/>
                <a:ext cx="6228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7" name="组合 756" descr=""/>
              <p:cNvPicPr/>
              <p:nvPr/>
            </p:nvPicPr>
            <p:blipFill>
              <a:blip r:embed="rId18"/>
              <a:stretch/>
            </p:blipFill>
            <p:spPr>
              <a:xfrm>
                <a:off x="3027600" y="5718240"/>
                <a:ext cx="52200" cy="11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38" name="圆角矩形 768"/>
            <p:cNvSpPr/>
            <p:nvPr/>
          </p:nvSpPr>
          <p:spPr>
            <a:xfrm>
              <a:off x="2354040" y="5616720"/>
              <a:ext cx="58680" cy="353880"/>
            </a:xfrm>
            <a:custGeom>
              <a:avLst/>
              <a:gdLst>
                <a:gd name="textAreaLeft" fmla="*/ 8280 w 58680"/>
                <a:gd name="textAreaRight" fmla="*/ 50400 w 58680"/>
                <a:gd name="textAreaTop" fmla="*/ 8280 h 353880"/>
                <a:gd name="textAreaBottom" fmla="*/ 345600 h 353880"/>
              </a:gdLst>
              <a:ahLst/>
              <a:rect l="textAreaLeft" t="textAreaTop" r="textAreaRight" b="textAreaBottom"/>
              <a:pathLst>
                <a:path w="21600" h="129600">
                  <a:moveTo>
                    <a:pt x="10353" y="0"/>
                  </a:moveTo>
                  <a:arcTo wR="10353" hR="10353" stAng="16200000" swAng="-5400000"/>
                  <a:lnTo>
                    <a:pt x="0" y="119247"/>
                  </a:lnTo>
                  <a:arcTo wR="10353" hR="10353" stAng="10800000" swAng="-5400000"/>
                  <a:lnTo>
                    <a:pt x="11247" y="129600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矩形 769"/>
            <p:cNvSpPr/>
            <p:nvPr/>
          </p:nvSpPr>
          <p:spPr>
            <a:xfrm>
              <a:off x="2346120" y="5805720"/>
              <a:ext cx="7452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圆角矩形 770"/>
            <p:cNvSpPr/>
            <p:nvPr/>
          </p:nvSpPr>
          <p:spPr>
            <a:xfrm rot="10800000">
              <a:off x="2366640" y="4698720"/>
              <a:ext cx="26640" cy="917640"/>
            </a:xfrm>
            <a:custGeom>
              <a:avLst/>
              <a:gdLst>
                <a:gd name="textAreaLeft" fmla="*/ 3600 w 26640"/>
                <a:gd name="textAreaRight" fmla="*/ 23040 w 26640"/>
                <a:gd name="textAreaTop" fmla="*/ 3600 h 917640"/>
                <a:gd name="textAreaBottom" fmla="*/ 914040 h 917640"/>
              </a:gdLst>
              <a:ahLst/>
              <a:rect l="textAreaLeft" t="textAreaTop" r="textAreaRight" b="textAreaBottom"/>
              <a:pathLst>
                <a:path w="21600" h="734400">
                  <a:moveTo>
                    <a:pt x="10353" y="0"/>
                  </a:moveTo>
                  <a:arcTo wR="10353" hR="10353" stAng="16200000" swAng="-5400000"/>
                  <a:lnTo>
                    <a:pt x="0" y="724047"/>
                  </a:lnTo>
                  <a:arcTo wR="10353" hR="10353" stAng="10800000" swAng="-5400000"/>
                  <a:lnTo>
                    <a:pt x="11247" y="734400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1" name="组合 771"/>
            <p:cNvGrpSpPr/>
            <p:nvPr/>
          </p:nvGrpSpPr>
          <p:grpSpPr>
            <a:xfrm>
              <a:off x="2398320" y="4918320"/>
              <a:ext cx="52920" cy="147960"/>
              <a:chOff x="2398320" y="4918320"/>
              <a:chExt cx="52920" cy="147960"/>
            </a:xfrm>
          </p:grpSpPr>
          <p:sp>
            <p:nvSpPr>
              <p:cNvPr id="1842" name="矩形 772"/>
              <p:cNvSpPr/>
              <p:nvPr/>
            </p:nvSpPr>
            <p:spPr>
              <a:xfrm flipH="1">
                <a:off x="2425320" y="4918320"/>
                <a:ext cx="25560" cy="1479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矩形 773"/>
              <p:cNvSpPr/>
              <p:nvPr/>
            </p:nvSpPr>
            <p:spPr>
              <a:xfrm flipH="1">
                <a:off x="2398320" y="4970880"/>
                <a:ext cx="27360" cy="4284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4" name="矩形 774"/>
            <p:cNvSpPr/>
            <p:nvPr/>
          </p:nvSpPr>
          <p:spPr>
            <a:xfrm>
              <a:off x="2361960" y="4921200"/>
              <a:ext cx="4284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圆角矩形 379"/>
            <p:cNvSpPr/>
            <p:nvPr/>
          </p:nvSpPr>
          <p:spPr>
            <a:xfrm rot="16200000">
              <a:off x="2798640" y="4066920"/>
              <a:ext cx="26640" cy="1312920"/>
            </a:xfrm>
            <a:custGeom>
              <a:avLst/>
              <a:gdLst>
                <a:gd name="textAreaLeft" fmla="*/ 3600 w 26640"/>
                <a:gd name="textAreaRight" fmla="*/ 23040 w 26640"/>
                <a:gd name="textAreaTop" fmla="*/ 3600 h 1312920"/>
                <a:gd name="textAreaBottom" fmla="*/ 1309320 h 1312920"/>
              </a:gdLst>
              <a:ahLst/>
              <a:rect l="textAreaLeft" t="textAreaTop" r="textAreaRight" b="textAreaBottom"/>
              <a:pathLst>
                <a:path w="21600" h="1050624">
                  <a:moveTo>
                    <a:pt x="10353" y="0"/>
                  </a:moveTo>
                  <a:arcTo wR="10353" hR="10353" stAng="16200000" swAng="-5400000"/>
                  <a:lnTo>
                    <a:pt x="0" y="1040271"/>
                  </a:lnTo>
                  <a:arcTo wR="10353" hR="10353" stAng="10800000" swAng="-5400000"/>
                  <a:lnTo>
                    <a:pt x="11247" y="1050624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圆角矩形 673"/>
            <p:cNvSpPr/>
            <p:nvPr/>
          </p:nvSpPr>
          <p:spPr>
            <a:xfrm rot="16200000">
              <a:off x="3006720" y="3823920"/>
              <a:ext cx="31680" cy="1733760"/>
            </a:xfrm>
            <a:custGeom>
              <a:avLst/>
              <a:gdLst>
                <a:gd name="textAreaLeft" fmla="*/ 4320 w 31680"/>
                <a:gd name="textAreaRight" fmla="*/ 27360 w 31680"/>
                <a:gd name="textAreaTop" fmla="*/ 4320 h 1733760"/>
                <a:gd name="textAreaBottom" fmla="*/ 1729440 h 1733760"/>
              </a:gdLst>
              <a:ahLst/>
              <a:rect l="textAreaLeft" t="textAreaTop" r="textAreaRight" b="textAreaBottom"/>
              <a:pathLst>
                <a:path w="21600" h="1169070">
                  <a:moveTo>
                    <a:pt x="10353" y="0"/>
                  </a:moveTo>
                  <a:arcTo wR="10353" hR="10353" stAng="16200000" swAng="-5400000"/>
                  <a:lnTo>
                    <a:pt x="0" y="1158717"/>
                  </a:lnTo>
                  <a:arcTo wR="10353" hR="10353" stAng="10800000" swAng="-5400000"/>
                  <a:lnTo>
                    <a:pt x="11247" y="1169070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7" name="组合 381"/>
            <p:cNvGrpSpPr/>
            <p:nvPr/>
          </p:nvGrpSpPr>
          <p:grpSpPr>
            <a:xfrm>
              <a:off x="2942640" y="4617360"/>
              <a:ext cx="180360" cy="316800"/>
              <a:chOff x="2942640" y="4617360"/>
              <a:chExt cx="180360" cy="316800"/>
            </a:xfrm>
          </p:grpSpPr>
          <p:sp>
            <p:nvSpPr>
              <p:cNvPr id="1848" name="矩形 776"/>
              <p:cNvSpPr/>
              <p:nvPr/>
            </p:nvSpPr>
            <p:spPr>
              <a:xfrm>
                <a:off x="2980800" y="4617360"/>
                <a:ext cx="104760" cy="6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矩形 777"/>
              <p:cNvSpPr/>
              <p:nvPr/>
            </p:nvSpPr>
            <p:spPr>
              <a:xfrm>
                <a:off x="2980800" y="4681080"/>
                <a:ext cx="104760" cy="25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0" name="组合 783"/>
              <p:cNvGrpSpPr/>
              <p:nvPr/>
            </p:nvGrpSpPr>
            <p:grpSpPr>
              <a:xfrm>
                <a:off x="3085560" y="4701600"/>
                <a:ext cx="37440" cy="41760"/>
                <a:chOff x="3085560" y="4701600"/>
                <a:chExt cx="37440" cy="41760"/>
              </a:xfrm>
            </p:grpSpPr>
            <p:sp>
              <p:nvSpPr>
                <p:cNvPr id="1851" name="矩形 778"/>
                <p:cNvSpPr/>
                <p:nvPr/>
              </p:nvSpPr>
              <p:spPr>
                <a:xfrm>
                  <a:off x="3085560" y="4709520"/>
                  <a:ext cx="20160" cy="255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矩形 779"/>
                <p:cNvSpPr/>
                <p:nvPr/>
              </p:nvSpPr>
              <p:spPr>
                <a:xfrm>
                  <a:off x="3102840" y="4701600"/>
                  <a:ext cx="20160" cy="41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3" name="组合 782"/>
              <p:cNvGrpSpPr/>
              <p:nvPr/>
            </p:nvGrpSpPr>
            <p:grpSpPr>
              <a:xfrm>
                <a:off x="2942640" y="4701600"/>
                <a:ext cx="37440" cy="41760"/>
                <a:chOff x="2942640" y="4701600"/>
                <a:chExt cx="37440" cy="41760"/>
              </a:xfrm>
            </p:grpSpPr>
            <p:sp>
              <p:nvSpPr>
                <p:cNvPr id="1854" name="矩形 780"/>
                <p:cNvSpPr/>
                <p:nvPr/>
              </p:nvSpPr>
              <p:spPr>
                <a:xfrm flipH="1">
                  <a:off x="2959920" y="4709520"/>
                  <a:ext cx="20160" cy="255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矩形 781"/>
                <p:cNvSpPr/>
                <p:nvPr/>
              </p:nvSpPr>
              <p:spPr>
                <a:xfrm flipH="1">
                  <a:off x="2942640" y="4701600"/>
                  <a:ext cx="20160" cy="41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6" name="圆角矩形 382"/>
            <p:cNvSpPr/>
            <p:nvPr/>
          </p:nvSpPr>
          <p:spPr>
            <a:xfrm rot="16200000">
              <a:off x="2874600" y="4001760"/>
              <a:ext cx="31680" cy="1438200"/>
            </a:xfrm>
            <a:custGeom>
              <a:avLst/>
              <a:gdLst>
                <a:gd name="textAreaLeft" fmla="*/ 4320 w 31680"/>
                <a:gd name="textAreaRight" fmla="*/ 27360 w 31680"/>
                <a:gd name="textAreaTop" fmla="*/ 4320 h 1438200"/>
                <a:gd name="textAreaBottom" fmla="*/ 1433880 h 1438200"/>
              </a:gdLst>
              <a:ahLst/>
              <a:rect l="textAreaLeft" t="textAreaTop" r="textAreaRight" b="textAreaBottom"/>
              <a:pathLst>
                <a:path w="21600" h="969816">
                  <a:moveTo>
                    <a:pt x="10353" y="0"/>
                  </a:moveTo>
                  <a:arcTo wR="10353" hR="10353" stAng="16200000" swAng="-5400000"/>
                  <a:lnTo>
                    <a:pt x="0" y="959463"/>
                  </a:lnTo>
                  <a:arcTo wR="10353" hR="10353" stAng="10800000" swAng="-5400000"/>
                  <a:lnTo>
                    <a:pt x="11247" y="969816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bdd7e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矩形 4"/>
            <p:cNvSpPr/>
            <p:nvPr/>
          </p:nvSpPr>
          <p:spPr>
            <a:xfrm rot="16200000">
              <a:off x="5261040" y="3405960"/>
              <a:ext cx="83880" cy="20844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8" name="组合 785"/>
            <p:cNvGrpSpPr/>
            <p:nvPr/>
          </p:nvGrpSpPr>
          <p:grpSpPr>
            <a:xfrm>
              <a:off x="2768760" y="4617360"/>
              <a:ext cx="180360" cy="316800"/>
              <a:chOff x="2768760" y="4617360"/>
              <a:chExt cx="180360" cy="316800"/>
            </a:xfrm>
          </p:grpSpPr>
          <p:sp>
            <p:nvSpPr>
              <p:cNvPr id="1859" name="矩形 786"/>
              <p:cNvSpPr/>
              <p:nvPr/>
            </p:nvSpPr>
            <p:spPr>
              <a:xfrm>
                <a:off x="2806200" y="4617360"/>
                <a:ext cx="104760" cy="6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矩形 787"/>
              <p:cNvSpPr/>
              <p:nvPr/>
            </p:nvSpPr>
            <p:spPr>
              <a:xfrm>
                <a:off x="2806200" y="4681080"/>
                <a:ext cx="104760" cy="25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1" name="组合 783"/>
              <p:cNvGrpSpPr/>
              <p:nvPr/>
            </p:nvGrpSpPr>
            <p:grpSpPr>
              <a:xfrm>
                <a:off x="2911680" y="4701600"/>
                <a:ext cx="37440" cy="41760"/>
                <a:chOff x="2911680" y="4701600"/>
                <a:chExt cx="37440" cy="41760"/>
              </a:xfrm>
            </p:grpSpPr>
            <p:sp>
              <p:nvSpPr>
                <p:cNvPr id="1862" name="矩形 430"/>
                <p:cNvSpPr/>
                <p:nvPr/>
              </p:nvSpPr>
              <p:spPr>
                <a:xfrm>
                  <a:off x="2911680" y="4709520"/>
                  <a:ext cx="20160" cy="255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矩形 431"/>
                <p:cNvSpPr/>
                <p:nvPr/>
              </p:nvSpPr>
              <p:spPr>
                <a:xfrm>
                  <a:off x="2928960" y="4701600"/>
                  <a:ext cx="20160" cy="41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4" name="组合 782"/>
              <p:cNvGrpSpPr/>
              <p:nvPr/>
            </p:nvGrpSpPr>
            <p:grpSpPr>
              <a:xfrm>
                <a:off x="2768760" y="4701600"/>
                <a:ext cx="37440" cy="41760"/>
                <a:chOff x="2768760" y="4701600"/>
                <a:chExt cx="37440" cy="41760"/>
              </a:xfrm>
            </p:grpSpPr>
            <p:sp>
              <p:nvSpPr>
                <p:cNvPr id="1865" name="矩形 428"/>
                <p:cNvSpPr/>
                <p:nvPr/>
              </p:nvSpPr>
              <p:spPr>
                <a:xfrm flipH="1">
                  <a:off x="2786040" y="4709520"/>
                  <a:ext cx="20160" cy="255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矩形 429"/>
                <p:cNvSpPr/>
                <p:nvPr/>
              </p:nvSpPr>
              <p:spPr>
                <a:xfrm flipH="1">
                  <a:off x="2768760" y="4701600"/>
                  <a:ext cx="20160" cy="41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67" name="圆角矩形 688"/>
            <p:cNvSpPr/>
            <p:nvPr/>
          </p:nvSpPr>
          <p:spPr>
            <a:xfrm rot="10800000">
              <a:off x="4476600" y="4493880"/>
              <a:ext cx="25200" cy="207720"/>
            </a:xfrm>
            <a:custGeom>
              <a:avLst/>
              <a:gdLst/>
              <a:ahLst/>
              <a:rect l="l" t="t" r="r" b="b"/>
              <a:pathLst>
                <a:path w="21600" h="175842">
                  <a:moveTo>
                    <a:pt x="81" y="0"/>
                  </a:moveTo>
                  <a:arcTo wR="81" hR="81" stAng="16200000" swAng="-5400000"/>
                  <a:lnTo>
                    <a:pt x="0" y="175761"/>
                  </a:lnTo>
                  <a:arcTo wR="81" hR="81" stAng="10800000" swAng="-5400000"/>
                  <a:lnTo>
                    <a:pt x="21519" y="175842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圆角矩形 752"/>
            <p:cNvSpPr/>
            <p:nvPr/>
          </p:nvSpPr>
          <p:spPr>
            <a:xfrm rot="10800000">
              <a:off x="4581720" y="4493880"/>
              <a:ext cx="26640" cy="207720"/>
            </a:xfrm>
            <a:custGeom>
              <a:avLst/>
              <a:gdLst/>
              <a:ahLst/>
              <a:rect l="l" t="t" r="r" b="b"/>
              <a:pathLst>
                <a:path w="21600" h="166464">
                  <a:moveTo>
                    <a:pt x="81" y="0"/>
                  </a:moveTo>
                  <a:arcTo wR="81" hR="81" stAng="16200000" swAng="-5400000"/>
                  <a:lnTo>
                    <a:pt x="0" y="166383"/>
                  </a:lnTo>
                  <a:arcTo wR="81" hR="81" stAng="10800000" swAng="-5400000"/>
                  <a:lnTo>
                    <a:pt x="21519" y="166464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矩形 796"/>
            <p:cNvSpPr/>
            <p:nvPr/>
          </p:nvSpPr>
          <p:spPr>
            <a:xfrm>
              <a:off x="4735440" y="4491000"/>
              <a:ext cx="41040" cy="1458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矩形 797"/>
            <p:cNvSpPr/>
            <p:nvPr/>
          </p:nvSpPr>
          <p:spPr>
            <a:xfrm>
              <a:off x="5264280" y="4491000"/>
              <a:ext cx="41040" cy="1458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剪去同侧角的矩形 799"/>
            <p:cNvSpPr/>
            <p:nvPr/>
          </p:nvSpPr>
          <p:spPr>
            <a:xfrm flipV="1">
              <a:off x="4735440" y="4490280"/>
              <a:ext cx="561960" cy="20520"/>
            </a:xfrm>
            <a:custGeom>
              <a:avLst/>
              <a:gdLst>
                <a:gd name="textAreaLeft" fmla="*/ 5040 w 561960"/>
                <a:gd name="textAreaRight" fmla="*/ 556920 w 561960"/>
                <a:gd name="textAreaTop" fmla="*/ 468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970551" h="35647">
                  <a:moveTo>
                    <a:pt x="17824" y="0"/>
                  </a:moveTo>
                  <a:lnTo>
                    <a:pt x="952728" y="0"/>
                  </a:lnTo>
                  <a:lnTo>
                    <a:pt x="970551" y="17824"/>
                  </a:lnTo>
                  <a:lnTo>
                    <a:pt x="970551" y="35647"/>
                  </a:lnTo>
                  <a:lnTo>
                    <a:pt x="970551" y="35647"/>
                  </a:lnTo>
                  <a:lnTo>
                    <a:pt x="0" y="35647"/>
                  </a:lnTo>
                  <a:lnTo>
                    <a:pt x="0" y="35647"/>
                  </a:lnTo>
                  <a:lnTo>
                    <a:pt x="0" y="17824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矩形 800"/>
            <p:cNvSpPr/>
            <p:nvPr/>
          </p:nvSpPr>
          <p:spPr>
            <a:xfrm>
              <a:off x="4840200" y="4511520"/>
              <a:ext cx="63360" cy="1062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矩形 392"/>
            <p:cNvSpPr/>
            <p:nvPr/>
          </p:nvSpPr>
          <p:spPr>
            <a:xfrm>
              <a:off x="5042160" y="5383440"/>
              <a:ext cx="20520" cy="2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矩形 393"/>
            <p:cNvSpPr/>
            <p:nvPr/>
          </p:nvSpPr>
          <p:spPr>
            <a:xfrm>
              <a:off x="5035680" y="5362560"/>
              <a:ext cx="33120" cy="2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圆角矩形 394"/>
            <p:cNvSpPr/>
            <p:nvPr/>
          </p:nvSpPr>
          <p:spPr>
            <a:xfrm rot="10800000">
              <a:off x="5030640" y="5398920"/>
              <a:ext cx="42840" cy="507960"/>
            </a:xfrm>
            <a:custGeom>
              <a:avLst/>
              <a:gdLst>
                <a:gd name="textAreaLeft" fmla="*/ 5760 w 42840"/>
                <a:gd name="textAreaRight" fmla="*/ 37080 w 42840"/>
                <a:gd name="textAreaTop" fmla="*/ 5760 h 507960"/>
                <a:gd name="textAreaBottom" fmla="*/ 502200 h 507960"/>
              </a:gdLst>
              <a:ahLst/>
              <a:rect l="textAreaLeft" t="textAreaTop" r="textAreaRight" b="textAreaBottom"/>
              <a:pathLst>
                <a:path w="21600" h="254160">
                  <a:moveTo>
                    <a:pt x="10353" y="0"/>
                  </a:moveTo>
                  <a:arcTo wR="10353" hR="10353" stAng="16200000" swAng="-5400000"/>
                  <a:lnTo>
                    <a:pt x="0" y="243807"/>
                  </a:lnTo>
                  <a:arcTo wR="10353" hR="10353" stAng="10800000" swAng="-5400000"/>
                  <a:lnTo>
                    <a:pt x="11247" y="254160"/>
                  </a:lnTo>
                  <a:arcTo wR="10353" hR="10353" stAng="5400000" swAng="-5400000"/>
                  <a:lnTo>
                    <a:pt x="21600" y="10353"/>
                  </a:lnTo>
                  <a:arcTo wR="10353" hR="10353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矩形 395"/>
            <p:cNvSpPr/>
            <p:nvPr/>
          </p:nvSpPr>
          <p:spPr>
            <a:xfrm>
              <a:off x="4967280" y="5780160"/>
              <a:ext cx="85680" cy="253800"/>
            </a:xfrm>
            <a:prstGeom prst="rect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直接连接符 396"/>
            <p:cNvSpPr/>
            <p:nvPr/>
          </p:nvSpPr>
          <p:spPr>
            <a:xfrm flipV="1">
              <a:off x="5052960" y="4997520"/>
              <a:ext cx="0" cy="365040"/>
            </a:xfrm>
            <a:prstGeom prst="line">
              <a:avLst/>
            </a:prstGeom>
            <a:ln w="9360">
              <a:solidFill>
                <a:srgbClr val="deeb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直接连接符 397"/>
            <p:cNvSpPr/>
            <p:nvPr/>
          </p:nvSpPr>
          <p:spPr>
            <a:xfrm flipH="1" flipV="1">
              <a:off x="4926240" y="4701960"/>
              <a:ext cx="126720" cy="295200"/>
            </a:xfrm>
            <a:prstGeom prst="line">
              <a:avLst/>
            </a:prstGeom>
            <a:ln w="9360">
              <a:solidFill>
                <a:srgbClr val="deeb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9" name="组合 398"/>
            <p:cNvGrpSpPr/>
            <p:nvPr/>
          </p:nvGrpSpPr>
          <p:grpSpPr>
            <a:xfrm>
              <a:off x="5686920" y="6047640"/>
              <a:ext cx="185040" cy="27720"/>
              <a:chOff x="5686920" y="6047640"/>
              <a:chExt cx="185040" cy="27720"/>
            </a:xfrm>
          </p:grpSpPr>
          <p:grpSp>
            <p:nvGrpSpPr>
              <p:cNvPr id="1880" name="组合 829"/>
              <p:cNvGrpSpPr/>
              <p:nvPr/>
            </p:nvGrpSpPr>
            <p:grpSpPr>
              <a:xfrm>
                <a:off x="5686920" y="6047640"/>
                <a:ext cx="37080" cy="27720"/>
                <a:chOff x="5686920" y="6047640"/>
                <a:chExt cx="37080" cy="27720"/>
              </a:xfrm>
            </p:grpSpPr>
            <p:sp>
              <p:nvSpPr>
                <p:cNvPr id="1881" name="流程图: 手动操作 422"/>
                <p:cNvSpPr/>
                <p:nvPr/>
              </p:nvSpPr>
              <p:spPr>
                <a:xfrm flipV="1">
                  <a:off x="5686920" y="6054480"/>
                  <a:ext cx="20160" cy="20520"/>
                </a:xfrm>
                <a:prstGeom prst="flowChartManualOperation">
                  <a:avLst/>
                </a:prstGeom>
                <a:solidFill>
                  <a:srgbClr val="7671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直接连接符 423"/>
                <p:cNvSpPr/>
                <p:nvPr/>
              </p:nvSpPr>
              <p:spPr>
                <a:xfrm flipV="1">
                  <a:off x="5697000" y="6047640"/>
                  <a:ext cx="27000" cy="10080"/>
                </a:xfrm>
                <a:prstGeom prst="line">
                  <a:avLst/>
                </a:prstGeom>
                <a:ln w="12600">
                  <a:solidFill>
                    <a:srgbClr val="76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3" name="组合 830"/>
              <p:cNvGrpSpPr/>
              <p:nvPr/>
            </p:nvGrpSpPr>
            <p:grpSpPr>
              <a:xfrm>
                <a:off x="5792760" y="6047640"/>
                <a:ext cx="36720" cy="27720"/>
                <a:chOff x="5792760" y="6047640"/>
                <a:chExt cx="36720" cy="27720"/>
              </a:xfrm>
            </p:grpSpPr>
            <p:sp>
              <p:nvSpPr>
                <p:cNvPr id="1884" name="流程图: 手动操作 420"/>
                <p:cNvSpPr/>
                <p:nvPr/>
              </p:nvSpPr>
              <p:spPr>
                <a:xfrm flipV="1">
                  <a:off x="5792760" y="6054480"/>
                  <a:ext cx="21240" cy="20520"/>
                </a:xfrm>
                <a:prstGeom prst="flowChartManualOperation">
                  <a:avLst/>
                </a:prstGeom>
                <a:solidFill>
                  <a:srgbClr val="7671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直接连接符 421"/>
                <p:cNvSpPr/>
                <p:nvPr/>
              </p:nvSpPr>
              <p:spPr>
                <a:xfrm flipV="1">
                  <a:off x="5801760" y="6047640"/>
                  <a:ext cx="27720" cy="9720"/>
                </a:xfrm>
                <a:prstGeom prst="line">
                  <a:avLst/>
                </a:prstGeom>
                <a:ln w="12600">
                  <a:solidFill>
                    <a:srgbClr val="76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6" name="组合 833"/>
              <p:cNvGrpSpPr/>
              <p:nvPr/>
            </p:nvGrpSpPr>
            <p:grpSpPr>
              <a:xfrm>
                <a:off x="5834880" y="6047640"/>
                <a:ext cx="37080" cy="27720"/>
                <a:chOff x="5834880" y="6047640"/>
                <a:chExt cx="37080" cy="27720"/>
              </a:xfrm>
            </p:grpSpPr>
            <p:sp>
              <p:nvSpPr>
                <p:cNvPr id="1887" name="流程图: 手动操作 418"/>
                <p:cNvSpPr/>
                <p:nvPr/>
              </p:nvSpPr>
              <p:spPr>
                <a:xfrm flipV="1">
                  <a:off x="5834880" y="6054480"/>
                  <a:ext cx="20160" cy="20520"/>
                </a:xfrm>
                <a:prstGeom prst="flowChartManualOperation">
                  <a:avLst/>
                </a:prstGeom>
                <a:solidFill>
                  <a:srgbClr val="7671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直接连接符 419"/>
                <p:cNvSpPr/>
                <p:nvPr/>
              </p:nvSpPr>
              <p:spPr>
                <a:xfrm flipV="1">
                  <a:off x="5844960" y="6047640"/>
                  <a:ext cx="27000" cy="10080"/>
                </a:xfrm>
                <a:prstGeom prst="line">
                  <a:avLst/>
                </a:prstGeom>
                <a:ln w="12600">
                  <a:solidFill>
                    <a:srgbClr val="76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9" name="矩形 399"/>
            <p:cNvSpPr/>
            <p:nvPr/>
          </p:nvSpPr>
          <p:spPr>
            <a:xfrm>
              <a:off x="2226960" y="3727080"/>
              <a:ext cx="104760" cy="27100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矩形 400"/>
            <p:cNvSpPr/>
            <p:nvPr/>
          </p:nvSpPr>
          <p:spPr>
            <a:xfrm rot="16200000">
              <a:off x="3155760" y="3404520"/>
              <a:ext cx="83880" cy="20844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1" name="组合 401"/>
            <p:cNvGrpSpPr/>
            <p:nvPr/>
          </p:nvGrpSpPr>
          <p:grpSpPr>
            <a:xfrm>
              <a:off x="3360600" y="6047640"/>
              <a:ext cx="185040" cy="27720"/>
              <a:chOff x="3360600" y="6047640"/>
              <a:chExt cx="185040" cy="27720"/>
            </a:xfrm>
          </p:grpSpPr>
          <p:grpSp>
            <p:nvGrpSpPr>
              <p:cNvPr id="1892" name="组合 829"/>
              <p:cNvGrpSpPr/>
              <p:nvPr/>
            </p:nvGrpSpPr>
            <p:grpSpPr>
              <a:xfrm>
                <a:off x="3360600" y="6047640"/>
                <a:ext cx="37080" cy="27720"/>
                <a:chOff x="3360600" y="6047640"/>
                <a:chExt cx="37080" cy="27720"/>
              </a:xfrm>
            </p:grpSpPr>
            <p:sp>
              <p:nvSpPr>
                <p:cNvPr id="1893" name="流程图: 手动操作 413"/>
                <p:cNvSpPr/>
                <p:nvPr/>
              </p:nvSpPr>
              <p:spPr>
                <a:xfrm flipV="1">
                  <a:off x="3360600" y="6054480"/>
                  <a:ext cx="20160" cy="20520"/>
                </a:xfrm>
                <a:prstGeom prst="flowChartManualOperation">
                  <a:avLst/>
                </a:prstGeom>
                <a:solidFill>
                  <a:srgbClr val="7671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直接连接符 414"/>
                <p:cNvSpPr/>
                <p:nvPr/>
              </p:nvSpPr>
              <p:spPr>
                <a:xfrm flipV="1">
                  <a:off x="3370680" y="6047640"/>
                  <a:ext cx="27000" cy="10080"/>
                </a:xfrm>
                <a:prstGeom prst="line">
                  <a:avLst/>
                </a:prstGeom>
                <a:ln w="12600">
                  <a:solidFill>
                    <a:srgbClr val="76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5" name="组合 830"/>
              <p:cNvGrpSpPr/>
              <p:nvPr/>
            </p:nvGrpSpPr>
            <p:grpSpPr>
              <a:xfrm>
                <a:off x="3466440" y="6047640"/>
                <a:ext cx="36720" cy="27720"/>
                <a:chOff x="3466440" y="6047640"/>
                <a:chExt cx="36720" cy="27720"/>
              </a:xfrm>
            </p:grpSpPr>
            <p:sp>
              <p:nvSpPr>
                <p:cNvPr id="1896" name="流程图: 手动操作 411"/>
                <p:cNvSpPr/>
                <p:nvPr/>
              </p:nvSpPr>
              <p:spPr>
                <a:xfrm flipV="1">
                  <a:off x="3466440" y="6054480"/>
                  <a:ext cx="21240" cy="20520"/>
                </a:xfrm>
                <a:prstGeom prst="flowChartManualOperation">
                  <a:avLst/>
                </a:prstGeom>
                <a:solidFill>
                  <a:srgbClr val="7671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直接连接符 412"/>
                <p:cNvSpPr/>
                <p:nvPr/>
              </p:nvSpPr>
              <p:spPr>
                <a:xfrm flipV="1">
                  <a:off x="3475440" y="6047640"/>
                  <a:ext cx="27720" cy="9720"/>
                </a:xfrm>
                <a:prstGeom prst="line">
                  <a:avLst/>
                </a:prstGeom>
                <a:ln w="12600">
                  <a:solidFill>
                    <a:srgbClr val="76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8" name="组合 833"/>
              <p:cNvGrpSpPr/>
              <p:nvPr/>
            </p:nvGrpSpPr>
            <p:grpSpPr>
              <a:xfrm>
                <a:off x="3508560" y="6047640"/>
                <a:ext cx="37080" cy="27720"/>
                <a:chOff x="3508560" y="6047640"/>
                <a:chExt cx="37080" cy="27720"/>
              </a:xfrm>
            </p:grpSpPr>
            <p:sp>
              <p:nvSpPr>
                <p:cNvPr id="1899" name="流程图: 手动操作 409"/>
                <p:cNvSpPr/>
                <p:nvPr/>
              </p:nvSpPr>
              <p:spPr>
                <a:xfrm flipV="1">
                  <a:off x="3508560" y="6054480"/>
                  <a:ext cx="20160" cy="20520"/>
                </a:xfrm>
                <a:prstGeom prst="flowChartManualOperation">
                  <a:avLst/>
                </a:prstGeom>
                <a:solidFill>
                  <a:srgbClr val="7671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直接连接符 410"/>
                <p:cNvSpPr/>
                <p:nvPr/>
              </p:nvSpPr>
              <p:spPr>
                <a:xfrm flipV="1">
                  <a:off x="3518640" y="6047640"/>
                  <a:ext cx="27000" cy="10080"/>
                </a:xfrm>
                <a:prstGeom prst="line">
                  <a:avLst/>
                </a:prstGeom>
                <a:ln w="12600">
                  <a:solidFill>
                    <a:srgbClr val="76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1" name="矩形 402"/>
            <p:cNvSpPr/>
            <p:nvPr/>
          </p:nvSpPr>
          <p:spPr>
            <a:xfrm>
              <a:off x="4459320" y="5106960"/>
              <a:ext cx="6192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矩形 403"/>
            <p:cNvSpPr/>
            <p:nvPr/>
          </p:nvSpPr>
          <p:spPr>
            <a:xfrm>
              <a:off x="2368080" y="5106960"/>
              <a:ext cx="6336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矩形 404"/>
            <p:cNvSpPr/>
            <p:nvPr/>
          </p:nvSpPr>
          <p:spPr>
            <a:xfrm>
              <a:off x="5518440" y="5864400"/>
              <a:ext cx="25200" cy="233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矩形 405"/>
            <p:cNvSpPr/>
            <p:nvPr/>
          </p:nvSpPr>
          <p:spPr>
            <a:xfrm>
              <a:off x="4425840" y="6075720"/>
              <a:ext cx="1733760" cy="1047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5" name="组合 10"/>
          <p:cNvGrpSpPr/>
          <p:nvPr/>
        </p:nvGrpSpPr>
        <p:grpSpPr>
          <a:xfrm>
            <a:off x="1069200" y="3766320"/>
            <a:ext cx="4245840" cy="1441440"/>
            <a:chOff x="1069200" y="3766320"/>
            <a:chExt cx="4245840" cy="1441440"/>
          </a:xfrm>
        </p:grpSpPr>
        <p:sp>
          <p:nvSpPr>
            <p:cNvPr id="1906" name="圆角矩形 776"/>
            <p:cNvSpPr/>
            <p:nvPr/>
          </p:nvSpPr>
          <p:spPr>
            <a:xfrm flipH="1" rot="20450400">
              <a:off x="1153440" y="4063680"/>
              <a:ext cx="1957320" cy="846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圆角矩形 762"/>
            <p:cNvSpPr/>
            <p:nvPr/>
          </p:nvSpPr>
          <p:spPr>
            <a:xfrm flipH="1" rot="20450400">
              <a:off x="3272760" y="4063680"/>
              <a:ext cx="1957320" cy="846000"/>
            </a:xfrm>
            <a:prstGeom prst="roundRect">
              <a:avLst>
                <a:gd name="adj" fmla="val 16667"/>
              </a:avLst>
            </a:prstGeom>
            <a:solidFill>
              <a:srgbClr val="a9d18e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8235"/>
                  </a:solidFill>
                  <a:latin typeface="Calibri"/>
                </a:rPr>
                <a:t>Technical Re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</a:rPr>
                <a:t>PPT</a:t>
              </a:r>
              <a:r>
                <a:rPr b="0" lang="zh-CN" sz="1800" spc="-1" strike="noStrike">
                  <a:solidFill>
                    <a:srgbClr val="548235"/>
                  </a:solidFill>
                  <a:latin typeface="Calibri"/>
                </a:rPr>
                <a:t>绘制设备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直接连接符 7"/>
            <p:cNvSpPr/>
            <p:nvPr/>
          </p:nvSpPr>
          <p:spPr>
            <a:xfrm flipV="1">
              <a:off x="3511440" y="4228560"/>
              <a:ext cx="1479600" cy="515880"/>
            </a:xfrm>
            <a:prstGeom prst="line">
              <a:avLst/>
            </a:prstGeom>
            <a:ln w="57240">
              <a:solidFill>
                <a:srgbClr val="c5e0b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9" name="矩形 772"/>
          <p:cNvSpPr/>
          <p:nvPr/>
        </p:nvSpPr>
        <p:spPr>
          <a:xfrm>
            <a:off x="7775640" y="5848200"/>
            <a:ext cx="3073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cece"/>
                </a:solidFill>
                <a:latin typeface="Arial Rounded MT Bold"/>
                <a:ea typeface="华文琥珀"/>
              </a:rPr>
              <a:t>It’s Not Easy for a New C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同心圆 9"/>
          <p:cNvSpPr/>
          <p:nvPr/>
        </p:nvSpPr>
        <p:spPr>
          <a:xfrm>
            <a:off x="4533840" y="1959120"/>
            <a:ext cx="893880" cy="1136520"/>
          </a:xfrm>
          <a:custGeom>
            <a:avLst/>
            <a:gdLst>
              <a:gd name="textAreaLeft" fmla="*/ 130680 w 893880"/>
              <a:gd name="textAreaRight" fmla="*/ 763200 w 893880"/>
              <a:gd name="textAreaTop" fmla="*/ 166320 h 1136520"/>
              <a:gd name="textAreaBottom" fmla="*/ 970200 h 1136520"/>
            </a:gdLst>
            <a:ahLst/>
            <a:rect l="textAreaLeft" t="textAreaTop" r="textAreaRight" b="textAreaBottom"/>
            <a:pathLst>
              <a:path w="893763" h="1136650">
                <a:moveTo>
                  <a:pt x="0" y="568325"/>
                </a:moveTo>
                <a:lnTo>
                  <a:pt x="0" y="568325"/>
                </a:lnTo>
                <a:arcTo wR="446882" hR="568325" stAng="-10799992" swAng="5399998"/>
                <a:lnTo>
                  <a:pt x="446883" y="1"/>
                </a:lnTo>
                <a:arcTo wR="446882" hR="568325" stAng="-5399994" swAng="5400002"/>
                <a:lnTo>
                  <a:pt x="893764" y="568327"/>
                </a:lnTo>
                <a:arcTo wR="446882" hR="568325" stAng="0" swAng="5400000"/>
                <a:lnTo>
                  <a:pt x="446882" y="1136652"/>
                </a:lnTo>
                <a:arcTo wR="446882" hR="568325" stAng="5400000" swAng="5400008"/>
                <a:close/>
                <a:moveTo>
                  <a:pt x="167357" y="568325"/>
                </a:moveTo>
                <a:lnTo>
                  <a:pt x="167357" y="568325"/>
                </a:lnTo>
                <a:arcTo wR="279524" hR="400968" stAng="10800000" swAng="-5400000"/>
                <a:lnTo>
                  <a:pt x="446881" y="969293"/>
                </a:lnTo>
                <a:arcTo wR="279524" hR="400968" stAng="5400000" swAng="-5400000"/>
                <a:lnTo>
                  <a:pt x="726405" y="568325"/>
                </a:lnTo>
                <a:arcTo wR="279524" hR="400968" stAng="0" swAng="-5400000"/>
                <a:lnTo>
                  <a:pt x="446881" y="167357"/>
                </a:lnTo>
                <a:arcTo wR="279524" hR="400968" stAng="-540000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圆角矩形 766"/>
          <p:cNvSpPr/>
          <p:nvPr/>
        </p:nvSpPr>
        <p:spPr>
          <a:xfrm flipH="1" rot="20450400">
            <a:off x="4301640" y="4795560"/>
            <a:ext cx="1149480" cy="377640"/>
          </a:xfrm>
          <a:prstGeom prst="roundRect">
            <a:avLst>
              <a:gd name="adj" fmla="val 16667"/>
            </a:avLst>
          </a:prstGeom>
          <a:solidFill>
            <a:srgbClr val="a9d18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30</a:t>
            </a:r>
            <a:r>
              <a:rPr b="0" lang="zh-CN" sz="1800" spc="-1" strike="noStrike">
                <a:solidFill>
                  <a:srgbClr val="548235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548235"/>
                </a:solidFill>
                <a:latin typeface="Calibri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圆角矩形 767"/>
          <p:cNvSpPr/>
          <p:nvPr/>
        </p:nvSpPr>
        <p:spPr>
          <a:xfrm flipH="1" rot="20450400">
            <a:off x="3494880" y="5140440"/>
            <a:ext cx="817560" cy="377640"/>
          </a:xfrm>
          <a:prstGeom prst="roundRect">
            <a:avLst>
              <a:gd name="adj" fmla="val 16667"/>
            </a:avLst>
          </a:prstGeom>
          <a:solidFill>
            <a:srgbClr val="a9d18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zh-CN" sz="1800" spc="-1" strike="noStrike">
                <a:solidFill>
                  <a:srgbClr val="548235"/>
                </a:solidFill>
                <a:latin typeface="Calibri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ush dir="u"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2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3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700"/>
                            </p:stCondLst>
                            <p:childTnLst>
                              <p:par>
                                <p:cTn id="90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0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9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2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500"/>
                            </p:stCondLst>
                            <p:childTnLst>
                              <p:par>
                                <p:cTn id="934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4000"/>
                            </p:stCondLst>
                            <p:childTnLst>
                              <p:par>
                                <p:cTn id="9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2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45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500"/>
                            </p:stCondLst>
                            <p:childTnLst>
                              <p:par>
                                <p:cTn id="948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7000"/>
                            </p:stCondLst>
                            <p:childTnLst>
                              <p:par>
                                <p:cTn id="9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7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8000"/>
                            </p:stCondLst>
                            <p:childTnLst>
                              <p:par>
                                <p:cTn id="96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9500"/>
                            </p:stCondLst>
                            <p:childTnLst>
                              <p:par>
                                <p:cTn id="9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0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3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3:59:49Z</dcterms:created>
  <dc:creator>Simple Lee</dc:creator>
  <dc:description/>
  <dc:language>en-US</dc:language>
  <cp:lastModifiedBy>clf2015</cp:lastModifiedBy>
  <dcterms:modified xsi:type="dcterms:W3CDTF">2015-10-15T03:49:25Z</dcterms:modified>
  <cp:revision>469</cp:revision>
  <dc:subject/>
  <dc:title>PowerPoint 演示文稿</dc:title>
</cp:coreProperties>
</file>