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7.jpeg" ContentType="image/jpeg"/>
  <Override PartName="/ppt/media/explode.wav" ContentType="audio/x-wav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1C9-322D-4C4B-A588-95886AFA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668-1C95-4B34-91B9-7E117633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A0A-8F17-4D3A-937C-57F87942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E0B-3596-4B15-A81A-E25BE097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66DD-BFB3-4799-B1C2-70F95D1D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4150-F5F1-499E-B2A0-936DED94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DF54-88DE-4076-928D-3A8A0B94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3C77-87B5-4B30-870E-BBBC5AB4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657E-96CE-4901-BE32-9B14E523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5836-D7ED-424C-941A-767E1D7E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F795-2AC2-4C60-9543-EB44D56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50D-0255-4941-86A2-152172B8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3B05-F4D8-4E18-B8A2-D0D5696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8CF9-E6EA-4AC5-9E51-77D9131A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675E-3E2B-41C7-ABEF-F28CACEE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6D5C-66B2-4DF7-977D-C1B7EBE3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8B4D-D80C-484A-9D15-C3F0F996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229-C280-4E7A-A2A2-8E38F489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5AD-1154-47A1-A18B-F03A03A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63A-788D-4895-9157-1960A88C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972-2DFD-47D4-A916-5B697730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539-26EF-4BAA-94E2-EA0094F4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F2C-3402-4295-AC98-BD49DE8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2D3-0D85-40DB-A023-0FFFB673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1830" h="3282">
                <a:moveTo>
                  <a:pt x="1830" y="385"/>
                </a:moveTo>
                <a:lnTo>
                  <a:pt x="1616" y="71"/>
                </a:lnTo>
                <a:lnTo>
                  <a:pt x="1412" y="0"/>
                </a:lnTo>
                <a:lnTo>
                  <a:pt x="69" y="2503"/>
                </a:lnTo>
                <a:lnTo>
                  <a:pt x="69" y="2874"/>
                </a:lnTo>
                <a:lnTo>
                  <a:pt x="0" y="3233"/>
                </a:lnTo>
                <a:lnTo>
                  <a:pt x="45" y="3282"/>
                </a:lnTo>
                <a:lnTo>
                  <a:pt x="277" y="2987"/>
                </a:lnTo>
                <a:lnTo>
                  <a:pt x="466" y="2874"/>
                </a:lnTo>
                <a:lnTo>
                  <a:pt x="1830" y="385"/>
                </a:lnTo>
                <a:lnTo>
                  <a:pt x="1830" y="385"/>
                </a:lnTo>
                <a:lnTo>
                  <a:pt x="1830" y="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434D622-7BB0-4FF1-B96D-AA4BA87F70D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1835" h="3302">
                <a:moveTo>
                  <a:pt x="1445" y="0"/>
                </a:moveTo>
                <a:lnTo>
                  <a:pt x="81" y="2528"/>
                </a:lnTo>
                <a:lnTo>
                  <a:pt x="82" y="2854"/>
                </a:lnTo>
                <a:lnTo>
                  <a:pt x="0" y="3240"/>
                </a:lnTo>
                <a:lnTo>
                  <a:pt x="31" y="3302"/>
                </a:lnTo>
                <a:lnTo>
                  <a:pt x="266" y="2989"/>
                </a:lnTo>
                <a:lnTo>
                  <a:pt x="480" y="2871"/>
                </a:lnTo>
                <a:lnTo>
                  <a:pt x="1835" y="381"/>
                </a:lnTo>
                <a:lnTo>
                  <a:pt x="1632" y="85"/>
                </a:lnTo>
                <a:lnTo>
                  <a:pt x="1445" y="0"/>
                </a:lnTo>
                <a:lnTo>
                  <a:pt x="1445" y="0"/>
                </a:lnTo>
                <a:lnTo>
                  <a:pt x="1445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1615" h="2475">
                <a:moveTo>
                  <a:pt x="0" y="2214"/>
                </a:moveTo>
                <a:lnTo>
                  <a:pt x="272" y="2275"/>
                </a:lnTo>
                <a:lnTo>
                  <a:pt x="464" y="2475"/>
                </a:lnTo>
                <a:lnTo>
                  <a:pt x="1615" y="355"/>
                </a:lnTo>
                <a:lnTo>
                  <a:pt x="1335" y="73"/>
                </a:lnTo>
                <a:lnTo>
                  <a:pt x="1196" y="0"/>
                </a:lnTo>
                <a:lnTo>
                  <a:pt x="0" y="2214"/>
                </a:lnTo>
                <a:lnTo>
                  <a:pt x="0" y="2214"/>
                </a:lnTo>
                <a:lnTo>
                  <a:pt x="0" y="2214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722" h="1622">
                  <a:moveTo>
                    <a:pt x="1984" y="1574"/>
                  </a:moveTo>
                  <a:lnTo>
                    <a:pt x="1775" y="1382"/>
                  </a:lnTo>
                  <a:lnTo>
                    <a:pt x="1664" y="596"/>
                  </a:lnTo>
                  <a:lnTo>
                    <a:pt x="2674" y="412"/>
                  </a:lnTo>
                  <a:lnTo>
                    <a:pt x="2722" y="253"/>
                  </a:lnTo>
                  <a:lnTo>
                    <a:pt x="2624" y="124"/>
                  </a:lnTo>
                  <a:lnTo>
                    <a:pt x="1595" y="263"/>
                  </a:lnTo>
                  <a:lnTo>
                    <a:pt x="1524" y="39"/>
                  </a:lnTo>
                  <a:lnTo>
                    <a:pt x="1356" y="0"/>
                  </a:lnTo>
                  <a:lnTo>
                    <a:pt x="1198" y="35"/>
                  </a:lnTo>
                  <a:lnTo>
                    <a:pt x="1110" y="132"/>
                  </a:lnTo>
                  <a:lnTo>
                    <a:pt x="1171" y="356"/>
                  </a:lnTo>
                  <a:lnTo>
                    <a:pt x="825" y="551"/>
                  </a:lnTo>
                  <a:lnTo>
                    <a:pt x="1229" y="591"/>
                  </a:lnTo>
                  <a:lnTo>
                    <a:pt x="1390" y="1111"/>
                  </a:lnTo>
                  <a:lnTo>
                    <a:pt x="176" y="586"/>
                  </a:lnTo>
                  <a:lnTo>
                    <a:pt x="57" y="636"/>
                  </a:lnTo>
                  <a:lnTo>
                    <a:pt x="0" y="794"/>
                  </a:lnTo>
                  <a:lnTo>
                    <a:pt x="68" y="973"/>
                  </a:lnTo>
                  <a:lnTo>
                    <a:pt x="1424" y="1609"/>
                  </a:lnTo>
                  <a:lnTo>
                    <a:pt x="1723" y="1569"/>
                  </a:lnTo>
                  <a:lnTo>
                    <a:pt x="1963" y="1622"/>
                  </a:lnTo>
                  <a:lnTo>
                    <a:pt x="1984" y="1574"/>
                  </a:lnTo>
                  <a:lnTo>
                    <a:pt x="1984" y="1574"/>
                  </a:lnTo>
                  <a:lnTo>
                    <a:pt x="1984" y="157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77" h="322">
                  <a:moveTo>
                    <a:pt x="0" y="8"/>
                  </a:moveTo>
                  <a:lnTo>
                    <a:pt x="148" y="0"/>
                  </a:lnTo>
                  <a:lnTo>
                    <a:pt x="177" y="291"/>
                  </a:lnTo>
                  <a:lnTo>
                    <a:pt x="9" y="32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980" h="1025">
                  <a:moveTo>
                    <a:pt x="171" y="0"/>
                  </a:moveTo>
                  <a:lnTo>
                    <a:pt x="1661" y="647"/>
                  </a:lnTo>
                  <a:lnTo>
                    <a:pt x="1782" y="796"/>
                  </a:lnTo>
                  <a:lnTo>
                    <a:pt x="1980" y="988"/>
                  </a:lnTo>
                  <a:lnTo>
                    <a:pt x="1953" y="1025"/>
                  </a:lnTo>
                  <a:lnTo>
                    <a:pt x="1685" y="982"/>
                  </a:lnTo>
                  <a:lnTo>
                    <a:pt x="1429" y="1012"/>
                  </a:lnTo>
                  <a:lnTo>
                    <a:pt x="52" y="372"/>
                  </a:lnTo>
                  <a:lnTo>
                    <a:pt x="0" y="187"/>
                  </a:lnTo>
                  <a:lnTo>
                    <a:pt x="57" y="39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312" h="935">
                  <a:moveTo>
                    <a:pt x="0" y="406"/>
                  </a:moveTo>
                  <a:lnTo>
                    <a:pt x="1153" y="935"/>
                  </a:lnTo>
                  <a:lnTo>
                    <a:pt x="1174" y="668"/>
                  </a:lnTo>
                  <a:lnTo>
                    <a:pt x="1312" y="528"/>
                  </a:lnTo>
                  <a:lnTo>
                    <a:pt x="97" y="0"/>
                  </a:lnTo>
                  <a:lnTo>
                    <a:pt x="0" y="158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337" h="302">
                  <a:moveTo>
                    <a:pt x="0" y="35"/>
                  </a:moveTo>
                  <a:lnTo>
                    <a:pt x="198" y="0"/>
                  </a:lnTo>
                  <a:lnTo>
                    <a:pt x="311" y="45"/>
                  </a:lnTo>
                  <a:lnTo>
                    <a:pt x="337" y="174"/>
                  </a:lnTo>
                  <a:lnTo>
                    <a:pt x="203" y="183"/>
                  </a:lnTo>
                  <a:lnTo>
                    <a:pt x="39" y="30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90" h="279">
                  <a:moveTo>
                    <a:pt x="190" y="4"/>
                  </a:moveTo>
                  <a:lnTo>
                    <a:pt x="190" y="279"/>
                  </a:lnTo>
                  <a:lnTo>
                    <a:pt x="0" y="10"/>
                  </a:lnTo>
                  <a:lnTo>
                    <a:pt x="90" y="0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482" h="957">
                  <a:moveTo>
                    <a:pt x="0" y="100"/>
                  </a:moveTo>
                  <a:lnTo>
                    <a:pt x="108" y="0"/>
                  </a:lnTo>
                  <a:lnTo>
                    <a:pt x="290" y="7"/>
                  </a:lnTo>
                  <a:lnTo>
                    <a:pt x="482" y="957"/>
                  </a:lnTo>
                  <a:lnTo>
                    <a:pt x="348" y="902"/>
                  </a:lnTo>
                  <a:lnTo>
                    <a:pt x="190" y="84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910" h="434">
                  <a:moveTo>
                    <a:pt x="865" y="0"/>
                  </a:moveTo>
                  <a:lnTo>
                    <a:pt x="0" y="132"/>
                  </a:lnTo>
                  <a:lnTo>
                    <a:pt x="34" y="434"/>
                  </a:lnTo>
                  <a:lnTo>
                    <a:pt x="893" y="296"/>
                  </a:lnTo>
                  <a:lnTo>
                    <a:pt x="910" y="53"/>
                  </a:lnTo>
                  <a:lnTo>
                    <a:pt x="865" y="0"/>
                  </a:lnTo>
                  <a:lnTo>
                    <a:pt x="865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89" h="167">
                  <a:moveTo>
                    <a:pt x="339" y="0"/>
                  </a:moveTo>
                  <a:lnTo>
                    <a:pt x="0" y="96"/>
                  </a:lnTo>
                  <a:lnTo>
                    <a:pt x="389" y="16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92" h="217">
                      <a:moveTo>
                        <a:pt x="0" y="132"/>
                      </a:moveTo>
                      <a:lnTo>
                        <a:pt x="142" y="12"/>
                      </a:lnTo>
                      <a:lnTo>
                        <a:pt x="267" y="0"/>
                      </a:lnTo>
                      <a:lnTo>
                        <a:pt x="366" y="33"/>
                      </a:lnTo>
                      <a:lnTo>
                        <a:pt x="392" y="113"/>
                      </a:lnTo>
                      <a:lnTo>
                        <a:pt x="209" y="83"/>
                      </a:lnTo>
                      <a:lnTo>
                        <a:pt x="92" y="125"/>
                      </a:lnTo>
                      <a:lnTo>
                        <a:pt x="16" y="217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87" h="332">
                      <a:moveTo>
                        <a:pt x="0" y="49"/>
                      </a:moveTo>
                      <a:lnTo>
                        <a:pt x="200" y="332"/>
                      </a:lnTo>
                      <a:lnTo>
                        <a:pt x="287" y="313"/>
                      </a:lnTo>
                      <a:lnTo>
                        <a:pt x="278" y="21"/>
                      </a:lnTo>
                      <a:lnTo>
                        <a:pt x="207" y="0"/>
                      </a:lnTo>
                      <a:lnTo>
                        <a:pt x="223" y="246"/>
                      </a:lnTo>
                      <a:lnTo>
                        <a:pt x="88" y="4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107" h="292">
                      <a:moveTo>
                        <a:pt x="0" y="23"/>
                      </a:moveTo>
                      <a:lnTo>
                        <a:pt x="44" y="116"/>
                      </a:lnTo>
                      <a:lnTo>
                        <a:pt x="54" y="192"/>
                      </a:lnTo>
                      <a:lnTo>
                        <a:pt x="33" y="292"/>
                      </a:lnTo>
                      <a:lnTo>
                        <a:pt x="98" y="275"/>
                      </a:lnTo>
                      <a:lnTo>
                        <a:pt x="107" y="144"/>
                      </a:lnTo>
                      <a:lnTo>
                        <a:pt x="56" y="0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487" h="624">
                    <a:moveTo>
                      <a:pt x="125" y="0"/>
                    </a:moveTo>
                    <a:lnTo>
                      <a:pt x="1487" y="612"/>
                    </a:lnTo>
                    <a:lnTo>
                      <a:pt x="1345" y="624"/>
                    </a:lnTo>
                    <a:lnTo>
                      <a:pt x="0" y="33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609" h="369">
                    <a:moveTo>
                      <a:pt x="17" y="42"/>
                    </a:moveTo>
                    <a:lnTo>
                      <a:pt x="199" y="82"/>
                    </a:lnTo>
                    <a:lnTo>
                      <a:pt x="404" y="171"/>
                    </a:lnTo>
                    <a:lnTo>
                      <a:pt x="548" y="303"/>
                    </a:lnTo>
                    <a:lnTo>
                      <a:pt x="406" y="287"/>
                    </a:lnTo>
                    <a:lnTo>
                      <a:pt x="173" y="182"/>
                    </a:lnTo>
                    <a:lnTo>
                      <a:pt x="62" y="99"/>
                    </a:lnTo>
                    <a:lnTo>
                      <a:pt x="133" y="203"/>
                    </a:lnTo>
                    <a:lnTo>
                      <a:pt x="339" y="337"/>
                    </a:lnTo>
                    <a:lnTo>
                      <a:pt x="581" y="369"/>
                    </a:lnTo>
                    <a:lnTo>
                      <a:pt x="610" y="279"/>
                    </a:lnTo>
                    <a:lnTo>
                      <a:pt x="491" y="149"/>
                    </a:lnTo>
                    <a:lnTo>
                      <a:pt x="212" y="21"/>
                    </a:lnTo>
                    <a:lnTo>
                      <a:pt x="0" y="0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67" h="594">
                    <a:moveTo>
                      <a:pt x="30" y="0"/>
                    </a:moveTo>
                    <a:lnTo>
                      <a:pt x="114" y="31"/>
                    </a:lnTo>
                    <a:lnTo>
                      <a:pt x="100" y="238"/>
                    </a:lnTo>
                    <a:lnTo>
                      <a:pt x="133" y="407"/>
                    </a:lnTo>
                    <a:lnTo>
                      <a:pt x="267" y="561"/>
                    </a:lnTo>
                    <a:lnTo>
                      <a:pt x="121" y="594"/>
                    </a:lnTo>
                    <a:lnTo>
                      <a:pt x="37" y="428"/>
                    </a:lnTo>
                    <a:lnTo>
                      <a:pt x="0" y="7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87" h="217">
                      <a:moveTo>
                        <a:pt x="137" y="0"/>
                      </a:moveTo>
                      <a:lnTo>
                        <a:pt x="49" y="82"/>
                      </a:lnTo>
                      <a:lnTo>
                        <a:pt x="0" y="217"/>
                      </a:lnTo>
                      <a:lnTo>
                        <a:pt x="100" y="201"/>
                      </a:lnTo>
                      <a:lnTo>
                        <a:pt x="128" y="105"/>
                      </a:lnTo>
                      <a:lnTo>
                        <a:pt x="187" y="33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2105" h="1099">
                      <a:moveTo>
                        <a:pt x="195" y="0"/>
                      </a:moveTo>
                      <a:lnTo>
                        <a:pt x="78" y="64"/>
                      </a:lnTo>
                      <a:lnTo>
                        <a:pt x="0" y="260"/>
                      </a:lnTo>
                      <a:lnTo>
                        <a:pt x="83" y="447"/>
                      </a:lnTo>
                      <a:lnTo>
                        <a:pt x="1477" y="1083"/>
                      </a:lnTo>
                      <a:lnTo>
                        <a:pt x="1777" y="1043"/>
                      </a:lnTo>
                      <a:lnTo>
                        <a:pt x="2020" y="1099"/>
                      </a:lnTo>
                      <a:lnTo>
                        <a:pt x="2105" y="1009"/>
                      </a:lnTo>
                      <a:lnTo>
                        <a:pt x="1877" y="829"/>
                      </a:lnTo>
                      <a:lnTo>
                        <a:pt x="1785" y="639"/>
                      </a:lnTo>
                      <a:lnTo>
                        <a:pt x="1711" y="658"/>
                      </a:lnTo>
                      <a:lnTo>
                        <a:pt x="1798" y="829"/>
                      </a:lnTo>
                      <a:lnTo>
                        <a:pt x="1972" y="1012"/>
                      </a:lnTo>
                      <a:lnTo>
                        <a:pt x="1766" y="983"/>
                      </a:lnTo>
                      <a:lnTo>
                        <a:pt x="1523" y="1017"/>
                      </a:lnTo>
                      <a:lnTo>
                        <a:pt x="1568" y="812"/>
                      </a:lnTo>
                      <a:lnTo>
                        <a:pt x="1672" y="672"/>
                      </a:lnTo>
                      <a:lnTo>
                        <a:pt x="1551" y="689"/>
                      </a:lnTo>
                      <a:lnTo>
                        <a:pt x="1456" y="822"/>
                      </a:lnTo>
                      <a:lnTo>
                        <a:pt x="1423" y="988"/>
                      </a:lnTo>
                      <a:lnTo>
                        <a:pt x="133" y="387"/>
                      </a:lnTo>
                      <a:lnTo>
                        <a:pt x="100" y="268"/>
                      </a:lnTo>
                      <a:lnTo>
                        <a:pt x="128" y="118"/>
                      </a:lnTo>
                      <a:lnTo>
                        <a:pt x="271" y="0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99" h="417">
                      <a:moveTo>
                        <a:pt x="145" y="0"/>
                      </a:moveTo>
                      <a:lnTo>
                        <a:pt x="23" y="132"/>
                      </a:lnTo>
                      <a:lnTo>
                        <a:pt x="0" y="286"/>
                      </a:lnTo>
                      <a:lnTo>
                        <a:pt x="41" y="391"/>
                      </a:lnTo>
                      <a:lnTo>
                        <a:pt x="117" y="417"/>
                      </a:lnTo>
                      <a:lnTo>
                        <a:pt x="94" y="191"/>
                      </a:lnTo>
                      <a:lnTo>
                        <a:pt x="199" y="21"/>
                      </a:lnTo>
                      <a:lnTo>
                        <a:pt x="145" y="0"/>
                      </a:lnTo>
                      <a:lnTo>
                        <a:pt x="145" y="0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804" h="1485">
                      <a:moveTo>
                        <a:pt x="273" y="1120"/>
                      </a:moveTo>
                      <a:lnTo>
                        <a:pt x="0" y="155"/>
                      </a:lnTo>
                      <a:lnTo>
                        <a:pt x="101" y="47"/>
                      </a:lnTo>
                      <a:lnTo>
                        <a:pt x="323" y="0"/>
                      </a:lnTo>
                      <a:lnTo>
                        <a:pt x="500" y="71"/>
                      </a:lnTo>
                      <a:lnTo>
                        <a:pt x="804" y="1485"/>
                      </a:lnTo>
                      <a:lnTo>
                        <a:pt x="695" y="1363"/>
                      </a:lnTo>
                      <a:lnTo>
                        <a:pt x="445" y="121"/>
                      </a:lnTo>
                      <a:lnTo>
                        <a:pt x="283" y="76"/>
                      </a:lnTo>
                      <a:lnTo>
                        <a:pt x="149" y="92"/>
                      </a:lnTo>
                      <a:lnTo>
                        <a:pt x="95" y="176"/>
                      </a:lnTo>
                      <a:lnTo>
                        <a:pt x="383" y="1154"/>
                      </a:lnTo>
                      <a:lnTo>
                        <a:pt x="273" y="1120"/>
                      </a:lnTo>
                      <a:lnTo>
                        <a:pt x="273" y="1120"/>
                      </a:lnTo>
                      <a:lnTo>
                        <a:pt x="273" y="1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239" h="630">
                      <a:moveTo>
                        <a:pt x="0" y="33"/>
                      </a:moveTo>
                      <a:lnTo>
                        <a:pt x="94" y="242"/>
                      </a:lnTo>
                      <a:lnTo>
                        <a:pt x="141" y="397"/>
                      </a:lnTo>
                      <a:lnTo>
                        <a:pt x="145" y="630"/>
                      </a:lnTo>
                      <a:lnTo>
                        <a:pt x="240" y="630"/>
                      </a:lnTo>
                      <a:lnTo>
                        <a:pt x="233" y="450"/>
                      </a:lnTo>
                      <a:lnTo>
                        <a:pt x="202" y="260"/>
                      </a:lnTo>
                      <a:lnTo>
                        <a:pt x="123" y="73"/>
                      </a:lnTo>
                      <a:lnTo>
                        <a:pt x="78" y="0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487" h="337">
                      <a:moveTo>
                        <a:pt x="371" y="0"/>
                      </a:moveTo>
                      <a:lnTo>
                        <a:pt x="321" y="21"/>
                      </a:lnTo>
                      <a:lnTo>
                        <a:pt x="316" y="82"/>
                      </a:lnTo>
                      <a:lnTo>
                        <a:pt x="0" y="212"/>
                      </a:lnTo>
                      <a:lnTo>
                        <a:pt x="0" y="278"/>
                      </a:lnTo>
                      <a:lnTo>
                        <a:pt x="355" y="283"/>
                      </a:lnTo>
                      <a:lnTo>
                        <a:pt x="400" y="337"/>
                      </a:lnTo>
                      <a:lnTo>
                        <a:pt x="487" y="333"/>
                      </a:lnTo>
                      <a:lnTo>
                        <a:pt x="478" y="238"/>
                      </a:lnTo>
                      <a:lnTo>
                        <a:pt x="144" y="220"/>
                      </a:lnTo>
                      <a:lnTo>
                        <a:pt x="416" y="111"/>
                      </a:lnTo>
                      <a:lnTo>
                        <a:pt x="371" y="0"/>
                      </a:lnTo>
                      <a:lnTo>
                        <a:pt x="371" y="0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1177" h="529">
                      <a:moveTo>
                        <a:pt x="0" y="163"/>
                      </a:moveTo>
                      <a:lnTo>
                        <a:pt x="1079" y="0"/>
                      </a:lnTo>
                      <a:lnTo>
                        <a:pt x="1158" y="97"/>
                      </a:lnTo>
                      <a:lnTo>
                        <a:pt x="1177" y="226"/>
                      </a:lnTo>
                      <a:lnTo>
                        <a:pt x="1129" y="352"/>
                      </a:lnTo>
                      <a:lnTo>
                        <a:pt x="71" y="529"/>
                      </a:lnTo>
                      <a:lnTo>
                        <a:pt x="66" y="480"/>
                      </a:lnTo>
                      <a:lnTo>
                        <a:pt x="1079" y="302"/>
                      </a:lnTo>
                      <a:lnTo>
                        <a:pt x="1117" y="181"/>
                      </a:lnTo>
                      <a:lnTo>
                        <a:pt x="1051" y="71"/>
                      </a:lnTo>
                      <a:lnTo>
                        <a:pt x="0" y="231"/>
                      </a:lnTo>
                      <a:lnTo>
                        <a:pt x="0" y="163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612" h="215">
                      <a:moveTo>
                        <a:pt x="0" y="156"/>
                      </a:moveTo>
                      <a:lnTo>
                        <a:pt x="82" y="215"/>
                      </a:lnTo>
                      <a:lnTo>
                        <a:pt x="278" y="206"/>
                      </a:lnTo>
                      <a:lnTo>
                        <a:pt x="524" y="144"/>
                      </a:lnTo>
                      <a:lnTo>
                        <a:pt x="612" y="52"/>
                      </a:lnTo>
                      <a:lnTo>
                        <a:pt x="556" y="2"/>
                      </a:lnTo>
                      <a:lnTo>
                        <a:pt x="317" y="0"/>
                      </a:lnTo>
                      <a:lnTo>
                        <a:pt x="138" y="14"/>
                      </a:lnTo>
                      <a:lnTo>
                        <a:pt x="18" y="94"/>
                      </a:lnTo>
                      <a:lnTo>
                        <a:pt x="140" y="118"/>
                      </a:lnTo>
                      <a:lnTo>
                        <a:pt x="345" y="65"/>
                      </a:lnTo>
                      <a:lnTo>
                        <a:pt x="522" y="65"/>
                      </a:lnTo>
                      <a:lnTo>
                        <a:pt x="336" y="136"/>
                      </a:lnTo>
                      <a:lnTo>
                        <a:pt x="178" y="156"/>
                      </a:lnTo>
                      <a:lnTo>
                        <a:pt x="0" y="156"/>
                      </a:lnTo>
                      <a:lnTo>
                        <a:pt x="0" y="156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512" h="3567">
                  <a:moveTo>
                    <a:pt x="459" y="3447"/>
                  </a:moveTo>
                  <a:lnTo>
                    <a:pt x="252" y="3216"/>
                  </a:lnTo>
                  <a:lnTo>
                    <a:pt x="211" y="3039"/>
                  </a:lnTo>
                  <a:lnTo>
                    <a:pt x="246" y="2776"/>
                  </a:lnTo>
                  <a:lnTo>
                    <a:pt x="392" y="2458"/>
                  </a:lnTo>
                  <a:lnTo>
                    <a:pt x="425" y="2261"/>
                  </a:lnTo>
                  <a:lnTo>
                    <a:pt x="392" y="2127"/>
                  </a:lnTo>
                  <a:lnTo>
                    <a:pt x="266" y="2030"/>
                  </a:lnTo>
                  <a:lnTo>
                    <a:pt x="239" y="1908"/>
                  </a:lnTo>
                  <a:lnTo>
                    <a:pt x="285" y="1733"/>
                  </a:lnTo>
                  <a:lnTo>
                    <a:pt x="491" y="1262"/>
                  </a:lnTo>
                  <a:lnTo>
                    <a:pt x="512" y="1032"/>
                  </a:lnTo>
                  <a:lnTo>
                    <a:pt x="459" y="778"/>
                  </a:lnTo>
                  <a:lnTo>
                    <a:pt x="285" y="658"/>
                  </a:lnTo>
                  <a:lnTo>
                    <a:pt x="132" y="460"/>
                  </a:lnTo>
                  <a:lnTo>
                    <a:pt x="0" y="0"/>
                  </a:lnTo>
                  <a:lnTo>
                    <a:pt x="19" y="417"/>
                  </a:lnTo>
                  <a:lnTo>
                    <a:pt x="118" y="668"/>
                  </a:lnTo>
                  <a:lnTo>
                    <a:pt x="252" y="822"/>
                  </a:lnTo>
                  <a:lnTo>
                    <a:pt x="398" y="909"/>
                  </a:lnTo>
                  <a:lnTo>
                    <a:pt x="406" y="1140"/>
                  </a:lnTo>
                  <a:lnTo>
                    <a:pt x="331" y="1382"/>
                  </a:lnTo>
                  <a:lnTo>
                    <a:pt x="159" y="1811"/>
                  </a:lnTo>
                  <a:lnTo>
                    <a:pt x="152" y="2085"/>
                  </a:lnTo>
                  <a:lnTo>
                    <a:pt x="312" y="2238"/>
                  </a:lnTo>
                  <a:lnTo>
                    <a:pt x="305" y="2381"/>
                  </a:lnTo>
                  <a:lnTo>
                    <a:pt x="165" y="2678"/>
                  </a:lnTo>
                  <a:lnTo>
                    <a:pt x="106" y="2963"/>
                  </a:lnTo>
                  <a:lnTo>
                    <a:pt x="159" y="3270"/>
                  </a:lnTo>
                  <a:lnTo>
                    <a:pt x="285" y="3434"/>
                  </a:lnTo>
                  <a:lnTo>
                    <a:pt x="445" y="3567"/>
                  </a:lnTo>
                  <a:lnTo>
                    <a:pt x="459" y="3447"/>
                  </a:lnTo>
                  <a:lnTo>
                    <a:pt x="459" y="3447"/>
                  </a:lnTo>
                  <a:lnTo>
                    <a:pt x="459" y="3447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512" h="4082">
                  <a:moveTo>
                    <a:pt x="459" y="3944"/>
                  </a:moveTo>
                  <a:lnTo>
                    <a:pt x="252" y="3681"/>
                  </a:lnTo>
                  <a:lnTo>
                    <a:pt x="211" y="3478"/>
                  </a:lnTo>
                  <a:lnTo>
                    <a:pt x="246" y="3177"/>
                  </a:lnTo>
                  <a:lnTo>
                    <a:pt x="392" y="2813"/>
                  </a:lnTo>
                  <a:lnTo>
                    <a:pt x="425" y="2587"/>
                  </a:lnTo>
                  <a:lnTo>
                    <a:pt x="392" y="2434"/>
                  </a:lnTo>
                  <a:lnTo>
                    <a:pt x="266" y="2323"/>
                  </a:lnTo>
                  <a:lnTo>
                    <a:pt x="239" y="2183"/>
                  </a:lnTo>
                  <a:lnTo>
                    <a:pt x="285" y="1983"/>
                  </a:lnTo>
                  <a:lnTo>
                    <a:pt x="491" y="1444"/>
                  </a:lnTo>
                  <a:lnTo>
                    <a:pt x="512" y="1181"/>
                  </a:lnTo>
                  <a:lnTo>
                    <a:pt x="459" y="891"/>
                  </a:lnTo>
                  <a:lnTo>
                    <a:pt x="285" y="753"/>
                  </a:lnTo>
                  <a:lnTo>
                    <a:pt x="132" y="527"/>
                  </a:lnTo>
                  <a:lnTo>
                    <a:pt x="0" y="0"/>
                  </a:lnTo>
                  <a:lnTo>
                    <a:pt x="19" y="477"/>
                  </a:lnTo>
                  <a:lnTo>
                    <a:pt x="118" y="765"/>
                  </a:lnTo>
                  <a:lnTo>
                    <a:pt x="252" y="941"/>
                  </a:lnTo>
                  <a:lnTo>
                    <a:pt x="398" y="1041"/>
                  </a:lnTo>
                  <a:lnTo>
                    <a:pt x="406" y="1305"/>
                  </a:lnTo>
                  <a:lnTo>
                    <a:pt x="331" y="1582"/>
                  </a:lnTo>
                  <a:lnTo>
                    <a:pt x="159" y="2072"/>
                  </a:lnTo>
                  <a:lnTo>
                    <a:pt x="152" y="2386"/>
                  </a:lnTo>
                  <a:lnTo>
                    <a:pt x="312" y="2561"/>
                  </a:lnTo>
                  <a:lnTo>
                    <a:pt x="305" y="2724"/>
                  </a:lnTo>
                  <a:lnTo>
                    <a:pt x="165" y="3064"/>
                  </a:lnTo>
                  <a:lnTo>
                    <a:pt x="106" y="3391"/>
                  </a:lnTo>
                  <a:lnTo>
                    <a:pt x="159" y="3742"/>
                  </a:lnTo>
                  <a:lnTo>
                    <a:pt x="285" y="3929"/>
                  </a:lnTo>
                  <a:lnTo>
                    <a:pt x="445" y="4082"/>
                  </a:lnTo>
                  <a:lnTo>
                    <a:pt x="459" y="3944"/>
                  </a:lnTo>
                  <a:lnTo>
                    <a:pt x="459" y="3944"/>
                  </a:lnTo>
                  <a:lnTo>
                    <a:pt x="459" y="3944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920" y="-87480"/>
            <a:ext cx="2426400" cy="2245680"/>
            <a:chOff x="7171920" y="-87480"/>
            <a:chExt cx="2426400" cy="2245680"/>
          </a:xfrm>
        </p:grpSpPr>
        <p:grpSp>
          <p:nvGrpSpPr>
            <p:cNvPr id="39" name=""/>
            <p:cNvGrpSpPr/>
            <p:nvPr/>
          </p:nvGrpSpPr>
          <p:grpSpPr>
            <a:xfrm>
              <a:off x="7171920" y="-87480"/>
              <a:ext cx="2426400" cy="2245680"/>
              <a:chOff x="7171920" y="-87480"/>
              <a:chExt cx="2426400" cy="224568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155" h="719">
                    <a:moveTo>
                      <a:pt x="77" y="8"/>
                    </a:moveTo>
                    <a:lnTo>
                      <a:pt x="82" y="305"/>
                    </a:lnTo>
                    <a:lnTo>
                      <a:pt x="0" y="719"/>
                    </a:lnTo>
                    <a:lnTo>
                      <a:pt x="49" y="704"/>
                    </a:lnTo>
                    <a:lnTo>
                      <a:pt x="137" y="335"/>
                    </a:lnTo>
                    <a:lnTo>
                      <a:pt x="155" y="0"/>
                    </a:lnTo>
                    <a:lnTo>
                      <a:pt x="77" y="8"/>
                    </a:lnTo>
                    <a:lnTo>
                      <a:pt x="77" y="8"/>
                    </a:lnTo>
                    <a:lnTo>
                      <a:pt x="7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920" y="-87480"/>
                <a:ext cx="2426400" cy="2245680"/>
                <a:chOff x="7171920" y="-87480"/>
                <a:chExt cx="2426400" cy="224568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382" h="312">
                      <a:moveTo>
                        <a:pt x="0" y="0"/>
                      </a:moveTo>
                      <a:lnTo>
                        <a:pt x="188" y="164"/>
                      </a:lnTo>
                      <a:lnTo>
                        <a:pt x="316" y="312"/>
                      </a:lnTo>
                      <a:lnTo>
                        <a:pt x="382" y="125"/>
                      </a:lnTo>
                      <a:lnTo>
                        <a:pt x="227" y="8"/>
                      </a:lnTo>
                      <a:lnTo>
                        <a:pt x="293" y="164"/>
                      </a:lnTo>
                      <a:lnTo>
                        <a:pt x="82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3960" y="525600"/>
                  <a:ext cx="428040" cy="695160"/>
                </a:xfrm>
                <a:custGeom>
                  <a:avLst/>
                  <a:gdLst/>
                  <a:ahLst/>
                  <a:rect l="l" t="t" r="r" b="b"/>
                  <a:pathLst>
                    <a:path w="672" h="1094">
                      <a:moveTo>
                        <a:pt x="468" y="114"/>
                      </a:moveTo>
                      <a:lnTo>
                        <a:pt x="306" y="313"/>
                      </a:lnTo>
                      <a:lnTo>
                        <a:pt x="103" y="678"/>
                      </a:lnTo>
                      <a:lnTo>
                        <a:pt x="0" y="980"/>
                      </a:lnTo>
                      <a:lnTo>
                        <a:pt x="37" y="1094"/>
                      </a:lnTo>
                      <a:lnTo>
                        <a:pt x="165" y="1069"/>
                      </a:lnTo>
                      <a:lnTo>
                        <a:pt x="365" y="813"/>
                      </a:lnTo>
                      <a:lnTo>
                        <a:pt x="553" y="475"/>
                      </a:lnTo>
                      <a:lnTo>
                        <a:pt x="653" y="240"/>
                      </a:lnTo>
                      <a:lnTo>
                        <a:pt x="672" y="74"/>
                      </a:lnTo>
                      <a:lnTo>
                        <a:pt x="617" y="0"/>
                      </a:lnTo>
                      <a:lnTo>
                        <a:pt x="528" y="57"/>
                      </a:lnTo>
                      <a:lnTo>
                        <a:pt x="612" y="95"/>
                      </a:lnTo>
                      <a:lnTo>
                        <a:pt x="553" y="313"/>
                      </a:lnTo>
                      <a:lnTo>
                        <a:pt x="436" y="583"/>
                      </a:lnTo>
                      <a:lnTo>
                        <a:pt x="221" y="897"/>
                      </a:lnTo>
                      <a:lnTo>
                        <a:pt x="73" y="991"/>
                      </a:lnTo>
                      <a:lnTo>
                        <a:pt x="85" y="839"/>
                      </a:lnTo>
                      <a:lnTo>
                        <a:pt x="276" y="448"/>
                      </a:lnTo>
                      <a:lnTo>
                        <a:pt x="525" y="105"/>
                      </a:lnTo>
                      <a:lnTo>
                        <a:pt x="468" y="114"/>
                      </a:lnTo>
                      <a:lnTo>
                        <a:pt x="468" y="114"/>
                      </a:lnTo>
                      <a:lnTo>
                        <a:pt x="468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4800" y="288360"/>
                  <a:ext cx="800640" cy="1425240"/>
                </a:xfrm>
                <a:custGeom>
                  <a:avLst/>
                  <a:gdLst/>
                  <a:ahLst/>
                  <a:rect l="l" t="t" r="r" b="b"/>
                  <a:pathLst>
                    <a:path w="1262" h="2244">
                      <a:moveTo>
                        <a:pt x="1224" y="0"/>
                      </a:moveTo>
                      <a:lnTo>
                        <a:pt x="0" y="2245"/>
                      </a:lnTo>
                      <a:lnTo>
                        <a:pt x="121" y="2181"/>
                      </a:lnTo>
                      <a:lnTo>
                        <a:pt x="1262" y="54"/>
                      </a:lnTo>
                      <a:lnTo>
                        <a:pt x="1224" y="0"/>
                      </a:lnTo>
                      <a:lnTo>
                        <a:pt x="1224" y="0"/>
                      </a:lnTo>
                      <a:lnTo>
                        <a:pt x="1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920" y="-31320"/>
                  <a:ext cx="1202040" cy="2133360"/>
                </a:xfrm>
                <a:custGeom>
                  <a:avLst/>
                  <a:gdLst/>
                  <a:ahLst/>
                  <a:rect l="l" t="t" r="r" b="b"/>
                  <a:pathLst>
                    <a:path w="1895" h="3359">
                      <a:moveTo>
                        <a:pt x="59" y="2534"/>
                      </a:moveTo>
                      <a:lnTo>
                        <a:pt x="248" y="2525"/>
                      </a:lnTo>
                      <a:lnTo>
                        <a:pt x="517" y="2681"/>
                      </a:lnTo>
                      <a:lnTo>
                        <a:pt x="429" y="2509"/>
                      </a:lnTo>
                      <a:lnTo>
                        <a:pt x="231" y="2408"/>
                      </a:lnTo>
                      <a:lnTo>
                        <a:pt x="401" y="2423"/>
                      </a:lnTo>
                      <a:lnTo>
                        <a:pt x="616" y="2557"/>
                      </a:lnTo>
                      <a:lnTo>
                        <a:pt x="1801" y="374"/>
                      </a:lnTo>
                      <a:lnTo>
                        <a:pt x="1624" y="131"/>
                      </a:lnTo>
                      <a:lnTo>
                        <a:pt x="1454" y="0"/>
                      </a:lnTo>
                      <a:lnTo>
                        <a:pt x="1696" y="69"/>
                      </a:lnTo>
                      <a:lnTo>
                        <a:pt x="1895" y="381"/>
                      </a:lnTo>
                      <a:lnTo>
                        <a:pt x="523" y="2916"/>
                      </a:lnTo>
                      <a:lnTo>
                        <a:pt x="303" y="3040"/>
                      </a:lnTo>
                      <a:lnTo>
                        <a:pt x="66" y="3359"/>
                      </a:lnTo>
                      <a:lnTo>
                        <a:pt x="0" y="3267"/>
                      </a:lnTo>
                      <a:lnTo>
                        <a:pt x="82" y="3235"/>
                      </a:lnTo>
                      <a:lnTo>
                        <a:pt x="236" y="3016"/>
                      </a:lnTo>
                      <a:lnTo>
                        <a:pt x="103" y="2916"/>
                      </a:lnTo>
                      <a:lnTo>
                        <a:pt x="103" y="2829"/>
                      </a:lnTo>
                      <a:lnTo>
                        <a:pt x="259" y="2938"/>
                      </a:lnTo>
                      <a:lnTo>
                        <a:pt x="259" y="2838"/>
                      </a:lnTo>
                      <a:lnTo>
                        <a:pt x="380" y="2869"/>
                      </a:lnTo>
                      <a:lnTo>
                        <a:pt x="269" y="2743"/>
                      </a:lnTo>
                      <a:lnTo>
                        <a:pt x="396" y="2728"/>
                      </a:lnTo>
                      <a:lnTo>
                        <a:pt x="59" y="2534"/>
                      </a:lnTo>
                      <a:lnTo>
                        <a:pt x="59" y="2534"/>
                      </a:lnTo>
                      <a:lnTo>
                        <a:pt x="59" y="25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11400" y="142272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422" h="304">
                      <a:moveTo>
                        <a:pt x="0" y="71"/>
                      </a:moveTo>
                      <a:lnTo>
                        <a:pt x="160" y="94"/>
                      </a:lnTo>
                      <a:lnTo>
                        <a:pt x="401" y="304"/>
                      </a:lnTo>
                      <a:lnTo>
                        <a:pt x="422" y="257"/>
                      </a:lnTo>
                      <a:lnTo>
                        <a:pt x="280" y="101"/>
                      </a:lnTo>
                      <a:lnTo>
                        <a:pt x="16" y="0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41560" y="1278720"/>
                  <a:ext cx="286920" cy="228600"/>
                </a:xfrm>
                <a:custGeom>
                  <a:avLst/>
                  <a:gdLst/>
                  <a:ahLst/>
                  <a:rect l="l" t="t" r="r" b="b"/>
                  <a:pathLst>
                    <a:path w="452" h="359">
                      <a:moveTo>
                        <a:pt x="0" y="69"/>
                      </a:moveTo>
                      <a:lnTo>
                        <a:pt x="214" y="132"/>
                      </a:lnTo>
                      <a:lnTo>
                        <a:pt x="403" y="360"/>
                      </a:lnTo>
                      <a:lnTo>
                        <a:pt x="452" y="264"/>
                      </a:lnTo>
                      <a:lnTo>
                        <a:pt x="265" y="101"/>
                      </a:lnTo>
                      <a:lnTo>
                        <a:pt x="44" y="0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228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452" h="367">
                      <a:moveTo>
                        <a:pt x="0" y="69"/>
                      </a:moveTo>
                      <a:lnTo>
                        <a:pt x="199" y="124"/>
                      </a:lnTo>
                      <a:lnTo>
                        <a:pt x="409" y="367"/>
                      </a:lnTo>
                      <a:lnTo>
                        <a:pt x="452" y="280"/>
                      </a:lnTo>
                      <a:lnTo>
                        <a:pt x="248" y="77"/>
                      </a:lnTo>
                      <a:lnTo>
                        <a:pt x="34" y="0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7360" y="225360"/>
                  <a:ext cx="282240" cy="217440"/>
                </a:xfrm>
                <a:custGeom>
                  <a:avLst/>
                  <a:gdLst/>
                  <a:ahLst/>
                  <a:rect l="l" t="t" r="r" b="b"/>
                  <a:pathLst>
                    <a:path w="447" h="344">
                      <a:moveTo>
                        <a:pt x="0" y="78"/>
                      </a:moveTo>
                      <a:lnTo>
                        <a:pt x="171" y="117"/>
                      </a:lnTo>
                      <a:lnTo>
                        <a:pt x="419" y="344"/>
                      </a:lnTo>
                      <a:lnTo>
                        <a:pt x="447" y="275"/>
                      </a:lnTo>
                      <a:lnTo>
                        <a:pt x="193" y="47"/>
                      </a:lnTo>
                      <a:lnTo>
                        <a:pt x="27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14010" h="10677">
                <a:moveTo>
                  <a:pt x="9921" y="0"/>
                </a:moveTo>
                <a:lnTo>
                  <a:pt x="0" y="2876"/>
                </a:lnTo>
                <a:lnTo>
                  <a:pt x="7625" y="10677"/>
                </a:lnTo>
                <a:lnTo>
                  <a:pt x="14010" y="3319"/>
                </a:lnTo>
                <a:lnTo>
                  <a:pt x="9921" y="0"/>
                </a:lnTo>
                <a:lnTo>
                  <a:pt x="9921" y="0"/>
                </a:lnTo>
                <a:lnTo>
                  <a:pt x="9921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992CCA3-44CE-4549-A0FB-559794F4B24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5624" h="2542">
                  <a:moveTo>
                    <a:pt x="5624" y="2425"/>
                  </a:moveTo>
                  <a:lnTo>
                    <a:pt x="5029" y="1952"/>
                  </a:lnTo>
                  <a:lnTo>
                    <a:pt x="3938" y="1289"/>
                  </a:lnTo>
                  <a:lnTo>
                    <a:pt x="502" y="0"/>
                  </a:lnTo>
                  <a:lnTo>
                    <a:pt x="162" y="122"/>
                  </a:lnTo>
                  <a:lnTo>
                    <a:pt x="0" y="509"/>
                  </a:lnTo>
                  <a:lnTo>
                    <a:pt x="198" y="951"/>
                  </a:lnTo>
                  <a:lnTo>
                    <a:pt x="4038" y="2511"/>
                  </a:lnTo>
                  <a:lnTo>
                    <a:pt x="4881" y="2413"/>
                  </a:lnTo>
                  <a:lnTo>
                    <a:pt x="5561" y="2542"/>
                  </a:lnTo>
                  <a:lnTo>
                    <a:pt x="5624" y="2425"/>
                  </a:lnTo>
                  <a:lnTo>
                    <a:pt x="5624" y="2425"/>
                  </a:lnTo>
                  <a:lnTo>
                    <a:pt x="5624" y="242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5610" h="2517">
                  <a:moveTo>
                    <a:pt x="484" y="0"/>
                  </a:moveTo>
                  <a:lnTo>
                    <a:pt x="4708" y="1591"/>
                  </a:lnTo>
                  <a:lnTo>
                    <a:pt x="5051" y="1956"/>
                  </a:lnTo>
                  <a:lnTo>
                    <a:pt x="5610" y="2428"/>
                  </a:lnTo>
                  <a:lnTo>
                    <a:pt x="5535" y="2517"/>
                  </a:lnTo>
                  <a:lnTo>
                    <a:pt x="4775" y="2413"/>
                  </a:lnTo>
                  <a:lnTo>
                    <a:pt x="4050" y="2486"/>
                  </a:lnTo>
                  <a:lnTo>
                    <a:pt x="148" y="913"/>
                  </a:lnTo>
                  <a:lnTo>
                    <a:pt x="0" y="459"/>
                  </a:lnTo>
                  <a:lnTo>
                    <a:pt x="162" y="98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3720" h="2297">
                  <a:moveTo>
                    <a:pt x="0" y="999"/>
                  </a:moveTo>
                  <a:lnTo>
                    <a:pt x="3269" y="2297"/>
                  </a:lnTo>
                  <a:lnTo>
                    <a:pt x="3329" y="1642"/>
                  </a:lnTo>
                  <a:lnTo>
                    <a:pt x="3720" y="1297"/>
                  </a:lnTo>
                  <a:lnTo>
                    <a:pt x="276" y="0"/>
                  </a:lnTo>
                  <a:lnTo>
                    <a:pt x="0" y="390"/>
                  </a:lnTo>
                  <a:lnTo>
                    <a:pt x="0" y="999"/>
                  </a:lnTo>
                  <a:lnTo>
                    <a:pt x="0" y="999"/>
                  </a:lnTo>
                  <a:lnTo>
                    <a:pt x="0" y="999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530" h="535">
                    <a:moveTo>
                      <a:pt x="388" y="0"/>
                    </a:moveTo>
                    <a:lnTo>
                      <a:pt x="141" y="204"/>
                    </a:lnTo>
                    <a:lnTo>
                      <a:pt x="0" y="535"/>
                    </a:lnTo>
                    <a:lnTo>
                      <a:pt x="282" y="494"/>
                    </a:lnTo>
                    <a:lnTo>
                      <a:pt x="363" y="259"/>
                    </a:lnTo>
                    <a:lnTo>
                      <a:pt x="530" y="83"/>
                    </a:lnTo>
                    <a:lnTo>
                      <a:pt x="388" y="0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5965" h="2702">
                    <a:moveTo>
                      <a:pt x="552" y="0"/>
                    </a:moveTo>
                    <a:lnTo>
                      <a:pt x="223" y="159"/>
                    </a:lnTo>
                    <a:lnTo>
                      <a:pt x="0" y="638"/>
                    </a:lnTo>
                    <a:lnTo>
                      <a:pt x="237" y="1099"/>
                    </a:lnTo>
                    <a:lnTo>
                      <a:pt x="4186" y="2662"/>
                    </a:lnTo>
                    <a:lnTo>
                      <a:pt x="5036" y="2564"/>
                    </a:lnTo>
                    <a:lnTo>
                      <a:pt x="5724" y="2702"/>
                    </a:lnTo>
                    <a:lnTo>
                      <a:pt x="5965" y="2481"/>
                    </a:lnTo>
                    <a:lnTo>
                      <a:pt x="5320" y="2039"/>
                    </a:lnTo>
                    <a:lnTo>
                      <a:pt x="5058" y="1572"/>
                    </a:lnTo>
                    <a:lnTo>
                      <a:pt x="4849" y="1618"/>
                    </a:lnTo>
                    <a:lnTo>
                      <a:pt x="5097" y="2039"/>
                    </a:lnTo>
                    <a:lnTo>
                      <a:pt x="5589" y="2487"/>
                    </a:lnTo>
                    <a:lnTo>
                      <a:pt x="5005" y="2416"/>
                    </a:lnTo>
                    <a:lnTo>
                      <a:pt x="4317" y="2499"/>
                    </a:lnTo>
                    <a:lnTo>
                      <a:pt x="4445" y="1996"/>
                    </a:lnTo>
                    <a:lnTo>
                      <a:pt x="4739" y="1652"/>
                    </a:lnTo>
                    <a:lnTo>
                      <a:pt x="4395" y="1695"/>
                    </a:lnTo>
                    <a:lnTo>
                      <a:pt x="4126" y="2020"/>
                    </a:lnTo>
                    <a:lnTo>
                      <a:pt x="4034" y="2429"/>
                    </a:lnTo>
                    <a:lnTo>
                      <a:pt x="379" y="952"/>
                    </a:lnTo>
                    <a:lnTo>
                      <a:pt x="283" y="660"/>
                    </a:lnTo>
                    <a:lnTo>
                      <a:pt x="364" y="291"/>
                    </a:lnTo>
                    <a:lnTo>
                      <a:pt x="768" y="0"/>
                    </a:lnTo>
                    <a:lnTo>
                      <a:pt x="552" y="0"/>
                    </a:lnTo>
                    <a:lnTo>
                      <a:pt x="552" y="0"/>
                    </a:lnTo>
                    <a:lnTo>
                      <a:pt x="5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4215" h="1535">
                    <a:moveTo>
                      <a:pt x="354" y="0"/>
                    </a:moveTo>
                    <a:lnTo>
                      <a:pt x="4215" y="1504"/>
                    </a:lnTo>
                    <a:lnTo>
                      <a:pt x="3811" y="1535"/>
                    </a:lnTo>
                    <a:lnTo>
                      <a:pt x="0" y="82"/>
                    </a:lnTo>
                    <a:lnTo>
                      <a:pt x="354" y="0"/>
                    </a:lnTo>
                    <a:lnTo>
                      <a:pt x="354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567" h="1025">
                    <a:moveTo>
                      <a:pt x="411" y="0"/>
                    </a:moveTo>
                    <a:lnTo>
                      <a:pt x="67" y="324"/>
                    </a:lnTo>
                    <a:lnTo>
                      <a:pt x="0" y="703"/>
                    </a:lnTo>
                    <a:lnTo>
                      <a:pt x="117" y="960"/>
                    </a:lnTo>
                    <a:lnTo>
                      <a:pt x="333" y="1025"/>
                    </a:lnTo>
                    <a:lnTo>
                      <a:pt x="269" y="471"/>
                    </a:lnTo>
                    <a:lnTo>
                      <a:pt x="567" y="52"/>
                    </a:lnTo>
                    <a:lnTo>
                      <a:pt x="411" y="0"/>
                    </a:lnTo>
                    <a:lnTo>
                      <a:pt x="411" y="0"/>
                    </a:lnTo>
                    <a:lnTo>
                      <a:pt x="4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1727" h="910">
                    <a:moveTo>
                      <a:pt x="49" y="104"/>
                    </a:moveTo>
                    <a:lnTo>
                      <a:pt x="565" y="202"/>
                    </a:lnTo>
                    <a:lnTo>
                      <a:pt x="1144" y="421"/>
                    </a:lnTo>
                    <a:lnTo>
                      <a:pt x="1554" y="747"/>
                    </a:lnTo>
                    <a:lnTo>
                      <a:pt x="1151" y="707"/>
                    </a:lnTo>
                    <a:lnTo>
                      <a:pt x="491" y="448"/>
                    </a:lnTo>
                    <a:lnTo>
                      <a:pt x="176" y="245"/>
                    </a:lnTo>
                    <a:lnTo>
                      <a:pt x="378" y="501"/>
                    </a:lnTo>
                    <a:lnTo>
                      <a:pt x="960" y="830"/>
                    </a:lnTo>
                    <a:lnTo>
                      <a:pt x="1646" y="910"/>
                    </a:lnTo>
                    <a:lnTo>
                      <a:pt x="1727" y="688"/>
                    </a:lnTo>
                    <a:lnTo>
                      <a:pt x="1391" y="368"/>
                    </a:lnTo>
                    <a:lnTo>
                      <a:pt x="600" y="52"/>
                    </a:lnTo>
                    <a:lnTo>
                      <a:pt x="0" y="0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9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1572" h="732">
                  <a:moveTo>
                    <a:pt x="1572" y="698"/>
                  </a:moveTo>
                  <a:lnTo>
                    <a:pt x="1406" y="562"/>
                  </a:lnTo>
                  <a:lnTo>
                    <a:pt x="1101" y="371"/>
                  </a:lnTo>
                  <a:lnTo>
                    <a:pt x="140" y="0"/>
                  </a:lnTo>
                  <a:lnTo>
                    <a:pt x="45" y="35"/>
                  </a:lnTo>
                  <a:lnTo>
                    <a:pt x="0" y="146"/>
                  </a:lnTo>
                  <a:lnTo>
                    <a:pt x="55" y="274"/>
                  </a:lnTo>
                  <a:lnTo>
                    <a:pt x="1128" y="723"/>
                  </a:lnTo>
                  <a:lnTo>
                    <a:pt x="1364" y="695"/>
                  </a:lnTo>
                  <a:lnTo>
                    <a:pt x="1554" y="732"/>
                  </a:lnTo>
                  <a:lnTo>
                    <a:pt x="1572" y="698"/>
                  </a:lnTo>
                  <a:lnTo>
                    <a:pt x="1572" y="698"/>
                  </a:lnTo>
                  <a:lnTo>
                    <a:pt x="1572" y="69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8800" y="4640040"/>
              <a:ext cx="995400" cy="459000"/>
            </a:xfrm>
            <a:custGeom>
              <a:avLst/>
              <a:gdLst/>
              <a:ahLst/>
              <a:rect l="l" t="t" r="r" b="b"/>
              <a:pathLst>
                <a:path w="1567" h="724">
                  <a:moveTo>
                    <a:pt x="135" y="0"/>
                  </a:moveTo>
                  <a:lnTo>
                    <a:pt x="1315" y="458"/>
                  </a:lnTo>
                  <a:lnTo>
                    <a:pt x="1411" y="563"/>
                  </a:lnTo>
                  <a:lnTo>
                    <a:pt x="1567" y="699"/>
                  </a:lnTo>
                  <a:lnTo>
                    <a:pt x="1546" y="724"/>
                  </a:lnTo>
                  <a:lnTo>
                    <a:pt x="1334" y="694"/>
                  </a:lnTo>
                  <a:lnTo>
                    <a:pt x="1131" y="716"/>
                  </a:lnTo>
                  <a:lnTo>
                    <a:pt x="41" y="263"/>
                  </a:lnTo>
                  <a:lnTo>
                    <a:pt x="0" y="132"/>
                  </a:lnTo>
                  <a:lnTo>
                    <a:pt x="45" y="28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6560" y="4622400"/>
              <a:ext cx="660600" cy="422280"/>
            </a:xfrm>
            <a:custGeom>
              <a:avLst/>
              <a:gdLst/>
              <a:ahLst/>
              <a:rect l="l" t="t" r="r" b="b"/>
              <a:pathLst>
                <a:path w="1039" h="662">
                  <a:moveTo>
                    <a:pt x="0" y="288"/>
                  </a:moveTo>
                  <a:lnTo>
                    <a:pt x="914" y="662"/>
                  </a:lnTo>
                  <a:lnTo>
                    <a:pt x="930" y="473"/>
                  </a:lnTo>
                  <a:lnTo>
                    <a:pt x="1039" y="374"/>
                  </a:lnTo>
                  <a:lnTo>
                    <a:pt x="77" y="0"/>
                  </a:lnTo>
                  <a:lnTo>
                    <a:pt x="0" y="112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47" h="152">
                    <a:moveTo>
                      <a:pt x="108" y="0"/>
                    </a:moveTo>
                    <a:lnTo>
                      <a:pt x="39" y="58"/>
                    </a:lnTo>
                    <a:lnTo>
                      <a:pt x="0" y="152"/>
                    </a:lnTo>
                    <a:lnTo>
                      <a:pt x="78" y="141"/>
                    </a:lnTo>
                    <a:lnTo>
                      <a:pt x="101" y="74"/>
                    </a:lnTo>
                    <a:lnTo>
                      <a:pt x="147" y="23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67" h="777">
                    <a:moveTo>
                      <a:pt x="154" y="0"/>
                    </a:moveTo>
                    <a:lnTo>
                      <a:pt x="62" y="45"/>
                    </a:lnTo>
                    <a:lnTo>
                      <a:pt x="0" y="183"/>
                    </a:lnTo>
                    <a:lnTo>
                      <a:pt x="66" y="316"/>
                    </a:lnTo>
                    <a:lnTo>
                      <a:pt x="1170" y="766"/>
                    </a:lnTo>
                    <a:lnTo>
                      <a:pt x="1408" y="737"/>
                    </a:lnTo>
                    <a:lnTo>
                      <a:pt x="1600" y="777"/>
                    </a:lnTo>
                    <a:lnTo>
                      <a:pt x="1667" y="713"/>
                    </a:lnTo>
                    <a:lnTo>
                      <a:pt x="1487" y="586"/>
                    </a:lnTo>
                    <a:lnTo>
                      <a:pt x="1414" y="452"/>
                    </a:lnTo>
                    <a:lnTo>
                      <a:pt x="1355" y="465"/>
                    </a:lnTo>
                    <a:lnTo>
                      <a:pt x="1424" y="586"/>
                    </a:lnTo>
                    <a:lnTo>
                      <a:pt x="1562" y="715"/>
                    </a:lnTo>
                    <a:lnTo>
                      <a:pt x="1399" y="695"/>
                    </a:lnTo>
                    <a:lnTo>
                      <a:pt x="1207" y="719"/>
                    </a:lnTo>
                    <a:lnTo>
                      <a:pt x="1242" y="574"/>
                    </a:lnTo>
                    <a:lnTo>
                      <a:pt x="1324" y="475"/>
                    </a:lnTo>
                    <a:lnTo>
                      <a:pt x="1228" y="487"/>
                    </a:lnTo>
                    <a:lnTo>
                      <a:pt x="1153" y="581"/>
                    </a:lnTo>
                    <a:lnTo>
                      <a:pt x="1127" y="698"/>
                    </a:lnTo>
                    <a:lnTo>
                      <a:pt x="105" y="273"/>
                    </a:lnTo>
                    <a:lnTo>
                      <a:pt x="79" y="189"/>
                    </a:lnTo>
                    <a:lnTo>
                      <a:pt x="101" y="83"/>
                    </a:lnTo>
                    <a:lnTo>
                      <a:pt x="21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79" h="440">
                    <a:moveTo>
                      <a:pt x="99" y="0"/>
                    </a:moveTo>
                    <a:lnTo>
                      <a:pt x="1179" y="431"/>
                    </a:lnTo>
                    <a:lnTo>
                      <a:pt x="1066" y="440"/>
                    </a:lnTo>
                    <a:lnTo>
                      <a:pt x="0" y="23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3280" y="4560840"/>
                <a:ext cx="99720" cy="188280"/>
              </a:xfrm>
              <a:custGeom>
                <a:avLst/>
                <a:gdLst/>
                <a:ahLst/>
                <a:rect l="l" t="t" r="r" b="b"/>
                <a:pathLst>
                  <a:path w="157" h="295">
                    <a:moveTo>
                      <a:pt x="114" y="0"/>
                    </a:moveTo>
                    <a:lnTo>
                      <a:pt x="18" y="93"/>
                    </a:lnTo>
                    <a:lnTo>
                      <a:pt x="0" y="202"/>
                    </a:lnTo>
                    <a:lnTo>
                      <a:pt x="32" y="276"/>
                    </a:lnTo>
                    <a:lnTo>
                      <a:pt x="92" y="295"/>
                    </a:lnTo>
                    <a:lnTo>
                      <a:pt x="74" y="135"/>
                    </a:lnTo>
                    <a:lnTo>
                      <a:pt x="157" y="1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4360" y="476316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2" h="260">
                    <a:moveTo>
                      <a:pt x="13" y="29"/>
                    </a:moveTo>
                    <a:lnTo>
                      <a:pt x="157" y="57"/>
                    </a:lnTo>
                    <a:lnTo>
                      <a:pt x="319" y="120"/>
                    </a:lnTo>
                    <a:lnTo>
                      <a:pt x="434" y="213"/>
                    </a:lnTo>
                    <a:lnTo>
                      <a:pt x="321" y="202"/>
                    </a:lnTo>
                    <a:lnTo>
                      <a:pt x="137" y="128"/>
                    </a:lnTo>
                    <a:lnTo>
                      <a:pt x="49" y="70"/>
                    </a:lnTo>
                    <a:lnTo>
                      <a:pt x="105" y="143"/>
                    </a:lnTo>
                    <a:lnTo>
                      <a:pt x="268" y="237"/>
                    </a:lnTo>
                    <a:lnTo>
                      <a:pt x="459" y="260"/>
                    </a:lnTo>
                    <a:lnTo>
                      <a:pt x="482" y="196"/>
                    </a:lnTo>
                    <a:lnTo>
                      <a:pt x="388" y="105"/>
                    </a:lnTo>
                    <a:lnTo>
                      <a:pt x="167" y="14"/>
                    </a:lnTo>
                    <a:lnTo>
                      <a:pt x="0" y="0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10720" h="1147">
                <a:moveTo>
                  <a:pt x="0" y="0"/>
                </a:moveTo>
                <a:cubicBezTo>
                  <a:pt x="340" y="107"/>
                  <a:pt x="1390" y="579"/>
                  <a:pt x="2040" y="639"/>
                </a:cubicBezTo>
                <a:cubicBezTo>
                  <a:pt x="2689" y="699"/>
                  <a:pt x="3467" y="310"/>
                  <a:pt x="3900" y="360"/>
                </a:cubicBezTo>
                <a:cubicBezTo>
                  <a:pt x="4332" y="409"/>
                  <a:pt x="4312" y="937"/>
                  <a:pt x="4640" y="939"/>
                </a:cubicBezTo>
                <a:cubicBezTo>
                  <a:pt x="4967" y="942"/>
                  <a:pt x="5160" y="347"/>
                  <a:pt x="5860" y="380"/>
                </a:cubicBezTo>
                <a:cubicBezTo>
                  <a:pt x="6560" y="412"/>
                  <a:pt x="8030" y="1147"/>
                  <a:pt x="8840" y="1140"/>
                </a:cubicBezTo>
                <a:cubicBezTo>
                  <a:pt x="9650" y="1132"/>
                  <a:pt x="10412" y="469"/>
                  <a:pt x="10720" y="339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1400" h="599">
                <a:moveTo>
                  <a:pt x="0" y="80"/>
                </a:moveTo>
                <a:cubicBezTo>
                  <a:pt x="255" y="222"/>
                  <a:pt x="512" y="367"/>
                  <a:pt x="700" y="360"/>
                </a:cubicBezTo>
                <a:cubicBezTo>
                  <a:pt x="887" y="352"/>
                  <a:pt x="1002" y="0"/>
                  <a:pt x="1120" y="39"/>
                </a:cubicBezTo>
                <a:cubicBezTo>
                  <a:pt x="1237" y="80"/>
                  <a:pt x="1352" y="502"/>
                  <a:pt x="1400" y="60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9.xm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6.xm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7.xml"/><Relationship Id="rId3" Type="http://schemas.openxmlformats.org/officeDocument/2006/relationships/slide" Target="slide21.xml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5400000">
            <a:off x="-2095560" y="28573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站在祖国地图前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204120" y="6039000"/>
            <a:ext cx="8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第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13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756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我们一起来看看“五颜六色”中告诉了我们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色彩、沙漠、高山……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我们祖国九百六十万平方公里的土地上地形如此复杂多样，看到这些，你心中会感到—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b200"/>
                </a:solidFill>
                <a:latin typeface="宋体"/>
              </a:rPr>
              <a:t>骄傲、自豪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带着这样的感受来读课文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-36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理解课文：</a:t>
            </a: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380880"/>
            <a:ext cx="792468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</a:t>
            </a:r>
            <a:r>
              <a:rPr b="1" lang="zh-CN" sz="4800" spc="-1" strike="noStrike">
                <a:solidFill>
                  <a:srgbClr val="ea9804"/>
                </a:solidFill>
                <a:latin typeface="Arial"/>
                <a:ea typeface="宋体"/>
              </a:rPr>
              <a:t>金黄</a:t>
            </a:r>
            <a:r>
              <a:rPr b="1" lang="zh-CN" sz="4800" spc="-1" strike="noStrike">
                <a:solidFill>
                  <a:srgbClr val="ff0101"/>
                </a:solidFill>
                <a:latin typeface="Arial"/>
                <a:ea typeface="宋体"/>
              </a:rPr>
              <a:t>的是沙漠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　        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宋体"/>
              </a:rPr>
              <a:t>深褐</a:t>
            </a:r>
            <a:r>
              <a:rPr b="1" lang="zh-CN" sz="4800" spc="-1" strike="noStrike">
                <a:solidFill>
                  <a:srgbClr val="ff0101"/>
                </a:solidFill>
                <a:latin typeface="Arial"/>
                <a:ea typeface="宋体"/>
              </a:rPr>
              <a:t>的是高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　         </a:t>
            </a:r>
            <a:r>
              <a:rPr b="1" lang="zh-CN" sz="4800" spc="-1" strike="noStrike">
                <a:solidFill>
                  <a:srgbClr val="194ffb"/>
                </a:solidFill>
                <a:latin typeface="Arial"/>
                <a:ea typeface="宋体"/>
              </a:rPr>
              <a:t>碧蓝</a:t>
            </a:r>
            <a:r>
              <a:rPr b="1" lang="zh-CN" sz="4800" spc="-1" strike="noStrike">
                <a:solidFill>
                  <a:srgbClr val="ff0101"/>
                </a:solidFill>
                <a:latin typeface="Arial"/>
                <a:ea typeface="宋体"/>
              </a:rPr>
              <a:t>的是湖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　         </a:t>
            </a:r>
            <a:r>
              <a:rPr b="1" lang="zh-CN" sz="4800" spc="-1" strike="noStrike">
                <a:solidFill>
                  <a:srgbClr val="0bb136"/>
                </a:solidFill>
                <a:latin typeface="Arial"/>
                <a:ea typeface="宋体"/>
              </a:rPr>
              <a:t>翠绿</a:t>
            </a:r>
            <a:r>
              <a:rPr b="1" lang="zh-CN" sz="4800" spc="-1" strike="noStrike">
                <a:solidFill>
                  <a:srgbClr val="ff0101"/>
                </a:solidFill>
                <a:latin typeface="Arial"/>
                <a:ea typeface="宋体"/>
              </a:rPr>
              <a:t>的是平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　         </a:t>
            </a:r>
            <a:r>
              <a:rPr b="1" lang="zh-CN" sz="4800" spc="-1" strike="noStrike">
                <a:solidFill>
                  <a:srgbClr val="6ff572"/>
                </a:solidFill>
                <a:latin typeface="Arial"/>
                <a:ea typeface="宋体"/>
              </a:rPr>
              <a:t>淡绿</a:t>
            </a:r>
            <a:r>
              <a:rPr b="1" lang="zh-CN" sz="4800" spc="-1" strike="noStrike">
                <a:solidFill>
                  <a:srgbClr val="ff0101"/>
                </a:solidFill>
                <a:latin typeface="Arial"/>
                <a:ea typeface="宋体"/>
              </a:rPr>
              <a:t>的是沼泽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　        </a:t>
            </a:r>
            <a:r>
              <a:rPr b="1" lang="zh-CN" sz="4800" spc="-1" strike="noStrike">
                <a:solidFill>
                  <a:srgbClr val="6fbfe3"/>
                </a:solidFill>
                <a:latin typeface="Arial"/>
                <a:ea typeface="宋体"/>
              </a:rPr>
              <a:t> 浅蓝</a:t>
            </a:r>
            <a:r>
              <a:rPr b="1" lang="zh-CN" sz="4800" spc="-1" strike="noStrike">
                <a:solidFill>
                  <a:srgbClr val="ff0101"/>
                </a:solidFill>
                <a:latin typeface="Arial"/>
                <a:ea typeface="宋体"/>
              </a:rPr>
              <a:t>的是海湾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990720"/>
            <a:ext cx="20574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360360"/>
            <a:ext cx="8915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（师）：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我站在祖国地图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　　                 看五颜六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　　                 都是形象语言</a:t>
            </a:r>
            <a:r>
              <a:rPr b="1" lang="zh-CN" sz="2800" spc="-1" strike="noStrike">
                <a:solidFill>
                  <a:srgbClr val="ffef6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（生）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金黄的是沙漠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                 深褐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h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）的是高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                 碧蓝的是湖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                 翠绿的是平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                 淡绿的是沼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zhǎo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）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                 浅蓝的是海湾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祖国妈妈，我告诉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　                    我长得这么健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　　                 是因为我有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　　                 九百六十万平方千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　　                 巨大摇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47920" y="24076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21c6e"/>
                </a:solidFill>
                <a:latin typeface="Tahoma"/>
                <a:ea typeface="宋体"/>
              </a:rPr>
              <a:t>咱们祖国地大物博、幅员辽阔，现在我们就去游览一番。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5867280"/>
            <a:ext cx="75405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2209680" y="353160"/>
            <a:ext cx="548640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珠穆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ù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朗玛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举手能摩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南沙诸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zhū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海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撒开珍珠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岳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yuè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竞雄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江河扬征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沿江而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峡之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登上泰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tài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望日出壮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祖国呀，妈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的怀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么宽阔而温暖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20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学习第二小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轻声读，把你认为优美的语句划下来，想象着读一读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本节中用了那些修辞手法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夸张、拟人、比喻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体会交流：看到祖国有如此美丽的景色，你想说什么？你心中会产生怎样的情感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骄傲、自豪……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07936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426400" y="5334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1f0076"/>
                </a:solidFill>
                <a:latin typeface="Comic Sans MS"/>
                <a:ea typeface="宋体"/>
              </a:rPr>
              <a:t>这是什么山</a:t>
            </a:r>
            <a:r>
              <a:rPr b="1" lang="zh-CN" sz="2400" spc="-1" strike="noStrike">
                <a:solidFill>
                  <a:srgbClr val="1f0076"/>
                </a:solidFill>
                <a:latin typeface="Comic Sans MS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3068640"/>
            <a:ext cx="271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400" spc="-1" strike="noStrike">
                <a:solidFill>
                  <a:srgbClr val="ef0368"/>
                </a:solidFill>
                <a:latin typeface="Comic Sans MS"/>
                <a:ea typeface="宋体"/>
              </a:rPr>
              <a:t>8844.43</a:t>
            </a:r>
            <a:r>
              <a:rPr b="0" lang="zh-CN" sz="4400" spc="-1" strike="noStrike">
                <a:solidFill>
                  <a:srgbClr val="ef0368"/>
                </a:solidFill>
                <a:latin typeface="Comic Sans MS"/>
                <a:ea typeface="宋体"/>
              </a:rPr>
              <a:t>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91520" y="609300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3d6f47"/>
                </a:solidFill>
                <a:latin typeface="Comic Sans MS"/>
                <a:ea typeface="宋体"/>
              </a:rPr>
              <a:t>我们可以怎样形容喜马拉雅山的高</a:t>
            </a:r>
            <a:r>
              <a:rPr b="1" lang="zh-CN" sz="2400" spc="-1" strike="noStrike">
                <a:solidFill>
                  <a:srgbClr val="3d6f47"/>
                </a:solidFill>
                <a:latin typeface="Comic Sans MS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86720" y="404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ef0368"/>
                </a:solidFill>
                <a:latin typeface="Comic Sans MS"/>
                <a:ea typeface="华文新魏"/>
              </a:rPr>
              <a:t>喜马拉雅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07800" y="52578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99290b"/>
                </a:solidFill>
                <a:latin typeface="Comic Sans MS"/>
                <a:ea typeface="宋体"/>
              </a:rPr>
              <a:t>知道它的高度多少吗</a:t>
            </a:r>
            <a:r>
              <a:rPr b="1" lang="zh-CN" sz="2400" spc="-1" strike="noStrike">
                <a:solidFill>
                  <a:srgbClr val="99290b"/>
                </a:solidFill>
                <a:latin typeface="Comic Sans MS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08800" y="457200"/>
            <a:ext cx="21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e7610f"/>
                </a:solidFill>
                <a:latin typeface="Comic Sans MS"/>
                <a:ea typeface="宋体"/>
              </a:rPr>
              <a:t>举手能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华文隶书"/>
              </a:rPr>
              <a:t>摩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877720"/>
            <a:ext cx="914400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　珠穆朗玛峰，简称珠峰，又意译作圣母峰。位于喜马拉雅山脉之上，终年积雪。高度为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8844.4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米，是亚洲和世界第一高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23040" y="5049720"/>
            <a:ext cx="703440" cy="459720"/>
          </a:xfrm>
          <a:prstGeom prst="rect">
            <a:avLst/>
          </a:prstGeom>
          <a:solidFill>
            <a:srgbClr val="0000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  <a:ea typeface="宋体"/>
              </a:rPr>
              <a:t>这是祖国地图上的哪一部分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8677440" y="566100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0" t="4234" r="0" b="0"/>
          <a:stretch/>
        </p:blipFill>
        <p:spPr>
          <a:xfrm>
            <a:off x="228600" y="7010280"/>
            <a:ext cx="8756640" cy="11139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83320" y="642960"/>
            <a:ext cx="1857240" cy="764280"/>
          </a:xfrm>
          <a:prstGeom prst="rect">
            <a:avLst/>
          </a:prstGeom>
          <a:solidFill>
            <a:srgbClr val="ffef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南海</a:t>
            </a:r>
            <a:r>
              <a:rPr b="1" lang="zh-CN" sz="4400" spc="-1" strike="noStrike">
                <a:solidFill>
                  <a:srgbClr val="ff00ff"/>
                </a:solidFill>
                <a:latin typeface="Comic Sans MS"/>
                <a:ea typeface="华文新魏"/>
              </a:rPr>
              <a:t>诸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海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40680" y="5715000"/>
            <a:ext cx="2775960" cy="459720"/>
          </a:xfrm>
          <a:prstGeom prst="rect">
            <a:avLst/>
          </a:prstGeom>
          <a:solidFill>
            <a:srgbClr val="0000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  <a:ea typeface="宋体"/>
              </a:rPr>
              <a:t>我们可以怎样形容南海诸海岛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1240" y="860400"/>
            <a:ext cx="192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15480" y="630360"/>
            <a:ext cx="1796040" cy="764280"/>
          </a:xfrm>
          <a:prstGeom prst="rect">
            <a:avLst/>
          </a:prstGeom>
          <a:solidFill>
            <a:srgbClr val="ffef6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e7610f"/>
                </a:solidFill>
                <a:latin typeface="Comic Sans MS"/>
                <a:ea typeface="宋体"/>
              </a:rPr>
              <a:t>撒开</a:t>
            </a:r>
            <a:r>
              <a:rPr b="1" lang="zh-CN" sz="4400" spc="-1" strike="noStrike">
                <a:solidFill>
                  <a:srgbClr val="ef0368"/>
                </a:solidFill>
                <a:latin typeface="Comic Sans MS"/>
                <a:ea typeface="华文隶书"/>
              </a:rPr>
              <a:t>珍珠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34 -0.00139 L 1.01665 -0.00139 E">
                                      <p:cBhvr>
                                        <p:cTn id="182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01296 L -0.00451 -1.34442 E">
                                      <p:cBhvr>
                                        <p:cTn id="196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990720" y="1009800"/>
            <a:ext cx="7086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珠穆朗玛峰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举手能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摩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南沙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诸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海岛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　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撒开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珍珠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92360" y="1267920"/>
            <a:ext cx="26640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  <a:ea typeface="黑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133720"/>
            <a:ext cx="7704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品味诗歌优美的语言，理解诗句的意思，体会作者的思想感情，背诵第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小节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学习本课的生字，有感情的朗读课文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了解我国的自然概况，知道我国是一个地域辽阔、有着许多名山大川和名胜古迹的国家。教育学生热爱祖国大好河山，激发学生热爱祖国的思想感情和民族自豪感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10000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71640" y="35002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五岳指的是哪些山</a:t>
            </a: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335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400" spc="-1" strike="noStrike">
                <a:solidFill>
                  <a:srgbClr val="3800d6"/>
                </a:solidFill>
                <a:latin typeface="Comic Sans MS"/>
                <a:ea typeface="宋体"/>
              </a:rPr>
              <a:t>刚才欣赏了美丽的南沙群岛，现在要去攀登祖国的五岳名山</a:t>
            </a:r>
            <a:r>
              <a:rPr b="0" lang="zh-CN" sz="4400" spc="-1" strike="noStrike">
                <a:solidFill>
                  <a:srgbClr val="703dff"/>
                </a:solidFill>
                <a:latin typeface="Comic Sans MS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356000" y="260280"/>
            <a:ext cx="294012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东岳泰山之雄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9252000" cy="7029360"/>
            <a:chOff x="0" y="0"/>
            <a:chExt cx="9252000" cy="702936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52000" cy="70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8204040" y="3213000"/>
              <a:ext cx="757440" cy="34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684360" y="404640"/>
            <a:ext cx="345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西岳华山之险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971640" y="380880"/>
            <a:ext cx="2762280" cy="13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南岳衡山之秀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0"/>
            <a:ext cx="9180360" cy="6858000"/>
            <a:chOff x="0" y="0"/>
            <a:chExt cx="9180360" cy="68580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80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11280" y="404640"/>
              <a:ext cx="788760" cy="34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684360" y="404640"/>
            <a:ext cx="345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北岳恒山之幽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952880" y="5334120"/>
            <a:ext cx="3651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中岳嵩山之峻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962520" y="152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长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19368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这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876920" y="4038480"/>
            <a:ext cx="25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黄  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41911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ffe809"/>
                </a:solidFill>
                <a:latin typeface="Comic Sans MS"/>
                <a:ea typeface="宋体"/>
              </a:rPr>
              <a:t>这是</a:t>
            </a:r>
            <a:r>
              <a:rPr b="1" lang="zh-CN" sz="4400" spc="-1" strike="noStrike">
                <a:solidFill>
                  <a:srgbClr val="ffe809"/>
                </a:solidFill>
                <a:latin typeface="Comic Sans MS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914400" y="609480"/>
            <a:ext cx="71629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                  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宋体"/>
              </a:rPr>
              <a:t>竞雄奇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宋体"/>
              </a:rPr>
              <a:t>江河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宋体"/>
              </a:rPr>
              <a:t>扬征帆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1743120" y="11271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宋体"/>
              </a:rPr>
              <a:t>五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276720" y="112536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文鼎新艺体简"/>
                </a:rPr>
                <a:t>瞿 塘 峡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0" y="-27000"/>
            <a:ext cx="4572000" cy="6958080"/>
            <a:chOff x="0" y="-27000"/>
            <a:chExt cx="4572000" cy="69580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4572000" cy="69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84360" y="59364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文鼎新艺体简"/>
                </a:rPr>
                <a:t>巫  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72000" y="-27000"/>
            <a:ext cx="4716360" cy="6958080"/>
            <a:chOff x="4572000" y="-27000"/>
            <a:chExt cx="4716360" cy="695808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4572000" y="-27000"/>
              <a:ext cx="4716360" cy="69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084720" y="37800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文鼎新艺体简"/>
                </a:rPr>
                <a:t>西 陵 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340000" y="213372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沿江而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看三峡之险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276640"/>
            <a:ext cx="77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一、生字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漠  湾  健  康  峡  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宏  褐  沼  摩  诸  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20797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79280" y="33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文鼎粗圆简"/>
              </a:rPr>
              <a:t>泰山日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201312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ffe809"/>
                </a:solidFill>
                <a:latin typeface="Arial"/>
                <a:ea typeface="黑体"/>
              </a:rPr>
              <a:t>登上泰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ffe809"/>
                </a:solidFill>
                <a:latin typeface="Arial"/>
                <a:ea typeface="黑体"/>
              </a:rPr>
              <a:t>望日出壮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80880" y="189000"/>
            <a:ext cx="8763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男）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珠穆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m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朗玛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m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　　              举手能摩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m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  （女）： 南沙诸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zh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海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              撒开珍珠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  （男）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五岳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yu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竞雄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　　              江河扬征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  （女）： 沿江而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              看三峡之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  （男）：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登上泰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tà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　　               望日出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合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祖国呀，妈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您的怀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这么宽阔而温暖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36720" y="1844640"/>
            <a:ext cx="64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祖国呀，妈妈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您的怀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这么宽阔而温暖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60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学习第三小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轻声读，把你认为优美的语句划下来，想象着读一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思考：蓝图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祖国的蓝图是什么样子的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07936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60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学习第四小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齐读第四小节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思考：为什么说我站在祖国地图前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像是依偎在妈妈身边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因为我们是中华民族的儿女，是祖国的一份子，我们在祖国的摇篮里成长，此时我站在祖国地图前，就仿佛站在祖国妈妈身边。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07936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931120" y="83808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22288"/>
                </a:solidFill>
                <a:latin typeface="Comic Sans MS"/>
                <a:ea typeface="宋体"/>
              </a:rPr>
              <a:t>13  </a:t>
            </a:r>
            <a:r>
              <a:rPr b="1" lang="zh-CN" sz="3600" spc="-1" strike="noStrike">
                <a:solidFill>
                  <a:srgbClr val="022288"/>
                </a:solidFill>
                <a:latin typeface="Comic Sans MS"/>
                <a:ea typeface="宋体"/>
              </a:rPr>
              <a:t>我站在祖国的地图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1828800"/>
            <a:ext cx="4419360" cy="3657600"/>
          </a:xfrm>
          <a:custGeom>
            <a:avLst/>
            <a:gdLst>
              <a:gd name="textAreaLeft" fmla="*/ 1038600 w 4419360"/>
              <a:gd name="textAreaRight" fmla="*/ 3377880 w 4419360"/>
              <a:gd name="textAreaTop" fmla="*/ 429840 h 3657600"/>
              <a:gd name="textAreaBottom" fmla="*/ 2294280 h 3657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2421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ef0368"/>
                </a:solidFill>
                <a:latin typeface="Comic Sans MS"/>
                <a:ea typeface="宋体"/>
              </a:rPr>
              <a:t>地大物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7086600" y="5943600"/>
            <a:ext cx="838080" cy="457200"/>
          </a:xfrm>
          <a:custGeom>
            <a:avLst/>
            <a:gdLst>
              <a:gd name="textAreaLeft" fmla="*/ 28440 w 838080"/>
              <a:gd name="textAreaRight" fmla="*/ 809640 w 8380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230" y="1350"/>
                </a:lnTo>
                <a:lnTo>
                  <a:pt x="1350" y="135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230" y="20250"/>
                </a:lnTo>
                <a:lnTo>
                  <a:pt x="38230" y="135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230" y="2025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580" h="21600">
                <a:moveTo>
                  <a:pt x="12746" y="10800"/>
                </a:moveTo>
                <a:lnTo>
                  <a:pt x="26834" y="3756"/>
                </a:lnTo>
                <a:lnTo>
                  <a:pt x="26834" y="17844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44920" y="3276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ef0368"/>
                </a:solidFill>
                <a:latin typeface="Comic Sans MS"/>
                <a:ea typeface="宋体"/>
              </a:rPr>
              <a:t>山河壮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二、新词学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沙漠　深褐　沼泽　湖泊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平原  征帆  壮观  盛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0797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99640" y="333360"/>
            <a:ext cx="752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22766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由朗读课文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说一说诗歌为我们介绍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24000" y="4005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（介绍了祖国的壮丽河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707920"/>
            <a:ext cx="777708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b200"/>
                </a:solidFill>
                <a:latin typeface="宋体"/>
              </a:rPr>
              <a:t>学习第一小节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b2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b200"/>
                </a:solidFill>
                <a:latin typeface="宋体"/>
              </a:rPr>
              <a:t>）轻声读第一节，说说第一节是围绕哪句话写的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84720" y="189000"/>
            <a:ext cx="4390920" cy="2160360"/>
          </a:xfrm>
          <a:prstGeom prst="cloudCallout">
            <a:avLst>
              <a:gd name="adj1" fmla="val -62365"/>
              <a:gd name="adj2" fmla="val 17755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五颜六色都是形象的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99800" y="1628280"/>
            <a:ext cx="72882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）我们一起来看看“五颜六色”中告诉了我们什么？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）在我们祖国九百六十万平方公里的土地上地形如此复杂多样，看到这些，你心中会感到怎么样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）带着这样的感受来读课文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07972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378960" y="609480"/>
            <a:ext cx="195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这么多风景名胜，其实都可以装在一张纸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那就是——地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7086600" y="281952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1" lang="zh-CN" sz="2800" spc="-1" strike="noStrike">
                <a:solidFill>
                  <a:srgbClr val="1f0076"/>
                </a:solidFill>
                <a:latin typeface="Tahoma"/>
                <a:ea typeface="宋体"/>
              </a:rPr>
              <a:t>请看我们的祖国妈妈，可以用什么词来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f0076"/>
                </a:solidFill>
                <a:latin typeface="Tahoma"/>
                <a:ea typeface="宋体"/>
              </a:rPr>
              <a:t>容这张地图的颜色</a:t>
            </a:r>
            <a:r>
              <a:rPr b="0" lang="zh-CN" sz="2800" spc="-1" strike="noStrike">
                <a:solidFill>
                  <a:srgbClr val="1f0076"/>
                </a:solidFill>
                <a:latin typeface="Tahoma"/>
                <a:ea typeface="宋体"/>
              </a:rPr>
              <a:t> ，</a:t>
            </a:r>
            <a:r>
              <a:rPr b="1" lang="zh-CN" sz="2800" spc="-1" strike="noStrike">
                <a:solidFill>
                  <a:srgbClr val="1f0076"/>
                </a:solidFill>
                <a:latin typeface="Tahoma"/>
                <a:ea typeface="宋体"/>
              </a:rPr>
              <a:t>各种不同颜色代表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f0076"/>
                </a:solidFill>
                <a:latin typeface="Tahoma"/>
                <a:ea typeface="宋体"/>
              </a:rPr>
              <a:t>的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858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7 0.0044 L 0.85415 0.0044 E">
                                      <p:cBhvr>
                                        <p:cTn id="2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6482 L 0 -1.0685 E">
                                      <p:cBhvr>
                                        <p:cTn id="3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28800" y="1427760"/>
            <a:ext cx="1601640" cy="908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ahoma"/>
                <a:ea typeface="宋体"/>
              </a:rPr>
              <a:t>深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2477160"/>
            <a:ext cx="1602000" cy="908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ahoma"/>
                <a:ea typeface="宋体"/>
              </a:rPr>
              <a:t>金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3507480"/>
            <a:ext cx="1601640" cy="908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淡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4574520"/>
            <a:ext cx="1601640" cy="908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碧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5645880"/>
            <a:ext cx="1601640" cy="908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浅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318240"/>
            <a:ext cx="1601640" cy="908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宋体"/>
              </a:rPr>
              <a:t>翠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76920" y="1828800"/>
            <a:ext cx="1826280" cy="32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华文隶书"/>
              </a:rPr>
              <a:t>五</a:t>
            </a:r>
            <a:r>
              <a:rPr b="0" lang="zh-CN" sz="5400" spc="-1" strike="noStrike">
                <a:solidFill>
                  <a:srgbClr val="703dff"/>
                </a:solidFill>
                <a:latin typeface="Tahoma"/>
                <a:ea typeface="华文隶书"/>
              </a:rPr>
              <a:t>颜</a:t>
            </a:r>
            <a:r>
              <a:rPr b="0" lang="zh-CN" sz="5400" spc="-1" strike="noStrike">
                <a:solidFill>
                  <a:srgbClr val="0000ff"/>
                </a:solidFill>
                <a:latin typeface="Tahoma"/>
                <a:ea typeface="华文隶书"/>
              </a:rPr>
              <a:t>六</a:t>
            </a:r>
            <a:r>
              <a:rPr b="0" lang="zh-CN" sz="5400" spc="-1" strike="noStrike">
                <a:solidFill>
                  <a:srgbClr val="00cc00"/>
                </a:solidFill>
                <a:latin typeface="Tahoma"/>
                <a:ea typeface="华文隶书"/>
              </a:rPr>
              <a:t>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600480"/>
            <a:ext cx="1219320" cy="581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沙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1554480"/>
            <a:ext cx="1219320" cy="5814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平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593800"/>
            <a:ext cx="1219320" cy="581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湖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3661200"/>
            <a:ext cx="1219320" cy="5814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高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4727880"/>
            <a:ext cx="1189080" cy="581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海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748840"/>
            <a:ext cx="1219320" cy="5814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2f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沼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9982400">
            <a:off x="3276360" y="1844640"/>
            <a:ext cx="3962160" cy="152280"/>
          </a:xfrm>
          <a:prstGeom prst="rightArrow">
            <a:avLst>
              <a:gd name="adj1" fmla="val 50000"/>
              <a:gd name="adj2" fmla="val 6504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14000">
            <a:off x="3419280" y="1267920"/>
            <a:ext cx="3657600" cy="152640"/>
          </a:xfrm>
          <a:prstGeom prst="rightArrow">
            <a:avLst>
              <a:gd name="adj1" fmla="val 50000"/>
              <a:gd name="adj2" fmla="val 59905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533600">
            <a:off x="3132000" y="2852280"/>
            <a:ext cx="4114800" cy="147600"/>
          </a:xfrm>
          <a:prstGeom prst="rightArrow">
            <a:avLst>
              <a:gd name="adj1" fmla="val 50000"/>
              <a:gd name="adj2" fmla="val 69695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559400">
            <a:off x="3203640" y="5013360"/>
            <a:ext cx="4113000" cy="135000"/>
          </a:xfrm>
          <a:prstGeom prst="rightArrow">
            <a:avLst>
              <a:gd name="adj1" fmla="val 50000"/>
              <a:gd name="adj2" fmla="val 761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9982400">
            <a:off x="3276360" y="4005360"/>
            <a:ext cx="3962160" cy="152280"/>
          </a:xfrm>
          <a:prstGeom prst="rightArrow">
            <a:avLst>
              <a:gd name="adj1" fmla="val 50000"/>
              <a:gd name="adj2" fmla="val 6504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691600">
            <a:off x="3348000" y="5516640"/>
            <a:ext cx="3733920" cy="152280"/>
          </a:xfrm>
          <a:prstGeom prst="rightArrow">
            <a:avLst>
              <a:gd name="adj1" fmla="val 50000"/>
              <a:gd name="adj2" fmla="val 61300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6:48:28Z</dcterms:created>
  <dc:creator/>
  <dc:description/>
  <dc:language>en-US</dc:language>
  <cp:lastModifiedBy>微软用户</cp:lastModifiedBy>
  <dcterms:modified xsi:type="dcterms:W3CDTF">2015-03-31T03:01:33Z</dcterms:modified>
  <cp:revision>1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