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7.png" ContentType="image/png"/>
  <Override PartName="/ppt/media/image22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5.jpeg" ContentType="image/jpeg"/>
  <Override PartName="/ppt/media/image23.gif" ContentType="image/gif"/>
  <Override PartName="/ppt/media/image17.jpeg" ContentType="image/jpeg"/>
  <Override PartName="/ppt/media/image19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0DC9-9225-42B5-920E-4150B79A8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8606-3B57-4986-B65B-8C48650A7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862C-C753-483E-A4D3-CBF2D2354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3F53-6EBE-4263-9091-DCF94D5D2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4E351-56B5-41AD-B386-D3B386082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8E5F9-0316-4632-AC62-AA44E78BF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4EADB-3A31-4748-AF1A-1D4A1DC1C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7D860-B0C7-42E0-9DFD-F764D7367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0917E-D240-4392-992E-C24B8EE52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60AE-DDC4-437F-B54A-CD9390931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78A15-DB1A-4827-A496-4CDCC8265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5F8E2-2C86-4CFA-81C4-1BF0E6A39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EEB3A-BAB3-4616-AD94-B6E1DF0E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E9C4C-FF4D-4514-8C4E-BD2DF9F59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FC30B-C0A2-4FA9-BEF6-8AE3C84F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D428B-26AF-41DA-920E-D1399FE80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F299A-C033-476E-937A-14223E486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5A2A55-5076-4EF8-88A4-5D3D60B567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679268-C85F-47D2-9F78-CF3760E5C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7F2EFF-02DD-451B-99FD-87CC47F6A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0EBF1F9-85A2-4EE4-8214-1B993D8B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FBC41-EFE8-46C0-8C77-CD4116DD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0BE71-22DD-4BB4-BF61-22C23D13F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450FFE-FAAE-4354-BB3D-986CE706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63CAE4-6C70-4B6A-BD2A-EDCA44640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3E57D6-9563-4793-B811-C91861BEE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58D43-178F-48CD-9460-92ABC2D0F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5094F7-E865-4C50-AAD1-76983AA92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958974-7ACE-4391-890B-F65AF5EAD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3445C-59EC-4A20-94F6-7587E6DF9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76C1E1-C722-4E5A-AD1A-2E8F5CAA5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FAFE79-8EDA-48FB-A523-18C0CD98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FC7ADF-DBF6-486C-A072-040DA4E1A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FAE9-9CC1-4F14-B2F0-9474A542A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6D0F1A-15DF-48BF-8E24-E860B8DB1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AB684B-9A21-412B-80BC-3E776340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CAA942-C9CB-4E4F-A83C-510E5BC9A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E5891-86D1-40AA-B8CD-D6A88CA8A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1D09CE-6DF7-4F22-96AB-5ABECFEE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735253-2D4F-41A9-ABA7-C7D4E5D9A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159A8F-F530-43F5-8089-BBFED8716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3F33D1-6AB6-4AF9-A2DA-971D7A6D9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25852B-F94F-4A0A-B55E-AC1454FA3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A4AAA8-7BAD-4FBB-964A-627CC7CF4E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F57DB-E49A-421A-A99E-93BD4353F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758E2-5C19-4808-BEAF-9392F2EE4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E98B9-A77B-4964-82A4-F6DDE7BD7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C19C57-872B-424E-90B2-5260A39FA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D7DEFF-8CA8-4796-A80D-F07D74BA8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DE63A-CCF7-4A53-A645-DCD103765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535D6-B81F-4CD3-B6CC-CCC7D2D9C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9820CD-60E3-4AE3-9063-BAF287C3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1457CA-DD7E-4FB4-8E10-46BF05647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B9F7F7-7C13-40BE-9E3D-797015C92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C2AB7B-020D-4F4B-8D23-23FDE611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F829-4A43-4277-9898-43B5DE52F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80014D-1B1B-4CDD-BF27-E1DEA9C79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470C-026B-4311-A5F2-10732D4AC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DDE4-F4FF-4D3E-8EB5-324426F7B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664E6-690B-4B7A-AC0D-B3D3A5125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EBB5A-BAE0-47A3-A813-5390164696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>
              <a:gd name="textAreaLeft" fmla="*/ 0 w 7958160"/>
              <a:gd name="textAreaRight" fmla="*/ 7958520 w 7958160"/>
              <a:gd name="textAreaTop" fmla="*/ 0 h 109800"/>
              <a:gd name="textAreaBottom" fmla="*/ 110160 h 10980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274EE-0F63-4DD0-B6AC-2DB8D34FE19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BA253-F25B-479D-B82F-87BD84B2FB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7290-E4CD-43A7-BE20-5F3DC0871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>
              <a:gd name="textAreaLeft" fmla="*/ 0 w 7772400"/>
              <a:gd name="textAreaRight" fmla="*/ 7772760 w 7772400"/>
              <a:gd name="textAreaTop" fmla="*/ 0 h 109440"/>
              <a:gd name="textAreaBottom" fmla="*/ 109800 h 109440"/>
            </a:gdLst>
            <a:ahLst/>
            <a:rect l="textAreaLeft" t="textAreaTop" r="textAreaRight" b="textAreaBottom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684D7-FA27-4336-BAE2-E6ED86CECD3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gif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a56e698de1a46533b21bba06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580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211" name="WordArt 5"/>
          <p:cNvSpPr txBox="1"/>
          <p:nvPr/>
        </p:nvSpPr>
        <p:spPr>
          <a:xfrm>
            <a:off x="1523880" y="2514600"/>
            <a:ext cx="57913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我与班集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4800600"/>
            <a:ext cx="8915400" cy="1771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w="12600">
                  <a:solidFill>
                    <a:srgbClr val="ff0000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楷体"/>
              </a:rPr>
              <a:t>班级的健康发展，有赖于你我的共同努力！</a:t>
            </a:r>
            <a:endParaRPr b="1" i="1" lang="en-US" sz="4000" spc="1" strike="noStrike">
              <a:ln w="12600">
                <a:solidFill>
                  <a:srgbClr val="ff0000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4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Picture 6" descr="http://t0.gstatic.com/images?q=tbn:zJS0HTw_VMMRdM::&amp;t=1&amp;usg=__E8S2WpXfy_lXVvjimyka9wVphTc="/>
          <p:cNvPicPr/>
          <p:nvPr/>
        </p:nvPicPr>
        <p:blipFill>
          <a:blip r:embed="rId1"/>
          <a:stretch/>
        </p:blipFill>
        <p:spPr>
          <a:xfrm>
            <a:off x="2209680" y="457200"/>
            <a:ext cx="457200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Picture 2" descr="1G43934J50"/>
          <p:cNvPicPr/>
          <p:nvPr/>
        </p:nvPicPr>
        <p:blipFill>
          <a:blip r:embed="rId1"/>
          <a:stretch/>
        </p:blipFill>
        <p:spPr>
          <a:xfrm>
            <a:off x="228600" y="0"/>
            <a:ext cx="8686800" cy="6629400"/>
          </a:xfrm>
          <a:prstGeom prst="rect">
            <a:avLst/>
          </a:prstGeom>
          <a:ln w="0">
            <a:noFill/>
          </a:ln>
        </p:spPr>
      </p:pic>
      <p:sp>
        <p:nvSpPr>
          <p:cNvPr id="261" name="Text Box 3"/>
          <p:cNvSpPr/>
          <p:nvPr/>
        </p:nvSpPr>
        <p:spPr>
          <a:xfrm>
            <a:off x="0" y="0"/>
            <a:ext cx="8458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著名的“木桶理论”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一个木桶装水量的多少，取决于长度最短的那一块木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8" descr="http://www.cioage.com/files/uploadimg/20080411/1558200.jpg"/>
          <p:cNvPicPr/>
          <p:nvPr/>
        </p:nvPicPr>
        <p:blipFill>
          <a:blip r:embed="rId2"/>
          <a:stretch/>
        </p:blipFill>
        <p:spPr>
          <a:xfrm>
            <a:off x="6367320" y="3429000"/>
            <a:ext cx="2776680" cy="342900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0" y="2590920"/>
            <a:ext cx="960120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同学们有没有想过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我们班集体是不是就像一个木桶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）而你自己，究竟是这个班级里的哪一块木板？你又想成为哪一块木板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4" descr="图片1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6835680"/>
          </a:xfrm>
          <a:prstGeom prst="rect">
            <a:avLst/>
          </a:prstGeom>
          <a:ln w="0">
            <a:noFill/>
          </a:ln>
        </p:spPr>
      </p:pic>
      <p:sp>
        <p:nvSpPr>
          <p:cNvPr id="267" name=""/>
          <p:cNvSpPr/>
          <p:nvPr/>
        </p:nvSpPr>
        <p:spPr>
          <a:xfrm>
            <a:off x="685800" y="990360"/>
            <a:ext cx="81770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ff"/>
                </a:solidFill>
                <a:latin typeface="Arial"/>
              </a:rPr>
              <a:t>我为</a:t>
            </a:r>
            <a:r>
              <a:rPr b="0" lang="en-US" sz="9600" spc="-1" strike="noStrike">
                <a:solidFill>
                  <a:srgbClr val="ff00ff"/>
                </a:solidFill>
                <a:latin typeface="Arial"/>
              </a:rPr>
              <a:t>13</a:t>
            </a:r>
            <a:r>
              <a:rPr b="0" lang="zh-CN" sz="9600" spc="-1" strike="noStrike">
                <a:solidFill>
                  <a:srgbClr val="ff00ff"/>
                </a:solidFill>
                <a:latin typeface="Arial"/>
              </a:rPr>
              <a:t>秋</a:t>
            </a:r>
            <a:r>
              <a:rPr b="0" lang="en-US" sz="9600" spc="-1" strike="noStrike">
                <a:solidFill>
                  <a:srgbClr val="ff00ff"/>
                </a:solidFill>
                <a:latin typeface="Arial"/>
              </a:rPr>
              <a:t>1</a:t>
            </a:r>
            <a:r>
              <a:rPr b="0" lang="zh-CN" sz="9600" spc="-1" strike="noStrike">
                <a:solidFill>
                  <a:srgbClr val="ff00ff"/>
                </a:solidFill>
                <a:latin typeface="Arial"/>
              </a:rPr>
              <a:t>班做了什么？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916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228600" y="228240"/>
            <a:ext cx="876312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走廊，座位周围有垃圾是否捡起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组内成员上课或自习讲小话，违反纪律，是否提醒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班上同学不舒服，你是不是最后一个知道？是不是从来没有去慰问过，关心过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是否每天关心班级的量化评比，关心班级的点滴进步？是否为班级加分而高兴，为班级扣分而惋惜悔恨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是否为班级建设出谋划策过？意见箱里头，你伸过几次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课是不是踏着铃声进的教室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所负责的工作是不是从不马虎，做到尽职尽责了？做到问心无愧了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7" dur="500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7" dur="500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5" dur="2000"/>
                                        <p:tgtEl>
                                          <p:spTgt spid="2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Picture 2" descr="d480584e9beab429aec3ab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3"/>
          <p:cNvSpPr/>
          <p:nvPr/>
        </p:nvSpPr>
        <p:spPr>
          <a:xfrm>
            <a:off x="380880" y="457200"/>
            <a:ext cx="838224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如果一个班集体是一个木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那么每一个同学就是这个木桶的每一块木板。缺了任何一块木板，这个木桶都装不了水，不能成之为木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d480584e9beab429aec3ab4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74" name="Text Box 3"/>
          <p:cNvSpPr/>
          <p:nvPr/>
        </p:nvSpPr>
        <p:spPr>
          <a:xfrm>
            <a:off x="457200" y="457200"/>
            <a:ext cx="762012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思考：我们希望木桶装更多的水，有哪些好办法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不要短木板？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长木板补短木板？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）长、短木板各自提升高度？。。。。。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33520" y="4419720"/>
            <a:ext cx="7619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班集体的建设中，哪一种方法最好，最有效？？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1G43934J50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3"/>
          <p:cNvSpPr/>
          <p:nvPr/>
        </p:nvSpPr>
        <p:spPr>
          <a:xfrm>
            <a:off x="228600" y="185760"/>
            <a:ext cx="89154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在我们的学生生涯中，我们每个人都希望自己生活在一个优秀的，向上的，让人自豪的班集体里。但是，一个良好的班集体的建设，离不开你，我，他！！希望每一个同学都努力地提升自己的高度，为班集体的每一个进步添砖加瓦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81" name="Picture 5" descr="无标题2156"/>
          <p:cNvPicPr/>
          <p:nvPr/>
        </p:nvPicPr>
        <p:blipFill>
          <a:blip r:embed="rId2"/>
          <a:stretch/>
        </p:blipFill>
        <p:spPr>
          <a:xfrm>
            <a:off x="6095880" y="5181480"/>
            <a:ext cx="1295640" cy="1467000"/>
          </a:xfrm>
          <a:prstGeom prst="rect">
            <a:avLst/>
          </a:prstGeom>
          <a:ln w="0">
            <a:noFill/>
          </a:ln>
        </p:spPr>
      </p:pic>
      <p:sp>
        <p:nvSpPr>
          <p:cNvPr id="282" name="WordArt 6"/>
          <p:cNvSpPr txBox="1"/>
          <p:nvPr/>
        </p:nvSpPr>
        <p:spPr>
          <a:xfrm>
            <a:off x="1828800" y="228600"/>
            <a:ext cx="54864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我们的班？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  <p:sp>
        <p:nvSpPr>
          <p:cNvPr id="283" name="Text Box 7"/>
          <p:cNvSpPr/>
          <p:nvPr/>
        </p:nvSpPr>
        <p:spPr>
          <a:xfrm>
            <a:off x="1332000" y="292428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班上有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优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值得我们发扬？有哪些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缺点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需要我们改正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我们班的优点</a:t>
            </a:r>
            <a:r>
              <a:rPr b="0" lang="zh-CN" sz="3800" spc="-1" strike="noStrike">
                <a:solidFill>
                  <a:srgbClr val="000000"/>
                </a:solidFill>
                <a:latin typeface="Verdana"/>
              </a:rPr>
              <a:t>。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5" name="Picture 3" descr="20080726110753978"/>
          <p:cNvPicPr/>
          <p:nvPr/>
        </p:nvPicPr>
        <p:blipFill>
          <a:blip r:embed="rId2"/>
          <a:stretch/>
        </p:blipFill>
        <p:spPr>
          <a:xfrm>
            <a:off x="7577280" y="5106960"/>
            <a:ext cx="925200" cy="898560"/>
          </a:xfrm>
          <a:prstGeom prst="rect">
            <a:avLst/>
          </a:prstGeom>
          <a:ln w="0">
            <a:noFill/>
          </a:ln>
        </p:spPr>
      </p:pic>
      <p:sp>
        <p:nvSpPr>
          <p:cNvPr id="286" name="Text Box 4"/>
          <p:cNvSpPr/>
          <p:nvPr/>
        </p:nvSpPr>
        <p:spPr>
          <a:xfrm>
            <a:off x="609480" y="1854360"/>
            <a:ext cx="7128000" cy="41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大部分同学能团结合作，会乐于助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临危受命感强，潜力十足，小宇宙爆发，能一鸣惊人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班干部在办事上虽然有不成熟之处，但这两个月来基本上能干好本职工作，做到以诚相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据科任老师反映，上课气氛不错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800" spc="-1" strike="noStrike">
                <a:solidFill>
                  <a:srgbClr val="cc0000"/>
                </a:solidFill>
                <a:latin typeface="Verdana"/>
              </a:rPr>
              <a:t>我们</a:t>
            </a:r>
            <a:r>
              <a:rPr b="1" lang="zh-CN" sz="3800" spc="-1" strike="noStrike">
                <a:solidFill>
                  <a:srgbClr val="000000"/>
                </a:solidFill>
                <a:latin typeface="Verdana"/>
              </a:rPr>
              <a:t>班的缺点，</a:t>
            </a:r>
            <a:r>
              <a:rPr b="1" lang="zh-CN" sz="3500" spc="-1" strike="noStrike">
                <a:solidFill>
                  <a:srgbClr val="000000"/>
                </a:solidFill>
                <a:latin typeface="Verdana"/>
              </a:rPr>
              <a:t>需要改进的地方：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80596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不注意细节，有些同学的责任心不够强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不够大度，因小失大。铿锵玫瑰的气质有待养成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部分班干部岗位需稍作重整；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办事效率不够高，雷厉风行的气魄养成有待时日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2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2"/>
          <p:cNvSpPr/>
          <p:nvPr/>
        </p:nvSpPr>
        <p:spPr>
          <a:xfrm>
            <a:off x="324000" y="765000"/>
            <a:ext cx="8569080" cy="34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幼圆"/>
                <a:ea typeface="幼圆"/>
              </a:rPr>
              <a:t>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cc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新学期伊始，我们班的同学对“班集体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这一概念还理解得不够，很多同学不知道自己与集体的关系，有时候会做出一些损坏集体荣誉的事情。因此，新的生活</a:t>
            </a: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,</a:t>
            </a:r>
            <a:r>
              <a:rPr b="1" lang="zh-CN" sz="3600" spc="-1" strike="noStrike">
                <a:solidFill>
                  <a:srgbClr val="0066ff"/>
                </a:solidFill>
                <a:latin typeface="宋体"/>
              </a:rPr>
              <a:t>新的学习，我们应从爱我们的集体开始，培养健康向上的班级理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宋体"/>
              </a:rPr>
              <a:t>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WordArt 3"/>
          <p:cNvSpPr txBox="1"/>
          <p:nvPr/>
        </p:nvSpPr>
        <p:spPr>
          <a:xfrm>
            <a:off x="2987640" y="1125360"/>
            <a:ext cx="273672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ccffcc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班会目的</a:t>
            </a:r>
            <a:endParaRPr b="1" lang="en-US" sz="1800" spc="1" strike="noStrike">
              <a:ln w="19080">
                <a:solidFill>
                  <a:srgbClr val="ccffcc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p:transition>
    <p:wedge/>
  </p:transition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92" name="Picture 5" descr="无标题2156"/>
          <p:cNvPicPr/>
          <p:nvPr/>
        </p:nvPicPr>
        <p:blipFill>
          <a:blip r:embed="rId2"/>
          <a:stretch/>
        </p:blipFill>
        <p:spPr>
          <a:xfrm>
            <a:off x="6095880" y="5181480"/>
            <a:ext cx="1295640" cy="1467000"/>
          </a:xfrm>
          <a:prstGeom prst="rect">
            <a:avLst/>
          </a:prstGeom>
          <a:ln w="0">
            <a:noFill/>
          </a:ln>
        </p:spPr>
      </p:pic>
      <p:sp>
        <p:nvSpPr>
          <p:cNvPr id="293" name="WordArt 6"/>
          <p:cNvSpPr txBox="1"/>
          <p:nvPr/>
        </p:nvSpPr>
        <p:spPr>
          <a:xfrm>
            <a:off x="1676520" y="2438280"/>
            <a:ext cx="5486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如何热爱班集体？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wheel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Picture 2" descr="d480584e9beab429aec3ab44"/>
          <p:cNvPicPr/>
          <p:nvPr/>
        </p:nvPicPr>
        <p:blipFill>
          <a:blip r:embed="rId2"/>
          <a:stretch/>
        </p:blipFill>
        <p:spPr>
          <a:xfrm>
            <a:off x="0" y="-45720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 txBox="1"/>
          <p:nvPr/>
        </p:nvSpPr>
        <p:spPr>
          <a:xfrm>
            <a:off x="60948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纪律，学习，卫生，活动，与老师同学相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2"/>
          <p:cNvSpPr txBox="1"/>
          <p:nvPr/>
        </p:nvSpPr>
        <p:spPr>
          <a:xfrm>
            <a:off x="2438280" y="304920"/>
            <a:ext cx="54007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4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怎样爱我们的班集体</a:t>
            </a:r>
            <a:endParaRPr b="1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97" name="AutoShape 4"/>
          <p:cNvSpPr/>
          <p:nvPr/>
        </p:nvSpPr>
        <p:spPr>
          <a:xfrm>
            <a:off x="0" y="152280"/>
            <a:ext cx="2521080" cy="1800360"/>
          </a:xfrm>
          <a:prstGeom prst="irregularSeal2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讨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2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4" descr="图片1"/>
          <p:cNvPicPr/>
          <p:nvPr/>
        </p:nvPicPr>
        <p:blipFill>
          <a:blip r:embed="rId2"/>
          <a:stretch/>
        </p:blipFill>
        <p:spPr>
          <a:xfrm>
            <a:off x="30492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5" descr="无标题2156"/>
          <p:cNvPicPr/>
          <p:nvPr/>
        </p:nvPicPr>
        <p:blipFill>
          <a:blip r:embed="rId3"/>
          <a:stretch/>
        </p:blipFill>
        <p:spPr>
          <a:xfrm>
            <a:off x="6095880" y="5181480"/>
            <a:ext cx="1295640" cy="1467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1219320" y="1615320"/>
            <a:ext cx="79246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我能实实在在为咱们</a:t>
            </a: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13</a:t>
            </a: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秋</a:t>
            </a: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班做些什么？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1998000" y="727200"/>
            <a:ext cx="52574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穿好校服，系好飘带，整理好自己的着装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课间阅读时间认真倾听，大声朗读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两字一话时间端正坐好，全身心投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前进入课室，等待老师准备上课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多关心班上同学，做到互帮互助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地上有垃圾了，随时捡起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离开课室时，花上一分钟时间检查自己的座位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包括教室的窗户有没有锁紧，钢琴课的琴盖有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有合上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真做好每一件事，最起码做到班上不会因为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而扣分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现不利于班级团结，有损班级荣誉的事情，大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制止，或告知班干部或班主任，为班级献策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26" dur="5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7" dur="5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9" dur="500"/>
                                        <p:tgtEl>
                                          <p:spTgt spid="3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2" dur="500"/>
                                        <p:tgtEl>
                                          <p:spTgt spid="3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0" dur="500"/>
                                        <p:tgtEl>
                                          <p:spTgt spid="3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73" dur="5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3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3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Picture 4" descr="33038f1dec9e1fa886d6b6f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7" name="Rectangle 5"/>
          <p:cNvSpPr/>
          <p:nvPr/>
        </p:nvSpPr>
        <p:spPr>
          <a:xfrm>
            <a:off x="2348280" y="1980000"/>
            <a:ext cx="4915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从细节入手，从大局着眼，管好自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每一个言行，做好每一件自己份内的事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坚决不做有害班级团结，有损班级荣誉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事情，做到慎独，爱班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d480584e9beab429aec3ab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古代有一位学者问他的学生：“一滴水怎样才能不干涸？”学生们面面相觑回答不出来。最后学者的答案是：“把它放进大海中去。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d480584e9beab429aec3ab4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Text Box 2"/>
          <p:cNvSpPr/>
          <p:nvPr/>
        </p:nvSpPr>
        <p:spPr>
          <a:xfrm>
            <a:off x="539640" y="1557360"/>
            <a:ext cx="7574040" cy="371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5000"/>
              </a:lnSpc>
              <a:spcBef>
                <a:spcPts val="5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一个有凝聚力的班集体的形成，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的是全体成员的团结与奉献，每个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平时的学习与生活中应以实际行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5000"/>
              </a:lnSpc>
              <a:spcBef>
                <a:spcPts val="5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自觉维护班级的荣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1"/>
          <a:stretch/>
        </p:blipFill>
        <p:spPr>
          <a:xfrm>
            <a:off x="-4114800" y="-3857760"/>
            <a:ext cx="14287680" cy="107157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2803680" y="6318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7200" y="1890000"/>
            <a:ext cx="8344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让我们为</a:t>
            </a: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13</a:t>
            </a: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秋</a:t>
            </a:r>
            <a:r>
              <a:rPr b="0" lang="en-US" sz="8000" spc="-1" strike="noStrike">
                <a:solidFill>
                  <a:srgbClr val="99cc00"/>
                </a:solidFill>
                <a:latin typeface="Arial"/>
              </a:rPr>
              <a:t>1</a:t>
            </a:r>
            <a:r>
              <a:rPr b="0" lang="zh-CN" sz="8000" spc="-1" strike="noStrike">
                <a:solidFill>
                  <a:srgbClr val="99cc00"/>
                </a:solidFill>
                <a:latin typeface="Arial"/>
              </a:rPr>
              <a:t>班而携手奋进！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-2571840" y="-1928880"/>
            <a:ext cx="14287680" cy="1071576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Picture 4" descr="010bca16bb27623a972b43f7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6" descr="图片1"/>
          <p:cNvPicPr/>
          <p:nvPr/>
        </p:nvPicPr>
        <p:blipFill>
          <a:blip r:embed="rId3"/>
          <a:stretch/>
        </p:blipFill>
        <p:spPr>
          <a:xfrm>
            <a:off x="7010280" y="4648320"/>
            <a:ext cx="1690920" cy="19573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7"/>
          <p:cNvSpPr/>
          <p:nvPr/>
        </p:nvSpPr>
        <p:spPr>
          <a:xfrm>
            <a:off x="1447920" y="3962520"/>
            <a:ext cx="22096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2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6" name="Picture 3" descr="内页边条"/>
          <p:cNvPicPr/>
          <p:nvPr/>
        </p:nvPicPr>
        <p:blipFill>
          <a:blip r:embed="rId2"/>
          <a:stretch/>
        </p:blipFill>
        <p:spPr>
          <a:xfrm>
            <a:off x="1440" y="0"/>
            <a:ext cx="9142560" cy="1125360"/>
          </a:xfrm>
          <a:prstGeom prst="rect">
            <a:avLst/>
          </a:prstGeom>
          <a:ln w="0">
            <a:noFill/>
          </a:ln>
        </p:spPr>
      </p:pic>
      <p:pic>
        <p:nvPicPr>
          <p:cNvPr id="217" name="Picture 4" descr="封面大字"/>
          <p:cNvPicPr/>
          <p:nvPr/>
        </p:nvPicPr>
        <p:blipFill>
          <a:blip r:embed="rId3"/>
          <a:stretch/>
        </p:blipFill>
        <p:spPr>
          <a:xfrm>
            <a:off x="7178760" y="6018120"/>
            <a:ext cx="1523880" cy="798480"/>
          </a:xfrm>
          <a:prstGeom prst="rect">
            <a:avLst/>
          </a:prstGeom>
          <a:ln w="0">
            <a:noFill/>
          </a:ln>
        </p:spPr>
      </p:pic>
      <p:sp>
        <p:nvSpPr>
          <p:cNvPr id="218" name="Text Box 5"/>
          <p:cNvSpPr/>
          <p:nvPr/>
        </p:nvSpPr>
        <p:spPr>
          <a:xfrm>
            <a:off x="2209680" y="1447920"/>
            <a:ext cx="6019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黑体"/>
                <a:ea typeface="黑体"/>
              </a:rPr>
              <a:t>1 + 1 </a:t>
            </a:r>
            <a:r>
              <a:rPr b="1" lang="zh-CN" sz="4800" spc="-1" strike="noStrike">
                <a:solidFill>
                  <a:srgbClr val="336699"/>
                </a:solidFill>
                <a:latin typeface="黑体"/>
                <a:ea typeface="黑体"/>
              </a:rPr>
              <a:t>的意义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8"/>
          <p:cNvSpPr/>
          <p:nvPr/>
        </p:nvSpPr>
        <p:spPr>
          <a:xfrm>
            <a:off x="422280" y="363600"/>
            <a:ext cx="828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头脑风暴一下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9"/>
          <p:cNvSpPr/>
          <p:nvPr/>
        </p:nvSpPr>
        <p:spPr>
          <a:xfrm>
            <a:off x="1871640" y="3352680"/>
            <a:ext cx="727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黑体"/>
                <a:ea typeface="黑体"/>
              </a:rPr>
              <a:t>两个思路相左的合作伙伴因为意见相驳，内部搞分化，步伐不协调不统一，给团队集体造成了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10"/>
          <p:cNvSpPr/>
          <p:nvPr/>
        </p:nvSpPr>
        <p:spPr>
          <a:xfrm>
            <a:off x="228600" y="5562720"/>
            <a:ext cx="17352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黑体"/>
                <a:ea typeface="黑体"/>
              </a:rPr>
              <a:t>1+1&g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12"/>
          <p:cNvSpPr/>
          <p:nvPr/>
        </p:nvSpPr>
        <p:spPr>
          <a:xfrm>
            <a:off x="1752480" y="5562720"/>
            <a:ext cx="5518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6699"/>
                </a:solidFill>
                <a:latin typeface="黑体"/>
                <a:ea typeface="黑体"/>
              </a:rPr>
              <a:t>因为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黑体"/>
              </a:rPr>
              <a:t>“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人多力量大</a:t>
            </a:r>
            <a:r>
              <a:rPr b="1" lang="en-US" sz="3600" spc="-1" strike="noStrike">
                <a:solidFill>
                  <a:srgbClr val="336699"/>
                </a:solidFill>
                <a:latin typeface="Arial"/>
                <a:ea typeface="黑体"/>
              </a:rPr>
              <a:t>”</a:t>
            </a:r>
            <a:r>
              <a:rPr b="1" lang="zh-CN" sz="3600" spc="-1" strike="noStrike">
                <a:solidFill>
                  <a:srgbClr val="3366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13"/>
          <p:cNvSpPr/>
          <p:nvPr/>
        </p:nvSpPr>
        <p:spPr>
          <a:xfrm>
            <a:off x="444600" y="2386080"/>
            <a:ext cx="14634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黑体"/>
                <a:ea typeface="黑体"/>
              </a:rPr>
              <a:t>1+1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 Box 13"/>
          <p:cNvSpPr/>
          <p:nvPr/>
        </p:nvSpPr>
        <p:spPr>
          <a:xfrm>
            <a:off x="1763640" y="2386080"/>
            <a:ext cx="71582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两个合作伙伴组成一个团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9"/>
          <p:cNvSpPr/>
          <p:nvPr/>
        </p:nvSpPr>
        <p:spPr>
          <a:xfrm>
            <a:off x="395280" y="3573360"/>
            <a:ext cx="1589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99"/>
                </a:solidFill>
                <a:latin typeface="黑体"/>
                <a:ea typeface="黑体"/>
              </a:rPr>
              <a:t>1+1&lt;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0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16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16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6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40"/>
                            </p:stCondLst>
                            <p:childTnLst>
                              <p:par>
                                <p:cTn id="3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" dur="12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7" dur="12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" dur="12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120"/>
                            </p:stCondLst>
                            <p:childTnLst>
                              <p:par>
                                <p:cTn id="40" nodeType="afterEffect" fill="hold" presetClass="emph" presetID="26" repeatCount="indefinite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500" autoRev="1" fill="hold"/>
                                        <p:tgtEl>
                                          <p:spTgt spid="2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" dur="20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" dur="2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" dur="2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" dur="20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2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2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2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Picture 3" descr="内页边条"/>
          <p:cNvPicPr/>
          <p:nvPr/>
        </p:nvPicPr>
        <p:blipFill>
          <a:blip r:embed="rId2"/>
          <a:stretch/>
        </p:blipFill>
        <p:spPr>
          <a:xfrm>
            <a:off x="1440" y="0"/>
            <a:ext cx="9142560" cy="11970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封面大字"/>
          <p:cNvPicPr/>
          <p:nvPr/>
        </p:nvPicPr>
        <p:blipFill>
          <a:blip r:embed="rId3"/>
          <a:stretch/>
        </p:blipFill>
        <p:spPr>
          <a:xfrm>
            <a:off x="7178760" y="6018120"/>
            <a:ext cx="1523880" cy="79848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5"/>
          <p:cNvSpPr/>
          <p:nvPr/>
        </p:nvSpPr>
        <p:spPr>
          <a:xfrm>
            <a:off x="1547640" y="29376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团结协作，让</a:t>
            </a:r>
            <a:r>
              <a:rPr b="1" lang="zh-CN" sz="3600" spc="-1" strike="noStrike">
                <a:solidFill>
                  <a:srgbClr val="ffffff"/>
                </a:solidFill>
                <a:latin typeface="Futured"/>
                <a:ea typeface="黑体"/>
              </a:rPr>
              <a:t>“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1+1&gt;2</a:t>
            </a:r>
            <a:r>
              <a:rPr b="1" lang="en-US" sz="3600" spc="-1" strike="noStrike">
                <a:solidFill>
                  <a:srgbClr val="ffffff"/>
                </a:solidFill>
                <a:latin typeface="Futured"/>
                <a:ea typeface="黑体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9"/>
          <p:cNvSpPr/>
          <p:nvPr/>
        </p:nvSpPr>
        <p:spPr>
          <a:xfrm>
            <a:off x="212760" y="1916280"/>
            <a:ext cx="87138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6699"/>
                </a:solidFill>
                <a:latin typeface="黑体"/>
                <a:ea typeface="黑体"/>
              </a:rPr>
              <a:t>俗话说：家和万事兴。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协作所产生的合力远远大于个体能力的简单之和，这就是我们所说的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“</a:t>
            </a:r>
            <a:r>
              <a:rPr b="1" lang="en-US" sz="4800" spc="-1" strike="noStrike">
                <a:solidFill>
                  <a:srgbClr val="ff3300"/>
                </a:solidFill>
                <a:latin typeface="黑体"/>
                <a:ea typeface="黑体"/>
              </a:rPr>
              <a:t>1+1&gt;2</a:t>
            </a:r>
            <a:r>
              <a:rPr b="1" lang="en-US" sz="4800" spc="-1" strike="noStrike">
                <a:solidFill>
                  <a:srgbClr val="ff3300"/>
                </a:solidFill>
                <a:latin typeface="Arial"/>
                <a:ea typeface="黑体"/>
              </a:rPr>
              <a:t>”</a:t>
            </a:r>
            <a:r>
              <a:rPr b="1" lang="zh-CN" sz="4800" spc="-1" strike="noStrike">
                <a:solidFill>
                  <a:srgbClr val="ff3300"/>
                </a:solidFill>
                <a:latin typeface="黑体"/>
                <a:ea typeface="黑体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15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" dur="3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" dur="3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7" dur="3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内页底图"/>
          <p:cNvPicPr/>
          <p:nvPr/>
        </p:nvPicPr>
        <p:blipFill>
          <a:blip r:embed="rId1"/>
          <a:stretch/>
        </p:blipFill>
        <p:spPr>
          <a:xfrm>
            <a:off x="0" y="2700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3" descr="内页边条"/>
          <p:cNvPicPr/>
          <p:nvPr/>
        </p:nvPicPr>
        <p:blipFill>
          <a:blip r:embed="rId2"/>
          <a:stretch/>
        </p:blipFill>
        <p:spPr>
          <a:xfrm>
            <a:off x="1440" y="-27000"/>
            <a:ext cx="9142560" cy="1197000"/>
          </a:xfrm>
          <a:prstGeom prst="rect">
            <a:avLst/>
          </a:prstGeom>
          <a:ln w="0">
            <a:noFill/>
          </a:ln>
        </p:spPr>
      </p:pic>
      <p:pic>
        <p:nvPicPr>
          <p:cNvPr id="233" name="Picture 4" descr="封面大字"/>
          <p:cNvPicPr/>
          <p:nvPr/>
        </p:nvPicPr>
        <p:blipFill>
          <a:blip r:embed="rId3"/>
          <a:stretch/>
        </p:blipFill>
        <p:spPr>
          <a:xfrm>
            <a:off x="7178760" y="6018120"/>
            <a:ext cx="1523880" cy="798480"/>
          </a:xfrm>
          <a:prstGeom prst="rect">
            <a:avLst/>
          </a:prstGeom>
          <a:ln w="0">
            <a:noFill/>
          </a:ln>
        </p:spPr>
      </p:pic>
      <p:sp>
        <p:nvSpPr>
          <p:cNvPr id="234" name="Text Box 5"/>
          <p:cNvSpPr/>
          <p:nvPr/>
        </p:nvSpPr>
        <p:spPr>
          <a:xfrm>
            <a:off x="1547640" y="29376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故事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"/>
          <p:cNvSpPr/>
          <p:nvPr/>
        </p:nvSpPr>
        <p:spPr>
          <a:xfrm>
            <a:off x="36360" y="1197000"/>
            <a:ext cx="91440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从前，有一位长者听到五个手指在议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大拇指说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：我最粗，做什么事都离不开我。别的四个手指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都没用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食指说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：大拇指太粗，中指太长，无名指太细，小拇指太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短，他们都不行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中指说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：我的个子最高，顶天立地、只要我一个人就能做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很多事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无名指说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：真讨厌，大家都不给我一个名字，我真不愿意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和他们在一起。</a:t>
            </a:r>
            <a:br>
              <a:rPr sz="2800"/>
            </a:b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拇指说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：他们长得那么长、那么粗，有什么用？我是小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而灵，不知道浓缩的是精华吗</a:t>
            </a:r>
            <a:r>
              <a:rPr b="1" lang="en-US" sz="2800" spc="-1" strike="noStrike">
                <a:solidFill>
                  <a:srgbClr val="001414"/>
                </a:solidFill>
                <a:latin typeface="黑体"/>
                <a:ea typeface="黑体"/>
              </a:rPr>
              <a:t>?</a:t>
            </a: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我的作用最大。</a:t>
            </a:r>
            <a:br>
              <a:rPr sz="2800"/>
            </a:br>
            <a:r>
              <a:rPr b="1" lang="zh-CN" sz="2800" spc="-1" strike="noStrike">
                <a:solidFill>
                  <a:srgbClr val="001414"/>
                </a:solidFill>
                <a:latin typeface="黑体"/>
                <a:ea typeface="黑体"/>
              </a:rPr>
              <a:t>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故事分享papillon.mp3" descr=""/>
          <p:cNvPicPr/>
          <p:nvPr/>
        </p:nvPicPr>
        <p:blipFill>
          <a:blip r:embed="rId4"/>
          <a:stretch/>
        </p:blipFill>
        <p:spPr>
          <a:xfrm>
            <a:off x="6567480" y="5891040"/>
            <a:ext cx="609480" cy="6098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2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12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12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12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Picture 2" descr="内页底图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38" name="Picture 3" descr="内页边条"/>
          <p:cNvPicPr/>
          <p:nvPr/>
        </p:nvPicPr>
        <p:blipFill>
          <a:blip r:embed="rId2"/>
          <a:stretch/>
        </p:blipFill>
        <p:spPr>
          <a:xfrm>
            <a:off x="1440" y="0"/>
            <a:ext cx="9142560" cy="1197000"/>
          </a:xfrm>
          <a:prstGeom prst="rect">
            <a:avLst/>
          </a:prstGeom>
          <a:ln w="0">
            <a:noFill/>
          </a:ln>
        </p:spPr>
      </p:pic>
      <p:pic>
        <p:nvPicPr>
          <p:cNvPr id="239" name="Picture 4" descr="封面大字"/>
          <p:cNvPicPr/>
          <p:nvPr/>
        </p:nvPicPr>
        <p:blipFill>
          <a:blip r:embed="rId3"/>
          <a:stretch/>
        </p:blipFill>
        <p:spPr>
          <a:xfrm>
            <a:off x="7178760" y="6018120"/>
            <a:ext cx="1523880" cy="79848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5"/>
          <p:cNvSpPr/>
          <p:nvPr/>
        </p:nvSpPr>
        <p:spPr>
          <a:xfrm>
            <a:off x="1547640" y="293760"/>
            <a:ext cx="604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故事分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Rectangle 4"/>
          <p:cNvSpPr/>
          <p:nvPr/>
        </p:nvSpPr>
        <p:spPr>
          <a:xfrm>
            <a:off x="71280" y="123516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黑体"/>
                <a:ea typeface="黑体"/>
              </a:rPr>
              <a:t>	</a:t>
            </a:r>
            <a:r>
              <a:rPr b="1" lang="zh-CN" sz="3200" spc="-1" strike="noStrike">
                <a:solidFill>
                  <a:srgbClr val="001414"/>
                </a:solidFill>
                <a:latin typeface="黑体"/>
                <a:ea typeface="黑体"/>
              </a:rPr>
              <a:t>长者听了他们的对话，语重心长地对他们说：你们都说自己最有用，那么我就请你们来比一比，看看到底谁的作用大。于是这位长者拿出两只碗，其中一只里面放了一些小豆子，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要求五只手指分别把这些小豆子拿到另一只碗里</a:t>
            </a:r>
            <a:r>
              <a:rPr b="1" lang="zh-CN" sz="3200" spc="-1" strike="noStrike">
                <a:solidFill>
                  <a:srgbClr val="001414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5"/>
          <p:cNvSpPr/>
          <p:nvPr/>
        </p:nvSpPr>
        <p:spPr>
          <a:xfrm>
            <a:off x="395280" y="3789360"/>
            <a:ext cx="8352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黑体"/>
                <a:ea typeface="黑体"/>
              </a:rPr>
              <a:t>(1)</a:t>
            </a:r>
            <a:r>
              <a:rPr b="1" lang="zh-CN" sz="3200" spc="-1" strike="noStrike">
                <a:solidFill>
                  <a:srgbClr val="001414"/>
                </a:solidFill>
                <a:latin typeface="黑体"/>
                <a:ea typeface="黑体"/>
              </a:rPr>
              <a:t>结果怎么样</a:t>
            </a:r>
            <a:r>
              <a:rPr b="1" lang="en-US" sz="3200" spc="-1" strike="noStrike">
                <a:solidFill>
                  <a:srgbClr val="001414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1414"/>
                </a:solidFill>
                <a:latin typeface="黑体"/>
                <a:ea typeface="黑体"/>
              </a:rPr>
              <a:t>(2)</a:t>
            </a:r>
            <a:r>
              <a:rPr b="1" lang="zh-CN" sz="3200" spc="-1" strike="noStrike">
                <a:solidFill>
                  <a:srgbClr val="001414"/>
                </a:solidFill>
                <a:latin typeface="黑体"/>
                <a:ea typeface="黑体"/>
              </a:rPr>
              <a:t>这个故事让你明白了什么道理</a:t>
            </a:r>
            <a:r>
              <a:rPr b="1" lang="en-US" sz="3200" spc="-1" strike="noStrike">
                <a:solidFill>
                  <a:srgbClr val="001414"/>
                </a:solidFill>
                <a:latin typeface="黑体"/>
                <a:ea typeface="黑体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6"/>
          <p:cNvSpPr/>
          <p:nvPr/>
        </p:nvSpPr>
        <p:spPr>
          <a:xfrm>
            <a:off x="684360" y="5443560"/>
            <a:ext cx="810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每个人都有自己的才能和闪光点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只有大家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全力合作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才能顺利完成任务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 Box 7"/>
          <p:cNvSpPr/>
          <p:nvPr/>
        </p:nvSpPr>
        <p:spPr>
          <a:xfrm>
            <a:off x="826920" y="4292640"/>
            <a:ext cx="525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  <a:ea typeface="黑体"/>
              </a:rPr>
              <a:t>哪个手指都完成不了任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nodeType="clickEffect" fill="hold">
                      <p:stCondLst>
                        <p:cond delay="0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27">
                                  <p:stCondLst>
                                    <p:cond delay="20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6" dur="12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7" dur="12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20"/>
                                        <p:tgtEl>
                                          <p:spTgt spid="2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7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无标题2156"/>
          <p:cNvPicPr/>
          <p:nvPr/>
        </p:nvPicPr>
        <p:blipFill>
          <a:blip r:embed="rId2"/>
          <a:stretch/>
        </p:blipFill>
        <p:spPr>
          <a:xfrm>
            <a:off x="6095880" y="5181480"/>
            <a:ext cx="1295640" cy="1467000"/>
          </a:xfrm>
          <a:prstGeom prst="rect">
            <a:avLst/>
          </a:prstGeom>
          <a:ln w="0">
            <a:noFill/>
          </a:ln>
        </p:spPr>
      </p:pic>
      <p:sp>
        <p:nvSpPr>
          <p:cNvPr id="249" name="WordArt 6"/>
          <p:cNvSpPr txBox="1"/>
          <p:nvPr/>
        </p:nvSpPr>
        <p:spPr>
          <a:xfrm>
            <a:off x="1676520" y="2438280"/>
            <a:ext cx="5486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“</a:t>
            </a: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集体”的含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wheel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3568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5" descr="无标题2156"/>
          <p:cNvPicPr/>
          <p:nvPr/>
        </p:nvPicPr>
        <p:blipFill>
          <a:blip r:embed="rId2"/>
          <a:stretch/>
        </p:blipFill>
        <p:spPr>
          <a:xfrm>
            <a:off x="6095880" y="5181480"/>
            <a:ext cx="1295640" cy="1467000"/>
          </a:xfrm>
          <a:prstGeom prst="rect">
            <a:avLst/>
          </a:prstGeom>
          <a:ln w="0">
            <a:noFill/>
          </a:ln>
        </p:spPr>
      </p:pic>
      <p:sp>
        <p:nvSpPr>
          <p:cNvPr id="254" name="WordArt 6"/>
          <p:cNvSpPr txBox="1"/>
          <p:nvPr/>
        </p:nvSpPr>
        <p:spPr>
          <a:xfrm>
            <a:off x="1676520" y="2438280"/>
            <a:ext cx="5486400" cy="175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仿宋_GB2312"/>
              </a:rPr>
              <a:t>个人与集体的关系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仿宋_GB2312"/>
              <a:ea typeface="仿宋_GB2312"/>
            </a:endParaRPr>
          </a:p>
        </p:txBody>
      </p:sp>
    </p:spTree>
  </p:cSld>
  <p:transition>
    <p:wheel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480584e9beab429aec3ab44"/>
          <p:cNvPicPr/>
          <p:nvPr/>
        </p:nvPicPr>
        <p:blipFill>
          <a:blip r:embed="rId1"/>
          <a:stretch/>
        </p:blipFill>
        <p:spPr>
          <a:xfrm>
            <a:off x="0" y="0"/>
            <a:ext cx="9144000" cy="67136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3"/>
          <p:cNvSpPr/>
          <p:nvPr/>
        </p:nvSpPr>
        <p:spPr>
          <a:xfrm>
            <a:off x="380880" y="152280"/>
            <a:ext cx="8458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谁的木桶能装最多的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4"/>
          <p:cNvSpPr/>
          <p:nvPr/>
        </p:nvSpPr>
        <p:spPr>
          <a:xfrm>
            <a:off x="380880" y="1143000"/>
            <a:ext cx="83822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假设每个小组都有一个木桶，请分组讨论一下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怎样才能让我们小组的木桶装最多的水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6" descr="http://t0.gstatic.com/images?q=tbn:zJS0HTw_VMMRdM::&amp;t=1&amp;usg=__E8S2WpXfy_lXVvjimyka9wVphTc="/>
          <p:cNvPicPr/>
          <p:nvPr/>
        </p:nvPicPr>
        <p:blipFill>
          <a:blip r:embed="rId2"/>
          <a:stretch/>
        </p:blipFill>
        <p:spPr>
          <a:xfrm>
            <a:off x="3124080" y="3657600"/>
            <a:ext cx="3048120" cy="30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未知用户</cp:lastModifiedBy>
  <dcterms:modified xsi:type="dcterms:W3CDTF">2013-10-20T10:16:14Z</dcterms:modified>
  <cp:revision>6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