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371F-7223-4180-B783-7E918F330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45B-D3B6-40FE-8409-594C457A6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4D7-17B3-44E8-BA80-8F59F194A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1EC8-F370-48CB-81F8-4BD58BE8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19B9-8037-4232-9A93-90B5FE7BC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51A3-1A13-4BC3-B329-AFA1B182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9C9-4D0E-44DB-A6A3-6C8C12F9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A5AE-6FE0-49D1-8DBB-A82800FF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40A0-3D1A-4D71-A62B-0F2C50F4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2D91-08AC-47C3-B9AE-ABFEA7C42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A3E3-673C-4232-9A31-5B2479CF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E162-FC2B-482F-9586-9E2A9F71E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49CE7-F946-4562-AC8C-E58FA7D4D7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09480" y="304920"/>
            <a:ext cx="9525240" cy="42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黑体"/>
                <a:ea typeface="黑体"/>
              </a:rPr>
              <a:t>为</a:t>
            </a:r>
            <a:r>
              <a:rPr b="1" lang="zh-CN" sz="8800" spc="-1" strike="noStrike">
                <a:solidFill>
                  <a:srgbClr val="333399"/>
                </a:solidFill>
                <a:latin typeface="黑体"/>
                <a:ea typeface="黑体"/>
              </a:rPr>
              <a:t>十年后的自己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8800" spc="-1" strike="noStrike">
                <a:solidFill>
                  <a:srgbClr val="000000"/>
                </a:solidFill>
                <a:latin typeface="黑体"/>
                <a:ea typeface="黑体"/>
              </a:rPr>
              <a:t>作</a:t>
            </a:r>
            <a:r>
              <a:rPr b="1" lang="zh-CN" sz="8800" spc="-1" strike="noStrike">
                <a:solidFill>
                  <a:srgbClr val="008000"/>
                </a:solidFill>
                <a:latin typeface="黑体"/>
                <a:ea typeface="黑体"/>
              </a:rPr>
              <a:t>准备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6000" y="9360"/>
            <a:ext cx="35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班会主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3214080" y="380880"/>
            <a:ext cx="3381120" cy="70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活像一把无情刻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改变了我们模样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未曾绽放就要枯萎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有过梦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青春如同奔流的江河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一去不回来不及道别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只剩下麻木的我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没有了当年的热血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看那满天飘零的花朵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在最美的时刻凋谢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有谁会记得这世界他曾经来过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当初的愿望实现了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事到如今只好祭奠吗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任岁月风干理想再也找不回真的我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14479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8406"/>
                </a:moveTo>
                <a:lnTo>
                  <a:pt x="8224" y="8406"/>
                </a:lnTo>
                <a:lnTo>
                  <a:pt x="12645" y="3794"/>
                </a:lnTo>
                <a:lnTo>
                  <a:pt x="12645" y="17806"/>
                </a:lnTo>
                <a:lnTo>
                  <a:pt x="8224" y="13194"/>
                </a:lnTo>
                <a:lnTo>
                  <a:pt x="3794" y="13194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17806" y="10800"/>
                </a:lnTo>
              </a:path>
              <a:path fill="darken" w="21600" h="21600">
                <a:moveTo>
                  <a:pt x="14299" y="8406"/>
                </a:moveTo>
                <a:lnTo>
                  <a:pt x="17806" y="5639"/>
                </a:lnTo>
              </a:path>
              <a:path fill="darken" w="21600" h="21600">
                <a:moveTo>
                  <a:pt x="14299" y="13194"/>
                </a:moveTo>
                <a:lnTo>
                  <a:pt x="178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4674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76320" y="152280"/>
            <a:ext cx="9982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班同学的寄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找到属于自己的梦想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为实现自己的梦想做好准备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同学们，一旦有了梦想，就毫无疑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地去坚持吧，尽管这过程很艰苦，但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坚信，世界上没有做不到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事情，只有想不到的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oys and girls , pleas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elieve yourselves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33520" y="3276720"/>
            <a:ext cx="47242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十年后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的自己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909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45720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Arial"/>
              </a:rPr>
              <a:t>周迅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82280" cy="77724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066680"/>
            <a:ext cx="6781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十八岁之前，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是个不知道自己想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什么的人。那时我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天就在浙江艺术学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里跟着同学唱唱歌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跳跳舞。偶尔有导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来找我拍戏，我就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很兴奋的去拍，无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多小得角色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52280" y="1143000"/>
            <a:ext cx="6629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沉默了许久，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看着老师的眼睛，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然就很坚定的说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我希望十年后的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成为最好的女演员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同时可以发行一张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ff"/>
                </a:solidFill>
                <a:uFillTx/>
                <a:latin typeface="Arial"/>
              </a:rPr>
              <a:t>于自己的音乐专辑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86280" y="152280"/>
            <a:ext cx="10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《十年后的自己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105520" cy="7086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2960" y="609480"/>
            <a:ext cx="1185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梦 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2514600" y="609480"/>
            <a:ext cx="2286000" cy="1067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86200" y="6095880"/>
            <a:ext cx="9907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657600" y="4952880"/>
            <a:ext cx="121932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048120" y="3428640"/>
            <a:ext cx="175248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743200" y="1905120"/>
            <a:ext cx="205740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76920" y="152280"/>
            <a:ext cx="4359240" cy="8254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是一个红透半边天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明星，同时出了一张专辑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1143000"/>
            <a:ext cx="4892400" cy="1557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，除了接拍各种名导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戏以外，一定还要有一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完整的音乐作品，可以拿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很多很多的唱片公司听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2819520"/>
            <a:ext cx="464796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，在演艺事业上你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要不断进行学习和思考，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外在音乐方面一定要有很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作品开始录音了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76920" y="4572000"/>
            <a:ext cx="5121000" cy="825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就必须接受各种培训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训练，包括音乐上和肢体上的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5562720"/>
            <a:ext cx="4800600" cy="1191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的时候就要开始作曲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作词。在演戏方面就要接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一点的角色了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82280" cy="7772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186280" y="152280"/>
            <a:ext cx="101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《十年后的自己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965240"/>
            <a:ext cx="586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同学们，你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有没有想过十年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的自己会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138096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其实你也和我一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如果你能及时的问自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一句：“十年后我会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样？”你会发现，你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生就会在不知不觉中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生变化。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时刻想这十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后的自己，你会朝着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己的梦想越走越近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5105520" cy="70866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42960" y="609480"/>
            <a:ext cx="118584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梦 想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4572000" y="6248160"/>
            <a:ext cx="6858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594360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现在的你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514600" y="1066680"/>
            <a:ext cx="251460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71604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2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114800" y="5409720"/>
            <a:ext cx="9144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5105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3733920" y="4495320"/>
            <a:ext cx="129528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41911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276720" y="3581280"/>
            <a:ext cx="175248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3276720"/>
            <a:ext cx="51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895480" y="2742840"/>
            <a:ext cx="2210040" cy="762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29200" y="243828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2743200" y="1904760"/>
            <a:ext cx="228600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600200"/>
            <a:ext cx="485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0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年的你？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岁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-87120" y="453960"/>
            <a:ext cx="1277640" cy="68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十年后的自己，你准备好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533520" y="609480"/>
            <a:ext cx="69339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我的路，我坚持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2133720" y="2819520"/>
            <a:ext cx="6705360" cy="25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不抛弃，不放弃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8" name=""/>
          <p:cNvSpPr/>
          <p:nvPr/>
        </p:nvSpPr>
        <p:spPr>
          <a:xfrm>
            <a:off x="4038480" y="5410080"/>
            <a:ext cx="1371600" cy="838440"/>
          </a:xfrm>
          <a:custGeom>
            <a:avLst/>
            <a:gdLst>
              <a:gd name="textAreaLeft" fmla="*/ 54360 w 1371600"/>
              <a:gd name="textAreaRight" fmla="*/ 1317240 w 1371600"/>
              <a:gd name="textAreaTop" fmla="*/ 54360 h 838440"/>
              <a:gd name="textAreaBottom" fmla="*/ 784080 h 838440"/>
            </a:gdLst>
            <a:ahLst/>
            <a:rect l="textAreaLeft" t="textAreaTop" r="textAreaRight" b="textAreaBottom"/>
            <a:pathLst>
              <a:path w="35329" h="21600">
                <a:moveTo>
                  <a:pt x="0" y="0"/>
                </a:moveTo>
                <a:lnTo>
                  <a:pt x="35329" y="0"/>
                </a:lnTo>
                <a:lnTo>
                  <a:pt x="35329" y="21600"/>
                </a:lnTo>
                <a:lnTo>
                  <a:pt x="0" y="21600"/>
                </a:lnTo>
                <a:close/>
              </a:path>
              <a:path fill="lightenLess" w="35329" h="21600">
                <a:moveTo>
                  <a:pt x="0" y="0"/>
                </a:moveTo>
                <a:lnTo>
                  <a:pt x="35329" y="0"/>
                </a:lnTo>
                <a:lnTo>
                  <a:pt x="33929" y="1400"/>
                </a:lnTo>
                <a:lnTo>
                  <a:pt x="1400" y="1400"/>
                </a:lnTo>
                <a:close/>
              </a:path>
              <a:path fill="darken" w="35329" h="21600">
                <a:moveTo>
                  <a:pt x="35329" y="0"/>
                </a:moveTo>
                <a:lnTo>
                  <a:pt x="35329" y="21600"/>
                </a:lnTo>
                <a:lnTo>
                  <a:pt x="33929" y="20200"/>
                </a:lnTo>
                <a:lnTo>
                  <a:pt x="33929" y="1400"/>
                </a:lnTo>
                <a:close/>
              </a:path>
              <a:path fill="darkenLess" w="35329" h="21600">
                <a:moveTo>
                  <a:pt x="353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29" y="20200"/>
                </a:lnTo>
                <a:close/>
              </a:path>
              <a:path fill="lighten" w="353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29" h="21600">
                <a:moveTo>
                  <a:pt x="10658" y="7301"/>
                </a:moveTo>
                <a:lnTo>
                  <a:pt x="11572" y="7301"/>
                </a:lnTo>
                <a:lnTo>
                  <a:pt x="11955" y="7667"/>
                </a:lnTo>
                <a:lnTo>
                  <a:pt x="21164" y="7667"/>
                </a:lnTo>
                <a:lnTo>
                  <a:pt x="21721" y="8224"/>
                </a:lnTo>
                <a:lnTo>
                  <a:pt x="21721" y="8772"/>
                </a:lnTo>
                <a:lnTo>
                  <a:pt x="23566" y="8772"/>
                </a:lnTo>
                <a:lnTo>
                  <a:pt x="23931" y="8224"/>
                </a:lnTo>
                <a:lnTo>
                  <a:pt x="24671" y="8224"/>
                </a:lnTo>
                <a:lnTo>
                  <a:pt x="24671" y="13376"/>
                </a:lnTo>
                <a:lnTo>
                  <a:pt x="23931" y="13376"/>
                </a:lnTo>
                <a:lnTo>
                  <a:pt x="23566" y="12828"/>
                </a:lnTo>
                <a:lnTo>
                  <a:pt x="21721" y="12828"/>
                </a:lnTo>
                <a:lnTo>
                  <a:pt x="21721" y="14107"/>
                </a:lnTo>
                <a:lnTo>
                  <a:pt x="12138" y="14107"/>
                </a:lnTo>
                <a:lnTo>
                  <a:pt x="12138" y="9877"/>
                </a:lnTo>
                <a:lnTo>
                  <a:pt x="11955" y="9877"/>
                </a:lnTo>
                <a:lnTo>
                  <a:pt x="11572" y="10243"/>
                </a:lnTo>
                <a:lnTo>
                  <a:pt x="10658" y="10243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168080" y="152280"/>
            <a:ext cx="353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我的路，我坚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      </a:t>
            </a:r>
            <a:r>
              <a:rPr b="1" lang="zh-CN" sz="4400" spc="-1" strike="noStrike">
                <a:solidFill>
                  <a:srgbClr val="333399"/>
                </a:solidFill>
                <a:latin typeface="Arial"/>
                <a:ea typeface="黑体"/>
              </a:rPr>
              <a:t>不抛弃，不放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2240" y="1447920"/>
            <a:ext cx="7712280" cy="50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每个人都有自己的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梦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但总会遇到许多的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挫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与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困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甚至……被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人总会有哭泣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但总会有人在你迷路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给你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指南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只要你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一样可以走出一条属于自己的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223360" y="1523880"/>
            <a:ext cx="429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就算我手中的小提琴已经破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相信只要我坚持我的梦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我一样能奏出属于我的音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每个人完成梦想的过程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总会遇到各种各样的挫折与困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但不要紧，这只是完成梦想的磨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请微笑着，一步一步往前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坚持我的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不抛弃，不放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79240" y="1523880"/>
            <a:ext cx="2863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阳光依然照射住你的前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就算世界只剩下我一个人独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一样能可以疯狂地演奏独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只要你坚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样可以化壳为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飞向属于你自己梦的天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坚持到最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不管成功与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你一样能得到赞同的掌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你依然是最闪亮的星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4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amond(in)" transition="out">
                                      <p:cBhvr additive="repl">
                                        <p:cTn id="17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76920" cy="7315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952880" y="304920"/>
            <a:ext cx="5029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011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快乐女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『老女孩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 ——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刘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5410080"/>
            <a:ext cx="3657600" cy="990720"/>
          </a:xfrm>
          <a:custGeom>
            <a:avLst/>
            <a:gdLst>
              <a:gd name="textAreaLeft" fmla="*/ 164880 w 3657600"/>
              <a:gd name="textAreaRight" fmla="*/ 3492720 w 3657600"/>
              <a:gd name="textAreaTop" fmla="*/ 164880 h 990720"/>
              <a:gd name="textAreaBottom" fmla="*/ 825840 h 990720"/>
            </a:gdLst>
            <a:ahLst/>
            <a:rect l="textAreaLeft" t="textAreaTop" r="textAreaRight" b="textAreaBottom"/>
            <a:pathLst>
              <a:path w="79723" h="21600">
                <a:moveTo>
                  <a:pt x="0" y="0"/>
                </a:moveTo>
                <a:lnTo>
                  <a:pt x="79723" y="0"/>
                </a:lnTo>
                <a:lnTo>
                  <a:pt x="79723" y="21600"/>
                </a:lnTo>
                <a:lnTo>
                  <a:pt x="0" y="21600"/>
                </a:lnTo>
                <a:close/>
              </a:path>
              <a:path fill="lightenLess" w="79723" h="21600">
                <a:moveTo>
                  <a:pt x="0" y="0"/>
                </a:moveTo>
                <a:lnTo>
                  <a:pt x="79723" y="0"/>
                </a:lnTo>
                <a:lnTo>
                  <a:pt x="76123" y="3600"/>
                </a:lnTo>
                <a:lnTo>
                  <a:pt x="3600" y="3600"/>
                </a:lnTo>
                <a:close/>
              </a:path>
              <a:path fill="darken" w="79723" h="21600">
                <a:moveTo>
                  <a:pt x="79723" y="0"/>
                </a:moveTo>
                <a:lnTo>
                  <a:pt x="79723" y="21600"/>
                </a:lnTo>
                <a:lnTo>
                  <a:pt x="76123" y="18000"/>
                </a:lnTo>
                <a:lnTo>
                  <a:pt x="76123" y="3600"/>
                </a:lnTo>
                <a:close/>
              </a:path>
              <a:path fill="darkenLess" w="79723" h="21600">
                <a:moveTo>
                  <a:pt x="79723" y="21600"/>
                </a:moveTo>
                <a:lnTo>
                  <a:pt x="0" y="21600"/>
                </a:lnTo>
                <a:lnTo>
                  <a:pt x="3600" y="18000"/>
                </a:lnTo>
                <a:lnTo>
                  <a:pt x="76123" y="18000"/>
                </a:lnTo>
                <a:close/>
              </a:path>
              <a:path fill="lighten" w="79723" h="21600">
                <a:moveTo>
                  <a:pt x="0" y="21600"/>
                </a:moveTo>
                <a:lnTo>
                  <a:pt x="0" y="0"/>
                </a:lnTo>
                <a:lnTo>
                  <a:pt x="3600" y="3600"/>
                </a:lnTo>
                <a:lnTo>
                  <a:pt x="3600" y="180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  <a:ea typeface="黑体"/>
              </a:rPr>
              <a:t>刘忻的追梦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雨林木风</cp:lastModifiedBy>
  <dcterms:modified xsi:type="dcterms:W3CDTF">2011-10-24T07:02:55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