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15E6-BBFD-4886-982A-13E51BC5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578B-A252-4C7A-A5D0-2DBA2F2B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2C42-3A5C-4505-BC68-65E8517D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1674-4C7C-4EEC-972D-4E0F95A5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7CA-CDDA-4D4D-A162-EEE6A07E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9A9C-4E13-4954-8CE4-B5BA8B3D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F526-A78A-4A04-8408-8E61FE77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D03E-136F-47F2-9465-401743C3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A93C-B2B7-4115-98B5-52AFD191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6505-07C7-401E-8817-A63E287A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F133-78AF-4E71-8E9B-7C92C67B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15C-935A-4809-AEA5-7806C2A6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F95D-195D-4D04-8FB5-6A2BE516D3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儿童绘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44560"/>
            <a:ext cx="9144000" cy="51688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893880"/>
            <a:ext cx="9144000" cy="5070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52480"/>
            <a:ext cx="9144000" cy="5151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839880"/>
            <a:ext cx="9144000" cy="517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65080"/>
            <a:ext cx="9144000" cy="5127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906480"/>
            <a:ext cx="9144000" cy="504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873000"/>
            <a:ext cx="9144000" cy="5110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914400"/>
            <a:ext cx="9144000" cy="5027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927000"/>
            <a:ext cx="9144000" cy="500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11160"/>
            <a:ext cx="9144000" cy="5035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5080"/>
            <a:ext cx="9144000" cy="5127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06480"/>
            <a:ext cx="9144000" cy="504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65080"/>
            <a:ext cx="9144000" cy="5127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88840"/>
            <a:ext cx="9144000" cy="5078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901800"/>
            <a:ext cx="9144000" cy="5052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901800"/>
            <a:ext cx="9144000" cy="5052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0:39:03Z</dcterms:created>
  <dc:creator>Michael Ai</dc:creator>
  <dc:description/>
  <dc:language>en-US</dc:language>
  <cp:lastModifiedBy>linjuanjuan</cp:lastModifiedBy>
  <dcterms:modified xsi:type="dcterms:W3CDTF">2010-09-16T04:34:01Z</dcterms:modified>
  <cp:revision>4</cp:revision>
  <dc:subject/>
  <dc:title>相册</dc:title>
</cp:coreProperties>
</file>