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9.png" ContentType="image/png"/>
  <Override PartName="/ppt/media/image11.jpeg" ContentType="image/jpeg"/>
  <Override PartName="/ppt/media/image9.jpeg" ContentType="image/jpeg"/>
  <Override PartName="/ppt/media/image33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7.jpeg" ContentType="image/jpeg"/>
  <Override PartName="/ppt/media/image28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4CC-50F5-4237-9854-E60DF8E9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525-5DF6-41D8-B306-8E5B7C2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D62-F513-4D97-AE10-285B149A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B0E-F252-4380-9481-3DA25BED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7ED7-003A-45C7-8992-0ABBBB1A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9DAD-490A-4934-A078-7165113B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AE17-4131-4821-ACF7-E43BC0C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9BBD-9E98-4764-984D-88883BCE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183B-658A-41DE-8B0E-841F2A98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0F59-DE4F-4307-8CC8-0B72DE0F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9FEE-A38C-4BC0-8A00-E5DD21C3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FCE-9447-48FB-A531-F5F44933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95F7-714D-4503-9177-CBC69602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235D-7701-4C97-BE8B-1A9CD5FD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83C7-224E-4AA4-9336-425939D1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CB61-33D7-4930-A6CC-F8F324DB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33BE-6549-4D89-AD23-A86B2D6E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29A0-F77B-4ADD-A51D-B5F52A2B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C8E4-9646-4072-B35D-DC73A67F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7CEE-9686-4BEC-B806-53809A17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5D56-47F7-4A92-AC06-76D01981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353B-80EC-4AF3-961F-A99D8D4C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655-DE2A-49B4-A0FA-18ADFB2C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5E737-226B-4E87-A118-F0269531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4C17A-320C-4082-BA4D-8A405FB4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C047-BEFF-4D86-A59F-A405E32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1188-CCA9-44B0-BE92-E626221B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31C2-9A7A-4F4D-BF7C-8163B4A7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5BEF-737E-4DC7-A3C9-92BF7564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70BF-0820-4276-9C0B-9D520D9A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6C2-558A-42BD-B868-86630F8C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DD5-EE3C-4BBB-8A3A-97A5C71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E59-E425-4176-B271-C3D4A254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2B7-119D-48B5-B108-A207BDF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E5C-C395-45EE-AE58-2C7D9A3D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90F-1B57-4012-B014-77D535A9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9F83-DCBE-43A1-AADE-40A6C87922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ECAB-B924-40F7-8EA2-D9FB928E062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8B6F-8937-46DE-B7AB-758024DC22D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继往开来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携手并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共奏孩子成长的和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共撑孩子成长的蓝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5229360"/>
            <a:ext cx="46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五年级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五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家长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74284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cc00cc"/>
                </a:solidFill>
                <a:latin typeface="黑体"/>
                <a:ea typeface="黑体"/>
              </a:rPr>
              <a:t>、学习难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说到学习在座的家长都深有体会。现在的孩子越来越不好辅导了。在一二年级时，有的学生在课堂上不注意听讲，回家以后，家长在家里帮助他们记记生字，背背课文，到考试的时候还是能考到比较满意的成绩。现在学习的内容难度加大了，各门功课的作业量相对多了，但也不至于说要写到晚上十一、二点，主要是学习方法改变了。学生的学习不应是一种被动学习，而应是一种主动学习。但我们的孩子，大多数都属于一种被动学习，甚至处于逃避学习的状态。比如，最明显地就是表现在作业上。这主要表现在低年级时是被动的接收性学习方法为主，老师教我怎么做我就怎么做，很少有自己的主张和想法，那么现在进入五年级以后就不提倡这种做法了，学生应该是自己主动的去学习，是“我要学”，而不是“要我学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、成绩方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虽然说一次考试成绩不能代表孩子的全部学业，但至少反映了孩子这一段时间的学习态度和学习情况。在这里，我要提醒家长朋友正确对待分数：高年级，学生分数的波动还是相当大的，不能一看到孩子考得不好就冲孩子大发雷霆，甚至有家长在冲动之下对孩子大打出手。所以，对待孩子的考试成绩，我们家长不应该只盯着不如意的分数，不能光冲孩子发火和打骂，而应该耐心地、心平气和地与孩子一起分析错误的原因，帮助他弄懂意思，改正错误才是上策。请关注孩子的学习过程。考试分数只是衡量学生学习的一个指标，而不是唯一指标。在某种程度上可以说，学习过程的一些特点比分数更重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因为以上改变，所以会出现一部分同学成绩越来越好，或者有明显进步。而有一部分同学出现惰性，怕辛苦，成绩没有起色，这一点务必引起家长们的足够重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工作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的工作思想是：先教学生做人，后教学生做文。我认为，学生成长发展，做人是根本。学做人比做学问更重要。有人说，学校培养出德智体美劳全面发展的学生是“正品”，才能欠缺是“次品”，身体不行是“废品”，心理不良是“危险品”，而思想不好是“危害品”。 而学生要想做一个正品，必须有一个良好的班级氛围，使班级有一个正确的舆论导向 ，形成班级的凝聚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e83e10"/>
                </a:solidFill>
                <a:latin typeface="Arial"/>
                <a:ea typeface="黑体"/>
              </a:rPr>
              <a:t>我经常教育学生要学会宽容别人，同学之间要和睦相处，要互相礼让，不要斤斤计较，犯错误不要紧，只要诚实，勇敢的承认错误，有错就改就是好同学，并告诉他们，老师不看你的过去，只要现在表现好，在老师眼里就是好同学，目的就是有意激励一些落后的学生，大胆去学习，思考，劳动。并鼓励他们继续努力来完成得更好。我认为，对于充满稚气的学生，不仅需要恰如其分的批评，更需要宽容与信任。并力求做到，使每一个学生都感到自己付出的努力能得到公正评价，使他们轻松愉快地融合在集体之中。良好的班风就是在这种融洽的师生关系中，在持之以恒的坚持中形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057400" y="2666880"/>
            <a:ext cx="563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914400"/>
            <a:ext cx="6705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班级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我们班共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5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人。男生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31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人，女生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人，大部分同学学习比较努力。通过与学生的交流，也让我们师生结下了深厚的友谊。作为班主任和语文老师，我对我的学生充满信心。大部分学生已养成了独立完成和检查作业的好习惯，但也不可否认，孩子毕竟还是孩子，他们的自我约束力还比较差，缺乏持之以恒的毅力，在学习的过程中还会出现这样那样的问题，这就需要我们在座的各位家长和老师密切的配合起来，共同打造您孩子的美好明天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0920" y="1052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" sz="40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下学期被评为常规管理优秀班，唱红歌大合唱比赛二等奖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届校篮球比赛未上榜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活动都增强了学生的集体荣誉感。每次班活动都有谭莎积极准备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0440" y="27432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学习优秀的学生有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陈慧婕，祖智绚，马洋洋，周薇，胡旗志，董俊伟，杨玉莲，黄真艳，杨澳清，文子腾，等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他们学习一直让家长和老师省心，并且他们在严格要求自己的同时还积极帮助有困难的同学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0440" y="27432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书写认真、字型漂亮做作业较好的同学有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澳清，唐锦仪，徐婉婷，廖依婷，姚子倩，谭莎，曹飞燕，董俊伟，林宇轩，张新友，等等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有特长的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廖依婷，胡俊等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学习进步快的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唐锦仪，郑佳成，魏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听讲专心，发言积极的学生有：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胡旗志，柳明俊，刘伟，方涵嘉，周薇，陈松，董俊伟，陈慧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同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积极为班上做好事的有杨奥清，胡旗志，马洋洋，张学坤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等同学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25092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880" y="914400"/>
            <a:ext cx="82296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四、本班存在的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部分学生学习目的不够明确，学习态度不够端正，缺乏主动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2</a:t>
            </a: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部分学生的学习习惯和方法较落后，效率较低。如不抓紧时间，发现问题不向老师提问、书写潦草等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3</a:t>
            </a: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少数学生还没有摆正学习的位置，贪玩、上网玩游戏而浪费时间造成无心学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4</a:t>
            </a:r>
            <a:r>
              <a:rPr b="1" lang="zh-CN" sz="2600" spc="-1" strike="noStrike">
                <a:solidFill>
                  <a:srgbClr val="cc00cc"/>
                </a:solidFill>
                <a:latin typeface="黑体"/>
                <a:ea typeface="黑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学习自觉性较差，做什么事都要老师或家长看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304920"/>
            <a:ext cx="9524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议议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、家长签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汇报班级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、班主任工作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四、家长提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五、会议结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33520" y="3049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99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c50734"/>
                </a:solidFill>
                <a:latin typeface="Arial"/>
                <a:ea typeface="黑体"/>
              </a:rPr>
              <a:t>老师对学生的管理是很严格的，由于班级人数多，在工作中不可能面面俱到。单靠老师的力量是不够的，孩子的每一点进步，除了老师的辛勤培育之外，家长的努力和付出也是至关重要的。所以希望家长也能够积极的配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0734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c50734"/>
                </a:solidFill>
                <a:latin typeface="Arial"/>
                <a:ea typeface="黑体"/>
              </a:rPr>
              <a:t>我希望家长在这段时间还是要以督促为主，多提醒，根据自己孩子自身的特点，有针对性适当练习，毕竟靠老师课堂上的讲授是远远不够的，孩子必须要回家内化，不断重复巩固。往高年级走，难度会越来越大，要求孩子独立自主得学习会越来越明显的体现，如果现在就忽视，那将来肯定会掉队的，希望我们家长要引以为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066680" y="-990720"/>
            <a:ext cx="6193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您是孩子最好的老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 advTm="2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学校的教育形式是群体性的教育形式，德、智、体等教育都是群体性的教育，主要是以传授知识，一个老师要负责几十个孩子的教育任务，所以学校不可能象父母那样有足够的时间和精力，把教育的对象集中在一个学生身上，无论从教育的时间和精力上来讲，还是从教育的对象情感上来说，家庭教育都占有优势，有着特殊的地位和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68360" y="-674640"/>
            <a:ext cx="10909440" cy="753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0880" y="228600"/>
            <a:ext cx="84582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家庭教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很多家长都把教育孩子的希望全部寄托在教师的身上，认为孩子只听老师的不听自己的。但我不完全赞同这个看法，诚然，一个人的成长和知识积累最主要靠的是老师，但他更不能离开家庭，因为家是人们最初的生活环境，孩子最早是从父母那儿学会做人、做事的，父母对孩子的影响是终身的。父母的一言一行、一举一动对子女都有着言传身教、潜移默化的作用。家庭氛围对孩子的身心发展具有重大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-674640"/>
            <a:ext cx="10909440" cy="7532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143000" y="8380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0"/>
            <a:ext cx="84582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100" spc="-1" strike="noStrike">
                <a:solidFill>
                  <a:srgbClr val="ff00ff"/>
                </a:solidFill>
                <a:latin typeface="Arial"/>
                <a:ea typeface="黑体"/>
              </a:rPr>
              <a:t>学校、家庭都是孩子生活学习的场所，家庭教育对孩子的成长起重要作用。所以，教育孩子决不仅仅是学校、老师的事，更是老师、家长、学生三位一体共同的事，只有三位一体共同努力，才能培养出真正优秀的孩子。但说真心话，目前我们的社会教育状况堪忧。有关专家指出：“五加二等于零。”什么意思呢？即在学校花了五天进行正面教育，一个双休日，学生们回到家里，就什么都学会了。电子游戏室、网吧，还有不少负面的东西。作为家长和学校，又不能消除以上这些对教育孩子不利的因素，那么只有学校和家庭携手配合，才能共同创造良好的育人环境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lum bright="70000" contrast="-70000"/>
          </a:blip>
          <a:srcRect l="1853" t="0" r="1853" b="2533"/>
          <a:stretch/>
        </p:blipFill>
        <p:spPr>
          <a:xfrm>
            <a:off x="0" y="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380880"/>
            <a:ext cx="85345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建立良好的家庭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个孩子都有一个家，家庭是孩子成长的第一所学校，父母是孩子的第一任老师。家庭环境的好坏，直接影响孩子能否健康成长。并不是指富裕的家庭环境，而是指家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家长要不断提高自身素质，以身作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第二、要不断创造良好的家庭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三、要有良好的家庭心理环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0"/>
            <a:ext cx="86104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关心孩子的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说到关心孩子的学习许多家长一定会说我是很关心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每天都问孩子有没有做作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学校表现好不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是不是真正的关心呢？我看未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许有的家长会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我自己都不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我怎么教 ，对这些情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长应当怎样辅导孩子呢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热情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二、认真督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三、仔细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四、积极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9480" y="228600"/>
            <a:ext cx="85345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三、帮助孩子提高学习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的父母见到孩子学习松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绩一时不够理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便十分焦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的时常抱怨、斥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对孩子进行惩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样做是十分错误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殊不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习惯的养成是有一个过程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长应当从哪里入手提高孩子的学习成绩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抓作业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二、抓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三、关注孩子的学习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四、帮助孩子制定学习计划、确定学习目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380880"/>
            <a:ext cx="7772400" cy="5586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228600"/>
            <a:ext cx="8686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四、培养孩子良好的学习习惯和行为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英国有句谚语：行动养成习惯，习惯形成性格，性格决定命运、命运决定人生。生动的阐述了习惯的重要性，所以家长要从小注重培养孩子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一、培养孩子良好的学习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二、注重培养孩子的劳动观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第三、培养孩子良好的行为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674640"/>
            <a:ext cx="10909440" cy="7532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0"/>
            <a:ext cx="9067680" cy="61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五、给家长的十条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针对学生的情况，发现问题及时和老师联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沟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支持老师的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多和孩子进行一点必要的沟通和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工作再忙也要抽点时间来了解孩子的学习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多给孩子一点鼓励和信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严格管理时间，科学安排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8380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没有最好，只有更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不以一时成败论英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138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213372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373392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541008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429000" cy="2705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-674640"/>
            <a:ext cx="10909440" cy="7532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057400" y="12952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8088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教育孩子养成勤俭节约的好习惯，不乱花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要用平和的心态去看待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尽量抽时间多陪陪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孩子面前做好表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做好孩子的安全教育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六、对家长的希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7315200" cy="5791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19320" y="1675080"/>
            <a:ext cx="5181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多一份责任，少一份放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多一份鼓励，少一份训斥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多一份关心，少一份随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黑体"/>
              </a:rPr>
              <a:t>多一份理解，少一份责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多一份赏识，少一份自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685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各位家长，孩子是父母心中的太阳，是父母生活的希望，望子成龙，望女成凤是天下父母的共同心愿。现在，你们的子女正处于人生中关键的时期，希望你们把握好这稍纵即逝的关键时刻，做一名称职的优秀父母，请各位家长记住这样的话：“你可以不是天才，但你可以成为天才的父母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最后，我想用美国人的一段话，与各位家长朋友们共勉。孩子在生活中所学到的，与其生活环境有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762120"/>
            <a:ext cx="89154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如果孩子生活在批评之中，他就学会谴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如果孩子生活在讽刺之中，他就学会自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如果孩子生活在恐惧之中，他就学会忧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如果孩子生活在敌意之中，他就学会打架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68580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孩子生活在羞辱之中，他就学会内疚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孩子生活在忍受之中，他就学会忍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孩子生活在表扬之中，他就学会感激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孩子生活在鼓励之中，他就学会自信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孩子生活在认可之中，他就学会自爱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plit dir="in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200" y="1447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了解上学、回家的时间，时刻了解学生的动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09480" y="2590920"/>
            <a:ext cx="7850160" cy="3839040"/>
            <a:chOff x="609480" y="2590920"/>
            <a:chExt cx="7850160" cy="3839040"/>
          </a:xfrm>
        </p:grpSpPr>
        <p:sp>
          <p:nvSpPr>
            <p:cNvPr id="220" name=""/>
            <p:cNvSpPr/>
            <p:nvPr/>
          </p:nvSpPr>
          <p:spPr>
            <a:xfrm>
              <a:off x="609480" y="3021120"/>
              <a:ext cx="7850160" cy="34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早    晨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7:50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前到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下午放学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4: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有特殊情况请先请假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班主任联系电话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1397493354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数学老师聂老师联系电话：</a:t>
              </a:r>
              <a:r>
                <a:rPr b="1" lang="zh-CN" sz="3600" spc="-1" strike="noStrike">
                  <a:solidFill>
                    <a:srgbClr val="cc0066"/>
                  </a:solidFill>
                  <a:latin typeface="隶书"/>
                  <a:ea typeface="隶书"/>
                </a:rPr>
                <a:t>1357483114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36760" y="2590920"/>
              <a:ext cx="54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作息时间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 txBox="1"/>
          <p:nvPr/>
        </p:nvSpPr>
        <p:spPr>
          <a:xfrm>
            <a:off x="1447920" y="22860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希望家长配合的事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380880" y="1905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三、家长代表发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-88920"/>
          <a:ext cx="9144000" cy="6946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88920"/>
                    <a:ext cx="9144000" cy="69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04920" y="6858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尊敬的各位家长，为了孩子我们相聚在一起，但学校教育并不是万能的，它需要家庭教育的积极配合。你们的孩子需要我们教育，我们的学生也需要您的呵护，只有学校、家庭的共同教育才能培育出我们未来社会的新人才，为了孩子，让我们真诚携手，共轨同行吧！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最后，祝各位家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庭幸福、工作顺利！谢谢大家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971800" y="380880"/>
            <a:ext cx="2808360" cy="4334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结束寄语</a:t>
            </a:r>
            <a:endParaRPr b="1" lang="en-US" sz="6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8305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828800"/>
            <a:ext cx="937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衷心感谢各位家长的光临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祝各位家长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工作顺利！家庭幸福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-74520" y="1798560"/>
            <a:ext cx="8761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60948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严格要求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让每一位学生都健康成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5400000">
            <a:off x="-1254600" y="2397600"/>
            <a:ext cx="479556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20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家校携手  共同进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班家长会上的讲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学校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尊敬的各位家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午好！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首先，对各位家长能在百忙之中抽出时间来参加这次家长会表示感谢！孩子的教育一直都是我们非常关心的问题，把孩子培养成才也是我们家长和学校的共同责任，共同的愿望。召开这次家长会的目的是为了家长更好的了解学校及班级工作，同时加强老师与家长之间的联系，相互交流一下学生在校及在家的情况，以便我们能够及时调整工作，提高教育教学质量，同时促使家长也能够积极参与到学生的教育管理中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" y="304920"/>
            <a:ext cx="8915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、五年级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年级是小学阶段中一个关键性的年级。在这个阶段，学生的身心和学习内容上都会发生巨大的变化，如果忽视了这个阶段的学习，那对学生今后的学习将会产生很严重的影响。为什么会出现这种情形呢？我认为五年级主要出现了以下几个方面的变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cc00cc"/>
                </a:solidFill>
                <a:latin typeface="黑体"/>
                <a:ea typeface="黑体"/>
              </a:rPr>
              <a:t>、学习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从五年级开始，孩子们的学习内容变了。低年级主要是一些非常基础的知识，只要孩子肯下功夫，一般不成问题。到了高年级，学习的知识由简单到复杂，从低年级的形象思维向高年级的抽象思维过渡，这对学生提出了更高的要求，基础必须扎扎实实地掌握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、心理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孩子长大了，也学会了思考，更学会了察言观色，喜欢的人，他愿意和你交流，不喜欢的人就会跟你对着干。而且有些事他会放在心里，不喜欢和老师、家长交流，如果你关心他了，重视他了，也许他高兴了就会把自己的心里话和你说说、不高兴就埋在心里，让你摸不透他的想法，这样就无法指导他的学习和生活。这阶段的孩子自尊心逐渐增强，所以各位家长在教育孩子的时候要把握好尺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、思想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思想从单纯走向复杂，也就是说想的事情多了，开始有自己的意向，自己有自己的打算和想法，也就是有些家长在说的：“我们孩子很犟，不听我们家长的话了”。但是他们的辨别力弱，不能把社会上的是是非非搞清楚，也不完全理解到底哪些事可以做，哪些事不能做，这也就需要家长经常给孩子一些指示和告诫，经常提醒他什么该做，什么不该做，以给他明确的方向，但在这方面需要的是大人的“口风”必须一致。不要爸爸妈妈这么说，爷爷奶奶却是那么说，这样孩子就更辨别不清楚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3-18T01:28:15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