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FC74-8EAD-47D9-B1D4-9194302D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A4DE-714F-4C5C-BACE-411FBD88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E8E-44EA-41B4-B129-3363528C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ACB-9057-44AF-9351-63EBB4DD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0D1-3E95-48C0-9093-F3682C62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A7D-E289-441E-9F6A-70A9A7D8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96A-BC84-497A-82CF-E3DAD175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FB0-9677-4798-83A8-954FEFF5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BA25-9854-4F2F-BDE2-F9094D6F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6F5E-40BF-469C-AE3E-4E8BE206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CC6-DB55-413C-950A-20452250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821-D3B4-4C49-9225-28733237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508C-BDFA-4AA1-AE08-41EB5BAFF4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3048120"/>
            <a:ext cx="876312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国的基本经济制度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898560"/>
            <a:ext cx="899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黑体"/>
                <a:ea typeface="黑体"/>
              </a:rPr>
              <a:t>第四课   生产与经济制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rot="5400000">
            <a:off x="761760" y="2057400"/>
            <a:ext cx="4190760" cy="2057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076" y="3278"/>
                </a:lnTo>
                <a:lnTo>
                  <a:pt x="12747" y="3278"/>
                </a:lnTo>
                <a:lnTo>
                  <a:pt x="12747" y="8853"/>
                </a:lnTo>
                <a:lnTo>
                  <a:pt x="18322" y="8853"/>
                </a:lnTo>
                <a:lnTo>
                  <a:pt x="18322" y="8524"/>
                </a:lnTo>
                <a:lnTo>
                  <a:pt x="21600" y="10800"/>
                </a:lnTo>
                <a:lnTo>
                  <a:pt x="18322" y="13076"/>
                </a:lnTo>
                <a:lnTo>
                  <a:pt x="18322" y="12747"/>
                </a:lnTo>
                <a:lnTo>
                  <a:pt x="3278" y="12747"/>
                </a:lnTo>
                <a:lnTo>
                  <a:pt x="3278" y="13076"/>
                </a:lnTo>
                <a:lnTo>
                  <a:pt x="0" y="10800"/>
                </a:lnTo>
                <a:lnTo>
                  <a:pt x="3278" y="8524"/>
                </a:lnTo>
                <a:lnTo>
                  <a:pt x="3278" y="8853"/>
                </a:lnTo>
                <a:lnTo>
                  <a:pt x="8853" y="8853"/>
                </a:lnTo>
                <a:lnTo>
                  <a:pt x="8853" y="3278"/>
                </a:lnTo>
                <a:lnTo>
                  <a:pt x="8524" y="32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5120" y="1981080"/>
            <a:ext cx="609480" cy="71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国有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4572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276552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914400"/>
            <a:ext cx="3200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国有经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由社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全体劳动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共同占有生产资料的公有制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以国家所有的形式存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609480"/>
            <a:ext cx="3429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有经济是国民经济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支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国民经济中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对发挥社会主义制度的优越性，增强我国经济、国防实力和民族凝聚力，提高我国国际地位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关键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257800"/>
            <a:ext cx="990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1052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1844640"/>
            <a:ext cx="28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我国国民经济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支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它掌握着国家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经济命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国民经济中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主导作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rot="5400000">
            <a:off x="761760" y="2057400"/>
            <a:ext cx="4190760" cy="2057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076" y="3278"/>
                </a:lnTo>
                <a:lnTo>
                  <a:pt x="12747" y="3278"/>
                </a:lnTo>
                <a:lnTo>
                  <a:pt x="12747" y="8853"/>
                </a:lnTo>
                <a:lnTo>
                  <a:pt x="18322" y="8853"/>
                </a:lnTo>
                <a:lnTo>
                  <a:pt x="18322" y="8524"/>
                </a:lnTo>
                <a:lnTo>
                  <a:pt x="21600" y="10800"/>
                </a:lnTo>
                <a:lnTo>
                  <a:pt x="18322" y="13076"/>
                </a:lnTo>
                <a:lnTo>
                  <a:pt x="18322" y="12747"/>
                </a:lnTo>
                <a:lnTo>
                  <a:pt x="3278" y="12747"/>
                </a:lnTo>
                <a:lnTo>
                  <a:pt x="3278" y="13076"/>
                </a:lnTo>
                <a:lnTo>
                  <a:pt x="0" y="10800"/>
                </a:lnTo>
                <a:lnTo>
                  <a:pt x="3278" y="8524"/>
                </a:lnTo>
                <a:lnTo>
                  <a:pt x="3278" y="8853"/>
                </a:lnTo>
                <a:lnTo>
                  <a:pt x="8853" y="8853"/>
                </a:lnTo>
                <a:lnTo>
                  <a:pt x="8853" y="3278"/>
                </a:lnTo>
                <a:lnTo>
                  <a:pt x="8524" y="32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1981080"/>
            <a:ext cx="609480" cy="71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国有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572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6552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914400"/>
            <a:ext cx="3200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国有经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由社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全体劳动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共同占有生产资料的公有制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以国家所有的形式存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609480"/>
            <a:ext cx="3429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有经济是国民经济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支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国民经济中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对发挥社会主义制度的优越性，增强我国经济、国防实力和民族凝聚力，提高我国国际地位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关键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5257800"/>
            <a:ext cx="990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35640" y="1052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08720" y="1844640"/>
            <a:ext cx="28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发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社会主义制度的优越性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增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的经济实力、国防实力和民族凝聚力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提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国的国际地位，具有关键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23880" y="228600"/>
            <a:ext cx="2089440" cy="6426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主导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57600" y="457200"/>
            <a:ext cx="1676520" cy="304920"/>
          </a:xfrm>
          <a:prstGeom prst="rightArrow">
            <a:avLst>
              <a:gd name="adj1" fmla="val 50000"/>
              <a:gd name="adj2" fmla="val 1374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63960" y="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体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9880" y="228600"/>
            <a:ext cx="1003680" cy="6426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控制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125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控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民经济发展方向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控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济运行的总体态势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控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要稀缺资源的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50080" y="3860640"/>
            <a:ext cx="61074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资源：石油、天然气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高科技新兴产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金融业  ；                  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基础设施产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宜于国家垄断的一些产业：航空、电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通讯、冶金、化工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基础设施产业：铁路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421000"/>
            <a:ext cx="79200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对关系国民经济命脉的重要行业和关键领域占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支配地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189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有个街道办的食品厂，原来不大景气．后来实行以劳动者的劳动联合和资本联合为主的股份合作制，企业职工既是劳动者又是投资者，企业的重大决策都要经过员工股东大会的批准，职工的收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540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50920" y="3716280"/>
            <a:ext cx="8893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既与自己的劳动贡献挂钩，又与出资的数量挂钩．职工的生产积极性提高了，工厂办得红红火火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1640" y="5084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家食品厂属于什么性质的企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5877000"/>
            <a:ext cx="74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列举自己身边的集体所有制企业，说说它们的特点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16000" y="7650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该企业属于集体所有制的企业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16000" y="1628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集体所有制企业规模一般不是很大，但是形式灵活，在广泛吸收社会资金，缓解就业压力，增加公共积累和国家税收方面发挥重要作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403280" y="3860640"/>
            <a:ext cx="61930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5400000">
            <a:off x="761760" y="2057400"/>
            <a:ext cx="4190760" cy="2057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076" y="3278"/>
                </a:lnTo>
                <a:lnTo>
                  <a:pt x="12747" y="3278"/>
                </a:lnTo>
                <a:lnTo>
                  <a:pt x="12747" y="8853"/>
                </a:lnTo>
                <a:lnTo>
                  <a:pt x="18322" y="8853"/>
                </a:lnTo>
                <a:lnTo>
                  <a:pt x="18322" y="8524"/>
                </a:lnTo>
                <a:lnTo>
                  <a:pt x="21600" y="10800"/>
                </a:lnTo>
                <a:lnTo>
                  <a:pt x="18322" y="13076"/>
                </a:lnTo>
                <a:lnTo>
                  <a:pt x="18322" y="12747"/>
                </a:lnTo>
                <a:lnTo>
                  <a:pt x="3278" y="12747"/>
                </a:lnTo>
                <a:lnTo>
                  <a:pt x="3278" y="13076"/>
                </a:lnTo>
                <a:lnTo>
                  <a:pt x="0" y="10800"/>
                </a:lnTo>
                <a:lnTo>
                  <a:pt x="3278" y="8524"/>
                </a:lnTo>
                <a:lnTo>
                  <a:pt x="3278" y="8853"/>
                </a:lnTo>
                <a:lnTo>
                  <a:pt x="8853" y="8853"/>
                </a:lnTo>
                <a:lnTo>
                  <a:pt x="8853" y="3278"/>
                </a:lnTo>
                <a:lnTo>
                  <a:pt x="8524" y="32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572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52578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6200" y="2819520"/>
            <a:ext cx="8380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1981080"/>
            <a:ext cx="6094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集体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05520" y="457200"/>
            <a:ext cx="3733560" cy="5486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1143000"/>
            <a:ext cx="266724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含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由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部分劳动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共同占有生产资料的一种公有制经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它是我国农村的主要经济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457200"/>
            <a:ext cx="3733560" cy="5486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523880"/>
            <a:ext cx="27432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合作社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集体工业企业和商业企业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股分合作制企业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"/>
            <a:ext cx="3733560" cy="5486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914400"/>
            <a:ext cx="281952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有利于实现共同富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可以广泛吸收社会分散资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缓解就业压力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增加公共积累和国家税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为社会主义新农村建设的典范，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江阴市华西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走的是一条发展集体经济、实现共同富裕的道路。目前，江苏华西集团公司下辖冶金、建材、纺织、旅游等多家分公司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实现销售收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7.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亿元，村人均交税超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元，人均收入超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元。经济实力增强了，环境建设的投入就增多了，人民生活水平就提高了。现在华西村民拥有各自的别墅豪宅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辆轿车和优美舒适的人居环境，真是“车看华西处处美丽，船看华西工业腾飞，山看华西一身正气，步行华西健心壮体。”近年，他们又秉持共同富裕的宗旨，将周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村纳入华西，使大华西村总人口达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万，面积达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方公里。展望新的征程，华西人正在朝着具有自身特色的社会主义新农村迈进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1280" y="33336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我国有家生产手机的公司，从不同渠道广泛筹集资金，成为国家、集体、私人多方持股的新型企业，仅用１０年时间，就成为我国手机产销量最大的公司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19280" y="24922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家公司是什么性质的企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928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家公司中的国家股和集体股属于什么性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2565360"/>
            <a:ext cx="287280" cy="2890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4149720"/>
            <a:ext cx="287280" cy="2890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21300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这家公司是混合所有制企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5013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这家公司的国家股和集体股属于公有制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rot="5400000">
            <a:off x="761760" y="2057400"/>
            <a:ext cx="4190760" cy="2057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076" y="3278"/>
                </a:lnTo>
                <a:lnTo>
                  <a:pt x="12747" y="3278"/>
                </a:lnTo>
                <a:lnTo>
                  <a:pt x="12747" y="8853"/>
                </a:lnTo>
                <a:lnTo>
                  <a:pt x="18322" y="8853"/>
                </a:lnTo>
                <a:lnTo>
                  <a:pt x="18322" y="8524"/>
                </a:lnTo>
                <a:lnTo>
                  <a:pt x="21600" y="10800"/>
                </a:lnTo>
                <a:lnTo>
                  <a:pt x="18322" y="13076"/>
                </a:lnTo>
                <a:lnTo>
                  <a:pt x="18322" y="12747"/>
                </a:lnTo>
                <a:lnTo>
                  <a:pt x="3278" y="12747"/>
                </a:lnTo>
                <a:lnTo>
                  <a:pt x="3278" y="13076"/>
                </a:lnTo>
                <a:lnTo>
                  <a:pt x="0" y="10800"/>
                </a:lnTo>
                <a:lnTo>
                  <a:pt x="3278" y="8524"/>
                </a:lnTo>
                <a:lnTo>
                  <a:pt x="3278" y="8853"/>
                </a:lnTo>
                <a:lnTo>
                  <a:pt x="8853" y="8853"/>
                </a:lnTo>
                <a:lnTo>
                  <a:pt x="8853" y="3278"/>
                </a:lnTo>
                <a:lnTo>
                  <a:pt x="8524" y="32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4572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52578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74880" y="1700280"/>
            <a:ext cx="609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混合所有制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51280" y="404640"/>
            <a:ext cx="4248000" cy="5486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119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2060640"/>
            <a:ext cx="237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同所有制经济按照一定原则实行联合生产或经营的经济形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rot="5400000">
            <a:off x="761760" y="2057400"/>
            <a:ext cx="4190760" cy="2057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076" y="3278"/>
                </a:lnTo>
                <a:lnTo>
                  <a:pt x="12747" y="3278"/>
                </a:lnTo>
                <a:lnTo>
                  <a:pt x="12747" y="8853"/>
                </a:lnTo>
                <a:lnTo>
                  <a:pt x="18322" y="8853"/>
                </a:lnTo>
                <a:lnTo>
                  <a:pt x="18322" y="8524"/>
                </a:lnTo>
                <a:lnTo>
                  <a:pt x="21600" y="10800"/>
                </a:lnTo>
                <a:lnTo>
                  <a:pt x="18322" y="13076"/>
                </a:lnTo>
                <a:lnTo>
                  <a:pt x="18322" y="12747"/>
                </a:lnTo>
                <a:lnTo>
                  <a:pt x="3278" y="12747"/>
                </a:lnTo>
                <a:lnTo>
                  <a:pt x="3278" y="13076"/>
                </a:lnTo>
                <a:lnTo>
                  <a:pt x="0" y="10800"/>
                </a:lnTo>
                <a:lnTo>
                  <a:pt x="3278" y="8524"/>
                </a:lnTo>
                <a:lnTo>
                  <a:pt x="3278" y="8853"/>
                </a:lnTo>
                <a:lnTo>
                  <a:pt x="8853" y="8853"/>
                </a:lnTo>
                <a:lnTo>
                  <a:pt x="8853" y="3278"/>
                </a:lnTo>
                <a:lnTo>
                  <a:pt x="8524" y="32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4572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52578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74880" y="1700280"/>
            <a:ext cx="60948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混合所有制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404640"/>
            <a:ext cx="4248000" cy="5486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126828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16360" y="19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混合所有制中的国有成分、集体成分，都是公有制经济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重要组成部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4076640"/>
            <a:ext cx="84978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中可以反映我国主要有国有经济（铁路工人）、集体经济（农村集体土地种植）、个体经济（妻子开的小店）、私营经济（私人经营的酒店）、中外合资经济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C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资公司）等多种所有制经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材料：李强一家五口人，他在朋友开的酒店当厨师，母亲在老家耕田，妻子开了个小店，儿子是铁路工人，女儿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C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资厂当技术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从中大致可以反映我国有主要有哪些经济成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2945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177624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2637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何增强公有制的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3500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必须深化国有企业公司股份制改革，健全现代企业制度，优化国有经济布局和结构，增强国有经济活力、控制力、影响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494172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必须推进集体企业改革，发展多种形式的集体经济、合作经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2945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177624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6920" y="2637000"/>
            <a:ext cx="70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公有制主体地位的体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335772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，公有资产在社会总资产中占优势。这是就全国而言，有的地方、有的产业可以有所差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47973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，国有经济控制国民经济命脉，对经济发展起主导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 rot="20920200">
            <a:off x="1219320" y="837720"/>
            <a:ext cx="579096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4952880"/>
            <a:ext cx="1447920" cy="14860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rot="20749200">
            <a:off x="3197880" y="4067280"/>
            <a:ext cx="3350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现阶段我国除公有制经济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有哪些非公有制成分？ 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90720" y="12945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177624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1080" y="2349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三）多种所有制经济共同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4292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非公有制经济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00720" y="3645000"/>
            <a:ext cx="71280" cy="1800000"/>
          </a:xfrm>
          <a:custGeom>
            <a:avLst/>
            <a:gdLst>
              <a:gd name="textAreaLeft" fmla="*/ 45720 w 71280"/>
              <a:gd name="textAreaRight" fmla="*/ 71640 w 71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3500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体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429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私营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16360" y="5084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资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26920" y="90792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对夫妇集资开了个小饭馆，夫妻两既当老板又当服务员．他们把农民卖不出去的小南瓜加工成食品．后来生意越来越火，他俩开起了连锁店，取名“小南瓜”，雇工经营，自己当老板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50920" y="407664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述材料中的小饭馆是什么所有制的经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494172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南瓜”连锁店是什么所有制的经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95640" y="5805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两种所有制经济有什么不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4149720"/>
            <a:ext cx="482400" cy="358920"/>
          </a:xfrm>
          <a:custGeom>
            <a:avLst/>
            <a:gdLst>
              <a:gd name="textAreaLeft" fmla="*/ 198720 w 482400"/>
              <a:gd name="textAreaRight" fmla="*/ 283680 w 482400"/>
              <a:gd name="textAreaTop" fmla="*/ 147960 h 358920"/>
              <a:gd name="textAreaBottom" fmla="*/ 2109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19280" y="5014800"/>
            <a:ext cx="482400" cy="358920"/>
          </a:xfrm>
          <a:custGeom>
            <a:avLst/>
            <a:gdLst>
              <a:gd name="textAreaLeft" fmla="*/ 198720 w 482400"/>
              <a:gd name="textAreaRight" fmla="*/ 283680 w 482400"/>
              <a:gd name="textAreaTop" fmla="*/ 147960 h 358920"/>
              <a:gd name="textAreaBottom" fmla="*/ 2109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2360" y="5878440"/>
            <a:ext cx="482400" cy="358920"/>
          </a:xfrm>
          <a:custGeom>
            <a:avLst/>
            <a:gdLst>
              <a:gd name="textAreaLeft" fmla="*/ 198720 w 482400"/>
              <a:gd name="textAreaRight" fmla="*/ 283680 w 482400"/>
              <a:gd name="textAreaTop" fmla="*/ 147960 h 358920"/>
              <a:gd name="textAreaBottom" fmla="*/ 2109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 rot="20920200">
            <a:off x="1219320" y="837720"/>
            <a:ext cx="579096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议一议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09480" y="4952880"/>
            <a:ext cx="1447920" cy="14860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20749200">
            <a:off x="3482280" y="4220640"/>
            <a:ext cx="410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个体经济给我们带来了哪些方便？ </a:t>
            </a: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250920" y="115920"/>
          <a:ext cx="8497800" cy="6337440"/>
        </p:xfrm>
        <a:graphic>
          <a:graphicData uri="http://schemas.openxmlformats.org/drawingml/2006/table">
            <a:tbl>
              <a:tblPr/>
              <a:tblGrid>
                <a:gridCol w="1944720"/>
                <a:gridCol w="2160360"/>
                <a:gridCol w="2303640"/>
                <a:gridCol w="208908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比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体经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私营经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外资经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含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联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2195640" y="86184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由劳动者个人或家庭占有生产资料，从事个体劳动和经营。劳动成果直接归劳动者所有和支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8701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以生产资料私有和雇佣劳动为基础，以取得利润为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59640" y="765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指外国投资者和港澳台投资者根据我国法律、法规在我国大陆设立的独资企业以及中外合资企业、中外合作经营企业中外商投资部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2637000"/>
            <a:ext cx="20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以手工劳动为主，规模小、投资少、设备简单、经营灵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00720" y="2565360"/>
            <a:ext cx="21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雇佣劳动为基础，规模较大，设备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较先进</a:t>
            </a: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，劳动生产率比较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11280" y="371628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有利于利用分散的资源、发展商品生产、促进商品流通、扩大社会服务、方便人民生活、增加就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6000" y="364500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集中和利用一部分私人资金，为发展生产和满足人们需要服务；②可以吸收劳动者就业，增加劳动者的收入和国家的税收；③有利于提高国家的综合经济实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659640" y="371628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有利于引进境外的资金和先进技术，学习境外的先进管理经验；②有利于扩大就业，扩大出口，增加财政收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40000" y="5445000"/>
            <a:ext cx="6264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①</a:t>
            </a:r>
            <a:r>
              <a:rPr b="1" lang="zh-CN" sz="1800" spc="-1" strike="noStrike">
                <a:solidFill>
                  <a:srgbClr val="000099"/>
                </a:solidFill>
                <a:latin typeface="Comic Sans MS"/>
              </a:rPr>
              <a:t>都是我国现阶段的非公有制经济，是社会主义市场经济的重要组成部分；②在扩大就业、方便人民生活、提高国家经济实力等方面气重要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86560" y="2781360"/>
            <a:ext cx="20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规模大、技术水平高、管理方法先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2945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177624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1080" y="2349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三）多种所有制经济共同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3068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必须坚持以公有制为主体，多种所有制经济共同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6920" y="3716280"/>
            <a:ext cx="61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为什么要坚持我国的基本经济制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6920" y="522936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一，适合社会主义初级阶段生产力发展不平衡、多层次的状况，符合社会主义的本质要求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第二，实践证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它有利于促进生产力的发展，有利于增强综合国力，有利于提高人民生活水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4292640"/>
            <a:ext cx="770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根本原因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由生产关系一定要适应生产力发展的客观规律决定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具体原因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由我国的社会主义性质和社会主义初级阶段的国情决定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12945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2280" y="177624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81080" y="234936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三）多种所有制经济共同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30686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必须坚持以公有制为主体，多种所有制经济共同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6920" y="3716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如何坚持我国的基本经济制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0000" y="436572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必须坚持和完善这一基本经济制度，毫不动摇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巩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发展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公有制经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毫不动摇地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鼓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支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引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非公有制经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展，形成各种所有制经济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等竞争、相互促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新格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3359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5000" y="18414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4038480" y="2285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有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38480" y="274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体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45784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三）多种所有制经济共同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5430240"/>
            <a:ext cx="65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国现阶段的非公有制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21400" y="4996800"/>
            <a:ext cx="30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体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921640" y="5430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私营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31996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混合所有制经济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3629880"/>
            <a:ext cx="59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如何增强公有制的主体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413316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公有制的主体地位的体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4920" y="2622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公有制经济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632560" y="5862600"/>
            <a:ext cx="297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资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438280"/>
            <a:ext cx="75960" cy="106704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517032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467480" y="293832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26931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有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67480" y="36712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体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629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坚持以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-502560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我国的基本经济制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公有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主体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多种所有制经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共同发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350028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792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一）我国的基本经济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的基本经济制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12945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公有制为主体，多种所有制经济共同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177624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二）公有制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3995640" y="43650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有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4941000"/>
            <a:ext cx="25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体经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5515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混合所有制经济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47973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公有制经济的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458136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80360" y="5373720"/>
            <a:ext cx="75960" cy="106668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67480" y="5228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有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51640" y="602064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体成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492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公有制的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产资料公有制是社会主义的根本经济特征，是社会主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济制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rot="5400000">
            <a:off x="761760" y="2057400"/>
            <a:ext cx="4190760" cy="20574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3076" y="3278"/>
                </a:lnTo>
                <a:lnTo>
                  <a:pt x="12747" y="3278"/>
                </a:lnTo>
                <a:lnTo>
                  <a:pt x="12747" y="8853"/>
                </a:lnTo>
                <a:lnTo>
                  <a:pt x="18322" y="8853"/>
                </a:lnTo>
                <a:lnTo>
                  <a:pt x="18322" y="8524"/>
                </a:lnTo>
                <a:lnTo>
                  <a:pt x="21600" y="10800"/>
                </a:lnTo>
                <a:lnTo>
                  <a:pt x="18322" y="13076"/>
                </a:lnTo>
                <a:lnTo>
                  <a:pt x="18322" y="12747"/>
                </a:lnTo>
                <a:lnTo>
                  <a:pt x="3278" y="12747"/>
                </a:lnTo>
                <a:lnTo>
                  <a:pt x="3278" y="13076"/>
                </a:lnTo>
                <a:lnTo>
                  <a:pt x="0" y="10800"/>
                </a:lnTo>
                <a:lnTo>
                  <a:pt x="3278" y="8524"/>
                </a:lnTo>
                <a:lnTo>
                  <a:pt x="3278" y="8853"/>
                </a:lnTo>
                <a:lnTo>
                  <a:pt x="8853" y="8853"/>
                </a:lnTo>
                <a:lnTo>
                  <a:pt x="8853" y="3278"/>
                </a:lnTo>
                <a:lnTo>
                  <a:pt x="8524" y="327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1981080"/>
            <a:ext cx="609480" cy="71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国有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5720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2765520"/>
            <a:ext cx="9144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914400"/>
            <a:ext cx="3200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国有经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由社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全体劳动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共同占有生产资料的公有制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以国家所有的形式存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609480"/>
            <a:ext cx="350496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609480"/>
            <a:ext cx="3429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国有经济是国民经济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支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国民经济中起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对发挥社会主义制度的优越性，增强我国经济、国防实力和民族凝聚力，提高我国国际地位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关键作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20640"/>
            <a:ext cx="3505320" cy="51055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5257800"/>
            <a:ext cx="990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1844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社会全体劳动者共同占有生产资料（以国家所有的形式存在）的公有制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981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含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7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75" name=""/>
              <p:cNvSpPr/>
              <p:nvPr/>
            </p:nvSpPr>
            <p:spPr>
              <a:xfrm>
                <a:off x="0" y="0"/>
                <a:ext cx="9144000" cy="6858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76520" y="0"/>
                <a:ext cx="6095880" cy="6858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" name=""/>
            <p:cNvSpPr/>
            <p:nvPr/>
          </p:nvSpPr>
          <p:spPr>
            <a:xfrm>
              <a:off x="7211160" y="0"/>
              <a:ext cx="13993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神舟“五号”载人飞船发射成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0" y="33336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有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52280" y="380880"/>
              <a:ext cx="342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</a:rPr>
                <a:t>长江三峡大坝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4356000" y="62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有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4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有经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企业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度世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强中的排名情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7632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排名       公司名称                        主要业务       营业收入（亿美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7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石化                            炼油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316.362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4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石油天然气                 炼油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105.202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9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国家电网                            电力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071.8515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54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鸿海精密                            电子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05.9517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70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工商银行                     银行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68.3218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80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移动通信                     电信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59.1319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92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人寿                            保险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37.112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15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银行                            银行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07.502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0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建设银行                     银行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85.3223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7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南方电网                     电力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79.662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75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电信                            电信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47.9127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77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农业银行                     银行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44.7529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90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和记黄埔                            多元化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6.6129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99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化集团                            贸易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1.093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07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宝钢集团                            金属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6.633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37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油公司                            炼油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17.9634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42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中国铁路工程总公司          工程建筑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05.203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3:11:02Z</dcterms:created>
  <dc:creator>OEM</dc:creator>
  <dc:description/>
  <dc:language>en-US</dc:language>
  <cp:lastModifiedBy>user</cp:lastModifiedBy>
  <dcterms:modified xsi:type="dcterms:W3CDTF">2008-10-05T12:01:24Z</dcterms:modified>
  <cp:revision>6</cp:revision>
  <dc:subject/>
  <dc:title>幻灯片 1</dc:title>
</cp:coreProperties>
</file>