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%E8%BD%A6%E5%96%87%E5%8F%AD.WAV" ContentType="audio/x-wav"/>
  <Override PartName="/ppt/media/image11.png" ContentType="image/png"/>
  <Override PartName="/ppt/media/image27.wmf" ContentType="image/x-wmf"/>
  <Override PartName="/ppt/media/image24.wmf" ContentType="image/x-wmf"/>
  <Override PartName="/ppt/media/image23.wmf" ContentType="image/x-wmf"/>
  <Override PartName="/ppt/media/whoosh.wav" ContentType="audio/x-wav"/>
  <Override PartName="/ppt/media/image28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gif" ContentType="image/gif"/>
  <Override PartName="/ppt/media/image41.jpeg" ContentType="image/jpeg"/>
  <Override PartName="/ppt/media/image17.gif" ContentType="image/gif"/>
  <Override PartName="/ppt/media/image15.gif" ContentType="image/gif"/>
  <Override PartName="/ppt/media/image5.jpeg" ContentType="image/jpeg"/>
  <Override PartName="/ppt/media/image14.gif" ContentType="image/gif"/>
  <Override PartName="/ppt/media/image31.jpeg" ContentType="image/jpeg"/>
  <Override PartName="/ppt/media/image16.png" ContentType="image/png"/>
  <Override PartName="/ppt/media/image49.jpeg" ContentType="image/jpeg"/>
  <Override PartName="/ppt/media/wind.wav" ContentType="audio/x-wav"/>
  <Override PartName="/ppt/media/image2.wmf" ContentType="image/x-wmf"/>
  <Override PartName="/ppt/media/image36.gif" ContentType="image/gif"/>
  <Override PartName="/ppt/media/image26.wmf" ContentType="image/x-wmf"/>
  <Override PartName="/ppt/media/image46.jpeg" ContentType="image/jpeg"/>
  <Override PartName="/ppt/media/image3.wmf" ContentType="image/x-wmf"/>
  <Override PartName="/ppt/media/image47.jpeg" ContentType="image/jpeg"/>
  <Override PartName="/ppt/media/image33.png" ContentType="image/png"/>
  <Override PartName="/ppt/media/image30.gif" ContentType="image/gif"/>
  <Override PartName="/ppt/media/image40.jpeg" ContentType="image/jpeg"/>
  <Override PartName="/ppt/media/image44.jpeg" ContentType="image/jpeg"/>
  <Override PartName="/ppt/media/image9.png" ContentType="image/png"/>
  <Override PartName="/ppt/media/image43.jpeg" ContentType="image/jpeg"/>
  <Override PartName="/ppt/media/image12.jpeg" ContentType="image/jpeg"/>
  <Override PartName="/ppt/media/image13.png" ContentType="image/png"/>
  <Override PartName="/ppt/media/image45.jpeg" ContentType="image/jpeg"/>
  <Override PartName="/ppt/media/laser.wav" ContentType="audio/x-wav"/>
  <Override PartName="/ppt/media/image39.gif" ContentType="image/gif"/>
  <Override PartName="/ppt/media/image29.wmf" ContentType="image/x-wmf"/>
  <Override PartName="/ppt/media/image48.jpeg" ContentType="image/jpeg"/>
  <Override PartName="/ppt/media/image50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8.png" ContentType="image/png"/>
  <Override PartName="/ppt/media/image3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8.wmf" ContentType="image/x-wmf"/>
  <Override PartName="/ppt/media/image32.jpeg" ContentType="image/jpeg"/>
  <Override PartName="/ppt/media/image20.wmf" ContentType="image/x-wmf"/>
  <Override PartName="/ppt/media/image4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934-AE6E-42AA-BD52-5B9BBED9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E26-D4A0-42B9-A8D7-4D448E74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320-3B4F-4B6D-9857-617210FF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660-0B6B-42F0-8D88-D9918C74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AD1-C805-46FE-A7E7-9F24C81E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5BB-F063-4F93-85EB-D568DAC5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8F9-253F-4998-8A3E-E7769933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8FC-FF3D-42A5-BE89-0280997A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263-E875-4EF5-A163-1740124D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C56-0E35-4B30-BAE9-3532857D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44B-77C3-4D12-B639-01CCD5FC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6E5-046C-44E8-91A4-017B975E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B079-BA8C-43DF-A966-D16B51300D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image" Target="../media/image27.wmf"/><Relationship Id="rId8" Type="http://schemas.openxmlformats.org/officeDocument/2006/relationships/image" Target="../media/image27.wmf"/><Relationship Id="rId9" Type="http://schemas.openxmlformats.org/officeDocument/2006/relationships/audio" Target="../media/&#36710;&#21895;&#21485;.WAV"/><Relationship Id="rId10" Type="http://schemas.openxmlformats.org/officeDocument/2006/relationships/audio" Target="../media/laser.wav"/><Relationship Id="rId11" Type="http://schemas.openxmlformats.org/officeDocument/2006/relationships/audio" Target="../media/whoosh.wav"/><Relationship Id="rId12" Type="http://schemas.openxmlformats.org/officeDocument/2006/relationships/audio" Target="../media/laser.wav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27.xml"/><Relationship Id="rId4" Type="http://schemas.openxmlformats.org/officeDocument/2006/relationships/slide" Target="slide22.xml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image" Target="../media/image29.wmf"/><Relationship Id="rId8" Type="http://schemas.openxmlformats.org/officeDocument/2006/relationships/slide" Target="slide33.xml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image" Target="../media/image36.gif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gif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" Target="slide14.xml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gi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image" Target="../media/image17.gif"/><Relationship Id="rId7" Type="http://schemas.openxmlformats.org/officeDocument/2006/relationships/image" Target="../media/image18.wmf"/><Relationship Id="rId8" Type="http://schemas.openxmlformats.org/officeDocument/2006/relationships/image" Target="../media/image19.gi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788000" y="1455840"/>
            <a:ext cx="4356000" cy="540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4880" y="260280"/>
            <a:ext cx="42804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彩云"/>
              </a:rPr>
              <a:t>喂—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彩云"/>
              </a:rPr>
              <a:t>          </a:t>
            </a: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彩云"/>
              </a:rPr>
              <a:t>出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50864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星新一（日本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373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72720" cy="7050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343400" y="4038480"/>
            <a:ext cx="1752480" cy="986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343400" y="5719680"/>
            <a:ext cx="1752480" cy="986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419720" y="4805280"/>
            <a:ext cx="1752480" cy="986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248520" y="5486400"/>
            <a:ext cx="1752480" cy="985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7924680" y="4952880"/>
            <a:ext cx="1752840" cy="986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6095880" y="4495680"/>
            <a:ext cx="1752840" cy="986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19320" y="2743200"/>
            <a:ext cx="1981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小石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514600"/>
            <a:ext cx="2514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子能反应堆的废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590920"/>
            <a:ext cx="2057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机密文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3505320"/>
            <a:ext cx="1371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尸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990720"/>
            <a:ext cx="30481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废物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`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污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4038480"/>
            <a:ext cx="2133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日记本、照片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600200"/>
            <a:ext cx="198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假钞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1371600"/>
            <a:ext cx="2286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犯罪证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填洞公司开业后，人们往洞中倒了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 rot="5400000">
            <a:off x="6744240" y="1975680"/>
            <a:ext cx="2376360" cy="1393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填洞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927000" y="2060640"/>
            <a:ext cx="549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421000"/>
            <a:ext cx="549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920520" y="1341360"/>
            <a:ext cx="1468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新奇公司，尽收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72720" cy="705024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4239360" y="5217840"/>
            <a:ext cx="2037240" cy="1299240"/>
            <a:chOff x="4239360" y="5217840"/>
            <a:chExt cx="2037240" cy="1299240"/>
          </a:xfrm>
        </p:grpSpPr>
        <p:grpSp>
          <p:nvGrpSpPr>
            <p:cNvPr id="144" name=""/>
            <p:cNvGrpSpPr/>
            <p:nvPr/>
          </p:nvGrpSpPr>
          <p:grpSpPr>
            <a:xfrm>
              <a:off x="4239360" y="5217840"/>
              <a:ext cx="2037240" cy="1299240"/>
              <a:chOff x="4239360" y="5217840"/>
              <a:chExt cx="2037240" cy="1299240"/>
            </a:xfrm>
          </p:grpSpPr>
          <p:sp>
            <p:nvSpPr>
              <p:cNvPr id="145" name=""/>
              <p:cNvSpPr/>
              <p:nvPr/>
            </p:nvSpPr>
            <p:spPr>
              <a:xfrm rot="15330600">
                <a:off x="4597200" y="5117400"/>
                <a:ext cx="914040" cy="1447560"/>
              </a:xfrm>
              <a:prstGeom prst="flowChartMulti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330600">
                <a:off x="5004000" y="5169240"/>
                <a:ext cx="914040" cy="1447920"/>
              </a:xfrm>
              <a:prstGeom prst="flowChartMulti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876560" y="57913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犯罪证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733920" y="16765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喂！出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5791320"/>
            <a:ext cx="1371600" cy="990360"/>
            <a:chOff x="7238880" y="5791320"/>
            <a:chExt cx="1371600" cy="990360"/>
          </a:xfrm>
        </p:grpSpPr>
        <p:sp>
          <p:nvSpPr>
            <p:cNvPr id="150" name=""/>
            <p:cNvSpPr/>
            <p:nvPr/>
          </p:nvSpPr>
          <p:spPr>
            <a:xfrm>
              <a:off x="7238880" y="5791320"/>
              <a:ext cx="1295280" cy="990360"/>
            </a:xfrm>
            <a:custGeom>
              <a:avLst/>
              <a:gdLst>
                <a:gd name="textAreaLeft" fmla="*/ 249480 w 1295280"/>
                <a:gd name="textAreaRight" fmla="*/ 1045800 w 1295280"/>
                <a:gd name="textAreaTop" fmla="*/ 249480 h 990360"/>
                <a:gd name="textAreaBottom" fmla="*/ 740880 h 990360"/>
              </a:gdLst>
              <a:ahLst/>
              <a:rect l="textAreaLeft" t="textAreaTop" r="textAreaRight" b="textAreaBottom"/>
              <a:pathLst>
                <a:path w="28248" h="21600">
                  <a:moveTo>
                    <a:pt x="7700" y="0"/>
                  </a:moveTo>
                  <a:arcTo wR="7700" hR="7700" stAng="0" swAng="5400000"/>
                  <a:lnTo>
                    <a:pt x="0" y="13900"/>
                  </a:lnTo>
                  <a:arcTo wR="7700" hR="7700" stAng="16200000" swAng="5400000"/>
                  <a:lnTo>
                    <a:pt x="20548" y="21600"/>
                  </a:lnTo>
                  <a:arcTo wR="7700" hR="7700" stAng="10800000" swAng="5400000"/>
                  <a:lnTo>
                    <a:pt x="28248" y="7700"/>
                  </a:lnTo>
                  <a:arcTo wR="7700" hR="7700" stAng="5400000" swAng="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6019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石头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286000" y="1600200"/>
            <a:ext cx="1143000" cy="3048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12" stAng="10800000" swAng="5400000"/>
                <a:lnTo>
                  <a:pt x="16039" y="4748"/>
                </a:lnTo>
                <a:lnTo>
                  <a:pt x="16039" y="0"/>
                </a:lnTo>
                <a:lnTo>
                  <a:pt x="21600" y="6079"/>
                </a:lnTo>
                <a:lnTo>
                  <a:pt x="16039" y="12158"/>
                </a:lnTo>
                <a:lnTo>
                  <a:pt x="16039" y="7410"/>
                </a:lnTo>
                <a:lnTo>
                  <a:pt x="12427" y="7410"/>
                </a:lnTo>
                <a:arcTo wR="9765" hR="4750" stAng="16200000" swAng="-5400000"/>
                <a:lnTo>
                  <a:pt x="2662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664240" y="4849560"/>
            <a:ext cx="2241360" cy="1760760"/>
            <a:chOff x="5664240" y="4849560"/>
            <a:chExt cx="2241360" cy="1760760"/>
          </a:xfrm>
        </p:grpSpPr>
        <p:sp>
          <p:nvSpPr>
            <p:cNvPr id="154" name=""/>
            <p:cNvSpPr/>
            <p:nvPr/>
          </p:nvSpPr>
          <p:spPr>
            <a:xfrm rot="20209800">
              <a:off x="5794200" y="5196240"/>
              <a:ext cx="1981440" cy="1067040"/>
            </a:xfrm>
            <a:prstGeom prst="irregularSeal2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209800">
              <a:off x="5963040" y="5358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</a:rPr>
                <a:t>原子能反应堆的废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623360" y="4648320"/>
            <a:ext cx="1063440" cy="1295280"/>
            <a:chOff x="7623360" y="4648320"/>
            <a:chExt cx="1063440" cy="1295280"/>
          </a:xfrm>
        </p:grpSpPr>
        <p:sp>
          <p:nvSpPr>
            <p:cNvPr id="157" name=""/>
            <p:cNvSpPr/>
            <p:nvPr/>
          </p:nvSpPr>
          <p:spPr>
            <a:xfrm>
              <a:off x="7696080" y="4648320"/>
              <a:ext cx="99072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3360" y="4724640"/>
              <a:ext cx="79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机密文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064840" y="3581280"/>
            <a:ext cx="2331000" cy="1745280"/>
            <a:chOff x="5064840" y="3581280"/>
            <a:chExt cx="2331000" cy="1745280"/>
          </a:xfrm>
        </p:grpSpPr>
        <p:grpSp>
          <p:nvGrpSpPr>
            <p:cNvPr id="160" name=""/>
            <p:cNvGrpSpPr/>
            <p:nvPr/>
          </p:nvGrpSpPr>
          <p:grpSpPr>
            <a:xfrm>
              <a:off x="6240240" y="3657600"/>
              <a:ext cx="1079280" cy="1600200"/>
              <a:chOff x="6240240" y="3657600"/>
              <a:chExt cx="1079280" cy="1600200"/>
            </a:xfrm>
          </p:grpSpPr>
          <p:sp>
            <p:nvSpPr>
              <p:cNvPr id="161" name=""/>
              <p:cNvSpPr/>
              <p:nvPr/>
            </p:nvSpPr>
            <p:spPr>
              <a:xfrm>
                <a:off x="6240240" y="3657600"/>
                <a:ext cx="990360" cy="1600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0240" y="3733920"/>
                <a:ext cx="107928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" name=""/>
            <p:cNvGrpSpPr/>
            <p:nvPr/>
          </p:nvGrpSpPr>
          <p:grpSpPr>
            <a:xfrm>
              <a:off x="5064840" y="3790440"/>
              <a:ext cx="1219320" cy="1536120"/>
              <a:chOff x="5064840" y="3790440"/>
              <a:chExt cx="1219320" cy="1536120"/>
            </a:xfrm>
          </p:grpSpPr>
          <p:sp>
            <p:nvSpPr>
              <p:cNvPr id="164" name=""/>
              <p:cNvSpPr/>
              <p:nvPr/>
            </p:nvSpPr>
            <p:spPr>
              <a:xfrm rot="5250000">
                <a:off x="5062680" y="4080240"/>
                <a:ext cx="1460520" cy="919080"/>
              </a:xfrm>
              <a:prstGeom prst="flowChartProcess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1259200">
                <a:off x="5122440" y="4059000"/>
                <a:ext cx="10335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日记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253200" y="358128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照    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36000" y="1773360"/>
            <a:ext cx="2057400" cy="2880720"/>
            <a:chOff x="7236000" y="1773360"/>
            <a:chExt cx="2057400" cy="2880720"/>
          </a:xfrm>
        </p:grpSpPr>
        <p:grpSp>
          <p:nvGrpSpPr>
            <p:cNvPr id="168" name=""/>
            <p:cNvGrpSpPr/>
            <p:nvPr/>
          </p:nvGrpSpPr>
          <p:grpSpPr>
            <a:xfrm>
              <a:off x="7236000" y="1773360"/>
              <a:ext cx="2057400" cy="2880720"/>
              <a:chOff x="7236000" y="1773360"/>
              <a:chExt cx="2057400" cy="2880720"/>
            </a:xfrm>
          </p:grpSpPr>
          <p:pic>
            <p:nvPicPr>
              <p:cNvPr id="1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718760" y="2992320"/>
                <a:ext cx="1574640" cy="1661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0" name=""/>
              <p:cNvGrpSpPr/>
              <p:nvPr/>
            </p:nvGrpSpPr>
            <p:grpSpPr>
              <a:xfrm>
                <a:off x="7236000" y="1773360"/>
                <a:ext cx="1879560" cy="2285280"/>
                <a:chOff x="7236000" y="1773360"/>
                <a:chExt cx="1879560" cy="2285280"/>
              </a:xfrm>
            </p:grpSpPr>
            <p:pic>
              <p:nvPicPr>
                <p:cNvPr id="1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6000" y="1773360"/>
                  <a:ext cx="1574640" cy="166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388280" y="1925280"/>
                  <a:ext cx="1574640" cy="166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540560" y="2077560"/>
                  <a:ext cx="1575000" cy="166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88280" y="2396880"/>
                  <a:ext cx="1574640" cy="1661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5" name=""/>
            <p:cNvSpPr/>
            <p:nvPr/>
          </p:nvSpPr>
          <p:spPr>
            <a:xfrm>
              <a:off x="7696800" y="2458800"/>
              <a:ext cx="790200" cy="9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假钞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438280" y="1019160"/>
            <a:ext cx="5334120" cy="5305320"/>
          </a:xfrm>
          <a:custGeom>
            <a:avLst/>
            <a:gdLst/>
            <a:ahLst/>
            <a:rect l="l" t="t" r="r" b="b"/>
            <a:pathLst>
              <a:path w="3168" h="3054">
                <a:moveTo>
                  <a:pt x="0" y="2190"/>
                </a:moveTo>
                <a:cubicBezTo>
                  <a:pt x="297" y="1849"/>
                  <a:pt x="1255" y="0"/>
                  <a:pt x="1783" y="144"/>
                </a:cubicBezTo>
                <a:cubicBezTo>
                  <a:pt x="2311" y="288"/>
                  <a:pt x="2880" y="2448"/>
                  <a:pt x="3168" y="30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51160" y="380880"/>
            <a:ext cx="4583160" cy="5135760"/>
          </a:xfrm>
          <a:custGeom>
            <a:avLst/>
            <a:gdLst/>
            <a:ahLst/>
            <a:rect l="l" t="t" r="r" b="b"/>
            <a:pathLst>
              <a:path w="2887" h="3235">
                <a:moveTo>
                  <a:pt x="0" y="2929"/>
                </a:moveTo>
                <a:cubicBezTo>
                  <a:pt x="236" y="2451"/>
                  <a:pt x="937" y="0"/>
                  <a:pt x="1418" y="51"/>
                </a:cubicBezTo>
                <a:cubicBezTo>
                  <a:pt x="1899" y="102"/>
                  <a:pt x="2582" y="2572"/>
                  <a:pt x="2887" y="32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51000"/>
            <a:ext cx="5181480" cy="4906800"/>
          </a:xfrm>
          <a:custGeom>
            <a:avLst/>
            <a:gdLst/>
            <a:ahLst/>
            <a:rect l="l" t="t" r="r" b="b"/>
            <a:pathLst>
              <a:path w="2887" h="3235">
                <a:moveTo>
                  <a:pt x="0" y="2929"/>
                </a:moveTo>
                <a:cubicBezTo>
                  <a:pt x="236" y="2451"/>
                  <a:pt x="937" y="0"/>
                  <a:pt x="1418" y="51"/>
                </a:cubicBezTo>
                <a:cubicBezTo>
                  <a:pt x="1899" y="102"/>
                  <a:pt x="2582" y="2572"/>
                  <a:pt x="2887" y="32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52680" y="304920"/>
            <a:ext cx="4176720" cy="4949640"/>
          </a:xfrm>
          <a:custGeom>
            <a:avLst/>
            <a:gdLst/>
            <a:ahLst/>
            <a:rect l="l" t="t" r="r" b="b"/>
            <a:pathLst>
              <a:path w="2631" h="3745">
                <a:moveTo>
                  <a:pt x="0" y="3745"/>
                </a:moveTo>
                <a:cubicBezTo>
                  <a:pt x="162" y="3139"/>
                  <a:pt x="532" y="200"/>
                  <a:pt x="970" y="100"/>
                </a:cubicBezTo>
                <a:cubicBezTo>
                  <a:pt x="1408" y="0"/>
                  <a:pt x="2286" y="2509"/>
                  <a:pt x="2631" y="314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0"/>
            <a:ext cx="5319720" cy="4876920"/>
          </a:xfrm>
          <a:custGeom>
            <a:avLst/>
            <a:gdLst/>
            <a:ahLst/>
            <a:rect l="l" t="t" r="r" b="b"/>
            <a:pathLst>
              <a:path w="2631" h="3745">
                <a:moveTo>
                  <a:pt x="0" y="3745"/>
                </a:moveTo>
                <a:cubicBezTo>
                  <a:pt x="162" y="3139"/>
                  <a:pt x="532" y="200"/>
                  <a:pt x="970" y="100"/>
                </a:cubicBezTo>
                <a:cubicBezTo>
                  <a:pt x="1408" y="0"/>
                  <a:pt x="2286" y="2509"/>
                  <a:pt x="2631" y="314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1117440"/>
            <a:ext cx="3273480" cy="4600800"/>
          </a:xfrm>
          <a:custGeom>
            <a:avLst/>
            <a:gdLst/>
            <a:ahLst/>
            <a:rect l="l" t="t" r="r" b="b"/>
            <a:pathLst>
              <a:path w="2062" h="2898">
                <a:moveTo>
                  <a:pt x="0" y="2656"/>
                </a:moveTo>
                <a:cubicBezTo>
                  <a:pt x="124" y="2221"/>
                  <a:pt x="399" y="0"/>
                  <a:pt x="743" y="40"/>
                </a:cubicBezTo>
                <a:cubicBezTo>
                  <a:pt x="1087" y="80"/>
                  <a:pt x="1787" y="2303"/>
                  <a:pt x="2062" y="28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152280"/>
            <a:ext cx="469260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洞真的无底吗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692280"/>
            <a:ext cx="6624720" cy="764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接下来会出现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 rot="5400000">
            <a:off x="-433440" y="1376280"/>
            <a:ext cx="252072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洞变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8%BD%A6%E5%96%87%E5%8F%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思考以下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是一个怎样的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完成句式：这是一个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的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投机商人买下这个洞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个深不可测的“无底洞”给整个城市带来了怎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6019920"/>
            <a:ext cx="685800" cy="8380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520" y="23619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篇小说写得比较通俗，但内涵深刻。关于它的主题或启示，谈谈你的看法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819520" y="533520"/>
            <a:ext cx="2819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隶书简体"/>
              </a:rPr>
              <a:t>研读探究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方正隶书简体"/>
              <a:ea typeface="方正隶书简体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010280" y="4842000"/>
            <a:ext cx="22100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关它的主题，有下边几种意见，你同意哪一种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说理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  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提出了人类与自身生存环境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(2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揭示了人性的多面性和复杂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(3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阐释了人对大自然的破坏总要遭到大                自然的惩罚这一道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124080" y="5335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隶书简体"/>
              </a:rPr>
              <a:t>研读探究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方正隶书简体"/>
              <a:ea typeface="方正隶书简体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7010280" y="4842000"/>
            <a:ext cx="2210040" cy="201600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62485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科幻小说以环境污染为题材，题目是“喂——出来”，原是一个年轻人的喊叫，但是回声终究传出来了，原先扔进去的东西，也开始出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感知，作者的意思是说，不顾环境污染，漠视环境污染，苟且偷安，终究要自食其果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坏大自然，必遭到大自然的报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595152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经典综艺体简"/>
              </a:rPr>
              <a:t>主题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经典综艺体简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经典综艺体简"/>
              </a:rPr>
              <a:t>：保护环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388320" y="1219320"/>
            <a:ext cx="81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文中的黑洞实则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213372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无所不包的大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人类生存的土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5812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结尾那块小石头的出现意味着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572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意味着原先人们扔进洞里的所有难以处理的垃圾将接踵而至，大自然对人类的严厉惩罚即将开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848720" y="609480"/>
            <a:ext cx="861840" cy="844560"/>
            <a:chOff x="7848720" y="609480"/>
            <a:chExt cx="861840" cy="844560"/>
          </a:xfrm>
        </p:grpSpPr>
        <p:sp>
          <p:nvSpPr>
            <p:cNvPr id="202" name=""/>
            <p:cNvSpPr/>
            <p:nvPr/>
          </p:nvSpPr>
          <p:spPr>
            <a:xfrm>
              <a:off x="8107560" y="761760"/>
              <a:ext cx="347760" cy="542880"/>
            </a:xfrm>
            <a:custGeom>
              <a:avLst/>
              <a:gdLst/>
              <a:ahLst/>
              <a:rect l="l" t="t" r="r" b="b"/>
              <a:pathLst>
                <a:path w="439" h="683">
                  <a:moveTo>
                    <a:pt x="150" y="185"/>
                  </a:moveTo>
                  <a:lnTo>
                    <a:pt x="194" y="138"/>
                  </a:lnTo>
                  <a:lnTo>
                    <a:pt x="272" y="167"/>
                  </a:lnTo>
                  <a:lnTo>
                    <a:pt x="265" y="244"/>
                  </a:lnTo>
                  <a:lnTo>
                    <a:pt x="171" y="304"/>
                  </a:lnTo>
                  <a:lnTo>
                    <a:pt x="153" y="474"/>
                  </a:lnTo>
                  <a:lnTo>
                    <a:pt x="171" y="527"/>
                  </a:lnTo>
                  <a:lnTo>
                    <a:pt x="140" y="585"/>
                  </a:lnTo>
                  <a:lnTo>
                    <a:pt x="147" y="645"/>
                  </a:lnTo>
                  <a:lnTo>
                    <a:pt x="213" y="683"/>
                  </a:lnTo>
                  <a:lnTo>
                    <a:pt x="300" y="656"/>
                  </a:lnTo>
                  <a:lnTo>
                    <a:pt x="328" y="585"/>
                  </a:lnTo>
                  <a:lnTo>
                    <a:pt x="293" y="518"/>
                  </a:lnTo>
                  <a:lnTo>
                    <a:pt x="331" y="480"/>
                  </a:lnTo>
                  <a:lnTo>
                    <a:pt x="331" y="387"/>
                  </a:lnTo>
                  <a:lnTo>
                    <a:pt x="429" y="308"/>
                  </a:lnTo>
                  <a:lnTo>
                    <a:pt x="439" y="188"/>
                  </a:lnTo>
                  <a:lnTo>
                    <a:pt x="376" y="59"/>
                  </a:lnTo>
                  <a:lnTo>
                    <a:pt x="251" y="0"/>
                  </a:lnTo>
                  <a:lnTo>
                    <a:pt x="112" y="38"/>
                  </a:lnTo>
                  <a:lnTo>
                    <a:pt x="31" y="115"/>
                  </a:lnTo>
                  <a:lnTo>
                    <a:pt x="0" y="234"/>
                  </a:lnTo>
                  <a:lnTo>
                    <a:pt x="4" y="304"/>
                  </a:lnTo>
                  <a:lnTo>
                    <a:pt x="147" y="296"/>
                  </a:lnTo>
                  <a:lnTo>
                    <a:pt x="15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26640" y="784080"/>
              <a:ext cx="309600" cy="37800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0" y="241"/>
                  </a:moveTo>
                  <a:lnTo>
                    <a:pt x="57" y="230"/>
                  </a:lnTo>
                  <a:lnTo>
                    <a:pt x="89" y="241"/>
                  </a:lnTo>
                  <a:lnTo>
                    <a:pt x="87" y="175"/>
                  </a:lnTo>
                  <a:lnTo>
                    <a:pt x="111" y="101"/>
                  </a:lnTo>
                  <a:lnTo>
                    <a:pt x="206" y="74"/>
                  </a:lnTo>
                  <a:lnTo>
                    <a:pt x="251" y="105"/>
                  </a:lnTo>
                  <a:lnTo>
                    <a:pt x="299" y="153"/>
                  </a:lnTo>
                  <a:lnTo>
                    <a:pt x="285" y="237"/>
                  </a:lnTo>
                  <a:lnTo>
                    <a:pt x="195" y="276"/>
                  </a:lnTo>
                  <a:lnTo>
                    <a:pt x="171" y="335"/>
                  </a:lnTo>
                  <a:lnTo>
                    <a:pt x="178" y="395"/>
                  </a:lnTo>
                  <a:lnTo>
                    <a:pt x="166" y="477"/>
                  </a:lnTo>
                  <a:lnTo>
                    <a:pt x="256" y="477"/>
                  </a:lnTo>
                  <a:lnTo>
                    <a:pt x="268" y="416"/>
                  </a:lnTo>
                  <a:lnTo>
                    <a:pt x="261" y="345"/>
                  </a:lnTo>
                  <a:lnTo>
                    <a:pt x="316" y="307"/>
                  </a:lnTo>
                  <a:lnTo>
                    <a:pt x="358" y="287"/>
                  </a:lnTo>
                  <a:lnTo>
                    <a:pt x="390" y="196"/>
                  </a:lnTo>
                  <a:lnTo>
                    <a:pt x="361" y="98"/>
                  </a:lnTo>
                  <a:lnTo>
                    <a:pt x="264" y="0"/>
                  </a:lnTo>
                  <a:lnTo>
                    <a:pt x="146" y="8"/>
                  </a:lnTo>
                  <a:lnTo>
                    <a:pt x="51" y="67"/>
                  </a:lnTo>
                  <a:lnTo>
                    <a:pt x="10" y="14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39320" y="1190520"/>
              <a:ext cx="100080" cy="8568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45" y="0"/>
                  </a:moveTo>
                  <a:lnTo>
                    <a:pt x="9" y="20"/>
                  </a:lnTo>
                  <a:lnTo>
                    <a:pt x="0" y="73"/>
                  </a:lnTo>
                  <a:lnTo>
                    <a:pt x="28" y="109"/>
                  </a:lnTo>
                  <a:lnTo>
                    <a:pt x="98" y="109"/>
                  </a:lnTo>
                  <a:lnTo>
                    <a:pt x="126" y="66"/>
                  </a:lnTo>
                  <a:lnTo>
                    <a:pt x="102" y="1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48720" y="609480"/>
              <a:ext cx="861840" cy="844560"/>
            </a:xfrm>
            <a:custGeom>
              <a:avLst/>
              <a:gdLst/>
              <a:ahLst/>
              <a:rect l="l" t="t" r="r" b="b"/>
              <a:pathLst>
                <a:path w="1086" h="1064">
                  <a:moveTo>
                    <a:pt x="677" y="0"/>
                  </a:moveTo>
                  <a:lnTo>
                    <a:pt x="461" y="3"/>
                  </a:lnTo>
                  <a:lnTo>
                    <a:pt x="297" y="56"/>
                  </a:lnTo>
                  <a:lnTo>
                    <a:pt x="129" y="165"/>
                  </a:lnTo>
                  <a:lnTo>
                    <a:pt x="52" y="321"/>
                  </a:lnTo>
                  <a:lnTo>
                    <a:pt x="17" y="481"/>
                  </a:lnTo>
                  <a:lnTo>
                    <a:pt x="0" y="643"/>
                  </a:lnTo>
                  <a:lnTo>
                    <a:pt x="77" y="760"/>
                  </a:lnTo>
                  <a:lnTo>
                    <a:pt x="172" y="917"/>
                  </a:lnTo>
                  <a:lnTo>
                    <a:pt x="392" y="1042"/>
                  </a:lnTo>
                  <a:lnTo>
                    <a:pt x="603" y="1064"/>
                  </a:lnTo>
                  <a:lnTo>
                    <a:pt x="751" y="1021"/>
                  </a:lnTo>
                  <a:lnTo>
                    <a:pt x="842" y="970"/>
                  </a:lnTo>
                  <a:lnTo>
                    <a:pt x="938" y="934"/>
                  </a:lnTo>
                  <a:lnTo>
                    <a:pt x="974" y="848"/>
                  </a:lnTo>
                  <a:lnTo>
                    <a:pt x="1058" y="710"/>
                  </a:lnTo>
                  <a:lnTo>
                    <a:pt x="1086" y="548"/>
                  </a:lnTo>
                  <a:lnTo>
                    <a:pt x="1062" y="363"/>
                  </a:lnTo>
                  <a:lnTo>
                    <a:pt x="995" y="178"/>
                  </a:lnTo>
                  <a:lnTo>
                    <a:pt x="904" y="108"/>
                  </a:lnTo>
                  <a:lnTo>
                    <a:pt x="792" y="17"/>
                  </a:lnTo>
                  <a:lnTo>
                    <a:pt x="733" y="165"/>
                  </a:lnTo>
                  <a:lnTo>
                    <a:pt x="875" y="268"/>
                  </a:lnTo>
                  <a:lnTo>
                    <a:pt x="930" y="356"/>
                  </a:lnTo>
                  <a:lnTo>
                    <a:pt x="964" y="477"/>
                  </a:lnTo>
                  <a:lnTo>
                    <a:pt x="925" y="672"/>
                  </a:lnTo>
                  <a:lnTo>
                    <a:pt x="842" y="815"/>
                  </a:lnTo>
                  <a:lnTo>
                    <a:pt x="757" y="861"/>
                  </a:lnTo>
                  <a:lnTo>
                    <a:pt x="663" y="906"/>
                  </a:lnTo>
                  <a:lnTo>
                    <a:pt x="511" y="924"/>
                  </a:lnTo>
                  <a:lnTo>
                    <a:pt x="342" y="889"/>
                  </a:lnTo>
                  <a:lnTo>
                    <a:pt x="210" y="743"/>
                  </a:lnTo>
                  <a:lnTo>
                    <a:pt x="150" y="645"/>
                  </a:lnTo>
                  <a:lnTo>
                    <a:pt x="146" y="492"/>
                  </a:lnTo>
                  <a:lnTo>
                    <a:pt x="179" y="363"/>
                  </a:lnTo>
                  <a:lnTo>
                    <a:pt x="265" y="254"/>
                  </a:lnTo>
                  <a:lnTo>
                    <a:pt x="314" y="185"/>
                  </a:lnTo>
                  <a:lnTo>
                    <a:pt x="430" y="157"/>
                  </a:lnTo>
                  <a:lnTo>
                    <a:pt x="555" y="112"/>
                  </a:lnTo>
                  <a:lnTo>
                    <a:pt x="733" y="165"/>
                  </a:lnTo>
                  <a:lnTo>
                    <a:pt x="792" y="17"/>
                  </a:lnTo>
                  <a:lnTo>
                    <a:pt x="6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74280" y="623880"/>
              <a:ext cx="815760" cy="809640"/>
            </a:xfrm>
            <a:custGeom>
              <a:avLst/>
              <a:gdLst/>
              <a:ahLst/>
              <a:rect l="l" t="t" r="r" b="b"/>
              <a:pathLst>
                <a:path w="1028" h="1022">
                  <a:moveTo>
                    <a:pt x="556" y="74"/>
                  </a:moveTo>
                  <a:lnTo>
                    <a:pt x="437" y="74"/>
                  </a:lnTo>
                  <a:lnTo>
                    <a:pt x="263" y="143"/>
                  </a:lnTo>
                  <a:lnTo>
                    <a:pt x="155" y="263"/>
                  </a:lnTo>
                  <a:lnTo>
                    <a:pt x="102" y="416"/>
                  </a:lnTo>
                  <a:lnTo>
                    <a:pt x="70" y="541"/>
                  </a:lnTo>
                  <a:lnTo>
                    <a:pt x="141" y="736"/>
                  </a:lnTo>
                  <a:lnTo>
                    <a:pt x="224" y="805"/>
                  </a:lnTo>
                  <a:lnTo>
                    <a:pt x="280" y="879"/>
                  </a:lnTo>
                  <a:lnTo>
                    <a:pt x="409" y="921"/>
                  </a:lnTo>
                  <a:lnTo>
                    <a:pt x="532" y="949"/>
                  </a:lnTo>
                  <a:lnTo>
                    <a:pt x="768" y="869"/>
                  </a:lnTo>
                  <a:lnTo>
                    <a:pt x="907" y="729"/>
                  </a:lnTo>
                  <a:lnTo>
                    <a:pt x="960" y="538"/>
                  </a:lnTo>
                  <a:lnTo>
                    <a:pt x="960" y="378"/>
                  </a:lnTo>
                  <a:lnTo>
                    <a:pt x="894" y="270"/>
                  </a:lnTo>
                  <a:lnTo>
                    <a:pt x="800" y="151"/>
                  </a:lnTo>
                  <a:lnTo>
                    <a:pt x="556" y="74"/>
                  </a:lnTo>
                  <a:lnTo>
                    <a:pt x="544" y="0"/>
                  </a:lnTo>
                  <a:lnTo>
                    <a:pt x="655" y="18"/>
                  </a:lnTo>
                  <a:lnTo>
                    <a:pt x="804" y="60"/>
                  </a:lnTo>
                  <a:lnTo>
                    <a:pt x="880" y="149"/>
                  </a:lnTo>
                  <a:lnTo>
                    <a:pt x="978" y="248"/>
                  </a:lnTo>
                  <a:lnTo>
                    <a:pt x="1028" y="464"/>
                  </a:lnTo>
                  <a:lnTo>
                    <a:pt x="1019" y="621"/>
                  </a:lnTo>
                  <a:lnTo>
                    <a:pt x="954" y="760"/>
                  </a:lnTo>
                  <a:lnTo>
                    <a:pt x="859" y="882"/>
                  </a:lnTo>
                  <a:lnTo>
                    <a:pt x="653" y="991"/>
                  </a:lnTo>
                  <a:lnTo>
                    <a:pt x="489" y="1022"/>
                  </a:lnTo>
                  <a:lnTo>
                    <a:pt x="311" y="979"/>
                  </a:lnTo>
                  <a:lnTo>
                    <a:pt x="119" y="817"/>
                  </a:lnTo>
                  <a:lnTo>
                    <a:pt x="0" y="545"/>
                  </a:lnTo>
                  <a:lnTo>
                    <a:pt x="46" y="375"/>
                  </a:lnTo>
                  <a:lnTo>
                    <a:pt x="77" y="220"/>
                  </a:lnTo>
                  <a:lnTo>
                    <a:pt x="198" y="112"/>
                  </a:lnTo>
                  <a:lnTo>
                    <a:pt x="333" y="35"/>
                  </a:lnTo>
                  <a:lnTo>
                    <a:pt x="544" y="0"/>
                  </a:lnTo>
                  <a:lnTo>
                    <a:pt x="556" y="74"/>
                  </a:lnTo>
                  <a:close/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09480" y="304920"/>
            <a:ext cx="2286000" cy="642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08660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天空排废气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大地扔废物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河海排废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核辐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638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现实生活中人类有哪些“填洞”行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04920"/>
            <a:ext cx="2286000" cy="642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拓展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流经印度新德里的亚穆纳河遭受严重垃圾污染 不堪入目(高清组图)"/>
          <p:cNvPicPr/>
          <p:nvPr/>
        </p:nvPicPr>
        <p:blipFill>
          <a:blip r:embed="rId2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7680" y="76320"/>
            <a:ext cx="172404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96200" y="16765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是科幻小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9480" y="3657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科幻小说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97360" y="4572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幻小说之父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54000" y="55627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知道哪些科幻小说作家？科幻作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57600" y="1600200"/>
            <a:ext cx="5334120" cy="2057400"/>
            <a:chOff x="3657600" y="1600200"/>
            <a:chExt cx="5334120" cy="2057400"/>
          </a:xfrm>
        </p:grpSpPr>
        <p:sp>
          <p:nvSpPr>
            <p:cNvPr id="51" name=""/>
            <p:cNvSpPr/>
            <p:nvPr/>
          </p:nvSpPr>
          <p:spPr>
            <a:xfrm>
              <a:off x="3657600" y="1600200"/>
              <a:ext cx="5334120" cy="2057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200" y="166356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用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幻想的形式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，表现人类在未来世界的物质精神文化生活和科学技术远景，其内容交织着科学事实和预见、想象。通常将</a:t>
              </a:r>
              <a:r>
                <a:rPr b="1" lang="zh-CN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“科学”“幻想”和“小说”视为其三要素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952880" y="3733920"/>
            <a:ext cx="4038840" cy="609480"/>
            <a:chOff x="4952880" y="3733920"/>
            <a:chExt cx="4038840" cy="609480"/>
          </a:xfrm>
        </p:grpSpPr>
        <p:sp>
          <p:nvSpPr>
            <p:cNvPr id="54" name=""/>
            <p:cNvSpPr/>
            <p:nvPr/>
          </p:nvSpPr>
          <p:spPr>
            <a:xfrm>
              <a:off x="4952880" y="3733920"/>
              <a:ext cx="4038840" cy="609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360" y="380988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玛丽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·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雪莱的《弗兰肯斯坦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343400" y="4419720"/>
            <a:ext cx="4572000" cy="990360"/>
            <a:chOff x="4343400" y="4419720"/>
            <a:chExt cx="4572000" cy="990360"/>
          </a:xfrm>
        </p:grpSpPr>
        <p:sp>
          <p:nvSpPr>
            <p:cNvPr id="57" name=""/>
            <p:cNvSpPr/>
            <p:nvPr/>
          </p:nvSpPr>
          <p:spPr>
            <a:xfrm>
              <a:off x="4495680" y="4419720"/>
              <a:ext cx="4419720" cy="99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43400" y="4495680"/>
              <a:ext cx="449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法国作家凡尔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（代表作《海底两万里》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920" y="6172200"/>
            <a:ext cx="7619760" cy="609480"/>
            <a:chOff x="304920" y="6172200"/>
            <a:chExt cx="7619760" cy="609480"/>
          </a:xfrm>
        </p:grpSpPr>
        <p:sp>
          <p:nvSpPr>
            <p:cNvPr id="60" name=""/>
            <p:cNvSpPr/>
            <p:nvPr/>
          </p:nvSpPr>
          <p:spPr>
            <a:xfrm>
              <a:off x="304920" y="6172200"/>
              <a:ext cx="7619760" cy="609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200" y="624852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高士其（中国）、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J.K.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罗琳 （美）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/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《哈利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·</a:t>
              </a: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波特》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533520" y="380880"/>
            <a:ext cx="6476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方正隶书简体"/>
              </a:rPr>
              <a:t>科幻小说知多少？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方正隶书简体"/>
              <a:ea typeface="方正隶书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72388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62120" y="6095880"/>
            <a:ext cx="79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本地震引发的海啸、核泄漏、核污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90360"/>
            <a:ext cx="6705720" cy="825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主题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：大自然的惩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6732720" y="5300640"/>
            <a:ext cx="1896480" cy="1107720"/>
            <a:chOff x="6732720" y="5300640"/>
            <a:chExt cx="1896480" cy="1107720"/>
          </a:xfrm>
        </p:grpSpPr>
        <p:pic>
          <p:nvPicPr>
            <p:cNvPr id="221" name="" descr="7.gif (7651 字节)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732720" y="5300640"/>
              <a:ext cx="924120" cy="97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>
              <a:hlinkClick r:id="" action="ppaction://hlinkshowjump?jump=nextslide"/>
            </p:cNvPr>
            <p:cNvSpPr/>
            <p:nvPr/>
          </p:nvSpPr>
          <p:spPr>
            <a:xfrm>
              <a:off x="7722360" y="5951880"/>
              <a:ext cx="9068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24000" y="206064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52280"/>
            <a:ext cx="3651480" cy="764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大自然的惩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27640" y="0"/>
            <a:ext cx="4716000" cy="2590560"/>
            <a:chOff x="4427640" y="0"/>
            <a:chExt cx="4716000" cy="2590560"/>
          </a:xfrm>
        </p:grpSpPr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4427640" y="0"/>
              <a:ext cx="419976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8386920" y="0"/>
              <a:ext cx="687240" cy="85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8456760" y="812520"/>
              <a:ext cx="686880" cy="17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"/>
          <p:cNvSpPr/>
          <p:nvPr/>
        </p:nvSpPr>
        <p:spPr>
          <a:xfrm>
            <a:off x="990720" y="167652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9051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14300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3716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685800" y="3048120"/>
            <a:ext cx="7543800" cy="3657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9907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沙尘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呼和浩特市区的空气质量严重下降，出行的市民们“全副武装”，在沙尘中往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206064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57200"/>
            <a:ext cx="3651480" cy="764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大自然的惩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27640" y="0"/>
            <a:ext cx="4716000" cy="2590560"/>
            <a:chOff x="4427640" y="0"/>
            <a:chExt cx="4716000" cy="2590560"/>
          </a:xfrm>
        </p:grpSpPr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4427640" y="0"/>
              <a:ext cx="419976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8386920" y="0"/>
              <a:ext cx="687240" cy="85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8456760" y="812520"/>
              <a:ext cx="686880" cy="17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990720" y="167652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2952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200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年，杭州湾精细化工园区内一企业的硫酸输送管破裂，造成大量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硫酸外泻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酸雾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笼罩全盖北，迫使盖北镇所有学校停课，工厂停工，造成了无法弥补的巨大损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28800" y="5715000"/>
            <a:ext cx="7010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日本海啸冲走的房屋、汽车与人体等残骸正形成大片的垃圾岛，长约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111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9480" y="12193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种瓜得瓜、 种豆得豆、自食其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73915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08040" y="746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主题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：揭示人性的多面性和复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1844640"/>
            <a:ext cx="806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新一的微型小说往往选取一个巧妙的角度，别开生面，以小见大，宛如一面面精巧玲珑的小镜子，从不同的角度折射出社会生活的各个片断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04920" y="1219320"/>
            <a:ext cx="6192720" cy="5373720"/>
            <a:chOff x="304920" y="1219320"/>
            <a:chExt cx="6192720" cy="5373720"/>
          </a:xfrm>
        </p:grpSpPr>
        <p:sp>
          <p:nvSpPr>
            <p:cNvPr id="257" name=""/>
            <p:cNvSpPr/>
            <p:nvPr/>
          </p:nvSpPr>
          <p:spPr>
            <a:xfrm>
              <a:off x="304920" y="1219320"/>
              <a:ext cx="6192720" cy="537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584280" y="1488240"/>
              <a:ext cx="5562360" cy="4694040"/>
              <a:chOff x="584280" y="1488240"/>
              <a:chExt cx="5562360" cy="4694040"/>
            </a:xfrm>
          </p:grpSpPr>
          <p:sp>
            <p:nvSpPr>
              <p:cNvPr id="259" name="_s44039"/>
              <p:cNvSpPr/>
              <p:nvPr/>
            </p:nvSpPr>
            <p:spPr>
              <a:xfrm flipH="1" flipV="1">
                <a:off x="2395800" y="2586600"/>
                <a:ext cx="697680" cy="92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_s44040"/>
              <p:cNvSpPr/>
              <p:nvPr/>
            </p:nvSpPr>
            <p:spPr>
              <a:xfrm>
                <a:off x="1616760" y="179748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_s44041"/>
              <p:cNvSpPr/>
              <p:nvPr/>
            </p:nvSpPr>
            <p:spPr>
              <a:xfrm flipH="1" flipV="1">
                <a:off x="1732320" y="3237840"/>
                <a:ext cx="1175040" cy="45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_s44042"/>
              <p:cNvSpPr/>
              <p:nvPr/>
            </p:nvSpPr>
            <p:spPr>
              <a:xfrm>
                <a:off x="767880" y="263304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一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工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_s44043"/>
              <p:cNvSpPr/>
              <p:nvPr/>
            </p:nvSpPr>
            <p:spPr>
              <a:xfrm flipH="1">
                <a:off x="1587600" y="3935520"/>
                <a:ext cx="1280520" cy="15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_s44044"/>
              <p:cNvSpPr/>
              <p:nvPr/>
            </p:nvSpPr>
            <p:spPr>
              <a:xfrm>
                <a:off x="584280" y="3724560"/>
                <a:ext cx="100728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罪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_s44045"/>
              <p:cNvSpPr/>
              <p:nvPr/>
            </p:nvSpPr>
            <p:spPr>
              <a:xfrm flipH="1">
                <a:off x="2007000" y="4155120"/>
                <a:ext cx="978840" cy="71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_s44046"/>
              <p:cNvSpPr/>
              <p:nvPr/>
            </p:nvSpPr>
            <p:spPr>
              <a:xfrm>
                <a:off x="1122840" y="472824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警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_s44047"/>
              <p:cNvSpPr/>
              <p:nvPr/>
            </p:nvSpPr>
            <p:spPr>
              <a:xfrm flipH="1">
                <a:off x="2858040" y="4285440"/>
                <a:ext cx="367560" cy="105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_s44048"/>
              <p:cNvSpPr/>
              <p:nvPr/>
            </p:nvSpPr>
            <p:spPr>
              <a:xfrm>
                <a:off x="2214000" y="532440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_s44049"/>
              <p:cNvSpPr/>
              <p:nvPr/>
            </p:nvSpPr>
            <p:spPr>
              <a:xfrm>
                <a:off x="3509280" y="4283280"/>
                <a:ext cx="361080" cy="10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_s44050"/>
              <p:cNvSpPr/>
              <p:nvPr/>
            </p:nvSpPr>
            <p:spPr>
              <a:xfrm>
                <a:off x="3511080" y="532440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订了婚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姑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_s44051"/>
              <p:cNvSpPr/>
              <p:nvPr/>
            </p:nvSpPr>
            <p:spPr>
              <a:xfrm>
                <a:off x="3746520" y="4151880"/>
                <a:ext cx="974520" cy="72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_s44052"/>
              <p:cNvSpPr/>
              <p:nvPr/>
            </p:nvSpPr>
            <p:spPr>
              <a:xfrm>
                <a:off x="4601520" y="472680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政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官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_s44053"/>
              <p:cNvSpPr/>
              <p:nvPr/>
            </p:nvSpPr>
            <p:spPr>
              <a:xfrm>
                <a:off x="3862440" y="3931920"/>
                <a:ext cx="1280520" cy="1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_s44054"/>
              <p:cNvSpPr/>
              <p:nvPr/>
            </p:nvSpPr>
            <p:spPr>
              <a:xfrm>
                <a:off x="5138640" y="372276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投机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_s44055"/>
              <p:cNvSpPr/>
              <p:nvPr/>
            </p:nvSpPr>
            <p:spPr>
              <a:xfrm flipV="1">
                <a:off x="3821040" y="3239280"/>
                <a:ext cx="1176840" cy="45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_s44056"/>
              <p:cNvSpPr/>
              <p:nvPr/>
            </p:nvSpPr>
            <p:spPr>
              <a:xfrm>
                <a:off x="4952880" y="263088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学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_s44057"/>
              <p:cNvSpPr/>
              <p:nvPr/>
            </p:nvSpPr>
            <p:spPr>
              <a:xfrm flipV="1">
                <a:off x="3635280" y="2588400"/>
                <a:ext cx="700200" cy="92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_s44058"/>
              <p:cNvSpPr/>
              <p:nvPr/>
            </p:nvSpPr>
            <p:spPr>
              <a:xfrm>
                <a:off x="4104000" y="179748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记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_s44059"/>
              <p:cNvSpPr/>
              <p:nvPr/>
            </p:nvSpPr>
            <p:spPr>
              <a:xfrm flipV="1">
                <a:off x="3364560" y="2346120"/>
                <a:ext cx="0" cy="1100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_s44060"/>
              <p:cNvSpPr/>
              <p:nvPr/>
            </p:nvSpPr>
            <p:spPr>
              <a:xfrm>
                <a:off x="2860200" y="1488240"/>
                <a:ext cx="1008000" cy="857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村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_s44061"/>
              <p:cNvSpPr/>
              <p:nvPr/>
            </p:nvSpPr>
            <p:spPr>
              <a:xfrm>
                <a:off x="2860200" y="3446640"/>
                <a:ext cx="1008000" cy="85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1400" rIns="311400" tIns="295200" bIns="29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ffffff"/>
                    </a:solidFill>
                    <a:latin typeface="Times New Roman"/>
                    <a:ea typeface="楷体_GB2312"/>
                  </a:rPr>
                  <a:t>洞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400800" y="2209680"/>
            <a:ext cx="2743200" cy="1752840"/>
          </a:xfrm>
          <a:prstGeom prst="cloudCallout">
            <a:avLst>
              <a:gd name="adj1" fmla="val -65856"/>
              <a:gd name="adj2" fmla="val 4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不懂装懂，死要面子，缺乏科学探究精神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304920"/>
            <a:ext cx="7391520" cy="1676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38088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过这个洞，我看到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人物身份）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品性特点），他（或她）把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扔进了洞里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457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村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533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目光短浅，只顾眼前利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219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村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1295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立场不坚定，目光短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981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新闻记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19810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没有及时地传播正确的信息，胆小怕事，缺乏敬业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1240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政府官员及工作人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工作作风松散，愚昧无知，做事轻率。在整个事件中完全无所作为而且是瞎做为！这个政府没有洞察力，也没有领导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警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45720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不负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334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犯罪分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54100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社会道德的扭曲与沦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09480" y="1600200"/>
            <a:ext cx="2286000" cy="990360"/>
            <a:chOff x="609480" y="1600200"/>
            <a:chExt cx="2286000" cy="990360"/>
          </a:xfrm>
        </p:grpSpPr>
        <p:sp>
          <p:nvSpPr>
            <p:cNvPr id="298" name=""/>
            <p:cNvSpPr/>
            <p:nvPr/>
          </p:nvSpPr>
          <p:spPr>
            <a:xfrm>
              <a:off x="609480" y="160020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760" y="175248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"/>
                </a:rPr>
                <a:t>学者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43200" y="1295280"/>
            <a:ext cx="5562720" cy="1981080"/>
            <a:chOff x="2743200" y="1295280"/>
            <a:chExt cx="5562720" cy="1981080"/>
          </a:xfrm>
        </p:grpSpPr>
        <p:sp>
          <p:nvSpPr>
            <p:cNvPr id="301" name=""/>
            <p:cNvSpPr/>
            <p:nvPr/>
          </p:nvSpPr>
          <p:spPr>
            <a:xfrm>
              <a:off x="2819520" y="1295280"/>
              <a:ext cx="5486400" cy="198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3200" y="1676160"/>
              <a:ext cx="556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不懂装懂，死要面子，缺乏探究精神，虚伪庸俗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886200"/>
            <a:ext cx="2818800" cy="1066680"/>
            <a:chOff x="533520" y="3886200"/>
            <a:chExt cx="2818800" cy="1066680"/>
          </a:xfrm>
        </p:grpSpPr>
        <p:sp>
          <p:nvSpPr>
            <p:cNvPr id="304" name=""/>
            <p:cNvSpPr/>
            <p:nvPr/>
          </p:nvSpPr>
          <p:spPr>
            <a:xfrm>
              <a:off x="533520" y="3886200"/>
              <a:ext cx="228564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4038480"/>
              <a:ext cx="27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"/>
                </a:rPr>
                <a:t>商人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819520" y="3352680"/>
            <a:ext cx="4572000" cy="2209680"/>
            <a:chOff x="2819520" y="3352680"/>
            <a:chExt cx="4572000" cy="2209680"/>
          </a:xfrm>
        </p:grpSpPr>
        <p:sp>
          <p:nvSpPr>
            <p:cNvPr id="307" name=""/>
            <p:cNvSpPr/>
            <p:nvPr/>
          </p:nvSpPr>
          <p:spPr>
            <a:xfrm>
              <a:off x="2819520" y="3352680"/>
              <a:ext cx="4572000" cy="2209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29000" y="3504960"/>
              <a:ext cx="358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"/>
                </a:rPr>
                <a:t>贪婪愚昧，唯利是图，利欲熏心，一切向钱看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经典中圆简"/>
              </a:rPr>
              <a:t>星新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堪称日本科幻界的一个奇才。以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1000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多篇精巧别致、富于哲思的超短篇小说享誉世界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被尊为“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日本微型小说的鼻祖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a2"/>
                </a:solidFill>
                <a:latin typeface="Arial"/>
              </a:rPr>
              <a:t>在科幻方面，代表作有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《恶魔天国》（短篇集）、《人造美人》（短篇集）、《声网》（长篇）和《梦魔的标靶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 rot="1098600">
            <a:off x="5790960" y="762120"/>
            <a:ext cx="2646360" cy="373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120920" y="2879640"/>
            <a:ext cx="1521000" cy="34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喂——出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67280" y="446400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88000" y="3816360"/>
            <a:ext cx="151308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795640" y="44640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2000" y="626436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156360" y="2695680"/>
            <a:ext cx="244800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人</a:t>
            </a:r>
            <a:endParaRPr b="0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2736720"/>
            <a:ext cx="374472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8760" y="3182040"/>
            <a:ext cx="3391920" cy="2906640"/>
            <a:chOff x="428760" y="3182040"/>
            <a:chExt cx="3391920" cy="2906640"/>
          </a:xfrm>
        </p:grpSpPr>
        <p:sp>
          <p:nvSpPr>
            <p:cNvPr id="317" name="_s45067"/>
            <p:cNvSpPr/>
            <p:nvPr/>
          </p:nvSpPr>
          <p:spPr>
            <a:xfrm flipH="1" flipV="1">
              <a:off x="1533240" y="3862080"/>
              <a:ext cx="425520" cy="57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45068"/>
            <p:cNvSpPr/>
            <p:nvPr/>
          </p:nvSpPr>
          <p:spPr>
            <a:xfrm>
              <a:off x="1058400" y="337356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45069"/>
            <p:cNvSpPr/>
            <p:nvPr/>
          </p:nvSpPr>
          <p:spPr>
            <a:xfrm flipH="1" flipV="1">
              <a:off x="1128600" y="4265280"/>
              <a:ext cx="716760" cy="28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45070"/>
            <p:cNvSpPr/>
            <p:nvPr/>
          </p:nvSpPr>
          <p:spPr>
            <a:xfrm>
              <a:off x="540720" y="389088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意识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45071"/>
            <p:cNvSpPr/>
            <p:nvPr/>
          </p:nvSpPr>
          <p:spPr>
            <a:xfrm flipH="1">
              <a:off x="1040400" y="4697640"/>
              <a:ext cx="780840" cy="9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45072"/>
            <p:cNvSpPr/>
            <p:nvPr/>
          </p:nvSpPr>
          <p:spPr>
            <a:xfrm>
              <a:off x="428760" y="4566960"/>
              <a:ext cx="61416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法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45073"/>
            <p:cNvSpPr/>
            <p:nvPr/>
          </p:nvSpPr>
          <p:spPr>
            <a:xfrm flipH="1">
              <a:off x="1296720" y="4833720"/>
              <a:ext cx="596880" cy="44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45074"/>
            <p:cNvSpPr/>
            <p:nvPr/>
          </p:nvSpPr>
          <p:spPr>
            <a:xfrm>
              <a:off x="757080" y="518868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使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45075"/>
            <p:cNvSpPr/>
            <p:nvPr/>
          </p:nvSpPr>
          <p:spPr>
            <a:xfrm flipH="1">
              <a:off x="1815480" y="4914360"/>
              <a:ext cx="223920" cy="65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45076"/>
            <p:cNvSpPr/>
            <p:nvPr/>
          </p:nvSpPr>
          <p:spPr>
            <a:xfrm>
              <a:off x="1422720" y="555768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情感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45077"/>
            <p:cNvSpPr/>
            <p:nvPr/>
          </p:nvSpPr>
          <p:spPr>
            <a:xfrm>
              <a:off x="2212560" y="4912920"/>
              <a:ext cx="219960" cy="65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45078"/>
            <p:cNvSpPr/>
            <p:nvPr/>
          </p:nvSpPr>
          <p:spPr>
            <a:xfrm>
              <a:off x="2213640" y="555768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青春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_s45079"/>
            <p:cNvSpPr/>
            <p:nvPr/>
          </p:nvSpPr>
          <p:spPr>
            <a:xfrm>
              <a:off x="2357280" y="4831560"/>
              <a:ext cx="59436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5080"/>
            <p:cNvSpPr/>
            <p:nvPr/>
          </p:nvSpPr>
          <p:spPr>
            <a:xfrm>
              <a:off x="2878560" y="518760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责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5081"/>
            <p:cNvSpPr/>
            <p:nvPr/>
          </p:nvSpPr>
          <p:spPr>
            <a:xfrm>
              <a:off x="2427840" y="4695480"/>
              <a:ext cx="780840" cy="9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5082"/>
            <p:cNvSpPr/>
            <p:nvPr/>
          </p:nvSpPr>
          <p:spPr>
            <a:xfrm>
              <a:off x="3206160" y="456588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良知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5083"/>
            <p:cNvSpPr/>
            <p:nvPr/>
          </p:nvSpPr>
          <p:spPr>
            <a:xfrm flipV="1">
              <a:off x="2402640" y="4266000"/>
              <a:ext cx="717840" cy="28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5084"/>
            <p:cNvSpPr/>
            <p:nvPr/>
          </p:nvSpPr>
          <p:spPr>
            <a:xfrm>
              <a:off x="3092760" y="388980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素质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5085"/>
            <p:cNvSpPr/>
            <p:nvPr/>
          </p:nvSpPr>
          <p:spPr>
            <a:xfrm flipV="1">
              <a:off x="2289240" y="3863160"/>
              <a:ext cx="426960" cy="57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5086"/>
            <p:cNvSpPr/>
            <p:nvPr/>
          </p:nvSpPr>
          <p:spPr>
            <a:xfrm>
              <a:off x="2575440" y="337356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道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5087"/>
            <p:cNvSpPr/>
            <p:nvPr/>
          </p:nvSpPr>
          <p:spPr>
            <a:xfrm flipV="1">
              <a:off x="2124360" y="3713400"/>
              <a:ext cx="0" cy="6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5088"/>
            <p:cNvSpPr/>
            <p:nvPr/>
          </p:nvSpPr>
          <p:spPr>
            <a:xfrm>
              <a:off x="1816920" y="3182040"/>
              <a:ext cx="614520" cy="53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信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5089"/>
            <p:cNvSpPr/>
            <p:nvPr/>
          </p:nvSpPr>
          <p:spPr>
            <a:xfrm>
              <a:off x="1816920" y="4394880"/>
              <a:ext cx="614520" cy="53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 txBox="1"/>
          <p:nvPr/>
        </p:nvSpPr>
        <p:spPr>
          <a:xfrm>
            <a:off x="3200400" y="380880"/>
            <a:ext cx="2895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方正隶书简体"/>
              </a:rPr>
              <a:t>窥“洞”求真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方正隶书简体"/>
              <a:ea typeface="方正隶书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995480" y="1617840"/>
            <a:ext cx="365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58920" y="119700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庙的含义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2205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读小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-3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，结合现实，说说“庙”在文中有什么含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258920" y="1557360"/>
            <a:ext cx="6985080" cy="4680000"/>
          </a:xfrm>
          <a:custGeom>
            <a:avLst/>
            <a:gdLst>
              <a:gd name="textAreaLeft" fmla="*/ 1641600 w 6985080"/>
              <a:gd name="textAreaRight" fmla="*/ 5338800 w 6985080"/>
              <a:gd name="textAreaTop" fmla="*/ 550080 h 4680000"/>
              <a:gd name="textAreaBottom" fmla="*/ 2935440 h 468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35280" y="2349360"/>
            <a:ext cx="5761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守住我们的精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家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rId3" action="ppaction://hlinksldjump"/>
          </p:cNvPr>
          <p:cNvSpPr/>
          <p:nvPr/>
        </p:nvSpPr>
        <p:spPr>
          <a:xfrm>
            <a:off x="754380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971640" y="620640"/>
            <a:ext cx="3941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写作借鉴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2096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前后照应，结构紧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29718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、准确用词，抓住人物特点，展示人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物内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44956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、想像奇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84160" y="52880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003399"/>
                </a:solidFill>
                <a:latin typeface="华文行楷"/>
                <a:ea typeface="华文行楷"/>
              </a:rPr>
              <a:t>、结尾含蓄，耐人寻味，发人深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14400" y="1447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本文可供我们借鉴的写法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572000" y="0"/>
            <a:ext cx="4114440" cy="1904760"/>
            <a:chOff x="4572000" y="0"/>
            <a:chExt cx="4114440" cy="1904760"/>
          </a:xfrm>
        </p:grpSpPr>
        <p:pic>
          <p:nvPicPr>
            <p:cNvPr id="356" name="" descr=""/>
            <p:cNvPicPr/>
            <p:nvPr/>
          </p:nvPicPr>
          <p:blipFill>
            <a:blip r:embed="rId4"/>
            <a:stretch/>
          </p:blipFill>
          <p:spPr>
            <a:xfrm>
              <a:off x="4572000" y="0"/>
              <a:ext cx="366408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5"/>
            <a:stretch/>
          </p:blipFill>
          <p:spPr>
            <a:xfrm>
              <a:off x="8026560" y="0"/>
              <a:ext cx="59976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6"/>
            <a:stretch/>
          </p:blipFill>
          <p:spPr>
            <a:xfrm>
              <a:off x="8087040" y="597600"/>
              <a:ext cx="59940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198108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面对着这么一个深不可测的洞，人们有着各种各样的表现，而小说的结尾更是奇特，天上掉下那块石头后，又会发生什么呢？大胆地想像可能发生的事情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8380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《喂——出来》（续篇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2286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布置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隶书"/>
                <a:ea typeface="隶书"/>
              </a:rPr>
              <a:t>一、给加点的字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133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373040"/>
            <a:ext cx="6934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笑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取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众目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睽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手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铆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钉         贪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行         莫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shě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1339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mó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2590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ku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778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m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105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l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588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j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3778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l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997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zhō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40464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9900ff"/>
                </a:solidFill>
                <a:latin typeface="隶书"/>
                <a:ea typeface="隶书"/>
              </a:rPr>
              <a:t>、根据意思写出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1557360"/>
            <a:ext cx="6048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讥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比喻做事前已经有通盘的考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不容许有什么怀疑，指真实可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形容事情难办，像荆棘刺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大家的眼睛都注视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不能得出一致的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15573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哂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276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胸有成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997360"/>
            <a:ext cx="20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容置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棘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4508640"/>
            <a:ext cx="21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众目睽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22936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莫衷一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1371600"/>
            <a:ext cx="769608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快速阅读文章，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尝试用自己的话复述出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038480" cy="2610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4114800"/>
            <a:ext cx="4103640" cy="2549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800600" y="411480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开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257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5257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3276720"/>
            <a:ext cx="13716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2767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仿宋"/>
              </a:rPr>
              <a:t>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52280"/>
            <a:ext cx="2971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复述课文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2057400"/>
            <a:ext cx="5943600" cy="327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5120" y="2438280"/>
            <a:ext cx="308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故事结构</a:t>
            </a:r>
            <a:endParaRPr b="1" i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4290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根据这些线索划分故事结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72720" cy="7050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5400000">
            <a:off x="6048360" y="3105360"/>
            <a:ext cx="3456000" cy="151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现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4680" y="2836800"/>
            <a:ext cx="44082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5112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洞是怎样出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67440" y="11635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风吹庙倒，深洞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5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72720" cy="705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581280" y="5162400"/>
            <a:ext cx="1143000" cy="169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857160" cy="1133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419720" y="4572000"/>
            <a:ext cx="272880" cy="509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191120" y="3200400"/>
            <a:ext cx="685800" cy="141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648320" y="4495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304920" y="3048120"/>
            <a:ext cx="658800" cy="1252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762120" y="2819520"/>
            <a:ext cx="896760" cy="1199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1828800" y="2819520"/>
            <a:ext cx="2367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5257800" y="3429000"/>
            <a:ext cx="665280" cy="971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tretch/>
        </p:blipFill>
        <p:spPr>
          <a:xfrm>
            <a:off x="5638680" y="3733920"/>
            <a:ext cx="1371600" cy="1164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228600" y="3657600"/>
            <a:ext cx="587520" cy="1276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 rot="5400000">
            <a:off x="6408720" y="3392640"/>
            <a:ext cx="2951280" cy="12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探洞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洞引来了哪些人？这些人为了解洞做了些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74880" y="1268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各路人马，各显神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9:21:00Z</dcterms:created>
  <dc:creator>Administrator</dc:creator>
  <dc:description/>
  <dc:language>en-US</dc:language>
  <cp:lastModifiedBy>Windows 用户</cp:lastModifiedBy>
  <dcterms:modified xsi:type="dcterms:W3CDTF">2012-05-15T01:03:5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