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544F-318D-4666-8907-D35F463D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4352-47F9-457B-BEF2-36AEC0360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C139-2752-421D-A110-06AD736C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6A85-AF07-4AFC-93C9-AF7EADD7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640-7F1E-4939-9158-6043DB3A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103-D90A-4D20-BFA3-B174DD1C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D78-15B5-40E3-80FD-B5FAD6DF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4164-8504-48C8-A5A7-C80A20343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883-60E2-45F7-917B-661ED45A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6A95-2951-4C76-8BB7-37B34500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6304-FCD7-454C-AC86-36735546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21E5-37B5-472A-947B-64338137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AA73-0374-4AE3-81EC-581DA8A85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image" Target="../media/image37.jpeg"/><Relationship Id="rId8" Type="http://schemas.openxmlformats.org/officeDocument/2006/relationships/image" Target="../media/image38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643120" y="1071720"/>
            <a:ext cx="65008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Memories of childhoo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楷体_GB2312"/>
              </a:rPr>
              <a:t>         </a:t>
            </a:r>
            <a:r>
              <a:rPr b="1" lang="zh-CN" sz="4800" spc="-1" strike="noStrike">
                <a:solidFill>
                  <a:srgbClr val="ff6600"/>
                </a:solidFill>
                <a:latin typeface="Arial"/>
                <a:ea typeface="楷体_GB2312"/>
              </a:rPr>
              <a:t>童年的回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56360" y="5589720"/>
            <a:ext cx="24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班     赵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xin_11060401152132805668"/>
          <p:cNvPicPr/>
          <p:nvPr/>
        </p:nvPicPr>
        <p:blipFill>
          <a:blip r:embed="rId1"/>
          <a:stretch/>
        </p:blipFill>
        <p:spPr>
          <a:xfrm>
            <a:off x="1571760" y="0"/>
            <a:ext cx="5976720" cy="38592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1403280" y="4286160"/>
            <a:ext cx="6861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 have  a   break  or  come  back  home  after  school,We  splash  five  stones  on  the  ground  and  playing  them  in  a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varying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变化多端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way  with  a  lot  of  k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"/>
          <p:cNvSpPr/>
          <p:nvPr/>
        </p:nvSpPr>
        <p:spPr>
          <a:xfrm>
            <a:off x="2571840" y="385776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ay  stone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抓子儿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xin_150604011535562361514"/>
          <p:cNvPicPr/>
          <p:nvPr/>
        </p:nvPicPr>
        <p:blipFill>
          <a:blip r:embed="rId1"/>
          <a:stretch/>
        </p:blipFill>
        <p:spPr>
          <a:xfrm>
            <a:off x="900000" y="254160"/>
            <a:ext cx="5327640" cy="3714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01892d7e37e8202c0dd7da7c"/>
          <p:cNvPicPr/>
          <p:nvPr/>
        </p:nvPicPr>
        <p:blipFill>
          <a:blip r:embed="rId2"/>
          <a:stretch/>
        </p:blipFill>
        <p:spPr>
          <a:xfrm>
            <a:off x="6215040" y="857160"/>
            <a:ext cx="2571840" cy="28782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2195640" y="39009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玩“东南西北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500040" y="4328280"/>
            <a:ext cx="8032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 can write the words that you like at each s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sk your  parter: “which side do you  want?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may say:“ I want nort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open and look: “ha, you are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beetle(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放屁虫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U1590P115T41D118671F757DT20070308170944"/>
          <p:cNvPicPr/>
          <p:nvPr/>
        </p:nvPicPr>
        <p:blipFill>
          <a:blip r:embed="rId1"/>
          <a:srcRect l="0" t="0" r="0" b="14946"/>
          <a:stretch/>
        </p:blipFill>
        <p:spPr>
          <a:xfrm>
            <a:off x="2143080" y="0"/>
            <a:ext cx="4824360" cy="410364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0"/>
          <p:cNvSpPr/>
          <p:nvPr/>
        </p:nvSpPr>
        <p:spPr>
          <a:xfrm>
            <a:off x="1071720" y="4194360"/>
            <a:ext cx="767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 the  people  into two group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group stand  in  the  two  sid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 in  the  midd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 the  former group  throw  the sandbag  to  the  l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5000760" y="3357720"/>
            <a:ext cx="257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Throw sandba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扔沙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3476520"/>
            <a:ext cx="8459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48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实还有许多许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的朋友们，你还记得这些可爱的记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如。。。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214200" y="1585440"/>
            <a:ext cx="892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 another  more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r friends, Do  you  remember these lovely memo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 like  these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2" descr="4ab6eb49324d40c883025cea.jpg"/>
          <p:cNvPicPr/>
          <p:nvPr/>
        </p:nvPicPr>
        <p:blipFill>
          <a:blip r:embed="rId2"/>
          <a:stretch/>
        </p:blipFill>
        <p:spPr>
          <a:xfrm>
            <a:off x="0" y="0"/>
            <a:ext cx="3143160" cy="3052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" descr="32f40a0a7b6d2ead0b7b82ff.jpg"/>
          <p:cNvPicPr/>
          <p:nvPr/>
        </p:nvPicPr>
        <p:blipFill>
          <a:blip r:embed="rId3"/>
          <a:stretch/>
        </p:blipFill>
        <p:spPr>
          <a:xfrm>
            <a:off x="3357720" y="0"/>
            <a:ext cx="3346200" cy="267660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66ea07363c540376241f14ea.jpg"/>
          <p:cNvPicPr/>
          <p:nvPr/>
        </p:nvPicPr>
        <p:blipFill>
          <a:blip r:embed="rId4"/>
          <a:stretch/>
        </p:blipFill>
        <p:spPr>
          <a:xfrm>
            <a:off x="6451560" y="483876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282bda804f06ff876d8119ea.jpg"/>
          <p:cNvPicPr/>
          <p:nvPr/>
        </p:nvPicPr>
        <p:blipFill>
          <a:blip r:embed="rId5"/>
          <a:stretch/>
        </p:blipFill>
        <p:spPr>
          <a:xfrm>
            <a:off x="3143160" y="2786040"/>
            <a:ext cx="3357720" cy="25178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822dfa3c155c00c2838b13fd.jpg"/>
          <p:cNvPicPr/>
          <p:nvPr/>
        </p:nvPicPr>
        <p:blipFill>
          <a:blip r:embed="rId6"/>
          <a:stretch/>
        </p:blipFill>
        <p:spPr>
          <a:xfrm>
            <a:off x="6929280" y="0"/>
            <a:ext cx="2214720" cy="2952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38393adbfd7932d138012ffd.jpg"/>
          <p:cNvPicPr/>
          <p:nvPr/>
        </p:nvPicPr>
        <p:blipFill>
          <a:blip r:embed="rId7"/>
          <a:stretch/>
        </p:blipFill>
        <p:spPr>
          <a:xfrm>
            <a:off x="0" y="4429080"/>
            <a:ext cx="301788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" descr="0dc29dd18b52f5383af3cfd6.jpg"/>
          <p:cNvPicPr/>
          <p:nvPr/>
        </p:nvPicPr>
        <p:blipFill>
          <a:blip r:embed="rId2"/>
          <a:stretch/>
        </p:blipFill>
        <p:spPr>
          <a:xfrm>
            <a:off x="3357720" y="2428920"/>
            <a:ext cx="2244600" cy="1682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2a235d0aeee313eb62d986c8.jpg"/>
          <p:cNvPicPr/>
          <p:nvPr/>
        </p:nvPicPr>
        <p:blipFill>
          <a:blip r:embed="rId3"/>
          <a:stretch/>
        </p:blipFill>
        <p:spPr>
          <a:xfrm>
            <a:off x="2928960" y="4199040"/>
            <a:ext cx="3071880" cy="26589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4" descr="66ea07363c8e0376241f14d0.jpg"/>
          <p:cNvPicPr/>
          <p:nvPr/>
        </p:nvPicPr>
        <p:blipFill>
          <a:blip r:embed="rId4"/>
          <a:stretch/>
        </p:blipFill>
        <p:spPr>
          <a:xfrm>
            <a:off x="928800" y="4257720"/>
            <a:ext cx="1857240" cy="2600280"/>
          </a:xfrm>
          <a:prstGeom prst="rect">
            <a:avLst/>
          </a:prstGeom>
          <a:ln w="0">
            <a:noFill/>
          </a:ln>
        </p:spPr>
      </p:pic>
      <p:pic>
        <p:nvPicPr>
          <p:cNvPr id="84" name="图片 5" descr="98ce1db7846e26f637d3cad0.jpg"/>
          <p:cNvPicPr/>
          <p:nvPr/>
        </p:nvPicPr>
        <p:blipFill>
          <a:blip r:embed="rId5"/>
          <a:stretch/>
        </p:blipFill>
        <p:spPr>
          <a:xfrm>
            <a:off x="6372360" y="2944800"/>
            <a:ext cx="2771640" cy="39132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6" descr="b600a6fc16a18f095d6008d0.jpg"/>
          <p:cNvPicPr/>
          <p:nvPr/>
        </p:nvPicPr>
        <p:blipFill>
          <a:blip r:embed="rId6"/>
          <a:stretch/>
        </p:blipFill>
        <p:spPr>
          <a:xfrm>
            <a:off x="6188040" y="0"/>
            <a:ext cx="2955960" cy="308124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c52acbb35e7f7a6c082302f8.jpg"/>
          <p:cNvPicPr/>
          <p:nvPr/>
        </p:nvPicPr>
        <p:blipFill>
          <a:blip r:embed="rId7"/>
          <a:stretch/>
        </p:blipFill>
        <p:spPr>
          <a:xfrm>
            <a:off x="0" y="2143080"/>
            <a:ext cx="2235240" cy="23875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8" descr="e72ccb1270800a39203f2efd.jpg"/>
          <p:cNvPicPr/>
          <p:nvPr/>
        </p:nvPicPr>
        <p:blipFill>
          <a:blip r:embed="rId8"/>
          <a:stretch/>
        </p:blipFill>
        <p:spPr>
          <a:xfrm>
            <a:off x="2857680" y="0"/>
            <a:ext cx="3246120" cy="2446200"/>
          </a:xfrm>
          <a:prstGeom prst="rect">
            <a:avLst/>
          </a:prstGeom>
          <a:ln w="0">
            <a:noFill/>
          </a:ln>
        </p:spPr>
      </p:pic>
      <p:pic>
        <p:nvPicPr>
          <p:cNvPr id="88" name="图片 9" descr="eac75a6ce192c3da431694d2.jpg"/>
          <p:cNvPicPr/>
          <p:nvPr/>
        </p:nvPicPr>
        <p:blipFill>
          <a:blip r:embed="rId9"/>
          <a:stretch/>
        </p:blipFill>
        <p:spPr>
          <a:xfrm>
            <a:off x="0" y="0"/>
            <a:ext cx="2871720" cy="21542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6f603251d4b4f19b8d54307d"/>
          <p:cNvPicPr/>
          <p:nvPr/>
        </p:nvPicPr>
        <p:blipFill>
          <a:blip r:embed="rId2"/>
          <a:stretch/>
        </p:blipFill>
        <p:spPr>
          <a:xfrm>
            <a:off x="250920" y="2602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0023ae9897010c88117926"/>
          <p:cNvPicPr/>
          <p:nvPr/>
        </p:nvPicPr>
        <p:blipFill>
          <a:blip r:embed="rId3"/>
          <a:stretch/>
        </p:blipFill>
        <p:spPr>
          <a:xfrm>
            <a:off x="179280" y="2852640"/>
            <a:ext cx="4032360" cy="2943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32094_5"/>
          <p:cNvPicPr/>
          <p:nvPr/>
        </p:nvPicPr>
        <p:blipFill>
          <a:blip r:embed="rId4"/>
          <a:stretch/>
        </p:blipFill>
        <p:spPr>
          <a:xfrm>
            <a:off x="6588000" y="189000"/>
            <a:ext cx="1710000" cy="2349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200810711524194788"/>
          <p:cNvPicPr/>
          <p:nvPr/>
        </p:nvPicPr>
        <p:blipFill>
          <a:blip r:embed="rId5"/>
          <a:srcRect l="4562" t="21216" r="4562" b="0"/>
          <a:stretch/>
        </p:blipFill>
        <p:spPr>
          <a:xfrm>
            <a:off x="4284720" y="2708280"/>
            <a:ext cx="2879640" cy="1874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image004"/>
          <p:cNvPicPr/>
          <p:nvPr/>
        </p:nvPicPr>
        <p:blipFill>
          <a:blip r:embed="rId6"/>
          <a:stretch/>
        </p:blipFill>
        <p:spPr>
          <a:xfrm rot="988200">
            <a:off x="7235640" y="3938760"/>
            <a:ext cx="1492200" cy="183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5(64)"/>
          <p:cNvPicPr/>
          <p:nvPr/>
        </p:nvPicPr>
        <p:blipFill>
          <a:blip r:embed="rId7"/>
          <a:stretch/>
        </p:blipFill>
        <p:spPr>
          <a:xfrm>
            <a:off x="3492360" y="404640"/>
            <a:ext cx="2737080" cy="20480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1188105876697168448"/>
          <p:cNvPicPr/>
          <p:nvPr/>
        </p:nvPicPr>
        <p:blipFill>
          <a:blip r:embed="rId8"/>
          <a:stretch/>
        </p:blipFill>
        <p:spPr>
          <a:xfrm>
            <a:off x="4716360" y="4508640"/>
            <a:ext cx="215928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2411280" y="2708280"/>
            <a:ext cx="423864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Thank  you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3792240"/>
            <a:ext cx="9144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回首往事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许是花相似，但人不同了 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眼间，我们真的已经长大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是，我们有一个同样纯真难忘的童年。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 flipV="1" rot="10800000">
            <a:off x="-360" y="342720"/>
            <a:ext cx="84805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n we look back at the past event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haps is the flower is similar, but the human has been differ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 a moment, we really already grew up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, we have a similar unforgettable pure  childhoo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3643200" y="2714760"/>
            <a:ext cx="43578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Snac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零食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81800" y="3710160"/>
            <a:ext cx="4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3ff1baf63b06e2ff6a56ee57e2890598"/>
          <p:cNvPicPr/>
          <p:nvPr/>
        </p:nvPicPr>
        <p:blipFill>
          <a:blip r:embed="rId2"/>
          <a:stretch/>
        </p:blipFill>
        <p:spPr>
          <a:xfrm>
            <a:off x="1258920" y="333360"/>
            <a:ext cx="3676680" cy="2857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e5aee6434a219c26d9d23a0522375a30"/>
          <p:cNvPicPr/>
          <p:nvPr/>
        </p:nvPicPr>
        <p:blipFill>
          <a:blip r:embed="rId3"/>
          <a:stretch/>
        </p:blipFill>
        <p:spPr>
          <a:xfrm>
            <a:off x="5364000" y="404640"/>
            <a:ext cx="2819520" cy="2667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43280" y="3571920"/>
            <a:ext cx="547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 think   you  must  be   familiar  with  the   picture.The big chewing gum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口香糖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as the   most  famous  domesti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国内的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wing g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1155454779397428464"/>
          <p:cNvPicPr/>
          <p:nvPr/>
        </p:nvPicPr>
        <p:blipFill>
          <a:blip r:embed="rId2"/>
          <a:stretch/>
        </p:blipFill>
        <p:spPr>
          <a:xfrm>
            <a:off x="4071960" y="28584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%CC%F8%CC%F8%CC%C72"/>
          <p:cNvPicPr/>
          <p:nvPr/>
        </p:nvPicPr>
        <p:blipFill>
          <a:blip r:embed="rId3"/>
          <a:stretch/>
        </p:blipFill>
        <p:spPr>
          <a:xfrm rot="20521200">
            <a:off x="1692000" y="475920"/>
            <a:ext cx="2431800" cy="34513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7"/>
          <p:cNvSpPr/>
          <p:nvPr/>
        </p:nvSpPr>
        <p:spPr>
          <a:xfrm>
            <a:off x="735120" y="5307120"/>
            <a:ext cx="765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476360" y="4286160"/>
            <a:ext cx="654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 it?The  jumping  sugar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跳跳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 is  a  kind of  magical  fruit  sug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you  put  it  between your  lips ,the  feeling  is  just  lik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crackers  setting   off  in your  mouth.It’s  fantast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d1e74defda71ae90415fb5f365057e28"/>
          <p:cNvPicPr/>
          <p:nvPr/>
        </p:nvPicPr>
        <p:blipFill>
          <a:blip r:embed="rId1"/>
          <a:srcRect l="0" t="0" r="0" b="9288"/>
          <a:stretch/>
        </p:blipFill>
        <p:spPr>
          <a:xfrm>
            <a:off x="971640" y="765000"/>
            <a:ext cx="3591000" cy="3456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932360" y="1557360"/>
            <a:ext cx="324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 smiling face  ice cream, is not only attractive, but  also very deliciou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_20071107091159_JUNEJURCJUJBJUMzJUI2JUUwJUMzJURFJUJCJUE4JUNDJUM3JUIwJUEy"/>
          <p:cNvPicPr/>
          <p:nvPr/>
        </p:nvPicPr>
        <p:blipFill>
          <a:blip r:embed="rId1"/>
          <a:stretch/>
        </p:blipFill>
        <p:spPr>
          <a:xfrm>
            <a:off x="214200" y="214200"/>
            <a:ext cx="4429080" cy="3743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4643280" y="2143080"/>
            <a:ext cx="4286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tton candy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棉花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most unimaginable  sn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poon spoon of sugar goes, cotton comes out all 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mportantly,it’s swee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1714680" y="693360"/>
            <a:ext cx="21430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游戏篇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43200" y="2643120"/>
            <a:ext cx="55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 the  most  innocent  time,we  played   together.Without  any  sorrow  and  pain, just  roar  with  laughter.Simple  and  pu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xin_340604011552921128924"/>
          <p:cNvPicPr/>
          <p:nvPr/>
        </p:nvPicPr>
        <p:blipFill>
          <a:blip r:embed="rId1"/>
          <a:stretch/>
        </p:blipFill>
        <p:spPr>
          <a:xfrm>
            <a:off x="1500120" y="0"/>
            <a:ext cx="6050160" cy="41241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1571760" y="4145400"/>
            <a:ext cx="47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bber band skipping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跳皮筋</a:t>
            </a: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900000" y="4654440"/>
            <a:ext cx="514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 least  three  girls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huttle back and  forth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来回穿梭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 string  by  turns.They just  like  the  cute swallows  flying  around  the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lastic(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有弹性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)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13:13:58Z</dcterms:created>
  <dc:creator>微软用户</dc:creator>
  <dc:description/>
  <dc:language>en-US</dc:language>
  <cp:lastModifiedBy>USER</cp:lastModifiedBy>
  <dcterms:modified xsi:type="dcterms:W3CDTF">2013-09-28T12:36:14Z</dcterms:modified>
  <cp:revision>55</cp:revision>
  <dc:subject/>
  <dc:title>幻灯片 1</dc:title>
</cp:coreProperties>
</file>