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wmf" ContentType="image/x-wmf"/>
  <Override PartName="/ppt/media/image7.png" ContentType="image/png"/>
  <Override PartName="/ppt/media/image8.png" ContentType="image/png"/>
  <Override PartName="/ppt/media/image11.jpeg" ContentType="image/jpeg"/>
  <Override PartName="/ppt/media/image13.png" ContentType="image/png"/>
  <Override PartName="/ppt/media/image9.gif" ContentType="image/gif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D849-87DB-4511-AFA1-067158309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8048-43B2-4672-81B0-D7398CE2E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AC00-A312-4709-9388-16AA88E78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1F42-6A6A-4CBF-8EA1-FAB7E261D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9CCF-59EB-498C-9702-16B90CC25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8B015-EBDF-4979-916F-6CD4476B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57CD-E4A2-404E-B53F-C6391A0D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5F801-EF06-4742-BC5E-CF9137892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E23E-2159-4CF5-A21E-6607ABE6A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BBC5-D9B5-4F12-85AF-8D49DB24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CD4A8-614A-4AB0-A5F3-8EEBC75A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B77A-7B6A-49A3-A137-EC08A2FE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24663-D328-48B5-949D-2774A3F5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29160-044F-44D8-9BB1-32911574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4A80-0194-47BC-8606-4A4F413FB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5AACE-394B-4550-BDD5-ABE23F6B6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E04A6-063F-4143-8122-5AD77B801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51430-497B-4EC1-B66C-8E68E280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4623-9FF3-450E-ABD4-682022FC0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B7D7-689D-4E41-95F5-947CCE596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1D1A7-FA83-464C-B8C0-8B6A0F1FD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7597B9-7192-4538-9A69-7ED5126C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EAEB-E475-47A6-9F4F-C658FBD9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1F358-2246-4119-85D8-EBE7FE32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0D8D5-C8F2-48DC-80D0-75822836E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EFFDCD-0C40-4000-9C7F-1E9CBCA66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4F4B9-CBBD-4983-A3D6-B933CC55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2F60D-98C9-4607-A379-39F3308C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79A54-3397-4C3A-A40A-DCADC91A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6A274-4918-4513-AC74-393BD7DD8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07CE-6D81-49C2-BB1E-67228757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17B1-E266-43BB-915F-16F403A99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310F-49A6-44D3-9076-F8C191F33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46DF-5FD1-4B1B-B114-D1629DDE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D6C16-4832-4A38-BCDE-C5C36AB2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12A-CF8E-4B53-BC06-197BCB30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A9B6C-B624-41F1-87D9-4BEE9B85E6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E84A-CC3A-44BA-99AC-16DE240A11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50654-990B-43E0-8B20-F550A1DA2D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66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华文行楷"/>
              </a:rPr>
              <a:t>童 年 的 朋 友</a:t>
            </a:r>
            <a:br>
              <a:rPr sz="4800"/>
            </a:br>
            <a:br>
              <a:rPr sz="4800"/>
            </a:br>
            <a:r>
              <a:rPr b="1" lang="zh-CN" sz="4400" spc="-1" strike="noStrike">
                <a:solidFill>
                  <a:srgbClr val="ffff66"/>
                </a:solidFill>
                <a:latin typeface="Arial"/>
                <a:ea typeface="华文行楷"/>
              </a:rPr>
              <a:t>高尔基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-322200" y="-169920"/>
            <a:ext cx="9750240" cy="73137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5912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765000"/>
            <a:ext cx="864216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66"/>
                </a:solidFill>
                <a:latin typeface="Arial"/>
                <a:ea typeface="华文行楷"/>
              </a:rPr>
              <a:t>童 年 的 朋 友</a:t>
            </a:r>
            <a:br>
              <a:rPr sz="4800"/>
            </a:br>
            <a:br>
              <a:rPr sz="4400"/>
            </a:br>
            <a:r>
              <a:rPr b="1" lang="zh-CN" sz="4400" spc="-1" strike="noStrike">
                <a:solidFill>
                  <a:srgbClr val="ffff66"/>
                </a:solidFill>
                <a:latin typeface="Arial"/>
                <a:ea typeface="华文行楷"/>
              </a:rPr>
              <a:t>高尔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637080" y="6599160"/>
            <a:ext cx="1584360" cy="459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8101080" y="7029360"/>
            <a:ext cx="1295280" cy="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1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53964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根据刚才我们对外祖母外貌的归纳概括，相信此时此刻外祖母的形象已经浮现在你的脑海中了。小组合作，画一幅外祖母的肖像图，比一比哪个小组画得最像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124000" y="692280"/>
            <a:ext cx="45356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楷体_GB2312"/>
              </a:rPr>
              <a:t>小组合作</a:t>
            </a:r>
            <a:endParaRPr b="1" lang="en-US" sz="5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2556000" y="476280"/>
            <a:ext cx="424800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再读课文，筛选信息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隶书"/>
              <a:ea typeface="隶书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468360" y="1197000"/>
          <a:ext cx="8675640" cy="9070920"/>
        </p:xfrm>
        <a:graphic>
          <a:graphicData uri="http://schemas.openxmlformats.org/drawingml/2006/table">
            <a:tbl>
              <a:tblPr/>
              <a:tblGrid>
                <a:gridCol w="3887640"/>
                <a:gridCol w="4788000"/>
              </a:tblGrid>
              <a:tr h="172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者对人物的描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人物的外貌——“形”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你的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人物的性格——“神”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1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黑体"/>
                          <a:ea typeface="黑体"/>
                        </a:rPr>
                        <a:t>语言描写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3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684360" y="4076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温暖而柔和；用心地唱歌，像鲜花那样温柔、鲜艳、丰润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3357720"/>
            <a:ext cx="43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　　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对话的内容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有三层意思：一是关于外祖母的头发。二是关于“我”睡觉的事。三是关于“我”打破牛奶瓶的事。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生活并不令人满意，但只要和“我”说话就显出轻松、平等、亲切、关爱</a:t>
            </a:r>
            <a:r>
              <a:rPr b="0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62864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324000" y="1773360"/>
            <a:ext cx="842472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模仿课文写法，展开想象，把“你昨天怎么把牛奶瓶子打破了？你小点声说！”拓展成一段具体的祖孙对话。（同桌合作口头表演）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对话符合人物性格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对话内容在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0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字以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2556000" y="765000"/>
            <a:ext cx="395928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展开想象，情景再现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               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例一</a:t>
            </a: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你昨天怎么把牛奶瓶子打破了？你小点声说！” 外祖母问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好祖母，什么都瞒不过你，千万别告诉母亲，不然她又要骂我 ！”我央求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你呀！真像一个野猴子，下次再这样，我就把你一个人关进黑屋子里！”外祖母瞪了我一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我知道了，下次再也不敢了。”我吐吐舌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132000" y="189000"/>
            <a:ext cx="2952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话剧舞台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7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7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23640" y="1125000"/>
            <a:ext cx="83516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例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外祖母：你昨天怎么把牛奶瓶子打破了？你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        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小声点说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我：外祖母，我，我，我……昨天在屋里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极 了，想出去但够不到铜把手，所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用牛奶瓶子砸了铜把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外祖母：你有没有受伤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我：没有，只是牛奶浸到了靴子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ff33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外祖母：那你换一双，我来帮你洗干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132000" y="260280"/>
            <a:ext cx="29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话剧舞台</a:t>
            </a:r>
            <a:endParaRPr b="0" lang="en-US" sz="1800" spc="-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4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9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5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4" dur="5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9" dur="5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4" dur="500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250920" y="4653000"/>
            <a:ext cx="8532720" cy="14288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900000" y="404640"/>
            <a:ext cx="7272360" cy="415944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 txBox="1"/>
          <p:nvPr/>
        </p:nvSpPr>
        <p:spPr>
          <a:xfrm>
            <a:off x="2050920" y="1268280"/>
            <a:ext cx="5688000" cy="282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Down">
              <a:avLst>
                <a:gd name="adj" fmla="val 6646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cap="sq"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幼圆"/>
              </a:rPr>
              <a:t>上课啦！</a:t>
            </a:r>
            <a:endParaRPr b="1" lang="en-US" sz="1800" spc="-1" strike="noStrike">
              <a:ln cap="sq"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573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68360" y="256536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她今天样子很凶，但当我问起她的头发为什么这样长的时候，她还是用昨天那样温暖而柔和的腔调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700280"/>
            <a:ext cx="87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文中哪些地方体现了这种“朋友”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987640" y="692280"/>
            <a:ext cx="3024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合 作 探 究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183" name=""/>
          <p:cNvSpPr/>
          <p:nvPr/>
        </p:nvSpPr>
        <p:spPr>
          <a:xfrm>
            <a:off x="2771640" y="4292640"/>
            <a:ext cx="597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将外祖母对不如意生活的抱怨和对我的温柔态度进行对比，突显出外祖母对我的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8172360" y="6454800"/>
            <a:ext cx="9604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539640" y="1267920"/>
            <a:ext cx="822960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课文三次写了外祖母的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眼神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请找出原句，有感情地朗读课文，并体会它所体现的外祖母性格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2484360" y="622440"/>
            <a:ext cx="4248360" cy="50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三读课文，深入探究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189" name=""/>
          <p:cNvSpPr/>
          <p:nvPr/>
        </p:nvSpPr>
        <p:spPr>
          <a:xfrm>
            <a:off x="611280" y="2775960"/>
            <a:ext cx="8136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第一次，“她的嘴唇歪扭着，黑眼珠儿闪耀着气愤的光芒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二次，“那黑得像黑樱桃的眼珠儿睁得圆圆的，闪出一种难以形容的愉快光芒。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第三次，“但通过她的眼睛，从她内心却射出一种永不熄灭的、快乐的、温暖的光芒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258920" y="299736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体现了外祖母对梳不开头发的气急心理，也折射出外祖母生活的不如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4724280"/>
            <a:ext cx="713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体现出外祖母的宽容和快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76360" y="6021360"/>
            <a:ext cx="756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体现出外祖母的坚毅和乐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8172360" y="6454800"/>
            <a:ext cx="9604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2843280" y="549360"/>
            <a:ext cx="3313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“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慧眼”集锦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1268280"/>
            <a:ext cx="835344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　　</a:t>
            </a: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、两弯细眉之下，她的眼神如月光一般柔美，又如清烟一般惆怅</a:t>
            </a: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·····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　　</a:t>
            </a:r>
            <a:r>
              <a:rPr b="1" lang="en-US" sz="3600" spc="-1" strike="noStrike">
                <a:solidFill>
                  <a:srgbClr val="3333ff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黑体"/>
                <a:ea typeface="黑体"/>
              </a:rPr>
              <a:t>、他的眼睛在眉毛下面炯炯发光，仿佛是荆棘丛中的一团燃烧的火焰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9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 txBox="1"/>
          <p:nvPr/>
        </p:nvSpPr>
        <p:spPr>
          <a:xfrm>
            <a:off x="3059280" y="620640"/>
            <a:ext cx="316836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“</a:t>
            </a: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慧眼”集锦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539640" y="1817280"/>
            <a:ext cx="813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有人说：“眼睛是心灵的窗户。” 描写眼睛，可以展现人物的内心世界。本文正是通过多次的眼睛描写，为我们刻画了一个乐观、坚毅的外祖母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那么、你能写写你的某一位老师上课时的眼神吗？（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60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字以上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66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5406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掌握本文中出现的生字生词和文学常识。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品读本文中对外祖母的精彩外貌描写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、体会主人公对外祖母的热爱和感激之情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172360" y="6454800"/>
            <a:ext cx="9604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0" y="1628640"/>
            <a:ext cx="87487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本文主要通过对外祖母的外貌、语言的描写，刻画了祖母乐观、坚毅的性格，表现了外祖母对“我”深厚的爱以及对“我”一生的重大影响，抒发了“我”对外祖母的热爱、感激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771640" y="404640"/>
            <a:ext cx="33912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主旨归纳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>
    <p:zoom dir="ou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403280" y="1989000"/>
            <a:ext cx="633744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　　“她那对世界无私的爱丰富了我”，你能找到更多的有关无私之爱的名言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71640" y="620640"/>
            <a:ext cx="727236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作为一个人，对父母要尊敬，  对子女要慈爱，对穷人要慷慨，对一切人要有礼貌。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        ——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英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·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罗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、希望被人爱的人， 首先要爱别人， 同时要使自己可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        ——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美 </a:t>
            </a:r>
            <a:r>
              <a:rPr b="1" lang="en-US" sz="1800" spc="-1" strike="noStrike">
                <a:solidFill>
                  <a:srgbClr val="3333ff"/>
                </a:solidFill>
                <a:latin typeface="Arial"/>
              </a:rPr>
              <a:t>·   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富兰克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8920" y="475920"/>
            <a:ext cx="83012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黑体"/>
              </a:rPr>
              <a:t>　　　真正的朋友，是在你开心的时候陪着你一起开心，在你难过的时候陪着你一起难过，在你成功时给你及时的忠告、在你失落时给你温暖的慰藉的人。生命若是一片海，友情就是那海上的帆，有了帆，海才不寂寞。愿我们永远拥有最朴素、最平凡、最纯洁、最高尚的友情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8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8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8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8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5616720" cy="48243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960520" y="18446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推荐书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《童年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2771640" y="1989000"/>
            <a:ext cx="3265560" cy="197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谢谢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476360" y="1700280"/>
            <a:ext cx="5688000" cy="2166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检查预习</a:t>
            </a:r>
            <a:endParaRPr b="1" lang="en-US" sz="66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971280" y="1052640"/>
            <a:ext cx="891540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chàn      pū pū     gū nong         xī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颤  动    噗 噗      咕 哝          两 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dōu         liǔ     chéng          zō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兜        发 绺      惩 罚      马  鬃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ián    zǔ zhòu        rùn         jiá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弦      诅  咒         丰 润       两 颊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xiù     zhòu           jié  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                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</a:rPr>
              <a:t>嗅      皱  纹       敏 捷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107640" y="439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字词过关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924000" y="1052640"/>
            <a:ext cx="47545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高尔基：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前苏联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伟大的无产阶级作家，“无产阶级艺术最伟大的代表者”（列宁语。主要作品自传体三部曲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《童年》《在人间》《我的大学》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，长篇小说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《母亲》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、剧本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《小市民》、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散文诗</a:t>
            </a:r>
            <a:r>
              <a:rPr b="1" lang="zh-CN" sz="3200" spc="-1" strike="noStrike">
                <a:solidFill>
                  <a:srgbClr val="3333ff"/>
                </a:solidFill>
                <a:latin typeface="黑体"/>
                <a:ea typeface="黑体"/>
              </a:rPr>
              <a:t>《海燕》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等等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4275360" cy="5516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035360" y="189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走进作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4920" y="333000"/>
            <a:ext cx="8280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写作背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052640"/>
            <a:ext cx="871380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　　高尔基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黑体"/>
              </a:rPr>
              <a:t>岁丧父，童年寄居在外祖父家时，“外祖父家里，弥漫着人与人之间的仇恨之雾；大人都中了仇恨的毒，连小孩也热烈地参加一份”。在这样的家庭里生活，生活像“铅样沉重”。所幸的是，他的周围也有许多善良正直的人，给了高尔基力量和支持。其中首推外祖母。外祖母的形象是俄罗斯乃至世界文学史中最光辉、最有人性、最有诗意、最有艺术魅力的形象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8172360" y="6454800"/>
            <a:ext cx="96048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692360" y="1700280"/>
            <a:ext cx="5543640" cy="258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合作探究</a:t>
            </a:r>
            <a:endParaRPr b="1" lang="en-US" sz="6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一、听课文录音，独立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祖母是一个怎样性格的人？（词语概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外祖母和“我”的关系已经超越了一般的血缘关系，那么究竟是怎样的一种关系呢？（用文中的原话来概括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请问课文运用了哪些描写方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4130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 txBox="1"/>
          <p:nvPr/>
        </p:nvSpPr>
        <p:spPr>
          <a:xfrm>
            <a:off x="2484360" y="620640"/>
            <a:ext cx="431964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初读课文，合作探究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 txBox="1"/>
          <p:nvPr/>
        </p:nvSpPr>
        <p:spPr>
          <a:xfrm>
            <a:off x="2556000" y="476280"/>
            <a:ext cx="4248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>
                    <a:alpha val="50000"/>
                  </a:srgbClr>
                </a:solidFill>
                <a:latin typeface="隶书"/>
              </a:rPr>
              <a:t>再读课文，筛选信息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00">
                  <a:alpha val="50000"/>
                </a:srgbClr>
              </a:solidFill>
              <a:latin typeface="隶书"/>
              <a:ea typeface="隶书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大声朗读课文，根据文中信息填写下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468360" y="1916280"/>
          <a:ext cx="8496360" cy="4655880"/>
        </p:xfrm>
        <a:graphic>
          <a:graphicData uri="http://schemas.openxmlformats.org/drawingml/2006/table">
            <a:tbl>
              <a:tblPr/>
              <a:tblGrid>
                <a:gridCol w="5183280"/>
                <a:gridCol w="3313080"/>
              </a:tblGrid>
              <a:tr h="86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作者对人物的描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人物外貌——“形”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你的评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（人物性格——“神”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9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 u="sng">
                          <a:solidFill>
                            <a:srgbClr val="000000"/>
                          </a:solidFill>
                          <a:uFillTx/>
                          <a:latin typeface="黑体"/>
                          <a:ea typeface="黑体"/>
                        </a:rPr>
                        <a:t>外貌描写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头发—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眼睛—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脸  —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嘴唇—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鼻子—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牙齿—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身材—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2" name=""/>
          <p:cNvSpPr/>
          <p:nvPr/>
        </p:nvSpPr>
        <p:spPr>
          <a:xfrm>
            <a:off x="3072240" y="3213000"/>
            <a:ext cx="74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多、密、长、黑、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94160" y="3573360"/>
            <a:ext cx="2289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　　　　　　光芒（气愤、愉快、永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熄灭的、快乐的、温暖的）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30400" y="4411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许多皱纹（但年轻、明朗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174400" y="4843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歪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6720" y="520380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松软、大、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65520" y="56358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坚固、雪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96440" y="6067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肥肥胖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3933720"/>
            <a:ext cx="201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健康  慈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乐观  坚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4T14:58:44Z</dcterms:created>
  <dc:creator>www.dearedu.com</dc:creator>
  <dc:description>www.dearedu.com</dc:description>
  <cp:keywords>www.dearedu.com</cp:keywords>
  <dc:language>en-US</dc:language>
  <cp:lastModifiedBy>微软中国</cp:lastModifiedBy>
  <dcterms:modified xsi:type="dcterms:W3CDTF">2015-11-06T03:18:49Z</dcterms:modified>
  <cp:revision>333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